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8E4-75CA-4AA5-96CC-105E66BF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470-A396-4E86-B16D-FE86DD9E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CD9-4322-4A52-B622-1DCC53A3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52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52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4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52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52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2CD-A9F9-48BE-9D3B-BD0BA9D5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000" y="374400"/>
            <a:ext cx="801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F38-3F94-4869-BBD0-88B26A87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52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552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34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52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552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479-E6A0-4F0E-B00F-17D031C7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573-2BEC-4176-903A-134EDA2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4FD-A8FC-45E9-84CC-4B752590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000" y="374400"/>
            <a:ext cx="801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C88-5373-4D8A-93CE-96937AC1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3A9-0893-4F44-A64E-067188A7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DAF-4E3E-4B69-9613-942ECD5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1A0-726F-41A3-B693-046068C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276120" indent="-27468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2" marL="54288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3" marL="819000" indent="-27432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4" marL="108576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5" marL="108576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6" marL="108576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32160" y="6400440"/>
            <a:ext cx="145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5d5d5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d5d5d"/>
                </a:solidFill>
                <a:latin typeface="Verdana"/>
              </a:rPr>
              <a:t>May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4000" y="6400440"/>
            <a:ext cx="38098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d5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5d5d"/>
                </a:solidFill>
                <a:latin typeface="Verdana"/>
              </a:rPr>
              <a:t>Federal Statistical Office, Germ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169120" y="5668920"/>
            <a:ext cx="974880" cy="1189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48400" y="6400440"/>
            <a:ext cx="57816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d5d5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5d5d"/>
                </a:solidFill>
                <a:latin typeface="Verdana"/>
              </a:rPr>
              <a:t>- </a:t>
            </a:r>
            <a:fld id="{3F220E1A-B434-4165-AF09-54F69C027165}" type="slidenum">
              <a:rPr b="0" lang="en-US" sz="10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5d5d5d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4360" y="1698480"/>
            <a:ext cx="8026200" cy="0"/>
          </a:xfrm>
          <a:prstGeom prst="line">
            <a:avLst/>
          </a:prstGeom>
          <a:ln w="28440">
            <a:solidFill>
              <a:srgbClr val="58a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67360" y="5956200"/>
            <a:ext cx="182268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7840" y="1741320"/>
            <a:ext cx="553896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8a618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d5d5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EE8D-6BA3-4EB5-99E8-9200AD6FF216}" type="datetime5">
              <a:rPr b="0" lang="de-DE" sz="1400" spc="-1" strike="noStrike">
                <a:solidFill>
                  <a:srgbClr val="5d5d5d"/>
                </a:solidFill>
                <a:latin typeface="Times New Roman"/>
              </a:rPr>
              <a:t>29.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920" y="0"/>
            <a:ext cx="2598840" cy="6858000"/>
          </a:xfrm>
          <a:prstGeom prst="rect">
            <a:avLst/>
          </a:prstGeom>
          <a:solidFill>
            <a:srgbClr val="58a6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8a618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  <a:p>
            <a:pPr lvl="1" marL="144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2" marL="243000" indent="34920" algn="ctr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Third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3" marL="458640" indent="86040" algn="ctr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4" marL="696960" indent="123840" algn="ctr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5" marL="696960" indent="123840">
              <a:spcBef>
                <a:spcPts val="425"/>
              </a:spcBef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6" marL="696960" indent="123840">
              <a:spcBef>
                <a:spcPts val="425"/>
              </a:spcBef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47840" y="1179000"/>
            <a:ext cx="553896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Session 3</a:t>
            </a:r>
            <a:br>
              <a:rPr sz="1800"/>
            </a:br>
            <a:br>
              <a:rPr sz="1000"/>
            </a:b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The population registers in Germany – the main data source in the 2011 Census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76320" y="4010040"/>
            <a:ext cx="5554440" cy="1952640"/>
          </a:xfrm>
          <a:prstGeom prst="rect">
            <a:avLst/>
          </a:prstGeom>
          <a:noFill/>
          <a:ln w="0">
            <a:noFill/>
          </a:ln>
        </p:spPr>
        <p:txBody>
          <a:bodyPr lIns="37728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UNECE-Eurostat Expert Group Meeting</a:t>
            </a: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on Censuses Using Registers</a:t>
            </a: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Stephanie Hirner, Census Division</a:t>
            </a:r>
            <a:br>
              <a:rPr sz="1800"/>
            </a:b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Federal Statistical Office of Germany</a:t>
            </a: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26520"/>
            <a:ext cx="8030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Census model in Germany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marL="343080"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3525840" y="35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98920" y="3778200"/>
            <a:ext cx="1655640" cy="827280"/>
          </a:xfrm>
          <a:prstGeom prst="flowChartMagneticDisk">
            <a:avLst/>
          </a:prstGeom>
          <a:solidFill>
            <a:srgbClr val="bde18a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6000" bIns="75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d5d5d"/>
                </a:solidFill>
                <a:latin typeface="MetaNormalLF-Roman"/>
              </a:rPr>
              <a:t>Linking and</a:t>
            </a:r>
            <a:br>
              <a:rPr sz="1200"/>
            </a:br>
            <a:r>
              <a:rPr b="0" lang="de-DE" sz="1200" spc="-1" strike="noStrike">
                <a:solidFill>
                  <a:srgbClr val="5d5d5d"/>
                </a:solidFill>
                <a:latin typeface="MetaNormalLF-Roman"/>
              </a:rPr>
              <a:t>checks for multiple</a:t>
            </a:r>
            <a:br>
              <a:rPr sz="1200"/>
            </a:br>
            <a:r>
              <a:rPr b="0" lang="de-DE" sz="1200" spc="-1" strike="noStrike">
                <a:solidFill>
                  <a:srgbClr val="5d5d5d"/>
                </a:solidFill>
                <a:latin typeface="MetaNormalLF-Roman"/>
              </a:rPr>
              <a:t>registration</a:t>
            </a:r>
            <a:endParaRPr b="0" lang="en-US" sz="12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17480" y="3633840"/>
            <a:ext cx="3528000" cy="2368440"/>
            <a:chOff x="4317480" y="3633840"/>
            <a:chExt cx="3528000" cy="2368440"/>
          </a:xfrm>
        </p:grpSpPr>
        <p:sp>
          <p:nvSpPr>
            <p:cNvPr id="91" name=""/>
            <p:cNvSpPr/>
            <p:nvPr/>
          </p:nvSpPr>
          <p:spPr>
            <a:xfrm>
              <a:off x="7845480" y="3633840"/>
              <a:ext cx="0" cy="2368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0" bIns="7560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317480" y="5973840"/>
              <a:ext cx="352764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17840" y="4471920"/>
            <a:ext cx="2897280" cy="1382760"/>
            <a:chOff x="4317840" y="4471920"/>
            <a:chExt cx="2897280" cy="1382760"/>
          </a:xfrm>
        </p:grpSpPr>
        <p:sp>
          <p:nvSpPr>
            <p:cNvPr id="94" name=""/>
            <p:cNvSpPr/>
            <p:nvPr/>
          </p:nvSpPr>
          <p:spPr>
            <a:xfrm>
              <a:off x="7197840" y="4471920"/>
              <a:ext cx="0" cy="13827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0" bIns="7560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317840" y="5829480"/>
              <a:ext cx="28972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09840" y="5505480"/>
            <a:ext cx="2232000" cy="611280"/>
            <a:chOff x="2409840" y="5505480"/>
            <a:chExt cx="2232000" cy="611280"/>
          </a:xfrm>
        </p:grpSpPr>
        <p:sp>
          <p:nvSpPr>
            <p:cNvPr id="97" name=""/>
            <p:cNvSpPr/>
            <p:nvPr/>
          </p:nvSpPr>
          <p:spPr>
            <a:xfrm>
              <a:off x="3525840" y="5505480"/>
              <a:ext cx="0" cy="1792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0" bIns="7560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09840" y="5684760"/>
              <a:ext cx="2232000" cy="432000"/>
            </a:xfrm>
            <a:prstGeom prst="flowChartOnlineStorage">
              <a:avLst/>
            </a:prstGeom>
            <a:gradFill rotWithShape="0">
              <a:gsLst>
                <a:gs pos="0">
                  <a:srgbClr val="ffcc33"/>
                </a:gs>
                <a:gs pos="100000">
                  <a:srgbClr val="cdafd1"/>
                </a:gs>
              </a:gsLst>
              <a:lin ang="5400000"/>
            </a:gra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Result: data records</a:t>
              </a:r>
              <a:br>
                <a:rPr sz="1200"/>
              </a:b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typical of the census</a:t>
              </a:r>
              <a:r>
                <a:rPr b="1" lang="de-DE" sz="1300" spc="-1" strike="noStrike">
                  <a:solidFill>
                    <a:srgbClr val="5d5d5d"/>
                  </a:solidFill>
                  <a:latin typeface="MetaNormalLF-Roman"/>
                </a:rPr>
                <a:t> </a:t>
              </a:r>
              <a:endParaRPr b="0" lang="en-US" sz="13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6760" y="2878200"/>
            <a:ext cx="1655640" cy="826920"/>
          </a:xfrm>
          <a:prstGeom prst="flowChartMultidocument">
            <a:avLst/>
          </a:prstGeom>
          <a:solidFill>
            <a:srgbClr val="cdafd1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Data collection for special facilities </a:t>
            </a:r>
            <a:br>
              <a:rPr sz="1200"/>
            </a:b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2 million persons</a:t>
            </a:r>
            <a:endParaRPr b="0" lang="en-US" sz="10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7120" y="3787920"/>
            <a:ext cx="1656000" cy="826920"/>
          </a:xfrm>
          <a:prstGeom prst="flowChartMultidocument">
            <a:avLst/>
          </a:prstGeom>
          <a:solidFill>
            <a:srgbClr val="cdafd1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Supplementary</a:t>
            </a:r>
            <a:br>
              <a:rPr sz="1200"/>
            </a:b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sample survey</a:t>
            </a:r>
            <a:endParaRPr b="0" lang="en-US" sz="1200" spc="-1" strike="noStrike">
              <a:solidFill>
                <a:srgbClr val="5d5d5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max. 10% of the</a:t>
            </a:r>
            <a:br>
              <a:rPr sz="1000"/>
            </a:b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population</a:t>
            </a:r>
            <a:endParaRPr b="0" lang="en-US" sz="10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9640" y="2878200"/>
            <a:ext cx="1656000" cy="718920"/>
            <a:chOff x="539640" y="2878200"/>
            <a:chExt cx="1656000" cy="718920"/>
          </a:xfrm>
        </p:grpSpPr>
        <p:sp>
          <p:nvSpPr>
            <p:cNvPr id="102" name=""/>
            <p:cNvSpPr/>
            <p:nvPr/>
          </p:nvSpPr>
          <p:spPr>
            <a:xfrm>
              <a:off x="539640" y="2878200"/>
              <a:ext cx="165600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640" y="2878200"/>
              <a:ext cx="158292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Employment registers</a:t>
              </a:r>
              <a:endParaRPr b="0" lang="en-US" sz="1200" spc="-1" strike="noStrike">
                <a:solidFill>
                  <a:srgbClr val="5d5d5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5d5d5d"/>
                  </a:solidFill>
                  <a:latin typeface="MetaNormalLF-Roman"/>
                </a:rPr>
                <a:t>35 million data records</a:t>
              </a:r>
              <a:endParaRPr b="0" lang="en-US" sz="10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98920" y="2878200"/>
            <a:ext cx="1703160" cy="718920"/>
            <a:chOff x="2698920" y="2878200"/>
            <a:chExt cx="1703160" cy="718920"/>
          </a:xfrm>
        </p:grpSpPr>
        <p:sp>
          <p:nvSpPr>
            <p:cNvPr id="105" name=""/>
            <p:cNvSpPr/>
            <p:nvPr/>
          </p:nvSpPr>
          <p:spPr>
            <a:xfrm>
              <a:off x="2746440" y="2878200"/>
              <a:ext cx="165564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98920" y="2878200"/>
              <a:ext cx="158256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Population registers</a:t>
              </a:r>
              <a:endParaRPr b="0" lang="en-US" sz="1200" spc="-1" strike="noStrike">
                <a:solidFill>
                  <a:srgbClr val="5d5d5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5d5d5d"/>
                  </a:solidFill>
                  <a:latin typeface="MetaNormalLF-Roman"/>
                </a:rPr>
                <a:t>88 million data records</a:t>
              </a:r>
              <a:endParaRPr b="0" lang="en-US" sz="10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57840" y="2878200"/>
            <a:ext cx="1655640" cy="826920"/>
          </a:xfrm>
          <a:prstGeom prst="flowChartMultidocument">
            <a:avLst/>
          </a:prstGeom>
          <a:solidFill>
            <a:srgbClr val="cdafd1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Census of buildings</a:t>
            </a:r>
            <a:br>
              <a:rPr sz="1200"/>
            </a:b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 and housing</a:t>
            </a:r>
            <a:endParaRPr b="0" lang="en-US" sz="1200" spc="-1" strike="noStrike">
              <a:solidFill>
                <a:srgbClr val="5d5d5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17.5 million owners of</a:t>
            </a:r>
            <a:br>
              <a:rPr sz="1000"/>
            </a:b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buildings/dwellings</a:t>
            </a:r>
            <a:endParaRPr b="0" lang="en-US" sz="10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4929120"/>
            <a:ext cx="1979640" cy="432000"/>
            <a:chOff x="539640" y="4929120"/>
            <a:chExt cx="1979640" cy="432000"/>
          </a:xfrm>
        </p:grpSpPr>
        <p:sp>
          <p:nvSpPr>
            <p:cNvPr id="109" name=""/>
            <p:cNvSpPr/>
            <p:nvPr/>
          </p:nvSpPr>
          <p:spPr>
            <a:xfrm>
              <a:off x="539640" y="4929120"/>
              <a:ext cx="1656000" cy="432000"/>
            </a:xfrm>
            <a:prstGeom prst="flowChartProcess">
              <a:avLst/>
            </a:prstGeom>
            <a:solidFill>
              <a:srgbClr val="cdafd1"/>
            </a:solidFill>
            <a:ln w="1260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5d5d5d"/>
                  </a:solidFill>
                  <a:latin typeface="MetaNormalLF-Roman"/>
                </a:rPr>
                <a:t>Clarification</a:t>
              </a:r>
              <a:br>
                <a:rPr sz="1200"/>
              </a:br>
              <a:r>
                <a:rPr b="0" lang="de-DE" sz="1200" spc="-1" strike="noStrike">
                  <a:solidFill>
                    <a:srgbClr val="5d5d5d"/>
                  </a:solidFill>
                  <a:latin typeface="MetaNormalLF-Roman"/>
                </a:rPr>
                <a:t>of implausible</a:t>
              </a:r>
              <a:br>
                <a:rPr sz="1200"/>
              </a:br>
              <a:r>
                <a:rPr b="0" lang="de-DE" sz="1200" spc="-1" strike="noStrike">
                  <a:solidFill>
                    <a:srgbClr val="5d5d5d"/>
                  </a:solidFill>
                  <a:latin typeface="MetaNormalLF-Roman"/>
                </a:rPr>
                <a:t>cases</a:t>
              </a:r>
              <a:endParaRPr b="0" lang="en-US" sz="12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5640" y="5219640"/>
              <a:ext cx="32364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195280" y="5073480"/>
              <a:ext cx="32364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366920" y="3598920"/>
            <a:ext cx="5757840" cy="1906560"/>
            <a:chOff x="1366920" y="3598920"/>
            <a:chExt cx="5757840" cy="1906560"/>
          </a:xfrm>
        </p:grpSpPr>
        <p:grpSp>
          <p:nvGrpSpPr>
            <p:cNvPr id="113" name=""/>
            <p:cNvGrpSpPr/>
            <p:nvPr/>
          </p:nvGrpSpPr>
          <p:grpSpPr>
            <a:xfrm>
              <a:off x="4533840" y="4570200"/>
              <a:ext cx="2590920" cy="935280"/>
              <a:chOff x="4533840" y="4570200"/>
              <a:chExt cx="2590920" cy="93528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6585120" y="4570200"/>
                <a:ext cx="0" cy="21564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0" rIns="0" tIns="0" bIns="75600" anchor="b">
                <a:noAutofit/>
              </a:bodyPr>
              <a:p>
                <a:endParaRPr b="0" lang="en-US" sz="1800" spc="-1" strike="noStrike">
                  <a:solidFill>
                    <a:srgbClr val="5d5d5d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45120" y="4786200"/>
                <a:ext cx="1079640" cy="719280"/>
              </a:xfrm>
              <a:prstGeom prst="flowChartProcess">
                <a:avLst/>
              </a:prstGeom>
              <a:solidFill>
                <a:srgbClr val="cdafd1"/>
              </a:solidFill>
              <a:ln w="12600">
                <a:solidFill>
                  <a:srgbClr val="5d5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90000" tIns="46800" bIns="46800" anchor="ctr">
                <a:noAutofit/>
              </a:bodyPr>
              <a:p>
                <a:pPr marL="177840" indent="-177840">
                  <a:lnSpc>
                    <a:spcPct val="80000"/>
                  </a:lnSpc>
                  <a:buClr>
                    <a:srgbClr val="5d5d5d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Overcoverage/</a:t>
                </a:r>
                <a:br>
                  <a:rPr sz="1100"/>
                </a:b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undercoverage</a:t>
                </a:r>
                <a:endParaRPr b="0" lang="en-US" sz="1100" spc="-1" strike="noStrike">
                  <a:solidFill>
                    <a:srgbClr val="5d5d5d"/>
                  </a:solidFill>
                  <a:latin typeface="Arial"/>
                </a:endParaRPr>
              </a:p>
              <a:p>
                <a:pPr marL="177840" indent="-177840">
                  <a:lnSpc>
                    <a:spcPct val="80000"/>
                  </a:lnSpc>
                  <a:buClr>
                    <a:srgbClr val="5d5d5d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Variable</a:t>
                </a:r>
                <a:br>
                  <a:rPr sz="1100"/>
                </a:b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integration</a:t>
                </a:r>
                <a:endParaRPr b="0" lang="en-US" sz="1100" spc="-1" strike="noStrike">
                  <a:solidFill>
                    <a:srgbClr val="5d5d5d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533840" y="5219640"/>
                <a:ext cx="151128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0" rIns="0" tIns="-75600" bIns="0" anchor="b">
                <a:noAutofit/>
              </a:bodyPr>
              <a:p>
                <a:endParaRPr b="0" lang="en-US" sz="1800" spc="-1" strike="noStrike">
                  <a:solidFill>
                    <a:srgbClr val="5d5d5d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366920" y="3598920"/>
              <a:ext cx="4347720" cy="1906560"/>
              <a:chOff x="1366920" y="3598920"/>
              <a:chExt cx="4347720" cy="19065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517840" y="4605480"/>
                <a:ext cx="2016000" cy="900000"/>
                <a:chOff x="2517840" y="4605480"/>
                <a:chExt cx="2016000" cy="900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517840" y="4786200"/>
                  <a:ext cx="2016000" cy="719280"/>
                </a:xfrm>
                <a:prstGeom prst="flowChartProcess">
                  <a:avLst/>
                </a:prstGeom>
                <a:solidFill>
                  <a:srgbClr val="ffcc33"/>
                </a:solidFill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90000" tIns="46800" bIns="46800" anchor="ctr">
                  <a:noAutofit/>
                </a:bodyPr>
                <a:p>
                  <a:pPr marL="177840" indent="-177840">
                    <a:lnSpc>
                      <a:spcPct val="80000"/>
                    </a:lnSpc>
                    <a:buClr>
                      <a:srgbClr val="5d5d5d"/>
                    </a:buClr>
                    <a:buSzPct val="6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5d5d5d"/>
                      </a:solidFill>
                      <a:latin typeface="MetaNormalLF-Roman"/>
                    </a:rPr>
                    <a:t>Household generating </a:t>
                  </a:r>
                  <a:br>
                    <a:rPr sz="1200"/>
                  </a:br>
                  <a:r>
                    <a:rPr b="1" lang="de-DE" sz="1200" spc="-1" strike="noStrike">
                      <a:solidFill>
                        <a:srgbClr val="5d5d5d"/>
                      </a:solidFill>
                      <a:latin typeface="MetaNormalLF-Roman"/>
                    </a:rPr>
                    <a:t>procedure</a:t>
                  </a:r>
                  <a:br>
                    <a:rPr sz="1200"/>
                  </a:br>
                  <a:r>
                    <a:rPr b="0" lang="de-DE" sz="1000" spc="-1" strike="noStrike">
                      <a:solidFill>
                        <a:srgbClr val="5d5d5d"/>
                      </a:solidFill>
                      <a:latin typeface="MetaNormalLF-Roman"/>
                    </a:rPr>
                    <a:t>38.5 million households </a:t>
                  </a:r>
                  <a:endParaRPr b="0" lang="en-US" sz="1000" spc="-1" strike="noStrike">
                    <a:solidFill>
                      <a:srgbClr val="5d5d5d"/>
                    </a:solidFill>
                    <a:latin typeface="Arial"/>
                  </a:endParaRPr>
                </a:p>
                <a:p>
                  <a:pPr marL="177840" indent="-177840">
                    <a:lnSpc>
                      <a:spcPct val="80000"/>
                    </a:lnSpc>
                    <a:buClr>
                      <a:srgbClr val="5d5d5d"/>
                    </a:buClr>
                    <a:buSzPct val="6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5d5d5d"/>
                      </a:solidFill>
                      <a:latin typeface="MetaNormalLF-Roman"/>
                    </a:rPr>
                    <a:t>Correction of register errors</a:t>
                  </a:r>
                  <a:endParaRPr b="0" lang="en-US" sz="12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25840" y="4605480"/>
                  <a:ext cx="0" cy="179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8000" rIns="0" tIns="0" bIns="75600" anchor="b">
                  <a:noAutofit/>
                </a:bodyPr>
                <a:p>
                  <a:endParaRPr b="0" lang="en-US" sz="18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366920" y="3598920"/>
                <a:ext cx="4347720" cy="1476000"/>
                <a:chOff x="1366920" y="3598920"/>
                <a:chExt cx="4347720" cy="14760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684760" y="3633840"/>
                  <a:ext cx="0" cy="143964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8000" rIns="0" tIns="0" bIns="75600" anchor="b">
                  <a:noAutofit/>
                </a:bodyPr>
                <a:p>
                  <a:endParaRPr b="0" lang="en-US" sz="18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4533480" y="5073120"/>
                  <a:ext cx="1181160" cy="180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8000" rIns="0" tIns="-73800" bIns="1800" anchor="b">
                  <a:noAutofit/>
                </a:bodyPr>
                <a:p>
                  <a:endParaRPr b="0" lang="en-US" sz="18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1366920" y="3598920"/>
                  <a:ext cx="2087640" cy="1127160"/>
                  <a:chOff x="1366920" y="3598920"/>
                  <a:chExt cx="2087640" cy="11271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1366920" y="4695840"/>
                    <a:ext cx="2087640" cy="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58000" rIns="0" tIns="-75600" bIns="0" anchor="b">
                    <a:noAutofit/>
                  </a:bodyPr>
                  <a:p>
                    <a:endParaRPr b="0" lang="en-US" sz="1800" spc="-1" strike="noStrike">
                      <a:solidFill>
                        <a:srgbClr val="5d5d5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366920" y="3598920"/>
                    <a:ext cx="0" cy="1127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58000" rIns="0" tIns="0" bIns="75600" anchor="b">
                    <a:noAutofit/>
                  </a:bodyPr>
                  <a:p>
                    <a:endParaRPr b="0" lang="en-US" sz="1800" spc="-1" strike="noStrike">
                      <a:solidFill>
                        <a:srgbClr val="5d5d5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7" name=""/>
          <p:cNvSpPr/>
          <p:nvPr/>
        </p:nvSpPr>
        <p:spPr>
          <a:xfrm>
            <a:off x="352584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6692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476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548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41360" y="2698920"/>
            <a:ext cx="65325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0" rIns="0" tIns="-75600" bIns="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05480" y="251784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6200" y="1978200"/>
            <a:ext cx="3238560" cy="539640"/>
          </a:xfrm>
          <a:prstGeom prst="flowChartMagneticDisk">
            <a:avLst/>
          </a:prstGeom>
          <a:solidFill>
            <a:srgbClr val="bde18a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9160" bIns="68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d5d5d"/>
                </a:solidFill>
                <a:latin typeface="MetaNormalLF-Roman"/>
              </a:rPr>
              <a:t>Steering file – </a:t>
            </a:r>
            <a:r>
              <a:rPr b="1" lang="de-DE" sz="1100" spc="-1" strike="noStrike">
                <a:solidFill>
                  <a:srgbClr val="5d5d5d"/>
                </a:solidFill>
                <a:latin typeface="MetaNormalLF-Roman"/>
              </a:rPr>
              <a:t>Register of addresses and buildings</a:t>
            </a:r>
            <a:endParaRPr b="0" lang="en-US" sz="11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2708280"/>
            <a:ext cx="0" cy="1079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: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9B0-7D4A-45A7-839D-B44A374B29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B9878-9DFB-47F1-BB52-841CFCDB87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315720"/>
            <a:ext cx="8030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Population registers in the 2011 Census</a:t>
            </a:r>
            <a:br>
              <a:rPr sz="3000"/>
            </a:br>
            <a:r>
              <a:rPr b="0" lang="de-DE" sz="2300" spc="-1" strike="noStrike">
                <a:solidFill>
                  <a:srgbClr val="58a618"/>
                </a:solidFill>
                <a:latin typeface="Verdana"/>
              </a:rPr>
              <a:t>Function</a:t>
            </a:r>
            <a:endParaRPr b="0" lang="en-US" sz="23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97000" y="1989000"/>
            <a:ext cx="87199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One of the data sources for the build-up of the register of addresses and buildings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Supporting of primary data surveys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Main data source to cover the demographic and geographical census variables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: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C50-7CF7-4A1C-B943-FAB3B3BE93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6BB15-AEF7-4F35-BC40-16C8AD126E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315720"/>
            <a:ext cx="8030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Population registers in the 2011 Census</a:t>
            </a:r>
            <a:br>
              <a:rPr sz="3000"/>
            </a:br>
            <a:r>
              <a:rPr b="0" lang="de-DE" sz="2300" spc="-1" strike="noStrike">
                <a:solidFill>
                  <a:srgbClr val="58a618"/>
                </a:solidFill>
                <a:latin typeface="Verdana"/>
              </a:rPr>
              <a:t>Data acquisition and integration</a:t>
            </a:r>
            <a:endParaRPr b="0" lang="en-US" sz="23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97000" y="1989000"/>
            <a:ext cx="87199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Data acquisition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Decentralised via the statistical offices of the Länder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Two supplies around the census reference date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Integration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Linking of the information on addresses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Adding personal data records via the address-ID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d5d5d"/>
                </a:solidFill>
                <a:latin typeface="Verdana"/>
              </a:rPr>
              <a:t>Build-up</a:t>
            </a: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 of a temporary centralised population register for Germany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: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76D-A2EB-47DC-A054-D79FE9FE4C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BA68E-9047-4A98-954B-0DE435F60A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15720"/>
            <a:ext cx="8030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Population registers in the 2011 Census</a:t>
            </a:r>
            <a:br>
              <a:rPr sz="3000"/>
            </a:br>
            <a:r>
              <a:rPr b="0" lang="de-DE" sz="2300" spc="-1" strike="noStrike">
                <a:solidFill>
                  <a:srgbClr val="58a618"/>
                </a:solidFill>
                <a:latin typeface="Verdana"/>
              </a:rPr>
              <a:t>Quality assurance</a:t>
            </a:r>
            <a:endParaRPr b="0" lang="en-US" sz="23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97000" y="1989000"/>
            <a:ext cx="87199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Correction of the data stock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Check for incorrect registration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Correction via questionnaire and an automatic process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Correction via the sample survey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Identification of overcoverage and undercoverage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Extrapolation of the results and statistical correction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Correction only for statistical purposes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: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AF4-1035-42B2-BB91-DFC2C538B6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C8171-A480-45B0-A87E-9E952462CF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315720"/>
            <a:ext cx="8030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Reference data stock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297000" y="1989000"/>
            <a:ext cx="87199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Combination of data sets on addresses and on population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Steering function in the 2011 Census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Completion of variables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Correction of data sets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Consolidation of the different data sources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Coordination of information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: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2A3-459D-449F-811B-D5B02974B2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17EB8-33F0-4ED0-89D0-3CA7320130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15720"/>
            <a:ext cx="8030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97000" y="1989000"/>
            <a:ext cx="803736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7280" rIns="0" tIns="0" bIns="0" anchor="t">
            <a:normAutofit/>
          </a:bodyPr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Benefits of using registers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Area-wide information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Access and availability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Challenges of using registers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Decentralised keeping of data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Differences in data quality between registers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lvl="1" marL="86508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No uniform identifier for persons or dwellings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  <a:p>
            <a:pPr marL="360360" indent="-36036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Wingdings"/>
                <a:ea typeface="Wingdings"/>
              </a:rPr>
              <a:t></a:t>
            </a: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 </a:t>
            </a: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Federal data stock for coordination and consolidation is necessary!</a:t>
            </a:r>
            <a:endParaRPr b="0" lang="en-US" sz="21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: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B46-7624-477F-9659-3EF6FD39A6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FAFFB-152C-4ED2-90A2-6F9ACE89AB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630440"/>
            <a:ext cx="9144000" cy="359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: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2EB-11C6-4D91-B954-5DBDCDB655A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2917D-465F-4F3E-89FE-CB2160C2C9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7:29:26Z</dcterms:created>
  <dc:creator>Daniela Voellger</dc:creator>
  <dc:description/>
  <dc:language>en-US</dc:language>
  <cp:lastModifiedBy>Hirner-S</cp:lastModifiedBy>
  <dcterms:modified xsi:type="dcterms:W3CDTF">2012-05-16T12:30:58Z</dcterms:modified>
  <cp:revision>66</cp:revision>
  <dc:subject/>
  <dc:title>Folie 1</dc:title>
</cp:coreProperties>
</file>