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8.wmf" ContentType="image/x-wmf"/>
  <Override PartName="/ppt/media/image1.png" ContentType="image/png"/>
  <Override PartName="/ppt/media/image15.png" ContentType="image/png"/>
  <Override PartName="/ppt/media/image2.wmf" ContentType="image/x-wmf"/>
  <Override PartName="/ppt/media/image10.png" ContentType="image/png"/>
  <Override PartName="/ppt/media/image14.wmf" ContentType="image/x-wmf"/>
  <Override PartName="/ppt/media/image6.png" ContentType="image/png"/>
  <Override PartName="/ppt/media/image7.png" ContentType="image/png"/>
  <Override PartName="/ppt/media/image3.png" ContentType="image/png"/>
  <Override PartName="/ppt/media/image11.wmf" ContentType="image/x-wmf"/>
  <Override PartName="/ppt/media/image16.wmf" ContentType="image/x-wmf"/>
  <Override PartName="/ppt/media/image8.png" ContentType="image/png"/>
  <Override PartName="/ppt/media/image12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AAD7-3A49-43E6-9F60-98B343CCA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65530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04760" y="3948480"/>
            <a:ext cx="65530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927A-4730-4F61-87E9-E0FC46616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62840" y="160020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04760" y="394848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62840" y="394848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16DD-80E3-46D7-A668-EBE89E44E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21099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120560" y="1600200"/>
            <a:ext cx="21099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36360" y="1600200"/>
            <a:ext cx="21099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04760" y="3948480"/>
            <a:ext cx="21099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120560" y="3948480"/>
            <a:ext cx="21099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36360" y="3948480"/>
            <a:ext cx="21099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3D9D-E25C-4A85-AB73-FBFBCE0D4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04760" y="1600200"/>
            <a:ext cx="6553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F4F8-D727-4A12-88A2-B4361817F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65530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0C30-29D5-4C37-BD8E-7C7756DAA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197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62840" y="1600200"/>
            <a:ext cx="3197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6E76-CD1B-4730-8C13-E0023598B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AAF1-6EE8-4C28-A16F-12B1C3D51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04760" y="609480"/>
            <a:ext cx="655308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BC19-0BEA-4505-B50F-568836324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62840" y="1600200"/>
            <a:ext cx="3197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04760" y="394848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FD67-0458-4E4E-9A97-CFC80CEE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197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62840" y="160020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62840" y="394848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0A48-F15E-45EC-9AE3-3F93E0338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62840" y="160020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04760" y="3948480"/>
            <a:ext cx="65530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E947-4B5C-442A-A227-C3541A5F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4760" y="609480"/>
            <a:ext cx="65530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4760" y="1600200"/>
            <a:ext cx="65530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399960" indent="-285480">
              <a:spcBef>
                <a:spcPts val="601"/>
              </a:spcBef>
              <a:buClr>
                <a:srgbClr val="66cc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2" marL="739800" indent="-22536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3" marL="930240" indent="32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4" marL="1547640" indent="-217440">
              <a:spcBef>
                <a:spcPts val="601"/>
              </a:spcBef>
              <a:buClr>
                <a:srgbClr val="99ff66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5" marL="1547640" indent="-217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6" marL="1547640" indent="-217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799855B-422A-442E-9D3C-0F58189FBDF5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160020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326880" y="5715000"/>
            <a:ext cx="517680" cy="86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e.schultenordholt@cbs.nl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55280" y="476280"/>
            <a:ext cx="7488360" cy="18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Quality of registers used for the Dutch censu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84000" y="2636640"/>
            <a:ext cx="7559640" cy="34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Eric Schulte Nordholt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Senior researcher and project leader of the Census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Statistics Netherlands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Division Socio-economic and spatial statistics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 u="sng">
                <a:solidFill>
                  <a:srgbClr val="ff0033"/>
                </a:solidFill>
                <a:uFillTx/>
                <a:latin typeface="Arial"/>
                <a:hlinkClick r:id="rId1"/>
              </a:rPr>
              <a:t>e.schultenordholt@cbs.nl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Presentation at the Expert Group Meeting on Censuses Using Registers in Geneva (22-23 May 2012)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979640" y="1736640"/>
            <a:ext cx="5099040" cy="2497320"/>
          </a:xfrm>
          <a:prstGeom prst="rect">
            <a:avLst/>
          </a:prstGeom>
          <a:ln w="0">
            <a:noFill/>
          </a:ln>
        </p:spPr>
      </p:pic>
      <p:grpSp>
        <p:nvGrpSpPr>
          <p:cNvPr id="81" name=""/>
          <p:cNvGrpSpPr/>
          <p:nvPr/>
        </p:nvGrpSpPr>
        <p:grpSpPr>
          <a:xfrm>
            <a:off x="1584360" y="3789360"/>
            <a:ext cx="2736720" cy="1927800"/>
            <a:chOff x="1584360" y="3789360"/>
            <a:chExt cx="2736720" cy="1927800"/>
          </a:xfrm>
        </p:grpSpPr>
        <p:sp>
          <p:nvSpPr>
            <p:cNvPr id="82" name=""/>
            <p:cNvSpPr/>
            <p:nvPr/>
          </p:nvSpPr>
          <p:spPr>
            <a:xfrm flipV="1">
              <a:off x="3024000" y="3789360"/>
              <a:ext cx="1297080" cy="10080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584360" y="5013360"/>
              <a:ext cx="2016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Low frequency of deliver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4176720" y="3141720"/>
            <a:ext cx="2016000" cy="2898000"/>
            <a:chOff x="4176720" y="3141720"/>
            <a:chExt cx="2016000" cy="2898000"/>
          </a:xfrm>
        </p:grpSpPr>
        <p:sp>
          <p:nvSpPr>
            <p:cNvPr id="85" name=""/>
            <p:cNvSpPr/>
            <p:nvPr/>
          </p:nvSpPr>
          <p:spPr>
            <a:xfrm flipH="1" flipV="1">
              <a:off x="4608360" y="3141720"/>
              <a:ext cx="433440" cy="1512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176720" y="4726080"/>
              <a:ext cx="20160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Suffers seriously from selective undercoverag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5148000" y="2744640"/>
            <a:ext cx="2880000" cy="3097800"/>
            <a:chOff x="5148000" y="2744640"/>
            <a:chExt cx="2880000" cy="3097800"/>
          </a:xfrm>
        </p:grpSpPr>
        <p:sp>
          <p:nvSpPr>
            <p:cNvPr id="88" name=""/>
            <p:cNvSpPr/>
            <p:nvPr/>
          </p:nvSpPr>
          <p:spPr>
            <a:xfrm flipH="1" flipV="1">
              <a:off x="5148000" y="2744640"/>
              <a:ext cx="1368360" cy="2233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flipV="1">
              <a:off x="5868720" y="2744640"/>
              <a:ext cx="647640" cy="2233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012000" y="4833720"/>
              <a:ext cx="2016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Purpose dataprovider unclea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6407280" y="2997000"/>
            <a:ext cx="2736720" cy="2753640"/>
            <a:chOff x="6407280" y="2997000"/>
            <a:chExt cx="2736720" cy="2753640"/>
          </a:xfrm>
        </p:grpSpPr>
        <p:sp>
          <p:nvSpPr>
            <p:cNvPr id="92" name=""/>
            <p:cNvSpPr/>
            <p:nvPr/>
          </p:nvSpPr>
          <p:spPr>
            <a:xfrm flipH="1" flipV="1">
              <a:off x="6407280" y="2997000"/>
              <a:ext cx="1728720" cy="1439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04000" y="4437000"/>
              <a:ext cx="14400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Important variables are miss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 flipV="1">
            <a:off x="6948360" y="4184640"/>
            <a:ext cx="0" cy="792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19280" y="549360"/>
            <a:ext cx="7524720" cy="57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sults Source hyper dimens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B06C-1A49-4564-89B9-5C36F3817D8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1" dur="1" fill="hold"/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158920" y="1700280"/>
            <a:ext cx="5585040" cy="25398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19280" y="260280"/>
            <a:ext cx="7524720" cy="11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sults Metadata hyperdimens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7740360" y="2889360"/>
            <a:ext cx="1223640" cy="1152360"/>
            <a:chOff x="7740360" y="2889360"/>
            <a:chExt cx="1223640" cy="1152360"/>
          </a:xfrm>
        </p:grpSpPr>
        <p:sp>
          <p:nvSpPr>
            <p:cNvPr id="99" name=""/>
            <p:cNvSpPr/>
            <p:nvPr/>
          </p:nvSpPr>
          <p:spPr>
            <a:xfrm flipH="1">
              <a:off x="7740360" y="2889360"/>
              <a:ext cx="1223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7740360" y="4041720"/>
              <a:ext cx="1223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1295280" y="3249720"/>
            <a:ext cx="3600360" cy="2842560"/>
            <a:chOff x="1295280" y="3249720"/>
            <a:chExt cx="3600360" cy="2842560"/>
          </a:xfrm>
        </p:grpSpPr>
        <p:sp>
          <p:nvSpPr>
            <p:cNvPr id="102" name=""/>
            <p:cNvSpPr/>
            <p:nvPr/>
          </p:nvSpPr>
          <p:spPr>
            <a:xfrm>
              <a:off x="1295280" y="4473720"/>
              <a:ext cx="223200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Time period in source can’t be transferred easily to the time point neede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3240000" y="3249720"/>
              <a:ext cx="1655640" cy="14400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6985080" y="3789360"/>
            <a:ext cx="2158560" cy="2644200"/>
            <a:chOff x="6985080" y="3789360"/>
            <a:chExt cx="2158560" cy="2644200"/>
          </a:xfrm>
        </p:grpSpPr>
        <p:sp>
          <p:nvSpPr>
            <p:cNvPr id="105" name=""/>
            <p:cNvSpPr/>
            <p:nvPr/>
          </p:nvSpPr>
          <p:spPr>
            <a:xfrm>
              <a:off x="7861320" y="4510080"/>
              <a:ext cx="128232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Unique keys can’t be easily used for link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 flipV="1">
              <a:off x="6985080" y="3789360"/>
              <a:ext cx="876240" cy="12240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4032360" y="3392280"/>
            <a:ext cx="2303280" cy="2161440"/>
            <a:chOff x="4032360" y="3392280"/>
            <a:chExt cx="2303280" cy="2161440"/>
          </a:xfrm>
        </p:grpSpPr>
        <p:sp>
          <p:nvSpPr>
            <p:cNvPr id="108" name=""/>
            <p:cNvSpPr/>
            <p:nvPr/>
          </p:nvSpPr>
          <p:spPr>
            <a:xfrm>
              <a:off x="4032360" y="4545000"/>
              <a:ext cx="2232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Time differences in reporting period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5327640" y="3392280"/>
              <a:ext cx="217440" cy="1152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5327640" y="3392280"/>
              <a:ext cx="1008000" cy="1152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0B88-181E-4126-A6FF-F8600EA12DB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55280" y="225360"/>
            <a:ext cx="7488360" cy="96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sults Data hyper dimension - completenes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7273800" cy="100800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755640" y="1989000"/>
            <a:ext cx="7848720" cy="4869000"/>
            <a:chOff x="755640" y="1989000"/>
            <a:chExt cx="7848720" cy="4869000"/>
          </a:xfrm>
        </p:grpSpPr>
        <p:pic>
          <p:nvPicPr>
            <p:cNvPr id="114" name="" descr=""/>
            <p:cNvPicPr/>
            <p:nvPr/>
          </p:nvPicPr>
          <p:blipFill>
            <a:blip r:embed="rId2"/>
            <a:stretch/>
          </p:blipFill>
          <p:spPr>
            <a:xfrm>
              <a:off x="755640" y="2565360"/>
              <a:ext cx="7848720" cy="42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3276720" y="1989000"/>
              <a:ext cx="71280" cy="1295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276720" y="1989000"/>
              <a:ext cx="3311280" cy="1008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EE0C-A79B-4B7E-A121-A84EFD0E49C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7716960" cy="423576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55280" y="189000"/>
            <a:ext cx="7488360" cy="11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sults Data hyper dimension –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accuracy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419640" y="2421000"/>
            <a:ext cx="3301920" cy="3176640"/>
            <a:chOff x="3419640" y="2421000"/>
            <a:chExt cx="3301920" cy="3176640"/>
          </a:xfrm>
        </p:grpSpPr>
        <p:sp>
          <p:nvSpPr>
            <p:cNvPr id="120" name=""/>
            <p:cNvSpPr/>
            <p:nvPr/>
          </p:nvSpPr>
          <p:spPr>
            <a:xfrm>
              <a:off x="3419640" y="2421000"/>
              <a:ext cx="504720" cy="16081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867280" y="5373720"/>
              <a:ext cx="854280" cy="2239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859280" y="4032360"/>
            <a:ext cx="3811680" cy="1547640"/>
            <a:chOff x="4859280" y="4032360"/>
            <a:chExt cx="3811680" cy="1547640"/>
          </a:xfrm>
        </p:grpSpPr>
        <p:sp>
          <p:nvSpPr>
            <p:cNvPr id="123" name=""/>
            <p:cNvSpPr/>
            <p:nvPr/>
          </p:nvSpPr>
          <p:spPr>
            <a:xfrm>
              <a:off x="4859280" y="4032360"/>
              <a:ext cx="504720" cy="12682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773840" y="5346720"/>
              <a:ext cx="897120" cy="2332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521080" y="2459160"/>
            <a:ext cx="3563640" cy="3387600"/>
            <a:chOff x="2521080" y="2459160"/>
            <a:chExt cx="3563640" cy="3387600"/>
          </a:xfrm>
        </p:grpSpPr>
        <p:sp>
          <p:nvSpPr>
            <p:cNvPr id="126" name=""/>
            <p:cNvSpPr/>
            <p:nvPr/>
          </p:nvSpPr>
          <p:spPr>
            <a:xfrm>
              <a:off x="5580000" y="2459160"/>
              <a:ext cx="504720" cy="4651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21080" y="5605560"/>
              <a:ext cx="2104920" cy="2412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E7DF-5ECC-486B-974B-823914B9BB4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sults Data hyper dimension – accuracy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6000" y="981000"/>
            <a:ext cx="8748720" cy="5651640"/>
          </a:xfrm>
          <a:prstGeom prst="rect">
            <a:avLst/>
          </a:prstGeom>
          <a:ln w="0">
            <a:noFill/>
          </a:ln>
        </p:spPr>
      </p:pic>
      <p:grpSp>
        <p:nvGrpSpPr>
          <p:cNvPr id="130" name=""/>
          <p:cNvGrpSpPr/>
          <p:nvPr/>
        </p:nvGrpSpPr>
        <p:grpSpPr>
          <a:xfrm>
            <a:off x="2700360" y="1197000"/>
            <a:ext cx="2808360" cy="2016000"/>
            <a:chOff x="2700360" y="1197000"/>
            <a:chExt cx="2808360" cy="2016000"/>
          </a:xfrm>
        </p:grpSpPr>
        <p:pic>
          <p:nvPicPr>
            <p:cNvPr id="131" name="" descr=""/>
            <p:cNvPicPr/>
            <p:nvPr/>
          </p:nvPicPr>
          <p:blipFill>
            <a:blip r:embed="rId2"/>
            <a:stretch/>
          </p:blipFill>
          <p:spPr>
            <a:xfrm>
              <a:off x="2700360" y="1197000"/>
              <a:ext cx="203688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4284720" y="2781360"/>
              <a:ext cx="1224000" cy="431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5219280" y="4145040"/>
            <a:ext cx="2324520" cy="1650960"/>
            <a:chOff x="5219280" y="4145040"/>
            <a:chExt cx="2324520" cy="1650960"/>
          </a:xfrm>
        </p:grpSpPr>
        <p:pic>
          <p:nvPicPr>
            <p:cNvPr id="134" name="" descr=""/>
            <p:cNvPicPr/>
            <p:nvPr/>
          </p:nvPicPr>
          <p:blipFill>
            <a:blip r:embed="rId3"/>
            <a:stretch/>
          </p:blipFill>
          <p:spPr>
            <a:xfrm>
              <a:off x="6458040" y="4145040"/>
              <a:ext cx="1085760" cy="16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 flipH="1" flipV="1">
              <a:off x="5219280" y="4508280"/>
              <a:ext cx="865080" cy="215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1C05-F26F-480C-8573-00D76D9D456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19280" y="549360"/>
            <a:ext cx="7524720" cy="57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619280" y="1665360"/>
            <a:ext cx="7524720" cy="435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Quality of official statistics is an important aspect, especially when use is made of integrated data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The virtual census has proved to be a successful concept in the Netherlands</a:t>
            </a:r>
            <a:br>
              <a:rPr sz="2400"/>
            </a:b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The quality framework is a useful tool for making data decisions in the virtual census</a:t>
            </a:r>
            <a:br>
              <a:rPr sz="2400"/>
            </a:b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The quality study will be extended to be able to determine how all census variables will be derived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CC22-5C2E-42E2-B3F0-2C84DA409A2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7524720" cy="126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Arial"/>
              </a:rPr>
              <a:t>Content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19280" y="1557360"/>
            <a:ext cx="752472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1049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Quality in official statistics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049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Register-based statistics compared to statistical surveys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Combining research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Data considerations in the Dutch Census of 2011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Introduction to the quality framework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Results Source hyper dimension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Results Metadata hyper dimension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Results Data hyper dimension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Conclusions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824D-32D9-48D7-B711-C0D5A1A71FC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19280" y="609480"/>
            <a:ext cx="75247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Quality in official statistic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619280" y="1599840"/>
            <a:ext cx="7524720" cy="48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46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Definition of quality in statistics according to Eurostat “Code of practice”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marL="246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Product quality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663480" indent="-2268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ccff"/>
                </a:solidFill>
                <a:latin typeface="Arial"/>
              </a:rPr>
              <a:t>Relevance</a:t>
            </a: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  <a:p>
            <a:pPr lvl="1" marL="663480" indent="-2268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ccff"/>
                </a:solidFill>
                <a:latin typeface="Arial"/>
              </a:rPr>
              <a:t>Accuracy</a:t>
            </a: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  <a:p>
            <a:pPr lvl="1" marL="663480" indent="-2268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ccff"/>
                </a:solidFill>
                <a:latin typeface="Arial"/>
              </a:rPr>
              <a:t>Timeliness and punctuality</a:t>
            </a: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  <a:p>
            <a:pPr lvl="1" marL="663480" indent="-2268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ccff"/>
                </a:solidFill>
                <a:latin typeface="Arial"/>
              </a:rPr>
              <a:t>Comparability and coherence</a:t>
            </a: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  <a:p>
            <a:pPr lvl="1" marL="663480" indent="-2268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ccff"/>
                </a:solidFill>
                <a:latin typeface="Arial"/>
              </a:rPr>
              <a:t>Accessibility and clarity</a:t>
            </a: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  <a:p>
            <a:pPr marL="246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Process quality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663480" indent="-2268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ccff"/>
                </a:solidFill>
                <a:latin typeface="Arial"/>
              </a:rPr>
              <a:t>Best methods</a:t>
            </a: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  <a:p>
            <a:pPr lvl="1" marL="663480" indent="-2268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ccff"/>
                </a:solidFill>
                <a:latin typeface="Arial"/>
              </a:rPr>
              <a:t>Cost efficiency</a:t>
            </a: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  <a:p>
            <a:pPr lvl="1" marL="663480" indent="-2268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ccff"/>
                </a:solidFill>
                <a:latin typeface="Arial"/>
              </a:rPr>
              <a:t>Low response burden</a:t>
            </a: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C408-C9DD-4C98-A71A-E512DB72A0D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19280" y="368280"/>
            <a:ext cx="7524720" cy="16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gister-based statistics compared to statistical surveys (1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84000" y="2362320"/>
            <a:ext cx="7559640" cy="34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46240" indent="-24624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Costs (++)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marL="246240" indent="-24624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Response burden (++)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marL="246240" indent="-24624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Relevance (-)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663480" indent="-226800">
              <a:spcBef>
                <a:spcPts val="601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ccff"/>
                </a:solidFill>
                <a:latin typeface="Arial"/>
              </a:rPr>
              <a:t>Not all variables are included in registers</a:t>
            </a: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  <a:p>
            <a:pPr lvl="1" marL="663480" indent="-226800">
              <a:spcBef>
                <a:spcPts val="601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ccff"/>
                </a:solidFill>
                <a:latin typeface="Arial"/>
              </a:rPr>
              <a:t>Less direct control over data content</a:t>
            </a: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  <a:p>
            <a:pPr marL="246240" indent="-24624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Accuracy (0)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marL="246240" indent="-24624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Timeliness (-)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1BCD-4646-4BE0-B2C6-C29E286C016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55280" y="260280"/>
            <a:ext cx="7488360" cy="15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gister-based statistics compared to statistical surveys (2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84000" y="1981080"/>
            <a:ext cx="75596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Administrative registers offers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Total coverage at a low cost 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ccff"/>
                </a:solidFill>
                <a:latin typeface="Arial"/>
              </a:rPr>
              <a:t>Statistics for small groups possible (compared to sample surveys)</a:t>
            </a: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Annual (or more frequent) data for all variables 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ccff"/>
                </a:solidFill>
                <a:latin typeface="Arial"/>
              </a:rPr>
              <a:t>Annual “censuses”</a:t>
            </a: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To produce statistics based on administrative data has proved to be efficient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Register-based statistics have to be supplemented by information from sample surveys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36DC-B96A-41B0-B81B-3292850FB29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19280" y="609480"/>
            <a:ext cx="75247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Arial"/>
              </a:rPr>
              <a:t>Combining research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619280" y="2528640"/>
            <a:ext cx="1908000" cy="17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Development of a quality framework for administrative data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606840" y="1862280"/>
          <a:ext cx="321156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06840" y="1862280"/>
                    <a:ext cx="321156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6877080" y="2492280"/>
            <a:ext cx="2087640" cy="16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Data decisions on secundary sources in the Dutch Virtual Census of 20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9617-03BE-49A0-96A9-8D6860584D0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19280" y="475920"/>
            <a:ext cx="752472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Data considerations in the Dutch Census of 2011 (1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619280" y="2096640"/>
            <a:ext cx="7524720" cy="38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Last traditional census: 1971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Unwillingness (nonresponse) and reduction of</a:t>
            </a:r>
            <a:br>
              <a:rPr sz="2000"/>
            </a:b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expenses </a:t>
            </a:r>
            <a:r>
              <a:rPr b="1" lang="en-GB" sz="2000" spc="-1" strike="noStrike">
                <a:solidFill>
                  <a:srgbClr val="ff9900"/>
                </a:solidFill>
                <a:latin typeface="Symbol"/>
                <a:ea typeface="Symbol"/>
              </a:rPr>
              <a:t></a:t>
            </a: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 no more traditional censuses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spcBef>
                <a:spcPts val="12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Alternative: virtual census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1981 and 1991: Population Register and surveys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Development 90’s: more registers </a:t>
            </a:r>
            <a:r>
              <a:rPr b="1" lang="en-GB" sz="2000" spc="-1" strike="noStrike">
                <a:solidFill>
                  <a:srgbClr val="33cc33"/>
                </a:solidFill>
                <a:latin typeface="Arial"/>
                <a:ea typeface="Arial"/>
              </a:rPr>
              <a:t>→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2001 and 2011: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integrated set of registers and surveys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European Census Act </a:t>
            </a:r>
            <a:r>
              <a:rPr b="1" lang="en-GB" sz="2000" spc="-1" strike="noStrike">
                <a:solidFill>
                  <a:srgbClr val="33cc33"/>
                </a:solidFill>
                <a:latin typeface="Arial"/>
                <a:ea typeface="Arial"/>
              </a:rPr>
              <a:t>→ hypercubes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1C18-3D95-4AF6-B882-7CB9F44E337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19280" y="260280"/>
            <a:ext cx="7524720" cy="111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Data considerations in the Dutch Census of 2011 (2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619280" y="1952280"/>
            <a:ext cx="7524720" cy="43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Registers: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Population Register (PR), &gt;16.6 million records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Jobs file, containing all employees 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Self-employed file, containing all self-employed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Unemployment Benefit Register (UR)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Social Security Register (SR)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Education Register (ER)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New Housing Register (HR)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Surveys: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Survey on Employment and Earnings (SEE) stopped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Labour Force Survey (LFS)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Housing survey (HS)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C129-85E8-4E0F-AC4A-CBB7071D675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55280" y="0"/>
            <a:ext cx="7488360" cy="116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Arial"/>
              </a:rPr>
              <a:t>Introduction to the quality framework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345960" y="2205000"/>
            <a:ext cx="5089680" cy="4537080"/>
            <a:chOff x="345960" y="2205000"/>
            <a:chExt cx="5089680" cy="4537080"/>
          </a:xfrm>
        </p:grpSpPr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1908000" y="3573360"/>
              <a:ext cx="3527640" cy="316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2"/>
            <a:stretch/>
          </p:blipFill>
          <p:spPr>
            <a:xfrm>
              <a:off x="345960" y="2205000"/>
              <a:ext cx="1922400" cy="334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 rot="2190600">
              <a:off x="1897920" y="4516560"/>
              <a:ext cx="231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OURCE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2967120" y="981000"/>
            <a:ext cx="3209760" cy="4759560"/>
            <a:chOff x="2967120" y="981000"/>
            <a:chExt cx="3209760" cy="4759560"/>
          </a:xfrm>
        </p:grpSpPr>
        <p:pic>
          <p:nvPicPr>
            <p:cNvPr id="68" name="" descr=""/>
            <p:cNvPicPr/>
            <p:nvPr/>
          </p:nvPicPr>
          <p:blipFill>
            <a:blip r:embed="rId3"/>
            <a:stretch/>
          </p:blipFill>
          <p:spPr>
            <a:xfrm>
              <a:off x="2967120" y="981000"/>
              <a:ext cx="3209760" cy="177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4"/>
            <a:stretch/>
          </p:blipFill>
          <p:spPr>
            <a:xfrm>
              <a:off x="3621240" y="1557360"/>
              <a:ext cx="2103120" cy="41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 txBox="1"/>
            <p:nvPr/>
          </p:nvSpPr>
          <p:spPr>
            <a:xfrm rot="5400000">
              <a:off x="3241440" y="3510000"/>
              <a:ext cx="2819160" cy="56196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Verdana"/>
                </a:rPr>
                <a:t>METADATA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erdana"/>
                <a:ea typeface="Verdana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3708360" y="2708280"/>
            <a:ext cx="5435280" cy="3960720"/>
            <a:chOff x="3708360" y="2708280"/>
            <a:chExt cx="5435280" cy="3960720"/>
          </a:xfrm>
        </p:grpSpPr>
        <p:pic>
          <p:nvPicPr>
            <p:cNvPr id="72" name="" descr=""/>
            <p:cNvPicPr/>
            <p:nvPr/>
          </p:nvPicPr>
          <p:blipFill>
            <a:blip r:embed="rId5"/>
            <a:stretch/>
          </p:blipFill>
          <p:spPr>
            <a:xfrm>
              <a:off x="6078960" y="2708280"/>
              <a:ext cx="3064680" cy="208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6"/>
            <a:stretch/>
          </p:blipFill>
          <p:spPr>
            <a:xfrm>
              <a:off x="3708360" y="4233960"/>
              <a:ext cx="2849760" cy="24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 rot="18902400">
              <a:off x="4968000" y="4436640"/>
              <a:ext cx="2129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DATA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75" name="" descr=""/>
          <p:cNvPicPr/>
          <p:nvPr/>
        </p:nvPicPr>
        <p:blipFill>
          <a:blip r:embed="rId7"/>
          <a:stretch/>
        </p:blipFill>
        <p:spPr>
          <a:xfrm>
            <a:off x="3346560" y="5257800"/>
            <a:ext cx="2593800" cy="17715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3605040" y="6027840"/>
            <a:ext cx="2089440" cy="62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data sour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69880" y="2133720"/>
            <a:ext cx="5304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OURCE: - Focus on data source as a who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- Contact information rela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- Delivery related aspec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- and mo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9120" y="1546200"/>
            <a:ext cx="32972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ETADAT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ocuses on the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availability of the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formation required t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derstand and use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ata in the data sour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4797360"/>
            <a:ext cx="282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ATA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5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chnical check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5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ccuracy related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issu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9C77-64CC-4B8F-AD61-A886F95F0F8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2T14:33:14Z</dcterms:created>
  <dc:creator>Eric Schulte Nordholt</dc:creator>
  <dc:description/>
  <dc:language>en-US</dc:language>
  <cp:lastModifiedBy>Eric</cp:lastModifiedBy>
  <cp:lastPrinted>2002-02-11T11:11:40Z</cp:lastPrinted>
  <dcterms:modified xsi:type="dcterms:W3CDTF">2012-05-11T07:51:38Z</dcterms:modified>
  <cp:revision>320</cp:revision>
  <dc:subject/>
  <dc:title>Combined use of data</dc:title>
</cp:coreProperties>
</file>