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24650" cy="9853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24800" cy="985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3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08440" y="-360"/>
            <a:ext cx="2913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98560" y="738000"/>
            <a:ext cx="4927680" cy="36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01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9c701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7840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358200"/>
            <a:ext cx="2913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08440" y="9358200"/>
            <a:ext cx="2913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ABA7-99FF-4EDF-A980-6C909BDB6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440" y="9358200"/>
            <a:ext cx="2913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30E5-2F73-476C-8035-FDD8B28C3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9358200"/>
            <a:ext cx="2913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-360"/>
            <a:ext cx="2913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08440" y="-360"/>
            <a:ext cx="2913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844800" y="9323280"/>
            <a:ext cx="2865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5456-52E1-49AA-850B-11C42C46A2D5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80920" y="75708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4680" y="4698720"/>
            <a:ext cx="4902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8C10-75FB-4D80-8074-B5255B65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F91-DA4A-4228-BC55-F0512A98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4A2-6062-4FC0-AC20-DB4580F5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A77-C077-403D-980A-687C955D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0EAE-DD64-495D-A3E9-80DBBB3C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E9F8-549D-4063-8EC7-0FC5A31D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601C-E689-4DDC-B278-C23088E9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A88C-B616-40FE-87FF-47F3D61B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8553-3C23-4215-A00F-44ABAAC6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F1EE-973A-42B2-A835-C7592FD1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39CF-3DE8-4A1D-AFB8-E114961E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C33-0404-49F1-8A5A-7B75AC24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B36F-D362-4B78-9E9E-02C6AAB3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2D67-7DEC-4BEB-84BF-172875BA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0992-5C69-4393-B2FA-B993F33A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16C9-C05D-45F4-90EF-BF8CE526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8724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38560" y="175248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628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8724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38560" y="3902040"/>
            <a:ext cx="242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7DD9-A5C1-4AC2-A1FD-AE52FFB1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AA3-E47C-4C81-80A4-5992BC70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022-C328-4684-9368-0D28EB86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E616-97FD-468B-9552-4ACFA83C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847440"/>
            <a:ext cx="75456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1D3-975F-4243-8CC2-A9F8DC57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E8A-15F2-4CA7-9B16-0B05209E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2320" y="390204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137-7503-4794-9016-5280A8AA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628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2320" y="1752480"/>
            <a:ext cx="368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6280" y="3902040"/>
            <a:ext cx="754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C97-BE5F-4BF4-9236-8EFA6C33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3171960"/>
            <a:ext cx="9159840" cy="3686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847440"/>
            <a:ext cx="7545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a52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ea52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28600">
              <a:spcBef>
                <a:spcPts val="550"/>
              </a:spcBef>
              <a:buClr>
                <a:srgbClr val="4648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spcBef>
                <a:spcPts val="550"/>
              </a:spcBef>
              <a:buClr>
                <a:srgbClr val="4648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85400" y="6400800"/>
            <a:ext cx="15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&lt;date/time&gt;</a:t>
            </a:r>
            <a:r>
              <a:rPr b="0" i="1" lang="en-GB" sz="12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13-Jul-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836640" y="6400800"/>
            <a:ext cx="518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701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c7019"/>
                </a:solidFill>
                <a:latin typeface="Times New Roman"/>
                <a:ea typeface="ＭＳ Ｐゴシック"/>
              </a:rPr>
              <a:t>&lt;footer&gt;</a:t>
            </a:r>
            <a:r>
              <a:rPr b="0" lang="en-US" sz="1200" spc="-1" strike="noStrike">
                <a:solidFill>
                  <a:srgbClr val="9c7019"/>
                </a:solidFill>
                <a:latin typeface="Times New Roman"/>
                <a:ea typeface="ＭＳ Ｐゴシック"/>
              </a:rPr>
              <a:t> Name of the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433A-2855-4BFE-893D-73CE125AEA3F}" type="slidenum">
              <a:rPr b="1" lang="fr-FR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>
            <a:lum bright="-8000"/>
          </a:blip>
          <a:stretch/>
        </p:blipFill>
        <p:spPr>
          <a:xfrm>
            <a:off x="0" y="2195640"/>
            <a:ext cx="9163080" cy="4205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4400" y="-9360"/>
            <a:ext cx="9171000" cy="686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01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c701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78920" y="6448320"/>
            <a:ext cx="15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date/time&gt;</a:t>
            </a:r>
            <a:r>
              <a:rPr b="0" i="1" lang="en-GB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3-Jul-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907640" y="6421320"/>
            <a:ext cx="51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305920" y="63864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92DD-4E28-4B95-9907-E97B18D4D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f32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46484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464847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8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8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udioworks-em.com/wp-content/uploads/August-der-Starke-Gem&#228;ldekopie-nach-Louis-de-Silvestre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udioworks-em.com/wp-content/uploads/August-der-Starke-Gem&#228;ldekopie-nach-Louis-de-Silvestre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udioworks-em.com/wp-content/uploads/August-der-Starke-Gem&#228;ldekopie-nach-Louis-de-Silvestre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019"/>
                </a:solidFill>
                <a:latin typeface="Arial"/>
              </a:rPr>
              <a:t>A census is a census is a census ?</a:t>
            </a:r>
            <a:endParaRPr b="1" lang="en-US" sz="3200" spc="-1" strike="noStrike">
              <a:solidFill>
                <a:srgbClr val="9c701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11280" y="1701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7019"/>
                </a:solidFill>
                <a:latin typeface="Arial"/>
              </a:rPr>
              <a:t>A changing role of population censuses</a:t>
            </a:r>
            <a:endParaRPr b="0" lang="en-US" sz="24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Eurostat contribution to the seminar on population censuses at the 2012 CES plenary session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395280" y="762120"/>
            <a:ext cx="8497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62120" y="2008080"/>
          <a:ext cx="7848360" cy="4267440"/>
        </p:xfrm>
        <a:graphic>
          <a:graphicData uri="http://schemas.openxmlformats.org/drawingml/2006/table">
            <a:tbl>
              <a:tblPr/>
              <a:tblGrid>
                <a:gridCol w="1204920"/>
                <a:gridCol w="1461960"/>
                <a:gridCol w="914400"/>
                <a:gridCol w="914400"/>
                <a:gridCol w="1219320"/>
                <a:gridCol w="1066680"/>
                <a:gridCol w="10666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sus method 2010 census 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sus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di-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m-b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er-b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ffff00"/>
                          </a:solidFill>
                          <a:latin typeface="Arial"/>
                          <a:ea typeface="ＭＳ Ｐゴシック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ffff00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b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ffff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er-b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ffff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 cen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000" spc="-1" strike="noStrike">
                          <a:solidFill>
                            <a:srgbClr val="ffff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000" spc="-1" strike="noStrike">
                          <a:solidFill>
                            <a:srgbClr val="ffff00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000" spc="-1" strike="noStrike">
                          <a:solidFill>
                            <a:srgbClr val="ffff00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000" spc="-1" strike="noStrike">
                          <a:solidFill>
                            <a:srgbClr val="ffff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Fumetto 1 3"/>
          <p:cNvSpPr/>
          <p:nvPr/>
        </p:nvSpPr>
        <p:spPr>
          <a:xfrm>
            <a:off x="3505320" y="3657600"/>
            <a:ext cx="1600200" cy="1219320"/>
          </a:xfrm>
          <a:prstGeom prst="wedgeRect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umetto 1 5"/>
          <p:cNvSpPr/>
          <p:nvPr/>
        </p:nvSpPr>
        <p:spPr>
          <a:xfrm>
            <a:off x="1066680" y="941400"/>
            <a:ext cx="2286000" cy="2286000"/>
          </a:xfrm>
          <a:prstGeom prst="wedgeRectCallout">
            <a:avLst>
              <a:gd name="adj1" fmla="val 119773"/>
              <a:gd name="adj2" fmla="val 71416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  <a:ea typeface="ＭＳ Ｐゴシック"/>
              </a:rPr>
              <a:t>Czech Re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  <a:ea typeface="ＭＳ Ｐゴシック"/>
              </a:rPr>
              <a:t>Est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  <a:ea typeface="ＭＳ Ｐゴシック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  <a:ea typeface="ＭＳ Ｐゴシック"/>
              </a:rPr>
              <a:t>Lithu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  <a:ea typeface="ＭＳ Ｐゴシック"/>
              </a:rPr>
              <a:t>Po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umetto 1 6"/>
          <p:cNvSpPr/>
          <p:nvPr/>
        </p:nvSpPr>
        <p:spPr>
          <a:xfrm>
            <a:off x="5638680" y="1932120"/>
            <a:ext cx="1295640" cy="533160"/>
          </a:xfrm>
          <a:prstGeom prst="wedgeRectCallout">
            <a:avLst>
              <a:gd name="adj1" fmla="val 7865"/>
              <a:gd name="adj2" fmla="val 27026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  <a:ea typeface="ＭＳ Ｐゴシック"/>
              </a:rPr>
              <a:t>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umetto 1 9"/>
          <p:cNvSpPr/>
          <p:nvPr/>
        </p:nvSpPr>
        <p:spPr>
          <a:xfrm>
            <a:off x="7315200" y="1932120"/>
            <a:ext cx="1295280" cy="533160"/>
          </a:xfrm>
          <a:prstGeom prst="wedgeRectCallout">
            <a:avLst>
              <a:gd name="adj1" fmla="val -41333"/>
              <a:gd name="adj2" fmla="val 272861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  <a:ea typeface="ＭＳ Ｐゴシック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umetto 1 10"/>
          <p:cNvSpPr/>
          <p:nvPr/>
        </p:nvSpPr>
        <p:spPr>
          <a:xfrm>
            <a:off x="3733920" y="6351480"/>
            <a:ext cx="1295280" cy="533520"/>
          </a:xfrm>
          <a:prstGeom prst="wedgeRectCallout">
            <a:avLst>
              <a:gd name="adj1" fmla="val 44226"/>
              <a:gd name="adj2" fmla="val -192074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  <a:ea typeface="ＭＳ Ｐゴシック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umetto 1 11"/>
          <p:cNvSpPr/>
          <p:nvPr/>
        </p:nvSpPr>
        <p:spPr>
          <a:xfrm>
            <a:off x="5562720" y="6351480"/>
            <a:ext cx="1295280" cy="533520"/>
          </a:xfrm>
          <a:prstGeom prst="wedgeRectCallout">
            <a:avLst>
              <a:gd name="adj1" fmla="val -3898"/>
              <a:gd name="adj2" fmla="val -197268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CH" sz="2400" spc="-1" strike="noStrike">
                <a:solidFill>
                  <a:srgbClr val="0000a8"/>
                </a:solidFill>
                <a:latin typeface="Arial Narrow"/>
                <a:ea typeface="ＭＳ Ｐゴシック"/>
              </a:rPr>
              <a:t>Sw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260280"/>
            <a:ext cx="849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019"/>
                </a:solidFill>
                <a:latin typeface="Arial"/>
                <a:ea typeface="ＭＳ Ｐゴシック"/>
              </a:rPr>
              <a:t>Where we are </a:t>
            </a:r>
            <a:r>
              <a:rPr b="1" lang="en-US" sz="3200" spc="-1" strike="noStrike">
                <a:solidFill>
                  <a:srgbClr val="9c7019"/>
                </a:solidFill>
                <a:latin typeface="Arial"/>
                <a:ea typeface="Times New Roman"/>
              </a:rPr>
              <a:t>─ a paradigm sh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6280" y="175248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1) step up the integration of censuses into social statistic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2) focus on coverage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3) make the geo-referencing of population data precise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4) make comparative quality assessments of multi-source/multi-mode processes and output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5) develop and use common tool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219240"/>
            <a:ext cx="8497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019"/>
                </a:solidFill>
                <a:latin typeface="Arial"/>
                <a:ea typeface="ＭＳ Ｐゴシック"/>
              </a:rPr>
              <a:t>Where should we be headi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74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1) Step up the integration of censuses into social statistic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Assess and improve the coverage of population frame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Linkage of data sources should not be a one-off exercise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Harmonise specifications and breakdowns for census topics </a:t>
            </a: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+ x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When integrating surveys treat census as </a:t>
            </a:r>
            <a:r>
              <a:rPr b="0" i="1" lang="en-US" sz="2200" spc="-1" strike="noStrike">
                <a:solidFill>
                  <a:srgbClr val="0f3277"/>
                </a:solidFill>
                <a:latin typeface="Arial"/>
              </a:rPr>
              <a:t>primus inter pare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Enhance continuity of census work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219240"/>
            <a:ext cx="8497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019"/>
                </a:solidFill>
                <a:latin typeface="Arial"/>
                <a:ea typeface="ＭＳ Ｐゴシック"/>
              </a:rPr>
              <a:t>Where should we be headi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74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) Focus on coverage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Good coverage of national and regional population is the key objective of censuse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Difficult but important: cross-border coverage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Assess and maintain coverage of frames also during inter-censual period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219240"/>
            <a:ext cx="8497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019"/>
                </a:solidFill>
                <a:latin typeface="Arial"/>
                <a:ea typeface="ＭＳ Ｐゴシック"/>
              </a:rPr>
              <a:t>Where should we be headi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74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) Make the geo-referencing of population data precise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auses of socio-economic and environmental phenomena do not follow delineations of administrative area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Increase analytical flexibility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Precise geo-referencing of addresse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219240"/>
            <a:ext cx="8497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019"/>
                </a:solidFill>
                <a:latin typeface="Arial"/>
                <a:ea typeface="ＭＳ Ｐゴシック"/>
              </a:rPr>
              <a:t>Where should we be headi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74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4) Make comparative quality assessments of multi-source/multi mode processes and output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4720" indent="-414720">
              <a:lnSpc>
                <a:spcPct val="90000"/>
              </a:lnSpc>
              <a:spcBef>
                <a:spcPts val="27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The starting point is settled: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25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he established quality frameworks for official statistic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25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The essential features of population censuse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4720" indent="-414720">
              <a:lnSpc>
                <a:spcPct val="90000"/>
              </a:lnSpc>
              <a:spcBef>
                <a:spcPts val="27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Challenges: 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25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Make quality criteria operationa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25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Measure them comparatively for a multi-source/multi-mode operation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2500"/>
              </a:spcBef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Evaluate output 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and processes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219240"/>
            <a:ext cx="8497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019"/>
                </a:solidFill>
                <a:latin typeface="Arial"/>
                <a:ea typeface="ＭＳ Ｐゴシック"/>
              </a:rPr>
              <a:t>Where should we be headi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74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5) Use and develop common tools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tandardisation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Improved business model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Example: EU Census Hub (SDMX based)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f327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Shared software developments (e.g. validation, dissemination)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41904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219240"/>
            <a:ext cx="8497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019"/>
                </a:solidFill>
                <a:latin typeface="Arial"/>
                <a:ea typeface="ＭＳ Ｐゴシック"/>
              </a:rPr>
              <a:t>Where should we be headi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6560" y="1267920"/>
            <a:ext cx="82821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A census is a census is … 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a lot of work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3277"/>
                </a:solidFill>
                <a:latin typeface="Arial"/>
              </a:rPr>
              <a:t>Thank you !</a:t>
            </a:r>
            <a:endParaRPr b="0" lang="en-US" sz="40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545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019"/>
                </a:solidFill>
                <a:latin typeface="Arial"/>
              </a:rPr>
              <a:t>From where we come</a:t>
            </a:r>
            <a:endParaRPr b="1" lang="en-US" sz="3200" spc="-1" strike="noStrike">
              <a:solidFill>
                <a:srgbClr val="eea521"/>
              </a:solidFill>
              <a:latin typeface="Arial"/>
            </a:endParaRPr>
          </a:p>
        </p:txBody>
      </p:sp>
      <p:pic>
        <p:nvPicPr>
          <p:cNvPr id="95" name="" descr="August der Starke - Gemäldekopie nach Louis de Silvest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080" y="1844640"/>
            <a:ext cx="2951280" cy="3816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932360" y="1941480"/>
            <a:ext cx="31687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826920" y="0"/>
            <a:ext cx="6894720" cy="6021360"/>
            <a:chOff x="826920" y="0"/>
            <a:chExt cx="6894720" cy="6021360"/>
          </a:xfrm>
        </p:grpSpPr>
        <p:pic>
          <p:nvPicPr>
            <p:cNvPr id="98" name="" descr="August der Starke - Gemäldekopie nach Louis de Silvestr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26920" y="3502080"/>
              <a:ext cx="1947960" cy="25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796000" y="3571920"/>
              <a:ext cx="192564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Speech Bubble Clip Art"/>
            <p:cNvPicPr/>
            <p:nvPr/>
          </p:nvPicPr>
          <p:blipFill>
            <a:blip r:embed="rId4"/>
            <a:stretch/>
          </p:blipFill>
          <p:spPr>
            <a:xfrm>
              <a:off x="1763640" y="0"/>
              <a:ext cx="4608720" cy="41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506920" y="2565360"/>
              <a:ext cx="360360" cy="21600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12000" y="2997360"/>
              <a:ext cx="215640" cy="144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72360" y="3357720"/>
              <a:ext cx="142920" cy="712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5"/>
            <a:stretch/>
          </p:blipFill>
          <p:spPr>
            <a:xfrm>
              <a:off x="2987640" y="527040"/>
              <a:ext cx="2160720" cy="164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826920" y="0"/>
            <a:ext cx="6894720" cy="6021360"/>
            <a:chOff x="826920" y="0"/>
            <a:chExt cx="6894720" cy="6021360"/>
          </a:xfrm>
        </p:grpSpPr>
        <p:pic>
          <p:nvPicPr>
            <p:cNvPr id="106" name="" descr="August der Starke - Gemäldekopie nach Louis de Silvestr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26920" y="3502080"/>
              <a:ext cx="1947960" cy="25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5796000" y="3571920"/>
              <a:ext cx="192564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Speech Bubble Clip Art"/>
            <p:cNvPicPr/>
            <p:nvPr/>
          </p:nvPicPr>
          <p:blipFill>
            <a:blip r:embed="rId4"/>
            <a:stretch/>
          </p:blipFill>
          <p:spPr>
            <a:xfrm>
              <a:off x="1763640" y="0"/>
              <a:ext cx="4608720" cy="41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506920" y="2565360"/>
              <a:ext cx="360360" cy="21600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2000" y="2997360"/>
              <a:ext cx="215640" cy="144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72360" y="3357720"/>
              <a:ext cx="142920" cy="712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5"/>
            <a:stretch/>
          </p:blipFill>
          <p:spPr>
            <a:xfrm>
              <a:off x="2987640" y="527040"/>
              <a:ext cx="2160720" cy="16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 flipV="1">
              <a:off x="1692360" y="404280"/>
              <a:ext cx="4751280" cy="201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7640" y="404640"/>
              <a:ext cx="4969080" cy="19447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 rot="20840400">
            <a:off x="1042560" y="950400"/>
            <a:ext cx="691200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512640"/>
            <a:ext cx="9144000" cy="76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14680" y="0"/>
            <a:ext cx="5433840" cy="6021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51280" y="1413000"/>
            <a:ext cx="1440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Authentic data we can rely on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10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2560" y="1628280"/>
            <a:ext cx="889308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High quality comes at a high price </a:t>
            </a:r>
            <a:r>
              <a:rPr b="1" lang="en-US" sz="3200" spc="-1" strike="noStrike">
                <a:solidFill>
                  <a:srgbClr val="0f3277"/>
                </a:solidFill>
                <a:latin typeface="Arial"/>
                <a:ea typeface="Times New Roman"/>
              </a:rPr>
              <a:t>─ 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277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f3277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f3277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f3277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f3277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f3277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f3277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f3277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f3277"/>
                </a:solidFill>
                <a:latin typeface="Arial"/>
                <a:ea typeface="Times New Roman"/>
              </a:rPr>
              <a:t>too high ?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86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Censuses adapt to changing environments</a:t>
            </a:r>
            <a:endParaRPr b="0" lang="en-US" sz="3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1:40:54Z</dcterms:created>
  <dc:creator>kyigreg</dc:creator>
  <dc:description/>
  <dc:language>en-US</dc:language>
  <cp:lastModifiedBy>kyigreg</cp:lastModifiedBy>
  <dcterms:modified xsi:type="dcterms:W3CDTF">2012-05-21T08:35:44Z</dcterms:modified>
  <cp:revision>29</cp:revision>
  <dc:subject/>
  <dc:title>Slide 1</dc:title>
</cp:coreProperties>
</file>