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F7C-E3CF-4917-AA0B-A501402E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00B-C413-42B9-B748-21773603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162-6747-414F-AF8D-0A19AB97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7C2-1FA2-4A62-BA17-D1F8041C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9E0-9B0E-4CA6-84AA-6702ADD9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CDA-B870-4A38-AC65-58B1A6B2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67A-83DF-439D-86A2-0C98C405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C91-1924-4B4B-A851-E128CF05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C70-647A-4BE9-92DF-31D3031B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145-CBBB-4706-8197-008D914C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21D-E2BA-4B7F-8E63-4B15F25D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F29-C383-4533-9F55-7890724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88F6-D367-431F-93B5-8A28D8096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ne.es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ensos2011" descr=""/>
          <p:cNvPicPr/>
          <p:nvPr/>
        </p:nvPicPr>
        <p:blipFill>
          <a:blip r:embed="rId1"/>
          <a:stretch/>
        </p:blipFill>
        <p:spPr>
          <a:xfrm>
            <a:off x="152280" y="-95400"/>
            <a:ext cx="8686800" cy="7029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A general approach to the importance and use of registers in the Spainsh Census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2666880"/>
            <a:ext cx="8839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Expert Group Meeting on Censuses Using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Geneva, 22</a:t>
            </a:r>
            <a:r>
              <a:rPr b="1" lang="es-ES" sz="2800" spc="-1" strike="noStrike" baseline="30000">
                <a:solidFill>
                  <a:srgbClr val="0000cc"/>
                </a:solidFill>
                <a:latin typeface="Times New Roman"/>
              </a:rPr>
              <a:t>nd</a:t>
            </a:r>
            <a:r>
              <a:rPr b="1" lang="es-ES" sz="2800" spc="-1" strike="noStrike">
                <a:solidFill>
                  <a:srgbClr val="0000cc"/>
                </a:solidFill>
                <a:latin typeface="Times New Roman"/>
              </a:rPr>
              <a:t> May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42080" y="5562720"/>
            <a:ext cx="399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Jorge L. Vega Va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opulation Statistics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ational Statistics Institute (Sp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_INE" descr=""/>
          <p:cNvPicPr/>
          <p:nvPr/>
        </p:nvPicPr>
        <p:blipFill>
          <a:blip r:embed="rId2"/>
          <a:stretch/>
        </p:blipFill>
        <p:spPr>
          <a:xfrm>
            <a:off x="5029200" y="4280040"/>
            <a:ext cx="2362320" cy="901440"/>
          </a:xfrm>
          <a:prstGeom prst="rect">
            <a:avLst/>
          </a:prstGeom>
          <a:ln w="0">
            <a:noFill/>
          </a:ln>
        </p:spPr>
      </p:pic>
      <p:pic>
        <p:nvPicPr>
          <p:cNvPr id="46" name="unece_logo" descr=""/>
          <p:cNvPicPr/>
          <p:nvPr/>
        </p:nvPicPr>
        <p:blipFill>
          <a:blip r:embed="rId3"/>
          <a:stretch/>
        </p:blipFill>
        <p:spPr>
          <a:xfrm>
            <a:off x="1905120" y="39625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ercentages of response among chann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39% CAW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43%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9% C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8% Multi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%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2- Census method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8077320" cy="44956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Easier to find and more qualified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Multichan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Increase of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olection of building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Budge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Multichan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Detailed request at low geograph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2- Census method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1- Registers in Sp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2- Census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3- Linkage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4- Population fig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1- Registers in Sp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2- Census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Times New Roman"/>
              </a:rPr>
              <a:t>3- Linkage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4- Population fig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3- Linkage techn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1565280"/>
            <a:ext cx="62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imes New Roman"/>
              </a:rPr>
              <a:t>Technique Nº 1: Supercode (obj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NAME: Pedro (018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SURNAME1: López (034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SURNAME2: García (067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DAY OF BIRTH: (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MONTH OF BIRTH : June (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YEAR OF BIRTH : (19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SEX: Mal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Code: 0180803402067820106197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3200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304560" cy="2666880"/>
          </a:xfrm>
          <a:custGeom>
            <a:avLst/>
            <a:gdLst>
              <a:gd name="textAreaLeft" fmla="*/ 0 w 304560"/>
              <a:gd name="textAreaRight" fmla="*/ 109800 w 30456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71640" y="29718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93600" y="373392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pulation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3- Linkage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305000"/>
            <a:ext cx="7178760" cy="82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imes New Roman"/>
              </a:rPr>
              <a:t>Technique Nº 2: _CONF topics (subj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SUR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DATE OF 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PLACE OF BIR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S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Linka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-Number of ‘C’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-Number of ‘C’=4 and Number of ‘P’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-Number of ‘C’=3 and Number of ‘P’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-Number of ‘C’=4 and SEXO_CONF=‘D’ or ‘I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43828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7440" y="2562120"/>
            <a:ext cx="284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Non comparable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Equal 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Similar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Distinct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7339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819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62360" y="2590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09800" y="3352680"/>
            <a:ext cx="16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p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362320"/>
            <a:ext cx="0" cy="2133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1- Registers in Sp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2- Census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3- Linkage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4- Population fig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1- Registers in Sp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2- Census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3- Linkage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Times New Roman"/>
              </a:rPr>
              <a:t>4- Population fig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eCensus file. Each person has a factor of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 if no doubts about 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 if no doubts about non 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 if doubts about 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ow do we calculate “x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l registers with “</a:t>
            </a:r>
            <a:r>
              <a:rPr b="1" lang="es-ES" sz="20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” and similar features will be agregated in clu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s-ES" sz="2400" spc="-1" strike="noStrike" baseline="-25000">
                <a:solidFill>
                  <a:srgbClr val="008000"/>
                </a:solidFill>
                <a:latin typeface="Times New Roman"/>
              </a:rPr>
              <a:t>clust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(1-2) /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1)=Estimated siz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2)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Records in cluster with CF of 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3)=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Records in cluster with CF of  “x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4- Population fig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219320"/>
            <a:ext cx="8610480" cy="213336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3733920"/>
            <a:ext cx="8610480" cy="28954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11600" y="380880"/>
            <a:ext cx="586512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800" spc="-1" strike="noStrike">
                <a:solidFill>
                  <a:srgbClr val="cc3300"/>
                </a:solidFill>
                <a:latin typeface="Arial"/>
              </a:rPr>
              <a:t>Questions, doubt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800" spc="-1" strike="noStrike">
                <a:solidFill>
                  <a:srgbClr val="cc3300"/>
                </a:solidFill>
                <a:latin typeface="Arial"/>
              </a:rPr>
              <a:t>explanation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9560" y="3335400"/>
            <a:ext cx="7445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Arial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orge L. Vega Va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pulation Statistics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http://www.ine.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jorgeluis.vega.valle@ine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22400" y="2706840"/>
            <a:ext cx="6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52200" bIns="-52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43280"/>
            <a:ext cx="8229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52200" bIns="-52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7520" y="2913120"/>
            <a:ext cx="7772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52200" bIns="-52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505320"/>
            <a:ext cx="81532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email" descr=""/>
          <p:cNvPicPr/>
          <p:nvPr/>
        </p:nvPicPr>
        <p:blipFill>
          <a:blip r:embed="rId2"/>
          <a:stretch/>
        </p:blipFill>
        <p:spPr>
          <a:xfrm>
            <a:off x="2006640" y="60958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5" name="web" descr=""/>
          <p:cNvPicPr/>
          <p:nvPr/>
        </p:nvPicPr>
        <p:blipFill>
          <a:blip r:embed="rId3"/>
          <a:stretch/>
        </p:blipFill>
        <p:spPr>
          <a:xfrm>
            <a:off x="2209680" y="5562720"/>
            <a:ext cx="65592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Thank-you-2" descr=""/>
          <p:cNvPicPr/>
          <p:nvPr/>
        </p:nvPicPr>
        <p:blipFill>
          <a:blip r:embed="rId4"/>
          <a:stretch/>
        </p:blipFill>
        <p:spPr>
          <a:xfrm>
            <a:off x="3886200" y="1998720"/>
            <a:ext cx="14018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1- Registers in Sp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2- Census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3- Linkage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4- The population fig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Times New Roman"/>
              </a:rPr>
              <a:t>1- Registers in Sp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2- Census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3- Linkage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4- The population fig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dron (Population Register) + 2001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d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ational Identity Cards and Resident Cards (Home Off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ital Statistics Bullet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cial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x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ption of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ducational at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employment national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1-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8001000" cy="6858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981080"/>
            <a:ext cx="8001000" cy="22100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419720"/>
            <a:ext cx="8001000" cy="13716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rd work on the beginning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alyz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ministrative registers in different asp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gr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ation of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1-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895480"/>
            <a:ext cx="8001000" cy="28958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1- Registers in Sp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2- Census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3- Linkage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4- The population fig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2b2b2"/>
                </a:solidFill>
                <a:latin typeface="Times New Roman"/>
              </a:rPr>
              <a:t>1- Registers in Sp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Times New Roman"/>
              </a:rPr>
              <a:t>2- Census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3- Linkage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Times New Roman"/>
              </a:rPr>
              <a:t>4- The population fig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2- Census method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47920" y="182880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Spain: 35.999 Enumer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89920" y="37339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28.799 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048120" y="3352680"/>
            <a:ext cx="798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50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19240" y="4724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500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080" y="563868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umerators with electron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560" y="37339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7.200 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352680"/>
            <a:ext cx="725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47280" y="56386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Info from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9760" y="281952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Building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371600"/>
            <a:ext cx="8610480" cy="52578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27760" y="4724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2- Census methodolo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0840" y="144792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Spain: 35.999 Enumer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79200" y="33526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35.999 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2756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4812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77920" y="4800600"/>
            <a:ext cx="2021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69600" y="5257800"/>
            <a:ext cx="263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umerators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lectron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98600" y="594360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a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20040" y="243828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opulation and Dwelling C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2756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371600"/>
            <a:ext cx="8610480" cy="52578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08440" y="4724280"/>
            <a:ext cx="2133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98440" y="52578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79840" y="480060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8:15:34Z</dcterms:created>
  <dc:creator>ine</dc:creator>
  <dc:description/>
  <dc:language>en-US</dc:language>
  <cp:lastModifiedBy>ine</cp:lastModifiedBy>
  <dcterms:modified xsi:type="dcterms:W3CDTF">2012-05-18T12:43:27Z</dcterms:modified>
  <cp:revision>120</cp:revision>
  <dc:subject/>
  <dc:title>Encuesta Piloto Censo 2009</dc:title>
</cp:coreProperties>
</file>