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C65-4ADE-4E91-9F00-441D7765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38F-8A08-40DB-902E-BE5338CE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16B-491A-423C-B4AD-C682C7FF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16F-1088-4ED8-B57E-0CEE6EEF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015-2B9D-4237-8BFF-D4672397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30C-EEE5-4E79-B8D9-E9D8035A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8E1-06FE-4B1A-A78B-B7389092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E74-24D0-4507-A17B-BC707B73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B81-30B6-4624-AA11-54691B1D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BC5B-CCE2-45C6-8A6C-1D7F57EB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5FE-52FD-4060-B645-66590D9E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490-95CB-48BC-90DE-92F27739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39800" indent="-2253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3" marL="930240" indent="32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4" marL="1547640" indent="-217440">
              <a:spcBef>
                <a:spcPts val="601"/>
              </a:spcBef>
              <a:buClr>
                <a:srgbClr val="99ff66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5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6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465E80-2A3D-43DE-B277-EDC6821EE08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schultenordholt@cbs.n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476280"/>
            <a:ext cx="7488360" cy="18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mparing approaches of different (partly) register-based countr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84000" y="2636640"/>
            <a:ext cx="7559640" cy="34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Eric Schulte Nordhol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enior researcher and project leader of the Censu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tatistics Netherland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ivision Socio-economic and spatial statistic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e.schultenordholt@cbs.nl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Presentation at the Expert Group Meeting on Censuses Using Registers in Geneva (22-23 May 2012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B4F253-66D3-4C3F-9B73-63E1DFEED6B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55280" y="44100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The Finnish Census Approach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92000" y="1376280"/>
            <a:ext cx="7451640" cy="47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lassifying the main type of activity in 19 step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Persons aged 0-14 years </a:t>
            </a:r>
            <a:r>
              <a:rPr b="1" lang="en-GB" sz="2400" spc="-1" strike="noStrike">
                <a:solidFill>
                  <a:srgbClr val="66ccff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 below national minimum</a:t>
            </a:r>
            <a:r>
              <a:rPr b="1" lang="nl-NL" sz="2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 age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Persons aged 75 years and over </a:t>
            </a:r>
            <a:r>
              <a:rPr b="1" lang="en-GB" sz="2400" spc="-1" strike="noStrike">
                <a:solidFill>
                  <a:srgbClr val="66ccff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 pensioner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Unemployed 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2" marL="895320" indent="-380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ccecff"/>
                </a:solidFill>
                <a:latin typeface="Arial"/>
              </a:rPr>
              <a:t>persons aged 15-64 who, according to the Ministry of Employment and the Economy’s Register of Job Applicants are unemployed on the last working day of the yea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[…]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19. 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Others outside the labour force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2" marL="895320" indent="-380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persons who do not meet any of the above criteria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161-23BF-4124-996B-783200D4CB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A69031-C0E6-4852-A38B-55FB51B5C9B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609120"/>
            <a:ext cx="7451640" cy="105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The Austrian and Slovenian Census Approach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000" y="2133720"/>
            <a:ext cx="74516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pproach used to obtain all required census information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Imputation of all missing information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pproach used to combine register and survey data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No survey data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A59-8077-45E9-B940-B0AA100623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6C5584-D36D-4D22-8B5F-8A8FBB042B3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2000" y="296640"/>
            <a:ext cx="7451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The Swiss Census Approach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92000" y="1233000"/>
            <a:ext cx="745164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pproach used to obtain all required census information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848520" indent="-452520">
              <a:spcBef>
                <a:spcPts val="499"/>
              </a:spcBef>
              <a:buClr>
                <a:srgbClr val="66cc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An annual structural survey of 200,000 persons (2.7%)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lvl="2" marL="1184760" indent="-45252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ccecff"/>
                </a:solidFill>
                <a:latin typeface="Arial"/>
              </a:rPr>
              <a:t>population, households, families, housing, employment, mobility, education, language, and religion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848520" indent="-452520">
              <a:spcBef>
                <a:spcPts val="499"/>
              </a:spcBef>
              <a:buClr>
                <a:srgbClr val="66cc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Thematic surveys of 10,000 to 40,000 persons 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lvl="2" marL="1184760" indent="-45252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ccecff"/>
                </a:solidFill>
                <a:latin typeface="Arial"/>
              </a:rPr>
              <a:t>1) mobility and transport, 2) education and training, 3) health, 4) families and generations, and 5) language, religion and culture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848520" indent="-452520">
              <a:spcBef>
                <a:spcPts val="499"/>
              </a:spcBef>
              <a:buClr>
                <a:srgbClr val="66cc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An annual omnibus survey of 3,000 persons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lvl="2" marL="1184760" indent="-45252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ccecff"/>
                </a:solidFill>
                <a:latin typeface="Arial"/>
              </a:rPr>
              <a:t>provide quick answers to questions from policy maker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pproach used to combine register and survey data: 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848520" indent="-452520">
              <a:spcBef>
                <a:spcPts val="499"/>
              </a:spcBef>
              <a:buClr>
                <a:srgbClr val="66cc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Traditional weighting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093-A26A-403B-9243-515CBEB7E7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8F7A11-0F2E-4272-A825-BB1F4A1CD7B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524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The German Census Approach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55280" y="1267920"/>
            <a:ext cx="748836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pproach used to obtain all required census information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499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household survey (10% of population)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lvl="2" marL="739800" indent="-225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ccecff"/>
                </a:solidFill>
                <a:latin typeface="Arial"/>
              </a:rPr>
              <a:t>education, employment, and migration background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399960" indent="-285480">
              <a:spcBef>
                <a:spcPts val="499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traditional enumeration of buildings and housing (100%)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lvl="2" marL="739800" indent="-225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cecff"/>
                </a:solidFill>
                <a:latin typeface="Arial"/>
              </a:rPr>
              <a:t>year of construction, type of building, number of room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399960" indent="-285480">
              <a:spcBef>
                <a:spcPts val="499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traditional enumeration of all residential establishments and collective living quarters (100%)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lvl="2" marL="739800" indent="-225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ccecff"/>
                </a:solidFill>
                <a:latin typeface="Arial"/>
              </a:rPr>
              <a:t>boarding schools, homes for elderly people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2" marL="739800" indent="-225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ccecff"/>
                </a:solidFill>
                <a:latin typeface="Arial"/>
              </a:rPr>
              <a:t>data necessary to identify the persons living in the institutions (e.g., name, date of birth, place of birth, and sex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pproach used to combine register and survey data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499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66ccff"/>
                </a:solidFill>
                <a:latin typeface="Arial"/>
              </a:rPr>
              <a:t>Traditional weighting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5F4-0B58-4D01-9FDE-E48F38F7FC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D35009-285D-427C-BA98-8F76983D1AB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000" y="609480"/>
            <a:ext cx="74516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The Polish Census Approach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pproach used to obtain all required census information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Survey for basic demographic information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Sample survey for detailed information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2" marL="739800" indent="-225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ccecff"/>
                </a:solidFill>
                <a:latin typeface="Arial"/>
              </a:rPr>
              <a:t>20% of the dwellings of permanent or temporary residents of the Republic of Poland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2" marL="73980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pproach used to combine register and survey data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Traditional weighting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FF7-B901-4D70-A878-8FC4446D68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5247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233360"/>
            <a:ext cx="752472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Several approaches are used to obtain all required census information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395640" indent="-28260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66ccff"/>
                </a:solidFill>
                <a:latin typeface="Arial"/>
              </a:rPr>
              <a:t>Most countries provide some of the data not completely in accordance with required EU definitions (e.g. CAS)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Imputation of missing information is a common approach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ost used approach to combine register and survey data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395640" indent="-28260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Traditional weighting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Repeated weighting is in the Dutch Census of 2011 only used for the variables occupation, level of education and possibly some housing variabl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tatistics Netherlands calls its approach a virtual census: fully register-based in the sense that no census questionnaires exist, partly register-based in the sense that already existing survey information is used for a few important variabl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This study is of used for future recommendations on census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4AD-FB79-4622-8247-3E8A0D68ED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524720" cy="12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7524720" cy="35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ntroduction to the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research projec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Participating other countri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Letter for participat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Census approaches of fully register-based countri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Census approaches of partly register-based countri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814-F6A9-4AC1-8B13-6728EBB29C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DCDE08-0FF2-4A3C-81B6-DF2201176A2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10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Introduction to the research projec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27280" y="2097000"/>
            <a:ext cx="7416720" cy="399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aster’s thesis project of Martina Maris (University of Groningen) in the period September 2011 – April 2012 supervised by Mark Huisman (University of Groningen), Eric Schulte Nordholt (Statistics Netherlands) and Jantien van Zeijl (Statistics Netherlands) concentrating on a number of questions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Which methods are used to compensate for missing information in the Census of 2011?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Which methods are used to combine register and survey data in the Census of 2011?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5D2-2A51-4317-8356-5168A57366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40464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Participating other countr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19280" y="1376280"/>
            <a:ext cx="7524720" cy="50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Fully register-based countri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66ccff"/>
                </a:solidFill>
                <a:latin typeface="Arial"/>
              </a:rPr>
              <a:t>Norway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66ccff"/>
                </a:solidFill>
                <a:latin typeface="Arial"/>
              </a:rPr>
              <a:t>Denmark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66ccff"/>
                </a:solidFill>
                <a:latin typeface="Arial"/>
              </a:rPr>
              <a:t>Sweden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66ccff"/>
                </a:solidFill>
                <a:latin typeface="Arial"/>
              </a:rPr>
              <a:t>Finland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66ccff"/>
                </a:solidFill>
                <a:latin typeface="Arial"/>
              </a:rPr>
              <a:t>Austria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66ccff"/>
                </a:solidFill>
                <a:latin typeface="Arial"/>
              </a:rPr>
              <a:t>Slovenia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Partly register-based countri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66ccff"/>
                </a:solidFill>
                <a:latin typeface="Arial"/>
              </a:rPr>
              <a:t>Switzerland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66ccff"/>
                </a:solidFill>
                <a:latin typeface="Arial"/>
              </a:rPr>
              <a:t>Germany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66ccff"/>
                </a:solidFill>
                <a:latin typeface="Arial"/>
              </a:rPr>
              <a:t>Poland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C16CA0-08EF-492C-B154-D237509DEAC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177-0074-4EF1-8741-DA19DF17B9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55280" y="6094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Letter for particip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92000" y="1600200"/>
            <a:ext cx="7451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Which variables are not available from registers?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What approach will be used when required variables cannot be obtained from available registers?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Will sample surveys be used to obtain additional census information?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Which estimation method will be used to combine register and survey data?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What are the reasons for using this method?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Large variation in answer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F581-9D9E-44E9-A96D-C92309E96DE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BAB9-3F13-4F8A-B113-DEB05740B2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4B15AD-7685-4EEB-8E1C-ED2EC771B55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The Norwegian Census Approach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9280" y="1521000"/>
            <a:ext cx="7524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pproach used to obtain all required information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Imputation (e.g., cohabitation)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some categories will not be specified (e.g., family workers)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persons will be assigned to a different category (e.g., private households)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pproach used to combine register and survey data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no sample survey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quality assessment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65F-EDF7-4C1B-BBCE-5234CAC887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55280" y="2602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The Danish Census Approach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27280" y="1196640"/>
            <a:ext cx="741672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pproach used to obtain all required census information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5640" indent="-28260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additional survey data (e.g., educational attainment)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395640" indent="-28260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some variables will be provided not completely in accordance with their required definitions (e.g., CAS)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pproach used to combine register and survey data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5640" indent="-28260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survey data  on educational attainment for immigrants 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395640" indent="-28260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non-respondents imputed on the basis of register data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5583-E22B-4F78-BC09-51EC4821F56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833-3E7B-4190-A65D-2DCFEBF063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3F912B-2D31-4ACA-89B6-B42AA8E1734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The Swedish Census Approach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55280" y="1600200"/>
            <a:ext cx="7488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pproach used to obtain all required census information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imputed as existing  (e.g., water supply)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provided not completely in accordance with the required definitions (e.g., CAS)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pproach used to combine register and survey data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no survey data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quality assessment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19E-0CB3-4F98-80D1-6D61AA41DA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55280" y="44100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The Finnish Census Approach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55280" y="1520640"/>
            <a:ext cx="7488360" cy="47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pproach used to obtain all required census information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499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register estimation method“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lvl="2" marL="739800" indent="-225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ccecff"/>
                </a:solidFill>
                <a:latin typeface="Arial"/>
              </a:rPr>
              <a:t>estimate for each statistical unit the value of a target variable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399960" indent="-285480">
              <a:spcBef>
                <a:spcPts val="499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not all required categories will be specified (e.g., own-account worker of status of employment)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lvl="1" marL="399960" indent="-285480">
              <a:spcBef>
                <a:spcPts val="499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quality problems (e.g., no information on students who have completed education abroad)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pproach used to combine register and survey data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499"/>
              </a:spcBef>
              <a:buClr>
                <a:srgbClr val="66cc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No survey data: all variables will be created by using the register estimation method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362E-0BA9-4213-A6C9-2CD7131A63B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F7E-394C-43A6-831F-89779C125A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33:14Z</dcterms:created>
  <dc:creator>Eric Schulte Nordholt</dc:creator>
  <dc:description/>
  <dc:language>en-US</dc:language>
  <cp:lastModifiedBy>Eric</cp:lastModifiedBy>
  <cp:lastPrinted>2002-02-11T11:11:40Z</cp:lastPrinted>
  <dcterms:modified xsi:type="dcterms:W3CDTF">2012-05-11T13:15:17Z</dcterms:modified>
  <cp:revision>326</cp:revision>
  <dc:subject/>
  <dc:title>Combined use of data</dc:title>
</cp:coreProperties>
</file>