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8C5-9F7D-4F82-861D-1482D100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3C88-67F3-4C61-949F-A52C2F5B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AD4-DB1D-4E4D-8D1F-191302CF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0E44-EB18-4D4E-B7F6-63A91C18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2320" y="4352400"/>
            <a:ext cx="49975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D7DB-56C1-4CDA-AF6A-177F12FE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7CCB-33D0-4B80-B627-A1521274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22560" y="865188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B681-B34D-44A8-A431-C2F85EA1FE4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C7D1-6B1B-47E2-A747-3D5257D9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B0E8-E8FB-41B7-B345-9BC03FFB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922560" y="865188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E564-EE08-42A2-A483-79C3C324B92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F50-5806-4067-8C5A-3FD23F77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819F-E8C9-485A-9592-F099CFF04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A3C-B4B6-4387-894B-60A0B07A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F857-C729-4EBE-AF59-73CB8F022ED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olo Valente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5C77F66-FC50-45A6-ADFF-8649D140DD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UNECElogoDarkBlue200px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UNECElogoDarkBlue200px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Line 11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ECElogoDarkBlue200px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52480" y="609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UNECElogoDarkBlue200px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3399"/>
                </a:solidFill>
                <a:latin typeface="Arial"/>
              </a:rPr>
              <a:t>United Nations Economic Commission for Europe 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nece.org/stats/census.html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250920" y="14842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UNECE-Euros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Expert Group Meeting on Censuses Using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Geneva, 22-23 May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80880" y="2708280"/>
            <a:ext cx="87631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verview of 2010 round of censuses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n the UNECE region, with focus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n the use of registe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4000" y="54100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 Narrow"/>
              </a:rPr>
              <a:t>Paolo 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4BA-E6AA-4B1E-9C8D-79E9A2D657C1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3915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. Risks of census using registers*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557360"/>
            <a:ext cx="88200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ata source definition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reported as risk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7 countries (but considered as benefit by others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topics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6 countries with no field coll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imited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utput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3 countries with sample surve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egative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ublic perception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2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148-91E0-47B5-B196-AD616BDFC5F8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391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5. Conclusions: Trends on census methodology in UNECE reg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9640" y="1768320"/>
            <a:ext cx="770436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end to move away from traditional census, particularly in 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umber of countries using registers more than doubled from 2000 to 2010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versification of methodology: combined  census approaches increasingly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CIS and SEE, traditional census still the favorite method, but increasing interest in using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9C7D-DA94-4AFF-9DB2-1A34FBBF626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ntains information and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n censuses in member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- Census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- Census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- Census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- Technical papers and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- Link to national census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gularly updated by UNEC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gistered natio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Accessible from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unece.org/stats/census.html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 or using Goog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549360"/>
            <a:ext cx="7391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2"/>
          <a:srcRect l="31892" t="4214" r="0" b="4088"/>
          <a:stretch/>
        </p:blipFill>
        <p:spPr>
          <a:xfrm>
            <a:off x="4645080" y="1486080"/>
            <a:ext cx="4390920" cy="3671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10920" y="620280"/>
            <a:ext cx="7391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ew UNECE Census wiki on 2010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ensus 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rcRect l="1473" t="19488" r="43012" b="74848"/>
          <a:stretch/>
        </p:blipFill>
        <p:spPr>
          <a:xfrm>
            <a:off x="539640" y="5661000"/>
            <a:ext cx="7896240" cy="50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57CF-07E8-4B93-A6B0-EDFBE5E98E1E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91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Content of present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55640" y="981000"/>
            <a:ext cx="770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2010 round in UNECE: 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census years</a:t>
            </a:r>
            <a:br>
              <a:rPr sz="2800"/>
            </a:br>
            <a:br>
              <a:rPr sz="1400"/>
            </a:br>
            <a:br>
              <a:rPr sz="1400"/>
            </a:b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Census methods 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in 2000 and 2010 rounds</a:t>
            </a:r>
            <a:br>
              <a:rPr sz="2800"/>
            </a:br>
            <a:br>
              <a:rPr sz="1400"/>
            </a:br>
            <a:br>
              <a:rPr sz="1400"/>
            </a:b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Benefits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 of censuses using register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Risks</a:t>
            </a: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 of censuses using register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AutoNum type="arabicPeriod" startAt="5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Selected results from 2011 UNSD/US Census Bureau survey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1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1DE1-7C90-451F-BA4C-643BAF564A4B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68360" y="476280"/>
            <a:ext cx="75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1. Countries by census year (UNE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Chart 6" descr=""/>
          <p:cNvPicPr/>
          <p:nvPr/>
        </p:nvPicPr>
        <p:blipFill>
          <a:blip r:embed="rId1"/>
          <a:stretch/>
        </p:blipFill>
        <p:spPr>
          <a:xfrm>
            <a:off x="249120" y="1487520"/>
            <a:ext cx="86457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E816-6071-400E-A77A-6922A83ACF53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50920" y="620640"/>
            <a:ext cx="7848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2. Census methods in 2000 and 2010 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13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715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2. Census methods in 2000 and 2010 r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C30D-9C47-48A6-8ADB-A592C5612B9C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773360"/>
          <a:ext cx="7848720" cy="4267080"/>
        </p:xfrm>
        <a:graphic>
          <a:graphicData uri="http://schemas.openxmlformats.org/drawingml/2006/table">
            <a:tbl>
              <a:tblPr/>
              <a:tblGrid>
                <a:gridCol w="1204920"/>
                <a:gridCol w="1461960"/>
                <a:gridCol w="914400"/>
                <a:gridCol w="914400"/>
                <a:gridCol w="1219320"/>
                <a:gridCol w="1066680"/>
                <a:gridCol w="1067040"/>
              </a:tblGrid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 2010 census 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sus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-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-b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ditio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bi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gister-bas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cen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1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7F51-9DEB-438D-B46C-2B3EAB426556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800000"/>
                </a:solidFill>
                <a:latin typeface="Arial"/>
              </a:rPr>
              <a:t>2. Census methods in Europe - 2010 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Map on census methods in Europe - Bel Slo corrected"/>
          <p:cNvPicPr/>
          <p:nvPr/>
        </p:nvPicPr>
        <p:blipFill>
          <a:blip r:embed="rId1"/>
          <a:stretch/>
        </p:blipFill>
        <p:spPr>
          <a:xfrm>
            <a:off x="1835280" y="1052640"/>
            <a:ext cx="540072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22D-D54E-4D85-9818-072F52132954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07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. Benefits of census using registers*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341360"/>
            <a:ext cx="792144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st saving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y almost all countries using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pected cost savings very high (85% to 99%) when there is no field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gnificant cost savings (40% - 75%) with ad-hoc sample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wer or no cost savings with full 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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ata o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tu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ost savings still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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s for setting up and maintaining 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002-A70B-4364-946C-D7CA6048AA8A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07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. Benefits of census using registers*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484280"/>
            <a:ext cx="849780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ime savings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y about half of the countries using regis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fficult to estimate time savings in ad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urkey estimates 50% compared to trad. c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srael reported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ctua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time savings (not quantif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st countries with register-based census did not report expecting time sav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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rmany and Poland reported potential risk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creasi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time to produc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E656-F44C-4E2D-83A7-2351D701D0C0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. Benefits of census using registers*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95280" y="1557360"/>
            <a:ext cx="84978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rov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data quality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y 11 count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rov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coverage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9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response burden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6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creased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tem non-response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5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creased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sponse rate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4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ssible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ducing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yearly data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4 countr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duced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ield work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3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1:16:09Z</dcterms:created>
  <dc:creator>Hansen</dc:creator>
  <dc:description/>
  <dc:language>en-US</dc:language>
  <cp:lastModifiedBy>Mijidgombo Oyunjargal</cp:lastModifiedBy>
  <dcterms:modified xsi:type="dcterms:W3CDTF">2012-06-15T09:50:29Z</dcterms:modified>
  <cp:revision>30</cp:revision>
  <dc:subject/>
  <dc:title>Slide 1</dc:title>
</cp:coreProperties>
</file>