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12E5-7280-4063-B28F-00405D47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DA91-1F59-4259-BFFD-3C51A4D8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FE2-30A7-430D-8E9D-3CEF21C3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214-D204-4ABC-811E-66F5CC55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7C0-2EFA-4CC3-AFE8-D8904D3F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F131-9E32-4E53-A323-A6AE43DE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16EA-CF16-4F38-BD62-18E8B1D6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D8D-CA27-49EE-BC90-71065AE1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9428-674D-4D83-A9E1-170C4242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9720-D10B-4993-8372-A4170E16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77D7-53DA-4C62-925B-90D0032E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121-FC28-4537-98B1-DD46F788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F9C7-2EC2-46AD-B2D8-09FBDDAF03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верхний колонтитул"/>
          <p:cNvPicPr/>
          <p:nvPr/>
        </p:nvPicPr>
        <p:blipFill>
          <a:blip r:embed="rId1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нлвый-лого"/>
          <p:cNvPicPr/>
          <p:nvPr/>
        </p:nvPicPr>
        <p:blipFill>
          <a:blip r:embed="rId2"/>
          <a:stretch/>
        </p:blipFill>
        <p:spPr>
          <a:xfrm>
            <a:off x="195120" y="298440"/>
            <a:ext cx="5826240" cy="151452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10"/>
          <p:cNvSpPr/>
          <p:nvPr/>
        </p:nvSpPr>
        <p:spPr>
          <a:xfrm>
            <a:off x="154080" y="2476440"/>
            <a:ext cx="880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447"/>
                </a:solidFill>
                <a:latin typeface="Tahoma"/>
              </a:rPr>
              <a:t>Распространение результатов переписи нас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398520" y="5927760"/>
            <a:ext cx="8556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00"/>
                </a:solidFill>
                <a:latin typeface="Tahoma"/>
              </a:rPr>
              <a:t>Збарская Ири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Tahoma"/>
              </a:rPr>
              <a:t>Федеральная служба государственной стат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верхний колонтитул"/>
          <p:cNvPicPr/>
          <p:nvPr/>
        </p:nvPicPr>
        <p:blipFill>
          <a:blip r:embed="rId1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верхний колонтитул"/>
          <p:cNvPicPr/>
          <p:nvPr/>
        </p:nvPicPr>
        <p:blipFill>
          <a:blip r:embed="rId2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5" descr="нлвый-лого"/>
          <p:cNvPicPr/>
          <p:nvPr/>
        </p:nvPicPr>
        <p:blipFill>
          <a:blip r:embed="rId3"/>
          <a:srcRect l="0" t="0" r="72936" b="0"/>
          <a:stretch/>
        </p:blipFill>
        <p:spPr>
          <a:xfrm>
            <a:off x="8213760" y="6019920"/>
            <a:ext cx="849240" cy="8017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2"/>
          <p:cNvSpPr/>
          <p:nvPr/>
        </p:nvSpPr>
        <p:spPr>
          <a:xfrm>
            <a:off x="1403280" y="360360"/>
            <a:ext cx="6264360" cy="82548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9c2b"/>
                </a:solidFill>
                <a:latin typeface="Tahoma"/>
              </a:rPr>
              <a:t>Информационно-разъяснительная работа для ВПН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2330280" y="2224080"/>
            <a:ext cx="4392720" cy="91692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нформационно-разъяснительная работа для подготовки и проведения ППН-20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4"/>
          <p:cNvSpPr/>
          <p:nvPr/>
        </p:nvSpPr>
        <p:spPr>
          <a:xfrm>
            <a:off x="2166840" y="5022720"/>
            <a:ext cx="4753080" cy="91692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нформационно-разъяснительная работа для подготовки и проведения ВПН-2010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5"/>
          <p:cNvSpPr/>
          <p:nvPr/>
        </p:nvSpPr>
        <p:spPr>
          <a:xfrm>
            <a:off x="2330280" y="3441600"/>
            <a:ext cx="4392720" cy="91692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Анализ эффективности информационно-разъяснитель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6"/>
          <p:cNvSpPr/>
          <p:nvPr/>
        </p:nvSpPr>
        <p:spPr>
          <a:xfrm rot="5400000">
            <a:off x="4319280" y="712440"/>
            <a:ext cx="431640" cy="208908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8f8fff"/>
              </a:gs>
              <a:gs pos="100000">
                <a:srgbClr val="333399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7"/>
          <p:cNvSpPr/>
          <p:nvPr/>
        </p:nvSpPr>
        <p:spPr>
          <a:xfrm rot="5400000">
            <a:off x="4320720" y="3628800"/>
            <a:ext cx="457200" cy="208908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8f8fff"/>
              </a:gs>
              <a:gs pos="100000">
                <a:srgbClr val="333399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верхний колонтитул"/>
          <p:cNvPicPr/>
          <p:nvPr/>
        </p:nvPicPr>
        <p:blipFill>
          <a:blip r:embed="rId1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верхний колонтитул"/>
          <p:cNvPicPr/>
          <p:nvPr/>
        </p:nvPicPr>
        <p:blipFill>
          <a:blip r:embed="rId2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нлвый-лого"/>
          <p:cNvPicPr/>
          <p:nvPr/>
        </p:nvPicPr>
        <p:blipFill>
          <a:blip r:embed="rId3"/>
          <a:srcRect l="0" t="0" r="72936" b="0"/>
          <a:stretch/>
        </p:blipFill>
        <p:spPr>
          <a:xfrm>
            <a:off x="8213760" y="6019920"/>
            <a:ext cx="849240" cy="801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1114560" y="3200400"/>
            <a:ext cx="7840440" cy="720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Издание тематических томов с итогами ВПН-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на бумажных носителях и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D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(в течении 3 лет после перепис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114560" y="4083120"/>
            <a:ext cx="7786440" cy="4302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Размещение итогов ВПН-2010 на интернет-сайте Росст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149480" y="5364000"/>
            <a:ext cx="7213320" cy="6969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н-лайн доступ к микроданным ВПН-2010 для внешних исследователей и  для широкой публики  посредством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er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до следующей ВП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187280" y="969840"/>
            <a:ext cx="7807320" cy="6192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Публикация предварительных итогов ВПН-2010 в официальном изда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правительства РФ «Российская газета»(через 6  месяцев после перепис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187280" y="1612800"/>
            <a:ext cx="7720200" cy="6476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Доклад с основными итогами ВПН-2010 в публикациях и электронных выпуск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187280" y="2414520"/>
            <a:ext cx="7740720" cy="7826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Публикация окончательных итогов ВПН-2010 в официальном изда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правительства РФ «Российская газет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(через 1,5 года после перепис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293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Распространение итогов ВПН-20</a:t>
            </a: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10</a:t>
            </a: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250920" y="1131840"/>
            <a:ext cx="576000" cy="18241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8f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99c2b"/>
                </a:solidFill>
                <a:latin typeface="Arial"/>
              </a:rPr>
              <a:t>э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250920" y="3259080"/>
            <a:ext cx="576000" cy="13194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8f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99c2b"/>
                </a:solidFill>
                <a:latin typeface="Arial"/>
              </a:rPr>
              <a:t>э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851040" y="1133640"/>
            <a:ext cx="431640" cy="184284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8f8fff"/>
              </a:gs>
              <a:gs pos="100000">
                <a:srgbClr val="333399"/>
              </a:gs>
            </a:gsLst>
            <a:lin ang="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851040" y="3220920"/>
            <a:ext cx="431640" cy="135756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8f8fff"/>
              </a:gs>
              <a:gs pos="100000">
                <a:srgbClr val="333399"/>
              </a:gs>
            </a:gsLst>
            <a:lin ang="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247680" y="4867200"/>
            <a:ext cx="576360" cy="15670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8f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99c2b"/>
                </a:solidFill>
                <a:latin typeface="Arial"/>
              </a:rPr>
              <a:t>э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847800" y="4933800"/>
            <a:ext cx="431640" cy="156708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8f8fff"/>
              </a:gs>
              <a:gs pos="100000">
                <a:srgbClr val="333399"/>
              </a:gs>
            </a:gsLst>
            <a:lin ang="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верхний колонтитул"/>
          <p:cNvPicPr/>
          <p:nvPr/>
        </p:nvPicPr>
        <p:blipFill>
          <a:blip r:embed="rId1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верхний колонтитул"/>
          <p:cNvPicPr/>
          <p:nvPr/>
        </p:nvPicPr>
        <p:blipFill>
          <a:blip r:embed="rId2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нлвый-лого"/>
          <p:cNvPicPr/>
          <p:nvPr/>
        </p:nvPicPr>
        <p:blipFill>
          <a:blip r:embed="rId3"/>
          <a:srcRect l="0" t="0" r="72936" b="0"/>
          <a:stretch/>
        </p:blipFill>
        <p:spPr>
          <a:xfrm>
            <a:off x="8213760" y="6019920"/>
            <a:ext cx="849240" cy="801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ирр"/>
          <p:cNvPicPr/>
          <p:nvPr/>
        </p:nvPicPr>
        <p:blipFill>
          <a:blip r:embed="rId4"/>
          <a:srcRect l="0" t="0" r="4367" b="7695"/>
          <a:stretch/>
        </p:blipFill>
        <p:spPr>
          <a:xfrm>
            <a:off x="5796000" y="4438800"/>
            <a:ext cx="3348000" cy="24192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6"/>
          <p:cNvSpPr/>
          <p:nvPr/>
        </p:nvSpPr>
        <p:spPr>
          <a:xfrm>
            <a:off x="1476360" y="1268280"/>
            <a:ext cx="1513080" cy="64944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Фото-выста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165480" y="765000"/>
            <a:ext cx="1798560" cy="64944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Пресс-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Круглые сто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Пресс-конфир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8"/>
          <p:cNvSpPr/>
          <p:nvPr/>
        </p:nvSpPr>
        <p:spPr>
          <a:xfrm>
            <a:off x="682560" y="3429000"/>
            <a:ext cx="2089080" cy="71928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Творческие конк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(«Лучший комикс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«Лучшая эмблема»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5076720" y="1125360"/>
            <a:ext cx="1873440" cy="79236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оциологические 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0" y="23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447"/>
                </a:solidFill>
                <a:latin typeface="Tahoma"/>
              </a:rPr>
              <a:t>Популяризация итогов ВПН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811080" y="2357280"/>
            <a:ext cx="1727280" cy="64944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Интернет-сай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2022480" y="4448160"/>
            <a:ext cx="1982880" cy="97488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Тематические передачи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радио и телевид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"/>
          <p:cNvSpPr/>
          <p:nvPr/>
        </p:nvSpPr>
        <p:spPr>
          <a:xfrm>
            <a:off x="4284720" y="4343400"/>
            <a:ext cx="1871640" cy="83808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Сувениры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(буклеты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календари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значки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5508720" y="2133720"/>
            <a:ext cx="1973160" cy="93492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Международ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импозиу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5"/>
          <p:cNvGrpSpPr/>
          <p:nvPr/>
        </p:nvGrpSpPr>
        <p:grpSpPr>
          <a:xfrm>
            <a:off x="2544840" y="1484280"/>
            <a:ext cx="3043080" cy="2840760"/>
            <a:chOff x="2544840" y="1484280"/>
            <a:chExt cx="3043080" cy="2840760"/>
          </a:xfrm>
        </p:grpSpPr>
        <p:grpSp>
          <p:nvGrpSpPr>
            <p:cNvPr id="82" name="Group 16"/>
            <p:cNvGrpSpPr/>
            <p:nvPr/>
          </p:nvGrpSpPr>
          <p:grpSpPr>
            <a:xfrm>
              <a:off x="3167280" y="3222360"/>
              <a:ext cx="1173600" cy="1102680"/>
              <a:chOff x="3167280" y="3222360"/>
              <a:chExt cx="1173600" cy="1102680"/>
            </a:xfrm>
          </p:grpSpPr>
          <p:sp>
            <p:nvSpPr>
              <p:cNvPr id="83" name="AutoShape 17"/>
              <p:cNvSpPr/>
              <p:nvPr/>
            </p:nvSpPr>
            <p:spPr>
              <a:xfrm rot="6652200">
                <a:off x="3430080" y="3580200"/>
                <a:ext cx="396720" cy="82440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007a5a"/>
                  </a:gs>
                  <a:gs pos="100000">
                    <a:srgbClr val="33cdbe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18"/>
              <p:cNvSpPr/>
              <p:nvPr/>
            </p:nvSpPr>
            <p:spPr>
              <a:xfrm rot="12052200">
                <a:off x="3214080" y="3399120"/>
                <a:ext cx="1079280" cy="46404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19"/>
            <p:cNvGrpSpPr/>
            <p:nvPr/>
          </p:nvGrpSpPr>
          <p:grpSpPr>
            <a:xfrm>
              <a:off x="2594160" y="2688120"/>
              <a:ext cx="1186200" cy="1246680"/>
              <a:chOff x="2594160" y="2688120"/>
              <a:chExt cx="1186200" cy="1246680"/>
            </a:xfrm>
          </p:grpSpPr>
          <p:sp>
            <p:nvSpPr>
              <p:cNvPr id="86" name="AutoShape 20"/>
              <p:cNvSpPr/>
              <p:nvPr/>
            </p:nvSpPr>
            <p:spPr>
              <a:xfrm rot="8888400">
                <a:off x="2781720" y="3067560"/>
                <a:ext cx="396720" cy="82440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007a5a"/>
                  </a:gs>
                  <a:gs pos="100000">
                    <a:srgbClr val="33cdbe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21"/>
              <p:cNvSpPr/>
              <p:nvPr/>
            </p:nvSpPr>
            <p:spPr>
              <a:xfrm rot="14288400">
                <a:off x="2758680" y="3036600"/>
                <a:ext cx="1079280" cy="46368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22"/>
            <p:cNvGrpSpPr/>
            <p:nvPr/>
          </p:nvGrpSpPr>
          <p:grpSpPr>
            <a:xfrm>
              <a:off x="3757680" y="3281760"/>
              <a:ext cx="1165680" cy="1042200"/>
              <a:chOff x="3757680" y="3281760"/>
              <a:chExt cx="1165680" cy="1042200"/>
            </a:xfrm>
          </p:grpSpPr>
          <p:sp>
            <p:nvSpPr>
              <p:cNvPr id="89" name="AutoShape 23"/>
              <p:cNvSpPr/>
              <p:nvPr/>
            </p:nvSpPr>
            <p:spPr>
              <a:xfrm rot="4427400">
                <a:off x="4259520" y="3606120"/>
                <a:ext cx="396720" cy="82440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007a5a"/>
                  </a:gs>
                  <a:gs pos="100000">
                    <a:srgbClr val="33cdbe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24"/>
              <p:cNvSpPr/>
              <p:nvPr/>
            </p:nvSpPr>
            <p:spPr>
              <a:xfrm rot="9827400">
                <a:off x="3800520" y="3423240"/>
                <a:ext cx="1079280" cy="46368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25"/>
            <p:cNvGrpSpPr/>
            <p:nvPr/>
          </p:nvGrpSpPr>
          <p:grpSpPr>
            <a:xfrm>
              <a:off x="4327920" y="2744280"/>
              <a:ext cx="1217520" cy="1236240"/>
              <a:chOff x="4327920" y="2744280"/>
              <a:chExt cx="1217520" cy="1236240"/>
            </a:xfrm>
          </p:grpSpPr>
          <p:sp>
            <p:nvSpPr>
              <p:cNvPr id="92" name="AutoShape 26"/>
              <p:cNvSpPr/>
              <p:nvPr/>
            </p:nvSpPr>
            <p:spPr>
              <a:xfrm rot="2093400">
                <a:off x="4948200" y="3116160"/>
                <a:ext cx="396720" cy="82476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007a5a"/>
                  </a:gs>
                  <a:gs pos="100000">
                    <a:srgbClr val="33cdbe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27"/>
              <p:cNvSpPr/>
              <p:nvPr/>
            </p:nvSpPr>
            <p:spPr>
              <a:xfrm rot="7493400">
                <a:off x="4286880" y="3087720"/>
                <a:ext cx="1079640" cy="46368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28"/>
            <p:cNvGrpSpPr/>
            <p:nvPr/>
          </p:nvGrpSpPr>
          <p:grpSpPr>
            <a:xfrm>
              <a:off x="4626720" y="2204640"/>
              <a:ext cx="961200" cy="1143000"/>
              <a:chOff x="4626720" y="2204640"/>
              <a:chExt cx="961200" cy="1143000"/>
            </a:xfrm>
          </p:grpSpPr>
          <p:sp>
            <p:nvSpPr>
              <p:cNvPr id="95" name="AutoShape 29"/>
              <p:cNvSpPr/>
              <p:nvPr/>
            </p:nvSpPr>
            <p:spPr>
              <a:xfrm rot="21008400">
                <a:off x="5123520" y="2286720"/>
                <a:ext cx="396720" cy="82476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007a5a"/>
                  </a:gs>
                  <a:gs pos="100000">
                    <a:srgbClr val="33cdbe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30"/>
              <p:cNvSpPr/>
              <p:nvPr/>
            </p:nvSpPr>
            <p:spPr>
              <a:xfrm rot="4808400">
                <a:off x="4407480" y="2544120"/>
                <a:ext cx="1079640" cy="46368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31"/>
            <p:cNvGrpSpPr/>
            <p:nvPr/>
          </p:nvGrpSpPr>
          <p:grpSpPr>
            <a:xfrm>
              <a:off x="2544840" y="2150280"/>
              <a:ext cx="1006560" cy="1155600"/>
              <a:chOff x="2544840" y="2150280"/>
              <a:chExt cx="1006560" cy="1155600"/>
            </a:xfrm>
          </p:grpSpPr>
          <p:sp>
            <p:nvSpPr>
              <p:cNvPr id="98" name="AutoShape 32"/>
              <p:cNvSpPr/>
              <p:nvPr/>
            </p:nvSpPr>
            <p:spPr>
              <a:xfrm rot="11572800">
                <a:off x="2631600" y="2241720"/>
                <a:ext cx="396720" cy="82440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007a5a"/>
                  </a:gs>
                  <a:gs pos="100000">
                    <a:srgbClr val="33cdbe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33"/>
              <p:cNvSpPr/>
              <p:nvPr/>
            </p:nvSpPr>
            <p:spPr>
              <a:xfrm rot="16972800">
                <a:off x="2665080" y="2496240"/>
                <a:ext cx="1079280" cy="46368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34"/>
            <p:cNvGrpSpPr/>
            <p:nvPr/>
          </p:nvGrpSpPr>
          <p:grpSpPr>
            <a:xfrm>
              <a:off x="2832120" y="1543320"/>
              <a:ext cx="1257480" cy="1211760"/>
              <a:chOff x="2832120" y="1543320"/>
              <a:chExt cx="1257480" cy="1211760"/>
            </a:xfrm>
          </p:grpSpPr>
          <p:sp>
            <p:nvSpPr>
              <p:cNvPr id="101" name="AutoShape 35"/>
              <p:cNvSpPr/>
              <p:nvPr/>
            </p:nvSpPr>
            <p:spPr>
              <a:xfrm rot="14019600">
                <a:off x="3083040" y="1535040"/>
                <a:ext cx="396720" cy="82440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007a5a"/>
                  </a:gs>
                  <a:gs pos="100000">
                    <a:srgbClr val="33cdbe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36"/>
              <p:cNvSpPr/>
              <p:nvPr/>
            </p:nvSpPr>
            <p:spPr>
              <a:xfrm rot="19419600">
                <a:off x="2977560" y="2016360"/>
                <a:ext cx="1079280" cy="46404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37"/>
            <p:cNvGrpSpPr/>
            <p:nvPr/>
          </p:nvGrpSpPr>
          <p:grpSpPr>
            <a:xfrm>
              <a:off x="4093200" y="1554120"/>
              <a:ext cx="1241280" cy="1233000"/>
              <a:chOff x="4093200" y="1554120"/>
              <a:chExt cx="1241280" cy="1233000"/>
            </a:xfrm>
          </p:grpSpPr>
          <p:sp>
            <p:nvSpPr>
              <p:cNvPr id="104" name="AutoShape 38"/>
              <p:cNvSpPr/>
              <p:nvPr/>
            </p:nvSpPr>
            <p:spPr>
              <a:xfrm rot="18481200">
                <a:off x="4689000" y="1551960"/>
                <a:ext cx="396720" cy="82440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007a5a"/>
                  </a:gs>
                  <a:gs pos="100000">
                    <a:srgbClr val="33cdbe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39"/>
              <p:cNvSpPr/>
              <p:nvPr/>
            </p:nvSpPr>
            <p:spPr>
              <a:xfrm rot="2281200">
                <a:off x="4121640" y="2040120"/>
                <a:ext cx="1078920" cy="46404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40"/>
            <p:cNvGrpSpPr/>
            <p:nvPr/>
          </p:nvGrpSpPr>
          <p:grpSpPr>
            <a:xfrm>
              <a:off x="3541320" y="1484280"/>
              <a:ext cx="1079280" cy="812520"/>
              <a:chOff x="3541320" y="1484280"/>
              <a:chExt cx="1079280" cy="812520"/>
            </a:xfrm>
          </p:grpSpPr>
          <p:sp>
            <p:nvSpPr>
              <p:cNvPr id="107" name="AutoShape 41"/>
              <p:cNvSpPr/>
              <p:nvPr/>
            </p:nvSpPr>
            <p:spPr>
              <a:xfrm rot="16200000">
                <a:off x="3871080" y="1270440"/>
                <a:ext cx="396720" cy="82440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007a5a"/>
                  </a:gs>
                  <a:gs pos="100000">
                    <a:srgbClr val="33cdbe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42"/>
              <p:cNvSpPr/>
              <p:nvPr/>
            </p:nvSpPr>
            <p:spPr>
              <a:xfrm>
                <a:off x="3541320" y="1832760"/>
                <a:ext cx="1079280" cy="46404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Oval 43"/>
            <p:cNvSpPr/>
            <p:nvPr/>
          </p:nvSpPr>
          <p:spPr>
            <a:xfrm>
              <a:off x="2995560" y="1865160"/>
              <a:ext cx="2160000" cy="2016360"/>
            </a:xfrm>
            <a:prstGeom prst="ellipse">
              <a:avLst/>
            </a:prstGeom>
            <a:gradFill rotWithShape="0">
              <a:gsLst>
                <a:gs pos="0">
                  <a:srgbClr val="007a5a"/>
                </a:gs>
                <a:gs pos="100000">
                  <a:srgbClr val="000068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3399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e99c2b"/>
                  </a:solidFill>
                  <a:latin typeface="Tahoma"/>
                </a:rPr>
                <a:t>«</a:t>
              </a:r>
              <a:r>
                <a:rPr b="0" i="1" lang="en-US" sz="1600" spc="-1" strike="noStrike">
                  <a:solidFill>
                    <a:srgbClr val="e99c2b"/>
                  </a:solidFill>
                  <a:latin typeface="Tahoma"/>
                </a:rPr>
                <a:t>УЗНАЙТ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e99c2b"/>
                  </a:solidFill>
                  <a:latin typeface="Tahoma"/>
                </a:rPr>
                <a:t>РОССИЮ</a:t>
              </a:r>
              <a:r>
                <a:rPr b="0" i="1" lang="en-US" sz="1800" spc="-1" strike="noStrike">
                  <a:solidFill>
                    <a:srgbClr val="e99c2b"/>
                  </a:solidFill>
                  <a:latin typeface="Tahoma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AutoShape 44"/>
          <p:cNvSpPr/>
          <p:nvPr/>
        </p:nvSpPr>
        <p:spPr>
          <a:xfrm>
            <a:off x="5435640" y="3357720"/>
            <a:ext cx="1873080" cy="79200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Рекламные щ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в крупных гор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верхний колонтитул"/>
          <p:cNvPicPr/>
          <p:nvPr/>
        </p:nvPicPr>
        <p:blipFill>
          <a:blip r:embed="rId1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верхний колонтитул"/>
          <p:cNvPicPr/>
          <p:nvPr/>
        </p:nvPicPr>
        <p:blipFill>
          <a:blip r:embed="rId2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нлвый-лого"/>
          <p:cNvPicPr/>
          <p:nvPr/>
        </p:nvPicPr>
        <p:blipFill>
          <a:blip r:embed="rId3"/>
          <a:srcRect l="0" t="0" r="72936" b="0"/>
          <a:stretch/>
        </p:blipFill>
        <p:spPr>
          <a:xfrm>
            <a:off x="8213760" y="6019920"/>
            <a:ext cx="849240" cy="8017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5"/>
          <p:cNvSpPr/>
          <p:nvPr/>
        </p:nvSpPr>
        <p:spPr>
          <a:xfrm rot="16200000">
            <a:off x="4383000" y="1269360"/>
            <a:ext cx="431640" cy="136872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8f8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11120" y="3787920"/>
            <a:ext cx="2449440" cy="1261800"/>
          </a:xfrm>
          <a:prstGeom prst="rect">
            <a:avLst/>
          </a:prstGeom>
          <a:gradFill rotWithShape="0">
            <a:gsLst>
              <a:gs pos="0">
                <a:srgbClr val="6161ff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убл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17440" y="1549440"/>
            <a:ext cx="2766960" cy="1359000"/>
          </a:xfrm>
          <a:prstGeom prst="rect">
            <a:avLst/>
          </a:prstGeom>
          <a:gradFill rotWithShape="0">
            <a:gsLst>
              <a:gs pos="0">
                <a:srgbClr val="6161ff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рошюры, буклеты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лектронные издания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тогами ВПН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3427560" y="596880"/>
            <a:ext cx="2214360" cy="992160"/>
          </a:xfrm>
          <a:prstGeom prst="rect">
            <a:avLst/>
          </a:prstGeom>
          <a:gradFill rotWithShape="0">
            <a:gsLst>
              <a:gs pos="0">
                <a:srgbClr val="6161ff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матические то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бумажных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лектро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сител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218280" y="1373040"/>
            <a:ext cx="2376360" cy="1293840"/>
          </a:xfrm>
          <a:prstGeom prst="rect">
            <a:avLst/>
          </a:prstGeom>
          <a:gradFill rotWithShape="0">
            <a:gsLst>
              <a:gs pos="0">
                <a:srgbClr val="6161ff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тлас с итог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ПН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946240" y="5116680"/>
            <a:ext cx="3281400" cy="1055520"/>
          </a:xfrm>
          <a:prstGeom prst="rect">
            <a:avLst/>
          </a:prstGeom>
          <a:gradFill rotWithShape="0">
            <a:gsLst>
              <a:gs pos="0">
                <a:srgbClr val="6161ff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ступ к итогам ВПН-20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интернет-сайте Росс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3220920" y="2212920"/>
            <a:ext cx="2765520" cy="2129040"/>
          </a:xfrm>
          <a:prstGeom prst="hexagon">
            <a:avLst>
              <a:gd name="adj" fmla="val 32474"/>
              <a:gd name="vf" fmla="val 115470"/>
            </a:avLst>
          </a:prstGeom>
          <a:gradFill rotWithShape="0">
            <a:gsLst>
              <a:gs pos="0">
                <a:srgbClr val="6161ff"/>
              </a:gs>
              <a:gs pos="100000">
                <a:srgbClr val="00009a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39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8447"/>
                </a:solidFill>
                <a:latin typeface="Tahoma"/>
              </a:rPr>
              <a:t>Популяриз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8447"/>
                </a:solidFill>
                <a:latin typeface="Tahoma"/>
              </a:rPr>
              <a:t>ВПН-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 rot="5400000">
            <a:off x="4383000" y="3928680"/>
            <a:ext cx="431640" cy="136872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8f8fff"/>
              </a:gs>
              <a:gs pos="100000">
                <a:srgbClr val="333399"/>
              </a:gs>
            </a:gsLst>
            <a:lin ang="16200000"/>
          </a:gradFill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 rot="12822000">
            <a:off x="3135240" y="1915920"/>
            <a:ext cx="432000" cy="136836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8f8fff"/>
              </a:gs>
              <a:gs pos="100000">
                <a:srgbClr val="333399"/>
              </a:gs>
            </a:gsLst>
            <a:lin ang="8778000"/>
          </a:gradFill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4"/>
          <p:cNvSpPr/>
          <p:nvPr/>
        </p:nvSpPr>
        <p:spPr>
          <a:xfrm rot="1998000">
            <a:off x="5651280" y="3284640"/>
            <a:ext cx="431640" cy="136836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8f8fff"/>
              </a:gs>
              <a:gs pos="100000">
                <a:srgbClr val="333399"/>
              </a:gs>
            </a:gsLst>
            <a:lin ang="19602000"/>
          </a:gradFill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5"/>
          <p:cNvSpPr/>
          <p:nvPr/>
        </p:nvSpPr>
        <p:spPr>
          <a:xfrm rot="19592400">
            <a:off x="5667480" y="1925280"/>
            <a:ext cx="431640" cy="136836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8f8fff"/>
              </a:gs>
              <a:gs pos="100000">
                <a:srgbClr val="333399"/>
              </a:gs>
            </a:gsLst>
            <a:lin ang="2010000"/>
          </a:gradFill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 rot="8848200">
            <a:off x="3116160" y="3276000"/>
            <a:ext cx="432000" cy="136836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8f8fff"/>
              </a:gs>
              <a:gs pos="100000">
                <a:srgbClr val="333399"/>
              </a:gs>
            </a:gsLst>
            <a:lin ang="12750000"/>
          </a:gradFill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6284880" y="3355920"/>
            <a:ext cx="2376360" cy="1773360"/>
          </a:xfrm>
          <a:prstGeom prst="rect">
            <a:avLst/>
          </a:prstGeom>
          <a:gradFill rotWithShape="0">
            <a:gsLst>
              <a:gs pos="0">
                <a:srgbClr val="6161ff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зентация итог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ПН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междунаро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мпозиум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06:56:41Z</dcterms:created>
  <dc:creator>Chernishova</dc:creator>
  <dc:description/>
  <dc:language>en-US</dc:language>
  <cp:lastModifiedBy>Zbarskaya</cp:lastModifiedBy>
  <dcterms:modified xsi:type="dcterms:W3CDTF">2010-07-01T09:21:12Z</dcterms:modified>
  <cp:revision>356</cp:revision>
  <dc:subject/>
  <dc:title>Презентация PowerPoint</dc:title>
</cp:coreProperties>
</file>