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3B0-A967-4690-8129-2B148450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6D7-E77A-42E0-9D74-E5BE1E39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EF4-F9D6-463B-AFF5-3AB0B4B7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05C-8DFD-4830-9B9E-65DBCC46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33D-6D91-44F4-B473-EBBFC748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5B2-8B11-474C-BC0E-03D7AB48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383-4AE9-4C74-AC4F-D4616A6F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636-08EE-4599-A56A-F52EFFDA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832-80DC-44C1-9DDC-F232DED3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BD8-2358-4BD0-8BA4-2AFECCD9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6A5-F320-4280-8CEB-711C6E80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486-7E24-4BEA-81E8-B8916740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3548-5F6C-4A7C-8F13-1A553EA46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нлвый-лого"/>
          <p:cNvPicPr/>
          <p:nvPr/>
        </p:nvPicPr>
        <p:blipFill>
          <a:blip r:embed="rId2"/>
          <a:stretch/>
        </p:blipFill>
        <p:spPr>
          <a:xfrm>
            <a:off x="195120" y="298440"/>
            <a:ext cx="5826240" cy="151452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10"/>
          <p:cNvSpPr/>
          <p:nvPr/>
        </p:nvSpPr>
        <p:spPr>
          <a:xfrm>
            <a:off x="173160" y="2435400"/>
            <a:ext cx="880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Dissemination of Population</a:t>
            </a:r>
            <a:r>
              <a:rPr b="1" lang="ru-RU" sz="44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Census Results and</a:t>
            </a:r>
            <a:r>
              <a:rPr b="1" lang="ru-RU" sz="44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Cooperation with Mass Medi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53960" y="5530680"/>
            <a:ext cx="85568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8447"/>
                </a:solidFill>
                <a:latin typeface="Tahoma"/>
              </a:rPr>
              <a:t>Irina Zbarskaya</a:t>
            </a:r>
            <a:r>
              <a:rPr b="1" i="1" lang="ru-RU" sz="35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8447"/>
                </a:solidFill>
                <a:latin typeface="Tahoma"/>
              </a:rPr>
              <a:t>Federal State Statistics Service,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5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2"/>
          <p:cNvSpPr/>
          <p:nvPr/>
        </p:nvSpPr>
        <p:spPr>
          <a:xfrm>
            <a:off x="1403280" y="360360"/>
            <a:ext cx="6264360" cy="82548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9c2b"/>
                </a:solidFill>
                <a:latin typeface="Tahoma"/>
              </a:rPr>
              <a:t>INFORMATION AND EXPLANATORY WORK FOR POPULATION CENSUS</a:t>
            </a:r>
            <a:r>
              <a:rPr b="0" lang="ru-RU" sz="2400" spc="-1" strike="noStrike">
                <a:solidFill>
                  <a:srgbClr val="e99c2b"/>
                </a:solidFill>
                <a:latin typeface="Tahoma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2330280" y="2224080"/>
            <a:ext cx="4392720" cy="9169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tion and explanatory work  for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reparation and conduct of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pilot Population Census - 2008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4"/>
          <p:cNvSpPr/>
          <p:nvPr/>
        </p:nvSpPr>
        <p:spPr>
          <a:xfrm>
            <a:off x="2166840" y="5022720"/>
            <a:ext cx="4753080" cy="9169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tion and explanatory work  for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reparation and conduct of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All-Russia Population Census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5"/>
          <p:cNvSpPr/>
          <p:nvPr/>
        </p:nvSpPr>
        <p:spPr>
          <a:xfrm>
            <a:off x="2330280" y="3441600"/>
            <a:ext cx="4392720" cy="64260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alysis of information and explanatory work and its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6"/>
          <p:cNvSpPr/>
          <p:nvPr/>
        </p:nvSpPr>
        <p:spPr>
          <a:xfrm rot="5400000">
            <a:off x="4319280" y="712440"/>
            <a:ext cx="431640" cy="20890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7"/>
          <p:cNvSpPr/>
          <p:nvPr/>
        </p:nvSpPr>
        <p:spPr>
          <a:xfrm rot="5400000">
            <a:off x="4320720" y="3628800"/>
            <a:ext cx="457200" cy="20890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114560" y="3200400"/>
            <a:ext cx="7840440" cy="720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matic volumes with final results of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ll-Russia Population Census -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n hard copies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3 years after census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114560" y="4083120"/>
            <a:ext cx="7786440" cy="4302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esults of All-Russia Population Census - 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eb-site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149480" y="5364000"/>
            <a:ext cx="7718400" cy="6969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nline microdata of All-Russia Population Census - 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ccess for the external 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esearches and the general public with confidentiality by the SuperSTAR 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(till the next Population Cens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187280" y="969840"/>
            <a:ext cx="7807320" cy="6192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ublication of All-Russia Population Census - 2010 preliminary resul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n the government newspaper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ussian newspaper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(6 months after cens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187280" y="1612800"/>
            <a:ext cx="7720200" cy="6476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pecial reports with basic results of All-Russia Population Census -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ublishing and electronic iss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187280" y="2184480"/>
            <a:ext cx="7740720" cy="7826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ublication of All-Russia Population Census - 20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inal basic resul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n the government newspaper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ussian newspaper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(1,5 years after cens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29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DISSEMINATION OF ALL-RUSSIA POPULATION CENSUS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 20</a:t>
            </a:r>
            <a:r>
              <a:rPr b="1" lang="en-US" sz="2000" spc="-1" strike="noStrike">
                <a:solidFill>
                  <a:srgbClr val="ff8447"/>
                </a:solidFill>
                <a:latin typeface="Tahoma"/>
              </a:rPr>
              <a:t>10</a:t>
            </a:r>
            <a:r>
              <a:rPr b="1" lang="ru-RU" sz="20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50920" y="1131840"/>
            <a:ext cx="576000" cy="15670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f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9c2b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250920" y="3011400"/>
            <a:ext cx="576000" cy="15670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f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9c2b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851040" y="1133640"/>
            <a:ext cx="431640" cy="156672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851040" y="3011400"/>
            <a:ext cx="431640" cy="15670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47680" y="4867200"/>
            <a:ext cx="576360" cy="15670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f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9c2b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847800" y="4933800"/>
            <a:ext cx="431640" cy="15670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ирр"/>
          <p:cNvPicPr/>
          <p:nvPr/>
        </p:nvPicPr>
        <p:blipFill>
          <a:blip r:embed="rId4"/>
          <a:srcRect l="0" t="0" r="4367" b="7695"/>
          <a:stretch/>
        </p:blipFill>
        <p:spPr>
          <a:xfrm>
            <a:off x="5796000" y="4438800"/>
            <a:ext cx="3348000" cy="2419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6"/>
          <p:cNvSpPr/>
          <p:nvPr/>
        </p:nvSpPr>
        <p:spPr>
          <a:xfrm>
            <a:off x="1476360" y="1268280"/>
            <a:ext cx="1513080" cy="6494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Exhibitions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hoto fairs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165480" y="765000"/>
            <a:ext cx="1798560" cy="6494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s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ours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Round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s-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682560" y="3429000"/>
            <a:ext cx="2089080" cy="7192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reative compet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(«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est comics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est poster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, etc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5076720" y="1125360"/>
            <a:ext cx="1873440" cy="79236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ociolog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interview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23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447"/>
                </a:solidFill>
                <a:latin typeface="Tahoma"/>
              </a:rPr>
              <a:t>POPULARISATION OF ALL-RUSSIA</a:t>
            </a:r>
            <a:r>
              <a:rPr b="1" lang="ru-RU" sz="18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8447"/>
                </a:solidFill>
                <a:latin typeface="Tahoma"/>
              </a:rPr>
              <a:t>POPULATIN CENSUS-2010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830160" y="2347920"/>
            <a:ext cx="1727280" cy="6494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eb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2195640" y="4365720"/>
            <a:ext cx="1873080" cy="8636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ma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ograms and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roadcasting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y radio and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4284720" y="4343400"/>
            <a:ext cx="1871640" cy="838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ouveni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ooklets, calendars,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dges, etc.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5508720" y="2133720"/>
            <a:ext cx="1973160" cy="93492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International 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5"/>
          <p:cNvGrpSpPr/>
          <p:nvPr/>
        </p:nvGrpSpPr>
        <p:grpSpPr>
          <a:xfrm>
            <a:off x="2544840" y="1484280"/>
            <a:ext cx="3043080" cy="2840760"/>
            <a:chOff x="2544840" y="1484280"/>
            <a:chExt cx="3043080" cy="2840760"/>
          </a:xfrm>
        </p:grpSpPr>
        <p:grpSp>
          <p:nvGrpSpPr>
            <p:cNvPr id="82" name="Group 16"/>
            <p:cNvGrpSpPr/>
            <p:nvPr/>
          </p:nvGrpSpPr>
          <p:grpSpPr>
            <a:xfrm>
              <a:off x="3167280" y="3222360"/>
              <a:ext cx="1173600" cy="1102680"/>
              <a:chOff x="3167280" y="3222360"/>
              <a:chExt cx="1173600" cy="1102680"/>
            </a:xfrm>
          </p:grpSpPr>
          <p:sp>
            <p:nvSpPr>
              <p:cNvPr id="83" name="AutoShape 17"/>
              <p:cNvSpPr/>
              <p:nvPr/>
            </p:nvSpPr>
            <p:spPr>
              <a:xfrm rot="6652200">
                <a:off x="3430080" y="358020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 rot="12052200">
                <a:off x="3214080" y="3399120"/>
                <a:ext cx="107928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9"/>
            <p:cNvGrpSpPr/>
            <p:nvPr/>
          </p:nvGrpSpPr>
          <p:grpSpPr>
            <a:xfrm>
              <a:off x="2594160" y="2688120"/>
              <a:ext cx="1186200" cy="1246680"/>
              <a:chOff x="2594160" y="2688120"/>
              <a:chExt cx="1186200" cy="1246680"/>
            </a:xfrm>
          </p:grpSpPr>
          <p:sp>
            <p:nvSpPr>
              <p:cNvPr id="86" name="AutoShape 20"/>
              <p:cNvSpPr/>
              <p:nvPr/>
            </p:nvSpPr>
            <p:spPr>
              <a:xfrm rot="8888400">
                <a:off x="2781720" y="306756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21"/>
              <p:cNvSpPr/>
              <p:nvPr/>
            </p:nvSpPr>
            <p:spPr>
              <a:xfrm rot="14288400">
                <a:off x="2758680" y="3036600"/>
                <a:ext cx="107928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3757680" y="3281760"/>
              <a:ext cx="1165680" cy="1042200"/>
              <a:chOff x="3757680" y="3281760"/>
              <a:chExt cx="1165680" cy="1042200"/>
            </a:xfrm>
          </p:grpSpPr>
          <p:sp>
            <p:nvSpPr>
              <p:cNvPr id="89" name="AutoShape 23"/>
              <p:cNvSpPr/>
              <p:nvPr/>
            </p:nvSpPr>
            <p:spPr>
              <a:xfrm rot="4427400">
                <a:off x="4259520" y="360612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24"/>
              <p:cNvSpPr/>
              <p:nvPr/>
            </p:nvSpPr>
            <p:spPr>
              <a:xfrm rot="9827400">
                <a:off x="3800520" y="3423240"/>
                <a:ext cx="107928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25"/>
            <p:cNvGrpSpPr/>
            <p:nvPr/>
          </p:nvGrpSpPr>
          <p:grpSpPr>
            <a:xfrm>
              <a:off x="4327920" y="2744280"/>
              <a:ext cx="1217520" cy="1236240"/>
              <a:chOff x="4327920" y="2744280"/>
              <a:chExt cx="1217520" cy="1236240"/>
            </a:xfrm>
          </p:grpSpPr>
          <p:sp>
            <p:nvSpPr>
              <p:cNvPr id="92" name="AutoShape 26"/>
              <p:cNvSpPr/>
              <p:nvPr/>
            </p:nvSpPr>
            <p:spPr>
              <a:xfrm rot="2093400">
                <a:off x="4948200" y="3116160"/>
                <a:ext cx="396720" cy="82476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27"/>
              <p:cNvSpPr/>
              <p:nvPr/>
            </p:nvSpPr>
            <p:spPr>
              <a:xfrm rot="7493400">
                <a:off x="4286880" y="3087720"/>
                <a:ext cx="107964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8"/>
            <p:cNvGrpSpPr/>
            <p:nvPr/>
          </p:nvGrpSpPr>
          <p:grpSpPr>
            <a:xfrm>
              <a:off x="4626720" y="2204640"/>
              <a:ext cx="961200" cy="1143000"/>
              <a:chOff x="4626720" y="2204640"/>
              <a:chExt cx="961200" cy="1143000"/>
            </a:xfrm>
          </p:grpSpPr>
          <p:sp>
            <p:nvSpPr>
              <p:cNvPr id="95" name="AutoShape 29"/>
              <p:cNvSpPr/>
              <p:nvPr/>
            </p:nvSpPr>
            <p:spPr>
              <a:xfrm rot="21008400">
                <a:off x="5123520" y="2286720"/>
                <a:ext cx="396720" cy="82476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0"/>
              <p:cNvSpPr/>
              <p:nvPr/>
            </p:nvSpPr>
            <p:spPr>
              <a:xfrm rot="4808400">
                <a:off x="4407480" y="2544120"/>
                <a:ext cx="107964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31"/>
            <p:cNvGrpSpPr/>
            <p:nvPr/>
          </p:nvGrpSpPr>
          <p:grpSpPr>
            <a:xfrm>
              <a:off x="2544840" y="2150280"/>
              <a:ext cx="1006560" cy="1155600"/>
              <a:chOff x="2544840" y="2150280"/>
              <a:chExt cx="1006560" cy="1155600"/>
            </a:xfrm>
          </p:grpSpPr>
          <p:sp>
            <p:nvSpPr>
              <p:cNvPr id="98" name="AutoShape 32"/>
              <p:cNvSpPr/>
              <p:nvPr/>
            </p:nvSpPr>
            <p:spPr>
              <a:xfrm rot="11572800">
                <a:off x="2631600" y="224172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33"/>
              <p:cNvSpPr/>
              <p:nvPr/>
            </p:nvSpPr>
            <p:spPr>
              <a:xfrm rot="16972800">
                <a:off x="2665080" y="2496240"/>
                <a:ext cx="107928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34"/>
            <p:cNvGrpSpPr/>
            <p:nvPr/>
          </p:nvGrpSpPr>
          <p:grpSpPr>
            <a:xfrm>
              <a:off x="2832120" y="1543320"/>
              <a:ext cx="1257480" cy="1211760"/>
              <a:chOff x="2832120" y="1543320"/>
              <a:chExt cx="1257480" cy="1211760"/>
            </a:xfrm>
          </p:grpSpPr>
          <p:sp>
            <p:nvSpPr>
              <p:cNvPr id="101" name="AutoShape 35"/>
              <p:cNvSpPr/>
              <p:nvPr/>
            </p:nvSpPr>
            <p:spPr>
              <a:xfrm rot="14019600">
                <a:off x="3083040" y="153504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36"/>
              <p:cNvSpPr/>
              <p:nvPr/>
            </p:nvSpPr>
            <p:spPr>
              <a:xfrm rot="19419600">
                <a:off x="2977560" y="2016360"/>
                <a:ext cx="107928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37"/>
            <p:cNvGrpSpPr/>
            <p:nvPr/>
          </p:nvGrpSpPr>
          <p:grpSpPr>
            <a:xfrm>
              <a:off x="4093200" y="1554120"/>
              <a:ext cx="1241280" cy="1233000"/>
              <a:chOff x="4093200" y="1554120"/>
              <a:chExt cx="1241280" cy="1233000"/>
            </a:xfrm>
          </p:grpSpPr>
          <p:sp>
            <p:nvSpPr>
              <p:cNvPr id="104" name="AutoShape 38"/>
              <p:cNvSpPr/>
              <p:nvPr/>
            </p:nvSpPr>
            <p:spPr>
              <a:xfrm rot="18481200">
                <a:off x="4689000" y="155196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39"/>
              <p:cNvSpPr/>
              <p:nvPr/>
            </p:nvSpPr>
            <p:spPr>
              <a:xfrm rot="2281200">
                <a:off x="4121640" y="2040120"/>
                <a:ext cx="107892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40"/>
            <p:cNvGrpSpPr/>
            <p:nvPr/>
          </p:nvGrpSpPr>
          <p:grpSpPr>
            <a:xfrm>
              <a:off x="3541320" y="1484280"/>
              <a:ext cx="1079280" cy="812520"/>
              <a:chOff x="3541320" y="1484280"/>
              <a:chExt cx="1079280" cy="812520"/>
            </a:xfrm>
          </p:grpSpPr>
          <p:sp>
            <p:nvSpPr>
              <p:cNvPr id="107" name="AutoShape 41"/>
              <p:cNvSpPr/>
              <p:nvPr/>
            </p:nvSpPr>
            <p:spPr>
              <a:xfrm rot="16200000">
                <a:off x="3871080" y="127044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007a5a"/>
                  </a:gs>
                  <a:gs pos="100000">
                    <a:srgbClr val="33cdbe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42"/>
              <p:cNvSpPr/>
              <p:nvPr/>
            </p:nvSpPr>
            <p:spPr>
              <a:xfrm>
                <a:off x="3541320" y="1832760"/>
                <a:ext cx="107928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Oval 43"/>
            <p:cNvSpPr/>
            <p:nvPr/>
          </p:nvSpPr>
          <p:spPr>
            <a:xfrm>
              <a:off x="2995560" y="1865160"/>
              <a:ext cx="2160000" cy="2016360"/>
            </a:xfrm>
            <a:prstGeom prst="ellipse">
              <a:avLst/>
            </a:prstGeom>
            <a:gradFill rotWithShape="0">
              <a:gsLst>
                <a:gs pos="0">
                  <a:srgbClr val="007a5a"/>
                </a:gs>
                <a:gs pos="100000">
                  <a:srgbClr val="000068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e99c2b"/>
                  </a:solidFill>
                  <a:latin typeface="Tahoma"/>
                </a:rPr>
                <a:t>«</a:t>
              </a:r>
              <a:r>
                <a:rPr b="0" i="1" lang="en-US" sz="1600" spc="-1" strike="noStrike">
                  <a:solidFill>
                    <a:srgbClr val="e99c2b"/>
                  </a:solidFill>
                  <a:latin typeface="Tahoma"/>
                </a:rPr>
                <a:t>GET TO</a:t>
              </a:r>
              <a:br>
                <a:rPr sz="1600"/>
              </a:br>
              <a:r>
                <a:rPr b="0" i="1" lang="en-US" sz="1800" spc="-1" strike="noStrike">
                  <a:solidFill>
                    <a:srgbClr val="e99c2b"/>
                  </a:solidFill>
                  <a:latin typeface="Tahoma"/>
                </a:rPr>
                <a:t>KNOW</a:t>
              </a:r>
              <a:r>
                <a:rPr b="0" i="1" lang="ru-RU" sz="1800" spc="-1" strike="noStrike">
                  <a:solidFill>
                    <a:srgbClr val="e99c2b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e99c2b"/>
                  </a:solidFill>
                  <a:latin typeface="Tahoma"/>
                </a:rPr>
                <a:t>RUSSIA</a:t>
              </a:r>
              <a:r>
                <a:rPr b="0" i="1" lang="ru-RU" sz="1800" spc="-1" strike="noStrike">
                  <a:solidFill>
                    <a:srgbClr val="e99c2b"/>
                  </a:solidFill>
                  <a:latin typeface="Tahoma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44"/>
          <p:cNvSpPr/>
          <p:nvPr/>
        </p:nvSpPr>
        <p:spPr>
          <a:xfrm>
            <a:off x="5435640" y="3357720"/>
            <a:ext cx="1873080" cy="79200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illboards advertising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largest c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 rot="16200000">
            <a:off x="4383000" y="1269360"/>
            <a:ext cx="431640" cy="136872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6560" y="3427560"/>
            <a:ext cx="2449800" cy="126180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ubl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electron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87520" y="1411200"/>
            <a:ext cx="2471760" cy="115272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rochure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oklets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i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441600" y="836640"/>
            <a:ext cx="2219400" cy="86364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matic vol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172200" y="1511280"/>
            <a:ext cx="2376360" cy="129384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las wit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tographica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ensus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3419640" y="4940280"/>
            <a:ext cx="2376360" cy="105588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free acce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-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220920" y="2212920"/>
            <a:ext cx="2765520" cy="2129040"/>
          </a:xfrm>
          <a:prstGeom prst="hexagon">
            <a:avLst>
              <a:gd name="adj" fmla="val 32474"/>
              <a:gd name="vf" fmla="val 115470"/>
            </a:avLst>
          </a:prstGeom>
          <a:gradFill rotWithShape="0">
            <a:gsLst>
              <a:gs pos="0">
                <a:srgbClr val="6161ff"/>
              </a:gs>
              <a:gs pos="100000">
                <a:srgbClr val="00009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39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POPULARISATION </a:t>
            </a:r>
            <a:br>
              <a:rPr sz="1600"/>
            </a:b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OF  ALL-RUSSIA</a:t>
            </a:r>
            <a:r>
              <a:rPr b="1" lang="ru-RU" sz="1600" spc="-1" strike="noStrike">
                <a:solidFill>
                  <a:srgbClr val="ff8447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POPULATION</a:t>
            </a:r>
            <a:br>
              <a:rPr sz="1600"/>
            </a:b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 CEN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8447"/>
                </a:solidFill>
                <a:latin typeface="Tahoma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 rot="5400000">
            <a:off x="4383000" y="3928680"/>
            <a:ext cx="431640" cy="136872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6200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 rot="12822000">
            <a:off x="3135240" y="1915920"/>
            <a:ext cx="43200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8778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 rot="1998000">
            <a:off x="5651280" y="3284640"/>
            <a:ext cx="43164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9602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 rot="19592400">
            <a:off x="5667480" y="1925280"/>
            <a:ext cx="43164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2010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 rot="8848200">
            <a:off x="3116160" y="3276000"/>
            <a:ext cx="43200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8f8fff"/>
              </a:gs>
              <a:gs pos="100000">
                <a:srgbClr val="333399"/>
              </a:gs>
            </a:gsLst>
            <a:lin ang="12750000"/>
          </a:gradFill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6173640" y="3430440"/>
            <a:ext cx="2376720" cy="177336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census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internation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6:56:41Z</dcterms:created>
  <dc:creator>Chernishova</dc:creator>
  <dc:description/>
  <dc:language>en-US</dc:language>
  <cp:lastModifiedBy>Zbarskaya</cp:lastModifiedBy>
  <dcterms:modified xsi:type="dcterms:W3CDTF">2010-07-01T09:22:42Z</dcterms:modified>
  <cp:revision>331</cp:revision>
  <dc:subject/>
  <dc:title>Презентация PowerPoint</dc:title>
</cp:coreProperties>
</file>