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36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4448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03824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flipH="1">
            <a:off x="1739520" y="3619440"/>
            <a:ext cx="74041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Bazar_Tirana_(ca._1900)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Math_lecture_at_TKK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07876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04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INT UNECE-UNFPA TRAINING WORKSHOP ON POPULATION AND HOUSING CENS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VA, 5-6 JULY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OOD PRACTICES  IN DISSEMINA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PULATION CENSUS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AN WH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ffice for National Statistic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ED KINGD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55640" y="4076640"/>
            <a:ext cx="15685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ISSUES IN MEETINGS USERS’ NEE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211040"/>
            <a:ext cx="85788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losur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right 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ing/cost 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s of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ation of printed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semination on computer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ISSUES IN MEETINGS USERS’ NEE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211040"/>
            <a:ext cx="85788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losur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right 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ing/cost 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s of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ation of printed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semination on computer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nline disse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ISSUES IN MEETINGS USERS’ NEE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211040"/>
            <a:ext cx="85788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losur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right 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ing/cost 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s of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ation of printed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semination on computer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disse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ser accep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SUS PRODUCTS AND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SUS PRODUCTS AND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sional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SUS PRODUCTS AND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sional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asic tab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SUS PRODUCTS AND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sional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tab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ommended tab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including meeting UN and EU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S ‘core’ topics: 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ographic characterist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268280"/>
            <a:ext cx="4140360" cy="5040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3200" y="1092240"/>
            <a:ext cx="4367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Loc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million or more inhabi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,000 - 999,999 inhabi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,000 - 499,999 inhabi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0 - 199,999 inhabi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,000 -   99,999 inhabi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,000 -   49,999 inhabi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,000 -   19,999 inhabi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,000 -     9,999 inhabi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000 -     4,999 inhabi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000 -     1,999 inhabi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 -        999 inhabi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 -        499 inhabi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than 200 inhabi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S ‘core’ topics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ographic characterist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A group of women near Korcë. In Albania's patriarchal society, women are generally placed in subordinate roles."/>
          <p:cNvPicPr/>
          <p:nvPr/>
        </p:nvPicPr>
        <p:blipFill>
          <a:blip r:embed="rId2"/>
          <a:stretch/>
        </p:blipFill>
        <p:spPr>
          <a:xfrm>
            <a:off x="4427640" y="1197000"/>
            <a:ext cx="4402080" cy="3744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04840" y="1236600"/>
            <a:ext cx="36464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(date of bir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marital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lus (non-cor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otal number of live-bo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hild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S ‘core’ topics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conomic characterist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Workmen at a metallurgical plant in Elbasan, Albania. Much of the Albanian industrial sector collapsed with the introduction of a free market economy in the early 1990s."/>
          <p:cNvPicPr/>
          <p:nvPr/>
        </p:nvPicPr>
        <p:blipFill>
          <a:blip r:embed="rId2"/>
          <a:stretch/>
        </p:blipFill>
        <p:spPr>
          <a:xfrm>
            <a:off x="5292720" y="1197000"/>
            <a:ext cx="3851280" cy="5267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3120" y="1092240"/>
            <a:ext cx="491652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activity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p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ustry (Goods, services produc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ployment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lus (non-cor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ype of se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ype of place of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Hours work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Main source of income/livelih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ocio-economic groups (deriv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SEMINATING THE RESULTS OF THE POPULATION CENS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4662360" cy="3168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8840" y="4508640"/>
            <a:ext cx="856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census is not complete until the information collected is made available to potential users in a form suitable to their needs. The information may be included in published tables and reports for general distribution, produced as tables in unpublished form for limited distribution, stored in a database and supplied on request, or disseminated on-line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 Principles and Recommendations for Population and Housing Censuses, Revision 2,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paragraph 1.3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S ‘core’ topics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ucational characterist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7640" y="1341360"/>
            <a:ext cx="5256360" cy="3949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52280" y="1341360"/>
            <a:ext cx="3627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al attai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Plus (non-cor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School atten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S ‘core’ topics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ational and internal mig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Photo"/>
          <p:cNvPicPr/>
          <p:nvPr/>
        </p:nvPicPr>
        <p:blipFill>
          <a:blip r:embed="rId2"/>
          <a:stretch/>
        </p:blipFill>
        <p:spPr>
          <a:xfrm>
            <a:off x="5148360" y="1197000"/>
            <a:ext cx="3671640" cy="2125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148360" y="3500280"/>
            <a:ext cx="3744720" cy="2811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20840" y="1236600"/>
            <a:ext cx="465588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ry/place of bi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ry of Citizen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 resided abroad and year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ri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ce of usual residence 1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 cens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lus (non-cor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ntry of previous usual  resi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Reason for mig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hno-cultural characteristics </a:t>
            </a:r>
            <a:br>
              <a:rPr sz="3200"/>
            </a:b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(non-cor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Agricultural workers travel between Tirana and Kavajë. While Albania has a large rural population, most families in the countryside can barely raise enough crops to feed themselves."/>
          <p:cNvPicPr/>
          <p:nvPr/>
        </p:nvPicPr>
        <p:blipFill>
          <a:blip r:embed="rId2"/>
          <a:stretch/>
        </p:blipFill>
        <p:spPr>
          <a:xfrm>
            <a:off x="4284720" y="1197000"/>
            <a:ext cx="4614840" cy="2724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284720" y="4005360"/>
            <a:ext cx="2539800" cy="2592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877080" y="4005360"/>
            <a:ext cx="2063880" cy="2557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840" y="1165320"/>
            <a:ext cx="407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Ethnicity (including mix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Faith/reli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Mother tong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ther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ability </a:t>
            </a:r>
            <a:br>
              <a:rPr sz="3200"/>
            </a:b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(non-cor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889440" cy="3111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7920" y="1308240"/>
            <a:ext cx="436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Disability stat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S ‘core’ topics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usehold and family characterist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3672000" cy="2765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003640" y="4076640"/>
            <a:ext cx="3672000" cy="2754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9200" y="1165320"/>
            <a:ext cx="4367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racteristics derived from other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usehold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 of house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ze of house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 of family nucl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ze of family nucl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nure status of house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lus (non-cor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Number of cars available for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riculture </a:t>
            </a:r>
            <a:br>
              <a:rPr sz="3200"/>
            </a:b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(non-cor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3887640" cy="2592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77920" y="1380960"/>
            <a:ext cx="436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wn account agricul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SUS PRODUCTS AND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sional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tab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ed tab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issioned tab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 micro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 small area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 original and destination flow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migration and journey to wor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SUS PRODUCTS AND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l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al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 tab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ed tab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ed tab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matic report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 Children and you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 Elder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 Disab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  Ethno-cultural characteris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 Mig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 Edu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 Hou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 Workplace popu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 Daytime popu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SUS PRODUCTS AND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sional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tab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ed tab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issioned tab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atic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a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 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 Quality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SUS PRODUCTS AND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sional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tab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ed tab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issioned tab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atic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cedural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General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Evaluation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ISSUES IN MEETINGS USERS’ NEE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211040"/>
            <a:ext cx="85788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UTILIZ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00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teractive digital out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UTILIZ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active digital out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Geographic information systems (G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UTILIZ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active digital out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graphic information systems (G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ocial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UTILIZ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active digital out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graphic information systems (G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00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9600" y="1211040"/>
            <a:ext cx="41832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question"/>
          <p:cNvPicPr/>
          <p:nvPr/>
        </p:nvPicPr>
        <p:blipFill>
          <a:blip r:embed="rId2"/>
          <a:stretch/>
        </p:blipFill>
        <p:spPr>
          <a:xfrm>
            <a:off x="5435640" y="1628640"/>
            <a:ext cx="3384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ISSUES IN MEETINGS USERS’ NEE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211040"/>
            <a:ext cx="85788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ISSUES IN MEETINGS USERS’ NEE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211040"/>
            <a:ext cx="85788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closur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ISSUES IN MEETINGS USERS’ NEE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211040"/>
            <a:ext cx="85788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losur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pyright 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ISSUES IN MEETINGS USERS’ NEE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211040"/>
            <a:ext cx="85788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losur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right 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arging/cost 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ISSUES IN MEETINGS USERS’ NEE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211040"/>
            <a:ext cx="85788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losur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right 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ing/cost 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ans of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ISSUES IN MEETINGS USERS’ NEE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211040"/>
            <a:ext cx="85788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losur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right 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ing/cost 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s of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ublication of printed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11:33Z</dcterms:created>
  <dc:creator>Massingham</dc:creator>
  <dc:description/>
  <dc:language>en-US</dc:language>
  <cp:lastModifiedBy>white</cp:lastModifiedBy>
  <cp:lastPrinted>2004-11-17T14:19:20Z</cp:lastPrinted>
  <dcterms:modified xsi:type="dcterms:W3CDTF">2010-07-01T10:08:24Z</dcterms:modified>
  <cp:revision>346</cp:revision>
  <dc:subject/>
  <dc:title>No Slide Title</dc:title>
</cp:coreProperties>
</file>