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6E23-69FE-4D51-BA7B-98C152CBF925}" type="datetime">
              <a:rPr b="1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90920" y="6324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- UNECE Statistica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22E39C9-BEBA-4176-AE6D-7D302EEFB103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1.unece.org/stat/platform/display/msis/Home+Page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нение общей модели статистических бизнес-процессов к переписи населения</a:t>
            </a:r>
            <a:br>
              <a:rPr sz="3600"/>
            </a:br>
            <a:br>
              <a:rPr sz="36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ивен Вейл, Марлен Жигитеков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тистический отдел ЕЭК ООН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 Женева, 5-6 июля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. Распространение данных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289548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цепция многомерных кубов лежит в основе большинства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ы: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C-Axis, OECD.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ЭК ООН использует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C-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219320" y="1523880"/>
            <a:ext cx="3047760" cy="784440"/>
            <a:chOff x="1219320" y="1523880"/>
            <a:chExt cx="3047760" cy="78444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2819520" y="1600200"/>
              <a:ext cx="14475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1219320" y="1523880"/>
              <a:ext cx="1143000" cy="7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286000" y="1828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25E55-E349-49C7-B493-C21DB40C09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PC-Axi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й проект, первоначально предназначенный для переписи населения в Шв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– разработка системы распространения статистических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 управляется консорциум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E3024-A2AE-4F6C-BDF6-C1302BAD99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нсорциум </a:t>
            </a: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PC-Ax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ъединяет 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национальных статистических агентств и организац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уководящий орган – Бюро статистики Шве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системы распространения статистических д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усилий и устранение дублирования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75493-B806-4081-9436-EEACE670E4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вод данны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цирование кубов в табличный в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 сопутствующих мета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ложные вы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A45DA-8B8C-4A21-ABB4-95CC51BAE4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ецирование кубов в табличный ви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7924680" cy="42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5849B-A2B9-4569-A4EC-82F82059E3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зуализация данных: графи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6705720" cy="494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9EC51-B511-4B6B-9A00-8F29320C3E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зуализация данных: карты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066680" y="1073160"/>
            <a:ext cx="5257800" cy="48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C2D77-8244-4912-8F13-6AD4537B8B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C-Axi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о сравнению с другими инструмента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251460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бы готовы к просмотру, а зна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кость в поним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ая скорость показа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путствующие метад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иентированность на широкую публ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F22F6-2D87-4C50-A4C8-FC3F42092F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апы распространения данны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1 Обновление системы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2 Производство статистических проду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3 Управление выпуском проду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4 Маркетинг и продвижение проду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5 Управление запросами потреб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54151-18CF-443F-8A4A-7105CE897E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овые и квартальные отчеты на основе веб-статистики и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Google Analy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овые опросы пользов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провождение запросов пользов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вижение новых проду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рейтинга веб-сайта у ведущих поисковиков публикациями, статьями, отчетами и 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96049-2D83-4665-88DF-D7ACCE1CEC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 человеческими ресурсами информационных технолог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трудничество с другими статистическими организациями, создание региональных групп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аксимальное вовлечение статистиков в процесс разработки статистических продуктов и минимизация использования ИТ ресурс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Фермеры и мельники, а где же инженеры?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прерывное повышение производительности труд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пользование открытого программного обеспеч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блюдение баланса между персоналом ИТ и аутсорсинго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08FE1-2579-43DC-B694-95270B98AA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лияние продвижения продуктов на популярность веб-сайта у пользователе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30556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3EFE9-BD3D-4888-8646-661B301652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графия пользователей в </a:t>
            </a: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Google Analy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7010280" cy="385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3B94B-9B91-4530-B501-9D0D95ABDD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SDM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SDMX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ндарт обмена данными и метаданны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нсоры – международные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ые вызовы – гармонизация мета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79C42-AE55-44D7-B0A4-14B60AB543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ЭК ООН готова оказать техническую помощь, в том числе и на русском языке, во внедрении 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PC-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Steven.Vale@unec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Marlen.Jigitekov@unec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1AAE7-9FD8-490F-B018-6FF9AC1C2A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ая модель статистических бизнес-процесс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1308240"/>
            <a:ext cx="6858000" cy="481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2AAF1-B3C9-4EA2-BAF0-5DE1AA4C37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т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исания проце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рмонизация проце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ционализация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открытого ПО и совместно используемых компон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MX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 компонен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ближение бизнес-архитек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2286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30481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02080" y="42670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51814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14479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6CF227-01C3-41E0-8370-D2E189F9E8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ект </a:t>
            </a: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M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MSIS–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ление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темам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тистической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формации (УССИ)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ль – продвижение совместной разработки статистического ПО между национальными и международными статистическими организация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ляет Реестр статистического ПО, используемого в различных статистических организация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соединяйтесь к проект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дрес проек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1.unece.org/stat/platform/display/msis/Home+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93C7C-01A1-4564-AC9F-7CB5B75C9E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ногомерные кубы – стандарт распространения данных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8080" y="1447920"/>
            <a:ext cx="5715000" cy="4486320"/>
            <a:chOff x="838080" y="1447920"/>
            <a:chExt cx="5715000" cy="448632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1066680" y="1447920"/>
              <a:ext cx="5486400" cy="44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838080" y="1905120"/>
              <a:ext cx="1219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озрас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3200" y="5486400"/>
              <a:ext cx="1219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о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71000" y="3352680"/>
              <a:ext cx="454680" cy="12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тран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C3C5E-25DA-4032-A630-4C5D28AD1F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3160" y="205704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зможны кубы с большим количеством измерени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днако их непросто изобрази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AA093-0479-40B3-B535-146F3180BD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а полного цикла обработки данных, основанная на куба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990720" cy="801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981080" y="4343400"/>
            <a:ext cx="1143000" cy="784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352680" y="16765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суперку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30481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Заливка» исходных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43434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чет данных и их провер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4864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PC-Axi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у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057400" y="3048120"/>
            <a:ext cx="838080" cy="660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09480" y="3429000"/>
            <a:ext cx="1108080" cy="512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75248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609480" y="2895480"/>
            <a:ext cx="1108080" cy="51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524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09480" y="5410080"/>
            <a:ext cx="2667240" cy="784440"/>
            <a:chOff x="609480" y="5410080"/>
            <a:chExt cx="2667240" cy="784440"/>
          </a:xfrm>
        </p:grpSpPr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>
              <a:off x="1828800" y="5486400"/>
              <a:ext cx="144792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7"/>
            <a:stretch/>
          </p:blipFill>
          <p:spPr>
            <a:xfrm>
              <a:off x="609480" y="5410080"/>
              <a:ext cx="1143000" cy="7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600200" y="5715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32C47-0C58-40DB-8847-B13F299857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0920" y="685440"/>
            <a:ext cx="4876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троль результа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роверки данных используется язык программирования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TSS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разрабатываемый в ЕЭК О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 коэффициент фертильности не должен превышать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ой пример: население в выбранной возрастной группе должно быть в пределах  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[0% ..100%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1143000" cy="78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C3E57-FC39-4FC9-91A4-C8324F4821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09:52:23Z</dcterms:created>
  <dc:creator>vale</dc:creator>
  <dc:description/>
  <dc:language>en-US</dc:language>
  <cp:lastModifiedBy>Jigitekov</cp:lastModifiedBy>
  <dcterms:modified xsi:type="dcterms:W3CDTF">2010-06-30T07:19:11Z</dcterms:modified>
  <cp:revision>641</cp:revision>
  <dc:subject/>
  <dc:title>Quality Framework</dc:title>
</cp:coreProperties>
</file>