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FCF2-7717-4C2C-BF5B-399B2BD6E1EE}" type="datetime">
              <a:rPr b="1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90920" y="63244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- UNECE Statistica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6384EF6-5D62-4E9A-BA83-31A4F468C264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1.unece.org/stat/platform/display/msis/Home+Page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plying generic view of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istical process to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pulation census</a:t>
            </a:r>
            <a:br>
              <a:rPr sz="3600"/>
            </a:b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ven Vale, Marlen Jigitekov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stical Division, UNEC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va, 5-6 July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. Data dissemin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2895480"/>
            <a:ext cx="79246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 applications are based on multidimensional cubes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: PC-Axis, OECD.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CE uses PC-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219320" y="1523880"/>
            <a:ext cx="3047760" cy="784440"/>
            <a:chOff x="1219320" y="1523880"/>
            <a:chExt cx="3047760" cy="78444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2819520" y="1600200"/>
              <a:ext cx="14475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1219320" y="1523880"/>
              <a:ext cx="1143000" cy="7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2286000" y="1828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64992E-4090-4875-9EAC-C9EE395FA3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PC-Axi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project, originally designed for population census in Sw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is to develop statistical data dissemin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is managed by consort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9D1C8E-D8EE-4BA9-BE41-6BDEA76146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PC-Axis Consortiu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ites 39 national statistical agencies and organiz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verning body is Statistical Bureau of Swe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statistical data dissemin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perate to avoid work du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551AED-8482-42A1-AB70-0D5413AFA1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Data outp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ing cubes to tabular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of meta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calc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BBDCD7-091B-49D1-B152-9866CC8295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ing cubes to tabular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5638680" cy="459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22B53B-0C30-47BA-8FDC-ACA97EB1B0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ta visualization, graph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6178680" cy="448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ECF8AC-8983-4E59-B396-ADBD2BDE9B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visualization, map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066680" y="1073160"/>
            <a:ext cx="5257800" cy="48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35060A-B97A-4F3C-ACE0-A15C94A2B3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PC-Axis compared to other to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160" y="251460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bes are ready for browsing, this m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under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in data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ed by 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ented towards 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2992BE-E7E3-40D4-93FC-CFE15E56C2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ta dissemination stag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1 Update output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2 Produce dissemination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3 Manage release of dissemination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4 Promote dissemination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5 Manage user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7955AD-10FA-419D-917D-BE426A8E4C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al and quarterly reports based on web statistics and Google Analy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al user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-up of user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ing new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web site rating at leading search engines by publications, articles, reprot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75E72A-F716-4C99-905B-0338F2B1C1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ing Human Resources in Information Technolog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operating with other statistical organizations, creating of regional grou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ximizing involvement of statisticians to development of statistical products and minimizing involvement of software resour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armers and millers, but where are engineers?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mproving constantly work efficienc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ing open source softw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eeping balance between own IT staff and outsourc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B7D9A9-5422-42DF-9CC7-ECBA1E22C8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luence of products promotion on popularity of web-site among us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30556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6880AC-A93D-488C-9AF4-02564D3313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ography of users in Google Analyt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7010280" cy="385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BC5A0-393E-4809-B304-D4121B9942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SDMX Standar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MX – standard of data and metadata exchan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nsors  are international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challenge is metadata harm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FD320-4BAB-443D-B681-ED4E855321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ECE is ready to provide the technical aid, both in English and Russian, in implementing PC-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ven.Vale@unece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len.Jigitekov@unece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CBE15-0874-4257-BFDC-8157120E24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ic Statistical Busines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3520" y="1434960"/>
            <a:ext cx="7467480" cy="4546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124BE-BC35-4115-9654-C153593B3B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280" y="457200"/>
            <a:ext cx="8642520" cy="56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zed process descri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monised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ization of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open source and shared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MX betwee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business archite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190512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81952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19720" y="373392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472428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19720" y="99072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25861E-6AB0-4EE7-80E2-0844CC7FB7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MSIS Proje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IS – Management of Statistical Informa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is to promote joint statistical software development among national and international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presents Register of Statistical Software used in various statistical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 the projec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link to the projec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www1.unece.org/stat/platform/display/msis/Home+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4447E1-41AF-4C0F-92EB-C07F68D0BF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dimensional cubes is a standard for data dissemination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38080" y="1447920"/>
            <a:ext cx="5715000" cy="4486320"/>
            <a:chOff x="838080" y="1447920"/>
            <a:chExt cx="5715000" cy="448632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1066680" y="1447920"/>
              <a:ext cx="5486400" cy="448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838080" y="1905120"/>
              <a:ext cx="1219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000000"/>
                  </a:solidFill>
                  <a:latin typeface="Arial"/>
                </a:rPr>
                <a:t>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43200" y="5486400"/>
              <a:ext cx="1219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71000" y="3352680"/>
              <a:ext cx="454680" cy="12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000000"/>
                  </a:solidFill>
                  <a:latin typeface="Arial"/>
                </a:rPr>
                <a:t>Coun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C46357-FA76-4314-BF05-81BC953BF8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3160" y="205704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bes with mo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mensions can ex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t difficult to draw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11549-7B52-4B5C-9167-79E7968B3A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086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-to-end data processing system based on the concept of multidimensional cub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990720" cy="801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981080" y="4343400"/>
            <a:ext cx="1143000" cy="784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352680" y="16765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Create super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30481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Fill in sourc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52680" y="43434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Calculate and verif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4864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Create PC-Axis 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057400" y="3048120"/>
            <a:ext cx="838080" cy="6602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609480" y="3429000"/>
            <a:ext cx="1108080" cy="512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75248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609480" y="2895480"/>
            <a:ext cx="1108080" cy="513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75248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09480" y="5410080"/>
            <a:ext cx="2667240" cy="784440"/>
            <a:chOff x="609480" y="5410080"/>
            <a:chExt cx="2667240" cy="784440"/>
          </a:xfrm>
        </p:grpSpPr>
        <p:pic>
          <p:nvPicPr>
            <p:cNvPr id="127" name="" descr=""/>
            <p:cNvPicPr/>
            <p:nvPr/>
          </p:nvPicPr>
          <p:blipFill>
            <a:blip r:embed="rId6"/>
            <a:stretch/>
          </p:blipFill>
          <p:spPr>
            <a:xfrm>
              <a:off x="1828800" y="5486400"/>
              <a:ext cx="144792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7"/>
            <a:stretch/>
          </p:blipFill>
          <p:spPr>
            <a:xfrm>
              <a:off x="609480" y="5410080"/>
              <a:ext cx="1143000" cy="7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600200" y="5715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503517-E985-4523-BFAB-AFB570E8DF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0920" y="685440"/>
            <a:ext cx="4876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idate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SSL programming language is developed in UNECE to validat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value for coefficient of fertility should not exceed 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example: population percentages in the given age group should be within [0% ..100%]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1143000" cy="78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BD9B05-B658-47AE-99DB-D419DD8721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09:52:23Z</dcterms:created>
  <dc:creator>vale</dc:creator>
  <dc:description/>
  <dc:language>en-US</dc:language>
  <cp:lastModifiedBy>Jigitekov</cp:lastModifiedBy>
  <dcterms:modified xsi:type="dcterms:W3CDTF">2010-07-02T06:44:06Z</dcterms:modified>
  <cp:revision>680</cp:revision>
  <dc:subject/>
  <dc:title>Quality Framework</dc:title>
</cp:coreProperties>
</file>