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EA6-84A2-479A-AAC2-425FD4BA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BD76-1E9D-4FAC-9E1F-2846E396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BF5-A414-43A0-B8D2-20E9A573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B64-36BC-4505-9331-41B5CC3E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511F-596B-4C30-B9C7-6747F79C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B257-EFC0-41DC-89E1-93051317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0950-A2C6-426B-829C-7F0E4672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9185-0C53-4F46-9789-28A7F88E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4FCF-46C0-4126-9BDE-13E57E86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244440"/>
            <a:ext cx="8386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9F47-F332-4AC1-872B-2689723E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6076-3485-48FB-826D-2CF1CD94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195-1678-47D1-B162-1A36A9DD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8339-73E7-496B-877F-056F9AC8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D728-7BBA-41E9-BE63-C2F2F0EE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D2B4-E9EB-41EB-A24F-1126CFDA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E9DF-5277-45F9-A10A-B5D96BEA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2D0A-2109-4EB4-A563-A7D84C34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407F-F4F2-45A2-9164-48ADA09C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4A81F-36DC-42D3-9F96-0655D992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5FF7-2EC4-4A98-B2E6-E2324FDD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21BA1-80E1-4488-8888-60FE0296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9FD1D-C9E6-4630-BCE1-05B1F5B4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5FB-015F-41F6-8E83-F7B33460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6840" y="244440"/>
            <a:ext cx="8386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A9D86-8C2A-4273-863F-BF526C04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51E69-74AB-4DAF-B05E-5546926F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BCBBD-80DD-4E76-ACE4-D25B060B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59312-36E2-4C3C-A090-789CD713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8AE95-DFA0-4274-9641-46418973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D7965-D7A3-4587-8E05-7C16509C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E0009-97F1-437B-A22D-B7158EDF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274-F225-437F-988F-A1E740FD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89F-B475-45DA-8AD7-95600689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44440"/>
            <a:ext cx="8386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BCA-30A5-470E-AD7A-A6A609EF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375-94ED-4855-A8FB-9EC26717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936-AD9B-4676-A25E-62B23FC9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ECF-2BF1-4AA0-8094-4D199DDB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d5ffd5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8080" y="6244920"/>
            <a:ext cx="1903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9000" y="6244920"/>
            <a:ext cx="1900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1324-27AE-467F-BCD4-BA5023FF0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93A5-63F9-4385-BD9F-C486AE9BC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d5ffd5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33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9000" y="6244920"/>
            <a:ext cx="1900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4873-FB72-425C-8184-B3C9DA2B41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d5ffd5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939000" y="6245280"/>
            <a:ext cx="1900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E92B-C4D3-4E95-9E3E-BC4A96A9FC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189000"/>
            <a:ext cx="91440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НТЕГРИРОВАНИЕ ПЕРЕПИСИ НАСЕЛЕНИЯ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ЖИЛИЩНОГО ФОНДА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СПУБЛИКЕ ТАДЖИКИСТ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logo"/>
          <p:cNvPicPr/>
          <p:nvPr/>
        </p:nvPicPr>
        <p:blipFill>
          <a:blip r:embed="rId1"/>
          <a:srcRect l="4050" t="2360" r="4050" b="2302"/>
          <a:stretch/>
        </p:blipFill>
        <p:spPr>
          <a:xfrm>
            <a:off x="2843280" y="1773360"/>
            <a:ext cx="3241440" cy="2950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0" y="5013360"/>
            <a:ext cx="914400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ректор Агентства по статистике при Президен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спублики Таджикистан 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ухаммадиева Б.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-6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юля 2010 года, г. Жен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d5ffd5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939000" y="6245280"/>
            <a:ext cx="1900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E773-82D1-40A4-B746-1E0FDEB5F52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632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Tahoma"/>
              </a:rPr>
              <a:t>ЗАКОНОДАТЕЛЬНАЯ БАЗА ПЕРЕПИСИ НАСЕЛЕНИЯ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000" y="909360"/>
            <a:ext cx="8135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 Республики Таджикистан «О переписи населения», принятый 19 мая 2009 г. №52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ление Правительства Республики Таджикиста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 подготовке и проведении переписи населения в Республике Таджикистан в 2010 году» от 1 августа 2005 года №282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ление Правительства Республики Таджикиста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 дополнительных мерах по проведению  переписи населения Республики Таджикистан в 2010 году» от 4 июля 2006 года  №31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ление Правительства Республики Таджикиста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 внесении изменений в некоторые постановления Правительства Республики Таджикистан» от 30 июня 2007 года №374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ление Правительства Республики Таджикиста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 внесении изменений в постановление  Правительства республики Таджикистан от 1 августа 2005 года  №282»  от 5 марта 2008 года №12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ление Правительства Республики Таджикиста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 внесении изменений в Постановление Правительства Республики Таджикистан от 4 июля 2006 года  №312» от 5 марта 2008 года №12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каз Президента Республики Таджикистан от 29 августа 2009 года №685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d5ffd5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6939000" y="6245280"/>
            <a:ext cx="1900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83C4-51B8-4807-8013-48034E5A98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338040" y="604800"/>
            <a:ext cx="647640" cy="934920"/>
          </a:xfrm>
          <a:custGeom>
            <a:avLst/>
            <a:gdLst>
              <a:gd name="textAreaLeft" fmla="*/ 101160 w 647640"/>
              <a:gd name="textAreaRight" fmla="*/ 303840 w 647640"/>
              <a:gd name="textAreaTop" fmla="*/ 97920 h 934920"/>
              <a:gd name="textAreaBottom" fmla="*/ 837000 h 934920"/>
            </a:gdLst>
            <a:ahLst/>
            <a:rect l="textAreaLeft" t="textAreaTop" r="textAreaRight" b="textAreaBottom"/>
            <a:pathLst>
              <a:path w="21600" h="21600">
                <a:moveTo>
                  <a:pt x="7094" y="0"/>
                </a:moveTo>
                <a:lnTo>
                  <a:pt x="7094" y="2263"/>
                </a:lnTo>
                <a:lnTo>
                  <a:pt x="3375" y="2263"/>
                </a:lnTo>
                <a:lnTo>
                  <a:pt x="3375" y="19337"/>
                </a:lnTo>
                <a:lnTo>
                  <a:pt x="7094" y="19337"/>
                </a:lnTo>
                <a:lnTo>
                  <a:pt x="7094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2263"/>
                </a:moveTo>
                <a:lnTo>
                  <a:pt x="1350" y="19337"/>
                </a:lnTo>
                <a:lnTo>
                  <a:pt x="2700" y="19337"/>
                </a:lnTo>
                <a:lnTo>
                  <a:pt x="2700" y="2263"/>
                </a:lnTo>
                <a:close/>
              </a:path>
              <a:path w="21600" h="21600">
                <a:moveTo>
                  <a:pt x="0" y="2263"/>
                </a:moveTo>
                <a:lnTo>
                  <a:pt x="0" y="19337"/>
                </a:lnTo>
                <a:lnTo>
                  <a:pt x="675" y="19337"/>
                </a:lnTo>
                <a:lnTo>
                  <a:pt x="675" y="2263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1052640" y="739800"/>
            <a:ext cx="72644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РОК ПРОВЕДЕИЯ ПЕРЕПИСИ НАСЕЛЕНИЯ И ЖИЛИЩНОГО ФОНДА РТ 2010 ГОДА –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 21 ПО 30 СЕНТЯБР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1042920" y="1684440"/>
            <a:ext cx="810108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АТА НАЧАЛА ПЕРЕПИСИ НАСЕЛЕНИЯ И ЖИЛИЩНОГО ФОНДА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1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СЕНТЯБР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СЧЕТ НАСЕЛЕНИЯ ПРОИЗВОДИТСЯ НА 12 ЧАСОВ НОЧИ С 20 НА 21 СЕНТЯБР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26"/>
          <p:cNvSpPr/>
          <p:nvPr/>
        </p:nvSpPr>
        <p:spPr>
          <a:xfrm>
            <a:off x="324000" y="1685880"/>
            <a:ext cx="647640" cy="934920"/>
          </a:xfrm>
          <a:custGeom>
            <a:avLst/>
            <a:gdLst>
              <a:gd name="textAreaLeft" fmla="*/ 101160 w 647640"/>
              <a:gd name="textAreaRight" fmla="*/ 303840 w 647640"/>
              <a:gd name="textAreaTop" fmla="*/ 97920 h 934920"/>
              <a:gd name="textAreaBottom" fmla="*/ 837000 h 934920"/>
            </a:gdLst>
            <a:ahLst/>
            <a:rect l="textAreaLeft" t="textAreaTop" r="textAreaRight" b="textAreaBottom"/>
            <a:pathLst>
              <a:path w="21600" h="21600">
                <a:moveTo>
                  <a:pt x="7094" y="0"/>
                </a:moveTo>
                <a:lnTo>
                  <a:pt x="7094" y="2263"/>
                </a:lnTo>
                <a:lnTo>
                  <a:pt x="3375" y="2263"/>
                </a:lnTo>
                <a:lnTo>
                  <a:pt x="3375" y="19337"/>
                </a:lnTo>
                <a:lnTo>
                  <a:pt x="7094" y="19337"/>
                </a:lnTo>
                <a:lnTo>
                  <a:pt x="7094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2263"/>
                </a:moveTo>
                <a:lnTo>
                  <a:pt x="1350" y="19337"/>
                </a:lnTo>
                <a:lnTo>
                  <a:pt x="2700" y="19337"/>
                </a:lnTo>
                <a:lnTo>
                  <a:pt x="2700" y="2263"/>
                </a:lnTo>
                <a:close/>
              </a:path>
              <a:path w="21600" h="21600">
                <a:moveTo>
                  <a:pt x="0" y="2263"/>
                </a:moveTo>
                <a:lnTo>
                  <a:pt x="0" y="19337"/>
                </a:lnTo>
                <a:lnTo>
                  <a:pt x="675" y="19337"/>
                </a:lnTo>
                <a:lnTo>
                  <a:pt x="675" y="2263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26"/>
          <p:cNvSpPr/>
          <p:nvPr/>
        </p:nvSpPr>
        <p:spPr>
          <a:xfrm>
            <a:off x="299880" y="2786040"/>
            <a:ext cx="648000" cy="934920"/>
          </a:xfrm>
          <a:custGeom>
            <a:avLst/>
            <a:gdLst>
              <a:gd name="textAreaLeft" fmla="*/ 101160 w 648000"/>
              <a:gd name="textAreaRight" fmla="*/ 303840 w 648000"/>
              <a:gd name="textAreaTop" fmla="*/ 97920 h 934920"/>
              <a:gd name="textAreaBottom" fmla="*/ 837000 h 934920"/>
            </a:gdLst>
            <a:ahLst/>
            <a:rect l="textAreaLeft" t="textAreaTop" r="textAreaRight" b="textAreaBottom"/>
            <a:pathLst>
              <a:path w="21600" h="21600">
                <a:moveTo>
                  <a:pt x="7094" y="0"/>
                </a:moveTo>
                <a:lnTo>
                  <a:pt x="7094" y="2263"/>
                </a:lnTo>
                <a:lnTo>
                  <a:pt x="3375" y="2263"/>
                </a:lnTo>
                <a:lnTo>
                  <a:pt x="3375" y="19337"/>
                </a:lnTo>
                <a:lnTo>
                  <a:pt x="7094" y="19337"/>
                </a:lnTo>
                <a:lnTo>
                  <a:pt x="7094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2263"/>
                </a:moveTo>
                <a:lnTo>
                  <a:pt x="1350" y="19337"/>
                </a:lnTo>
                <a:lnTo>
                  <a:pt x="2700" y="19337"/>
                </a:lnTo>
                <a:lnTo>
                  <a:pt x="2700" y="2263"/>
                </a:lnTo>
                <a:close/>
              </a:path>
              <a:path w="21600" h="21600">
                <a:moveTo>
                  <a:pt x="0" y="2263"/>
                </a:moveTo>
                <a:lnTo>
                  <a:pt x="0" y="19337"/>
                </a:lnTo>
                <a:lnTo>
                  <a:pt x="675" y="19337"/>
                </a:lnTo>
                <a:lnTo>
                  <a:pt x="675" y="2263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264960" y="4869000"/>
            <a:ext cx="648000" cy="934920"/>
          </a:xfrm>
          <a:custGeom>
            <a:avLst/>
            <a:gdLst>
              <a:gd name="textAreaLeft" fmla="*/ 101160 w 648000"/>
              <a:gd name="textAreaRight" fmla="*/ 303840 w 648000"/>
              <a:gd name="textAreaTop" fmla="*/ 97920 h 934920"/>
              <a:gd name="textAreaBottom" fmla="*/ 837000 h 934920"/>
            </a:gdLst>
            <a:ahLst/>
            <a:rect l="textAreaLeft" t="textAreaTop" r="textAreaRight" b="textAreaBottom"/>
            <a:pathLst>
              <a:path w="21600" h="21600">
                <a:moveTo>
                  <a:pt x="7094" y="0"/>
                </a:moveTo>
                <a:lnTo>
                  <a:pt x="7094" y="2263"/>
                </a:lnTo>
                <a:lnTo>
                  <a:pt x="3375" y="2263"/>
                </a:lnTo>
                <a:lnTo>
                  <a:pt x="3375" y="19337"/>
                </a:lnTo>
                <a:lnTo>
                  <a:pt x="7094" y="19337"/>
                </a:lnTo>
                <a:lnTo>
                  <a:pt x="7094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2263"/>
                </a:moveTo>
                <a:lnTo>
                  <a:pt x="1350" y="19337"/>
                </a:lnTo>
                <a:lnTo>
                  <a:pt x="2700" y="19337"/>
                </a:lnTo>
                <a:lnTo>
                  <a:pt x="2700" y="2263"/>
                </a:lnTo>
                <a:close/>
              </a:path>
              <a:path w="21600" h="21600">
                <a:moveTo>
                  <a:pt x="0" y="2263"/>
                </a:moveTo>
                <a:lnTo>
                  <a:pt x="0" y="19337"/>
                </a:lnTo>
                <a:lnTo>
                  <a:pt x="675" y="19337"/>
                </a:lnTo>
                <a:lnTo>
                  <a:pt x="675" y="2263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6"/>
          <p:cNvSpPr/>
          <p:nvPr/>
        </p:nvSpPr>
        <p:spPr>
          <a:xfrm>
            <a:off x="284040" y="3862440"/>
            <a:ext cx="648000" cy="934920"/>
          </a:xfrm>
          <a:custGeom>
            <a:avLst/>
            <a:gdLst>
              <a:gd name="textAreaLeft" fmla="*/ 101160 w 648000"/>
              <a:gd name="textAreaRight" fmla="*/ 303840 w 648000"/>
              <a:gd name="textAreaTop" fmla="*/ 97920 h 934920"/>
              <a:gd name="textAreaBottom" fmla="*/ 837000 h 934920"/>
            </a:gdLst>
            <a:ahLst/>
            <a:rect l="textAreaLeft" t="textAreaTop" r="textAreaRight" b="textAreaBottom"/>
            <a:pathLst>
              <a:path w="21600" h="21600">
                <a:moveTo>
                  <a:pt x="7094" y="0"/>
                </a:moveTo>
                <a:lnTo>
                  <a:pt x="7094" y="2263"/>
                </a:lnTo>
                <a:lnTo>
                  <a:pt x="3375" y="2263"/>
                </a:lnTo>
                <a:lnTo>
                  <a:pt x="3375" y="19337"/>
                </a:lnTo>
                <a:lnTo>
                  <a:pt x="7094" y="19337"/>
                </a:lnTo>
                <a:lnTo>
                  <a:pt x="7094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2263"/>
                </a:moveTo>
                <a:lnTo>
                  <a:pt x="1350" y="19337"/>
                </a:lnTo>
                <a:lnTo>
                  <a:pt x="2700" y="19337"/>
                </a:lnTo>
                <a:lnTo>
                  <a:pt x="2700" y="2263"/>
                </a:lnTo>
                <a:close/>
              </a:path>
              <a:path w="21600" h="21600">
                <a:moveTo>
                  <a:pt x="0" y="2263"/>
                </a:moveTo>
                <a:lnTo>
                  <a:pt x="0" y="19337"/>
                </a:lnTo>
                <a:lnTo>
                  <a:pt x="675" y="19337"/>
                </a:lnTo>
                <a:lnTo>
                  <a:pt x="675" y="2263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9"/>
          <p:cNvGrpSpPr/>
          <p:nvPr/>
        </p:nvGrpSpPr>
        <p:grpSpPr>
          <a:xfrm>
            <a:off x="995400" y="2759040"/>
            <a:ext cx="7248600" cy="1443960"/>
            <a:chOff x="995400" y="2759040"/>
            <a:chExt cx="7248600" cy="1443960"/>
          </a:xfrm>
        </p:grpSpPr>
        <p:sp>
          <p:nvSpPr>
            <p:cNvPr id="155" name="Text Box 23"/>
            <p:cNvSpPr/>
            <p:nvPr/>
          </p:nvSpPr>
          <p:spPr>
            <a:xfrm>
              <a:off x="995400" y="2759040"/>
              <a:ext cx="72486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ahoma"/>
                </a:rPr>
                <a:t>МЕТОД ПЕРЕПИСИ НАСЕЛЕНИЯ И ЖИЛИЩНОГО ФОНДА 2010 г. –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"/>
                </a:rPr>
                <a:t>СПЛОШНОЙ ОПРОС НАСЕЛЕНИЯ И ЗАПОЛНЕ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"/>
                </a:rPr>
                <a:t>ПЕРЕПИСНЫХ ЛИСТ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996840" y="3065040"/>
              <a:ext cx="60451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Group 12"/>
          <p:cNvGrpSpPr/>
          <p:nvPr/>
        </p:nvGrpSpPr>
        <p:grpSpPr>
          <a:xfrm>
            <a:off x="1002600" y="3981600"/>
            <a:ext cx="9678960" cy="667080"/>
            <a:chOff x="1002600" y="3981600"/>
            <a:chExt cx="9678960" cy="667080"/>
          </a:xfrm>
        </p:grpSpPr>
        <p:sp>
          <p:nvSpPr>
            <p:cNvPr id="158" name="Text Box 23"/>
            <p:cNvSpPr/>
            <p:nvPr/>
          </p:nvSpPr>
          <p:spPr>
            <a:xfrm>
              <a:off x="1002600" y="3981600"/>
              <a:ext cx="73857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ahoma"/>
                </a:rPr>
                <a:t>ОБЪЕКТ ПЕРЕПИСИ НАСЕЛЕНИЯ –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2183040" y="4251960"/>
              <a:ext cx="8498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Tahoma"/>
                </a:rPr>
                <a:t>ЛИЦО, ПОДЛЕЖАЩЕЕ УЧЕТУ ПЕРЕПИСИ НАСЕЛЕНИЯ РТ 2010 ГО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Text Box 23"/>
          <p:cNvSpPr/>
          <p:nvPr/>
        </p:nvSpPr>
        <p:spPr>
          <a:xfrm>
            <a:off x="984240" y="4869000"/>
            <a:ext cx="79804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ЕДИНИЦА НАБЛЮДЕНИЯ ПЕРЕПИСИ НАСЕЛЕНИЯ РЕСПУБЛИКИ ТАДЖИКИСТАН 2010 ГОДА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1277280" y="5445000"/>
            <a:ext cx="250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ДОМОХОЗЯ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42840"/>
            <a:ext cx="91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f4ff"/>
                </a:solidFill>
                <a:latin typeface="Tahoma"/>
              </a:rPr>
              <a:t>ОБЩИЕ ПОЛОЖЕНИЯ ПЕРЕПИСИ НАСЕЛЕНИЯ  И ЖИЛИЩНОГО ФОНДА РЕСПУБЛИКИ ТАДЖИКИСТАН 2010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26"/>
          <p:cNvSpPr/>
          <p:nvPr/>
        </p:nvSpPr>
        <p:spPr>
          <a:xfrm>
            <a:off x="252360" y="5923080"/>
            <a:ext cx="647640" cy="934920"/>
          </a:xfrm>
          <a:custGeom>
            <a:avLst/>
            <a:gdLst>
              <a:gd name="textAreaLeft" fmla="*/ 101160 w 647640"/>
              <a:gd name="textAreaRight" fmla="*/ 303840 w 647640"/>
              <a:gd name="textAreaTop" fmla="*/ 97920 h 934920"/>
              <a:gd name="textAreaBottom" fmla="*/ 837000 h 934920"/>
            </a:gdLst>
            <a:ahLst/>
            <a:rect l="textAreaLeft" t="textAreaTop" r="textAreaRight" b="textAreaBottom"/>
            <a:pathLst>
              <a:path w="21600" h="21600">
                <a:moveTo>
                  <a:pt x="7094" y="0"/>
                </a:moveTo>
                <a:lnTo>
                  <a:pt x="7094" y="2263"/>
                </a:lnTo>
                <a:lnTo>
                  <a:pt x="3375" y="2263"/>
                </a:lnTo>
                <a:lnTo>
                  <a:pt x="3375" y="19337"/>
                </a:lnTo>
                <a:lnTo>
                  <a:pt x="7094" y="19337"/>
                </a:lnTo>
                <a:lnTo>
                  <a:pt x="7094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2263"/>
                </a:moveTo>
                <a:lnTo>
                  <a:pt x="1350" y="19337"/>
                </a:lnTo>
                <a:lnTo>
                  <a:pt x="2700" y="19337"/>
                </a:lnTo>
                <a:lnTo>
                  <a:pt x="2700" y="2263"/>
                </a:lnTo>
                <a:close/>
              </a:path>
              <a:path w="21600" h="21600">
                <a:moveTo>
                  <a:pt x="0" y="2263"/>
                </a:moveTo>
                <a:lnTo>
                  <a:pt x="0" y="19337"/>
                </a:lnTo>
                <a:lnTo>
                  <a:pt x="675" y="19337"/>
                </a:lnTo>
                <a:lnTo>
                  <a:pt x="675" y="2263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1187280" y="6168960"/>
            <a:ext cx="734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ЪЕКТ ПЕРЕПИСИ ЖИЛИЩНОГО ФОНДА –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СТРО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d5ffd5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939000" y="6245280"/>
            <a:ext cx="1900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C99D-5B6E-4AAF-8DB7-7DAD7A7613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3869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79"/>
                </a:solidFill>
                <a:latin typeface="Arial"/>
              </a:rPr>
              <a:t>Схема организации полевых работ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67" name="Organization Chart 7"/>
          <p:cNvGrpSpPr/>
          <p:nvPr/>
        </p:nvGrpSpPr>
        <p:grpSpPr>
          <a:xfrm>
            <a:off x="71280" y="981000"/>
            <a:ext cx="8964000" cy="4392000"/>
            <a:chOff x="71280" y="981000"/>
            <a:chExt cx="8964000" cy="4392000"/>
          </a:xfrm>
        </p:grpSpPr>
        <p:cxnSp>
          <p:nvCxnSpPr>
            <p:cNvPr id="168" name="_s1028"/>
            <p:cNvCxnSpPr>
              <a:stCxn id="169" idx="0"/>
              <a:endCxn id="170" idx="4"/>
            </p:cNvCxnSpPr>
            <p:nvPr/>
          </p:nvCxnSpPr>
          <p:spPr>
            <a:xfrm flipV="1" rot="16200000">
              <a:off x="6021360" y="2256480"/>
              <a:ext cx="549720" cy="3486960"/>
            </a:xfrm>
            <a:prstGeom prst="bentConnector3">
              <a:avLst>
                <a:gd name="adj1" fmla="val 20773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1" name="_s1029"/>
            <p:cNvCxnSpPr>
              <a:stCxn id="172" idx="0"/>
              <a:endCxn id="170" idx="3"/>
            </p:cNvCxnSpPr>
            <p:nvPr/>
          </p:nvCxnSpPr>
          <p:spPr>
            <a:xfrm flipV="1" rot="16200000">
              <a:off x="4860360" y="3417480"/>
              <a:ext cx="549720" cy="1164960"/>
            </a:xfrm>
            <a:prstGeom prst="bentConnector3">
              <a:avLst>
                <a:gd name="adj1" fmla="val 20773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3" name="_s1030"/>
            <p:cNvCxnSpPr>
              <a:stCxn id="174" idx="0"/>
              <a:endCxn id="170" idx="2"/>
            </p:cNvCxnSpPr>
            <p:nvPr/>
          </p:nvCxnSpPr>
          <p:spPr>
            <a:xfrm flipH="1" flipV="1" rot="5400000">
              <a:off x="3697200" y="3418920"/>
              <a:ext cx="549720" cy="1162440"/>
            </a:xfrm>
            <a:prstGeom prst="bentConnector3">
              <a:avLst>
                <a:gd name="adj1" fmla="val 20773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5" name="_s1031"/>
            <p:cNvCxnSpPr>
              <a:stCxn id="176" idx="0"/>
              <a:endCxn id="170" idx="1"/>
            </p:cNvCxnSpPr>
            <p:nvPr/>
          </p:nvCxnSpPr>
          <p:spPr>
            <a:xfrm flipH="1" flipV="1" rot="5400000">
              <a:off x="2535120" y="2256840"/>
              <a:ext cx="549720" cy="3486600"/>
            </a:xfrm>
            <a:prstGeom prst="bentConnector3">
              <a:avLst>
                <a:gd name="adj1" fmla="val 20773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7" name="_s1032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149440" y="900360"/>
              <a:ext cx="549720" cy="2905560"/>
            </a:xfrm>
            <a:prstGeom prst="bentConnector3">
              <a:avLst>
                <a:gd name="adj1" fmla="val 20773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80" name="_s1033"/>
            <p:cNvCxnSpPr>
              <a:stCxn id="170" idx="0"/>
              <a:endCxn id="179" idx="1"/>
            </p:cNvCxnSpPr>
            <p:nvPr/>
          </p:nvCxnSpPr>
          <p:spPr>
            <a:xfrm flipV="1" rot="16200000">
              <a:off x="3987360" y="2062440"/>
              <a:ext cx="549720" cy="581400"/>
            </a:xfrm>
            <a:prstGeom prst="bentConnector3">
              <a:avLst>
                <a:gd name="adj1" fmla="val 20773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81" name="_s1034"/>
            <p:cNvCxnSpPr>
              <a:stCxn id="182" idx="0"/>
              <a:endCxn id="179" idx="0"/>
            </p:cNvCxnSpPr>
            <p:nvPr/>
          </p:nvCxnSpPr>
          <p:spPr>
            <a:xfrm flipH="1" flipV="1" rot="5400000">
              <a:off x="2244600" y="900360"/>
              <a:ext cx="549720" cy="2905560"/>
            </a:xfrm>
            <a:prstGeom prst="bentConnector3">
              <a:avLst>
                <a:gd name="adj1" fmla="val 20773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9" name="_s1035"/>
            <p:cNvSpPr/>
            <p:nvPr/>
          </p:nvSpPr>
          <p:spPr>
            <a:xfrm>
              <a:off x="2976120" y="981000"/>
              <a:ext cx="1991880" cy="1098000"/>
            </a:xfrm>
            <a:prstGeom prst="bevel">
              <a:avLst>
                <a:gd name="adj" fmla="val 12500"/>
              </a:avLst>
            </a:prstGeom>
            <a:solidFill>
              <a:srgbClr val="99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Переписной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отдел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1036"/>
            <p:cNvSpPr/>
            <p:nvPr/>
          </p:nvSpPr>
          <p:spPr>
            <a:xfrm>
              <a:off x="71280" y="2628000"/>
              <a:ext cx="1991880" cy="1098000"/>
            </a:xfrm>
            <a:prstGeom prst="bevel">
              <a:avLst>
                <a:gd name="adj" fmla="val 12500"/>
              </a:avLst>
            </a:prstGeom>
            <a:solidFill>
              <a:srgbClr val="00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Инструкторски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участок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1037"/>
            <p:cNvSpPr/>
            <p:nvPr/>
          </p:nvSpPr>
          <p:spPr>
            <a:xfrm>
              <a:off x="3557160" y="2628000"/>
              <a:ext cx="1991880" cy="1098000"/>
            </a:xfrm>
            <a:prstGeom prst="bevel">
              <a:avLst>
                <a:gd name="adj" fmla="val 12500"/>
              </a:avLst>
            </a:prstGeom>
            <a:solidFill>
              <a:srgbClr val="00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Инструкторски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участо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1038"/>
            <p:cNvSpPr/>
            <p:nvPr/>
          </p:nvSpPr>
          <p:spPr>
            <a:xfrm>
              <a:off x="5881320" y="2628000"/>
              <a:ext cx="1991880" cy="1098000"/>
            </a:xfrm>
            <a:prstGeom prst="bevel">
              <a:avLst>
                <a:gd name="adj" fmla="val 12500"/>
              </a:avLst>
            </a:prstGeom>
            <a:solidFill>
              <a:srgbClr val="00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Инструкторски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участо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_s1039"/>
            <p:cNvSpPr/>
            <p:nvPr/>
          </p:nvSpPr>
          <p:spPr>
            <a:xfrm>
              <a:off x="71280" y="4275000"/>
              <a:ext cx="1991880" cy="1098000"/>
            </a:xfrm>
            <a:prstGeom prst="bevel">
              <a:avLst>
                <a:gd name="adj" fmla="val 12500"/>
              </a:avLst>
            </a:prstGeom>
            <a:solidFill>
              <a:srgbClr val="99ff66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четны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участ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1040"/>
            <p:cNvSpPr/>
            <p:nvPr/>
          </p:nvSpPr>
          <p:spPr>
            <a:xfrm>
              <a:off x="2395080" y="4275000"/>
              <a:ext cx="1991880" cy="1098000"/>
            </a:xfrm>
            <a:prstGeom prst="bevel">
              <a:avLst>
                <a:gd name="adj" fmla="val 12500"/>
              </a:avLst>
            </a:prstGeom>
            <a:solidFill>
              <a:srgbClr val="99ff66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четны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участ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1041"/>
            <p:cNvSpPr/>
            <p:nvPr/>
          </p:nvSpPr>
          <p:spPr>
            <a:xfrm>
              <a:off x="4719240" y="4275000"/>
              <a:ext cx="1991880" cy="1098000"/>
            </a:xfrm>
            <a:prstGeom prst="bevel">
              <a:avLst>
                <a:gd name="adj" fmla="val 12500"/>
              </a:avLst>
            </a:prstGeom>
            <a:solidFill>
              <a:srgbClr val="99ff66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четны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участ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_s1042"/>
            <p:cNvSpPr/>
            <p:nvPr/>
          </p:nvSpPr>
          <p:spPr>
            <a:xfrm>
              <a:off x="7043400" y="4275000"/>
              <a:ext cx="1991880" cy="1098000"/>
            </a:xfrm>
            <a:prstGeom prst="bevel">
              <a:avLst>
                <a:gd name="adj" fmla="val 12500"/>
              </a:avLst>
            </a:prstGeom>
            <a:solidFill>
              <a:srgbClr val="99ff66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четны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участ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Rectangle 42"/>
          <p:cNvSpPr/>
          <p:nvPr/>
        </p:nvSpPr>
        <p:spPr>
          <a:xfrm>
            <a:off x="395280" y="5661000"/>
            <a:ext cx="828036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79"/>
                </a:solidFill>
                <a:latin typeface="Arial"/>
              </a:rPr>
              <a:t>Переписные кадр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79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ffff79"/>
                </a:solidFill>
                <a:latin typeface="Arial"/>
              </a:rPr>
              <a:t>заведующие переписными отделами и их помощники – 1154 челов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79"/>
                </a:solidFill>
                <a:latin typeface="Arial"/>
              </a:rPr>
              <a:t>-инструкторы-контролеры-4622 челов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79"/>
                </a:solidFill>
                <a:latin typeface="Arial"/>
              </a:rPr>
              <a:t>- счетчики – 20180 челов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d5ffd5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939000" y="6245280"/>
            <a:ext cx="1900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7058-EF13-47D5-B9C2-826B41EAB5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b7"/>
                </a:solidFill>
                <a:latin typeface="Tahoma"/>
              </a:rPr>
              <a:t>СОДЕРЖАНИЕ ПРОГРАММЫ ПЕРЕПИСИ НАСЕЛЕНИЯ И ЖИЛИЩНОГО ФОНДА РЕСПУБЛИКИ ТАДЖИКИСТАН 2010 ГОДА</a:t>
            </a:r>
            <a:endParaRPr b="1" lang="en-US" sz="1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рма 1 – Список проживающих в помеще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рма 1 А – Список лиц, временно находящихся в больница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льных домах, санаториях, гостиницах и т.п.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мент счета на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рма 2 – Индивидуальный переписной ли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рма 3 – Жилищные условия на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рма 4 – Жилищный фо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рма 5 – Контрольный переписной блан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7E6E-A619-422C-9BBB-25FF90F40F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573200" y="0"/>
            <a:ext cx="60498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d5ffd5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939000" y="6245280"/>
            <a:ext cx="1900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C24B-DE4A-45DA-AB42-3F534380A8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b7"/>
                </a:solidFill>
                <a:latin typeface="Arial"/>
              </a:rPr>
              <a:t>Учитываемые категории жилищного фонда</a:t>
            </a:r>
            <a:r>
              <a:rPr b="1" lang="ru-RU" sz="3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5600" y="1182240"/>
            <a:ext cx="825804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дивидуальный д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 для сезонного прожи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квартирный д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гого тип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алатка, юрта, вагончик и проч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d5ffd5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6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кущий статистический учет жилищного фон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получения статистических данных по жилищному фонду ежегодно на основе годовых статистических форм отчетности: Форма №1-жилфонд и форма №2 жилфонд «Отчет о жилищном фонде», информация собирается от предприятий и организаций, имеющих на балансе жилищный фонд. Информация по частному жилищному фонду собирают межрайонные предприятия технической инвентаризации (МПТИ) в городской местности, а в  сельской местности  учитывается по похозяйственным книгам  в каждой сельской администрации (джамоате дехот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формация поступает в ГУ ГВЦ Агентства по статистике для обобщения. Агрегированные данные публикуются ежегодно в статистических сборниках «Статистический ежегодник Республики Таджикистан», «Таджикистан в цифрах», «Регионы Республики Таджикистан» и  бюллетень «Основные показатели жилищного фонда и коммунального хозяйства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939000" y="6245280"/>
            <a:ext cx="1900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6599-D658-496B-AE9E-FE33739802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d5ffd5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939000" y="6245280"/>
            <a:ext cx="1900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B371-F57A-4B5F-B46B-9B59D24778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2770200"/>
            <a:ext cx="800748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4:38:39Z</dcterms:created>
  <dc:creator>User</dc:creator>
  <dc:description/>
  <dc:language>en-US</dc:language>
  <cp:lastModifiedBy>Okeeva</cp:lastModifiedBy>
  <dcterms:modified xsi:type="dcterms:W3CDTF">2010-06-29T10:10:37Z</dcterms:modified>
  <cp:revision>260</cp:revision>
  <dc:subject/>
  <dc:title>Презентация PowerPoint</dc:title>
</cp:coreProperties>
</file>