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8FA-058C-4C86-9EEC-F8A2C80B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EC6-AEE1-4D5C-9436-F49016C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9CC-8638-408A-B01E-A3F66F6E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933-7AC5-46EB-8BE8-31524A3F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F89-E840-4F98-B10D-BF4C0330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ED7-6FCD-4B6B-91F1-4A36AA0B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FB7-5ECB-43A4-9F86-B1E8C936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DA1-4458-46F4-909E-4C40B200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73C-29DC-4CEE-86FA-B4E3F22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228-BF2A-4EC2-A1D0-622C023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17F-FEA1-4CED-8A64-474BAAEE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45C-7EA6-4428-A260-201A9FD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BE4-1B19-4F45-88D2-DABF53DBF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0"/>
          <p:cNvSpPr/>
          <p:nvPr/>
        </p:nvSpPr>
        <p:spPr>
          <a:xfrm>
            <a:off x="184320" y="2452680"/>
            <a:ext cx="881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Распространение информац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нлвый-лого"/>
          <p:cNvPicPr/>
          <p:nvPr/>
        </p:nvPicPr>
        <p:blipFill>
          <a:blip r:embed="rId2"/>
          <a:stretch/>
        </p:blipFill>
        <p:spPr>
          <a:xfrm>
            <a:off x="195120" y="307800"/>
            <a:ext cx="5826240" cy="1514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верхний колонтитул"/>
          <p:cNvPicPr/>
          <p:nvPr/>
        </p:nvPicPr>
        <p:blipFill>
          <a:blip r:embed="rId3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2841480" y="5460840"/>
            <a:ext cx="61772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Збарская Ири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Tahoma"/>
              </a:rPr>
              <a:t>Федеральная служба государственной стат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3"/>
          <p:cNvSpPr/>
          <p:nvPr/>
        </p:nvSpPr>
        <p:spPr>
          <a:xfrm>
            <a:off x="304920" y="515880"/>
            <a:ext cx="8553240" cy="106884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Распространение итогов переписи населения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4"/>
          <p:cNvSpPr/>
          <p:nvPr/>
        </p:nvSpPr>
        <p:spPr>
          <a:xfrm>
            <a:off x="295200" y="1700280"/>
            <a:ext cx="8618760" cy="4480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ные из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ые из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-лайн досту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таблицам с ито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микрода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0" descr="тома"/>
          <p:cNvPicPr/>
          <p:nvPr/>
        </p:nvPicPr>
        <p:blipFill>
          <a:blip r:embed="rId3"/>
          <a:srcRect l="1181" t="3654" r="0" b="0"/>
          <a:stretch/>
        </p:blipFill>
        <p:spPr>
          <a:xfrm>
            <a:off x="4978440" y="1535040"/>
            <a:ext cx="1174680" cy="110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диски"/>
          <p:cNvPicPr/>
          <p:nvPr/>
        </p:nvPicPr>
        <p:blipFill>
          <a:blip r:embed="rId4"/>
          <a:srcRect l="16771" t="19533" r="16929" b="20864"/>
          <a:stretch/>
        </p:blipFill>
        <p:spPr>
          <a:xfrm>
            <a:off x="5872320" y="2508120"/>
            <a:ext cx="12142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Обмен\inet4.jpg"/>
          <p:cNvPicPr/>
          <p:nvPr/>
        </p:nvPicPr>
        <p:blipFill>
          <a:blip r:embed="rId5"/>
          <a:srcRect l="10493" t="12460" r="8752" b="18838"/>
          <a:stretch/>
        </p:blipFill>
        <p:spPr>
          <a:xfrm>
            <a:off x="6764400" y="3627360"/>
            <a:ext cx="17510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3"/>
          <p:cNvSpPr/>
          <p:nvPr/>
        </p:nvSpPr>
        <p:spPr>
          <a:xfrm>
            <a:off x="304920" y="515880"/>
            <a:ext cx="8553240" cy="106884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ечатные издания с итогами перепис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4"/>
          <p:cNvSpPr/>
          <p:nvPr/>
        </p:nvSpPr>
        <p:spPr>
          <a:xfrm>
            <a:off x="295200" y="1785960"/>
            <a:ext cx="8618760" cy="41173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стота исполнения (не требуется специального оборудования и ПО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ксимальное число потенциальных пользователе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язательное наличие метаинформации (методологических и организационных принципов переписи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зуализация с помощью карт, графиков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тома"/>
          <p:cNvPicPr/>
          <p:nvPr/>
        </p:nvPicPr>
        <p:blipFill>
          <a:blip r:embed="rId3"/>
          <a:srcRect l="1177" t="3662" r="0" b="0"/>
          <a:stretch/>
        </p:blipFill>
        <p:spPr>
          <a:xfrm>
            <a:off x="6464160" y="4430880"/>
            <a:ext cx="250056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3"/>
          <p:cNvSpPr/>
          <p:nvPr/>
        </p:nvSpPr>
        <p:spPr>
          <a:xfrm>
            <a:off x="341280" y="515880"/>
            <a:ext cx="8507520" cy="106884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Электронные издания с итогами перепис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4"/>
          <p:cNvSpPr/>
          <p:nvPr/>
        </p:nvSpPr>
        <p:spPr>
          <a:xfrm>
            <a:off x="369720" y="2087640"/>
            <a:ext cx="8479080" cy="375156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ст популярности оптических носителе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сть дальнейшего использования информации переписи населения в электроном виде для анализа и дополнительных расчетов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граниченный объем информации на носител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е устаревание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диски"/>
          <p:cNvPicPr/>
          <p:nvPr/>
        </p:nvPicPr>
        <p:blipFill>
          <a:blip r:embed="rId3"/>
          <a:srcRect l="16760" t="19519" r="16919" b="20857"/>
          <a:stretch/>
        </p:blipFill>
        <p:spPr>
          <a:xfrm>
            <a:off x="6438960" y="4670280"/>
            <a:ext cx="244296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3"/>
          <p:cNvSpPr/>
          <p:nvPr/>
        </p:nvSpPr>
        <p:spPr>
          <a:xfrm>
            <a:off x="351000" y="515880"/>
            <a:ext cx="8432640" cy="5814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н-лайн распространение ит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351000" y="1231920"/>
            <a:ext cx="8405640" cy="448308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орость, гибкость (статическая и динамическая информация), стоимость (отсутствие издержек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ение средств администрирования для различных групп пользователе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ные требования к защите (технической и нормативной) конфиденциальности индивидуальных данных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сть получения данных по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полнительным запросам к базе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Обмен\inet4.jpg"/>
          <p:cNvPicPr/>
          <p:nvPr/>
        </p:nvPicPr>
        <p:blipFill>
          <a:blip r:embed="rId3"/>
          <a:srcRect l="10487" t="12465" r="8743" b="18838"/>
          <a:stretch/>
        </p:blipFill>
        <p:spPr>
          <a:xfrm>
            <a:off x="6602400" y="4618080"/>
            <a:ext cx="2421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3"/>
          <p:cNvSpPr/>
          <p:nvPr/>
        </p:nvSpPr>
        <p:spPr>
          <a:xfrm>
            <a:off x="295200" y="515880"/>
            <a:ext cx="8553600" cy="106884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Методы защиты конфиденциальности микро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314280" y="1670040"/>
            <a:ext cx="8570880" cy="375156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аничение территориальной детализации итоговых таблиц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персонификация микроданных (исключение ФИО и адреса респондента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лючение/сокрытие подробных данных в таблица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гирование слишком детальной информаци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Обмен\16161846.jpg"/>
          <p:cNvPicPr/>
          <p:nvPr/>
        </p:nvPicPr>
        <p:blipFill>
          <a:blip r:embed="rId3"/>
          <a:stretch/>
        </p:blipFill>
        <p:spPr>
          <a:xfrm>
            <a:off x="6966000" y="4680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6:56:41Z</dcterms:created>
  <dc:creator>Chernishova</dc:creator>
  <dc:description/>
  <dc:language>en-US</dc:language>
  <cp:lastModifiedBy>Zbarskaya</cp:lastModifiedBy>
  <dcterms:modified xsi:type="dcterms:W3CDTF">2010-07-01T09:20:30Z</dcterms:modified>
  <cp:revision>356</cp:revision>
  <dc:subject/>
  <dc:title>Презентация PowerPoint</dc:title>
</cp:coreProperties>
</file>