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5B5-266B-4CD4-A559-31A4A8DF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993-6E38-40AC-9FF7-89CC280D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56C-8549-4F82-84A2-F2CAB166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A8F-6511-41AE-92F6-CB0D5BB3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210-73D4-4D74-9D6B-A5C9920C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D43-F808-4C7E-A919-6C32A5D6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F75-3C6B-4198-805A-16EE1C18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73C-F5C2-4771-BFBC-0BB48939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4B6D-B9E5-454F-B284-C0A9A73D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759B-9DA1-4438-B44C-E8680E5C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54F-4D6A-4D3B-B46E-4A6AD53B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1A0-E262-439B-B22A-143BBEA6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7615-4C0E-4F7D-94ED-8F92B6FBEA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верхний колонтитул"/>
          <p:cNvPicPr/>
          <p:nvPr/>
        </p:nvPicPr>
        <p:blipFill>
          <a:blip r:embed="rId1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10"/>
          <p:cNvSpPr/>
          <p:nvPr/>
        </p:nvSpPr>
        <p:spPr>
          <a:xfrm>
            <a:off x="184320" y="2452680"/>
            <a:ext cx="881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Dissemination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of resul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8" descr="нлвый-лого"/>
          <p:cNvPicPr/>
          <p:nvPr/>
        </p:nvPicPr>
        <p:blipFill>
          <a:blip r:embed="rId2"/>
          <a:stretch/>
        </p:blipFill>
        <p:spPr>
          <a:xfrm>
            <a:off x="195120" y="307800"/>
            <a:ext cx="5826240" cy="1514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верхний колонтитул"/>
          <p:cNvPicPr/>
          <p:nvPr/>
        </p:nvPicPr>
        <p:blipFill>
          <a:blip r:embed="rId3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2841480" y="5460840"/>
            <a:ext cx="61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Tahoma"/>
              </a:rPr>
              <a:t>Irina Zbars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Tahoma"/>
              </a:rPr>
              <a:t>Federal State Statistics Service,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верхний колонтитул"/>
          <p:cNvPicPr/>
          <p:nvPr/>
        </p:nvPicPr>
        <p:blipFill>
          <a:blip r:embed="rId1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верхний колонтитул"/>
          <p:cNvPicPr/>
          <p:nvPr/>
        </p:nvPicPr>
        <p:blipFill>
          <a:blip r:embed="rId2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3"/>
          <p:cNvSpPr/>
          <p:nvPr/>
        </p:nvSpPr>
        <p:spPr>
          <a:xfrm>
            <a:off x="304920" y="515880"/>
            <a:ext cx="8553240" cy="58140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Dissemination of census 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4"/>
          <p:cNvSpPr/>
          <p:nvPr/>
        </p:nvSpPr>
        <p:spPr>
          <a:xfrm>
            <a:off x="295200" y="1347840"/>
            <a:ext cx="8618760" cy="448092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ation of printed tables and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ion on computer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ac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able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ensus micro-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0" descr="тома"/>
          <p:cNvPicPr/>
          <p:nvPr/>
        </p:nvPicPr>
        <p:blipFill>
          <a:blip r:embed="rId3"/>
          <a:srcRect l="1181" t="3654" r="0" b="0"/>
          <a:stretch/>
        </p:blipFill>
        <p:spPr>
          <a:xfrm>
            <a:off x="7969320" y="1278000"/>
            <a:ext cx="1174680" cy="1100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диски"/>
          <p:cNvPicPr/>
          <p:nvPr/>
        </p:nvPicPr>
        <p:blipFill>
          <a:blip r:embed="rId4"/>
          <a:srcRect l="16771" t="19533" r="16929" b="20864"/>
          <a:stretch/>
        </p:blipFill>
        <p:spPr>
          <a:xfrm>
            <a:off x="6986520" y="2060640"/>
            <a:ext cx="1214640" cy="104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Обмен\inet4.jpg"/>
          <p:cNvPicPr/>
          <p:nvPr/>
        </p:nvPicPr>
        <p:blipFill>
          <a:blip r:embed="rId5"/>
          <a:srcRect l="10493" t="12460" r="8752" b="18838"/>
          <a:stretch/>
        </p:blipFill>
        <p:spPr>
          <a:xfrm>
            <a:off x="6221520" y="3294000"/>
            <a:ext cx="21034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верхний колонтитул"/>
          <p:cNvPicPr/>
          <p:nvPr/>
        </p:nvPicPr>
        <p:blipFill>
          <a:blip r:embed="rId1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верхний колонтитул"/>
          <p:cNvPicPr/>
          <p:nvPr/>
        </p:nvPicPr>
        <p:blipFill>
          <a:blip r:embed="rId2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3"/>
          <p:cNvSpPr/>
          <p:nvPr/>
        </p:nvSpPr>
        <p:spPr>
          <a:xfrm>
            <a:off x="304920" y="515880"/>
            <a:ext cx="8553240" cy="58140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ard copies with census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4"/>
          <p:cNvSpPr/>
          <p:nvPr/>
        </p:nvSpPr>
        <p:spPr>
          <a:xfrm>
            <a:off x="295200" y="1785960"/>
            <a:ext cx="8618760" cy="411732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icity of execution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require any particular equipment, software or technical skill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st number of potential users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tory presence of the meta-data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data we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ed and processed, appraisals of the substan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the results, etc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ization of the results on map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dules, et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тома"/>
          <p:cNvPicPr/>
          <p:nvPr/>
        </p:nvPicPr>
        <p:blipFill>
          <a:blip r:embed="rId3"/>
          <a:srcRect l="1177" t="3662" r="0" b="0"/>
          <a:stretch/>
        </p:blipFill>
        <p:spPr>
          <a:xfrm>
            <a:off x="6464160" y="4430880"/>
            <a:ext cx="2500560" cy="23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верхний колонтитул"/>
          <p:cNvPicPr/>
          <p:nvPr/>
        </p:nvPicPr>
        <p:blipFill>
          <a:blip r:embed="rId1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верхний колонтитул"/>
          <p:cNvPicPr/>
          <p:nvPr/>
        </p:nvPicPr>
        <p:blipFill>
          <a:blip r:embed="rId2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3"/>
          <p:cNvSpPr/>
          <p:nvPr/>
        </p:nvSpPr>
        <p:spPr>
          <a:xfrm>
            <a:off x="341280" y="515880"/>
            <a:ext cx="8507520" cy="58140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Electronic issues with census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4"/>
          <p:cNvSpPr/>
          <p:nvPr/>
        </p:nvSpPr>
        <p:spPr>
          <a:xfrm>
            <a:off x="369720" y="2087640"/>
            <a:ext cx="8479080" cy="338580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de popularity of optical media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ility of further data computer processing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drawbacks of optical carri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imited capacity and vulnerability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ossible obsol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1" descr="диски"/>
          <p:cNvPicPr/>
          <p:nvPr/>
        </p:nvPicPr>
        <p:blipFill>
          <a:blip r:embed="rId3"/>
          <a:srcRect l="16760" t="19519" r="16919" b="20857"/>
          <a:stretch/>
        </p:blipFill>
        <p:spPr>
          <a:xfrm>
            <a:off x="6438960" y="4670280"/>
            <a:ext cx="2442960" cy="21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верхний колонтитул"/>
          <p:cNvPicPr/>
          <p:nvPr/>
        </p:nvPicPr>
        <p:blipFill>
          <a:blip r:embed="rId1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верхний колонтитул"/>
          <p:cNvPicPr/>
          <p:nvPr/>
        </p:nvPicPr>
        <p:blipFill>
          <a:blip r:embed="rId2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3"/>
          <p:cNvSpPr/>
          <p:nvPr/>
        </p:nvSpPr>
        <p:spPr>
          <a:xfrm>
            <a:off x="351000" y="515880"/>
            <a:ext cx="8432640" cy="58140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Online dissemination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351000" y="1231920"/>
            <a:ext cx="8405640" cy="448308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c and dynamic informatio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nse of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the pro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printed materials or other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upport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nting of different access rights to differ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of users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meas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echnical and normative) for the confidentiality of the individual data protection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ility of the additional query to obt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retrieve results that satisfy users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Обмен\inet4.jpg"/>
          <p:cNvPicPr/>
          <p:nvPr/>
        </p:nvPicPr>
        <p:blipFill>
          <a:blip r:embed="rId3"/>
          <a:srcRect l="10487" t="12465" r="8743" b="18838"/>
          <a:stretch/>
        </p:blipFill>
        <p:spPr>
          <a:xfrm>
            <a:off x="6602400" y="4618080"/>
            <a:ext cx="2421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верхний колонтитул"/>
          <p:cNvPicPr/>
          <p:nvPr/>
        </p:nvPicPr>
        <p:blipFill>
          <a:blip r:embed="rId1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верхний колонтитул"/>
          <p:cNvPicPr/>
          <p:nvPr/>
        </p:nvPicPr>
        <p:blipFill>
          <a:blip r:embed="rId2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3"/>
          <p:cNvSpPr/>
          <p:nvPr/>
        </p:nvSpPr>
        <p:spPr>
          <a:xfrm>
            <a:off x="295200" y="515880"/>
            <a:ext cx="8553600" cy="58140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curity meas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of the micro-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314280" y="1670040"/>
            <a:ext cx="8570880" cy="375156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ion of territorial detailed elaboration in the tables with results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rsonification of the micro-data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al of personal name and local addres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al / alteration of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data with unique characteristics in tables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gregation of too detailed information i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:\Обмен\16161846.jpg"/>
          <p:cNvPicPr/>
          <p:nvPr/>
        </p:nvPicPr>
        <p:blipFill>
          <a:blip r:embed="rId3"/>
          <a:stretch/>
        </p:blipFill>
        <p:spPr>
          <a:xfrm>
            <a:off x="6966000" y="46800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6:56:41Z</dcterms:created>
  <dc:creator>Chernishova</dc:creator>
  <dc:description/>
  <dc:language>en-US</dc:language>
  <cp:lastModifiedBy>Zbarskaya</cp:lastModifiedBy>
  <dcterms:modified xsi:type="dcterms:W3CDTF">2010-07-01T09:18:30Z</dcterms:modified>
  <cp:revision>389</cp:revision>
  <dc:subject/>
  <dc:title>Презентация PowerPoint</dc:title>
</cp:coreProperties>
</file>