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72ED-17A3-4D6C-8C9C-DC223E20AC5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C340-E191-4947-88CA-D4AEBCD71D4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5E81-A917-4C99-9A36-DE77A1A3A4D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 countries using registers or other non traditional methods in 2011 census round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6B83-3622-4D38-8CA0-5B18415C05F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CE countries using registers in both 2000 and 2011 census 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C1FE-364A-46BB-98E6-0365EC0D6EF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CE countries using registers or other non-traditional methods in 2010 census round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4912-63F4-4289-AF7F-077ABF74FDC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3BA9-7AC4-4A59-821D-CFB7468A206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DCBB-4E0B-475F-A9C6-AD6EC791C13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7445-6AB5-4F2C-8E8E-7E8BC283378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ore details in the session on Friday morning (presentations from 5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8DD2-8504-4847-BF23-9378A4FDE75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Based on main source of data for census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« Traditional census » includes all countries with full field enumeration even if assisted by registers or other data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B65A-17AA-4436-A0BF-7AEE202EC95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Based on main source of data for census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« Traditional census » includes all countries with full field enumeration even if assisted by registers or other data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1F25-54DB-43D3-9285-E59D63339AC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ore details in the session on Friday morning (presentations from 5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6F9B-AA08-45BC-8F1D-13BB3AF00ED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Pilot census and dress rehearsal are conducted by all countries with traditional census or at least some field enum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Similarly, nearly all countries conduct some form of census evaluation, with the exceetion in general of countries with register-base cens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Basically all countries conducting traditional census reported doing a 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Sample size in most cases of 1% or less, with few exce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8 countries, mostly CIS countries, reported sample size of 10%: it is a sample check, different approach from traditional 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6C35-7B72-4815-9FCB-14E28FFD3C6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Nearly all countries will still produce paper publications, with few exceptions (Belgium, France, Ita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GIS tools used for dissemination by majority of countries (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ost countries charge for individual data requests with some exce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5D50-91F4-4D50-9F2A-143DBD3CC87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approach: data from registers will be used in combination with a full field enumeration, or with the results of an ad hoc sample survey, or of existing surveys (i.e. LFS or EU-SIL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6CE9-A905-4525-AB91-B2905E5573E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approach: data from registers will be used in combination with a full field enumeration, or with the results of an ad hoc sample survey, or of existing surveys (i.e. LFS or EU-SIL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63CA-C2B7-4F9A-BEC1-19E014001C3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83A8-6CB5-47F6-ADDD-ECEDAB37B5C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1C61-F217-4145-93DE-06EF3B151BF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2E44-E365-4BD3-949A-789BA680314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 countries using registers in both 2000 and 2011 census 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02E-5A07-456D-A6AC-53BDDF58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46E-45DA-45D0-A473-6CDEAF66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07C-3105-4F9E-B376-D70715F2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EB6-CD47-4B1D-8024-7BE9FAC9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5A2-3C7E-4A91-B425-2F633772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DCE-F915-4B7F-9950-DFA6B525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AE5-3FBC-4743-A02B-6A043481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6FC-6613-41B2-A849-45679538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23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744-312F-4914-8B5F-21B2775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A48-B8B2-4595-B148-E4E3083F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6B3-4C1A-44FC-85BC-714E701C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0C7-AE21-4EEC-8F42-0FA9074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UNECE statistic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00E3-07DD-416F-9720-C8956F50E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7631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Update on the 2010 Round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of Population and Housing Censuses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 Narrow"/>
              </a:rPr>
              <a:t>in the UNECE Region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48006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0000a8"/>
                </a:solidFill>
                <a:latin typeface="Arial Narrow"/>
              </a:rPr>
              <a:t>Paolo Valente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a8"/>
                </a:solidFill>
                <a:latin typeface="Arial Narrow"/>
              </a:rPr>
              <a:t>United Nations Economic Commission for Europe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a8"/>
                </a:solidFill>
                <a:latin typeface="Arial Narrow"/>
              </a:rPr>
              <a:t>Statistical Division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066680" y="685800"/>
            <a:ext cx="7620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0000a8"/>
                </a:solidFill>
                <a:latin typeface="Arial Narrow"/>
              </a:rPr>
              <a:t>UNECE-Eurostat Meeting </a:t>
            </a:r>
            <a:br>
              <a:rPr sz="2800"/>
            </a:br>
            <a:r>
              <a:rPr b="1" i="1" lang="fr-CH" sz="2800" spc="-1" strike="noStrike">
                <a:solidFill>
                  <a:srgbClr val="0000a8"/>
                </a:solidFill>
                <a:latin typeface="Arial Narrow"/>
              </a:rPr>
              <a:t>on Population and Housing Censuse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a8"/>
                </a:solidFill>
                <a:latin typeface="Arial Narrow"/>
              </a:rPr>
              <a:t>Geneva, 7-9 July 2010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Census methods - 2011 and 2000 round </a:t>
            </a:r>
            <a:br>
              <a:rPr sz="3600"/>
            </a:b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EU countries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62120" y="1752480"/>
          <a:ext cx="7848360" cy="4267440"/>
        </p:xfrm>
        <a:graphic>
          <a:graphicData uri="http://schemas.openxmlformats.org/drawingml/2006/table">
            <a:tbl>
              <a:tblPr/>
              <a:tblGrid>
                <a:gridCol w="1204920"/>
                <a:gridCol w="1461960"/>
                <a:gridCol w="914400"/>
                <a:gridCol w="914400"/>
                <a:gridCol w="1219320"/>
                <a:gridCol w="1066680"/>
                <a:gridCol w="106668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 2010 census roun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-tion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-bin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tional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bined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census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Fumetto 1 3"/>
          <p:cNvSpPr/>
          <p:nvPr/>
        </p:nvSpPr>
        <p:spPr>
          <a:xfrm>
            <a:off x="3505320" y="3657600"/>
            <a:ext cx="1600200" cy="1219320"/>
          </a:xfrm>
          <a:prstGeom prst="wedgeRect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82" name="Fumetto 1 5"/>
          <p:cNvSpPr/>
          <p:nvPr/>
        </p:nvSpPr>
        <p:spPr>
          <a:xfrm>
            <a:off x="838080" y="1066680"/>
            <a:ext cx="2057400" cy="2210040"/>
          </a:xfrm>
          <a:prstGeom prst="wedgeRectCallout">
            <a:avLst>
              <a:gd name="adj1" fmla="val 149768"/>
              <a:gd name="adj2" fmla="val 58333"/>
            </a:avLst>
          </a:prstGeom>
          <a:solidFill>
            <a:srgbClr val="ffff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Czech Republic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Estonia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Italy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Lithuania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Poland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83" name="Fumetto 1 6"/>
          <p:cNvSpPr/>
          <p:nvPr/>
        </p:nvSpPr>
        <p:spPr>
          <a:xfrm>
            <a:off x="6248520" y="1143000"/>
            <a:ext cx="1143000" cy="533520"/>
          </a:xfrm>
          <a:prstGeom prst="wedgeRectCallout">
            <a:avLst>
              <a:gd name="adj1" fmla="val -37777"/>
              <a:gd name="adj2" fmla="val 370236"/>
            </a:avLst>
          </a:prstGeom>
          <a:solidFill>
            <a:srgbClr val="ffff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Austria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84" name="Fumetto 1 10"/>
          <p:cNvSpPr/>
          <p:nvPr/>
        </p:nvSpPr>
        <p:spPr>
          <a:xfrm>
            <a:off x="3733920" y="6095880"/>
            <a:ext cx="1295280" cy="533520"/>
          </a:xfrm>
          <a:prstGeom prst="wedgeRectCallout">
            <a:avLst>
              <a:gd name="adj1" fmla="val 44226"/>
              <a:gd name="adj2" fmla="val -192074"/>
            </a:avLst>
          </a:prstGeom>
          <a:solidFill>
            <a:srgbClr val="ffff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Germany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85" name="Fumetto 1 11"/>
          <p:cNvSpPr/>
          <p:nvPr/>
        </p:nvSpPr>
        <p:spPr>
          <a:xfrm>
            <a:off x="5562720" y="6095880"/>
            <a:ext cx="1295280" cy="533520"/>
          </a:xfrm>
          <a:prstGeom prst="wedgeRectCallout">
            <a:avLst>
              <a:gd name="adj1" fmla="val -3898"/>
              <a:gd name="adj2" fmla="val -197268"/>
            </a:avLst>
          </a:prstGeom>
          <a:solidFill>
            <a:srgbClr val="ffff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Sweden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86" name="Fumetto 1 6"/>
          <p:cNvSpPr/>
          <p:nvPr/>
        </p:nvSpPr>
        <p:spPr>
          <a:xfrm>
            <a:off x="7620120" y="1143000"/>
            <a:ext cx="1066680" cy="533520"/>
          </a:xfrm>
          <a:prstGeom prst="wedgeRectCallout">
            <a:avLst>
              <a:gd name="adj1" fmla="val -66069"/>
              <a:gd name="adj2" fmla="val 380953"/>
            </a:avLst>
          </a:prstGeom>
          <a:solidFill>
            <a:srgbClr val="ffff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France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Census methods - 2010 and 2000 round </a:t>
            </a:r>
            <a:br>
              <a:rPr sz="3600"/>
            </a:b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Other ECE countries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62120" y="1752480"/>
          <a:ext cx="7848360" cy="4267440"/>
        </p:xfrm>
        <a:graphic>
          <a:graphicData uri="http://schemas.openxmlformats.org/drawingml/2006/table">
            <a:tbl>
              <a:tblPr/>
              <a:tblGrid>
                <a:gridCol w="1204920"/>
                <a:gridCol w="1461960"/>
                <a:gridCol w="914400"/>
                <a:gridCol w="914400"/>
                <a:gridCol w="1219320"/>
                <a:gridCol w="1066680"/>
                <a:gridCol w="106668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 2010 census roun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-tion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-bin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tional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bined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census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Fumetto 1 5"/>
          <p:cNvSpPr/>
          <p:nvPr/>
        </p:nvSpPr>
        <p:spPr>
          <a:xfrm>
            <a:off x="914400" y="2438280"/>
            <a:ext cx="1905120" cy="457200"/>
          </a:xfrm>
          <a:prstGeom prst="wedgeRectCallout">
            <a:avLst>
              <a:gd name="adj1" fmla="val 160083"/>
              <a:gd name="adj2" fmla="val 285069"/>
            </a:avLst>
          </a:prstGeom>
          <a:solidFill>
            <a:srgbClr val="ff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Switzerland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0" name="Fumetto 1 11"/>
          <p:cNvSpPr/>
          <p:nvPr/>
        </p:nvSpPr>
        <p:spPr>
          <a:xfrm>
            <a:off x="4648320" y="5943600"/>
            <a:ext cx="1447560" cy="533520"/>
          </a:xfrm>
          <a:prstGeom prst="wedgeRectCallout">
            <a:avLst>
              <a:gd name="adj1" fmla="val 52851"/>
              <a:gd name="adj2" fmla="val -322916"/>
            </a:avLst>
          </a:prstGeom>
          <a:solidFill>
            <a:srgbClr val="ff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Norway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Census methods - 2010 and 2000 round </a:t>
            </a:r>
            <a:br>
              <a:rPr sz="3600"/>
            </a:b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Other ECE countries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752480"/>
          <a:ext cx="7848360" cy="4267440"/>
        </p:xfrm>
        <a:graphic>
          <a:graphicData uri="http://schemas.openxmlformats.org/drawingml/2006/table">
            <a:tbl>
              <a:tblPr/>
              <a:tblGrid>
                <a:gridCol w="1204920"/>
                <a:gridCol w="1461960"/>
                <a:gridCol w="914400"/>
                <a:gridCol w="914400"/>
                <a:gridCol w="1219320"/>
                <a:gridCol w="1066680"/>
                <a:gridCol w="106668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 2010 census roun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-tion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-bin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tional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bined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census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Fumetto 1 5"/>
          <p:cNvSpPr/>
          <p:nvPr/>
        </p:nvSpPr>
        <p:spPr>
          <a:xfrm>
            <a:off x="914400" y="2133720"/>
            <a:ext cx="1905120" cy="914400"/>
          </a:xfrm>
          <a:prstGeom prst="wedgeRectCallout">
            <a:avLst>
              <a:gd name="adj1" fmla="val 158250"/>
              <a:gd name="adj2" fmla="val 91319"/>
            </a:avLst>
          </a:prstGeom>
          <a:solidFill>
            <a:srgbClr val="ffff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Israel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Turkey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4" name="Fumetto 1 11"/>
          <p:cNvSpPr/>
          <p:nvPr/>
        </p:nvSpPr>
        <p:spPr>
          <a:xfrm>
            <a:off x="3352680" y="6172200"/>
            <a:ext cx="1447920" cy="533520"/>
          </a:xfrm>
          <a:prstGeom prst="wedgeRectCallout">
            <a:avLst>
              <a:gd name="adj1" fmla="val 59976"/>
              <a:gd name="adj2" fmla="val -222620"/>
            </a:avLst>
          </a:prstGeom>
          <a:solidFill>
            <a:srgbClr val="ffff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Iceland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5" name="Fumetto 1 11"/>
          <p:cNvSpPr/>
          <p:nvPr/>
        </p:nvSpPr>
        <p:spPr>
          <a:xfrm>
            <a:off x="7543800" y="1143000"/>
            <a:ext cx="838080" cy="533520"/>
          </a:xfrm>
          <a:prstGeom prst="wedgeRectCallout">
            <a:avLst>
              <a:gd name="adj1" fmla="val -60037"/>
              <a:gd name="adj2" fmla="val 377379"/>
            </a:avLst>
          </a:prstGeom>
          <a:solidFill>
            <a:srgbClr val="ffff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USA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Census methodology – Main results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548280" indent="-5482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 Narrow"/>
              </a:rPr>
              <a:t>Trend to move away from traditional census, particularly in EU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548280" indent="-5482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 Narrow"/>
              </a:rPr>
              <a:t>More than half of EU countries will use registers in 2011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548280" indent="-5482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 Narrow"/>
              </a:rPr>
              <a:t>Diversification of methodology: combined  approach becoming most adopted in EU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548280" indent="-5482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 Narrow"/>
              </a:rPr>
              <a:t>Outside EU, traditional census still the most common method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Enumeration methods in </a:t>
            </a:r>
            <a:r>
              <a:rPr b="1" lang="fr-CH" sz="3200" spc="-1" strike="noStrike">
                <a:solidFill>
                  <a:srgbClr val="ff0000"/>
                </a:solidFill>
                <a:latin typeface="Arial Narrow"/>
              </a:rPr>
              <a:t>traditional censuses </a:t>
            </a:r>
            <a:br>
              <a:rPr sz="3200"/>
            </a:b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EU countries – 2011 round</a:t>
            </a:r>
            <a:endParaRPr b="0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600200"/>
          <a:ext cx="8153280" cy="4764240"/>
        </p:xfrm>
        <a:graphic>
          <a:graphicData uri="http://schemas.openxmlformats.org/drawingml/2006/table">
            <a:tbl>
              <a:tblPr/>
              <a:tblGrid>
                <a:gridCol w="2057400"/>
                <a:gridCol w="1676520"/>
                <a:gridCol w="1523880"/>
                <a:gridCol w="1523880"/>
                <a:gridCol w="137160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Face-to-face interview 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Self-enum. (quest.)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Self-enum. (internet)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 of countries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Bul, Cyp,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Gre, Rom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Ire, Lu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Mal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Lux, Sk, UK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Hun, Por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untries using metho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Enumeration methods in </a:t>
            </a:r>
            <a:r>
              <a:rPr b="1" lang="fr-CH" sz="3200" spc="-1" strike="noStrike">
                <a:solidFill>
                  <a:srgbClr val="ff0000"/>
                </a:solidFill>
                <a:latin typeface="Arial Narrow"/>
              </a:rPr>
              <a:t>traditional censuses </a:t>
            </a:r>
            <a:br>
              <a:rPr sz="3200"/>
            </a:b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Other ECE countries – 2010 round</a:t>
            </a:r>
            <a:endParaRPr b="0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1828800"/>
          <a:ext cx="7924680" cy="3438360"/>
        </p:xfrm>
        <a:graphic>
          <a:graphicData uri="http://schemas.openxmlformats.org/drawingml/2006/table">
            <a:tbl>
              <a:tblPr/>
              <a:tblGrid>
                <a:gridCol w="1828800"/>
                <a:gridCol w="1676160"/>
                <a:gridCol w="1524240"/>
                <a:gridCol w="1523880"/>
                <a:gridCol w="13716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Face-to-face interview 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Self-enum. (quest.)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Self-enum. (internet)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 of countries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SEE, CIS)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kraine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nada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untries using metho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1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Enumeration methods in </a:t>
            </a:r>
            <a:r>
              <a:rPr b="1" lang="fr-CH" sz="3200" spc="-1" strike="noStrike">
                <a:solidFill>
                  <a:srgbClr val="ff0000"/>
                </a:solidFill>
                <a:latin typeface="Arial Narrow"/>
              </a:rPr>
              <a:t>traditional censuses</a:t>
            </a: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Main results: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 Narrow"/>
              </a:rPr>
              <a:t>In EU, even traditional censuses often include multiple enumeration methods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 Narrow"/>
              </a:rPr>
              <a:t>Outside EU, most traditional censuses conducted by face-to-face interview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 Narrow"/>
              </a:rPr>
              <a:t>Internet census offered in 6 countries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Enumeration methods in </a:t>
            </a:r>
            <a:r>
              <a:rPr b="1" lang="fr-CH" sz="3200" spc="-1" strike="noStrike">
                <a:solidFill>
                  <a:srgbClr val="ff0000"/>
                </a:solidFill>
                <a:latin typeface="Arial Narrow"/>
              </a:rPr>
              <a:t>combined censuses</a:t>
            </a:r>
            <a:br>
              <a:rPr sz="3200"/>
            </a:b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EU countries – 2011 round</a:t>
            </a:r>
            <a:endParaRPr b="0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1523880"/>
          <a:ext cx="8076960" cy="5100840"/>
        </p:xfrm>
        <a:graphic>
          <a:graphicData uri="http://schemas.openxmlformats.org/drawingml/2006/table">
            <a:tbl>
              <a:tblPr/>
              <a:tblGrid>
                <a:gridCol w="1218960"/>
                <a:gridCol w="1371600"/>
                <a:gridCol w="1295640"/>
                <a:gridCol w="1295280"/>
                <a:gridCol w="1447920"/>
                <a:gridCol w="1447560"/>
              </a:tblGrid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Face-to-face interview 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Self-enum. (quest.)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Self-enum. (internet)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Registers + survey data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 of countries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Bel, NL, Slovenia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Ita, Spa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Est, Lat, Lit, Po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Cze, Ger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untries using metho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Enumeration methods in </a:t>
            </a:r>
            <a:r>
              <a:rPr b="1" lang="fr-CH" sz="3200" spc="-1" strike="noStrike">
                <a:solidFill>
                  <a:srgbClr val="ff0000"/>
                </a:solidFill>
                <a:latin typeface="Arial Narrow"/>
              </a:rPr>
              <a:t>combined censuses</a:t>
            </a:r>
            <a:br>
              <a:rPr sz="3200"/>
            </a:b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Other ECE countries – 2010 round</a:t>
            </a:r>
            <a:endParaRPr b="0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76520"/>
          <a:ext cx="8077320" cy="4578120"/>
        </p:xfrm>
        <a:graphic>
          <a:graphicData uri="http://schemas.openxmlformats.org/drawingml/2006/table">
            <a:tbl>
              <a:tblPr/>
              <a:tblGrid>
                <a:gridCol w="1219320"/>
                <a:gridCol w="1371600"/>
                <a:gridCol w="1295280"/>
                <a:gridCol w="1295280"/>
                <a:gridCol w="1447920"/>
                <a:gridCol w="1447920"/>
              </a:tblGrid>
              <a:tr h="12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Face-to-face interview 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Self-enum. (quest.)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Self-enum. (internet)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Registers + survey data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 of countries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celand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witz.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urkey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srael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Countries using metho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 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Enumeration methods in </a:t>
            </a:r>
            <a:r>
              <a:rPr b="1" lang="fr-CH" sz="3200" spc="-1" strike="noStrike">
                <a:solidFill>
                  <a:srgbClr val="ff0000"/>
                </a:solidFill>
                <a:latin typeface="Arial Narrow"/>
              </a:rPr>
              <a:t>combined censuses</a:t>
            </a: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  Main results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 Narrow"/>
              </a:rPr>
              <a:t>Different combinations of enumeration methods adopted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 Narrow"/>
              </a:rPr>
              <a:t>Majority of countries use 3 or more enumeration methods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 Narrow"/>
              </a:rPr>
              <a:t>Internet census offered in 9 countries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800000"/>
                </a:solidFill>
                <a:latin typeface="Arial Narrow"/>
              </a:rPr>
              <a:t>Content of presentation: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Census methods in 2010 and 2000 round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Enumeration methods in 2010 and 2000 round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Census evaluation (general results)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Dissemination of census data (general results)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Census evaluation – Main results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536040" indent="-536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 Narrow"/>
              </a:rPr>
              <a:t>Most countries plan to conduct some form of census evaluation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536040" indent="-536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 Narrow"/>
              </a:rPr>
              <a:t>No evaluation for few countries with register-based or combined census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536040" indent="-536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 Narrow"/>
              </a:rPr>
              <a:t>Method reported by most countries is  PES (16 EU + 18 other ECE countries)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536040" indent="-536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 Narrow"/>
              </a:rPr>
              <a:t>Sample size frequently 1% or less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536040" indent="-536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 Narrow"/>
              </a:rPr>
              <a:t>10% coverage &amp; quality check in CIS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Data dissemination – Main results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 Narrow"/>
              </a:rPr>
              <a:t>Paper publications still popular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 Narrow"/>
              </a:rPr>
              <a:t>Web widely used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 Narrow"/>
              </a:rPr>
              <a:t>GIS mapping tools used by majority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Arial Narrow"/>
              </a:rPr>
              <a:t>Most countries charge for individual data requests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Data from 2009 UNSD/UNECE survey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Objective: Collect information on status of preparations for census of 2010/2011 round 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Conducted in June 2009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World wide (UNSD + Regional Commissions)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Different countries at different stage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4 CIS countries had already taken censu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Presentation: 50 ECE countries (incl. 27 EU)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Census methods in Europe - 2010 round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127160"/>
            <a:ext cx="60264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Census methods – 2010/2011 and 2000 rounds</a:t>
            </a:r>
            <a:endParaRPr b="0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600200"/>
          <a:ext cx="8001000" cy="491184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1067040"/>
                <a:gridCol w="1066680"/>
                <a:gridCol w="1143000"/>
                <a:gridCol w="1141560"/>
                <a:gridCol w="1144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Tradi- tional 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Com- bin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Reg. bas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Other metho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No census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EU 20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EU 200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 ECE 201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 ECE 200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TAL ECE 201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TAL ECE 200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Census methods – 2010/2011 and 2000 rounds</a:t>
            </a:r>
            <a:endParaRPr b="0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600200"/>
          <a:ext cx="8001000" cy="491184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1067040"/>
                <a:gridCol w="1066680"/>
                <a:gridCol w="1143000"/>
                <a:gridCol w="1141560"/>
                <a:gridCol w="1144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Tradi- tional 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Com- bin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Reg. bas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Other metho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No census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EU 20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EU 200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 ECE 201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 ECE 200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TAL ECE 201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TAL ECE 200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65" name="Ovale 4"/>
          <p:cNvSpPr/>
          <p:nvPr/>
        </p:nvSpPr>
        <p:spPr>
          <a:xfrm>
            <a:off x="2362320" y="2362320"/>
            <a:ext cx="91440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6" name="Ovale 5"/>
          <p:cNvSpPr/>
          <p:nvPr/>
        </p:nvSpPr>
        <p:spPr>
          <a:xfrm>
            <a:off x="2438280" y="2362320"/>
            <a:ext cx="762120" cy="1447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800000"/>
                </a:solidFill>
                <a:latin typeface="Arial Narrow"/>
              </a:rPr>
              <a:t>Census methods – 2010/2011 and 2000 rounds</a:t>
            </a:r>
            <a:endParaRPr b="0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600200"/>
          <a:ext cx="8001000" cy="491184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1067040"/>
                <a:gridCol w="1066680"/>
                <a:gridCol w="1143000"/>
                <a:gridCol w="1141560"/>
                <a:gridCol w="1144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Tradi- tional 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Com- bin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Reg. bas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Other metho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No census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a8"/>
                          </a:solidFill>
                          <a:latin typeface="Arial Narro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EU 20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EU 200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 ECE 201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 ECE 200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TAL ECE 201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TAL ECE 2000 round</a:t>
                      </a:r>
                      <a:endParaRPr b="0" lang="en-US" sz="20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70" name="Ovale 4"/>
          <p:cNvSpPr/>
          <p:nvPr/>
        </p:nvSpPr>
        <p:spPr>
          <a:xfrm>
            <a:off x="3200400" y="2286000"/>
            <a:ext cx="236232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71" name="Ovale 5"/>
          <p:cNvSpPr/>
          <p:nvPr/>
        </p:nvSpPr>
        <p:spPr>
          <a:xfrm>
            <a:off x="3276720" y="2286000"/>
            <a:ext cx="2438280" cy="14479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Census methods - 2011 and 2000 round </a:t>
            </a:r>
            <a:br>
              <a:rPr sz="3600"/>
            </a:b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EU countries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1752480"/>
          <a:ext cx="7848360" cy="4267440"/>
        </p:xfrm>
        <a:graphic>
          <a:graphicData uri="http://schemas.openxmlformats.org/drawingml/2006/table">
            <a:tbl>
              <a:tblPr/>
              <a:tblGrid>
                <a:gridCol w="1204920"/>
                <a:gridCol w="1461960"/>
                <a:gridCol w="914400"/>
                <a:gridCol w="914400"/>
                <a:gridCol w="1219320"/>
                <a:gridCol w="1066680"/>
                <a:gridCol w="106668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 2010 census roun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-tion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-bin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tional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bined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census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Census methods - 2011 and 2000 round </a:t>
            </a:r>
            <a:br>
              <a:rPr sz="3600"/>
            </a:b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EU countries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62120" y="1752480"/>
          <a:ext cx="7848360" cy="4267440"/>
        </p:xfrm>
        <a:graphic>
          <a:graphicData uri="http://schemas.openxmlformats.org/drawingml/2006/table">
            <a:tbl>
              <a:tblPr/>
              <a:tblGrid>
                <a:gridCol w="1204920"/>
                <a:gridCol w="1461960"/>
                <a:gridCol w="914400"/>
                <a:gridCol w="914400"/>
                <a:gridCol w="1219320"/>
                <a:gridCol w="1066680"/>
                <a:gridCol w="106668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 2010 census roun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-tion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-bin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tional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bined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census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a8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Fumetto 1 3"/>
          <p:cNvSpPr/>
          <p:nvPr/>
        </p:nvSpPr>
        <p:spPr>
          <a:xfrm>
            <a:off x="3505320" y="3657600"/>
            <a:ext cx="1600200" cy="1219320"/>
          </a:xfrm>
          <a:prstGeom prst="wedgeRect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77" name="Fumetto 1 5"/>
          <p:cNvSpPr/>
          <p:nvPr/>
        </p:nvSpPr>
        <p:spPr>
          <a:xfrm>
            <a:off x="838080" y="1066680"/>
            <a:ext cx="2133720" cy="2210040"/>
          </a:xfrm>
          <a:prstGeom prst="wedgeRectCallout">
            <a:avLst>
              <a:gd name="adj1" fmla="val 141518"/>
              <a:gd name="adj2" fmla="val 79814"/>
            </a:avLst>
          </a:prstGeom>
          <a:solidFill>
            <a:srgbClr val="ff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Belgium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Latvia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Netherlands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Slovenia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Spain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78" name="Fumetto 1 11"/>
          <p:cNvSpPr/>
          <p:nvPr/>
        </p:nvSpPr>
        <p:spPr>
          <a:xfrm>
            <a:off x="4648320" y="5943600"/>
            <a:ext cx="1447560" cy="914400"/>
          </a:xfrm>
          <a:prstGeom prst="wedgeRectCallout">
            <a:avLst>
              <a:gd name="adj1" fmla="val 52851"/>
              <a:gd name="adj2" fmla="val -209203"/>
            </a:avLst>
          </a:prstGeom>
          <a:solidFill>
            <a:srgbClr val="ff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Denmark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</a:rPr>
              <a:t>Finland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4:08:57Z</dcterms:created>
  <dc:creator>Paolo Valente</dc:creator>
  <dc:description/>
  <dc:language>en-US</dc:language>
  <cp:lastModifiedBy>Valente</cp:lastModifiedBy>
  <dcterms:modified xsi:type="dcterms:W3CDTF">2010-07-07T07:37:28Z</dcterms:modified>
  <cp:revision>178</cp:revision>
  <dc:subject/>
  <dc:title>Title here</dc:title>
</cp:coreProperties>
</file>