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B6F-A819-40BB-8DD3-853D6FAE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DF0-C48F-416F-BD19-F78D66F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03D-5FF5-4FCB-8CAC-AB1093E6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FBD-2FEC-4DB5-B5E2-4522E1B4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2E4-B86A-429B-8375-CFE6B29F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9CB-2F70-4436-9F82-D7ACBB7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396-F511-42BA-92B1-354B128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E62-EDA0-41BC-A1E7-BB8A417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059-0259-4C75-8661-E7A34F41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96F-AC98-4053-9C79-AF64D0D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2E6-B986-4082-BA05-5A575B3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A1F-DD0C-474D-8AD3-67298DA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0DD1-6764-4000-9F4F-E1980E320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280" y="188892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447"/>
                </a:solidFill>
                <a:latin typeface="Tahoma"/>
              </a:rPr>
              <a:t>Russian Federation</a:t>
            </a:r>
            <a:r>
              <a:rPr b="1" lang="ru-RU" sz="4400" spc="-1" strike="noStrike">
                <a:solidFill>
                  <a:srgbClr val="ff8447"/>
                </a:solidFill>
                <a:latin typeface="Tahoma"/>
              </a:rPr>
              <a:t>:</a:t>
            </a:r>
            <a:br>
              <a:rPr sz="4400"/>
            </a:br>
            <a:r>
              <a:rPr b="0" lang="en-US" sz="3600" spc="-1" strike="noStrike">
                <a:solidFill>
                  <a:srgbClr val="ff8447"/>
                </a:solidFill>
                <a:latin typeface="Tahoma"/>
              </a:rPr>
              <a:t>planning and</a:t>
            </a:r>
            <a:r>
              <a:rPr b="0" lang="en-US" sz="4400" spc="-1" strike="noStrike">
                <a:solidFill>
                  <a:srgbClr val="ff8447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8447"/>
                </a:solidFill>
                <a:latin typeface="Tahoma"/>
              </a:rPr>
              <a:t>prospects for</a:t>
            </a:r>
            <a:br>
              <a:rPr sz="3600"/>
            </a:br>
            <a:r>
              <a:rPr b="0" lang="en-US" sz="3600" spc="-1" strike="noStrike">
                <a:solidFill>
                  <a:srgbClr val="ff8447"/>
                </a:solidFill>
                <a:latin typeface="Tahoma"/>
              </a:rPr>
              <a:t>the </a:t>
            </a:r>
            <a:r>
              <a:rPr b="0" lang="ru-RU" sz="3600" spc="-1" strike="noStrike">
                <a:solidFill>
                  <a:srgbClr val="ff8447"/>
                </a:solidFill>
                <a:latin typeface="Tahoma"/>
              </a:rPr>
              <a:t>2020 </a:t>
            </a:r>
            <a:r>
              <a:rPr b="0" lang="en-US" sz="3600" spc="-1" strike="noStrike">
                <a:solidFill>
                  <a:srgbClr val="ff8447"/>
                </a:solidFill>
                <a:latin typeface="Tahoma"/>
              </a:rPr>
              <a:t>census 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9560" y="5533560"/>
            <a:ext cx="79963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8447"/>
                </a:solidFill>
                <a:latin typeface="Tahoma"/>
              </a:rPr>
              <a:t>Irina Zbars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8447"/>
                </a:solidFill>
                <a:latin typeface="Tahoma"/>
              </a:rPr>
              <a:t>Director of the Department for Popula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8447"/>
                </a:solidFill>
                <a:latin typeface="Tahoma"/>
              </a:rPr>
              <a:t>Healthcare Statistics</a:t>
            </a:r>
            <a:r>
              <a:rPr b="0" i="1" lang="ru-RU" sz="1800" spc="-1" strike="noStrike">
                <a:solidFill>
                  <a:srgbClr val="ff8447"/>
                </a:solidFill>
                <a:latin typeface="Tahoma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ff8447"/>
                </a:solidFill>
                <a:latin typeface="Tahoma"/>
              </a:rPr>
              <a:t>Federal State Statistic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нлвый-лого"/>
          <p:cNvPicPr/>
          <p:nvPr/>
        </p:nvPicPr>
        <p:blipFill>
          <a:blip r:embed="rId2"/>
          <a:stretch/>
        </p:blipFill>
        <p:spPr>
          <a:xfrm>
            <a:off x="195120" y="298440"/>
            <a:ext cx="58262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260280" y="3078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447"/>
                </a:solidFill>
                <a:latin typeface="Tahoma"/>
              </a:rPr>
              <a:t>IT mapping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449280" y="993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ing of a course of preparation and conducting the population census using IT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166680" y="1900080"/>
            <a:ext cx="2306520" cy="1238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Preparation for the population census</a:t>
            </a:r>
            <a:br>
              <a:rPr sz="1500"/>
            </a:b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(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the census division into districts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2717640" y="1973160"/>
            <a:ext cx="452520" cy="11304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440160" y="1900080"/>
            <a:ext cx="2306520" cy="1238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Conducting the population cens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5991120" y="2030400"/>
            <a:ext cx="452520" cy="11304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6643800" y="1900080"/>
            <a:ext cx="2306520" cy="1238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The population census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1"/>
          <p:cNvPicPr/>
          <p:nvPr/>
        </p:nvPicPr>
        <p:blipFill>
          <a:blip r:embed="rId4"/>
          <a:stretch/>
        </p:blipFill>
        <p:spPr>
          <a:xfrm>
            <a:off x="206280" y="3465360"/>
            <a:ext cx="2190960" cy="2921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1054080" y="3516480"/>
            <a:ext cx="136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traha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1969920" y="3814920"/>
            <a:ext cx="744840" cy="5191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eate census units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372960" y="5472000"/>
            <a:ext cx="6397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 55%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6-60%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1-65%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6-70%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71-75%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76-80%</a:t>
            </a:r>
            <a:br>
              <a:rPr sz="500"/>
            </a:b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%</a:t>
            </a:r>
            <a:br>
              <a:rPr sz="500"/>
            </a:b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90%</a:t>
            </a:r>
            <a:br>
              <a:rPr sz="500"/>
            </a:b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%</a:t>
            </a:r>
            <a:br>
              <a:rPr sz="500"/>
            </a:b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-100%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96920" y="52070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ily monit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0" descr="2"/>
          <p:cNvPicPr/>
          <p:nvPr/>
        </p:nvPicPr>
        <p:blipFill>
          <a:blip r:embed="rId5"/>
          <a:stretch/>
        </p:blipFill>
        <p:spPr>
          <a:xfrm>
            <a:off x="3395520" y="3465360"/>
            <a:ext cx="2187720" cy="292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1"/>
          <p:cNvSpPr/>
          <p:nvPr/>
        </p:nvSpPr>
        <p:spPr>
          <a:xfrm>
            <a:off x="4176720" y="3537000"/>
            <a:ext cx="1362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traha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362400" y="5746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ily monit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479760" y="6032520"/>
            <a:ext cx="6397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 80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-90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-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5129280" y="3833640"/>
            <a:ext cx="900000" cy="48132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umerated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6,3%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all occupied 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5" descr="3"/>
          <p:cNvPicPr/>
          <p:nvPr/>
        </p:nvPicPr>
        <p:blipFill>
          <a:blip r:embed="rId6"/>
          <a:stretch/>
        </p:blipFill>
        <p:spPr>
          <a:xfrm>
            <a:off x="6429240" y="3465360"/>
            <a:ext cx="2178360" cy="29228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6"/>
          <p:cNvSpPr/>
          <p:nvPr/>
        </p:nvSpPr>
        <p:spPr>
          <a:xfrm>
            <a:off x="7953480" y="3782880"/>
            <a:ext cx="971280" cy="468360"/>
          </a:xfr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2,9%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s  with higher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7221600" y="3476520"/>
            <a:ext cx="13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traha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6362640" y="57434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 of persons with higher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6515280" y="6014880"/>
            <a:ext cx="6397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-13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14-15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16-18%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19-2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1" descr="БД"/>
          <p:cNvPicPr/>
          <p:nvPr/>
        </p:nvPicPr>
        <p:blipFill>
          <a:blip r:embed="rId1"/>
          <a:stretch/>
        </p:blipFill>
        <p:spPr>
          <a:xfrm>
            <a:off x="633240" y="4319640"/>
            <a:ext cx="1119240" cy="121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верхний колонтитул"/>
          <p:cNvPicPr/>
          <p:nvPr/>
        </p:nvPicPr>
        <p:blipFill>
          <a:blip r:embed="rId3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457200" y="187200"/>
            <a:ext cx="8229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8447"/>
                </a:solidFill>
                <a:latin typeface="Tahoma"/>
              </a:rPr>
              <a:t>RESULTS OF 20</a:t>
            </a:r>
            <a:r>
              <a:rPr b="0" lang="ru-RU" sz="2100" spc="-1" strike="noStrike">
                <a:solidFill>
                  <a:srgbClr val="ff8447"/>
                </a:solidFill>
                <a:latin typeface="Tahoma"/>
              </a:rPr>
              <a:t>10</a:t>
            </a:r>
            <a:r>
              <a:rPr b="0" lang="en-US" sz="2100" spc="-1" strike="noStrike">
                <a:solidFill>
                  <a:srgbClr val="ff8447"/>
                </a:solidFill>
                <a:latin typeface="Tahoma"/>
              </a:rPr>
              <a:t> RUSSIAN POPULATION CENS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448320" y="1084320"/>
            <a:ext cx="25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pril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6448320" y="2278080"/>
            <a:ext cx="24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11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6448320" y="3495600"/>
            <a:ext cx="23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Предв_ит"/>
          <p:cNvPicPr/>
          <p:nvPr/>
        </p:nvPicPr>
        <p:blipFill>
          <a:blip r:embed="rId4"/>
          <a:stretch/>
        </p:blipFill>
        <p:spPr>
          <a:xfrm>
            <a:off x="450720" y="668160"/>
            <a:ext cx="11858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2"/>
          <p:cNvPicPr/>
          <p:nvPr/>
        </p:nvPicPr>
        <p:blipFill>
          <a:blip r:embed="rId5"/>
          <a:stretch/>
        </p:blipFill>
        <p:spPr>
          <a:xfrm>
            <a:off x="368280" y="2041560"/>
            <a:ext cx="1571760" cy="954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2"/>
          <p:cNvSpPr/>
          <p:nvPr/>
        </p:nvSpPr>
        <p:spPr>
          <a:xfrm>
            <a:off x="2190600" y="825480"/>
            <a:ext cx="3511800" cy="933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P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RELIMINARY 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RESULTS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2010 ALL-RUSSIA POPULATION CENS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5905440" y="717480"/>
            <a:ext cx="452520" cy="11304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2173320" y="1986120"/>
            <a:ext cx="3511440" cy="944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FINAL 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RESULTS OF 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THE 2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ALL-RUSSIA POPULATION CENSUS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2225520" y="3160800"/>
            <a:ext cx="3511800" cy="1063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O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FFICIAL PUBLICATION OF RESULTS OF THE </a:t>
            </a: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ALL-RUSSIA POPULATION CENS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2181240" y="5594400"/>
            <a:ext cx="3511440" cy="1063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NON-PROCEDURAL INQUIRIES  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RESULT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ED 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F</a:t>
            </a: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ROM THE 2010</a:t>
            </a:r>
            <a:r>
              <a:rPr b="1" lang="ru-RU" sz="15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ALL-RUSSIA POPULATION CENS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5905440" y="1868400"/>
            <a:ext cx="452520" cy="121608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905440" y="3139920"/>
            <a:ext cx="452520" cy="110664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905440" y="5516640"/>
            <a:ext cx="452520" cy="118404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6448320" y="5799240"/>
            <a:ext cx="264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Intercensa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Без Имени-1"/>
          <p:cNvPicPr/>
          <p:nvPr/>
        </p:nvPicPr>
        <p:blipFill>
          <a:blip r:embed="rId6"/>
          <a:stretch/>
        </p:blipFill>
        <p:spPr>
          <a:xfrm>
            <a:off x="531720" y="3201840"/>
            <a:ext cx="1192320" cy="111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uperCross_2"/>
          <p:cNvPicPr/>
          <p:nvPr/>
        </p:nvPicPr>
        <p:blipFill>
          <a:blip r:embed="rId7"/>
          <a:stretch/>
        </p:blipFill>
        <p:spPr>
          <a:xfrm>
            <a:off x="314280" y="5600880"/>
            <a:ext cx="162900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нлвый-лого"/>
          <p:cNvPicPr/>
          <p:nvPr/>
        </p:nvPicPr>
        <p:blipFill>
          <a:blip r:embed="rId8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"/>
          <p:cNvSpPr/>
          <p:nvPr/>
        </p:nvSpPr>
        <p:spPr>
          <a:xfrm>
            <a:off x="2225520" y="4375080"/>
            <a:ext cx="3511800" cy="1063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8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be0e3"/>
                </a:solidFill>
                <a:latin typeface="Tahoma"/>
              </a:rPr>
              <a:t>COMPILATION OF MULTI-PURPOSE REGIONAL SAMPLE DATABASES FROM CENSUS OUTC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5905440" y="4314960"/>
            <a:ext cx="452520" cy="118404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6448320" y="470844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122400" y="2219400"/>
            <a:ext cx="4068720" cy="11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5035680" y="1133640"/>
            <a:ext cx="3684600" cy="106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"/>
          <p:cNvSpPr/>
          <p:nvPr/>
        </p:nvSpPr>
        <p:spPr>
          <a:xfrm>
            <a:off x="633240" y="1317600"/>
            <a:ext cx="2703600" cy="492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075280" y="1201680"/>
            <a:ext cx="3641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comprehensive survey on the population living condition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time-use survey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in social programm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migrant labo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95360" y="225360"/>
            <a:ext cx="83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447"/>
                </a:solidFill>
                <a:latin typeface="Tahoma"/>
              </a:rPr>
              <a:t>SOCIAL AND DEMOGRAPHIC STATISTICAL SURV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5792760" y="2508120"/>
            <a:ext cx="2711520" cy="497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42920" y="2301840"/>
            <a:ext cx="41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impact of human behaviour on the population health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diet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quality and availability of services in education, healthcare and social services,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assistance to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population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employ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5060880" y="3648240"/>
            <a:ext cx="3768840" cy="66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631800" y="3692520"/>
            <a:ext cx="2766960" cy="482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40440" y="3692520"/>
            <a:ext cx="37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 family planning survey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in social programmes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131760" y="4587840"/>
            <a:ext cx="3678120" cy="4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5829480" y="4638600"/>
            <a:ext cx="2760480" cy="486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71440" y="4705200"/>
            <a:ext cx="430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comprehensive survey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living 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42200" y="606744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8"/>
          <p:cNvSpPr/>
          <p:nvPr/>
        </p:nvSpPr>
        <p:spPr>
          <a:xfrm>
            <a:off x="5168880" y="5535720"/>
            <a:ext cx="3116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579600" y="5537160"/>
            <a:ext cx="2766960" cy="482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5246640" y="5673600"/>
            <a:ext cx="30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HE ALL-RUSSIA POPULATION CEN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"/>
          <p:cNvPicPr/>
          <p:nvPr/>
        </p:nvPicPr>
        <p:blipFill>
          <a:blip r:embed="rId4"/>
          <a:stretch/>
        </p:blipFill>
        <p:spPr>
          <a:xfrm rot="1086000">
            <a:off x="4240080" y="2568240"/>
            <a:ext cx="1405080" cy="60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"/>
          <p:cNvPicPr/>
          <p:nvPr/>
        </p:nvPicPr>
        <p:blipFill>
          <a:blip r:embed="rId5"/>
          <a:stretch/>
        </p:blipFill>
        <p:spPr>
          <a:xfrm rot="19755600">
            <a:off x="3517560" y="1204920"/>
            <a:ext cx="1432080" cy="768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"/>
          <p:cNvPicPr/>
          <p:nvPr/>
        </p:nvPicPr>
        <p:blipFill>
          <a:blip r:embed="rId6"/>
          <a:stretch/>
        </p:blipFill>
        <p:spPr>
          <a:xfrm rot="19755600">
            <a:off x="3579480" y="3490560"/>
            <a:ext cx="1431720" cy="768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"/>
          <p:cNvPicPr/>
          <p:nvPr/>
        </p:nvPicPr>
        <p:blipFill>
          <a:blip r:embed="rId7"/>
          <a:stretch/>
        </p:blipFill>
        <p:spPr>
          <a:xfrm rot="1086000">
            <a:off x="3927600" y="4524120"/>
            <a:ext cx="1641240" cy="704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"/>
          <p:cNvPicPr/>
          <p:nvPr/>
        </p:nvPicPr>
        <p:blipFill>
          <a:blip r:embed="rId8"/>
          <a:stretch/>
        </p:blipFill>
        <p:spPr>
          <a:xfrm rot="19755600">
            <a:off x="3593880" y="5400360"/>
            <a:ext cx="1431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954680" y="1735200"/>
            <a:ext cx="411480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22400" y="792000"/>
            <a:ext cx="402408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cap="rnd" w="1908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246720"/>
            <a:ext cx="9144000" cy="547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"/>
          <p:cNvSpPr/>
          <p:nvPr/>
        </p:nvSpPr>
        <p:spPr>
          <a:xfrm>
            <a:off x="5848200" y="1095480"/>
            <a:ext cx="2767320" cy="482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68120" y="789120"/>
            <a:ext cx="397224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Tahoma"/>
              </a:rPr>
              <a:t>The All-RUSSIA POPULATION CEN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comprehensive survey on the population living 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in social programm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migrant labo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continuing education of the population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719280" y="1962000"/>
            <a:ext cx="2703240" cy="492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024520" y="1744560"/>
            <a:ext cx="4197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The time-use surv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The survey on the population income and inclusion in social programm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The survey on quality and availability of services in education, healthcare and social services, assistance to employment</a:t>
            </a: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495360" y="92160"/>
            <a:ext cx="83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447"/>
                </a:solidFill>
                <a:latin typeface="Arial"/>
              </a:rPr>
              <a:t>SOCIAL AND DEMOGRAPHIC STATISTICAL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5878440" y="2927520"/>
            <a:ext cx="2711520" cy="496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06200" y="2543040"/>
            <a:ext cx="3962520" cy="13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cap="rnd" w="1908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81080" y="2589120"/>
            <a:ext cx="40734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comprehensive survey on the population living condition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impact of human behaviour on the population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diet 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 in social programm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migrant labo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619200" y="4073400"/>
            <a:ext cx="2766960" cy="482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875120" y="3746520"/>
            <a:ext cx="4213440" cy="99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4950000" y="3722760"/>
            <a:ext cx="412740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 family planning surv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in social programme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quality and availability of services in education, healthcare and social services, assistance to employment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5905440" y="4876920"/>
            <a:ext cx="2703600" cy="492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109440" y="4692600"/>
            <a:ext cx="4027680" cy="109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52360" y="4695840"/>
            <a:ext cx="394344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comprehensive survey on the population living conditions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in social program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migrant labo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employment of vocational education gradua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135000" y="5978520"/>
            <a:ext cx="2766960" cy="482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Tahoma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4253040" y="5499000"/>
            <a:ext cx="4194000" cy="11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4324320" y="5581800"/>
            <a:ext cx="408312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HE POPULATION MICRO CEN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the population income and inclusion in social program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survey on quality and availability of services in education, healthcare and social services, assistance to employment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3" descr=""/>
          <p:cNvPicPr/>
          <p:nvPr/>
        </p:nvPicPr>
        <p:blipFill>
          <a:blip r:embed="rId3"/>
          <a:stretch/>
        </p:blipFill>
        <p:spPr>
          <a:xfrm rot="19755600">
            <a:off x="4289040" y="947880"/>
            <a:ext cx="1432080" cy="76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4"/>
          <a:stretch/>
        </p:blipFill>
        <p:spPr>
          <a:xfrm rot="1086000">
            <a:off x="3417840" y="1898280"/>
            <a:ext cx="1405080" cy="60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"/>
          <p:cNvPicPr/>
          <p:nvPr/>
        </p:nvPicPr>
        <p:blipFill>
          <a:blip r:embed="rId5"/>
          <a:stretch/>
        </p:blipFill>
        <p:spPr>
          <a:xfrm rot="19755600">
            <a:off x="4250880" y="2862000"/>
            <a:ext cx="1563840" cy="83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"/>
          <p:cNvPicPr/>
          <p:nvPr/>
        </p:nvPicPr>
        <p:blipFill>
          <a:blip r:embed="rId6"/>
          <a:stretch/>
        </p:blipFill>
        <p:spPr>
          <a:xfrm rot="1086000">
            <a:off x="3392640" y="4038120"/>
            <a:ext cx="1404720" cy="60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"/>
          <p:cNvPicPr/>
          <p:nvPr/>
        </p:nvPicPr>
        <p:blipFill>
          <a:blip r:embed="rId7"/>
          <a:stretch/>
        </p:blipFill>
        <p:spPr>
          <a:xfrm rot="19755600">
            <a:off x="4306680" y="4819680"/>
            <a:ext cx="1506240" cy="80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"/>
          <p:cNvPicPr/>
          <p:nvPr/>
        </p:nvPicPr>
        <p:blipFill>
          <a:blip r:embed="rId8"/>
          <a:stretch/>
        </p:blipFill>
        <p:spPr>
          <a:xfrm rot="1086000">
            <a:off x="2957040" y="5884920"/>
            <a:ext cx="118908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9" descr="нлвый-лого"/>
          <p:cNvPicPr/>
          <p:nvPr/>
        </p:nvPicPr>
        <p:blipFill>
          <a:blip r:embed="rId9"/>
          <a:srcRect l="0" t="0" r="72936" b="0"/>
          <a:stretch/>
        </p:blipFill>
        <p:spPr>
          <a:xfrm>
            <a:off x="8242200" y="6067440"/>
            <a:ext cx="8492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152280" y="168120"/>
            <a:ext cx="88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447"/>
                </a:solidFill>
                <a:latin typeface="Tahoma"/>
              </a:rPr>
              <a:t>THE SYSTEM OF THE POPULATION STATISTICAL SURVEY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447"/>
                </a:solidFill>
                <a:latin typeface="Tahoma"/>
              </a:rPr>
              <a:t>SOCIAL AND DEMOGRAPH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47640" y="988920"/>
            <a:ext cx="80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POPULATION LIVING AND LIFE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8440" y="930240"/>
            <a:ext cx="9064800" cy="211140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5440" y="1462680"/>
            <a:ext cx="1874880" cy="11019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LIVING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00 households in 2011 an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6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000  households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two years from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841400" y="1450080"/>
            <a:ext cx="1892520" cy="11019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M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00 households in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15 000 households every five years further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618000" y="1451520"/>
            <a:ext cx="1760400" cy="11019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-USE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000 households in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45 000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useholds every five years further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191200" y="1446840"/>
            <a:ext cx="2120760" cy="11019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ACT OF HUMAN BEHAVIOUR ON POPULATION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000 households every five years from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7172280" y="1448640"/>
            <a:ext cx="1838520" cy="1098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ET OF THE POPUL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000 households every five years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6080" y="3130560"/>
            <a:ext cx="3592440" cy="14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49400" y="3168720"/>
            <a:ext cx="3355920" cy="1376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RVEYS ON THE POPULATION INCOME AND INCLUSION IN SOCIAL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00 households in 2012, 45 000 households every year from 20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160 000 households every five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36360" y="4670280"/>
            <a:ext cx="3619800" cy="138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12680" y="4726080"/>
            <a:ext cx="3438720" cy="128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RVEY ON QUALITY AND AVAILABILITY  OF SERVICES IN EDUCATION, HEALTHCARE AND SOCI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000 households in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48 000 households  every two year later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3699000" y="3122640"/>
            <a:ext cx="5389560" cy="294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4051440" y="3224160"/>
            <a:ext cx="4609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SURVEYS ON INTEGRATION TREND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LABOUR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odules for employment survey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3743280" y="4291920"/>
            <a:ext cx="1879560" cy="10112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GRANT LABOU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 000 households  every two years from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451480" y="4334760"/>
            <a:ext cx="2128680" cy="10065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PLOYMENT OF VOCATIONAL EDUCATION GRADUATES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00 households every two years from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7478640" y="4317120"/>
            <a:ext cx="1460520" cy="15541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INUING EDUCATION OF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0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useholds every five years from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верхний колонтитул"/>
          <p:cNvPicPr/>
          <p:nvPr/>
        </p:nvPicPr>
        <p:blipFill>
          <a:blip r:embed="rId1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верхний колонтитул"/>
          <p:cNvPicPr/>
          <p:nvPr/>
        </p:nvPicPr>
        <p:blipFill>
          <a:blip r:embed="rId2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3"/>
          <p:cNvSpPr/>
          <p:nvPr/>
        </p:nvSpPr>
        <p:spPr>
          <a:xfrm>
            <a:off x="1211400" y="368280"/>
            <a:ext cx="6592680" cy="7905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2aa8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ccff"/>
            </a:solidFill>
            <a:custDash>
              <a:ds d="100000" sp="1000"/>
            </a:custDash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447"/>
                </a:solidFill>
                <a:latin typeface="Tahoma"/>
              </a:rPr>
              <a:t>THE POPULATION TO BE ENUMERATED ACCORDING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447"/>
                </a:solidFill>
                <a:latin typeface="Tahoma"/>
              </a:rPr>
              <a:t>LAW OF THE RUSSIAN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3"/>
          <p:cNvSpPr/>
          <p:nvPr/>
        </p:nvSpPr>
        <p:spPr>
          <a:xfrm>
            <a:off x="4916520" y="1568520"/>
            <a:ext cx="3979800" cy="1020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2aa8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ccff"/>
            </a:solidFill>
            <a:custDash>
              <a:ds d="100000" sp="1000"/>
            </a:custDash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SONS, WHO STAYED TEMPORAR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USSIA, BUT PERMANENTLY RESIDE AB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3"/>
          <p:cNvSpPr/>
          <p:nvPr/>
        </p:nvSpPr>
        <p:spPr>
          <a:xfrm>
            <a:off x="231840" y="1568520"/>
            <a:ext cx="3959280" cy="542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2aa8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ccff"/>
            </a:solidFill>
            <a:custDash>
              <a:ds d="100000" sp="1000"/>
            </a:custDash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POPULATION OF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>
            <a:off x="249120" y="3005280"/>
            <a:ext cx="2880000" cy="576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2aa8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ccff"/>
            </a:solidFill>
            <a:custDash>
              <a:ds d="100000" sp="1000"/>
            </a:custDash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RESIDENT POPULATION OF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10"/>
          <p:cNvCxnSpPr>
            <a:stCxn id="141" idx="2"/>
            <a:endCxn id="142" idx="0"/>
          </p:cNvCxnSpPr>
          <p:nvPr/>
        </p:nvCxnSpPr>
        <p:spPr>
          <a:xfrm>
            <a:off x="4508280" y="1177920"/>
            <a:ext cx="2399400" cy="372240"/>
          </a:xfrm>
          <a:prstGeom prst="straightConnector1">
            <a:avLst/>
          </a:prstGeom>
          <a:ln w="19080">
            <a:solidFill>
              <a:srgbClr val="00ccff"/>
            </a:solidFill>
            <a:miter/>
            <a:headEnd len="sm" type="oval" w="sm"/>
            <a:tailEnd len="lg" type="stealth" w="lg"/>
          </a:ln>
        </p:spPr>
      </p:cxnSp>
      <p:cxnSp>
        <p:nvCxnSpPr>
          <p:cNvPr id="146" name="AutoShape 11"/>
          <p:cNvCxnSpPr>
            <a:stCxn id="141" idx="2"/>
            <a:endCxn id="143" idx="0"/>
          </p:cNvCxnSpPr>
          <p:nvPr/>
        </p:nvCxnSpPr>
        <p:spPr>
          <a:xfrm flipH="1">
            <a:off x="2210760" y="1177920"/>
            <a:ext cx="2297880" cy="372240"/>
          </a:xfrm>
          <a:prstGeom prst="straightConnector1">
            <a:avLst/>
          </a:prstGeom>
          <a:ln w="19080">
            <a:solidFill>
              <a:srgbClr val="00ccff"/>
            </a:solidFill>
            <a:miter/>
            <a:headEnd len="sm" type="oval" w="sm"/>
            <a:tailEnd len="lg" type="stealth" w="lg"/>
          </a:ln>
        </p:spPr>
      </p:cxnSp>
      <p:cxnSp>
        <p:nvCxnSpPr>
          <p:cNvPr id="147" name="AutoShape 12"/>
          <p:cNvCxnSpPr>
            <a:stCxn id="143" idx="2"/>
            <a:endCxn id="144" idx="0"/>
          </p:cNvCxnSpPr>
          <p:nvPr/>
        </p:nvCxnSpPr>
        <p:spPr>
          <a:xfrm flipH="1">
            <a:off x="1688400" y="2130120"/>
            <a:ext cx="523080" cy="856440"/>
          </a:xfrm>
          <a:prstGeom prst="straightConnector1">
            <a:avLst/>
          </a:prstGeom>
          <a:ln w="19080">
            <a:solidFill>
              <a:srgbClr val="00ccff"/>
            </a:solidFill>
            <a:miter/>
            <a:headEnd len="sm" type="oval" w="sm"/>
            <a:tailEnd len="lg" type="stealth" w="lg"/>
          </a:ln>
        </p:spPr>
      </p:cxnSp>
      <p:sp>
        <p:nvSpPr>
          <p:cNvPr id="148" name="AutoShape 33"/>
          <p:cNvSpPr/>
          <p:nvPr/>
        </p:nvSpPr>
        <p:spPr>
          <a:xfrm>
            <a:off x="3341520" y="3005280"/>
            <a:ext cx="3686400" cy="1444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a2aa8"/>
              </a:gs>
              <a:gs pos="100000">
                <a:srgbClr val="00005c"/>
              </a:gs>
            </a:gsLst>
            <a:path path="rect">
              <a:fillToRect l="50000" t="50000" r="50000" b="50000"/>
            </a:path>
          </a:gradFill>
          <a:ln cap="rnd" w="38160">
            <a:solidFill>
              <a:srgbClr val="00ccff"/>
            </a:solidFill>
            <a:custDash>
              <a:ds d="100000" sp="1000"/>
            </a:custDash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USSIAN CITIZENS, STAYED ABROAD FOR ONE YEAR AND MOR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N A MISSION FOR THE GENERAL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4"/>
          <p:cNvCxnSpPr>
            <a:stCxn id="143" idx="2"/>
            <a:endCxn id="148" idx="0"/>
          </p:cNvCxnSpPr>
          <p:nvPr/>
        </p:nvCxnSpPr>
        <p:spPr>
          <a:xfrm>
            <a:off x="2211120" y="2130120"/>
            <a:ext cx="2973960" cy="856440"/>
          </a:xfrm>
          <a:prstGeom prst="straightConnector1">
            <a:avLst/>
          </a:prstGeom>
          <a:ln w="19080">
            <a:solidFill>
              <a:srgbClr val="00ccff"/>
            </a:solidFill>
            <a:miter/>
            <a:headEnd len="sm" type="oval" w="sm"/>
            <a:tailEnd len="lg" type="stealth" w="lg"/>
          </a:ln>
        </p:spPr>
      </p:cxnSp>
      <p:pic>
        <p:nvPicPr>
          <p:cNvPr id="150" name="Picture 15" descr="В1"/>
          <p:cNvPicPr/>
          <p:nvPr/>
        </p:nvPicPr>
        <p:blipFill>
          <a:blip r:embed="rId3"/>
          <a:stretch/>
        </p:blipFill>
        <p:spPr>
          <a:xfrm>
            <a:off x="7416720" y="2757600"/>
            <a:ext cx="1465200" cy="2065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П1_"/>
          <p:cNvPicPr/>
          <p:nvPr/>
        </p:nvPicPr>
        <p:blipFill>
          <a:blip r:embed="rId4"/>
          <a:stretch/>
        </p:blipFill>
        <p:spPr>
          <a:xfrm>
            <a:off x="1717560" y="3957480"/>
            <a:ext cx="1465200" cy="2065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7" descr="Л1_легкий"/>
          <p:cNvPicPr/>
          <p:nvPr/>
        </p:nvPicPr>
        <p:blipFill>
          <a:blip r:embed="rId5"/>
          <a:stretch/>
        </p:blipFill>
        <p:spPr>
          <a:xfrm>
            <a:off x="157320" y="3957480"/>
            <a:ext cx="1442880" cy="206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Л1_легкий"/>
          <p:cNvPicPr/>
          <p:nvPr/>
        </p:nvPicPr>
        <p:blipFill>
          <a:blip r:embed="rId6"/>
          <a:stretch/>
        </p:blipFill>
        <p:spPr>
          <a:xfrm>
            <a:off x="4535640" y="4583160"/>
            <a:ext cx="1442880" cy="2062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нлвый-лого"/>
          <p:cNvPicPr/>
          <p:nvPr/>
        </p:nvPicPr>
        <p:blipFill>
          <a:blip r:embed="rId7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2760" y="2826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447"/>
                </a:solidFill>
                <a:latin typeface="Tahoma"/>
              </a:rPr>
              <a:t>The </a:t>
            </a:r>
            <a:r>
              <a:rPr b="1" lang="ru-RU" sz="3200" spc="-1" strike="noStrike">
                <a:solidFill>
                  <a:srgbClr val="ff8447"/>
                </a:solidFill>
                <a:latin typeface="Tahoma"/>
              </a:rPr>
              <a:t>2020</a:t>
            </a:r>
            <a:r>
              <a:rPr b="1" lang="en-US" sz="3200" spc="-1" strike="noStrike">
                <a:solidFill>
                  <a:srgbClr val="ff8447"/>
                </a:solidFill>
                <a:latin typeface="Tahoma"/>
              </a:rPr>
              <a:t> ALL-RUSSIA POPULATION CENSUS</a:t>
            </a:r>
            <a:r>
              <a:rPr b="1" lang="en-US" sz="4000" spc="-1" strike="noStrike">
                <a:solidFill>
                  <a:srgbClr val="ff8447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03360" y="1674720"/>
            <a:ext cx="79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447"/>
                </a:solidFill>
                <a:latin typeface="Tahoma"/>
              </a:rPr>
              <a:t>The forms for residen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2040" y="2328840"/>
            <a:ext cx="26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/>
          <p:cNvSpPr/>
          <p:nvPr/>
        </p:nvSpPr>
        <p:spPr>
          <a:xfrm>
            <a:off x="2954160" y="2328840"/>
            <a:ext cx="60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graphic, ethnolingual, social and economic ques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5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87280" y="4521240"/>
            <a:ext cx="857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447"/>
                </a:solidFill>
                <a:latin typeface="Tahoma"/>
              </a:rPr>
              <a:t>The form for persons, who stayed temporally on the territory of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2040" y="531180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954160" y="519732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graphi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7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92040" y="364500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m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954160" y="3645000"/>
            <a:ext cx="58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ing conditions (12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2370240" y="2352600"/>
            <a:ext cx="452160" cy="147816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2370240" y="5130720"/>
            <a:ext cx="452160" cy="87948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447"/>
                </a:solidFill>
                <a:latin typeface="Tahoma"/>
              </a:rPr>
              <a:t>Methods of the All-Russia population census-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00000" y="2328840"/>
            <a:ext cx="26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308480" y="2328840"/>
            <a:ext cx="47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lf-f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22222"/>
          <p:cNvPicPr/>
          <p:nvPr/>
        </p:nvPicPr>
        <p:blipFill>
          <a:blip r:embed="rId4"/>
          <a:stretch/>
        </p:blipFill>
        <p:spPr>
          <a:xfrm>
            <a:off x="488880" y="3009960"/>
            <a:ext cx="3522600" cy="26114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0"/>
          <p:cNvSpPr/>
          <p:nvPr/>
        </p:nvSpPr>
        <p:spPr>
          <a:xfrm rot="6183000">
            <a:off x="2336400" y="1095480"/>
            <a:ext cx="452520" cy="14778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rot="4490400">
            <a:off x="6737040" y="1136520"/>
            <a:ext cx="452160" cy="14778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17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5"/>
          <a:srcRect l="16669" t="6399" r="16669" b="8821"/>
          <a:stretch/>
        </p:blipFill>
        <p:spPr>
          <a:xfrm>
            <a:off x="4976640" y="3009960"/>
            <a:ext cx="33861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верхний колон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верхний колонтитул"/>
          <p:cNvPicPr/>
          <p:nvPr/>
        </p:nvPicPr>
        <p:blipFill>
          <a:blip r:embed="rId2"/>
          <a:srcRect l="0" t="29470" r="0" b="0"/>
          <a:stretch/>
        </p:blipFill>
        <p:spPr>
          <a:xfrm>
            <a:off x="0" y="6313320"/>
            <a:ext cx="9144000" cy="54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нлвый-лого"/>
          <p:cNvPicPr/>
          <p:nvPr/>
        </p:nvPicPr>
        <p:blipFill>
          <a:blip r:embed="rId3"/>
          <a:srcRect l="0" t="0" r="72936" b="0"/>
          <a:stretch/>
        </p:blipFill>
        <p:spPr>
          <a:xfrm>
            <a:off x="8213760" y="6019920"/>
            <a:ext cx="849240" cy="801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936800" y="20484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447"/>
                </a:solidFill>
                <a:latin typeface="Tahoma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84040" y="1236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per data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181480" y="123660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ic data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В1"/>
          <p:cNvPicPr/>
          <p:nvPr/>
        </p:nvPicPr>
        <p:blipFill>
          <a:blip r:embed="rId4"/>
          <a:stretch/>
        </p:blipFill>
        <p:spPr>
          <a:xfrm rot="1004400">
            <a:off x="2631960" y="2026800"/>
            <a:ext cx="857520" cy="119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П1_"/>
          <p:cNvPicPr/>
          <p:nvPr/>
        </p:nvPicPr>
        <p:blipFill>
          <a:blip r:embed="rId5"/>
          <a:stretch/>
        </p:blipFill>
        <p:spPr>
          <a:xfrm>
            <a:off x="1908000" y="1911240"/>
            <a:ext cx="857520" cy="1190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Л1_легкий"/>
          <p:cNvPicPr/>
          <p:nvPr/>
        </p:nvPicPr>
        <p:blipFill>
          <a:blip r:embed="rId6"/>
          <a:stretch/>
        </p:blipFill>
        <p:spPr>
          <a:xfrm rot="20424600">
            <a:off x="1201680" y="2071440"/>
            <a:ext cx="855720" cy="1191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2119320" y="339552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447"/>
                </a:solidFill>
                <a:latin typeface="Tahoma"/>
              </a:rPr>
              <a:t>Self-f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6183000">
            <a:off x="2336400" y="168480"/>
            <a:ext cx="452520" cy="14778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 rot="4490400">
            <a:off x="6736680" y="209160"/>
            <a:ext cx="452520" cy="14778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17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84040" y="4491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per data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183280" y="465768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6183000">
            <a:off x="2336400" y="3467160"/>
            <a:ext cx="452520" cy="14778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 rot="4490400">
            <a:off x="6736680" y="3585960"/>
            <a:ext cx="452520" cy="1477800"/>
          </a:xfrm>
          <a:prstGeom prst="rightArrow">
            <a:avLst>
              <a:gd name="adj1" fmla="val 70611"/>
              <a:gd name="adj2" fmla="val 80000"/>
            </a:avLst>
          </a:prstGeom>
          <a:gradFill rotWithShape="0">
            <a:gsLst>
              <a:gs pos="0">
                <a:srgbClr val="000066"/>
              </a:gs>
              <a:gs pos="100000">
                <a:srgbClr val="ad3973"/>
              </a:gs>
            </a:gsLst>
            <a:lin ang="17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" descr="В1"/>
          <p:cNvPicPr/>
          <p:nvPr/>
        </p:nvPicPr>
        <p:blipFill>
          <a:blip r:embed="rId7"/>
          <a:stretch/>
        </p:blipFill>
        <p:spPr>
          <a:xfrm rot="1004400">
            <a:off x="2589120" y="5322600"/>
            <a:ext cx="8575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П1_"/>
          <p:cNvPicPr/>
          <p:nvPr/>
        </p:nvPicPr>
        <p:blipFill>
          <a:blip r:embed="rId8"/>
          <a:stretch/>
        </p:blipFill>
        <p:spPr>
          <a:xfrm>
            <a:off x="1865160" y="5229360"/>
            <a:ext cx="857520" cy="11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Л1_легкий"/>
          <p:cNvPicPr/>
          <p:nvPr/>
        </p:nvPicPr>
        <p:blipFill>
          <a:blip r:embed="rId9"/>
          <a:stretch/>
        </p:blipFill>
        <p:spPr>
          <a:xfrm rot="20424600">
            <a:off x="1158840" y="5366880"/>
            <a:ext cx="855720" cy="1192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Без Имени-1"/>
          <p:cNvPicPr/>
          <p:nvPr/>
        </p:nvPicPr>
        <p:blipFill>
          <a:blip r:embed="rId10"/>
          <a:stretch/>
        </p:blipFill>
        <p:spPr>
          <a:xfrm>
            <a:off x="6378480" y="1981080"/>
            <a:ext cx="1381320" cy="122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csac"/>
          <p:cNvPicPr/>
          <p:nvPr/>
        </p:nvPicPr>
        <p:blipFill>
          <a:blip r:embed="rId11"/>
          <a:stretch/>
        </p:blipFill>
        <p:spPr>
          <a:xfrm rot="19681200">
            <a:off x="6730560" y="2268360"/>
            <a:ext cx="453960" cy="3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111"/>
          <p:cNvPicPr/>
          <p:nvPr/>
        </p:nvPicPr>
        <p:blipFill>
          <a:blip r:embed="rId12"/>
          <a:stretch/>
        </p:blipFill>
        <p:spPr>
          <a:xfrm>
            <a:off x="6273720" y="5067360"/>
            <a:ext cx="158112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6:56:41Z</dcterms:created>
  <dc:creator>Chernishova</dc:creator>
  <dc:description/>
  <dc:language>en-US</dc:language>
  <cp:lastModifiedBy>csd</cp:lastModifiedBy>
  <dcterms:modified xsi:type="dcterms:W3CDTF">2010-07-09T07:18:42Z</dcterms:modified>
  <cp:revision>387</cp:revision>
  <dc:subject/>
  <dc:title>Презентация PowerPoint</dc:title>
</cp:coreProperties>
</file>