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87071A-4D18-454C-826F-D6ECD617E8B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1A9C58-6A11-49E8-BB3F-DBBC03A2FE2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4155-3906-4CDC-840F-EFD16AD183A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4360" y="4416480"/>
            <a:ext cx="54892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F460-7F64-4775-86AB-35865CD5413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4360" y="4173480"/>
            <a:ext cx="548928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C0A9-8F3C-46FC-A193-3D916D03E7F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F0EF-CC96-4EBC-A6B4-EFCC31FE517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D26F-4F08-4C1E-B334-8E0491BE2C8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E96A-C675-4FD1-8B0E-24311B9E941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FC3-6AB2-41AA-9B55-6A42B5A49A7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8504-4207-41A9-A52D-8AF36EA608B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6F4-CC98-43DD-87A4-AA1900CF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283-2266-487D-B5D8-7BCDFCC5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3B3-785C-421B-8C1C-D0AA18E9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FEA-3168-4E87-8620-83C16448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2A97-F360-466B-B9B5-CED8D1D5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1873-5D45-4ACD-9156-8C96981E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44B1-91F5-4028-BCAB-93EF649E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9591-F8D6-45BD-91F3-3F2F973C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1031-BD3F-45D7-B0DE-ECE640D8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AA39-7FCA-4EA0-95AA-8CB6A7C2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2A43-A755-4386-BBE8-C2226B56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FE9-2198-4806-B897-A0F350A8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7320-CA41-4FE4-A4CA-3C0B236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AC9B-1F0F-468B-AB65-C792107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F569-9339-4911-9934-1AFDC9B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34BD-ADC4-4530-A4C1-DA59A655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0F3C-ED83-4DF3-BAAB-2A5EC0D3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DA8-AF10-4329-AEF4-13B380A8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61F-EC5F-45A0-8FD9-AEECB8D8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0CD-1881-4908-BB25-B1CBFCE8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910-B075-45E3-AB3C-9C1228E7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830-06B9-44D4-9F3B-C08F63D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B51-6447-4AA9-8204-7F9BD775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187-D4E5-4E00-89C0-4DA83DF3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87640" y="637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842920" y="6387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94920" y="6408360"/>
            <a:ext cx="152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0BA-DD6B-4C6B-94EC-943E1D23E60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DEA4-35DA-4E54-8FFC-FD41C24122E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15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Quality Assurance Programme of the Canadian Census of Pop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4571640"/>
            <a:ext cx="838224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Expert Group Meeting on Population and Housing Cens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July 7-9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EDF0-9FF1-479B-BBED-36D77C3BA9A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F709445E-E1EC-43D7-AE38-F25697FE1E73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603A2A88-4822-47FA-B1FA-B4BC9C824B02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24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Census of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Assuranc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22EE-E82B-444E-9EED-AC874431545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BFB88612-C74D-4F6E-9432-BFA72E0026A5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5F3645A1-DEA4-44BE-B026-9EF0CCC1C273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he Canadian Census of Popul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243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ed every fiv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sus quality assurance programme is an integral part of census planning, implementation and e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0B3C-CD62-403A-BE6C-8FA1C12FD0A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AC8BC2DE-9BA9-446A-BBC2-9BB132677A46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2CF2BADE-C6F8-4114-903E-DFC99C436680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ensus Quality Assurance Programm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24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rehensive and current address register key to increase in questionnaires mail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11 Census will mail out to 80% of households, up from 70% in 200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rated multi-mode collection tracking system key to increase in Internet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rget for 2011 is 35-40%, double that fo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2530-033B-45DA-824E-313E466C14B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269B5753-CE4B-4A0A-B600-2BE1E7C73E31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D0ABDB90-69A2-4005-AC6E-0122A83BAA6A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ensus Quality Assurance Programm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24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omplete 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questionnaires edited for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 of this information can be i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missing too much information contacted by census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stionnaires not re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households that do not return a questionnaire are 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all response rate of at least 97% s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llow-up monitored at various geographical levels to ensure optimal quality within budge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C207-CB36-42A0-82BD-75C4A711C01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5C4360C5-E5D4-405E-B93E-81F8EEB6D061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2740FDD1-7991-44C0-B0DD-F958DB6DBC42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ensus Quality Assurance Programm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welling Classification Study (DC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24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S based on a sample of households for which questionnaires have not been re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ermines to what extent they are occu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those that are occupied, DCS estimates how many people usually liv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onal estimates are incorporated into the census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77E-5345-48DF-A545-87CC96D0FA9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D9A84950-F99C-468B-809C-7F16D92680A0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79C67D04-99EE-4711-8B04-F691BA2FF56F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ensus Quality Assurance Programm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24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assurance integrated into all activities from questionnaire 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stration to data capture to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dit and imputation are for the most part fully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tensive programme to determine the effect of sampling and weighting on quality of sample censu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8788-9234-40A7-AF96-9ADBB8DCE95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F48BE44B-4125-4897-9A34-736DB99EC9C0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2336D391-2B39-400B-ACBD-A5E88D95E265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ensus Quality Assurance Programm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ta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2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quenc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l consistency of census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end analysis with previous censu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utation rates by variable and by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ther sources of information (surveys, administrative rec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ion serves many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lity assessment of recent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to future census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timely, can also impact current census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5E74-0D82-47CA-8B96-324654FFC2D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BF12C7F8-B27B-42D7-A585-C26A7291BA22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469200" y="6093000"/>
            <a:ext cx="181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 algn="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fld id="{BC173615-C7EE-4BBC-91A1-FC99FFF49D88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24392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 is an integral element of the Canadian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 initiatives and performance indicators are built into every aspect of census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ies are providing opportunities for more timely indicators which may be able to support census operations still in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00:04:21Z</dcterms:created>
  <dc:creator>Administrator</dc:creator>
  <dc:description/>
  <dc:language>en-US</dc:language>
  <cp:lastModifiedBy>Rosemary Bender</cp:lastModifiedBy>
  <dcterms:modified xsi:type="dcterms:W3CDTF">2010-07-05T04:19:27Z</dcterms:modified>
  <cp:revision>2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4026628</vt:r8>
  </property>
  <property fmtid="{D5CDD505-2E9C-101B-9397-08002B2CF9AE}" pid="3" name="_AuthorEmail">
    <vt:lpwstr>Pamela.White@a.statcan.gc.ca</vt:lpwstr>
  </property>
  <property fmtid="{D5CDD505-2E9C-101B-9397-08002B2CF9AE}" pid="4" name="_AuthorEmailDisplayName">
    <vt:lpwstr>White, Pamela M. -SCAN/ANSC</vt:lpwstr>
  </property>
  <property fmtid="{D5CDD505-2E9C-101B-9397-08002B2CF9AE}" pid="5" name="_EmailSubject">
    <vt:lpwstr>Munir's keynote address on ageing</vt:lpwstr>
  </property>
  <property fmtid="{D5CDD505-2E9C-101B-9397-08002B2CF9AE}" pid="6" name="_NewReviewCycle">
    <vt:lpwstr/>
  </property>
</Properties>
</file>