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380880" y="514080"/>
            <a:ext cx="777240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80880" y="514080"/>
            <a:ext cx="777240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spcBef>
                <a:spcPts val="601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2" marL="853920" indent="-101520">
              <a:spcBef>
                <a:spcPts val="601"/>
              </a:spcBef>
              <a:buClr>
                <a:srgbClr val="868686"/>
              </a:buClr>
              <a:buFont typeface="Arial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3" marL="1239840" indent="-195120">
              <a:spcBef>
                <a:spcPts val="601"/>
              </a:spcBef>
              <a:buClr>
                <a:srgbClr val="778de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4" marL="3848040" indent="-114120">
              <a:spcBef>
                <a:spcPts val="601"/>
              </a:spcBef>
              <a:buClr>
                <a:srgbClr val="a7a7a7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5" marL="3848040" indent="-11412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6" marL="3848040" indent="-11412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752480" y="6553080"/>
            <a:ext cx="7391520" cy="0"/>
          </a:xfrm>
          <a:prstGeom prst="line">
            <a:avLst/>
          </a:prstGeom>
          <a:ln cap="sq"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1371600" y="6553080"/>
            <a:ext cx="304920" cy="2764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62120" y="6553080"/>
            <a:ext cx="304560" cy="2764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>
            <a:hlinkClick r:id="" action="ppaction://hlinkshowjump?jump=firstslide"/>
          </p:cNvPr>
          <p:cNvPicPr/>
          <p:nvPr/>
        </p:nvPicPr>
        <p:blipFill>
          <a:blip r:embed="rId5"/>
          <a:stretch/>
        </p:blipFill>
        <p:spPr>
          <a:xfrm>
            <a:off x="1066680" y="6553080"/>
            <a:ext cx="304920" cy="2764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11040" y="6172200"/>
            <a:ext cx="197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cc"/>
                </a:solidFill>
                <a:latin typeface="Arial"/>
              </a:rPr>
              <a:t>Page </a:t>
            </a:r>
            <a:fld id="{D75C01F1-5E9D-462D-A103-C350693E1E40}" type="slidenum">
              <a:rPr b="0" lang="en-US" sz="1000" spc="-1" strike="noStrike">
                <a:solidFill>
                  <a:srgbClr val="cccc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6"/>
          <a:stretch/>
        </p:blipFill>
        <p:spPr>
          <a:xfrm>
            <a:off x="8659800" y="6407280"/>
            <a:ext cx="407880" cy="3744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438280" y="65530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74570"/>
                </a:solidFill>
                <a:latin typeface="Arial"/>
              </a:rPr>
              <a:t>The quality of the French population censu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9560" y="6553080"/>
            <a:ext cx="197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5f82"/>
                </a:solidFill>
                <a:latin typeface="Arial"/>
              </a:rPr>
              <a:t>July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5f82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726400" y="0"/>
            <a:ext cx="417600" cy="1668600"/>
          </a:xfrm>
          <a:custGeom>
            <a:avLst/>
            <a:gdLst/>
            <a:ahLst/>
            <a:rect l="l" t="t" r="r" b="b"/>
            <a:pathLst>
              <a:path w="152" h="428">
                <a:moveTo>
                  <a:pt x="0" y="0"/>
                </a:moveTo>
                <a:lnTo>
                  <a:pt x="152" y="0"/>
                </a:lnTo>
                <a:lnTo>
                  <a:pt x="152" y="360"/>
                </a:lnTo>
                <a:lnTo>
                  <a:pt x="0" y="428"/>
                </a:lnTo>
                <a:lnTo>
                  <a:pt x="0" y="0"/>
                </a:lnTo>
              </a:path>
            </a:pathLst>
          </a:custGeom>
          <a:solidFill>
            <a:srgbClr val="465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4419720"/>
            <a:ext cx="2514600" cy="685800"/>
          </a:xfrm>
          <a:prstGeom prst="rect">
            <a:avLst/>
          </a:prstGeom>
          <a:solidFill>
            <a:srgbClr val="465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2437920"/>
            <a:ext cx="8723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f8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981080"/>
            <a:ext cx="8839080" cy="457200"/>
          </a:xfrm>
          <a:prstGeom prst="rect">
            <a:avLst/>
          </a:pr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839080" y="2438280"/>
            <a:ext cx="0" cy="1447920"/>
          </a:xfrm>
          <a:prstGeom prst="line">
            <a:avLst/>
          </a:prstGeom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3886200"/>
            <a:ext cx="6324480" cy="0"/>
          </a:xfrm>
          <a:prstGeom prst="line">
            <a:avLst/>
          </a:prstGeom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962520"/>
            <a:ext cx="8839080" cy="457200"/>
          </a:xfrm>
          <a:prstGeom prst="rect">
            <a:avLst/>
          </a:pr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3886200"/>
            <a:ext cx="0" cy="1219320"/>
          </a:xfrm>
          <a:prstGeom prst="line">
            <a:avLst/>
          </a:prstGeom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839080" y="3886200"/>
            <a:ext cx="0" cy="533520"/>
          </a:xfrm>
          <a:prstGeom prst="line">
            <a:avLst/>
          </a:prstGeom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38280"/>
            <a:ext cx="8839080" cy="0"/>
          </a:xfrm>
          <a:prstGeom prst="line">
            <a:avLst/>
          </a:prstGeom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106880" y="228600"/>
            <a:ext cx="846000" cy="145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7742160" y="4419720"/>
            <a:ext cx="1096920" cy="707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5608800" y="4419720"/>
            <a:ext cx="1096920" cy="707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4541760" y="4419720"/>
            <a:ext cx="1096920" cy="707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3444840" y="4419720"/>
            <a:ext cx="1096920" cy="707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6645240" y="4419720"/>
            <a:ext cx="1096920" cy="707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726400" y="0"/>
            <a:ext cx="417600" cy="1668600"/>
          </a:xfrm>
          <a:custGeom>
            <a:avLst/>
            <a:gdLst/>
            <a:ahLst/>
            <a:rect l="l" t="t" r="r" b="b"/>
            <a:pathLst>
              <a:path w="152" h="428">
                <a:moveTo>
                  <a:pt x="0" y="0"/>
                </a:moveTo>
                <a:lnTo>
                  <a:pt x="152" y="0"/>
                </a:lnTo>
                <a:lnTo>
                  <a:pt x="152" y="360"/>
                </a:lnTo>
                <a:lnTo>
                  <a:pt x="0" y="428"/>
                </a:lnTo>
                <a:lnTo>
                  <a:pt x="0" y="0"/>
                </a:lnTo>
              </a:path>
            </a:pathLst>
          </a:custGeom>
          <a:solidFill>
            <a:srgbClr val="465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419720"/>
            <a:ext cx="2514600" cy="685800"/>
          </a:xfrm>
          <a:prstGeom prst="rect">
            <a:avLst/>
          </a:prstGeom>
          <a:solidFill>
            <a:srgbClr val="465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7680" y="4830840"/>
            <a:ext cx="14634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1e1e1"/>
                </a:solidFill>
                <a:latin typeface="Arial"/>
              </a:rPr>
              <a:t>July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ccccc"/>
              </a:solidFill>
              <a:latin typeface="Arial"/>
            </a:endParaRPr>
          </a:p>
          <a:p>
            <a:pPr lvl="1" marL="3780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94388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2" marL="752400" algn="ctr">
              <a:spcBef>
                <a:spcPts val="451"/>
              </a:spcBef>
              <a:buClr>
                <a:srgbClr val="868686"/>
              </a:buClr>
              <a:buFont typeface="Arial"/>
              <a:buChar char="‐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6868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68686"/>
              </a:solidFill>
              <a:latin typeface="Arial"/>
            </a:endParaRPr>
          </a:p>
          <a:p>
            <a:pPr lvl="3" marL="1044720" algn="ctr">
              <a:spcBef>
                <a:spcPts val="400"/>
              </a:spcBef>
              <a:buClr>
                <a:srgbClr val="778de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8deb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778deb"/>
              </a:solidFill>
              <a:latin typeface="Arial"/>
            </a:endParaRPr>
          </a:p>
          <a:p>
            <a:pPr lvl="4" marL="1828800" indent="1905120" algn="ctr">
              <a:spcBef>
                <a:spcPts val="300"/>
              </a:spcBef>
              <a:buClr>
                <a:srgbClr val="a7a7a7"/>
              </a:buClr>
              <a:buFont typeface="Arial Unicode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7a7a7"/>
                </a:solidFill>
                <a:latin typeface="Arial Unicode MS"/>
              </a:rPr>
              <a:t>Fifth Outline Level</a:t>
            </a:r>
            <a:endParaRPr b="0" lang="en-US" sz="1200" spc="-1" strike="noStrike">
              <a:solidFill>
                <a:srgbClr val="a7a7a7"/>
              </a:solidFill>
              <a:latin typeface="Arial Unicode MS"/>
            </a:endParaRPr>
          </a:p>
          <a:p>
            <a:pPr lvl="5" marL="1828800" indent="1905120">
              <a:spcBef>
                <a:spcPts val="3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7a7a7"/>
                </a:solidFill>
                <a:latin typeface="Arial Unicode MS"/>
              </a:rPr>
              <a:t>Sixth Outline Level</a:t>
            </a:r>
            <a:endParaRPr b="0" lang="en-US" sz="1200" spc="-1" strike="noStrike">
              <a:solidFill>
                <a:srgbClr val="a7a7a7"/>
              </a:solidFill>
              <a:latin typeface="Arial Unicode MS"/>
            </a:endParaRPr>
          </a:p>
          <a:p>
            <a:pPr lvl="6" marL="1828800" indent="1905120">
              <a:spcBef>
                <a:spcPts val="3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7a7a7"/>
                </a:solidFill>
                <a:latin typeface="Arial Unicode MS"/>
              </a:rPr>
              <a:t>Seventh Outline Level</a:t>
            </a:r>
            <a:endParaRPr b="0" lang="en-US" sz="1200" spc="-1" strike="noStrike">
              <a:solidFill>
                <a:srgbClr val="a7a7a7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2437920"/>
            <a:ext cx="8723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Quality of  French census </a:t>
            </a:r>
            <a:endParaRPr b="0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040" y="373356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5f82"/>
                </a:solidFill>
                <a:latin typeface="Arial"/>
              </a:rPr>
              <a:t>Relevance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The new method responds to a need for data which are recent and regular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Widespread consultation, on the method, on the questionnaires, on the modalities of disseminatio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Measurement of user’ satisfactio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Accuracy and reliability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An imprecision linked to the sample survey, but of low amplitude and lower than the one resulting from the «ageing » of data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Data collection, control and computation methods which considerably reduce the omission bia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Timeliness and punctuality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Recent data 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4388"/>
                </a:solidFill>
                <a:latin typeface="Arial"/>
              </a:rPr>
              <a:t>permanently 2 to 3 years for detailed data against 18 months to 10 years in the former system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4388"/>
                </a:solidFill>
                <a:latin typeface="Arial"/>
              </a:rPr>
              <a:t>results of annual surveys available at the beginning of the following year and integrated to the provisional estimates (at the regional and national level)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Punctuality : 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4388"/>
                </a:solidFill>
                <a:latin typeface="Arial"/>
              </a:rPr>
              <a:t>Legal requirement (legal populations of the communes)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4388"/>
                </a:solidFill>
                <a:latin typeface="Arial"/>
              </a:rPr>
              <a:t>It guarantees the permanence of the system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Accessibility and clarity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Accessibility guaranteed by resorting to the internet as medium for disseminatio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Systematic feed-back to the communes, with the possibility to re-disseminate this data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Clarity : important pedagogical and documentation work in the website.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Comparability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With regard to previous censuses, few changes in the variables and concepts; these are documented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International comparisons allowed through a good coverage of the « core topics »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Comparisons between zones allowed through the « synchronisation » of data ; maybe lesser on the socio-economic data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Coherence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Ensured by data editing and imputatio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The coherence with the other local data sources should be assured by the annual availability of data «en niveau» that will allow the calculation of relevant ratio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III - The management of the census quality</a:t>
            </a:r>
            <a:br>
              <a:rPr sz="2800"/>
            </a:b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lnSpc>
                <a:spcPct val="90000"/>
              </a:lnSpc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General principle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lnSpc>
                <a:spcPct val="90000"/>
              </a:lnSpc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4388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194388"/>
                </a:solidFill>
                <a:latin typeface="Arial"/>
              </a:rPr>
              <a:t>control quality step by step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lnSpc>
                <a:spcPct val="90000"/>
              </a:lnSpc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4388"/>
                </a:solidFill>
                <a:latin typeface="Arial"/>
              </a:rPr>
              <a:t>A continuous evaluation approach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lnSpc>
                <a:spcPct val="90000"/>
              </a:lnSpc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Exemples :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lnSpc>
                <a:spcPct val="90000"/>
              </a:lnSpc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4388"/>
                </a:solidFill>
                <a:latin typeface="Arial"/>
              </a:rPr>
              <a:t>Sampling frames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lnSpc>
                <a:spcPct val="90000"/>
              </a:lnSpc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4388"/>
                </a:solidFill>
                <a:latin typeface="Arial"/>
              </a:rPr>
              <a:t>Data collection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lnSpc>
                <a:spcPct val="90000"/>
              </a:lnSpc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4388"/>
                </a:solidFill>
                <a:latin typeface="Arial"/>
              </a:rPr>
              <a:t>Data processing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lnSpc>
                <a:spcPct val="90000"/>
              </a:lnSpc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4388"/>
                </a:solidFill>
                <a:latin typeface="Arial"/>
              </a:rPr>
              <a:t>Dissemination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066680" y="533520"/>
            <a:ext cx="708660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5f82"/>
                </a:solidFill>
                <a:latin typeface="Arial"/>
                <a:ea typeface="Arial"/>
              </a:rPr>
              <a:t>General principe 2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4266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lnSpc>
                <a:spcPct val="90000"/>
              </a:lnSpc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A continuous evaluation approach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lnSpc>
                <a:spcPct val="90000"/>
              </a:lnSpc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Enabled through the annual feature of the operatio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lnSpc>
                <a:spcPct val="90000"/>
              </a:lnSpc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After each campaign, decisions of evolution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lnSpc>
                <a:spcPct val="90000"/>
              </a:lnSpc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Implemented in N+1, but mostly N+2 or N+3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19320" y="2057400"/>
            <a:ext cx="6705360" cy="1676160"/>
            <a:chOff x="1219320" y="2057400"/>
            <a:chExt cx="6705360" cy="1676160"/>
          </a:xfrm>
        </p:grpSpPr>
        <p:sp>
          <p:nvSpPr>
            <p:cNvPr id="138" name=""/>
            <p:cNvSpPr/>
            <p:nvPr/>
          </p:nvSpPr>
          <p:spPr>
            <a:xfrm>
              <a:off x="1219320" y="3206880"/>
              <a:ext cx="2438280" cy="5266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Campaig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52680" y="2057400"/>
              <a:ext cx="2438640" cy="5266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valu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86400" y="3206880"/>
              <a:ext cx="2438280" cy="5266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Improv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9204200">
              <a:off x="2666880" y="2631600"/>
              <a:ext cx="762120" cy="478800"/>
            </a:xfrm>
            <a:prstGeom prst="rightArrow">
              <a:avLst>
                <a:gd name="adj1" fmla="val 50000"/>
                <a:gd name="adj2" fmla="val 39793"/>
              </a:avLst>
            </a:prstGeom>
            <a:solidFill>
              <a:srgbClr val="465f8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2703000">
              <a:off x="5627520" y="2538360"/>
              <a:ext cx="478800" cy="762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465f8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0769400">
              <a:off x="4191120" y="3206880"/>
              <a:ext cx="761760" cy="478800"/>
            </a:xfrm>
            <a:prstGeom prst="rightArrow">
              <a:avLst>
                <a:gd name="adj1" fmla="val 50000"/>
                <a:gd name="adj2" fmla="val 39774"/>
              </a:avLst>
            </a:prstGeom>
            <a:solidFill>
              <a:srgbClr val="465f8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990720" y="1676520"/>
            <a:ext cx="7391160" cy="4419360"/>
            <a:chOff x="990720" y="1676520"/>
            <a:chExt cx="7391160" cy="4419360"/>
          </a:xfrm>
        </p:grpSpPr>
        <p:grpSp>
          <p:nvGrpSpPr>
            <p:cNvPr id="145" name=""/>
            <p:cNvGrpSpPr/>
            <p:nvPr/>
          </p:nvGrpSpPr>
          <p:grpSpPr>
            <a:xfrm>
              <a:off x="990720" y="1890360"/>
              <a:ext cx="7391160" cy="4205520"/>
              <a:chOff x="990720" y="1890360"/>
              <a:chExt cx="7391160" cy="4205520"/>
            </a:xfrm>
          </p:grpSpPr>
          <p:sp>
            <p:nvSpPr>
              <p:cNvPr id="146" name=""/>
              <p:cNvSpPr/>
              <p:nvPr/>
            </p:nvSpPr>
            <p:spPr>
              <a:xfrm>
                <a:off x="1729800" y="1890360"/>
                <a:ext cx="0" cy="4205520"/>
              </a:xfrm>
              <a:prstGeom prst="line">
                <a:avLst/>
              </a:prstGeom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099160" y="1890360"/>
                <a:ext cx="0" cy="4205520"/>
              </a:xfrm>
              <a:prstGeom prst="line">
                <a:avLst/>
              </a:prstGeom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468520" y="1890360"/>
                <a:ext cx="0" cy="4205520"/>
              </a:xfrm>
              <a:prstGeom prst="line">
                <a:avLst/>
              </a:prstGeom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838600" y="1890360"/>
                <a:ext cx="0" cy="4205520"/>
              </a:xfrm>
              <a:prstGeom prst="line">
                <a:avLst/>
              </a:prstGeom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207960" y="1890360"/>
                <a:ext cx="0" cy="4205520"/>
              </a:xfrm>
              <a:prstGeom prst="line">
                <a:avLst/>
              </a:prstGeom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577320" y="1890360"/>
                <a:ext cx="0" cy="420552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947040" y="1890360"/>
                <a:ext cx="0" cy="4205520"/>
              </a:xfrm>
              <a:prstGeom prst="line">
                <a:avLst/>
              </a:prstGeom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316400" y="1890360"/>
                <a:ext cx="0" cy="4205520"/>
              </a:xfrm>
              <a:prstGeom prst="line">
                <a:avLst/>
              </a:prstGeom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686120" y="1890360"/>
                <a:ext cx="0" cy="4205520"/>
              </a:xfrm>
              <a:prstGeom prst="line">
                <a:avLst/>
              </a:prstGeom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055840" y="1890360"/>
                <a:ext cx="0" cy="4205520"/>
              </a:xfrm>
              <a:prstGeom prst="line">
                <a:avLst/>
              </a:prstGeom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425200" y="1890360"/>
                <a:ext cx="0" cy="4205520"/>
              </a:xfrm>
              <a:prstGeom prst="line">
                <a:avLst/>
              </a:prstGeom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164280" y="1890360"/>
                <a:ext cx="0" cy="4205520"/>
              </a:xfrm>
              <a:prstGeom prst="line">
                <a:avLst/>
              </a:prstGeom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794560" y="1890360"/>
                <a:ext cx="0" cy="4205520"/>
              </a:xfrm>
              <a:prstGeom prst="line">
                <a:avLst/>
              </a:prstGeom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534000" y="1890360"/>
                <a:ext cx="0" cy="4205520"/>
              </a:xfrm>
              <a:prstGeom prst="line">
                <a:avLst/>
              </a:prstGeom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903360" y="1890360"/>
                <a:ext cx="0" cy="4205520"/>
              </a:xfrm>
              <a:prstGeom prst="line">
                <a:avLst/>
              </a:prstGeom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273080" y="1890360"/>
                <a:ext cx="0" cy="4205520"/>
              </a:xfrm>
              <a:prstGeom prst="line">
                <a:avLst/>
              </a:prstGeom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642440" y="1890360"/>
                <a:ext cx="0" cy="4205520"/>
              </a:xfrm>
              <a:prstGeom prst="line">
                <a:avLst/>
              </a:prstGeom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381880" y="1890360"/>
                <a:ext cx="0" cy="4205520"/>
              </a:xfrm>
              <a:prstGeom prst="line">
                <a:avLst/>
              </a:prstGeom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011800" y="1890360"/>
                <a:ext cx="0" cy="420552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360080" y="1890360"/>
                <a:ext cx="0" cy="4205520"/>
              </a:xfrm>
              <a:prstGeom prst="line">
                <a:avLst/>
              </a:prstGeom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990720" y="1890360"/>
                <a:ext cx="0" cy="4205520"/>
              </a:xfrm>
              <a:prstGeom prst="line">
                <a:avLst/>
              </a:prstGeom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2099160" y="1968480"/>
              <a:ext cx="36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cc3300"/>
                  </a:solidFill>
                  <a:latin typeface="Verdana"/>
                </a:rPr>
                <a:t>Sep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90720" y="1968480"/>
              <a:ext cx="36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cc3300"/>
                  </a:solidFill>
                  <a:latin typeface="Verdana"/>
                </a:rPr>
                <a:t>Ju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60080" y="1968480"/>
              <a:ext cx="36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cc3300"/>
                  </a:solidFill>
                  <a:latin typeface="Verdana"/>
                </a:rPr>
                <a:t>Jui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29440" y="1968480"/>
              <a:ext cx="369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cc3300"/>
                  </a:solidFill>
                  <a:latin typeface="Verdana"/>
                </a:rPr>
                <a:t>Aoû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68880" y="1968480"/>
              <a:ext cx="36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cc3300"/>
                  </a:solidFill>
                  <a:latin typeface="Verdana"/>
                </a:rPr>
                <a:t>Oc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38240" y="1968480"/>
              <a:ext cx="369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cc3300"/>
                  </a:solidFill>
                  <a:latin typeface="Verdana"/>
                </a:rPr>
                <a:t>Nov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07960" y="1968480"/>
              <a:ext cx="36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cc3300"/>
                  </a:solidFill>
                  <a:latin typeface="Verdana"/>
                </a:rPr>
                <a:t>Déc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316760" y="1968480"/>
              <a:ext cx="36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cc3300"/>
                  </a:solidFill>
                  <a:latin typeface="Verdana"/>
                </a:rPr>
                <a:t>Ma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560" y="1968480"/>
              <a:ext cx="36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cc3300"/>
                  </a:solidFill>
                  <a:latin typeface="Verdana"/>
                </a:rPr>
                <a:t>Ju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686120" y="1968480"/>
              <a:ext cx="36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cc3300"/>
                  </a:solidFill>
                  <a:latin typeface="Verdana"/>
                </a:rPr>
                <a:t>Avri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55480" y="1968480"/>
              <a:ext cx="369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cc3300"/>
                  </a:solidFill>
                  <a:latin typeface="Verdana"/>
                </a:rPr>
                <a:t>Ma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77320" y="1968480"/>
              <a:ext cx="36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cc3300"/>
                  </a:solidFill>
                  <a:latin typeface="Verdana"/>
                </a:rPr>
                <a:t>J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947040" y="1968480"/>
              <a:ext cx="369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cc3300"/>
                  </a:solidFill>
                  <a:latin typeface="Verdana"/>
                </a:rPr>
                <a:t>Fév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534000" y="1968480"/>
              <a:ext cx="36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cc3300"/>
                  </a:solidFill>
                  <a:latin typeface="Verdana"/>
                </a:rPr>
                <a:t>Sep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94920" y="1968480"/>
              <a:ext cx="36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cc3300"/>
                  </a:solidFill>
                  <a:latin typeface="Verdana"/>
                </a:rPr>
                <a:t>Jui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64280" y="1968480"/>
              <a:ext cx="369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cc3300"/>
                  </a:solidFill>
                  <a:latin typeface="Verdana"/>
                </a:rPr>
                <a:t>Aoû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273080" y="1968480"/>
              <a:ext cx="369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cc3300"/>
                  </a:solidFill>
                  <a:latin typeface="Verdana"/>
                </a:rPr>
                <a:t>Nov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642800" y="1968480"/>
              <a:ext cx="36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cc3300"/>
                  </a:solidFill>
                  <a:latin typeface="Verdana"/>
                </a:rPr>
                <a:t>Déc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012160" y="1968480"/>
              <a:ext cx="36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cc3300"/>
                  </a:solidFill>
                  <a:latin typeface="Verdana"/>
                </a:rPr>
                <a:t>J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025360" y="1676520"/>
              <a:ext cx="1256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Verdana"/>
                </a:rPr>
                <a:t>Year N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29640" y="1683720"/>
              <a:ext cx="1256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Verdana"/>
                </a:rPr>
                <a:t>Year 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The schedule of a campaign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2590920"/>
            <a:ext cx="914400" cy="304560"/>
          </a:xfrm>
          <a:prstGeom prst="rect">
            <a:avLst/>
          </a:prstGeom>
          <a:solidFill>
            <a:srgbClr val="97aa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Samp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2209680"/>
            <a:ext cx="380880" cy="304920"/>
          </a:xfrm>
          <a:prstGeom prst="rect">
            <a:avLst/>
          </a:prstGeom>
          <a:solidFill>
            <a:srgbClr val="97aa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IL Expert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2971800"/>
            <a:ext cx="2590560" cy="304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 Narrow"/>
              </a:rPr>
              <a:t>Setting-up of organ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3352680"/>
            <a:ext cx="1219320" cy="304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0808"/>
                </a:solidFill>
                <a:latin typeface="Arial Narrow"/>
              </a:rPr>
              <a:t>Prep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14600" y="3733920"/>
            <a:ext cx="1219320" cy="304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 Narrow"/>
              </a:rPr>
              <a:t>Trai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4114800"/>
            <a:ext cx="1143000" cy="304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 Narrow"/>
              </a:rPr>
              <a:t>Commun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33920" y="4495680"/>
            <a:ext cx="609480" cy="304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 Narrow"/>
              </a:rPr>
              <a:t>Col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62520" y="4876920"/>
            <a:ext cx="1218960" cy="304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0808"/>
                </a:solidFill>
                <a:latin typeface="Arial Narrow"/>
              </a:rPr>
              <a:t>Rece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9880" y="5257800"/>
            <a:ext cx="1752840" cy="304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0808"/>
                </a:solidFill>
                <a:latin typeface="Arial Narrow"/>
              </a:rPr>
              <a:t>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59280" y="5661000"/>
            <a:ext cx="2971800" cy="304920"/>
          </a:xfrm>
          <a:prstGeom prst="rect">
            <a:avLst/>
          </a:prstGeom>
          <a:solidFill>
            <a:srgbClr val="97aa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Data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47280" y="1981080"/>
            <a:ext cx="38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Verdana"/>
              </a:rPr>
              <a:t>Oc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48720" y="6019920"/>
            <a:ext cx="838080" cy="304560"/>
          </a:xfrm>
          <a:prstGeom prst="rect">
            <a:avLst/>
          </a:prstGeom>
          <a:solidFill>
            <a:srgbClr val="97aa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Dissem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An « old » but good paper…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499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Written en 2008 by Olivier Lefebvre and Michel Cezard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499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Three parts :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spcBef>
                <a:spcPts val="601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94388"/>
                </a:solidFill>
                <a:latin typeface="Arial"/>
              </a:rPr>
              <a:t>A complete presentation of the new french population census method</a:t>
            </a:r>
            <a:endParaRPr b="0" lang="en-US" sz="24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601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94388"/>
                </a:solidFill>
                <a:latin typeface="Arial"/>
              </a:rPr>
              <a:t>Compliance on </a:t>
            </a:r>
            <a:endParaRPr b="0" lang="en-US" sz="2400" spc="-1" strike="noStrike">
              <a:solidFill>
                <a:srgbClr val="194388"/>
              </a:solidFill>
              <a:latin typeface="Arial"/>
            </a:endParaRPr>
          </a:p>
          <a:p>
            <a:pPr lvl="2" marL="853920" indent="-101520">
              <a:spcBef>
                <a:spcPts val="601"/>
              </a:spcBef>
              <a:buClr>
                <a:srgbClr val="1943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94388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194388"/>
                </a:solidFill>
                <a:latin typeface="Arial"/>
              </a:rPr>
              <a:t>the quality criteria of the UN (individual enumeration, universality,….) </a:t>
            </a:r>
            <a:endParaRPr b="0" lang="en-US" sz="2400" spc="-1" strike="noStrike">
              <a:solidFill>
                <a:srgbClr val="868686"/>
              </a:solidFill>
              <a:latin typeface="Arial"/>
            </a:endParaRPr>
          </a:p>
          <a:p>
            <a:pPr lvl="2" marL="853920" indent="-101520">
              <a:spcBef>
                <a:spcPts val="601"/>
              </a:spcBef>
              <a:buClr>
                <a:srgbClr val="1943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94388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194388"/>
                </a:solidFill>
                <a:latin typeface="Arial"/>
              </a:rPr>
              <a:t>the criteria shortlisted by the EuroStat code of best practices (relevance, accuracy,…) </a:t>
            </a:r>
            <a:endParaRPr b="0" lang="en-US" sz="2400" spc="-1" strike="noStrike">
              <a:solidFill>
                <a:srgbClr val="868686"/>
              </a:solidFill>
              <a:latin typeface="Arial"/>
            </a:endParaRPr>
          </a:p>
          <a:p>
            <a:pPr lvl="1" marL="561960" indent="-183960"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94388"/>
                </a:solidFill>
                <a:latin typeface="Arial"/>
              </a:rPr>
              <a:t>The management of the census quality</a:t>
            </a:r>
            <a:r>
              <a:rPr b="0" lang="fr-FR" sz="2000" spc="-1" strike="noStrike">
                <a:solidFill>
                  <a:srgbClr val="19438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Any improvement as effects at several points of the process : formulars, formations, protocols, softwares, traitements,… 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Sometimes an improvement has his first impact within 2 or 3 years.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The national commission for the evaluation of the census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lnSpc>
                <a:spcPct val="90000"/>
              </a:lnSpc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Under the rule of the CNIS (National Council for Statistical Information)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lnSpc>
                <a:spcPct val="90000"/>
              </a:lnSpc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Presided over by a senator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lnSpc>
                <a:spcPct val="90000"/>
              </a:lnSpc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It associates communes, the data users (researchers, administrations, municipalities), the Insee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lnSpc>
                <a:spcPct val="90000"/>
              </a:lnSpc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It enables an exchange on data collection, control protocols, useful in improving the processe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lnSpc>
                <a:spcPct val="90000"/>
              </a:lnSpc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It must give an opinion on the texts governing the organisation of the censu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  <a:ea typeface="Arial"/>
              </a:rPr>
              <a:t>The management of quality, process by process : some exemples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Sampling frame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Data collectio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Data processing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Disseminatio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1 - Sampling frames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lnSpc>
                <a:spcPct val="90000"/>
              </a:lnSpc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The « quality » survey of the RIL (adress register in large communes)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lnSpc>
                <a:spcPct val="90000"/>
              </a:lnSpc>
              <a:spcBef>
                <a:spcPts val="45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66666"/>
                </a:solidFill>
                <a:latin typeface="Arial"/>
              </a:rPr>
              <a:t>An annual survey to assess 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lnSpc>
                <a:spcPct val="90000"/>
              </a:lnSpc>
              <a:spcBef>
                <a:spcPts val="451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94388"/>
                </a:solidFill>
                <a:latin typeface="Arial"/>
              </a:rPr>
              <a:t>The surpluses and the deficits</a:t>
            </a:r>
            <a:endParaRPr b="0" lang="en-US" sz="18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lnSpc>
                <a:spcPct val="90000"/>
              </a:lnSpc>
              <a:spcBef>
                <a:spcPts val="451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94388"/>
                </a:solidFill>
                <a:latin typeface="Arial"/>
              </a:rPr>
              <a:t>The surplus-deficit balance</a:t>
            </a:r>
            <a:endParaRPr b="0" lang="en-US" sz="18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lnSpc>
                <a:spcPct val="90000"/>
              </a:lnSpc>
              <a:spcBef>
                <a:spcPts val="451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94388"/>
                </a:solidFill>
                <a:latin typeface="Arial"/>
              </a:rPr>
              <a:t>The communes for which the quality is deemed mediocre</a:t>
            </a:r>
            <a:endParaRPr b="0" lang="en-US" sz="1800" spc="-1" strike="noStrike">
              <a:solidFill>
                <a:srgbClr val="194388"/>
              </a:solidFill>
              <a:latin typeface="Arial"/>
            </a:endParaRPr>
          </a:p>
          <a:p>
            <a:pPr marL="187200" indent="-185760">
              <a:lnSpc>
                <a:spcPct val="90000"/>
              </a:lnSpc>
              <a:spcBef>
                <a:spcPts val="45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66666"/>
                </a:solidFill>
                <a:latin typeface="Arial"/>
              </a:rPr>
              <a:t>The sample in 2008: 340 000 addresses and 900 000 dwellings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lnSpc>
                <a:spcPct val="90000"/>
              </a:lnSpc>
              <a:spcBef>
                <a:spcPts val="45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66666"/>
                </a:solidFill>
                <a:latin typeface="Arial"/>
              </a:rPr>
              <a:t>The results 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lnSpc>
                <a:spcPct val="90000"/>
              </a:lnSpc>
              <a:spcBef>
                <a:spcPts val="451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94388"/>
                </a:solidFill>
                <a:latin typeface="Arial"/>
              </a:rPr>
              <a:t>1% of dwellings in deficit, 1% in surplus</a:t>
            </a:r>
            <a:endParaRPr b="0" lang="en-US" sz="18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lnSpc>
                <a:spcPct val="90000"/>
              </a:lnSpc>
              <a:spcBef>
                <a:spcPts val="451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94388"/>
                </a:solidFill>
                <a:latin typeface="Arial"/>
              </a:rPr>
              <a:t>one commune out of eight beyond 2.5% of deficit</a:t>
            </a:r>
            <a:endParaRPr b="0" lang="en-US" sz="18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lnSpc>
                <a:spcPct val="90000"/>
              </a:lnSpc>
              <a:spcBef>
                <a:spcPts val="451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94388"/>
                </a:solidFill>
                <a:latin typeface="Arial"/>
              </a:rPr>
              <a:t>A level of quality higher than that of usual geographical registers </a:t>
            </a:r>
            <a:endParaRPr b="0" lang="en-US" sz="18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lnSpc>
                <a:spcPct val="90000"/>
              </a:lnSpc>
              <a:spcBef>
                <a:spcPts val="451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94388"/>
                </a:solidFill>
                <a:latin typeface="Arial"/>
              </a:rPr>
              <a:t>A regular improvement process</a:t>
            </a:r>
            <a:endParaRPr b="0" lang="en-US" sz="1800" spc="-1" strike="noStrike">
              <a:solidFill>
                <a:srgbClr val="194388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Sampling frames (2)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lnSpc>
                <a:spcPct val="90000"/>
              </a:lnSpc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The action plan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lnSpc>
                <a:spcPct val="90000"/>
              </a:lnSpc>
              <a:spcBef>
                <a:spcPts val="45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66666"/>
                </a:solidFill>
                <a:latin typeface="Arial"/>
              </a:rPr>
              <a:t>To improve the quality of the RIL with targetted operations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lnSpc>
                <a:spcPct val="90000"/>
              </a:lnSpc>
              <a:spcBef>
                <a:spcPts val="451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94388"/>
                </a:solidFill>
                <a:latin typeface="Arial"/>
              </a:rPr>
              <a:t>Decided and implemented by the Regional Directorates in relation with the communes</a:t>
            </a:r>
            <a:endParaRPr b="0" lang="en-US" sz="18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lnSpc>
                <a:spcPct val="90000"/>
              </a:lnSpc>
              <a:spcBef>
                <a:spcPts val="451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94388"/>
                </a:solidFill>
                <a:latin typeface="Arial"/>
              </a:rPr>
              <a:t>As a function of the strong points and the weak points detected locally</a:t>
            </a:r>
            <a:endParaRPr b="0" lang="en-US" sz="18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lnSpc>
                <a:spcPct val="90000"/>
              </a:lnSpc>
              <a:spcBef>
                <a:spcPts val="451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94388"/>
                </a:solidFill>
                <a:latin typeface="Arial"/>
              </a:rPr>
              <a:t>Training of communes, fieldwork…</a:t>
            </a:r>
            <a:endParaRPr b="0" lang="en-US" sz="1800" spc="-1" strike="noStrike">
              <a:solidFill>
                <a:srgbClr val="194388"/>
              </a:solidFill>
              <a:latin typeface="Arial"/>
            </a:endParaRPr>
          </a:p>
          <a:p>
            <a:pPr marL="187200" indent="-185760">
              <a:lnSpc>
                <a:spcPct val="90000"/>
              </a:lnSpc>
              <a:spcBef>
                <a:spcPts val="45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66666"/>
                </a:solidFill>
                <a:latin typeface="Arial"/>
              </a:rPr>
              <a:t>Allowing for an operational management of quality because targetted on specific problems and based on the closeness between the regional teams and the communes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lnSpc>
                <a:spcPct val="90000"/>
              </a:lnSpc>
              <a:spcBef>
                <a:spcPts val="45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66666"/>
                </a:solidFill>
                <a:latin typeface="Arial"/>
              </a:rPr>
              <a:t>The future efforts: reduce the surpluses and arrive at level surplus-deficit balance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5f82"/>
                </a:solidFill>
                <a:latin typeface="Arial"/>
              </a:rPr>
              <a:t>2 - Data collection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The control procedures during the data collectio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The follow-up and control upon the initiative of the commune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499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The controls at the Insee after the data collection </a:t>
            </a: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(reception-control, in office control, controls in the field)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The control procedure during data collection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A precise data collection protoco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Checked by the municipal officer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And by the supervisor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Follow-up and control system upon the initiative of the communes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700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Arial"/>
              </a:rPr>
              <a:t>Upstream from the data collection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4388"/>
                </a:solidFill>
                <a:latin typeface="Arial"/>
              </a:rPr>
              <a:t>Validation of the sample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4388"/>
                </a:solidFill>
                <a:latin typeface="Arial"/>
              </a:rPr>
              <a:t>Control-validation of the field to be observed carried-out by the enumerator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marL="187200" indent="-185760">
              <a:spcBef>
                <a:spcPts val="700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Arial"/>
              </a:rPr>
              <a:t>Follow-up of the data collection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4388"/>
                </a:solidFill>
                <a:latin typeface="Arial"/>
              </a:rPr>
              <a:t>Follow-up of the progress of work of the enumerator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4388"/>
                </a:solidFill>
                <a:latin typeface="Arial"/>
              </a:rPr>
              <a:t>Follow-up of key indicators : FLNE(Non response housing forms), vacant dwellings, quality of the log book of the tour-visits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520" y="514080"/>
            <a:ext cx="853452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The controls at the Insee after data collection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666666"/>
                </a:solidFill>
                <a:latin typeface="Arial"/>
              </a:rPr>
              <a:t>Successive « sorting » 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lnSpc>
                <a:spcPct val="90000"/>
              </a:lnSpc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The step of reception-registering of the questionnaire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lnSpc>
                <a:spcPct val="90000"/>
              </a:lnSpc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94388"/>
                </a:solidFill>
                <a:latin typeface="Arial"/>
              </a:rPr>
              <a:t>Establishment of indicators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lnSpc>
                <a:spcPct val="90000"/>
              </a:lnSpc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94388"/>
                </a:solidFill>
                <a:latin typeface="Arial"/>
              </a:rPr>
              <a:t>Communes with insufficient scores subject to in-depth control (approx. 15% of the communes representing 30% of the population) 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marL="187200" indent="-185760">
              <a:lnSpc>
                <a:spcPct val="90000"/>
              </a:lnSpc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Desk control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lnSpc>
                <a:spcPct val="90000"/>
              </a:lnSpc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94388"/>
                </a:solidFill>
                <a:latin typeface="Arial"/>
              </a:rPr>
              <a:t>Verification with the help of the housing Tax files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lnSpc>
                <a:spcPct val="90000"/>
              </a:lnSpc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94388"/>
                </a:solidFill>
                <a:latin typeface="Arial"/>
              </a:rPr>
              <a:t>On the exhaustiveness of the dwellings, the FLNE, the structure of main/not main residence 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marL="187200" indent="-185760">
              <a:lnSpc>
                <a:spcPct val="90000"/>
              </a:lnSpc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In field control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2" marL="853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686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The in-field controls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They are done by Insee agent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They relate to the communes whose quality is presumed insufficient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Most often, they confirm the data collectio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The errors detected are corrected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666666"/>
                </a:solidFill>
                <a:latin typeface="Arial"/>
              </a:rPr>
              <a:t>N.B. these controls are not representative, therefore </a:t>
            </a:r>
            <a:r>
              <a:rPr b="0" i="1" lang="fr-FR" sz="2400" spc="-1" strike="noStrike" u="sng">
                <a:solidFill>
                  <a:srgbClr val="666666"/>
                </a:solidFill>
                <a:uFillTx/>
                <a:latin typeface="Arial"/>
              </a:rPr>
              <a:t>their results cannot be extrapolated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II - In line with quality criteria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  <a:ea typeface="Times New Roman"/>
              </a:rPr>
              <a:t>The essential characteristics of the census (defined by the UN) :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2" marL="853920" indent="-101520">
              <a:spcBef>
                <a:spcPts val="451"/>
              </a:spcBef>
              <a:buClr>
                <a:srgbClr val="868686"/>
              </a:buClr>
              <a:buFont typeface="Arial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868686"/>
                </a:solidFill>
                <a:uFillTx/>
                <a:latin typeface="Arial"/>
                <a:ea typeface="Times New Roman"/>
              </a:rPr>
              <a:t>Individual listing</a:t>
            </a:r>
            <a:r>
              <a:rPr b="0" lang="fr-FR" sz="1800" spc="-1" strike="noStrike">
                <a:solidFill>
                  <a:srgbClr val="868686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868686"/>
              </a:solidFill>
              <a:latin typeface="Arial"/>
            </a:endParaRPr>
          </a:p>
          <a:p>
            <a:pPr lvl="2" marL="853920" indent="-101520">
              <a:spcBef>
                <a:spcPts val="451"/>
              </a:spcBef>
              <a:buClr>
                <a:srgbClr val="868686"/>
              </a:buClr>
              <a:buFont typeface="Arial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68686"/>
                </a:solidFill>
                <a:latin typeface="Arial"/>
                <a:ea typeface="Times New Roman"/>
              </a:rPr>
              <a:t>Universality</a:t>
            </a:r>
            <a:endParaRPr b="0" lang="en-US" sz="1800" spc="-1" strike="noStrike">
              <a:solidFill>
                <a:srgbClr val="868686"/>
              </a:solidFill>
              <a:latin typeface="Arial"/>
            </a:endParaRPr>
          </a:p>
          <a:p>
            <a:pPr lvl="2" marL="853920" indent="-101520">
              <a:spcBef>
                <a:spcPts val="451"/>
              </a:spcBef>
              <a:buClr>
                <a:srgbClr val="868686"/>
              </a:buClr>
              <a:buFont typeface="Arial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68686"/>
                </a:solidFill>
                <a:latin typeface="Arial"/>
                <a:ea typeface="Times New Roman"/>
              </a:rPr>
              <a:t>Simultaneity</a:t>
            </a:r>
            <a:endParaRPr b="0" lang="en-US" sz="1800" spc="-1" strike="noStrike">
              <a:solidFill>
                <a:srgbClr val="868686"/>
              </a:solidFill>
              <a:latin typeface="Arial"/>
            </a:endParaRPr>
          </a:p>
          <a:p>
            <a:pPr lvl="2" marL="853920" indent="-101520">
              <a:spcBef>
                <a:spcPts val="451"/>
              </a:spcBef>
              <a:buClr>
                <a:srgbClr val="868686"/>
              </a:buClr>
              <a:buFont typeface="Arial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868686"/>
                </a:solidFill>
                <a:uFillTx/>
                <a:latin typeface="Arial"/>
                <a:ea typeface="Times New Roman"/>
              </a:rPr>
              <a:t>Capacity to supply data on small fields</a:t>
            </a:r>
            <a:endParaRPr b="0" lang="en-US" sz="1800" spc="-1" strike="noStrike">
              <a:solidFill>
                <a:srgbClr val="868686"/>
              </a:solidFill>
              <a:latin typeface="Arial"/>
            </a:endParaRPr>
          </a:p>
          <a:p>
            <a:pPr lvl="2" marL="853920" indent="-101520">
              <a:spcBef>
                <a:spcPts val="451"/>
              </a:spcBef>
              <a:buClr>
                <a:srgbClr val="868686"/>
              </a:buClr>
              <a:buFont typeface="Arial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868686"/>
                </a:solidFill>
                <a:uFillTx/>
                <a:latin typeface="Arial"/>
                <a:ea typeface="Times New Roman"/>
              </a:rPr>
              <a:t>Regularity</a:t>
            </a:r>
            <a:endParaRPr b="0" lang="en-US" sz="1800" spc="-1" strike="noStrike">
              <a:solidFill>
                <a:srgbClr val="868686"/>
              </a:solidFill>
              <a:latin typeface="Arial"/>
            </a:endParaRPr>
          </a:p>
          <a:p>
            <a:pPr lvl="1" marL="561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marL="18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The in-field controls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 fontScale="57000"/>
          </a:bodyPr>
          <a:p>
            <a:pPr marL="26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26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26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26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3429000"/>
            <a:ext cx="1828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30 000 in-fiel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362320" y="2590560"/>
            <a:ext cx="1371600" cy="6094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438280" y="3809880"/>
            <a:ext cx="144792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4267080"/>
            <a:ext cx="1447560" cy="9907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962520" y="2286000"/>
            <a:ext cx="2971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22 000 controls of dwell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3505320"/>
            <a:ext cx="19810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6 400 controls of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91120" y="5105520"/>
            <a:ext cx="3504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500 controls by teleph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3048120"/>
            <a:ext cx="33526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Of which: 2 800 in the communes of more than 10 000 inhabit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3886200"/>
            <a:ext cx="30481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Of which: 3 600 in the communes of less than 10 000 inhabit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62720" y="3124080"/>
            <a:ext cx="75960" cy="1219320"/>
          </a:xfrm>
          <a:custGeom>
            <a:avLst/>
            <a:gdLst>
              <a:gd name="textAreaLeft" fmla="*/ 48600 w 75960"/>
              <a:gd name="textAreaRight" fmla="*/ 76320 w 759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Zoom on controls of dwellings 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362320" y="2590560"/>
            <a:ext cx="1371600" cy="6094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3809880"/>
            <a:ext cx="144792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362320" y="4267080"/>
            <a:ext cx="1447560" cy="9907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62520" y="2286000"/>
            <a:ext cx="3962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79 % : verification of a FL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114800" y="3505320"/>
            <a:ext cx="502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11 % : verification of a main resi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14800" y="5105520"/>
            <a:ext cx="5029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10 % : verification of secondary residence, vacant dwelling or occasional dw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Results of controls of FLNE</a:t>
            </a:r>
            <a:r>
              <a:rPr b="1" lang="fr-FR" sz="2800" spc="-1" strike="noStrike" u="sng">
                <a:solidFill>
                  <a:srgbClr val="465f82"/>
                </a:solidFill>
                <a:uFillTx/>
                <a:latin typeface="Arial"/>
              </a:rPr>
              <a:t> 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619760" cy="35053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 fontScale="95000"/>
          </a:bodyPr>
          <a:p>
            <a:pPr marL="177840" indent="-176400">
              <a:lnSpc>
                <a:spcPct val="90000"/>
              </a:lnSpc>
              <a:spcBef>
                <a:spcPts val="499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In 85% of the cases, the household enumerator finds the information</a:t>
            </a:r>
            <a:r>
              <a:rPr b="1" lang="fr-FR" sz="2000" spc="-1" strike="noStrike">
                <a:solidFill>
                  <a:srgbClr val="6666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177840" indent="-176400">
              <a:lnSpc>
                <a:spcPct val="90000"/>
              </a:lnSpc>
              <a:spcBef>
                <a:spcPts val="499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Most often, the FLNE does concern a main residence and the number of persons is correctly estimated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177840" indent="-176400">
              <a:lnSpc>
                <a:spcPct val="90000"/>
              </a:lnSpc>
              <a:spcBef>
                <a:spcPts val="499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In 15 % of the cases, FLNEs have been wrongly provided  (for non-main residences)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177840" indent="-176400">
              <a:lnSpc>
                <a:spcPct val="90000"/>
              </a:lnSpc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3300"/>
                </a:solidFill>
                <a:latin typeface="Arial"/>
              </a:rPr>
              <a:t>!!! These figures are not representatives. Controls are made on most difficult cases, where the proba of error is higher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3.1 -  Data processing : Data entry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9360">
            <a:solidFill>
              <a:srgbClr val="465f82"/>
            </a:solidFill>
            <a:miter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700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Arial"/>
              </a:rPr>
              <a:t>outsourced to indepent service provider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Quality criteria specifically defined in the specification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94388"/>
                </a:solidFill>
                <a:latin typeface="Arial"/>
              </a:rPr>
              <a:t>securing of transports and data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94388"/>
                </a:solidFill>
                <a:latin typeface="Arial"/>
              </a:rPr>
              <a:t>maximum rate of error by category of variables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marL="18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499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… </a:t>
            </a: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and evaluated by an independent control process </a:t>
            </a: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(sample that has been input twice and arbitration)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3.2 – Data procesing : coding of industry and profession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lvl="1" marL="561960" indent="-183960">
              <a:lnSpc>
                <a:spcPct val="90000"/>
              </a:lnSpc>
              <a:spcBef>
                <a:spcPts val="7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94388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194388"/>
                </a:solidFill>
                <a:latin typeface="Arial"/>
              </a:rPr>
              <a:t>sample Quality control by twice coding :</a:t>
            </a:r>
            <a:endParaRPr b="0" lang="en-US" sz="3200" spc="-1" strike="noStrike">
              <a:solidFill>
                <a:srgbClr val="194388"/>
              </a:solidFill>
              <a:latin typeface="Arial"/>
            </a:endParaRPr>
          </a:p>
          <a:p>
            <a:pPr lvl="2" marL="853920" indent="-101520">
              <a:lnSpc>
                <a:spcPct val="90000"/>
              </a:lnSpc>
              <a:spcBef>
                <a:spcPts val="601"/>
              </a:spcBef>
              <a:buClr>
                <a:srgbClr val="8686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68686"/>
                </a:solidFill>
                <a:latin typeface="Arial"/>
              </a:rPr>
              <a:t>Assessing the quality of the automatic coding and manual correction</a:t>
            </a:r>
            <a:endParaRPr b="0" lang="en-US" sz="2400" spc="-1" strike="noStrike">
              <a:solidFill>
                <a:srgbClr val="868686"/>
              </a:solidFill>
              <a:latin typeface="Arial"/>
            </a:endParaRPr>
          </a:p>
          <a:p>
            <a:pPr lvl="2" marL="853920" indent="-101520">
              <a:lnSpc>
                <a:spcPct val="90000"/>
              </a:lnSpc>
              <a:spcBef>
                <a:spcPts val="601"/>
              </a:spcBef>
              <a:buClr>
                <a:srgbClr val="8686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68686"/>
                </a:solidFill>
                <a:latin typeface="Arial"/>
              </a:rPr>
              <a:t>Estimating a « threshold » of percentage of bulletins « non codable »</a:t>
            </a:r>
            <a:endParaRPr b="0" lang="en-US" sz="2400" spc="-1" strike="noStrike">
              <a:solidFill>
                <a:srgbClr val="868686"/>
              </a:solidFill>
              <a:latin typeface="Arial"/>
            </a:endParaRPr>
          </a:p>
          <a:p>
            <a:pPr lvl="1" marL="561960" indent="-183960">
              <a:lnSpc>
                <a:spcPct val="90000"/>
              </a:lnSpc>
              <a:spcBef>
                <a:spcPts val="7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4388"/>
                </a:solidFill>
                <a:latin typeface="Arial"/>
              </a:rPr>
              <a:t>The contributions of this approach :</a:t>
            </a:r>
            <a:endParaRPr b="0" lang="en-US" sz="3200" spc="-1" strike="noStrike">
              <a:solidFill>
                <a:srgbClr val="194388"/>
              </a:solidFill>
              <a:latin typeface="Arial"/>
            </a:endParaRPr>
          </a:p>
          <a:p>
            <a:pPr lvl="2" marL="853920" indent="-101520">
              <a:lnSpc>
                <a:spcPct val="90000"/>
              </a:lnSpc>
              <a:spcBef>
                <a:spcPts val="601"/>
              </a:spcBef>
              <a:buClr>
                <a:srgbClr val="8686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68686"/>
                </a:solidFill>
                <a:latin typeface="Arial"/>
              </a:rPr>
              <a:t>adding to the </a:t>
            </a:r>
            <a:r>
              <a:rPr b="0" lang="fr-FR" sz="2400" spc="-1" strike="noStrike">
                <a:solidFill>
                  <a:srgbClr val="465f82"/>
                </a:solidFill>
                <a:latin typeface="Arial"/>
              </a:rPr>
              <a:t>expert system</a:t>
            </a:r>
            <a:r>
              <a:rPr b="0" lang="fr-FR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868686"/>
                </a:solidFill>
                <a:latin typeface="Arial"/>
              </a:rPr>
              <a:t>files </a:t>
            </a:r>
            <a:endParaRPr b="0" lang="en-US" sz="2400" spc="-1" strike="noStrike">
              <a:solidFill>
                <a:srgbClr val="868686"/>
              </a:solidFill>
              <a:latin typeface="Arial"/>
            </a:endParaRPr>
          </a:p>
          <a:p>
            <a:pPr lvl="2" marL="853920" indent="-101520">
              <a:lnSpc>
                <a:spcPct val="90000"/>
              </a:lnSpc>
              <a:spcBef>
                <a:spcPts val="601"/>
              </a:spcBef>
              <a:buClr>
                <a:srgbClr val="8686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68686"/>
                </a:solidFill>
                <a:latin typeface="Arial"/>
              </a:rPr>
              <a:t>the improvement of training and protocols  (precisions added in codification rules)</a:t>
            </a:r>
            <a:endParaRPr b="0" lang="en-US" sz="2400" spc="-1" strike="noStrike">
              <a:solidFill>
                <a:srgbClr val="868686"/>
              </a:solidFill>
              <a:latin typeface="Arial"/>
            </a:endParaRPr>
          </a:p>
          <a:p>
            <a:pPr lvl="2" marL="853920" indent="-101520">
              <a:lnSpc>
                <a:spcPct val="90000"/>
              </a:lnSpc>
              <a:spcBef>
                <a:spcPts val="601"/>
              </a:spcBef>
              <a:buClr>
                <a:srgbClr val="8686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68686"/>
                </a:solidFill>
                <a:latin typeface="Arial"/>
              </a:rPr>
              <a:t>A finer management of quality, without going in for « excess quality »</a:t>
            </a:r>
            <a:endParaRPr b="0" lang="en-US" sz="2400" spc="-1" strike="noStrike">
              <a:solidFill>
                <a:srgbClr val="8686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3.3 - Data processing - </a:t>
            </a: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Data editing and imputation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spcBef>
                <a:spcPts val="64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194388"/>
                </a:solidFill>
                <a:latin typeface="Arial"/>
              </a:rPr>
              <a:t>Anayse the share of non responses or incoherent responses</a:t>
            </a:r>
            <a:endParaRPr b="0" lang="en-US" sz="26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64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194388"/>
                </a:solidFill>
                <a:latin typeface="Arial"/>
              </a:rPr>
              <a:t>Imputation of missing data or data presumed non-coherent (hot-deck procedure)</a:t>
            </a:r>
            <a:endParaRPr b="0" lang="en-US" sz="26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64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194388"/>
                </a:solidFill>
                <a:latin typeface="Arial"/>
              </a:rPr>
              <a:t>They are fine-tuned year after year, in view of the quality of the variables produced</a:t>
            </a:r>
            <a:endParaRPr b="0" lang="en-US" sz="2600" spc="-1" strike="noStrike">
              <a:solidFill>
                <a:srgbClr val="194388"/>
              </a:solidFill>
              <a:latin typeface="Arial"/>
            </a:endParaRPr>
          </a:p>
          <a:p>
            <a:pPr marL="187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465f82"/>
                </a:solidFill>
                <a:latin typeface="Arial"/>
              </a:rPr>
              <a:t>4 - Dissemination</a:t>
            </a:r>
            <a:endParaRPr b="1" lang="en-US" sz="32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700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Arial"/>
              </a:rPr>
              <a:t>A step prepared with the users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4388"/>
                </a:solidFill>
                <a:latin typeface="Arial"/>
              </a:rPr>
              <a:t>Define with them the products and services : two groups of the CNIS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4388"/>
                </a:solidFill>
                <a:latin typeface="Arial"/>
              </a:rPr>
              <a:t>Assess their satisfaction : groups of the CNIS and satisfaction surveys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marL="187200" indent="-185760">
              <a:spcBef>
                <a:spcPts val="700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Arial"/>
              </a:rPr>
              <a:t>A systematic validation of the data before dissemination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4388"/>
                </a:solidFill>
                <a:latin typeface="Arial"/>
              </a:rPr>
              <a:t>At the national level and in each regional directorate since 2009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550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4388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194388"/>
                </a:solidFill>
                <a:latin typeface="Arial"/>
              </a:rPr>
              <a:t>Today only at national level.</a:t>
            </a:r>
            <a:endParaRPr b="0" lang="en-US" sz="2200" spc="-1" strike="noStrike">
              <a:solidFill>
                <a:srgbClr val="194388"/>
              </a:solidFill>
              <a:latin typeface="Arial"/>
            </a:endParaRPr>
          </a:p>
          <a:p>
            <a:pPr marL="18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Any questions ?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400800" y="5791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520" y="1676520"/>
            <a:ext cx="7924680" cy="0"/>
          </a:xfrm>
          <a:prstGeom prst="line">
            <a:avLst/>
          </a:prstGeom>
          <a:ln w="442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304920" y="1905120"/>
            <a:ext cx="8447040" cy="3580920"/>
            <a:chOff x="304920" y="1905120"/>
            <a:chExt cx="8447040" cy="3580920"/>
          </a:xfrm>
        </p:grpSpPr>
        <p:pic>
          <p:nvPicPr>
            <p:cNvPr id="254" name="" descr=""/>
            <p:cNvPicPr/>
            <p:nvPr/>
          </p:nvPicPr>
          <p:blipFill>
            <a:blip r:embed="rId2"/>
            <a:stretch/>
          </p:blipFill>
          <p:spPr>
            <a:xfrm>
              <a:off x="304920" y="2120760"/>
              <a:ext cx="1839960" cy="20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3"/>
            <a:stretch/>
          </p:blipFill>
          <p:spPr>
            <a:xfrm>
              <a:off x="2057400" y="2819160"/>
              <a:ext cx="181944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4"/>
            <a:stretch/>
          </p:blipFill>
          <p:spPr>
            <a:xfrm>
              <a:off x="3886200" y="3504960"/>
              <a:ext cx="181764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5"/>
            <a:stretch/>
          </p:blipFill>
          <p:spPr>
            <a:xfrm>
              <a:off x="5410080" y="2819160"/>
              <a:ext cx="181764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6"/>
            <a:stretch/>
          </p:blipFill>
          <p:spPr>
            <a:xfrm>
              <a:off x="6934320" y="1905120"/>
              <a:ext cx="1817640" cy="19810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Individual listing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Data for each individual and each household interviewed in the censu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Organised in a « detail » file allowing for all kinds of comparison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Sampling rate sufficient for all kinds of cross-tabulation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Universality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499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Guaranteed in the small communes because each dwelling is interviewed in the census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499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Guaranteed in the large communes by the  RIL which covers all the addresses of dwellings and by the sampling rate (40%)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499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The institutions (communities) are exhaustively interviewed 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499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Homeless persons and those living in mobile homes, exhaustively interviewed for the census, are subject to an adapted data collection protoco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499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66"/>
                </a:solidFill>
                <a:latin typeface="Arial"/>
              </a:rPr>
              <a:t>Data collection is controlled through a comparison with the Housing Tax files and with the RI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Simultaneity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The annual survey takes place for all the communes concerned at the same date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The data collected at different years are brought down to the same date, thanks to administrative files, or through a mobile average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Capacity to supply data on small fields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Stems from both universality  and individual listing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Garanteed by the sampling rate (100% in the small communes and 40% in the large ones)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The census will supply data on all the communes and on the « IRIS », districts of about 2000 inhabitant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18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Regularity</a:t>
            </a: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</a:rPr>
              <a:t>Criteria met by construction because one supplies annual data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65f82"/>
                </a:solidFill>
                <a:latin typeface="Arial"/>
              </a:rPr>
              <a:t>In line with quality criteria (2)</a:t>
            </a:r>
            <a:br>
              <a:rPr sz="2800"/>
            </a:br>
            <a:endParaRPr b="1" lang="en-US" sz="2800" spc="-1" strike="noStrike">
              <a:solidFill>
                <a:srgbClr val="465f8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Arial"/>
                <a:ea typeface="Arial"/>
              </a:rPr>
              <a:t>Criteria adopted by Eurostat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61960" indent="-183960"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94388"/>
                </a:solidFill>
                <a:latin typeface="Arial"/>
                <a:ea typeface="Arial"/>
              </a:rPr>
              <a:t>Relevance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194388"/>
                </a:solidFill>
                <a:uFillTx/>
                <a:latin typeface="Arial"/>
                <a:ea typeface="Arial"/>
              </a:rPr>
              <a:t>Accuracy and reliability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194388"/>
                </a:solidFill>
                <a:uFillTx/>
                <a:latin typeface="Arial"/>
                <a:ea typeface="Arial"/>
              </a:rPr>
              <a:t>Timeliness and punctuality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194388"/>
                </a:solidFill>
                <a:uFillTx/>
                <a:latin typeface="Arial"/>
                <a:ea typeface="Arial"/>
              </a:rPr>
              <a:t>Accessibility and clarity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94388"/>
                </a:solidFill>
                <a:latin typeface="Arial"/>
                <a:ea typeface="Arial"/>
              </a:rPr>
              <a:t>Comparability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lvl="1" marL="561960" indent="-183960">
              <a:spcBef>
                <a:spcPts val="499"/>
              </a:spcBef>
              <a:buClr>
                <a:srgbClr val="1943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94388"/>
                </a:solidFill>
                <a:latin typeface="Arial"/>
                <a:ea typeface="Arial"/>
              </a:rPr>
              <a:t>Coherence</a:t>
            </a:r>
            <a:endParaRPr b="0" lang="en-US" sz="2000" spc="-1" strike="noStrike">
              <a:solidFill>
                <a:srgbClr val="194388"/>
              </a:solidFill>
              <a:latin typeface="Arial"/>
            </a:endParaRPr>
          </a:p>
          <a:p>
            <a:pPr marL="18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19:26:37Z</dcterms:created>
  <dc:creator>LEFEBVRE</dc:creator>
  <dc:description/>
  <dc:language>en-US</dc:language>
  <cp:lastModifiedBy>Clanché François</cp:lastModifiedBy>
  <dcterms:modified xsi:type="dcterms:W3CDTF">2010-07-08T07:03:40Z</dcterms:modified>
  <cp:revision>116</cp:revision>
  <dc:subject/>
  <dc:title>Plan de la journé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41371572</vt:r8>
  </property>
  <property fmtid="{D5CDD505-2E9C-101B-9397-08002B2CF9AE}" pid="3" name="_AuthorEmail">
    <vt:lpwstr>leger@easyconnect.fr</vt:lpwstr>
  </property>
  <property fmtid="{D5CDD505-2E9C-101B-9397-08002B2CF9AE}" pid="4" name="_AuthorEmailDisplayName">
    <vt:lpwstr>leger</vt:lpwstr>
  </property>
  <property fmtid="{D5CDD505-2E9C-101B-9397-08002B2CF9AE}" pid="5" name="_EmailSubject">
    <vt:lpwstr>RE : Trad..</vt:lpwstr>
  </property>
</Properties>
</file>