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29F72-75B3-4D0C-A7E3-F19BE42D5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076AE-4EEE-4C4A-AB6B-E62192EC1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AA3A1-2AC2-496A-925D-14AB42AE7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C1741-58E6-420B-84F4-F0BAC731C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CD901-4FC3-4EA9-A2F7-A34A439B0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559CA-A13E-4F9A-B942-096367FAA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43B9D-1430-4245-A965-D6BFBD432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F4D3C-5C16-438E-9680-6C389A631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54582-43B9-4B4D-AD68-636589B12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C31D3-5B2D-4249-9705-A26E9552E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E9082-381F-4A74-A011-19A198FD5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DD059-F6E1-4BEE-B7B2-417ABFA5A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99BD0-C33E-40CF-B43F-9976F8C37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A70C8-2697-4B7C-B8BF-9B2AA8BE1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E54E2-3762-4654-8513-3E319E583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F510F-910C-46F8-8A45-02089BB3A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47C15-7AE3-45C0-954C-B35B7DAE7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A6C5F-D5C2-43F3-A3DF-B9B4B5D34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43F9C-2B06-4674-A0A9-29E23E7CD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B2633-40C7-42CA-B20A-BBC767B03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BA0AC-9D57-4315-A09C-94CC2BBB1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29E8B-7B22-48F0-92D6-1D22B11FF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7AA-847B-4D33-83FA-F4F82311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C48-76D3-452D-BD78-717F1917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16E-EDBF-45F6-B840-9A237DE9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7AA-961C-4984-99F7-6D919163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4EE-F890-4318-8C49-FCB60339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E3F-9956-48FA-81DE-AE8424D6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00D-10FB-4315-9DD1-4663C302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6A8-6451-45C8-B6DC-F43D972C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564-ABF0-43D5-9BAE-B33F507F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E8F-73D8-4AAE-A283-DF4F3284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8FF-C160-43C5-9D6D-6C55FEBA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D25-4EF8-4CD1-935E-A8DD1B8A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asic2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DE44-7252-499C-8990-41656D6C8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mccaa@umn.edu" TargetMode="External"/><Relationship Id="rId2" Type="http://schemas.openxmlformats.org/officeDocument/2006/relationships/hyperlink" Target="mailto:aesteve@ced.uab.es" TargetMode="External"/><Relationship Id="rId3" Type="http://schemas.openxmlformats.org/officeDocument/2006/relationships/hyperlink" Target="http://www.ipums.org/international" TargetMode="External"/><Relationship Id="rId4" Type="http://schemas.openxmlformats.org/officeDocument/2006/relationships/hyperlink" Target="http://www.iecm-project.org/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rmccaa@umn.edu" TargetMode="External"/><Relationship Id="rId2" Type="http://schemas.openxmlformats.org/officeDocument/2006/relationships/hyperlink" Target="mailto:aepalos@ced.uab.es" TargetMode="External"/><Relationship Id="rId3" Type="http://schemas.openxmlformats.org/officeDocument/2006/relationships/hyperlink" Target="http://www.ipums.org/international" TargetMode="External"/><Relationship Id="rId4" Type="http://schemas.openxmlformats.org/officeDocument/2006/relationships/hyperlink" Target="http://www.iecm-project.org/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990720"/>
            <a:ext cx="89917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seminating census microdata: the IPUMS and IECM experiences, 2002-2010 (and plans for beyond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* *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ert McCaa and Albert Esteve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nesota Population Center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entre d’Estudis Demogràfics 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mccaa@umn.edu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;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aesteve@ced.uab.es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ipums.org/international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(Global)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iecm-project.org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(Europe portal)</a:t>
            </a:r>
            <a:br>
              <a:rPr sz="2800"/>
            </a:b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Only used statistics are useful statistics.”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UNECE/Eurostat Meeting on Population and Housing Censuses   inf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NSFLOGO"/>
          <p:cNvPicPr/>
          <p:nvPr/>
        </p:nvPicPr>
        <p:blipFill>
          <a:blip r:embed="rId5"/>
          <a:stretch/>
        </p:blipFill>
        <p:spPr>
          <a:xfrm>
            <a:off x="8077320" y="28440"/>
            <a:ext cx="961920" cy="962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NIHLOGO"/>
          <p:cNvPicPr/>
          <p:nvPr/>
        </p:nvPicPr>
        <p:blipFill>
          <a:blip r:embed="rId6"/>
          <a:stretch/>
        </p:blipFill>
        <p:spPr>
          <a:xfrm>
            <a:off x="152280" y="1522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IPUMS-~2"/>
          <p:cNvPicPr/>
          <p:nvPr/>
        </p:nvPicPr>
        <p:blipFill>
          <a:blip r:embed="rId7"/>
          <a:stretch/>
        </p:blipFill>
        <p:spPr>
          <a:xfrm>
            <a:off x="3809880" y="152280"/>
            <a:ext cx="1447920" cy="7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8380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semination of microdata and metadata extra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ssive scale of IPUMS requires users to be sel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country (or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samples (census yea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variables (e.g., age, sex, educational attainment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sub-populations (e.g., nur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sample dens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ce an extract request is submitted, the IPUMS extract eng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s the microdata ex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s the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ails the researcher to retrieve the extrac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ssword protected, transmission is encrypted 128 bit S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searcher downloads the extract, un-zips and analy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ract system validated as usage has so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93680" y="2046240"/>
            <a:ext cx="875664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2. IPUMS-International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Usage statistics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IPUMS-~2"/>
          <p:cNvPicPr/>
          <p:nvPr/>
        </p:nvPicPr>
        <p:blipFill>
          <a:blip r:embed="rId1"/>
          <a:stretch/>
        </p:blipFill>
        <p:spPr>
          <a:xfrm>
            <a:off x="3835440" y="10152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52280" y="4572000"/>
            <a:ext cx="89917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 card hand-out for list of current samples and usage stat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8380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ge Statistics (June 4, 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9,170 extracts (jumped 10% in Ju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:  1,000 extracts pe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st number of extracts:  Kyrgyz Republic, 116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sus of 1999; first year of avail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st number of extracts:  Mexico, 7,637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 censuses, 8 years of availabilit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xico 2000:  2,464 ex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age statistics  by country:  see Tab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3808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2.  Usage statistics: Sample Rank and Detai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04920" y="1143000"/>
          <a:ext cx="8686800" cy="6004080"/>
        </p:xfrm>
        <a:graphic>
          <a:graphicData uri="http://schemas.openxmlformats.org/drawingml/2006/table">
            <a:tbl>
              <a:tblPr/>
              <a:tblGrid>
                <a:gridCol w="623880"/>
                <a:gridCol w="1377720"/>
                <a:gridCol w="1138320"/>
                <a:gridCol w="1411200"/>
                <a:gridCol w="2855880"/>
                <a:gridCol w="1279800"/>
              </a:tblGrid>
              <a:tr h="25704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2.  Extract Rank and Sample Details for the Top Five and all Europe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 %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s (n)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s of census samp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x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0p, 70, 90, 95, 2000, 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z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0, 70, 80, 91,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ed St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0, 70, 80, 90, 2000, 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4p, 72, 85, 93,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2, 68, 75, 82, 90, 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1p, 81p, 91p, 2001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1, 91,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e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1, 81, 91,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ng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0, 80, 90,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1, 81, 91,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1, 91,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m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6, 92, 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1, 81, 91,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1, 2001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her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0p, 71p, 2001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la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v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gridSpan="5"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extracts from the IPUMS-International database for 55 countries (158 samples) Jun 4,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,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 gridSpan="5"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2000 round census; refers to all integrated variables, including IPUMS constructed variables.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p” = person sample; all other samples are of househo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3808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3.  32 most popular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304920" y="1143000"/>
          <a:ext cx="8610480" cy="5121360"/>
        </p:xfrm>
        <a:graphic>
          <a:graphicData uri="http://schemas.openxmlformats.org/drawingml/2006/table">
            <a:tbl>
              <a:tblPr/>
              <a:tblGrid>
                <a:gridCol w="380880"/>
                <a:gridCol w="3200400"/>
                <a:gridCol w="1066680"/>
                <a:gridCol w="1447920"/>
                <a:gridCol w="2514600"/>
              </a:tblGrid>
              <a:tr h="243720">
                <a:tc gridSpan="5"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3.   Thirty-two most popular variables in IPUMS-Inter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Extr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cational attai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3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T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 (single years to 85+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ouped age n=3,8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loyment 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ST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ital 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 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5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T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ionship to 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7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5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of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5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W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wnership of dwel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WNRSH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cupation ISCO re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CI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hool atten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9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H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s of schoo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RSC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2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/r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y-general 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usehold 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6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TH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ildren ever 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vity (native/foreign bor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3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V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cup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3808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3.  32 most popular variables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304920" y="1143000"/>
          <a:ext cx="8610480" cy="4145040"/>
        </p:xfrm>
        <a:graphic>
          <a:graphicData uri="http://schemas.openxmlformats.org/drawingml/2006/table">
            <a:tbl>
              <a:tblPr/>
              <a:tblGrid>
                <a:gridCol w="380880"/>
                <a:gridCol w="3124080"/>
                <a:gridCol w="1143000"/>
                <a:gridCol w="1295640"/>
                <a:gridCol w="2666880"/>
              </a:tblGrid>
              <a:tr h="244080">
                <a:tc gridSpan="5"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3.   Thirty-two most popular variables in IPUMS-Inter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Extr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cational attai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3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AT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cup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ry of bi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LC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cation of spouse in 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ucted (household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le for locating 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R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ucted (househol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cation of mother in 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ML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ucted (househol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children survi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0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SUR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e of residence 5 years 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RATE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cation of father in house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L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ucted (househol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household inc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T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usehold 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rned inc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EA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ro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ensual un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400" rIns="23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rcRect l="25000" t="14001" r="20835" b="8668"/>
          <a:stretch/>
        </p:blipFill>
        <p:spPr>
          <a:xfrm>
            <a:off x="1752480" y="990720"/>
            <a:ext cx="6361200" cy="5676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uses, see http://bibliography.ipum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IPUMS-~2"/>
          <p:cNvPicPr/>
          <p:nvPr/>
        </p:nvPicPr>
        <p:blipFill>
          <a:blip r:embed="rId2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107" name="Oval 6"/>
          <p:cNvSpPr/>
          <p:nvPr/>
        </p:nvSpPr>
        <p:spPr>
          <a:xfrm>
            <a:off x="3962520" y="6095880"/>
            <a:ext cx="2057400" cy="3812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rcRect l="0" t="0" r="19168" b="32667"/>
          <a:stretch/>
        </p:blipFill>
        <p:spPr>
          <a:xfrm>
            <a:off x="228600" y="1447920"/>
            <a:ext cx="8782200" cy="4572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8580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:  scholar.google.com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UMS &amp; name of country, subjec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IPUMS-~2"/>
          <p:cNvPicPr/>
          <p:nvPr/>
        </p:nvPicPr>
        <p:blipFill>
          <a:blip r:embed="rId2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111" name="Oval 6"/>
          <p:cNvSpPr/>
          <p:nvPr/>
        </p:nvSpPr>
        <p:spPr>
          <a:xfrm>
            <a:off x="0" y="3505320"/>
            <a:ext cx="6781680" cy="13716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99036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um Standards for Samples Entrusted to IPUMS for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 sampl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precision:  5% minimum, 10%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ad set of variables—omit only those required for statistical confidentiality (low-level geography, low frequency attrib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ed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:  single year to 8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cupation, industry:  3 digit ISCO, I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ntry of birth:  detail individual countries consistent with statistical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to INSEE France for sample of recensement renovee, 2004-2008:  20 million person records  to be launched nex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68580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:  Invitation to continued 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1999, our dream:  integrate samples of 21 countries in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nks to generous cooperation of 55 National Statistical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dreamed  technological inno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2009, integrated samples for 44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users and usage far exceeded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2010 decade, our drea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uble the number of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uble the number of integrated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9200" indent="-59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-draw samples that do not meet minimum standards, where fea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ating statistical agencies:  please entrust 2010 samples in due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statistical agencies:  entrust series of samples for each census for which microdata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4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uss dissemination statistic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59,170 extracts downloaded by IPUMS registere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ite 21 European partn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entrust 2010 round samples as expeditiously as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ite non-partn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entrust samples of historical censuses (2000 and earlier rounds) as well as for the 2010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goals of presentation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UMS/IECM census microdata pro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IPUMS-~2"/>
          <p:cNvPicPr/>
          <p:nvPr/>
        </p:nvPicPr>
        <p:blipFill>
          <a:blip r:embed="rId1"/>
          <a:stretch/>
        </p:blipFill>
        <p:spPr>
          <a:xfrm>
            <a:off x="3835440" y="10152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3429000" y="914400"/>
            <a:ext cx="5562720" cy="12952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to the 5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ession ISI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blin, Aug 21-26, 2011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isi2011.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352680" y="2286000"/>
            <a:ext cx="579132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UMS Workshop, Aug 19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w IPUMS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ports by IPUMS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ports by National Statistical Office-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PUMS sponsorship for delegates from participating countri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conomy ai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gistration fe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8 nights accomodations and modest per-di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multaneous interpretation:  Russian/French/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415512308@29062010-2045"/>
          <p:cNvPicPr/>
          <p:nvPr/>
        </p:nvPicPr>
        <p:blipFill>
          <a:blip r:embed="rId2"/>
          <a:srcRect l="50178" t="0" r="0" b="0"/>
          <a:stretch/>
        </p:blipFill>
        <p:spPr>
          <a:xfrm>
            <a:off x="152280" y="1066680"/>
            <a:ext cx="3178440" cy="53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93680" y="2046240"/>
            <a:ext cx="875664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Thank you for your cooperation!!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mccaa@umn.edu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aepalos@ced.uab.es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ipums.org/international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iecm-project.org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IPUMS-~2"/>
          <p:cNvPicPr/>
          <p:nvPr/>
        </p:nvPicPr>
        <p:blipFill>
          <a:blip r:embed="rId5"/>
          <a:stretch/>
        </p:blipFill>
        <p:spPr>
          <a:xfrm>
            <a:off x="3835440" y="10152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124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280" y="2590560"/>
            <a:ext cx="883944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. of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UMS-International:  massive, global dissemin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UMS-International:  usage statistic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17524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grating census samples and metadata for timely dissemination via the IPUMS-Internationa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ECM initiatives, 2010-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93680" y="1447920"/>
            <a:ext cx="8756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1. IPUMS-International: 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Massive, Global Integration and Dissemination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…best practice for a data repository of international statistical data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Dennis Trewin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r UNECE task force on Statistical Confidentiality &amp; Microdata Access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IPUMS-~2"/>
          <p:cNvPicPr/>
          <p:nvPr/>
        </p:nvPicPr>
        <p:blipFill>
          <a:blip r:embed="rId1"/>
          <a:stretch/>
        </p:blipFill>
        <p:spPr>
          <a:xfrm>
            <a:off x="3835440" y="10152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52280" y="4800600"/>
            <a:ext cx="899172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 als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06:  "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PUMS-Europe: Confidentiality measures for licensing and disseminating restricted access census microdata extracts to academic use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"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Monographs of official statistics: Work session on statistical data confidentialit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 Entrusting census microdata and metadata for timely integration and dissemination via the IPUMS-EurAsia and IECM initiatives, 2010-2014.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CE/CES/GE.41/2009/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04920" y="838080"/>
            <a:ext cx="8534160" cy="782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UMS-Internat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152280" y="1523880"/>
            <a:ext cx="86868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un in 1999, IPUMS-International is the world’s largest integrated demographic datab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9 integrated, anonymized census samples (55 countri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25 million person records; 3,600 approved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 is likely to double over the next five years, by the addi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2010 round samples of 17 current  Eur-Asian partn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 Armenia, Austria, Belarus, Canada, France, Greece, Hungary, Italy, Kyrgyzstan, Netherlands, Portugal, Romania, Slovenia, Spain, Switzerland, UK, US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Samples for 8 Eur-Asian countries currently in developm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Belgium, Czech Republic, Ireland, Germany, Poland, Turkey, Turkmenistan, 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Future partn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?  Albania? Bulgaria? Croatia? Estonia? Finland?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NIHLOGO"/>
          <p:cNvPicPr/>
          <p:nvPr/>
        </p:nvPicPr>
        <p:blipFill>
          <a:blip r:embed="rId2"/>
          <a:stretch/>
        </p:blipFill>
        <p:spPr>
          <a:xfrm>
            <a:off x="152280" y="1522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NSFLOGO"/>
          <p:cNvPicPr/>
          <p:nvPr/>
        </p:nvPicPr>
        <p:blipFill>
          <a:blip r:embed="rId3"/>
          <a:stretch/>
        </p:blipFill>
        <p:spPr>
          <a:xfrm>
            <a:off x="8077320" y="28440"/>
            <a:ext cx="961920" cy="9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8380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9,170 extracts—586,643 variables—disseminat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umped 10% in June, with the 2010 la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PUMS-International NEVER disseminates source microda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IPUM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truc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les ranked in the top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9800" indent="-609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ouse’s location in house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800" indent="-609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ther’s location in house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800" indent="-609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ther’s location in househo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800" indent="-609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ouse rule for inferring location in house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variables are constructed from household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countries with person samples are invited to construct household sample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800" indent="-609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800" indent="-609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800" indent="-609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9834480" cy="4419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PUMS-International 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Times New Roman"/>
              </a:rPr>
              <a:t>dark green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 = integrated and disseminating</a:t>
            </a:r>
            <a:r>
              <a:rPr b="1" i="1" lang="es-E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Times New Roman"/>
              </a:rPr>
              <a:t>(55 countries, 159 censuses, 325 millon person records)</a:t>
            </a:r>
            <a:br>
              <a:rPr sz="2400"/>
            </a:br>
            <a:r>
              <a:rPr b="1" i="1" lang="en-US" sz="2400" spc="-1" strike="noStrike">
                <a:solidFill>
                  <a:srgbClr val="99ff99"/>
                </a:solidFill>
                <a:latin typeface="Times New Roman"/>
              </a:rPr>
              <a:t>green = to be integrated (35 countries, 90 censuses, 150 mil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038480" y="5943600"/>
            <a:ext cx="1371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llweide proj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124080" y="76320"/>
            <a:ext cx="3886200" cy="459720"/>
          </a:xfrm>
          <a:prstGeom prst="rect">
            <a:avLst/>
          </a:prstGeom>
          <a:solidFill>
            <a:srgbClr val="f0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UMS-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781680" y="1752480"/>
            <a:ext cx="2895840" cy="3934080"/>
          </a:xfrm>
          <a:prstGeom prst="rect">
            <a:avLst/>
          </a:prstGeom>
          <a:solidFill>
            <a:srgbClr val="f7f9a5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11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mbodia 2008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gypt 200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nce 2006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onesi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ela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br>
              <a:rPr sz="24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12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not you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IPUMS-~2"/>
          <p:cNvPicPr/>
          <p:nvPr/>
        </p:nvPicPr>
        <p:blipFill>
          <a:blip r:embed="rId1"/>
          <a:stretch/>
        </p:blipFill>
        <p:spPr>
          <a:xfrm>
            <a:off x="3835440" y="10152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3429000" y="914400"/>
            <a:ext cx="5562720" cy="12952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11 launch at the 5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ession ISI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blin, Aug 21-26, 2011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isi2011.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352680" y="2286000"/>
            <a:ext cx="579132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ropean samples to be laun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ance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ermany (1970-87; DFR ‘71, ‘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reland (1971-200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eyond Europe, samples fo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mbodi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gypt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amaica, 1981-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ra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uccessive annual launches planned for 2012, 2013, 201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415512308@29062010-2045"/>
          <p:cNvPicPr/>
          <p:nvPr/>
        </p:nvPicPr>
        <p:blipFill>
          <a:blip r:embed="rId2"/>
          <a:srcRect l="50178" t="0" r="0" b="0"/>
          <a:stretch/>
        </p:blipFill>
        <p:spPr>
          <a:xfrm>
            <a:off x="152280" y="1066680"/>
            <a:ext cx="3178440" cy="53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8380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semination of microdata extracts vi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UMS-Interna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PUMS-International NEVER disseminates source microda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age is restricted to bona-fide researchers who agree to stringent conditions of use to protect statistical 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UMS disseminates extracts, custom-tailored to researchers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like most statistical agencies which disseminates an identical entire sample to every u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23:35:41Z</dcterms:created>
  <dc:creator>Robert McCaa</dc:creator>
  <dc:description/>
  <dc:language>en-US</dc:language>
  <cp:lastModifiedBy>Robert McCaa</cp:lastModifiedBy>
  <dcterms:modified xsi:type="dcterms:W3CDTF">2010-07-07T08:42:20Z</dcterms:modified>
  <cp:revision>269</cp:revision>
  <dc:subject/>
  <dc:title>IPUMS-International: Lessons from 10 years of Archving and Disseminating Census Microdata</dc:title>
</cp:coreProperties>
</file>