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1D7A-486E-4204-BB9A-0E4D853643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7640" y="8650440"/>
            <a:ext cx="2971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657B60-B091-49AA-A933-5CBE361D3F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895400" y="612720"/>
            <a:ext cx="2541600" cy="1906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3120" y="4572000"/>
            <a:ext cx="528156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4BBE-62AF-49BF-AAD6-35820AD42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001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263760"/>
            <a:ext cx="8001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BFBF-51D7-4ED6-AAE1-578A8186C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0424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099A-A257-4449-A7D3-BC5CDAD74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09960" y="266652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15360" y="266652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26376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09960" y="326376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15360" y="326376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6D61-4FD9-4D3E-9146-C2AAA33F4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560" y="2666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2666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69FE-6ECB-4B44-9FE4-D5E4CB014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0424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3263760"/>
            <a:ext cx="8001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001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560" y="3263760"/>
            <a:ext cx="8001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56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40424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009960" y="266652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15360" y="266652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560" y="326376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009960" y="326376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15360" y="3263760"/>
            <a:ext cx="25761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E362-4DEC-400F-9571-AB47ECE58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9B58-D11E-4122-BE55-EFF66024E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21D3-9E6A-4B7E-A058-08C0E2A4D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9FD5-0EFC-46A3-B3FB-9B3F35B33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F097-EC30-40F0-8F04-CEF2875CA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04240" y="326376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C825-BA5D-4B8B-A697-0600A1E87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4240" y="2666520"/>
            <a:ext cx="39042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263760"/>
            <a:ext cx="80010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F525-5529-4286-AC21-C0461E5EF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700"/>
              </a:spcBef>
              <a:buClr>
                <a:srgbClr val="000000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95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848040" indent="-114120">
              <a:spcBef>
                <a:spcPts val="700"/>
              </a:spcBef>
              <a:buClr>
                <a:srgbClr val="a7a7a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848040" indent="-114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848040" indent="-114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6553080"/>
            <a:ext cx="7391520" cy="0"/>
          </a:xfrm>
          <a:prstGeom prst="line">
            <a:avLst/>
          </a:prstGeom>
          <a:ln cap="sq"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371600" y="655308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2120" y="6553080"/>
            <a:ext cx="304560" cy="27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1066680" y="6553080"/>
            <a:ext cx="304920" cy="27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11040" y="617220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659800" y="6407280"/>
            <a:ext cx="407880" cy="37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76520" y="65833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ssemination of French census sinc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752480" y="6553080"/>
            <a:ext cx="197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6705360" y="6555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va 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39080" y="2438280"/>
            <a:ext cx="0" cy="14479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733920"/>
            <a:ext cx="63244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886200"/>
            <a:ext cx="0" cy="12193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3886200"/>
            <a:ext cx="0" cy="53352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114800" y="228600"/>
            <a:ext cx="846000" cy="145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21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60880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54176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444840" y="4419720"/>
            <a:ext cx="1096920" cy="70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645240" y="4419720"/>
            <a:ext cx="1096920" cy="70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726400" y="0"/>
            <a:ext cx="417600" cy="1668600"/>
          </a:xfrm>
          <a:custGeom>
            <a:avLst/>
            <a:gdLst/>
            <a:ahLst/>
            <a:rect l="l" t="t" r="r" b="b"/>
            <a:pathLst>
              <a:path w="152" h="428">
                <a:moveTo>
                  <a:pt x="0" y="0"/>
                </a:moveTo>
                <a:lnTo>
                  <a:pt x="152" y="0"/>
                </a:lnTo>
                <a:lnTo>
                  <a:pt x="152" y="360"/>
                </a:lnTo>
                <a:lnTo>
                  <a:pt x="0" y="428"/>
                </a:lnTo>
                <a:lnTo>
                  <a:pt x="0" y="0"/>
                </a:lnTo>
              </a:path>
            </a:pathLst>
          </a:cu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419720"/>
            <a:ext cx="2514600" cy="685800"/>
          </a:xfrm>
          <a:prstGeom prst="rect">
            <a:avLst/>
          </a:prstGeom>
          <a:solidFill>
            <a:srgbClr val="465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400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e1e1e1"/>
                </a:solidFill>
                <a:latin typeface="Arial"/>
              </a:rPr>
              <a:t>Clanché – July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3780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52400" algn="ctr">
              <a:spcBef>
                <a:spcPts val="601"/>
              </a:spcBef>
              <a:buClr>
                <a:srgbClr val="000000"/>
              </a:buClr>
              <a:buFont typeface="Arial"/>
              <a:buChar char="‐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44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5120" algn="ctr">
              <a:spcBef>
                <a:spcPts val="300"/>
              </a:spcBef>
              <a:buClr>
                <a:srgbClr val="a7a7a7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Fif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5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ix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  <a:p>
            <a:pPr lvl="6" marL="1828800" indent="1905120">
              <a:spcBef>
                <a:spcPts val="3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a7a7"/>
                </a:solidFill>
                <a:latin typeface="Arial Unicode MS"/>
              </a:rPr>
              <a:t>Seventh Outline Level</a:t>
            </a:r>
            <a:endParaRPr b="0" lang="en-US" sz="1200" spc="-1" strike="noStrike">
              <a:solidFill>
                <a:srgbClr val="a7a7a7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2860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ssemination French census results since 2009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560" y="53337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INSEE (French NSI) - Demographic departemen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1600200" y="0"/>
            <a:ext cx="11734920" cy="730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A7EC-AE45-47F8-AA32-5A166BA0D8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II – Different products for different audienc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wo main categories of users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General public, including policymakers, media : immediately avaible on screen, without specific preca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fessional users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public organizations, local authorities, large companies, consultants, research...).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build information independently, by exploiting online available databas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FACF-ED30-4E74-B934-6BA770B9E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Three products for general public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9000"/>
          </a:bodyPr>
          <a:p>
            <a:pPr marL="185040" indent="-18360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Key figure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ll geographical areas, even very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line and 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les and some simple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araisons with 1999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360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tailled tabl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areas of more than 2 000 in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line and X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ly effecti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0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 comparaisons on th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360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ynamic M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7162-9082-4B0B-9825-4C91BBEFF4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81000" y="685800"/>
            <a:ext cx="8910720" cy="7524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990720" y="722160"/>
            <a:ext cx="7940520" cy="685800"/>
          </a:xfrm>
          <a:prstGeom prst="rect">
            <a:avLst/>
          </a:prstGeom>
          <a:solidFill>
            <a:srgbClr val="d6d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sultats du recensement de la population -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\\S34web4\devl\fr\img\recensement.gif"/>
          <p:cNvPicPr/>
          <p:nvPr/>
        </p:nvPicPr>
        <p:blipFill>
          <a:blip r:embed="rId3"/>
          <a:stretch/>
        </p:blipFill>
        <p:spPr>
          <a:xfrm>
            <a:off x="8300880" y="733320"/>
            <a:ext cx="53208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76320" y="1600200"/>
            <a:ext cx="1523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1002c"/>
                </a:solidFill>
                <a:latin typeface="Arial"/>
              </a:rPr>
              <a:t>Chiffres cl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7200" y="2362320"/>
            <a:ext cx="518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e : Roscoff (296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28600" y="1981080"/>
            <a:ext cx="434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c5c7c"/>
                </a:solidFill>
                <a:latin typeface="Arial"/>
              </a:rPr>
              <a:t>Accueil</a:t>
            </a:r>
            <a:r>
              <a:rPr b="0" lang="en-US" sz="800" spc="-1" strike="noStrike">
                <a:solidFill>
                  <a:srgbClr val="3c5c7c"/>
                </a:solidFill>
                <a:latin typeface="Arial"/>
              </a:rPr>
              <a:t> &gt; </a:t>
            </a:r>
            <a:r>
              <a:rPr b="1" lang="en-US" sz="800" spc="-1" strike="noStrike">
                <a:solidFill>
                  <a:srgbClr val="3c5c7c"/>
                </a:solidFill>
                <a:latin typeface="Arial"/>
              </a:rPr>
              <a:t>Chiffres clé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&gt;  Roscoff  (29680 - Commune) - Thème 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tion et structure de la pop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152280" y="2682720"/>
            <a:ext cx="6172200" cy="4175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"/>
          <p:cNvSpPr/>
          <p:nvPr/>
        </p:nvSpPr>
        <p:spPr>
          <a:xfrm>
            <a:off x="1676520" y="1600200"/>
            <a:ext cx="1828800" cy="304920"/>
          </a:xfrm>
          <a:prstGeom prst="rect">
            <a:avLst/>
          </a:prstGeom>
          <a:solidFill>
            <a:srgbClr val="910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ableaux détaill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943600" y="1600200"/>
            <a:ext cx="1676520" cy="304920"/>
          </a:xfrm>
          <a:prstGeom prst="rect">
            <a:avLst/>
          </a:prstGeom>
          <a:solidFill>
            <a:srgbClr val="3c5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7772400" y="1600200"/>
            <a:ext cx="990720" cy="304920"/>
          </a:xfrm>
          <a:prstGeom prst="rect">
            <a:avLst/>
          </a:prstGeom>
          <a:solidFill>
            <a:srgbClr val="3c5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657600" y="1600200"/>
            <a:ext cx="2133720" cy="304920"/>
          </a:xfrm>
          <a:prstGeom prst="rect">
            <a:avLst/>
          </a:prstGeom>
          <a:solidFill>
            <a:srgbClr val="910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nnées télécharge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4" descr=""/>
          <p:cNvPicPr/>
          <p:nvPr/>
        </p:nvPicPr>
        <p:blipFill>
          <a:blip r:embed="rId5"/>
          <a:stretch/>
        </p:blipFill>
        <p:spPr>
          <a:xfrm>
            <a:off x="6400800" y="2346480"/>
            <a:ext cx="274320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5"/>
          <p:cNvSpPr/>
          <p:nvPr/>
        </p:nvSpPr>
        <p:spPr>
          <a:xfrm>
            <a:off x="6324480" y="1981080"/>
            <a:ext cx="2286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ier votre recher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477120" y="510552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248520" y="350532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rter les tableaux et 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400800" y="3809880"/>
            <a:ext cx="2514600" cy="709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5c7c"/>
                </a:solidFill>
                <a:latin typeface="Arial"/>
              </a:rPr>
              <a:t>Fiche au format 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5c7c"/>
                </a:solidFill>
                <a:latin typeface="Arial"/>
              </a:rPr>
              <a:t>Documentation au format 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5c7c"/>
                </a:solidFill>
                <a:latin typeface="Arial"/>
              </a:rPr>
              <a:t>Fiche et documentation au format 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400800" y="5105520"/>
            <a:ext cx="2743200" cy="63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5c7c"/>
                </a:solidFill>
                <a:latin typeface="Arial"/>
              </a:rPr>
              <a:t>-&gt;Documentation associée aux tableaux et graph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c5c7c"/>
                </a:solidFill>
                <a:latin typeface="Arial"/>
              </a:rPr>
              <a:t>-&gt;Documentation sur les chiffres cl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6477120" y="510552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400800" y="380988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6323400" y="48006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ur en savoir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400800" y="220968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FD3C-4B73-4157-91FE-E66E442F17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158760"/>
            <a:ext cx="9144000" cy="669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11DA-056A-4105-AB93-5E85BB41F3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rcRect l="10626" t="10635" r="11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15000" y="2819520"/>
            <a:ext cx="26668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D463-EE00-4694-863C-CDECEE806B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10058400" cy="628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5FE7-4AC7-45FA-95E0-060AB00E44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Products for professional user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10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ta that can be reprocess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10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sers sensitive to questions of statistical significance, comparability,changes in concepts : read 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10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se their own tools for processing and edi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10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wo types of produc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"bases "  : requires knowledge of the functionality of a spreadsheet. (formats, XLS and TXT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"micro data files" : must be read and processed with software processing database or statistical softw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803D-58A8-48B4-A7DB-FADD13398B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68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2980-9031-4048-B1D4-C0CDD35CB0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Bases and microdat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ownloadable bases (hypercubes) makespossible any geographical aggregation of any calculated indic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icrodata can be used to build user’s own indicator, to study a sub-population, to make modeling behaviour studi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8 different microdata files, either with geographical details, either with description or breakdown details, according to CNIL reg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384C-5A83-4752-ACC3-602C317412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838080"/>
            <a:ext cx="7696440" cy="5562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524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ince decembre 2008, the « official populations » of the 40 000 administrative units are calculed and disseminated by Insee, year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524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ince july 2009, all the detailled statistical results of census are also disseminated, year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524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his presentation describes the device decided by insee for this disse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524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The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524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The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524"/>
              </a:spcBef>
              <a:buClr>
                <a:srgbClr val="19438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Points of asse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A948-B2A6-45E1-B981-0DAEF5D78C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he schedule was resp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t was a large success for all types of users : rich, easy tu use, well docum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ome users ask for more or eas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mprovement made for the second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hise device is expensive : about 1,4 M€ for the construction, 400 000 € each ye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5760">
              <a:lnSpc>
                <a:spcPct val="90000"/>
              </a:lnSpc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ot integrated in the global Insee Web si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8CF0-2CE1-46CD-A66F-49B60CA0F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560" y="2666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I - Main points of the strategy (1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4000"/>
          </a:bodyPr>
          <a:p>
            <a:pPr marL="175680" indent="-17460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. All results updated every year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5680" indent="-17460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120" indent="-17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t is possible with the new method, using 5 surv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120" indent="-17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sers ask for « the latest » information at every mo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120" indent="-17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istancy with official population fig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5680" indent="-174600">
              <a:lnSpc>
                <a:spcPct val="90000"/>
              </a:lnSpc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y no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120" indent="-17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t is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120" indent="-17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ta of successive dates do not constitute actual yearly se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9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 decided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1A73-F79D-4D0F-AB36-ED2DB171B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Main points of the strategy (2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– Paper or onlin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mer dissemination was first paper, then on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yearly large dissemination, paper would bee expensive and immediately « outdated 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e official popuations are only on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semination of french census is only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products are fre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5AE5-AC4F-4205-B009-8D81E1D31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Main points of the strategy (3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601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 – What want the users ? What about confidentiality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sers were consulted trough the C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y wanted to find all what they had with the « old »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ith documentation, because of the new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proposition of device was presented to the CNIL, and a « dissemination regulation » was edi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000000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erent size of the tables for different population of terr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000000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cro data bases wtih either geographical precision, either breakdow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01520">
              <a:spcBef>
                <a:spcPts val="499"/>
              </a:spcBef>
              <a:buClr>
                <a:srgbClr val="000000"/>
              </a:buClr>
              <a:buFont typeface="Arial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little number of « sensitive » variables with specific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7A9D-3B5E-4C8A-AE67-AC29036A67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514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Arial"/>
              </a:rPr>
              <a:t>Main points of the strategy (4)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187200" indent="-185760">
              <a:spcBef>
                <a:spcPts val="700"/>
              </a:spcBef>
              <a:buClr>
                <a:srgbClr val="194388"/>
              </a:buClr>
              <a:buFont typeface="Arial Unicode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 – How can we help the users ? Make them independ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he conception of the web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 large docu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183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 specific « supporting » for some specific users, by regional Insee tea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7353-AC35-4458-9104-CDDBDB66F9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914400" y="0"/>
            <a:ext cx="11880720" cy="811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0720" y="609480"/>
            <a:ext cx="4876560" cy="609840"/>
          </a:xfrm>
          <a:prstGeom prst="roundRect">
            <a:avLst>
              <a:gd name="adj" fmla="val 16667"/>
            </a:avLst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743200"/>
            <a:ext cx="4953240" cy="2743200"/>
          </a:xfrm>
          <a:prstGeom prst="roundRect">
            <a:avLst>
              <a:gd name="adj" fmla="val 16667"/>
            </a:avLst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4267080"/>
            <a:ext cx="2743200" cy="1981440"/>
          </a:xfrm>
          <a:prstGeom prst="roundRect">
            <a:avLst>
              <a:gd name="adj" fmla="val 16667"/>
            </a:avLst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609480"/>
            <a:ext cx="3352680" cy="609840"/>
          </a:xfrm>
          <a:prstGeom prst="roundRect">
            <a:avLst>
              <a:gd name="adj" fmla="val 16667"/>
            </a:avLst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ABC6-5720-4124-87EB-D379AB4CFD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19320" y="0"/>
            <a:ext cx="11658600" cy="826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0124-0CC5-48AE-8C14-EA8F3A113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68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770C-B7C5-42E1-8D24-5F51BC370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8:18:29Z</dcterms:created>
  <dc:creator>B Lodi</dc:creator>
  <dc:description/>
  <dc:language>en-US</dc:language>
  <cp:lastModifiedBy>Clanché François</cp:lastModifiedBy>
  <dcterms:modified xsi:type="dcterms:W3CDTF">2010-07-06T18:48:51Z</dcterms:modified>
  <cp:revision>296</cp:revision>
  <dc:subject/>
  <dc:title>Plan de la formation</dc:title>
</cp:coreProperties>
</file>