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diagrams/layout13.xml" ContentType="application/vnd.openxmlformats-officedocument.drawingml.diagramLayout+xml"/>
  <Override PartName="/ppt/diagrams/layout12.xml" ContentType="application/vnd.openxmlformats-officedocument.drawingml.diagramLayout+xml"/>
  <Override PartName="/ppt/diagrams/data12.xml" ContentType="application/vnd.openxmlformats-officedocument.drawingml.diagramData+xml"/>
  <Override PartName="/ppt/diagrams/quickStyle11.xml" ContentType="application/vnd.openxmlformats-officedocument.drawingml.diagramStyle+xml"/>
  <Override PartName="/ppt/diagrams/colors3.xml" ContentType="application/vnd.openxmlformats-officedocument.drawingml.diagramColors+xml"/>
  <Override PartName="/ppt/diagrams/layout11.xml" ContentType="application/vnd.openxmlformats-officedocument.drawingml.diagramLayout+xml"/>
  <Override PartName="/ppt/diagrams/data11.xml" ContentType="application/vnd.openxmlformats-officedocument.drawingml.diagramData+xml"/>
  <Override PartName="/ppt/diagrams/quickStyle10.xml" ContentType="application/vnd.openxmlformats-officedocument.drawingml.diagramStyle+xml"/>
  <Override PartName="/ppt/diagrams/colors2.xml" ContentType="application/vnd.openxmlformats-officedocument.drawingml.diagramColors+xml"/>
  <Override PartName="/ppt/diagrams/layout10.xml" ContentType="application/vnd.openxmlformats-officedocument.drawingml.diagramLayout+xml"/>
  <Override PartName="/ppt/diagrams/data10.xml" ContentType="application/vnd.openxmlformats-officedocument.drawingml.diagramData+xml"/>
  <Override PartName="/ppt/diagrams/colors9.xml" ContentType="application/vnd.openxmlformats-officedocument.drawingml.diagramColors+xml"/>
  <Override PartName="/ppt/diagrams/quickStyle17.xml" ContentType="application/vnd.openxmlformats-officedocument.drawingml.diagramStyle+xml"/>
  <Override PartName="/ppt/diagrams/quickStyle9.xml" ContentType="application/vnd.openxmlformats-officedocument.drawingml.diagramStyle+xml"/>
  <Override PartName="/ppt/diagrams/layout9.xml" ContentType="application/vnd.openxmlformats-officedocument.drawingml.diagramLayout+xml"/>
  <Override PartName="/ppt/diagrams/colors13.xml" ContentType="application/vnd.openxmlformats-officedocument.drawingml.diagramColors+xml"/>
  <Override PartName="/ppt/diagrams/quickStyle8.xml" ContentType="application/vnd.openxmlformats-officedocument.drawingml.diagramStyle+xml"/>
  <Override PartName="/ppt/diagrams/layout8.xml" ContentType="application/vnd.openxmlformats-officedocument.drawingml.diagramLayout+xml"/>
  <Override PartName="/ppt/diagrams/data8.xml" ContentType="application/vnd.openxmlformats-officedocument.drawingml.diagramData+xml"/>
  <Override PartName="/ppt/diagrams/colors8.xml" ContentType="application/vnd.openxmlformats-officedocument.drawingml.diagramColors+xml"/>
  <Override PartName="/ppt/diagrams/quickStyle16.xml" ContentType="application/vnd.openxmlformats-officedocument.drawingml.diagramStyle+xml"/>
  <Override PartName="/ppt/diagrams/drawing7.xml" ContentType="application/vnd.ms-office.drawingml.diagramDrawing+xml"/>
  <Override PartName="/ppt/diagrams/colors12.xml" ContentType="application/vnd.openxmlformats-officedocument.drawingml.diagramColors+xml"/>
  <Override PartName="/ppt/diagrams/quickStyle7.xml" ContentType="application/vnd.openxmlformats-officedocument.drawingml.diagramStyle+xml"/>
  <Override PartName="/ppt/diagrams/layout7.xml" ContentType="application/vnd.openxmlformats-officedocument.drawingml.diagramLayout+xml"/>
  <Override PartName="/ppt/diagrams/data7.xml" ContentType="application/vnd.openxmlformats-officedocument.drawingml.diagramData+xml"/>
  <Override PartName="/ppt/diagrams/colors7.xml" ContentType="application/vnd.openxmlformats-officedocument.drawingml.diagramColors+xml"/>
  <Override PartName="/ppt/diagrams/quickStyle15.xml" ContentType="application/vnd.openxmlformats-officedocument.drawingml.diagramStyle+xml"/>
  <Override PartName="/ppt/diagrams/drawing6.xml" ContentType="application/vnd.ms-office.drawingml.diagramDrawing+xml"/>
  <Override PartName="/ppt/diagrams/quickStyle3.xml" ContentType="application/vnd.openxmlformats-officedocument.drawingml.diagramStyle+xml"/>
  <Override PartName="/ppt/diagrams/data3.xml" ContentType="application/vnd.openxmlformats-officedocument.drawingml.diagramData+xml"/>
  <Override PartName="/ppt/diagrams/drawing4.xml" ContentType="application/vnd.ms-office.drawingml.diagramDrawing+xml"/>
  <Override PartName="/ppt/diagrams/quickStyle13.xml" ContentType="application/vnd.openxmlformats-officedocument.drawingml.diagramStyle+xml"/>
  <Override PartName="/ppt/diagrams/colors5.xml" ContentType="application/vnd.openxmlformats-officedocument.drawingml.diagramColors+xml"/>
  <Override PartName="/ppt/diagrams/colors11.xml" ContentType="application/vnd.openxmlformats-officedocument.drawingml.diagramColors+xml"/>
  <Override PartName="/ppt/diagrams/quickStyle6.xml" ContentType="application/vnd.openxmlformats-officedocument.drawingml.diagramStyle+xml"/>
  <Override PartName="/ppt/diagrams/data18.xml" ContentType="application/vnd.openxmlformats-officedocument.drawingml.diagramData+xml"/>
  <Override PartName="/ppt/diagrams/data6.xml" ContentType="application/vnd.openxmlformats-officedocument.drawingml.diagramData+xml"/>
  <Override PartName="/ppt/diagrams/layout6.xml" ContentType="application/vnd.openxmlformats-officedocument.drawingml.diagramLayout+xml"/>
  <Override PartName="/ppt/diagrams/drawing5.xml" ContentType="application/vnd.ms-office.drawingml.diagramDrawing+xml"/>
  <Override PartName="/ppt/diagrams/colors6.xml" ContentType="application/vnd.openxmlformats-officedocument.drawingml.diagramColors+xml"/>
  <Override PartName="/ppt/diagrams/quickStyle14.xml" ContentType="application/vnd.openxmlformats-officedocument.drawingml.diagramStyle+xml"/>
  <Override PartName="/ppt/diagrams/data15.xml" ContentType="application/vnd.openxmlformats-officedocument.drawingml.diagramData+xml"/>
  <Override PartName="/ppt/diagrams/data14.xml" ContentType="application/vnd.openxmlformats-officedocument.drawingml.diagramData+xml"/>
  <Override PartName="/ppt/diagrams/quickStyle2.xml" ContentType="application/vnd.openxmlformats-officedocument.drawingml.diagramStyle+xml"/>
  <Override PartName="/ppt/diagrams/layout14.xml" ContentType="application/vnd.openxmlformats-officedocument.drawingml.diagramLayout+xml"/>
  <Override PartName="/ppt/diagrams/colors14.xml" ContentType="application/vnd.openxmlformats-officedocument.drawingml.diagramColors+xml"/>
  <Override PartName="/ppt/diagrams/layout15.xml" ContentType="application/vnd.openxmlformats-officedocument.drawingml.diagramLayout+xml"/>
  <Override PartName="/ppt/diagrams/data16.xml" ContentType="application/vnd.openxmlformats-officedocument.drawingml.diagramData+xml"/>
  <Override PartName="/ppt/diagrams/quickStyle4.xml" ContentType="application/vnd.openxmlformats-officedocument.drawingml.diagramStyle+xml"/>
  <Override PartName="/ppt/diagrams/colors20.xml" ContentType="application/vnd.openxmlformats-officedocument.drawingml.diagramColors+xml"/>
  <Override PartName="/ppt/diagrams/quickStyle21.xml" ContentType="application/vnd.openxmlformats-officedocument.drawingml.diagramStyle+xml"/>
  <Override PartName="/ppt/diagrams/layout19.xml" ContentType="application/vnd.openxmlformats-officedocument.drawingml.diagramLayout+xml"/>
  <Override PartName="/ppt/diagrams/drawing3.xml" ContentType="application/vnd.ms-office.drawingml.diagramDrawing+xml"/>
  <Override PartName="/ppt/diagrams/data20.xml" ContentType="application/vnd.openxmlformats-officedocument.drawingml.diagramData+xml"/>
  <Override PartName="/ppt/diagrams/layout17.xml" ContentType="application/vnd.openxmlformats-officedocument.drawingml.diagramLayout+xml"/>
  <Override PartName="/ppt/diagrams/quickStyle18.xml" ContentType="application/vnd.openxmlformats-officedocument.drawingml.diagramStyle+xml"/>
  <Override PartName="/ppt/diagrams/data21.xml" ContentType="application/vnd.openxmlformats-officedocument.drawingml.diagramData+xml"/>
  <Override PartName="/ppt/diagrams/layout5.xml" ContentType="application/vnd.openxmlformats-officedocument.drawingml.diagramLayout+xml"/>
  <Override PartName="/ppt/diagrams/layout20.xml" ContentType="application/vnd.openxmlformats-officedocument.drawingml.diagramLayout+xml"/>
  <Override PartName="/ppt/diagrams/quickStyle19.xml" ContentType="application/vnd.openxmlformats-officedocument.drawingml.diagramStyle+xml"/>
  <Override PartName="/ppt/diagrams/quickStyle20.xml" ContentType="application/vnd.openxmlformats-officedocument.drawingml.diagramStyle+xml"/>
  <Override PartName="/ppt/diagrams/layout18.xml" ContentType="application/vnd.openxmlformats-officedocument.drawingml.diagramLayout+xml"/>
  <Override PartName="/ppt/diagrams/drawing2.xml" ContentType="application/vnd.ms-office.drawingml.diagramDrawing+xml"/>
  <Override PartName="/ppt/diagrams/colors15.xml" ContentType="application/vnd.openxmlformats-officedocument.drawingml.diagramColors+xml"/>
  <Override PartName="/ppt/diagrams/layout16.xml" ContentType="application/vnd.openxmlformats-officedocument.drawingml.diagramLayout+xml"/>
  <Override PartName="/ppt/diagrams/colors1.xml" ContentType="application/vnd.openxmlformats-officedocument.drawingml.diagramColors+xml"/>
  <Override PartName="/ppt/diagrams/data17.xml" ContentType="application/vnd.openxmlformats-officedocument.drawingml.diagramData+xml"/>
  <Override PartName="/ppt/diagrams/quickStyle5.xml" ContentType="application/vnd.openxmlformats-officedocument.drawingml.diagramStyle+xml"/>
  <Override PartName="/ppt/diagrams/colors10.xml" ContentType="application/vnd.openxmlformats-officedocument.drawingml.diagramColors+xml"/>
  <Override PartName="/ppt/diagrams/data5.xml" ContentType="application/vnd.openxmlformats-officedocument.drawingml.diagramData+xml"/>
  <Override PartName="/ppt/diagrams/layout4.xml" ContentType="application/vnd.openxmlformats-officedocument.drawingml.diagramLayout+xml"/>
  <Override PartName="/ppt/diagrams/colors19.xml" ContentType="application/vnd.openxmlformats-officedocument.drawingml.diagramColors+xml"/>
  <Override PartName="/ppt/diagrams/data4.xml" ContentType="application/vnd.openxmlformats-officedocument.drawingml.diagramData+xml"/>
  <Override PartName="/ppt/diagrams/data19.xml" ContentType="application/vnd.openxmlformats-officedocument.drawingml.diagramData+xml"/>
  <Override PartName="/ppt/diagrams/data1.xml" ContentType="application/vnd.openxmlformats-officedocument.drawingml.diagramData+xml"/>
  <Override PartName="/ppt/diagrams/colors17.xml" ContentType="application/vnd.openxmlformats-officedocument.drawingml.diagramColors+xml"/>
  <Override PartName="/ppt/diagrams/layout2.xml" ContentType="application/vnd.openxmlformats-officedocument.drawingml.diagramLayout+xml"/>
  <Override PartName="/ppt/diagrams/colors16.xml" ContentType="application/vnd.openxmlformats-officedocument.drawingml.diagramColors+xml"/>
  <Override PartName="/ppt/diagrams/layout1.xml" ContentType="application/vnd.openxmlformats-officedocument.drawingml.diagramLayout+xml"/>
  <Override PartName="/ppt/diagrams/data9.xml" ContentType="application/vnd.openxmlformats-officedocument.drawingml.diagramData+xml"/>
  <Override PartName="/ppt/diagrams/layout2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4.xml" ContentType="application/vnd.openxmlformats-officedocument.drawingml.diagramColors+xml"/>
  <Override PartName="/ppt/diagrams/quickStyle12.xml" ContentType="application/vnd.openxmlformats-officedocument.drawingml.diagramStyle+xml"/>
  <Override PartName="/ppt/diagrams/data13.xml" ContentType="application/vnd.openxmlformats-officedocument.drawingml.diagramData+xml"/>
  <Override PartName="/ppt/diagrams/drawing1.xml" ContentType="application/vnd.ms-office.drawingml.diagramDrawing+xml"/>
  <Override PartName="/ppt/diagrams/colors21.xml" ContentType="application/vnd.openxmlformats-officedocument.drawingml.diagramColors+xml"/>
  <Override PartName="/ppt/diagrams/data2.xml" ContentType="application/vnd.openxmlformats-officedocument.drawingml.diagramData+xml"/>
  <Override PartName="/ppt/diagrams/colors18.xml" ContentType="application/vnd.openxmlformats-officedocument.drawingml.diagramColors+xml"/>
  <Override PartName="/ppt/diagrams/layout3.xml" ContentType="application/vnd.openxmlformats-officedocument.drawingml.diagramLayout+xml"/>
  <Override PartName="/ppt/notesSlides/_rels/notesSlide5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notesSlide5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2.png" ContentType="image/png"/>
  <Override PartName="/ppt/media/image4.jpeg" ContentType="image/jpeg"/>
  <Override PartName="/ppt/media/image25.png" ContentType="image/png"/>
  <Override PartName="/ppt/media/image31.jpeg" ContentType="image/jpeg"/>
  <Override PartName="/ppt/media/image8.png" ContentType="image/png"/>
  <Override PartName="/ppt/media/image7.gif" ContentType="image/gif"/>
  <Override PartName="/ppt/media/image9.png" ContentType="image/png"/>
  <Override PartName="/ppt/media/image26.png" ContentType="image/png"/>
  <Override PartName="/ppt/media/image11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0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8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9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0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94CF1F4-2732-4AB8-8227-C604B16962D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85254C96-526E-467C-8215-23DF49ADA6E7}">
      <dgm:prSet custT="1"/>
      <dgm:spPr/>
      <dgm:t>
        <a:bodyPr/>
        <a:lstStyle/>
        <a:p>
          <a:pPr rtl="0"/>
          <a:r>
            <a:rPr lang="en-US" sz="3200" b="1" noProof="0" dirty="0" smtClean="0"/>
            <a:t>Key elements of census process in terms of census quality </a:t>
          </a:r>
          <a:endParaRPr lang="en-US" sz="3200" noProof="0" dirty="0"/>
        </a:p>
      </dgm:t>
    </dgm:pt>
    <dgm:pt modelId="{56F792A5-83DE-42C7-8300-7623CB492B2B}" type="parTrans" cxnId="{56479F06-31A1-4119-B85A-4A4DCD8E26C9}">
      <dgm:prSet/>
      <dgm:spPr/>
      <dgm:t>
        <a:bodyPr/>
        <a:lstStyle/>
        <a:p>
          <a:endParaRPr lang="pl-PL"/>
        </a:p>
      </dgm:t>
    </dgm:pt>
    <dgm:pt modelId="{BB18EFB1-AAB8-4515-90C2-1F1549C665BA}" type="sibTrans" cxnId="{56479F06-31A1-4119-B85A-4A4DCD8E26C9}">
      <dgm:prSet/>
      <dgm:spPr/>
      <dgm:t>
        <a:bodyPr/>
        <a:lstStyle/>
        <a:p>
          <a:endParaRPr lang="pl-PL"/>
        </a:p>
      </dgm:t>
    </dgm:pt>
    <dgm:pt modelId="{7DDFCE99-5F6C-4B32-8456-29A45CAC855D}">
      <dgm:prSet custT="1"/>
      <dgm:spPr/>
      <dgm:t>
        <a:bodyPr/>
        <a:lstStyle/>
        <a:p>
          <a:r>
            <a:rPr lang="en-GB" sz="2000" b="1" dirty="0" smtClean="0"/>
            <a:t>Census planning - scope of census,</a:t>
          </a:r>
          <a:endParaRPr lang="pl-PL" sz="2000" dirty="0"/>
        </a:p>
      </dgm:t>
    </dgm:pt>
    <dgm:pt modelId="{0CBAA644-89D4-4709-BF8D-967FCBE4A3D5}" type="parTrans" cxnId="{6318D8A3-3B4C-44C6-9A5F-A42A2154F033}">
      <dgm:prSet/>
      <dgm:spPr/>
      <dgm:t>
        <a:bodyPr/>
        <a:lstStyle/>
        <a:p>
          <a:endParaRPr lang="pl-PL"/>
        </a:p>
      </dgm:t>
    </dgm:pt>
    <dgm:pt modelId="{63F86DB6-E144-41F0-8082-7DC401E6769A}" type="sibTrans" cxnId="{6318D8A3-3B4C-44C6-9A5F-A42A2154F033}">
      <dgm:prSet/>
      <dgm:spPr/>
      <dgm:t>
        <a:bodyPr/>
        <a:lstStyle/>
        <a:p>
          <a:endParaRPr lang="pl-PL"/>
        </a:p>
      </dgm:t>
    </dgm:pt>
    <dgm:pt modelId="{79510C41-EAF3-4BCA-9B0B-5F0A55E27B45}">
      <dgm:prSet custT="1"/>
      <dgm:spPr/>
      <dgm:t>
        <a:bodyPr/>
        <a:lstStyle/>
        <a:p>
          <a:r>
            <a:rPr lang="en-GB" sz="2000" b="1" dirty="0" smtClean="0"/>
            <a:t>Data </a:t>
          </a:r>
          <a:r>
            <a:rPr lang="pl-PL" sz="2000" b="1" dirty="0" smtClean="0"/>
            <a:t>s</a:t>
          </a:r>
          <a:r>
            <a:rPr lang="en-GB" sz="2000" b="1" dirty="0" err="1" smtClean="0"/>
            <a:t>ources</a:t>
          </a:r>
          <a:r>
            <a:rPr lang="en-GB" sz="2000" b="1" dirty="0" smtClean="0"/>
            <a:t>,</a:t>
          </a:r>
          <a:endParaRPr lang="pl-PL" sz="2000" dirty="0"/>
        </a:p>
      </dgm:t>
    </dgm:pt>
    <dgm:pt modelId="{7268A9C8-45DB-4309-BB23-BB2215E64408}" type="parTrans" cxnId="{F642429B-2CDB-4B84-ABE1-834E55BCD432}">
      <dgm:prSet/>
      <dgm:spPr/>
      <dgm:t>
        <a:bodyPr/>
        <a:lstStyle/>
        <a:p>
          <a:endParaRPr lang="pl-PL"/>
        </a:p>
      </dgm:t>
    </dgm:pt>
    <dgm:pt modelId="{B80C82B0-E109-4D62-AE19-DE1864FDDB99}" type="sibTrans" cxnId="{F642429B-2CDB-4B84-ABE1-834E55BCD432}">
      <dgm:prSet/>
      <dgm:spPr/>
      <dgm:t>
        <a:bodyPr/>
        <a:lstStyle/>
        <a:p>
          <a:endParaRPr lang="pl-PL"/>
        </a:p>
      </dgm:t>
    </dgm:pt>
    <dgm:pt modelId="{62FE51A4-9841-4DEC-B5ED-75D7AE5CF858}">
      <dgm:prSet custT="1"/>
      <dgm:spPr/>
      <dgm:t>
        <a:bodyPr/>
        <a:lstStyle/>
        <a:p>
          <a:r>
            <a:rPr lang="en-GB" sz="2000" b="1" dirty="0" smtClean="0"/>
            <a:t>Data collecting,</a:t>
          </a:r>
          <a:endParaRPr lang="pl-PL" sz="2000" dirty="0"/>
        </a:p>
      </dgm:t>
    </dgm:pt>
    <dgm:pt modelId="{5940343B-0C1C-441D-8061-416BDD70FEA1}" type="parTrans" cxnId="{3D2C4F44-4CC5-4E20-B262-560690B7C715}">
      <dgm:prSet/>
      <dgm:spPr/>
      <dgm:t>
        <a:bodyPr/>
        <a:lstStyle/>
        <a:p>
          <a:endParaRPr lang="pl-PL"/>
        </a:p>
      </dgm:t>
    </dgm:pt>
    <dgm:pt modelId="{96303CA7-20B0-4BB0-859F-6F83E36E52C5}" type="sibTrans" cxnId="{3D2C4F44-4CC5-4E20-B262-560690B7C715}">
      <dgm:prSet/>
      <dgm:spPr/>
      <dgm:t>
        <a:bodyPr/>
        <a:lstStyle/>
        <a:p>
          <a:endParaRPr lang="pl-PL"/>
        </a:p>
      </dgm:t>
    </dgm:pt>
    <dgm:pt modelId="{27F8C2D2-358E-4D68-A509-813DA3B360B8}">
      <dgm:prSet custT="1"/>
      <dgm:spPr/>
      <dgm:t>
        <a:bodyPr/>
        <a:lstStyle/>
        <a:p>
          <a:r>
            <a:rPr lang="en-GB" sz="2000" b="1" dirty="0" smtClean="0"/>
            <a:t>Data storing,</a:t>
          </a:r>
          <a:endParaRPr lang="pl-PL" sz="2000" dirty="0"/>
        </a:p>
      </dgm:t>
    </dgm:pt>
    <dgm:pt modelId="{F05EC936-A9A5-4FFF-854D-18038C1F1B44}" type="parTrans" cxnId="{E2F93878-1AA4-4DDC-9F28-C6B31DC79A06}">
      <dgm:prSet/>
      <dgm:spPr/>
      <dgm:t>
        <a:bodyPr/>
        <a:lstStyle/>
        <a:p>
          <a:endParaRPr lang="pl-PL"/>
        </a:p>
      </dgm:t>
    </dgm:pt>
    <dgm:pt modelId="{E79CCD23-11C8-4276-8ACA-D1F7432611B8}" type="sibTrans" cxnId="{E2F93878-1AA4-4DDC-9F28-C6B31DC79A06}">
      <dgm:prSet/>
      <dgm:spPr/>
      <dgm:t>
        <a:bodyPr/>
        <a:lstStyle/>
        <a:p>
          <a:endParaRPr lang="pl-PL"/>
        </a:p>
      </dgm:t>
    </dgm:pt>
    <dgm:pt modelId="{F79E1096-B8F5-4882-A141-2180E7F20BD8}">
      <dgm:prSet custT="1"/>
      <dgm:spPr/>
      <dgm:t>
        <a:bodyPr/>
        <a:lstStyle/>
        <a:p>
          <a:r>
            <a:rPr lang="en-GB" sz="2000" b="1" dirty="0" smtClean="0"/>
            <a:t>Data processing,</a:t>
          </a:r>
          <a:endParaRPr lang="pl-PL" sz="2000" dirty="0"/>
        </a:p>
      </dgm:t>
    </dgm:pt>
    <dgm:pt modelId="{98124A2A-1022-4654-9A8B-7D814839A31B}" type="parTrans" cxnId="{2C628F05-9335-4FA7-AD15-18D1DD44299F}">
      <dgm:prSet/>
      <dgm:spPr/>
      <dgm:t>
        <a:bodyPr/>
        <a:lstStyle/>
        <a:p>
          <a:endParaRPr lang="pl-PL"/>
        </a:p>
      </dgm:t>
    </dgm:pt>
    <dgm:pt modelId="{A59F41FA-6D59-4CFA-B992-B8AB15F05017}" type="sibTrans" cxnId="{2C628F05-9335-4FA7-AD15-18D1DD44299F}">
      <dgm:prSet/>
      <dgm:spPr/>
      <dgm:t>
        <a:bodyPr/>
        <a:lstStyle/>
        <a:p>
          <a:endParaRPr lang="pl-PL"/>
        </a:p>
      </dgm:t>
    </dgm:pt>
    <dgm:pt modelId="{6FB4B6CA-CDAA-4D0C-AD67-CAF52932C156}">
      <dgm:prSet custT="1"/>
      <dgm:spPr/>
      <dgm:t>
        <a:bodyPr/>
        <a:lstStyle/>
        <a:p>
          <a:r>
            <a:rPr lang="en-GB" sz="2000" b="1" dirty="0" smtClean="0"/>
            <a:t>Development of census results,</a:t>
          </a:r>
          <a:endParaRPr lang="pl-PL" sz="2000" dirty="0"/>
        </a:p>
      </dgm:t>
    </dgm:pt>
    <dgm:pt modelId="{9D5A77B9-99E6-4A29-8FCA-02AD4FB92388}" type="parTrans" cxnId="{DE0DA7DF-9BE8-4534-A82B-C6B2C45BB713}">
      <dgm:prSet/>
      <dgm:spPr/>
      <dgm:t>
        <a:bodyPr/>
        <a:lstStyle/>
        <a:p>
          <a:endParaRPr lang="pl-PL"/>
        </a:p>
      </dgm:t>
    </dgm:pt>
    <dgm:pt modelId="{1BF00549-0ECD-45FC-A5CF-0E57387FC477}" type="sibTrans" cxnId="{DE0DA7DF-9BE8-4534-A82B-C6B2C45BB713}">
      <dgm:prSet/>
      <dgm:spPr/>
      <dgm:t>
        <a:bodyPr/>
        <a:lstStyle/>
        <a:p>
          <a:endParaRPr lang="pl-PL"/>
        </a:p>
      </dgm:t>
    </dgm:pt>
    <dgm:pt modelId="{E488A530-70FF-4B0E-BE57-6240E56380FE}">
      <dgm:prSet custT="1"/>
      <dgm:spPr/>
      <dgm:t>
        <a:bodyPr/>
        <a:lstStyle/>
        <a:p>
          <a:r>
            <a:rPr lang="en-GB" sz="2000" b="1" dirty="0" smtClean="0"/>
            <a:t>Dissemination </a:t>
          </a:r>
          <a:r>
            <a:rPr lang="pl-PL" sz="2000" b="1" dirty="0" smtClean="0"/>
            <a:t>of </a:t>
          </a:r>
          <a:r>
            <a:rPr lang="en-GB" sz="2000" b="1" dirty="0" smtClean="0"/>
            <a:t>census results,</a:t>
          </a:r>
          <a:endParaRPr lang="pl-PL" sz="2000" dirty="0"/>
        </a:p>
      </dgm:t>
    </dgm:pt>
    <dgm:pt modelId="{EE69CF68-A5CF-488A-B36B-8E00C458122A}" type="parTrans" cxnId="{D28B2A81-530C-4D05-9C70-25BCF59905D9}">
      <dgm:prSet/>
      <dgm:spPr/>
      <dgm:t>
        <a:bodyPr/>
        <a:lstStyle/>
        <a:p>
          <a:endParaRPr lang="pl-PL"/>
        </a:p>
      </dgm:t>
    </dgm:pt>
    <dgm:pt modelId="{5E903CFC-F344-40DC-B40A-43985312DF1D}" type="sibTrans" cxnId="{D28B2A81-530C-4D05-9C70-25BCF59905D9}">
      <dgm:prSet/>
      <dgm:spPr/>
      <dgm:t>
        <a:bodyPr/>
        <a:lstStyle/>
        <a:p>
          <a:endParaRPr lang="pl-PL"/>
        </a:p>
      </dgm:t>
    </dgm:pt>
    <dgm:pt modelId="{0C33B0D8-66E4-4DF0-8A29-84ED990707DC}">
      <dgm:prSet custT="1"/>
      <dgm:spPr/>
      <dgm:t>
        <a:bodyPr/>
        <a:lstStyle/>
        <a:p>
          <a:r>
            <a:rPr lang="en-GB" sz="2000" b="1" dirty="0" smtClean="0"/>
            <a:t>Census Metadata System.</a:t>
          </a:r>
          <a:endParaRPr lang="pl-PL" sz="2000" dirty="0"/>
        </a:p>
      </dgm:t>
    </dgm:pt>
    <dgm:pt modelId="{70B25119-F737-4C7D-9B13-D72DD85EC0F0}" type="parTrans" cxnId="{14DC96FD-9780-4502-B552-E67F5F4EE595}">
      <dgm:prSet/>
      <dgm:spPr/>
      <dgm:t>
        <a:bodyPr/>
        <a:lstStyle/>
        <a:p>
          <a:endParaRPr lang="pl-PL"/>
        </a:p>
      </dgm:t>
    </dgm:pt>
    <dgm:pt modelId="{61279D5D-FC50-4BA8-BD2C-9072723F4644}" type="sibTrans" cxnId="{14DC96FD-9780-4502-B552-E67F5F4EE595}">
      <dgm:prSet/>
      <dgm:spPr/>
      <dgm:t>
        <a:bodyPr/>
        <a:lstStyle/>
        <a:p>
          <a:endParaRPr lang="pl-PL"/>
        </a:p>
      </dgm:t>
    </dgm:pt>
    <dgm:pt modelId="{5C47942E-3765-46A0-8C1F-2124E0B4BB76}">
      <dgm:prSet/>
      <dgm:spPr/>
      <dgm:t>
        <a:bodyPr/>
        <a:lstStyle/>
        <a:p>
          <a:pPr rtl="0"/>
          <a:endParaRPr lang="en-US" sz="1600" b="1" noProof="0" dirty="0"/>
        </a:p>
      </dgm:t>
    </dgm:pt>
    <dgm:pt modelId="{EF98B87A-B918-4794-8455-C444AAB44F1D}" type="parTrans" cxnId="{509534FF-98E3-4FDD-B6C2-D7B2C3E2255C}">
      <dgm:prSet/>
      <dgm:spPr/>
      <dgm:t>
        <a:bodyPr/>
        <a:lstStyle/>
        <a:p>
          <a:endParaRPr lang="pl-PL"/>
        </a:p>
      </dgm:t>
    </dgm:pt>
    <dgm:pt modelId="{5FB67D63-F49B-4DB2-AF5C-5E8047BDDAAC}" type="sibTrans" cxnId="{509534FF-98E3-4FDD-B6C2-D7B2C3E2255C}">
      <dgm:prSet/>
      <dgm:spPr/>
      <dgm:t>
        <a:bodyPr/>
        <a:lstStyle/>
        <a:p>
          <a:endParaRPr lang="pl-PL"/>
        </a:p>
      </dgm:t>
    </dgm:pt>
    <dgm:pt modelId="{12F90BB7-ADCC-470A-BD60-3A462F54A067}">
      <dgm:prSet/>
      <dgm:spPr/>
      <dgm:t>
        <a:bodyPr/>
        <a:lstStyle/>
        <a:p>
          <a:pPr rtl="0"/>
          <a:endParaRPr lang="en-US" sz="1600" b="1" noProof="0" dirty="0"/>
        </a:p>
      </dgm:t>
    </dgm:pt>
    <dgm:pt modelId="{9AD5C608-32A3-4690-AC48-8AE8724C85EF}" type="parTrans" cxnId="{CC19E7D8-5B05-4437-824A-ECCE2331349B}">
      <dgm:prSet/>
      <dgm:spPr/>
      <dgm:t>
        <a:bodyPr/>
        <a:lstStyle/>
        <a:p>
          <a:endParaRPr lang="pl-PL"/>
        </a:p>
      </dgm:t>
    </dgm:pt>
    <dgm:pt modelId="{14308D48-620A-4B2B-8BBB-926770860F8B}" type="sibTrans" cxnId="{CC19E7D8-5B05-4437-824A-ECCE2331349B}">
      <dgm:prSet/>
      <dgm:spPr/>
      <dgm:t>
        <a:bodyPr/>
        <a:lstStyle/>
        <a:p>
          <a:endParaRPr lang="pl-PL"/>
        </a:p>
      </dgm:t>
    </dgm:pt>
    <dgm:pt modelId="{399AAD99-52CF-447F-BF5C-B254EC0914A4}">
      <dgm:prSet/>
      <dgm:spPr/>
      <dgm:t>
        <a:bodyPr/>
        <a:lstStyle/>
        <a:p>
          <a:pPr rtl="0"/>
          <a:endParaRPr lang="en-US" sz="1600" b="1" noProof="0" dirty="0"/>
        </a:p>
      </dgm:t>
    </dgm:pt>
    <dgm:pt modelId="{4B35B78F-943A-49B9-AC29-9A0D6F2EA400}" type="parTrans" cxnId="{63EB827D-39CE-47B0-A7B4-35464F07745C}">
      <dgm:prSet/>
      <dgm:spPr/>
      <dgm:t>
        <a:bodyPr/>
        <a:lstStyle/>
        <a:p>
          <a:endParaRPr lang="pl-PL"/>
        </a:p>
      </dgm:t>
    </dgm:pt>
    <dgm:pt modelId="{A59EAADF-A137-4B99-B8D5-A9493AA3BCC3}" type="sibTrans" cxnId="{63EB827D-39CE-47B0-A7B4-35464F07745C}">
      <dgm:prSet/>
      <dgm:spPr/>
      <dgm:t>
        <a:bodyPr/>
        <a:lstStyle/>
        <a:p>
          <a:endParaRPr lang="pl-PL"/>
        </a:p>
      </dgm:t>
    </dgm:pt>
    <dgm:pt modelId="{3DDEAB28-5520-4929-9CCB-7C7467FAA0A9}">
      <dgm:prSet/>
      <dgm:spPr/>
      <dgm:t>
        <a:bodyPr/>
        <a:lstStyle/>
        <a:p>
          <a:pPr rtl="0"/>
          <a:endParaRPr lang="en-US" sz="1600" b="1" noProof="0" dirty="0"/>
        </a:p>
      </dgm:t>
    </dgm:pt>
    <dgm:pt modelId="{083EB618-A490-46BF-A2DF-E104C88C1D97}" type="parTrans" cxnId="{9FA372FE-0CD1-47D3-90A7-D64558BF2180}">
      <dgm:prSet/>
      <dgm:spPr/>
      <dgm:t>
        <a:bodyPr/>
        <a:lstStyle/>
        <a:p>
          <a:endParaRPr lang="pl-PL"/>
        </a:p>
      </dgm:t>
    </dgm:pt>
    <dgm:pt modelId="{13A4167B-9535-44AD-BFD1-EF809D5C6751}" type="sibTrans" cxnId="{9FA372FE-0CD1-47D3-90A7-D64558BF2180}">
      <dgm:prSet/>
      <dgm:spPr/>
      <dgm:t>
        <a:bodyPr/>
        <a:lstStyle/>
        <a:p>
          <a:endParaRPr lang="pl-PL"/>
        </a:p>
      </dgm:t>
    </dgm:pt>
    <dgm:pt modelId="{ADC6FB53-26A8-4358-956F-33CD97D623A0}" type="pres">
      <dgm:prSet presAssocID="{994CF1F4-2732-4AB8-8227-C604B16962D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748FD6B1-5284-4A35-BE66-DF23DE258E16}" type="pres">
      <dgm:prSet presAssocID="{85254C96-526E-467C-8215-23DF49ADA6E7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30260CF6-4D9C-4193-B208-91D5CEDD28C2}" type="pres">
      <dgm:prSet presAssocID="{85254C96-526E-467C-8215-23DF49ADA6E7}" presName="childText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D28B2A81-530C-4D05-9C70-25BCF59905D9}" srcId="{85254C96-526E-467C-8215-23DF49ADA6E7}" destId="{E488A530-70FF-4B0E-BE57-6240E56380FE}" srcOrd="6" destOrd="0" parTransId="{EE69CF68-A5CF-488A-B36B-8E00C458122A}" sibTransId="{5E903CFC-F344-40DC-B40A-43985312DF1D}"/>
    <dgm:cxn modelId="{3D2C4F44-4CC5-4E20-B262-560690B7C715}" srcId="{85254C96-526E-467C-8215-23DF49ADA6E7}" destId="{62FE51A4-9841-4DEC-B5ED-75D7AE5CF858}" srcOrd="2" destOrd="0" parTransId="{5940343B-0C1C-441D-8061-416BDD70FEA1}" sibTransId="{96303CA7-20B0-4BB0-859F-6F83E36E52C5}"/>
    <dgm:cxn modelId="{5D32CA73-3EC8-4EAE-B3C7-FD4D4AC42B59}" type="presOf" srcId="{62FE51A4-9841-4DEC-B5ED-75D7AE5CF858}" destId="{30260CF6-4D9C-4193-B208-91D5CEDD28C2}" srcOrd="0" destOrd="2" presId="urn:microsoft.com/office/officeart/2005/8/layout/vList2"/>
    <dgm:cxn modelId="{18B9D04E-80F0-4E0C-AADA-F10B76A3959E}" type="presOf" srcId="{12F90BB7-ADCC-470A-BD60-3A462F54A067}" destId="{30260CF6-4D9C-4193-B208-91D5CEDD28C2}" srcOrd="0" destOrd="9" presId="urn:microsoft.com/office/officeart/2005/8/layout/vList2"/>
    <dgm:cxn modelId="{509534FF-98E3-4FDD-B6C2-D7B2C3E2255C}" srcId="{85254C96-526E-467C-8215-23DF49ADA6E7}" destId="{5C47942E-3765-46A0-8C1F-2124E0B4BB76}" srcOrd="8" destOrd="0" parTransId="{EF98B87A-B918-4794-8455-C444AAB44F1D}" sibTransId="{5FB67D63-F49B-4DB2-AF5C-5E8047BDDAAC}"/>
    <dgm:cxn modelId="{14DC96FD-9780-4502-B552-E67F5F4EE595}" srcId="{85254C96-526E-467C-8215-23DF49ADA6E7}" destId="{0C33B0D8-66E4-4DF0-8A29-84ED990707DC}" srcOrd="7" destOrd="0" parTransId="{70B25119-F737-4C7D-9B13-D72DD85EC0F0}" sibTransId="{61279D5D-FC50-4BA8-BD2C-9072723F4644}"/>
    <dgm:cxn modelId="{DE0DA7DF-9BE8-4534-A82B-C6B2C45BB713}" srcId="{85254C96-526E-467C-8215-23DF49ADA6E7}" destId="{6FB4B6CA-CDAA-4D0C-AD67-CAF52932C156}" srcOrd="5" destOrd="0" parTransId="{9D5A77B9-99E6-4A29-8FCA-02AD4FB92388}" sibTransId="{1BF00549-0ECD-45FC-A5CF-0E57387FC477}"/>
    <dgm:cxn modelId="{E2F93878-1AA4-4DDC-9F28-C6B31DC79A06}" srcId="{85254C96-526E-467C-8215-23DF49ADA6E7}" destId="{27F8C2D2-358E-4D68-A509-813DA3B360B8}" srcOrd="3" destOrd="0" parTransId="{F05EC936-A9A5-4FFF-854D-18038C1F1B44}" sibTransId="{E79CCD23-11C8-4276-8ACA-D1F7432611B8}"/>
    <dgm:cxn modelId="{C70C72A3-83D0-4B7D-B6F2-BA1C11C97987}" type="presOf" srcId="{27F8C2D2-358E-4D68-A509-813DA3B360B8}" destId="{30260CF6-4D9C-4193-B208-91D5CEDD28C2}" srcOrd="0" destOrd="3" presId="urn:microsoft.com/office/officeart/2005/8/layout/vList2"/>
    <dgm:cxn modelId="{9FA372FE-0CD1-47D3-90A7-D64558BF2180}" srcId="{85254C96-526E-467C-8215-23DF49ADA6E7}" destId="{3DDEAB28-5520-4929-9CCB-7C7467FAA0A9}" srcOrd="11" destOrd="0" parTransId="{083EB618-A490-46BF-A2DF-E104C88C1D97}" sibTransId="{13A4167B-9535-44AD-BFD1-EF809D5C6751}"/>
    <dgm:cxn modelId="{275FA70F-4654-4AE2-87D9-145B2CDBEF5E}" type="presOf" srcId="{E488A530-70FF-4B0E-BE57-6240E56380FE}" destId="{30260CF6-4D9C-4193-B208-91D5CEDD28C2}" srcOrd="0" destOrd="6" presId="urn:microsoft.com/office/officeart/2005/8/layout/vList2"/>
    <dgm:cxn modelId="{429D225E-00C8-45DC-AFEF-607699340821}" type="presOf" srcId="{399AAD99-52CF-447F-BF5C-B254EC0914A4}" destId="{30260CF6-4D9C-4193-B208-91D5CEDD28C2}" srcOrd="0" destOrd="10" presId="urn:microsoft.com/office/officeart/2005/8/layout/vList2"/>
    <dgm:cxn modelId="{D32736AC-6166-45CB-B1B2-99D3CD033467}" type="presOf" srcId="{85254C96-526E-467C-8215-23DF49ADA6E7}" destId="{748FD6B1-5284-4A35-BE66-DF23DE258E16}" srcOrd="0" destOrd="0" presId="urn:microsoft.com/office/officeart/2005/8/layout/vList2"/>
    <dgm:cxn modelId="{5D9F5825-D678-4905-AC58-ED23E7AD1FCD}" type="presOf" srcId="{3DDEAB28-5520-4929-9CCB-7C7467FAA0A9}" destId="{30260CF6-4D9C-4193-B208-91D5CEDD28C2}" srcOrd="0" destOrd="11" presId="urn:microsoft.com/office/officeart/2005/8/layout/vList2"/>
    <dgm:cxn modelId="{4AEA3A96-D07E-4B5A-BD95-13C3F827E748}" type="presOf" srcId="{F79E1096-B8F5-4882-A141-2180E7F20BD8}" destId="{30260CF6-4D9C-4193-B208-91D5CEDD28C2}" srcOrd="0" destOrd="4" presId="urn:microsoft.com/office/officeart/2005/8/layout/vList2"/>
    <dgm:cxn modelId="{63EB827D-39CE-47B0-A7B4-35464F07745C}" srcId="{85254C96-526E-467C-8215-23DF49ADA6E7}" destId="{399AAD99-52CF-447F-BF5C-B254EC0914A4}" srcOrd="10" destOrd="0" parTransId="{4B35B78F-943A-49B9-AC29-9A0D6F2EA400}" sibTransId="{A59EAADF-A137-4B99-B8D5-A9493AA3BCC3}"/>
    <dgm:cxn modelId="{B052A536-26BF-46C9-A3CD-5298687C6C6F}" type="presOf" srcId="{7DDFCE99-5F6C-4B32-8456-29A45CAC855D}" destId="{30260CF6-4D9C-4193-B208-91D5CEDD28C2}" srcOrd="0" destOrd="0" presId="urn:microsoft.com/office/officeart/2005/8/layout/vList2"/>
    <dgm:cxn modelId="{909848C8-70EF-40D8-9DA1-DF415830D104}" type="presOf" srcId="{6FB4B6CA-CDAA-4D0C-AD67-CAF52932C156}" destId="{30260CF6-4D9C-4193-B208-91D5CEDD28C2}" srcOrd="0" destOrd="5" presId="urn:microsoft.com/office/officeart/2005/8/layout/vList2"/>
    <dgm:cxn modelId="{9AD129B2-948C-4C89-8D3D-830105D05990}" type="presOf" srcId="{79510C41-EAF3-4BCA-9B0B-5F0A55E27B45}" destId="{30260CF6-4D9C-4193-B208-91D5CEDD28C2}" srcOrd="0" destOrd="1" presId="urn:microsoft.com/office/officeart/2005/8/layout/vList2"/>
    <dgm:cxn modelId="{56479F06-31A1-4119-B85A-4A4DCD8E26C9}" srcId="{994CF1F4-2732-4AB8-8227-C604B16962DD}" destId="{85254C96-526E-467C-8215-23DF49ADA6E7}" srcOrd="0" destOrd="0" parTransId="{56F792A5-83DE-42C7-8300-7623CB492B2B}" sibTransId="{BB18EFB1-AAB8-4515-90C2-1F1549C665BA}"/>
    <dgm:cxn modelId="{87E39881-1E6F-4829-84C0-5A103C2AE525}" type="presOf" srcId="{5C47942E-3765-46A0-8C1F-2124E0B4BB76}" destId="{30260CF6-4D9C-4193-B208-91D5CEDD28C2}" srcOrd="0" destOrd="8" presId="urn:microsoft.com/office/officeart/2005/8/layout/vList2"/>
    <dgm:cxn modelId="{CC19E7D8-5B05-4437-824A-ECCE2331349B}" srcId="{85254C96-526E-467C-8215-23DF49ADA6E7}" destId="{12F90BB7-ADCC-470A-BD60-3A462F54A067}" srcOrd="9" destOrd="0" parTransId="{9AD5C608-32A3-4690-AC48-8AE8724C85EF}" sibTransId="{14308D48-620A-4B2B-8BBB-926770860F8B}"/>
    <dgm:cxn modelId="{F7C76780-E4B5-44AA-BF2E-BDCCBF369862}" type="presOf" srcId="{0C33B0D8-66E4-4DF0-8A29-84ED990707DC}" destId="{30260CF6-4D9C-4193-B208-91D5CEDD28C2}" srcOrd="0" destOrd="7" presId="urn:microsoft.com/office/officeart/2005/8/layout/vList2"/>
    <dgm:cxn modelId="{2C628F05-9335-4FA7-AD15-18D1DD44299F}" srcId="{85254C96-526E-467C-8215-23DF49ADA6E7}" destId="{F79E1096-B8F5-4882-A141-2180E7F20BD8}" srcOrd="4" destOrd="0" parTransId="{98124A2A-1022-4654-9A8B-7D814839A31B}" sibTransId="{A59F41FA-6D59-4CFA-B992-B8AB15F05017}"/>
    <dgm:cxn modelId="{6318D8A3-3B4C-44C6-9A5F-A42A2154F033}" srcId="{85254C96-526E-467C-8215-23DF49ADA6E7}" destId="{7DDFCE99-5F6C-4B32-8456-29A45CAC855D}" srcOrd="0" destOrd="0" parTransId="{0CBAA644-89D4-4709-BF8D-967FCBE4A3D5}" sibTransId="{63F86DB6-E144-41F0-8082-7DC401E6769A}"/>
    <dgm:cxn modelId="{F642429B-2CDB-4B84-ABE1-834E55BCD432}" srcId="{85254C96-526E-467C-8215-23DF49ADA6E7}" destId="{79510C41-EAF3-4BCA-9B0B-5F0A55E27B45}" srcOrd="1" destOrd="0" parTransId="{7268A9C8-45DB-4309-BB23-BB2215E64408}" sibTransId="{B80C82B0-E109-4D62-AE19-DE1864FDDB99}"/>
    <dgm:cxn modelId="{06D6D496-0E4A-4105-BD83-13BC992C9FA1}" type="presOf" srcId="{994CF1F4-2732-4AB8-8227-C604B16962DD}" destId="{ADC6FB53-26A8-4358-956F-33CD97D623A0}" srcOrd="0" destOrd="0" presId="urn:microsoft.com/office/officeart/2005/8/layout/vList2"/>
    <dgm:cxn modelId="{B2442737-E77E-48AE-BE59-2AB4D89BAB77}" type="presParOf" srcId="{ADC6FB53-26A8-4358-956F-33CD97D623A0}" destId="{748FD6B1-5284-4A35-BE66-DF23DE258E16}" srcOrd="0" destOrd="0" presId="urn:microsoft.com/office/officeart/2005/8/layout/vList2"/>
    <dgm:cxn modelId="{C74F1163-7634-4133-99C3-F4973D03CBEA}" type="presParOf" srcId="{ADC6FB53-26A8-4358-956F-33CD97D623A0}" destId="{30260CF6-4D9C-4193-B208-91D5CEDD28C2}" srcOrd="1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0.xml><?xml version="1.0" encoding="utf-8"?>
<dgm:dataModel xmlns:dgm="http://schemas.openxmlformats.org/drawingml/2006/diagram" xmlns:a="http://schemas.openxmlformats.org/drawingml/2006/main">
  <dgm:ptLst>
    <dgm:pt modelId="{E5D8823E-2041-4363-93AE-A42E6514C16F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700EE839-C7D3-4D5E-B9A7-AB4A5E9BFA43}">
      <dgm:prSet/>
      <dgm:spPr/>
      <dgm:t>
        <a:bodyPr/>
        <a:lstStyle/>
        <a:p>
          <a:pPr rtl="0"/>
          <a:r>
            <a:rPr lang="pl-PL" dirty="0" smtClean="0"/>
            <a:t>Data </a:t>
          </a:r>
          <a:r>
            <a:rPr lang="en-US" noProof="0" dirty="0" smtClean="0"/>
            <a:t>loading</a:t>
          </a:r>
          <a:r>
            <a:rPr lang="pl-PL" dirty="0" smtClean="0"/>
            <a:t> to </a:t>
          </a:r>
          <a:r>
            <a:rPr lang="pl-PL" dirty="0" err="1" smtClean="0"/>
            <a:t>Operational</a:t>
          </a:r>
          <a:r>
            <a:rPr lang="pl-PL" dirty="0" smtClean="0"/>
            <a:t> </a:t>
          </a:r>
          <a:r>
            <a:rPr lang="en-US" noProof="0" dirty="0" err="1" smtClean="0"/>
            <a:t>Microdatabase</a:t>
          </a:r>
          <a:r>
            <a:rPr lang="pl-PL" dirty="0" smtClean="0"/>
            <a:t>,</a:t>
          </a:r>
          <a:endParaRPr lang="pl-PL" dirty="0"/>
        </a:p>
      </dgm:t>
    </dgm:pt>
    <dgm:pt modelId="{4D0E6769-33AB-45CE-B3EC-A46E471310BF}" type="parTrans" cxnId="{54F95CE9-F255-4309-AB27-16EAA9C3405E}">
      <dgm:prSet/>
      <dgm:spPr/>
      <dgm:t>
        <a:bodyPr/>
        <a:lstStyle/>
        <a:p>
          <a:endParaRPr lang="pl-PL"/>
        </a:p>
      </dgm:t>
    </dgm:pt>
    <dgm:pt modelId="{868B104F-A3B2-40B5-B7E0-57877360E16A}" type="sibTrans" cxnId="{54F95CE9-F255-4309-AB27-16EAA9C3405E}">
      <dgm:prSet/>
      <dgm:spPr/>
      <dgm:t>
        <a:bodyPr/>
        <a:lstStyle/>
        <a:p>
          <a:endParaRPr lang="pl-PL"/>
        </a:p>
      </dgm:t>
    </dgm:pt>
    <dgm:pt modelId="{CA41E774-12B7-4FA2-9F4B-2D18E80B6B16}">
      <dgm:prSet/>
      <dgm:spPr/>
      <dgm:t>
        <a:bodyPr/>
        <a:lstStyle/>
        <a:p>
          <a:pPr rtl="0"/>
          <a:r>
            <a:rPr lang="en-US" noProof="0" dirty="0" smtClean="0"/>
            <a:t>Validation</a:t>
          </a:r>
          <a:endParaRPr lang="en-US" noProof="0" dirty="0"/>
        </a:p>
      </dgm:t>
    </dgm:pt>
    <dgm:pt modelId="{16ED2C41-3BC6-4846-9A80-E899E9B651C2}" type="parTrans" cxnId="{1BE9C3FB-548A-43E1-BD92-D657B050E695}">
      <dgm:prSet/>
      <dgm:spPr/>
      <dgm:t>
        <a:bodyPr/>
        <a:lstStyle/>
        <a:p>
          <a:endParaRPr lang="pl-PL"/>
        </a:p>
      </dgm:t>
    </dgm:pt>
    <dgm:pt modelId="{BE364A16-59EF-405C-900B-A24EFA654942}" type="sibTrans" cxnId="{1BE9C3FB-548A-43E1-BD92-D657B050E695}">
      <dgm:prSet/>
      <dgm:spPr/>
      <dgm:t>
        <a:bodyPr/>
        <a:lstStyle/>
        <a:p>
          <a:endParaRPr lang="pl-PL"/>
        </a:p>
      </dgm:t>
    </dgm:pt>
    <dgm:pt modelId="{6ECC2064-D7D1-48F7-A867-8F6A40C8B51B}">
      <dgm:prSet/>
      <dgm:spPr/>
      <dgm:t>
        <a:bodyPr/>
        <a:lstStyle/>
        <a:p>
          <a:pPr rtl="0"/>
          <a:r>
            <a:rPr lang="pl-PL" dirty="0" err="1" smtClean="0"/>
            <a:t>Manual</a:t>
          </a:r>
          <a:r>
            <a:rPr lang="pl-PL" dirty="0" smtClean="0"/>
            <a:t> and automatic </a:t>
          </a:r>
          <a:r>
            <a:rPr lang="pl-PL" dirty="0" err="1" smtClean="0"/>
            <a:t>correction</a:t>
          </a:r>
          <a:r>
            <a:rPr lang="pl-PL" dirty="0" smtClean="0"/>
            <a:t> (</a:t>
          </a:r>
          <a:r>
            <a:rPr lang="pl-PL" dirty="0" err="1" smtClean="0"/>
            <a:t>cleaning</a:t>
          </a:r>
          <a:r>
            <a:rPr lang="pl-PL" dirty="0" smtClean="0"/>
            <a:t>),</a:t>
          </a:r>
          <a:endParaRPr lang="pl-PL" dirty="0"/>
        </a:p>
      </dgm:t>
    </dgm:pt>
    <dgm:pt modelId="{DAD413AD-C0C2-4A5F-895A-C8E44324F5AA}" type="parTrans" cxnId="{2C57AE17-6BE6-4AD0-8A93-F06E6A05482A}">
      <dgm:prSet/>
      <dgm:spPr/>
      <dgm:t>
        <a:bodyPr/>
        <a:lstStyle/>
        <a:p>
          <a:endParaRPr lang="pl-PL"/>
        </a:p>
      </dgm:t>
    </dgm:pt>
    <dgm:pt modelId="{3B5B9216-120E-4E4F-AAAE-3D73AD18C27A}" type="sibTrans" cxnId="{2C57AE17-6BE6-4AD0-8A93-F06E6A05482A}">
      <dgm:prSet/>
      <dgm:spPr/>
      <dgm:t>
        <a:bodyPr/>
        <a:lstStyle/>
        <a:p>
          <a:endParaRPr lang="pl-PL"/>
        </a:p>
      </dgm:t>
    </dgm:pt>
    <dgm:pt modelId="{2588934C-47E6-4063-A893-4BCD02869857}">
      <dgm:prSet/>
      <dgm:spPr/>
      <dgm:t>
        <a:bodyPr/>
        <a:lstStyle/>
        <a:p>
          <a:pPr rtl="0"/>
          <a:r>
            <a:rPr lang="pl-PL" dirty="0" err="1" smtClean="0"/>
            <a:t>Deduplication</a:t>
          </a:r>
          <a:r>
            <a:rPr lang="pl-PL" dirty="0" smtClean="0"/>
            <a:t>,</a:t>
          </a:r>
          <a:endParaRPr lang="pl-PL" dirty="0"/>
        </a:p>
      </dgm:t>
    </dgm:pt>
    <dgm:pt modelId="{BA60308C-D474-49DD-B855-309535F9093B}" type="parTrans" cxnId="{BEC3D512-58A9-45E0-B9C1-A8D5E19A7126}">
      <dgm:prSet/>
      <dgm:spPr/>
      <dgm:t>
        <a:bodyPr/>
        <a:lstStyle/>
        <a:p>
          <a:endParaRPr lang="pl-PL"/>
        </a:p>
      </dgm:t>
    </dgm:pt>
    <dgm:pt modelId="{B8ACC438-C7B6-420F-970E-10B19A47D810}" type="sibTrans" cxnId="{BEC3D512-58A9-45E0-B9C1-A8D5E19A7126}">
      <dgm:prSet/>
      <dgm:spPr/>
      <dgm:t>
        <a:bodyPr/>
        <a:lstStyle/>
        <a:p>
          <a:endParaRPr lang="pl-PL"/>
        </a:p>
      </dgm:t>
    </dgm:pt>
    <dgm:pt modelId="{2FCF331B-95A5-448A-9560-A0F95EA83354}">
      <dgm:prSet/>
      <dgm:spPr/>
      <dgm:t>
        <a:bodyPr/>
        <a:lstStyle/>
        <a:p>
          <a:pPr rtl="0"/>
          <a:r>
            <a:rPr lang="en-US" noProof="0" smtClean="0"/>
            <a:t>Variables calculating,</a:t>
          </a:r>
          <a:endParaRPr lang="en-US" noProof="0"/>
        </a:p>
      </dgm:t>
    </dgm:pt>
    <dgm:pt modelId="{5B23F2D9-DE82-4D21-B7DC-C82A4960B22A}" type="parTrans" cxnId="{8514545B-BCC7-40E0-AA7B-B8C3A6D3F3BF}">
      <dgm:prSet/>
      <dgm:spPr/>
      <dgm:t>
        <a:bodyPr/>
        <a:lstStyle/>
        <a:p>
          <a:endParaRPr lang="pl-PL"/>
        </a:p>
      </dgm:t>
    </dgm:pt>
    <dgm:pt modelId="{F28E22EF-5D30-433D-976F-23D7898FF3E9}" type="sibTrans" cxnId="{8514545B-BCC7-40E0-AA7B-B8C3A6D3F3BF}">
      <dgm:prSet/>
      <dgm:spPr/>
      <dgm:t>
        <a:bodyPr/>
        <a:lstStyle/>
        <a:p>
          <a:endParaRPr lang="pl-PL"/>
        </a:p>
      </dgm:t>
    </dgm:pt>
    <dgm:pt modelId="{F28AEE50-2A0A-4A4D-8045-8D62F476DD1D}" type="pres">
      <dgm:prSet presAssocID="{E5D8823E-2041-4363-93AE-A42E6514C16F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8DEEF55E-47E9-4498-9911-E5C1DAEA3589}" type="pres">
      <dgm:prSet presAssocID="{700EE839-C7D3-4D5E-B9A7-AB4A5E9BFA43}" presName="parentText" presStyleLbl="node1" presStyleIdx="0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0BABA6B1-0F22-43E0-8B4B-DE288D1A8A93}" type="pres">
      <dgm:prSet presAssocID="{868B104F-A3B2-40B5-B7E0-57877360E16A}" presName="spacer" presStyleCnt="0"/>
      <dgm:spPr/>
    </dgm:pt>
    <dgm:pt modelId="{A76C2D00-CEE5-4E83-BB4A-6DFCAA31A6A4}" type="pres">
      <dgm:prSet presAssocID="{CA41E774-12B7-4FA2-9F4B-2D18E80B6B16}" presName="parentText" presStyleLbl="node1" presStyleIdx="1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EBD84EF0-EB5D-49F8-91BC-CCA1E2136FBB}" type="pres">
      <dgm:prSet presAssocID="{BE364A16-59EF-405C-900B-A24EFA654942}" presName="spacer" presStyleCnt="0"/>
      <dgm:spPr/>
    </dgm:pt>
    <dgm:pt modelId="{91EA49BE-B7D1-4F95-9651-EDBBE7EB6EC8}" type="pres">
      <dgm:prSet presAssocID="{6ECC2064-D7D1-48F7-A867-8F6A40C8B51B}" presName="parentText" presStyleLbl="node1" presStyleIdx="2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692F3174-B7E4-4180-9C2C-846BDAE55A73}" type="pres">
      <dgm:prSet presAssocID="{3B5B9216-120E-4E4F-AAAE-3D73AD18C27A}" presName="spacer" presStyleCnt="0"/>
      <dgm:spPr/>
    </dgm:pt>
    <dgm:pt modelId="{5973138E-F7EB-4C31-8214-9EEA5C589046}" type="pres">
      <dgm:prSet presAssocID="{2588934C-47E6-4063-A893-4BCD02869857}" presName="parentText" presStyleLbl="node1" presStyleIdx="3" presStyleCnt="5" custLinFactNeighborY="25957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94C4EF2A-B043-4931-9DF8-A59156676BA4}" type="pres">
      <dgm:prSet presAssocID="{B8ACC438-C7B6-420F-970E-10B19A47D810}" presName="spacer" presStyleCnt="0"/>
      <dgm:spPr/>
    </dgm:pt>
    <dgm:pt modelId="{CEC4112E-6A21-4928-AF77-F381BC9919C3}" type="pres">
      <dgm:prSet presAssocID="{2FCF331B-95A5-448A-9560-A0F95EA83354}" presName="parentText" presStyleLbl="node1" presStyleIdx="4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2C780D13-8F57-492E-8C09-681A98F999FF}" type="presOf" srcId="{700EE839-C7D3-4D5E-B9A7-AB4A5E9BFA43}" destId="{8DEEF55E-47E9-4498-9911-E5C1DAEA3589}" srcOrd="0" destOrd="0" presId="urn:microsoft.com/office/officeart/2005/8/layout/vList2"/>
    <dgm:cxn modelId="{54F95CE9-F255-4309-AB27-16EAA9C3405E}" srcId="{E5D8823E-2041-4363-93AE-A42E6514C16F}" destId="{700EE839-C7D3-4D5E-B9A7-AB4A5E9BFA43}" srcOrd="0" destOrd="0" parTransId="{4D0E6769-33AB-45CE-B3EC-A46E471310BF}" sibTransId="{868B104F-A3B2-40B5-B7E0-57877360E16A}"/>
    <dgm:cxn modelId="{DBAE2C79-8C96-4E9D-893C-7E51C150E6D5}" type="presOf" srcId="{6ECC2064-D7D1-48F7-A867-8F6A40C8B51B}" destId="{91EA49BE-B7D1-4F95-9651-EDBBE7EB6EC8}" srcOrd="0" destOrd="0" presId="urn:microsoft.com/office/officeart/2005/8/layout/vList2"/>
    <dgm:cxn modelId="{86C9BA45-416B-4575-AA7E-BF7301B821B5}" type="presOf" srcId="{2FCF331B-95A5-448A-9560-A0F95EA83354}" destId="{CEC4112E-6A21-4928-AF77-F381BC9919C3}" srcOrd="0" destOrd="0" presId="urn:microsoft.com/office/officeart/2005/8/layout/vList2"/>
    <dgm:cxn modelId="{1BE9C3FB-548A-43E1-BD92-D657B050E695}" srcId="{E5D8823E-2041-4363-93AE-A42E6514C16F}" destId="{CA41E774-12B7-4FA2-9F4B-2D18E80B6B16}" srcOrd="1" destOrd="0" parTransId="{16ED2C41-3BC6-4846-9A80-E899E9B651C2}" sibTransId="{BE364A16-59EF-405C-900B-A24EFA654942}"/>
    <dgm:cxn modelId="{2C57AE17-6BE6-4AD0-8A93-F06E6A05482A}" srcId="{E5D8823E-2041-4363-93AE-A42E6514C16F}" destId="{6ECC2064-D7D1-48F7-A867-8F6A40C8B51B}" srcOrd="2" destOrd="0" parTransId="{DAD413AD-C0C2-4A5F-895A-C8E44324F5AA}" sibTransId="{3B5B9216-120E-4E4F-AAAE-3D73AD18C27A}"/>
    <dgm:cxn modelId="{E97CF1BB-C55C-4B9E-B67B-225C3BE1FB2E}" type="presOf" srcId="{E5D8823E-2041-4363-93AE-A42E6514C16F}" destId="{F28AEE50-2A0A-4A4D-8045-8D62F476DD1D}" srcOrd="0" destOrd="0" presId="urn:microsoft.com/office/officeart/2005/8/layout/vList2"/>
    <dgm:cxn modelId="{21A2C0AE-680E-49E3-ADB2-69077B6B032A}" type="presOf" srcId="{2588934C-47E6-4063-A893-4BCD02869857}" destId="{5973138E-F7EB-4C31-8214-9EEA5C589046}" srcOrd="0" destOrd="0" presId="urn:microsoft.com/office/officeart/2005/8/layout/vList2"/>
    <dgm:cxn modelId="{C1398597-FD0A-4B33-9E4E-DF5EF9311A09}" type="presOf" srcId="{CA41E774-12B7-4FA2-9F4B-2D18E80B6B16}" destId="{A76C2D00-CEE5-4E83-BB4A-6DFCAA31A6A4}" srcOrd="0" destOrd="0" presId="urn:microsoft.com/office/officeart/2005/8/layout/vList2"/>
    <dgm:cxn modelId="{8514545B-BCC7-40E0-AA7B-B8C3A6D3F3BF}" srcId="{E5D8823E-2041-4363-93AE-A42E6514C16F}" destId="{2FCF331B-95A5-448A-9560-A0F95EA83354}" srcOrd="4" destOrd="0" parTransId="{5B23F2D9-DE82-4D21-B7DC-C82A4960B22A}" sibTransId="{F28E22EF-5D30-433D-976F-23D7898FF3E9}"/>
    <dgm:cxn modelId="{BEC3D512-58A9-45E0-B9C1-A8D5E19A7126}" srcId="{E5D8823E-2041-4363-93AE-A42E6514C16F}" destId="{2588934C-47E6-4063-A893-4BCD02869857}" srcOrd="3" destOrd="0" parTransId="{BA60308C-D474-49DD-B855-309535F9093B}" sibTransId="{B8ACC438-C7B6-420F-970E-10B19A47D810}"/>
    <dgm:cxn modelId="{0715CF3A-32A0-4ED8-84A0-F2DC3A4CE5C1}" type="presParOf" srcId="{F28AEE50-2A0A-4A4D-8045-8D62F476DD1D}" destId="{8DEEF55E-47E9-4498-9911-E5C1DAEA3589}" srcOrd="0" destOrd="0" presId="urn:microsoft.com/office/officeart/2005/8/layout/vList2"/>
    <dgm:cxn modelId="{AA4C3762-32B4-4F5F-A31A-46F52A62BC4D}" type="presParOf" srcId="{F28AEE50-2A0A-4A4D-8045-8D62F476DD1D}" destId="{0BABA6B1-0F22-43E0-8B4B-DE288D1A8A93}" srcOrd="1" destOrd="0" presId="urn:microsoft.com/office/officeart/2005/8/layout/vList2"/>
    <dgm:cxn modelId="{75D399C2-261D-4BE6-BF4B-7EE7B6305C06}" type="presParOf" srcId="{F28AEE50-2A0A-4A4D-8045-8D62F476DD1D}" destId="{A76C2D00-CEE5-4E83-BB4A-6DFCAA31A6A4}" srcOrd="2" destOrd="0" presId="urn:microsoft.com/office/officeart/2005/8/layout/vList2"/>
    <dgm:cxn modelId="{7E406BBA-81A3-40B8-B682-4C691DCEA389}" type="presParOf" srcId="{F28AEE50-2A0A-4A4D-8045-8D62F476DD1D}" destId="{EBD84EF0-EB5D-49F8-91BC-CCA1E2136FBB}" srcOrd="3" destOrd="0" presId="urn:microsoft.com/office/officeart/2005/8/layout/vList2"/>
    <dgm:cxn modelId="{B356C40A-ACFC-4DA9-989D-794208E6AA66}" type="presParOf" srcId="{F28AEE50-2A0A-4A4D-8045-8D62F476DD1D}" destId="{91EA49BE-B7D1-4F95-9651-EDBBE7EB6EC8}" srcOrd="4" destOrd="0" presId="urn:microsoft.com/office/officeart/2005/8/layout/vList2"/>
    <dgm:cxn modelId="{F64CFB40-ACEC-458F-9F13-745473D2EE2C}" type="presParOf" srcId="{F28AEE50-2A0A-4A4D-8045-8D62F476DD1D}" destId="{692F3174-B7E4-4180-9C2C-846BDAE55A73}" srcOrd="5" destOrd="0" presId="urn:microsoft.com/office/officeart/2005/8/layout/vList2"/>
    <dgm:cxn modelId="{0156E555-84C3-4829-B946-62BEF7961911}" type="presParOf" srcId="{F28AEE50-2A0A-4A4D-8045-8D62F476DD1D}" destId="{5973138E-F7EB-4C31-8214-9EEA5C589046}" srcOrd="6" destOrd="0" presId="urn:microsoft.com/office/officeart/2005/8/layout/vList2"/>
    <dgm:cxn modelId="{74F7AC15-D306-4722-90A3-C9C294F5367E}" type="presParOf" srcId="{F28AEE50-2A0A-4A4D-8045-8D62F476DD1D}" destId="{94C4EF2A-B043-4931-9DF8-A59156676BA4}" srcOrd="7" destOrd="0" presId="urn:microsoft.com/office/officeart/2005/8/layout/vList2"/>
    <dgm:cxn modelId="{883118CF-07F7-41FA-883B-46CBF94FF42C}" type="presParOf" srcId="{F28AEE50-2A0A-4A4D-8045-8D62F476DD1D}" destId="{CEC4112E-6A21-4928-AF77-F381BC9919C3}" srcOrd="8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11.xml><?xml version="1.0" encoding="utf-8"?>
<dgm:dataModel xmlns:dgm="http://schemas.openxmlformats.org/drawingml/2006/diagram" xmlns:a="http://schemas.openxmlformats.org/drawingml/2006/main">
  <dgm:ptLst>
    <dgm:pt modelId="{DCB61B2B-8F02-4D88-8573-A0F6F7430CE4}" type="doc">
      <dgm:prSet loTypeId="urn:microsoft.com/office/officeart/2005/8/layout/vList5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1BB230E8-1A5C-4DD3-86D3-85F42F5E8195}">
      <dgm:prSet/>
      <dgm:spPr/>
      <dgm:t>
        <a:bodyPr/>
        <a:lstStyle/>
        <a:p>
          <a:pPr rtl="0"/>
          <a:r>
            <a:rPr lang="pl-PL" dirty="0" err="1" smtClean="0"/>
            <a:t>CAxI</a:t>
          </a:r>
          <a:endParaRPr lang="pl-PL" dirty="0"/>
        </a:p>
      </dgm:t>
    </dgm:pt>
    <dgm:pt modelId="{399B7103-15A9-4552-8EC4-C21458A0E4DF}" type="parTrans" cxnId="{BCDF53E1-3AFF-43F3-B91E-5DF02306F996}">
      <dgm:prSet/>
      <dgm:spPr/>
      <dgm:t>
        <a:bodyPr/>
        <a:lstStyle/>
        <a:p>
          <a:endParaRPr lang="pl-PL"/>
        </a:p>
      </dgm:t>
    </dgm:pt>
    <dgm:pt modelId="{3652E1CA-F9E8-4A67-BD0A-393DD42A8A2F}" type="sibTrans" cxnId="{BCDF53E1-3AFF-43F3-B91E-5DF02306F996}">
      <dgm:prSet/>
      <dgm:spPr/>
      <dgm:t>
        <a:bodyPr/>
        <a:lstStyle/>
        <a:p>
          <a:endParaRPr lang="pl-PL"/>
        </a:p>
      </dgm:t>
    </dgm:pt>
    <dgm:pt modelId="{948A1255-9183-48E1-BB01-DDCB475E7447}">
      <dgm:prSet/>
      <dgm:spPr/>
      <dgm:t>
        <a:bodyPr/>
        <a:lstStyle/>
        <a:p>
          <a:pPr rtl="0"/>
          <a:r>
            <a:rPr lang="pl-PL" dirty="0" smtClean="0"/>
            <a:t>CAII - Computer </a:t>
          </a:r>
          <a:r>
            <a:rPr lang="pl-PL" dirty="0" err="1" smtClean="0"/>
            <a:t>Assisted</a:t>
          </a:r>
          <a:r>
            <a:rPr lang="pl-PL" dirty="0" smtClean="0"/>
            <a:t> Internet Interview,</a:t>
          </a:r>
          <a:endParaRPr lang="pl-PL" dirty="0"/>
        </a:p>
      </dgm:t>
    </dgm:pt>
    <dgm:pt modelId="{8C34BEBF-8648-4DC3-B853-1699339F7557}" type="parTrans" cxnId="{0C9FD250-7508-4DBB-9C7C-5701D52E8D8B}">
      <dgm:prSet/>
      <dgm:spPr/>
      <dgm:t>
        <a:bodyPr/>
        <a:lstStyle/>
        <a:p>
          <a:endParaRPr lang="pl-PL"/>
        </a:p>
      </dgm:t>
    </dgm:pt>
    <dgm:pt modelId="{3A0F98B8-9607-4E74-832F-ACEA5D4A6C9D}" type="sibTrans" cxnId="{0C9FD250-7508-4DBB-9C7C-5701D52E8D8B}">
      <dgm:prSet/>
      <dgm:spPr/>
      <dgm:t>
        <a:bodyPr/>
        <a:lstStyle/>
        <a:p>
          <a:endParaRPr lang="pl-PL"/>
        </a:p>
      </dgm:t>
    </dgm:pt>
    <dgm:pt modelId="{DF0849D8-D100-4A5F-9634-B40EF261AD88}">
      <dgm:prSet/>
      <dgm:spPr/>
      <dgm:t>
        <a:bodyPr/>
        <a:lstStyle/>
        <a:p>
          <a:pPr rtl="0"/>
          <a:r>
            <a:rPr lang="pl-PL" dirty="0" smtClean="0"/>
            <a:t>CAPI - Computer </a:t>
          </a:r>
          <a:r>
            <a:rPr lang="pl-PL" dirty="0" err="1" smtClean="0"/>
            <a:t>Assisted</a:t>
          </a:r>
          <a:r>
            <a:rPr lang="pl-PL" dirty="0" smtClean="0"/>
            <a:t> </a:t>
          </a:r>
          <a:r>
            <a:rPr lang="pl-PL" dirty="0" err="1" smtClean="0"/>
            <a:t>Personal</a:t>
          </a:r>
          <a:r>
            <a:rPr lang="pl-PL" dirty="0" smtClean="0"/>
            <a:t> Interview,</a:t>
          </a:r>
          <a:endParaRPr lang="pl-PL" dirty="0"/>
        </a:p>
      </dgm:t>
    </dgm:pt>
    <dgm:pt modelId="{82FAB5CF-4E9B-4B11-AC27-9D210B8745A9}" type="parTrans" cxnId="{9E752020-0534-45FB-B2EA-3302611B0801}">
      <dgm:prSet/>
      <dgm:spPr/>
      <dgm:t>
        <a:bodyPr/>
        <a:lstStyle/>
        <a:p>
          <a:endParaRPr lang="pl-PL"/>
        </a:p>
      </dgm:t>
    </dgm:pt>
    <dgm:pt modelId="{1A667B54-2AC8-4E1D-8CE6-B67DCD0F70DD}" type="sibTrans" cxnId="{9E752020-0534-45FB-B2EA-3302611B0801}">
      <dgm:prSet/>
      <dgm:spPr/>
      <dgm:t>
        <a:bodyPr/>
        <a:lstStyle/>
        <a:p>
          <a:endParaRPr lang="pl-PL"/>
        </a:p>
      </dgm:t>
    </dgm:pt>
    <dgm:pt modelId="{EE29E339-8AA3-4E85-AEDF-05D6D46D1ACB}">
      <dgm:prSet/>
      <dgm:spPr/>
      <dgm:t>
        <a:bodyPr/>
        <a:lstStyle/>
        <a:p>
          <a:pPr rtl="0"/>
          <a:r>
            <a:rPr lang="pl-PL" dirty="0" smtClean="0"/>
            <a:t>CATI - Computer </a:t>
          </a:r>
          <a:r>
            <a:rPr lang="pl-PL" dirty="0" err="1" smtClean="0"/>
            <a:t>Assisted</a:t>
          </a:r>
          <a:r>
            <a:rPr lang="pl-PL" dirty="0" smtClean="0"/>
            <a:t> </a:t>
          </a:r>
          <a:r>
            <a:rPr lang="pl-PL" dirty="0" err="1" smtClean="0"/>
            <a:t>Telephone</a:t>
          </a:r>
          <a:r>
            <a:rPr lang="pl-PL" dirty="0" smtClean="0"/>
            <a:t> </a:t>
          </a:r>
          <a:r>
            <a:rPr lang="pl-PL" dirty="0" err="1" smtClean="0"/>
            <a:t>Interviewing</a:t>
          </a:r>
          <a:r>
            <a:rPr lang="pl-PL" dirty="0" smtClean="0"/>
            <a:t>.</a:t>
          </a:r>
          <a:endParaRPr lang="pl-PL" dirty="0"/>
        </a:p>
      </dgm:t>
    </dgm:pt>
    <dgm:pt modelId="{3A3EFA6A-2AF4-4BDF-AA0B-9F02BCAF20C2}" type="parTrans" cxnId="{81CDA33C-441B-4269-AC6D-4C64994282A8}">
      <dgm:prSet/>
      <dgm:spPr/>
      <dgm:t>
        <a:bodyPr/>
        <a:lstStyle/>
        <a:p>
          <a:endParaRPr lang="pl-PL"/>
        </a:p>
      </dgm:t>
    </dgm:pt>
    <dgm:pt modelId="{C4B30651-1C31-4971-8D2D-2016D0BBD27A}" type="sibTrans" cxnId="{81CDA33C-441B-4269-AC6D-4C64994282A8}">
      <dgm:prSet/>
      <dgm:spPr/>
      <dgm:t>
        <a:bodyPr/>
        <a:lstStyle/>
        <a:p>
          <a:endParaRPr lang="pl-PL"/>
        </a:p>
      </dgm:t>
    </dgm:pt>
    <dgm:pt modelId="{688F5D30-AE3E-4414-8D3A-6BB0EE627E5A}" type="pres">
      <dgm:prSet presAssocID="{DCB61B2B-8F02-4D88-8573-A0F6F7430CE4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F774DD25-5C5A-4CB5-ACB7-6019AB861DD7}" type="pres">
      <dgm:prSet presAssocID="{1BB230E8-1A5C-4DD3-86D3-85F42F5E8195}" presName="linNode" presStyleCnt="0"/>
      <dgm:spPr/>
    </dgm:pt>
    <dgm:pt modelId="{B40DD1CA-F1BD-410D-95A9-CBEAC34B5836}" type="pres">
      <dgm:prSet presAssocID="{1BB230E8-1A5C-4DD3-86D3-85F42F5E8195}" presName="parentText" presStyleLbl="node1" presStyleIdx="0" presStyleCnt="1" custLinFactNeighborX="-1764">
        <dgm:presLayoutVars>
          <dgm:chMax val="1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56573EC0-BB65-4483-9CEA-65365F973E4D}" type="pres">
      <dgm:prSet presAssocID="{1BB230E8-1A5C-4DD3-86D3-85F42F5E8195}" presName="descendantText" presStyleLbl="alignAccFollowNode1" presStyleIdx="0" presStyleCnt="1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B942161C-17EB-40C9-9E03-41B3758A91F0}" type="presOf" srcId="{EE29E339-8AA3-4E85-AEDF-05D6D46D1ACB}" destId="{56573EC0-BB65-4483-9CEA-65365F973E4D}" srcOrd="0" destOrd="2" presId="urn:microsoft.com/office/officeart/2005/8/layout/vList5"/>
    <dgm:cxn modelId="{0C9FD250-7508-4DBB-9C7C-5701D52E8D8B}" srcId="{1BB230E8-1A5C-4DD3-86D3-85F42F5E8195}" destId="{948A1255-9183-48E1-BB01-DDCB475E7447}" srcOrd="0" destOrd="0" parTransId="{8C34BEBF-8648-4DC3-B853-1699339F7557}" sibTransId="{3A0F98B8-9607-4E74-832F-ACEA5D4A6C9D}"/>
    <dgm:cxn modelId="{F990A8C8-DEB3-46B2-968D-6C54CE7FA3C6}" type="presOf" srcId="{DCB61B2B-8F02-4D88-8573-A0F6F7430CE4}" destId="{688F5D30-AE3E-4414-8D3A-6BB0EE627E5A}" srcOrd="0" destOrd="0" presId="urn:microsoft.com/office/officeart/2005/8/layout/vList5"/>
    <dgm:cxn modelId="{2463C8D4-F778-44A0-86EC-88ED42478B27}" type="presOf" srcId="{DF0849D8-D100-4A5F-9634-B40EF261AD88}" destId="{56573EC0-BB65-4483-9CEA-65365F973E4D}" srcOrd="0" destOrd="1" presId="urn:microsoft.com/office/officeart/2005/8/layout/vList5"/>
    <dgm:cxn modelId="{E2768BC9-AACB-4103-8E1A-90E49FF989E3}" type="presOf" srcId="{1BB230E8-1A5C-4DD3-86D3-85F42F5E8195}" destId="{B40DD1CA-F1BD-410D-95A9-CBEAC34B5836}" srcOrd="0" destOrd="0" presId="urn:microsoft.com/office/officeart/2005/8/layout/vList5"/>
    <dgm:cxn modelId="{81CDA33C-441B-4269-AC6D-4C64994282A8}" srcId="{1BB230E8-1A5C-4DD3-86D3-85F42F5E8195}" destId="{EE29E339-8AA3-4E85-AEDF-05D6D46D1ACB}" srcOrd="2" destOrd="0" parTransId="{3A3EFA6A-2AF4-4BDF-AA0B-9F02BCAF20C2}" sibTransId="{C4B30651-1C31-4971-8D2D-2016D0BBD27A}"/>
    <dgm:cxn modelId="{BCDF53E1-3AFF-43F3-B91E-5DF02306F996}" srcId="{DCB61B2B-8F02-4D88-8573-A0F6F7430CE4}" destId="{1BB230E8-1A5C-4DD3-86D3-85F42F5E8195}" srcOrd="0" destOrd="0" parTransId="{399B7103-15A9-4552-8EC4-C21458A0E4DF}" sibTransId="{3652E1CA-F9E8-4A67-BD0A-393DD42A8A2F}"/>
    <dgm:cxn modelId="{9E752020-0534-45FB-B2EA-3302611B0801}" srcId="{1BB230E8-1A5C-4DD3-86D3-85F42F5E8195}" destId="{DF0849D8-D100-4A5F-9634-B40EF261AD88}" srcOrd="1" destOrd="0" parTransId="{82FAB5CF-4E9B-4B11-AC27-9D210B8745A9}" sibTransId="{1A667B54-2AC8-4E1D-8CE6-B67DCD0F70DD}"/>
    <dgm:cxn modelId="{917D1336-3668-4953-A4FB-B04FB7C66B5A}" type="presOf" srcId="{948A1255-9183-48E1-BB01-DDCB475E7447}" destId="{56573EC0-BB65-4483-9CEA-65365F973E4D}" srcOrd="0" destOrd="0" presId="urn:microsoft.com/office/officeart/2005/8/layout/vList5"/>
    <dgm:cxn modelId="{F83679CB-E7B7-4717-86B7-1C0DAF49BEDF}" type="presParOf" srcId="{688F5D30-AE3E-4414-8D3A-6BB0EE627E5A}" destId="{F774DD25-5C5A-4CB5-ACB7-6019AB861DD7}" srcOrd="0" destOrd="0" presId="urn:microsoft.com/office/officeart/2005/8/layout/vList5"/>
    <dgm:cxn modelId="{BC435325-8906-4B25-B792-4AD0F475BCB1}" type="presParOf" srcId="{F774DD25-5C5A-4CB5-ACB7-6019AB861DD7}" destId="{B40DD1CA-F1BD-410D-95A9-CBEAC34B5836}" srcOrd="0" destOrd="0" presId="urn:microsoft.com/office/officeart/2005/8/layout/vList5"/>
    <dgm:cxn modelId="{A3F81037-DD3A-4C9A-A63A-A7C956C48FED}" type="presParOf" srcId="{F774DD25-5C5A-4CB5-ACB7-6019AB861DD7}" destId="{56573EC0-BB65-4483-9CEA-65365F973E4D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12.xml><?xml version="1.0" encoding="utf-8"?>
<dgm:dataModel xmlns:dgm="http://schemas.openxmlformats.org/drawingml/2006/diagram" xmlns:a="http://schemas.openxmlformats.org/drawingml/2006/main">
  <dgm:ptLst>
    <dgm:pt modelId="{994CF1F4-2732-4AB8-8227-C604B16962D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3ED9902A-1EBF-454F-BE5D-EE05BC6E7D48}">
      <dgm:prSet custT="1"/>
      <dgm:spPr/>
      <dgm:t>
        <a:bodyPr/>
        <a:lstStyle/>
        <a:p>
          <a:endParaRPr lang="pl-PL" sz="2800" dirty="0">
            <a:solidFill>
              <a:srgbClr val="FF3300"/>
            </a:solidFill>
          </a:endParaRPr>
        </a:p>
      </dgm:t>
    </dgm:pt>
    <dgm:pt modelId="{BF0E18C9-7F42-4393-B5FF-7E1CEBC2B14F}" type="parTrans" cxnId="{9C67332D-A3E9-411C-84E4-B025B0E65801}">
      <dgm:prSet/>
      <dgm:spPr/>
      <dgm:t>
        <a:bodyPr/>
        <a:lstStyle/>
        <a:p>
          <a:endParaRPr lang="pl-PL"/>
        </a:p>
      </dgm:t>
    </dgm:pt>
    <dgm:pt modelId="{5E09A35B-1943-4461-8EAB-D5056684ABDA}" type="sibTrans" cxnId="{9C67332D-A3E9-411C-84E4-B025B0E65801}">
      <dgm:prSet/>
      <dgm:spPr/>
      <dgm:t>
        <a:bodyPr/>
        <a:lstStyle/>
        <a:p>
          <a:endParaRPr lang="pl-PL"/>
        </a:p>
      </dgm:t>
    </dgm:pt>
    <dgm:pt modelId="{6E9ABF69-9855-4EDE-B316-F2460C919719}">
      <dgm:prSet/>
      <dgm:spPr/>
      <dgm:t>
        <a:bodyPr/>
        <a:lstStyle/>
        <a:p>
          <a:r>
            <a:rPr lang="en-US" b="1" noProof="0" dirty="0" smtClean="0"/>
            <a:t>Collecting data from respondents: CAII, CAPI, CATI;</a:t>
          </a:r>
          <a:endParaRPr lang="en-US" noProof="0" dirty="0"/>
        </a:p>
      </dgm:t>
    </dgm:pt>
    <dgm:pt modelId="{0DC777C2-823B-40EE-A641-78A1B2487300}" type="parTrans" cxnId="{92937901-B30E-4277-AB74-811E4A77CAE6}">
      <dgm:prSet/>
      <dgm:spPr/>
      <dgm:t>
        <a:bodyPr/>
        <a:lstStyle/>
        <a:p>
          <a:endParaRPr lang="pl-PL"/>
        </a:p>
      </dgm:t>
    </dgm:pt>
    <dgm:pt modelId="{6BE824B3-D84A-406A-96B9-C29FF275FF15}" type="sibTrans" cxnId="{92937901-B30E-4277-AB74-811E4A77CAE6}">
      <dgm:prSet/>
      <dgm:spPr/>
      <dgm:t>
        <a:bodyPr/>
        <a:lstStyle/>
        <a:p>
          <a:endParaRPr lang="pl-PL"/>
        </a:p>
      </dgm:t>
    </dgm:pt>
    <dgm:pt modelId="{7BB10A98-CE43-47D2-9EFB-D0C4ADAAC86E}">
      <dgm:prSet/>
      <dgm:spPr/>
      <dgm:t>
        <a:bodyPr/>
        <a:lstStyle/>
        <a:p>
          <a:r>
            <a:rPr lang="en-US" b="1" noProof="0" dirty="0" err="1" smtClean="0"/>
            <a:t>CAxI</a:t>
          </a:r>
          <a:r>
            <a:rPr lang="en-US" b="1" noProof="0" dirty="0" smtClean="0"/>
            <a:t> input validation: </a:t>
          </a:r>
          <a:endParaRPr lang="en-US" noProof="0" dirty="0"/>
        </a:p>
      </dgm:t>
    </dgm:pt>
    <dgm:pt modelId="{803CE9D4-BB0C-449C-81FF-33C2DFD768EE}" type="parTrans" cxnId="{D106EADF-E47E-4D08-AD1F-674BDB3F70EC}">
      <dgm:prSet/>
      <dgm:spPr/>
      <dgm:t>
        <a:bodyPr/>
        <a:lstStyle/>
        <a:p>
          <a:endParaRPr lang="pl-PL"/>
        </a:p>
      </dgm:t>
    </dgm:pt>
    <dgm:pt modelId="{C406F091-ED74-4D41-8FF0-1638822A1196}" type="sibTrans" cxnId="{D106EADF-E47E-4D08-AD1F-674BDB3F70EC}">
      <dgm:prSet/>
      <dgm:spPr/>
      <dgm:t>
        <a:bodyPr/>
        <a:lstStyle/>
        <a:p>
          <a:endParaRPr lang="pl-PL"/>
        </a:p>
      </dgm:t>
    </dgm:pt>
    <dgm:pt modelId="{76A6C2B2-BD49-4531-8FDB-C5B1FF61E83F}">
      <dgm:prSet/>
      <dgm:spPr/>
      <dgm:t>
        <a:bodyPr/>
        <a:lstStyle/>
        <a:p>
          <a:r>
            <a:rPr lang="en-US" b="1" noProof="0" dirty="0" smtClean="0"/>
            <a:t>Numerical data validation (answers within boundaries)</a:t>
          </a:r>
          <a:endParaRPr lang="en-US" noProof="0" dirty="0"/>
        </a:p>
      </dgm:t>
    </dgm:pt>
    <dgm:pt modelId="{39EF9072-221E-4C45-B9D7-E4EA982DAC10}" type="parTrans" cxnId="{286761E1-23C8-4152-8CDA-F2086CDF8CCC}">
      <dgm:prSet/>
      <dgm:spPr/>
      <dgm:t>
        <a:bodyPr/>
        <a:lstStyle/>
        <a:p>
          <a:endParaRPr lang="pl-PL"/>
        </a:p>
      </dgm:t>
    </dgm:pt>
    <dgm:pt modelId="{69AEAEB4-1B3C-4EB6-8D3D-E5E3C5D943A0}" type="sibTrans" cxnId="{286761E1-23C8-4152-8CDA-F2086CDF8CCC}">
      <dgm:prSet/>
      <dgm:spPr/>
      <dgm:t>
        <a:bodyPr/>
        <a:lstStyle/>
        <a:p>
          <a:endParaRPr lang="pl-PL"/>
        </a:p>
      </dgm:t>
    </dgm:pt>
    <dgm:pt modelId="{9EADE605-C138-4C0B-9149-3A16E35254A7}">
      <dgm:prSet/>
      <dgm:spPr/>
      <dgm:t>
        <a:bodyPr/>
        <a:lstStyle/>
        <a:p>
          <a:r>
            <a:rPr lang="en-US" b="1" noProof="0" dirty="0" smtClean="0"/>
            <a:t>Cross question arithmetical validation</a:t>
          </a:r>
          <a:endParaRPr lang="en-US" noProof="0" dirty="0"/>
        </a:p>
      </dgm:t>
    </dgm:pt>
    <dgm:pt modelId="{31B46393-9D8A-4203-A029-34733D76CC6C}" type="parTrans" cxnId="{8413D9B7-A750-4D41-9086-24CEC4FD4A24}">
      <dgm:prSet/>
      <dgm:spPr/>
      <dgm:t>
        <a:bodyPr/>
        <a:lstStyle/>
        <a:p>
          <a:endParaRPr lang="pl-PL"/>
        </a:p>
      </dgm:t>
    </dgm:pt>
    <dgm:pt modelId="{8E4BE064-FB6C-4EBB-8413-D2A4ACF50B54}" type="sibTrans" cxnId="{8413D9B7-A750-4D41-9086-24CEC4FD4A24}">
      <dgm:prSet/>
      <dgm:spPr/>
      <dgm:t>
        <a:bodyPr/>
        <a:lstStyle/>
        <a:p>
          <a:endParaRPr lang="pl-PL"/>
        </a:p>
      </dgm:t>
    </dgm:pt>
    <dgm:pt modelId="{7C1D3210-0400-44A3-8981-31F25B21C3D6}">
      <dgm:prSet/>
      <dgm:spPr/>
      <dgm:t>
        <a:bodyPr/>
        <a:lstStyle/>
        <a:p>
          <a:r>
            <a:rPr lang="en-US" b="1" noProof="0" dirty="0" smtClean="0"/>
            <a:t>Hints and automatic answer completion</a:t>
          </a:r>
          <a:endParaRPr lang="en-US" noProof="0" dirty="0"/>
        </a:p>
      </dgm:t>
    </dgm:pt>
    <dgm:pt modelId="{AE2184FF-6BB1-4773-BBDF-86E4AD709DE0}" type="parTrans" cxnId="{32DC6558-B18B-4F44-818D-A8F6D96A2B63}">
      <dgm:prSet/>
      <dgm:spPr/>
      <dgm:t>
        <a:bodyPr/>
        <a:lstStyle/>
        <a:p>
          <a:endParaRPr lang="pl-PL"/>
        </a:p>
      </dgm:t>
    </dgm:pt>
    <dgm:pt modelId="{D38DF146-D2F2-405C-9140-0EAAC21A2CC9}" type="sibTrans" cxnId="{32DC6558-B18B-4F44-818D-A8F6D96A2B63}">
      <dgm:prSet/>
      <dgm:spPr/>
      <dgm:t>
        <a:bodyPr/>
        <a:lstStyle/>
        <a:p>
          <a:endParaRPr lang="pl-PL"/>
        </a:p>
      </dgm:t>
    </dgm:pt>
    <dgm:pt modelId="{CB49A9EE-5C10-4317-B850-F9B358191336}">
      <dgm:prSet/>
      <dgm:spPr/>
      <dgm:t>
        <a:bodyPr/>
        <a:lstStyle/>
        <a:p>
          <a:r>
            <a:rPr lang="en-US" b="1" noProof="0" dirty="0" smtClean="0"/>
            <a:t>Dictionaries and drop down menus</a:t>
          </a:r>
          <a:endParaRPr lang="en-US" noProof="0" dirty="0"/>
        </a:p>
      </dgm:t>
    </dgm:pt>
    <dgm:pt modelId="{45CA5144-29E3-42C0-818A-FCA701A54C4E}" type="parTrans" cxnId="{4E743E75-9BCC-4E63-A1E9-C65E0BC1D2A6}">
      <dgm:prSet/>
      <dgm:spPr/>
      <dgm:t>
        <a:bodyPr/>
        <a:lstStyle/>
        <a:p>
          <a:endParaRPr lang="pl-PL"/>
        </a:p>
      </dgm:t>
    </dgm:pt>
    <dgm:pt modelId="{03B783E9-4EAE-4753-A1B6-4B1800D77E9B}" type="sibTrans" cxnId="{4E743E75-9BCC-4E63-A1E9-C65E0BC1D2A6}">
      <dgm:prSet/>
      <dgm:spPr/>
      <dgm:t>
        <a:bodyPr/>
        <a:lstStyle/>
        <a:p>
          <a:endParaRPr lang="pl-PL"/>
        </a:p>
      </dgm:t>
    </dgm:pt>
    <dgm:pt modelId="{B643BECC-F7EF-4644-8BC4-C4A21C4B5ED4}">
      <dgm:prSet/>
      <dgm:spPr/>
      <dgm:t>
        <a:bodyPr/>
        <a:lstStyle/>
        <a:p>
          <a:r>
            <a:rPr lang="en-US" b="1" noProof="0" dirty="0" err="1" smtClean="0"/>
            <a:t>CAxI</a:t>
          </a:r>
          <a:r>
            <a:rPr lang="en-US" b="1" noProof="0" dirty="0" smtClean="0"/>
            <a:t> logical validation: </a:t>
          </a:r>
          <a:endParaRPr lang="en-US" noProof="0" dirty="0"/>
        </a:p>
      </dgm:t>
    </dgm:pt>
    <dgm:pt modelId="{600C6921-01B1-4467-9409-1EECED3C13FC}" type="parTrans" cxnId="{74980099-5799-4624-9CC6-632342B63AC2}">
      <dgm:prSet/>
      <dgm:spPr/>
      <dgm:t>
        <a:bodyPr/>
        <a:lstStyle/>
        <a:p>
          <a:endParaRPr lang="pl-PL"/>
        </a:p>
      </dgm:t>
    </dgm:pt>
    <dgm:pt modelId="{4697D67D-7D26-4D2C-A566-472525C20BF8}" type="sibTrans" cxnId="{74980099-5799-4624-9CC6-632342B63AC2}">
      <dgm:prSet/>
      <dgm:spPr/>
      <dgm:t>
        <a:bodyPr/>
        <a:lstStyle/>
        <a:p>
          <a:endParaRPr lang="pl-PL"/>
        </a:p>
      </dgm:t>
    </dgm:pt>
    <dgm:pt modelId="{8681CBF2-51F6-4438-A0D0-6E1CE83846C8}">
      <dgm:prSet/>
      <dgm:spPr/>
      <dgm:t>
        <a:bodyPr/>
        <a:lstStyle/>
        <a:p>
          <a:r>
            <a:rPr lang="en-US" b="1" noProof="0" dirty="0" smtClean="0"/>
            <a:t>Answers determined by questions</a:t>
          </a:r>
          <a:endParaRPr lang="en-US" noProof="0" dirty="0"/>
        </a:p>
      </dgm:t>
    </dgm:pt>
    <dgm:pt modelId="{1A9541A1-7712-42FA-A4DC-E4BD9DF74261}" type="parTrans" cxnId="{FA095BD9-99C1-47F3-A800-917DE46B18F9}">
      <dgm:prSet/>
      <dgm:spPr/>
      <dgm:t>
        <a:bodyPr/>
        <a:lstStyle/>
        <a:p>
          <a:endParaRPr lang="pl-PL"/>
        </a:p>
      </dgm:t>
    </dgm:pt>
    <dgm:pt modelId="{C7052FEC-8C68-4483-91B8-8F9D4D1F79B1}" type="sibTrans" cxnId="{FA095BD9-99C1-47F3-A800-917DE46B18F9}">
      <dgm:prSet/>
      <dgm:spPr/>
      <dgm:t>
        <a:bodyPr/>
        <a:lstStyle/>
        <a:p>
          <a:endParaRPr lang="pl-PL"/>
        </a:p>
      </dgm:t>
    </dgm:pt>
    <dgm:pt modelId="{0BCB5911-1DCF-4D45-9A8E-CDD2B3CB3398}">
      <dgm:prSet/>
      <dgm:spPr/>
      <dgm:t>
        <a:bodyPr/>
        <a:lstStyle/>
        <a:p>
          <a:r>
            <a:rPr lang="en-US" b="1" noProof="0" dirty="0" smtClean="0"/>
            <a:t>Cross question logical validation</a:t>
          </a:r>
          <a:endParaRPr lang="en-US" noProof="0" dirty="0"/>
        </a:p>
      </dgm:t>
    </dgm:pt>
    <dgm:pt modelId="{3533E038-CE3D-4BB8-AD5E-53BC66A436B5}" type="parTrans" cxnId="{0EFC6674-633F-4016-9A57-1A4FD1229589}">
      <dgm:prSet/>
      <dgm:spPr/>
      <dgm:t>
        <a:bodyPr/>
        <a:lstStyle/>
        <a:p>
          <a:endParaRPr lang="pl-PL"/>
        </a:p>
      </dgm:t>
    </dgm:pt>
    <dgm:pt modelId="{F8B6F1DB-2743-44F0-AB22-3DBCE1F93D3A}" type="sibTrans" cxnId="{0EFC6674-633F-4016-9A57-1A4FD1229589}">
      <dgm:prSet/>
      <dgm:spPr/>
      <dgm:t>
        <a:bodyPr/>
        <a:lstStyle/>
        <a:p>
          <a:endParaRPr lang="pl-PL"/>
        </a:p>
      </dgm:t>
    </dgm:pt>
    <dgm:pt modelId="{1537BC64-5112-4CCC-8D00-DEB5A667F092}">
      <dgm:prSet/>
      <dgm:spPr/>
      <dgm:t>
        <a:bodyPr/>
        <a:lstStyle/>
        <a:p>
          <a:r>
            <a:rPr lang="en-US" b="1" noProof="0" dirty="0" smtClean="0"/>
            <a:t>Data collection logical paths</a:t>
          </a:r>
          <a:endParaRPr lang="en-US" noProof="0" dirty="0"/>
        </a:p>
      </dgm:t>
    </dgm:pt>
    <dgm:pt modelId="{4049F300-F100-49B3-8C36-BD2FF9136CD2}" type="parTrans" cxnId="{048954E2-912E-44B7-A725-182D2378CCB0}">
      <dgm:prSet/>
      <dgm:spPr/>
      <dgm:t>
        <a:bodyPr/>
        <a:lstStyle/>
        <a:p>
          <a:endParaRPr lang="pl-PL"/>
        </a:p>
      </dgm:t>
    </dgm:pt>
    <dgm:pt modelId="{2EEF06EB-3E7C-459C-BED1-37DACCCD271F}" type="sibTrans" cxnId="{048954E2-912E-44B7-A725-182D2378CCB0}">
      <dgm:prSet/>
      <dgm:spPr/>
      <dgm:t>
        <a:bodyPr/>
        <a:lstStyle/>
        <a:p>
          <a:endParaRPr lang="pl-PL"/>
        </a:p>
      </dgm:t>
    </dgm:pt>
    <dgm:pt modelId="{ADC6FB53-26A8-4358-956F-33CD97D623A0}" type="pres">
      <dgm:prSet presAssocID="{994CF1F4-2732-4AB8-8227-C604B16962D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307CDB06-043D-4B15-A00F-8829BA85AC58}" type="pres">
      <dgm:prSet presAssocID="{3ED9902A-1EBF-454F-BE5D-EE05BC6E7D48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0FE54BAE-4F67-456A-B7DD-D82318E29667}" type="pres">
      <dgm:prSet presAssocID="{3ED9902A-1EBF-454F-BE5D-EE05BC6E7D48}" presName="childText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9C67332D-A3E9-411C-84E4-B025B0E65801}" srcId="{994CF1F4-2732-4AB8-8227-C604B16962DD}" destId="{3ED9902A-1EBF-454F-BE5D-EE05BC6E7D48}" srcOrd="0" destOrd="0" parTransId="{BF0E18C9-7F42-4393-B5FF-7E1CEBC2B14F}" sibTransId="{5E09A35B-1943-4461-8EAB-D5056684ABDA}"/>
    <dgm:cxn modelId="{048954E2-912E-44B7-A725-182D2378CCB0}" srcId="{B643BECC-F7EF-4644-8BC4-C4A21C4B5ED4}" destId="{1537BC64-5112-4CCC-8D00-DEB5A667F092}" srcOrd="2" destOrd="0" parTransId="{4049F300-F100-49B3-8C36-BD2FF9136CD2}" sibTransId="{2EEF06EB-3E7C-459C-BED1-37DACCCD271F}"/>
    <dgm:cxn modelId="{4E743E75-9BCC-4E63-A1E9-C65E0BC1D2A6}" srcId="{7BB10A98-CE43-47D2-9EFB-D0C4ADAAC86E}" destId="{CB49A9EE-5C10-4317-B850-F9B358191336}" srcOrd="3" destOrd="0" parTransId="{45CA5144-29E3-42C0-818A-FCA701A54C4E}" sibTransId="{03B783E9-4EAE-4753-A1B6-4B1800D77E9B}"/>
    <dgm:cxn modelId="{241D0DFD-8C50-4647-92AF-9138059FCCB9}" type="presOf" srcId="{6E9ABF69-9855-4EDE-B316-F2460C919719}" destId="{0FE54BAE-4F67-456A-B7DD-D82318E29667}" srcOrd="0" destOrd="0" presId="urn:microsoft.com/office/officeart/2005/8/layout/vList2"/>
    <dgm:cxn modelId="{74980099-5799-4624-9CC6-632342B63AC2}" srcId="{6E9ABF69-9855-4EDE-B316-F2460C919719}" destId="{B643BECC-F7EF-4644-8BC4-C4A21C4B5ED4}" srcOrd="1" destOrd="0" parTransId="{600C6921-01B1-4467-9409-1EECED3C13FC}" sibTransId="{4697D67D-7D26-4D2C-A566-472525C20BF8}"/>
    <dgm:cxn modelId="{FA095BD9-99C1-47F3-A800-917DE46B18F9}" srcId="{B643BECC-F7EF-4644-8BC4-C4A21C4B5ED4}" destId="{8681CBF2-51F6-4438-A0D0-6E1CE83846C8}" srcOrd="0" destOrd="0" parTransId="{1A9541A1-7712-42FA-A4DC-E4BD9DF74261}" sibTransId="{C7052FEC-8C68-4483-91B8-8F9D4D1F79B1}"/>
    <dgm:cxn modelId="{E2D1482A-C6A1-4BE0-BD8A-50A9CC64AC3C}" type="presOf" srcId="{3ED9902A-1EBF-454F-BE5D-EE05BC6E7D48}" destId="{307CDB06-043D-4B15-A00F-8829BA85AC58}" srcOrd="0" destOrd="0" presId="urn:microsoft.com/office/officeart/2005/8/layout/vList2"/>
    <dgm:cxn modelId="{51FA2BB4-79F3-4C89-94C9-7FC85CEF2453}" type="presOf" srcId="{7C1D3210-0400-44A3-8981-31F25B21C3D6}" destId="{0FE54BAE-4F67-456A-B7DD-D82318E29667}" srcOrd="0" destOrd="4" presId="urn:microsoft.com/office/officeart/2005/8/layout/vList2"/>
    <dgm:cxn modelId="{0EFC6674-633F-4016-9A57-1A4FD1229589}" srcId="{B643BECC-F7EF-4644-8BC4-C4A21C4B5ED4}" destId="{0BCB5911-1DCF-4D45-9A8E-CDD2B3CB3398}" srcOrd="1" destOrd="0" parTransId="{3533E038-CE3D-4BB8-AD5E-53BC66A436B5}" sibTransId="{F8B6F1DB-2743-44F0-AB22-3DBCE1F93D3A}"/>
    <dgm:cxn modelId="{58F3D54F-6392-47D7-81D6-AFAB1B97AA82}" type="presOf" srcId="{76A6C2B2-BD49-4531-8FDB-C5B1FF61E83F}" destId="{0FE54BAE-4F67-456A-B7DD-D82318E29667}" srcOrd="0" destOrd="2" presId="urn:microsoft.com/office/officeart/2005/8/layout/vList2"/>
    <dgm:cxn modelId="{8413D9B7-A750-4D41-9086-24CEC4FD4A24}" srcId="{7BB10A98-CE43-47D2-9EFB-D0C4ADAAC86E}" destId="{9EADE605-C138-4C0B-9149-3A16E35254A7}" srcOrd="1" destOrd="0" parTransId="{31B46393-9D8A-4203-A029-34733D76CC6C}" sibTransId="{8E4BE064-FB6C-4EBB-8413-D2A4ACF50B54}"/>
    <dgm:cxn modelId="{286761E1-23C8-4152-8CDA-F2086CDF8CCC}" srcId="{7BB10A98-CE43-47D2-9EFB-D0C4ADAAC86E}" destId="{76A6C2B2-BD49-4531-8FDB-C5B1FF61E83F}" srcOrd="0" destOrd="0" parTransId="{39EF9072-221E-4C45-B9D7-E4EA982DAC10}" sibTransId="{69AEAEB4-1B3C-4EB6-8D3D-E5E3C5D943A0}"/>
    <dgm:cxn modelId="{8EF74913-48A9-4733-8EF7-DDA04905EBA2}" type="presOf" srcId="{CB49A9EE-5C10-4317-B850-F9B358191336}" destId="{0FE54BAE-4F67-456A-B7DD-D82318E29667}" srcOrd="0" destOrd="5" presId="urn:microsoft.com/office/officeart/2005/8/layout/vList2"/>
    <dgm:cxn modelId="{92937901-B30E-4277-AB74-811E4A77CAE6}" srcId="{3ED9902A-1EBF-454F-BE5D-EE05BC6E7D48}" destId="{6E9ABF69-9855-4EDE-B316-F2460C919719}" srcOrd="0" destOrd="0" parTransId="{0DC777C2-823B-40EE-A641-78A1B2487300}" sibTransId="{6BE824B3-D84A-406A-96B9-C29FF275FF15}"/>
    <dgm:cxn modelId="{32DC6558-B18B-4F44-818D-A8F6D96A2B63}" srcId="{7BB10A98-CE43-47D2-9EFB-D0C4ADAAC86E}" destId="{7C1D3210-0400-44A3-8981-31F25B21C3D6}" srcOrd="2" destOrd="0" parTransId="{AE2184FF-6BB1-4773-BBDF-86E4AD709DE0}" sibTransId="{D38DF146-D2F2-405C-9140-0EAAC21A2CC9}"/>
    <dgm:cxn modelId="{1288B1EE-4302-4C44-84B8-D2F1770B9110}" type="presOf" srcId="{0BCB5911-1DCF-4D45-9A8E-CDD2B3CB3398}" destId="{0FE54BAE-4F67-456A-B7DD-D82318E29667}" srcOrd="0" destOrd="8" presId="urn:microsoft.com/office/officeart/2005/8/layout/vList2"/>
    <dgm:cxn modelId="{CFC0F3E5-7311-468F-AC7F-8934DCF3E2F4}" type="presOf" srcId="{B643BECC-F7EF-4644-8BC4-C4A21C4B5ED4}" destId="{0FE54BAE-4F67-456A-B7DD-D82318E29667}" srcOrd="0" destOrd="6" presId="urn:microsoft.com/office/officeart/2005/8/layout/vList2"/>
    <dgm:cxn modelId="{A9DEAAC1-031F-4200-9C04-914F2A5CF7C7}" type="presOf" srcId="{1537BC64-5112-4CCC-8D00-DEB5A667F092}" destId="{0FE54BAE-4F67-456A-B7DD-D82318E29667}" srcOrd="0" destOrd="9" presId="urn:microsoft.com/office/officeart/2005/8/layout/vList2"/>
    <dgm:cxn modelId="{F89C097F-D693-4E98-900A-833D4532A1F2}" type="presOf" srcId="{994CF1F4-2732-4AB8-8227-C604B16962DD}" destId="{ADC6FB53-26A8-4358-956F-33CD97D623A0}" srcOrd="0" destOrd="0" presId="urn:microsoft.com/office/officeart/2005/8/layout/vList2"/>
    <dgm:cxn modelId="{D106EADF-E47E-4D08-AD1F-674BDB3F70EC}" srcId="{6E9ABF69-9855-4EDE-B316-F2460C919719}" destId="{7BB10A98-CE43-47D2-9EFB-D0C4ADAAC86E}" srcOrd="0" destOrd="0" parTransId="{803CE9D4-BB0C-449C-81FF-33C2DFD768EE}" sibTransId="{C406F091-ED74-4D41-8FF0-1638822A1196}"/>
    <dgm:cxn modelId="{4B823433-F1B9-4063-95E4-50F031EEB513}" type="presOf" srcId="{8681CBF2-51F6-4438-A0D0-6E1CE83846C8}" destId="{0FE54BAE-4F67-456A-B7DD-D82318E29667}" srcOrd="0" destOrd="7" presId="urn:microsoft.com/office/officeart/2005/8/layout/vList2"/>
    <dgm:cxn modelId="{91BA0FFC-4498-4105-8F7A-C096FA6A0AC9}" type="presOf" srcId="{7BB10A98-CE43-47D2-9EFB-D0C4ADAAC86E}" destId="{0FE54BAE-4F67-456A-B7DD-D82318E29667}" srcOrd="0" destOrd="1" presId="urn:microsoft.com/office/officeart/2005/8/layout/vList2"/>
    <dgm:cxn modelId="{D4289E86-6441-4E91-AFC9-ED8464F96C21}" type="presOf" srcId="{9EADE605-C138-4C0B-9149-3A16E35254A7}" destId="{0FE54BAE-4F67-456A-B7DD-D82318E29667}" srcOrd="0" destOrd="3" presId="urn:microsoft.com/office/officeart/2005/8/layout/vList2"/>
    <dgm:cxn modelId="{335F3CF0-A18E-41DD-83F2-62A91EF8746D}" type="presParOf" srcId="{ADC6FB53-26A8-4358-956F-33CD97D623A0}" destId="{307CDB06-043D-4B15-A00F-8829BA85AC58}" srcOrd="0" destOrd="0" presId="urn:microsoft.com/office/officeart/2005/8/layout/vList2"/>
    <dgm:cxn modelId="{BBD15982-B912-497C-9443-9B7B6589BF46}" type="presParOf" srcId="{ADC6FB53-26A8-4358-956F-33CD97D623A0}" destId="{0FE54BAE-4F67-456A-B7DD-D82318E29667}" srcOrd="1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7" minVer="http://schemas.openxmlformats.org/drawingml/2006/diagram"/>
    </a:ext>
  </dgm:extLst>
</dgm:dataModel>
</file>

<file path=ppt/diagrams/data13.xml><?xml version="1.0" encoding="utf-8"?>
<dgm:dataModel xmlns:dgm="http://schemas.openxmlformats.org/drawingml/2006/diagram" xmlns:a="http://schemas.openxmlformats.org/drawingml/2006/main">
  <dgm:ptLst>
    <dgm:pt modelId="{994CF1F4-2732-4AB8-8227-C604B16962D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EA1472FF-F56D-4224-9DB0-595B0E8AF275}">
      <dgm:prSet custT="1"/>
      <dgm:spPr/>
      <dgm:t>
        <a:bodyPr/>
        <a:lstStyle/>
        <a:p>
          <a:r>
            <a:rPr lang="en-US" sz="2400" b="1" noProof="0" dirty="0" smtClean="0"/>
            <a:t>Notification of Operational </a:t>
          </a:r>
          <a:r>
            <a:rPr lang="en-US" sz="2400" b="1" noProof="0" dirty="0" err="1" smtClean="0"/>
            <a:t>Microdata</a:t>
          </a:r>
          <a:r>
            <a:rPr lang="en-US" sz="2400" b="1" noProof="0" dirty="0" smtClean="0"/>
            <a:t> Base to registration by General Inspector for Protection of Personal Data,</a:t>
          </a:r>
          <a:endParaRPr lang="en-US" sz="2400" noProof="0" dirty="0"/>
        </a:p>
      </dgm:t>
    </dgm:pt>
    <dgm:pt modelId="{6E302E94-7C11-4459-ABB4-955B4C819000}" type="parTrans" cxnId="{D15E28DA-24D3-4168-ABF6-E3D7B35FA70D}">
      <dgm:prSet/>
      <dgm:spPr/>
      <dgm:t>
        <a:bodyPr/>
        <a:lstStyle/>
        <a:p>
          <a:endParaRPr lang="pl-PL"/>
        </a:p>
      </dgm:t>
    </dgm:pt>
    <dgm:pt modelId="{705D18DE-068A-4F1D-9CD5-AFB28D9B76C6}" type="sibTrans" cxnId="{D15E28DA-24D3-4168-ABF6-E3D7B35FA70D}">
      <dgm:prSet/>
      <dgm:spPr/>
      <dgm:t>
        <a:bodyPr/>
        <a:lstStyle/>
        <a:p>
          <a:endParaRPr lang="pl-PL"/>
        </a:p>
      </dgm:t>
    </dgm:pt>
    <dgm:pt modelId="{B51491D6-E952-45FD-95C2-4A38F7B92EBF}">
      <dgm:prSet custT="1"/>
      <dgm:spPr/>
      <dgm:t>
        <a:bodyPr/>
        <a:lstStyle/>
        <a:p>
          <a:r>
            <a:rPr lang="en-US" sz="3200" b="1" noProof="0" dirty="0" smtClean="0">
              <a:solidFill>
                <a:schemeClr val="bg1"/>
              </a:solidFill>
            </a:rPr>
            <a:t>Data storing</a:t>
          </a:r>
          <a:r>
            <a:rPr lang="en-US" sz="2800" b="1" noProof="0" dirty="0" smtClean="0">
              <a:solidFill>
                <a:srgbClr val="FF3300"/>
              </a:solidFill>
            </a:rPr>
            <a:t/>
          </a:r>
          <a:br>
            <a:rPr lang="en-US" sz="2800" b="1" noProof="0" dirty="0" smtClean="0">
              <a:solidFill>
                <a:srgbClr val="FF3300"/>
              </a:solidFill>
            </a:rPr>
          </a:br>
          <a:r>
            <a:rPr lang="en-US" sz="2800" b="1" noProof="0" dirty="0" smtClean="0">
              <a:solidFill>
                <a:srgbClr val="FF0000"/>
              </a:solidFill>
            </a:rPr>
            <a:t>Quality aspects: </a:t>
          </a:r>
          <a:r>
            <a:rPr lang="en-US" sz="2800" b="1" noProof="0" dirty="0" smtClean="0">
              <a:solidFill>
                <a:srgbClr val="FFFF00"/>
              </a:solidFill>
            </a:rPr>
            <a:t>information security</a:t>
          </a:r>
          <a:endParaRPr lang="en-US" sz="2800" noProof="0" dirty="0">
            <a:solidFill>
              <a:srgbClr val="FFFF00"/>
            </a:solidFill>
          </a:endParaRPr>
        </a:p>
      </dgm:t>
    </dgm:pt>
    <dgm:pt modelId="{1F606C5A-604C-4220-B2C9-EFB6BB0629DD}" type="parTrans" cxnId="{6F8348D3-BD10-43F0-9F55-320E4526FC4B}">
      <dgm:prSet/>
      <dgm:spPr/>
    </dgm:pt>
    <dgm:pt modelId="{D60D8760-5F54-45BB-9459-F0EB16315B59}" type="sibTrans" cxnId="{6F8348D3-BD10-43F0-9F55-320E4526FC4B}">
      <dgm:prSet/>
      <dgm:spPr/>
    </dgm:pt>
    <dgm:pt modelId="{FC97CE24-818B-408B-93EB-20D1975C74D0}">
      <dgm:prSet/>
      <dgm:spPr/>
      <dgm:t>
        <a:bodyPr/>
        <a:lstStyle/>
        <a:p>
          <a:endParaRPr lang="pl-PL" sz="1900" dirty="0"/>
        </a:p>
      </dgm:t>
    </dgm:pt>
    <dgm:pt modelId="{17381972-B166-4BC7-8ADF-867B287BB4C9}" type="parTrans" cxnId="{4C9E520B-EF6B-454B-871F-03B874C2F10F}">
      <dgm:prSet/>
      <dgm:spPr/>
    </dgm:pt>
    <dgm:pt modelId="{333E4252-AF30-47F4-8028-D8261E08F2F1}" type="sibTrans" cxnId="{4C9E520B-EF6B-454B-871F-03B874C2F10F}">
      <dgm:prSet/>
      <dgm:spPr/>
    </dgm:pt>
    <dgm:pt modelId="{0B8F0B0F-45FA-4016-A246-94938FDF8DBB}">
      <dgm:prSet/>
      <dgm:spPr/>
      <dgm:t>
        <a:bodyPr/>
        <a:lstStyle/>
        <a:p>
          <a:endParaRPr lang="pl-PL" sz="1900" dirty="0"/>
        </a:p>
      </dgm:t>
    </dgm:pt>
    <dgm:pt modelId="{AA9B14AF-F49B-4920-B5C1-1D2B362CDB34}" type="parTrans" cxnId="{EF84B4D3-7132-4AFB-9D74-47B1F033E75C}">
      <dgm:prSet/>
      <dgm:spPr/>
    </dgm:pt>
    <dgm:pt modelId="{D5B32DE4-5176-407F-AF0F-66687E25E022}" type="sibTrans" cxnId="{EF84B4D3-7132-4AFB-9D74-47B1F033E75C}">
      <dgm:prSet/>
      <dgm:spPr/>
    </dgm:pt>
    <dgm:pt modelId="{EA5B0F12-ED87-4CB3-9D30-BE1FF213519D}">
      <dgm:prSet/>
      <dgm:spPr/>
      <dgm:t>
        <a:bodyPr/>
        <a:lstStyle/>
        <a:p>
          <a:endParaRPr lang="pl-PL" sz="1900" dirty="0"/>
        </a:p>
      </dgm:t>
    </dgm:pt>
    <dgm:pt modelId="{6032183B-74FE-4BE6-83D6-FA07ED5D4C12}" type="parTrans" cxnId="{507930DB-45AC-4989-8E54-7BB5D01700E2}">
      <dgm:prSet/>
      <dgm:spPr/>
    </dgm:pt>
    <dgm:pt modelId="{E249069E-36DB-4617-BD6D-879BAF75B5AC}" type="sibTrans" cxnId="{507930DB-45AC-4989-8E54-7BB5D01700E2}">
      <dgm:prSet/>
      <dgm:spPr/>
    </dgm:pt>
    <dgm:pt modelId="{79674D50-3EE7-4C34-A351-16E65F143EF7}">
      <dgm:prSet/>
      <dgm:spPr/>
      <dgm:t>
        <a:bodyPr/>
        <a:lstStyle/>
        <a:p>
          <a:endParaRPr lang="pl-PL" sz="1900" dirty="0"/>
        </a:p>
      </dgm:t>
    </dgm:pt>
    <dgm:pt modelId="{E5941101-F61A-4BA3-9407-001247CB24C3}" type="parTrans" cxnId="{C43695C9-F7D9-4BA9-ABF3-339E82BC2DBB}">
      <dgm:prSet/>
      <dgm:spPr/>
    </dgm:pt>
    <dgm:pt modelId="{60AD5BD7-5B74-4DF9-A003-285FA322F7A8}" type="sibTrans" cxnId="{C43695C9-F7D9-4BA9-ABF3-339E82BC2DBB}">
      <dgm:prSet/>
      <dgm:spPr/>
    </dgm:pt>
    <dgm:pt modelId="{F06DED57-0D23-4E9B-9C84-C4BBBD940368}">
      <dgm:prSet custT="1"/>
      <dgm:spPr/>
      <dgm:t>
        <a:bodyPr/>
        <a:lstStyle/>
        <a:p>
          <a:r>
            <a:rPr lang="en-US" sz="2400" b="1" noProof="0" dirty="0" smtClean="0"/>
            <a:t>Data storing in Operational </a:t>
          </a:r>
          <a:r>
            <a:rPr lang="en-US" sz="2400" b="1" noProof="0" dirty="0" err="1" smtClean="0"/>
            <a:t>Microdata</a:t>
          </a:r>
          <a:r>
            <a:rPr lang="en-US" sz="2400" b="1" noProof="0" dirty="0" smtClean="0"/>
            <a:t> Base,</a:t>
          </a:r>
          <a:endParaRPr lang="en-US" sz="2400" noProof="0" dirty="0"/>
        </a:p>
      </dgm:t>
    </dgm:pt>
    <dgm:pt modelId="{B741648E-C03D-4B45-A574-E14A645833C5}" type="parTrans" cxnId="{6FD7F8C8-7C99-47C6-BF27-A47E80BEB0A7}">
      <dgm:prSet/>
      <dgm:spPr/>
    </dgm:pt>
    <dgm:pt modelId="{93FC0D5F-FA8E-44DB-82F1-D3C5F2137A34}" type="sibTrans" cxnId="{6FD7F8C8-7C99-47C6-BF27-A47E80BEB0A7}">
      <dgm:prSet/>
      <dgm:spPr/>
    </dgm:pt>
    <dgm:pt modelId="{216AF9FC-24DA-4C04-B446-C0FAAC99E671}">
      <dgm:prSet/>
      <dgm:spPr/>
      <dgm:t>
        <a:bodyPr/>
        <a:lstStyle/>
        <a:p>
          <a:endParaRPr lang="en-US" sz="1900" noProof="0" dirty="0"/>
        </a:p>
      </dgm:t>
    </dgm:pt>
    <dgm:pt modelId="{5081CAD1-69DB-4BA1-989D-91F79F2EF9F5}" type="parTrans" cxnId="{AB123BDB-473B-4218-8A1D-FBC3118B6E47}">
      <dgm:prSet/>
      <dgm:spPr/>
    </dgm:pt>
    <dgm:pt modelId="{E1681CF9-6E95-4E1F-A9FE-A3178B6E176B}" type="sibTrans" cxnId="{AB123BDB-473B-4218-8A1D-FBC3118B6E47}">
      <dgm:prSet/>
      <dgm:spPr/>
    </dgm:pt>
    <dgm:pt modelId="{ADC6FB53-26A8-4358-956F-33CD97D623A0}" type="pres">
      <dgm:prSet presAssocID="{994CF1F4-2732-4AB8-8227-C604B16962D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1A20AAEE-8A7E-4A5C-BCA4-B2C94438445A}" type="pres">
      <dgm:prSet presAssocID="{B51491D6-E952-45FD-95C2-4A38F7B92EBF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EB3D0707-8666-4E1A-A88D-9C7F5C230F3B}" type="pres">
      <dgm:prSet presAssocID="{B51491D6-E952-45FD-95C2-4A38F7B92EBF}" presName="childText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AB123BDB-473B-4218-8A1D-FBC3118B6E47}" srcId="{B51491D6-E952-45FD-95C2-4A38F7B92EBF}" destId="{216AF9FC-24DA-4C04-B446-C0FAAC99E671}" srcOrd="0" destOrd="0" parTransId="{5081CAD1-69DB-4BA1-989D-91F79F2EF9F5}" sibTransId="{E1681CF9-6E95-4E1F-A9FE-A3178B6E176B}"/>
    <dgm:cxn modelId="{507930DB-45AC-4989-8E54-7BB5D01700E2}" srcId="{B51491D6-E952-45FD-95C2-4A38F7B92EBF}" destId="{EA5B0F12-ED87-4CB3-9D30-BE1FF213519D}" srcOrd="4" destOrd="0" parTransId="{6032183B-74FE-4BE6-83D6-FA07ED5D4C12}" sibTransId="{E249069E-36DB-4617-BD6D-879BAF75B5AC}"/>
    <dgm:cxn modelId="{6F8348D3-BD10-43F0-9F55-320E4526FC4B}" srcId="{994CF1F4-2732-4AB8-8227-C604B16962DD}" destId="{B51491D6-E952-45FD-95C2-4A38F7B92EBF}" srcOrd="0" destOrd="0" parTransId="{1F606C5A-604C-4220-B2C9-EFB6BB0629DD}" sibTransId="{D60D8760-5F54-45BB-9459-F0EB16315B59}"/>
    <dgm:cxn modelId="{5B49A2C7-9145-4F70-873F-DD1F19D98304}" type="presOf" srcId="{79674D50-3EE7-4C34-A351-16E65F143EF7}" destId="{EB3D0707-8666-4E1A-A88D-9C7F5C230F3B}" srcOrd="0" destOrd="5" presId="urn:microsoft.com/office/officeart/2005/8/layout/vList2"/>
    <dgm:cxn modelId="{4C9E520B-EF6B-454B-871F-03B874C2F10F}" srcId="{B51491D6-E952-45FD-95C2-4A38F7B92EBF}" destId="{FC97CE24-818B-408B-93EB-20D1975C74D0}" srcOrd="6" destOrd="0" parTransId="{17381972-B166-4BC7-8ADF-867B287BB4C9}" sibTransId="{333E4252-AF30-47F4-8028-D8261E08F2F1}"/>
    <dgm:cxn modelId="{77C1D0B7-6260-4B1C-9FF3-A968180A7475}" type="presOf" srcId="{216AF9FC-24DA-4C04-B446-C0FAAC99E671}" destId="{EB3D0707-8666-4E1A-A88D-9C7F5C230F3B}" srcOrd="0" destOrd="0" presId="urn:microsoft.com/office/officeart/2005/8/layout/vList2"/>
    <dgm:cxn modelId="{405BF88F-7161-4963-A7EF-56C1B5111CEC}" type="presOf" srcId="{0B8F0B0F-45FA-4016-A246-94938FDF8DBB}" destId="{EB3D0707-8666-4E1A-A88D-9C7F5C230F3B}" srcOrd="0" destOrd="3" presId="urn:microsoft.com/office/officeart/2005/8/layout/vList2"/>
    <dgm:cxn modelId="{90AF95F0-23E3-458C-A6FC-1709B38945C6}" type="presOf" srcId="{EA5B0F12-ED87-4CB3-9D30-BE1FF213519D}" destId="{EB3D0707-8666-4E1A-A88D-9C7F5C230F3B}" srcOrd="0" destOrd="4" presId="urn:microsoft.com/office/officeart/2005/8/layout/vList2"/>
    <dgm:cxn modelId="{C43695C9-F7D9-4BA9-ABF3-339E82BC2DBB}" srcId="{B51491D6-E952-45FD-95C2-4A38F7B92EBF}" destId="{79674D50-3EE7-4C34-A351-16E65F143EF7}" srcOrd="5" destOrd="0" parTransId="{E5941101-F61A-4BA3-9407-001247CB24C3}" sibTransId="{60AD5BD7-5B74-4DF9-A003-285FA322F7A8}"/>
    <dgm:cxn modelId="{6FD7F8C8-7C99-47C6-BF27-A47E80BEB0A7}" srcId="{B51491D6-E952-45FD-95C2-4A38F7B92EBF}" destId="{F06DED57-0D23-4E9B-9C84-C4BBBD940368}" srcOrd="1" destOrd="0" parTransId="{B741648E-C03D-4B45-A574-E14A645833C5}" sibTransId="{93FC0D5F-FA8E-44DB-82F1-D3C5F2137A34}"/>
    <dgm:cxn modelId="{7663EB6B-BFE9-4C04-B5D8-B6A21CB2721B}" type="presOf" srcId="{B51491D6-E952-45FD-95C2-4A38F7B92EBF}" destId="{1A20AAEE-8A7E-4A5C-BCA4-B2C94438445A}" srcOrd="0" destOrd="0" presId="urn:microsoft.com/office/officeart/2005/8/layout/vList2"/>
    <dgm:cxn modelId="{ABDE5615-CC16-4456-A3F0-794F58783B84}" type="presOf" srcId="{F06DED57-0D23-4E9B-9C84-C4BBBD940368}" destId="{EB3D0707-8666-4E1A-A88D-9C7F5C230F3B}" srcOrd="0" destOrd="1" presId="urn:microsoft.com/office/officeart/2005/8/layout/vList2"/>
    <dgm:cxn modelId="{D15E28DA-24D3-4168-ABF6-E3D7B35FA70D}" srcId="{B51491D6-E952-45FD-95C2-4A38F7B92EBF}" destId="{EA1472FF-F56D-4224-9DB0-595B0E8AF275}" srcOrd="2" destOrd="0" parTransId="{6E302E94-7C11-4459-ABB4-955B4C819000}" sibTransId="{705D18DE-068A-4F1D-9CD5-AFB28D9B76C6}"/>
    <dgm:cxn modelId="{EF84B4D3-7132-4AFB-9D74-47B1F033E75C}" srcId="{B51491D6-E952-45FD-95C2-4A38F7B92EBF}" destId="{0B8F0B0F-45FA-4016-A246-94938FDF8DBB}" srcOrd="3" destOrd="0" parTransId="{AA9B14AF-F49B-4920-B5C1-1D2B362CDB34}" sibTransId="{D5B32DE4-5176-407F-AF0F-66687E25E022}"/>
    <dgm:cxn modelId="{E4C33265-3523-40F4-A045-0FC0F145DD57}" type="presOf" srcId="{994CF1F4-2732-4AB8-8227-C604B16962DD}" destId="{ADC6FB53-26A8-4358-956F-33CD97D623A0}" srcOrd="0" destOrd="0" presId="urn:microsoft.com/office/officeart/2005/8/layout/vList2"/>
    <dgm:cxn modelId="{F2C4572A-D630-4639-B767-329B41C6E1C3}" type="presOf" srcId="{EA1472FF-F56D-4224-9DB0-595B0E8AF275}" destId="{EB3D0707-8666-4E1A-A88D-9C7F5C230F3B}" srcOrd="0" destOrd="2" presId="urn:microsoft.com/office/officeart/2005/8/layout/vList2"/>
    <dgm:cxn modelId="{F647F85D-6F61-43E8-A359-BAD74D0EF100}" type="presOf" srcId="{FC97CE24-818B-408B-93EB-20D1975C74D0}" destId="{EB3D0707-8666-4E1A-A88D-9C7F5C230F3B}" srcOrd="0" destOrd="6" presId="urn:microsoft.com/office/officeart/2005/8/layout/vList2"/>
    <dgm:cxn modelId="{E1288DC5-F131-4EE5-9D3C-03CB8388513A}" type="presParOf" srcId="{ADC6FB53-26A8-4358-956F-33CD97D623A0}" destId="{1A20AAEE-8A7E-4A5C-BCA4-B2C94438445A}" srcOrd="0" destOrd="0" presId="urn:microsoft.com/office/officeart/2005/8/layout/vList2"/>
    <dgm:cxn modelId="{CBE34F4F-7FA3-44AE-A538-5CEADDFF4476}" type="presParOf" srcId="{ADC6FB53-26A8-4358-956F-33CD97D623A0}" destId="{EB3D0707-8666-4E1A-A88D-9C7F5C230F3B}" srcOrd="1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7" minVer="http://schemas.openxmlformats.org/drawingml/2006/diagram"/>
    </a:ext>
  </dgm:extLst>
</dgm:dataModel>
</file>

<file path=ppt/diagrams/data14.xml><?xml version="1.0" encoding="utf-8"?>
<dgm:dataModel xmlns:dgm="http://schemas.openxmlformats.org/drawingml/2006/diagram" xmlns:a="http://schemas.openxmlformats.org/drawingml/2006/main">
  <dgm:ptLst>
    <dgm:pt modelId="{C304DE9A-497C-4E40-849F-8C6730CD8B23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DAD85289-B8D3-4D48-B35C-D8C39FD28EF5}">
      <dgm:prSet/>
      <dgm:spPr/>
      <dgm:t>
        <a:bodyPr/>
        <a:lstStyle/>
        <a:p>
          <a:pPr rtl="0"/>
          <a:r>
            <a:rPr lang="pl-PL" dirty="0" err="1" smtClean="0"/>
            <a:t>Integration</a:t>
          </a:r>
          <a:r>
            <a:rPr lang="pl-PL" dirty="0" smtClean="0"/>
            <a:t> </a:t>
          </a:r>
          <a:r>
            <a:rPr lang="pl-PL" dirty="0" err="1" smtClean="0"/>
            <a:t>with</a:t>
          </a:r>
          <a:r>
            <a:rPr lang="pl-PL" dirty="0" smtClean="0"/>
            <a:t> </a:t>
          </a:r>
          <a:r>
            <a:rPr lang="pl-PL" dirty="0" err="1" smtClean="0"/>
            <a:t>Census</a:t>
          </a:r>
          <a:r>
            <a:rPr lang="pl-PL" dirty="0" smtClean="0"/>
            <a:t> </a:t>
          </a:r>
          <a:r>
            <a:rPr lang="pl-PL" dirty="0" err="1" smtClean="0"/>
            <a:t>Frame</a:t>
          </a:r>
          <a:r>
            <a:rPr lang="pl-PL" dirty="0" smtClean="0"/>
            <a:t> and </a:t>
          </a:r>
          <a:r>
            <a:rPr lang="pl-PL" dirty="0" err="1" smtClean="0"/>
            <a:t>CAxI</a:t>
          </a:r>
          <a:r>
            <a:rPr lang="pl-PL" dirty="0" smtClean="0"/>
            <a:t> data,</a:t>
          </a:r>
          <a:endParaRPr lang="pl-PL" dirty="0"/>
        </a:p>
      </dgm:t>
    </dgm:pt>
    <dgm:pt modelId="{600D990B-4F07-4A28-BA2E-AE1B23C770E4}" type="parTrans" cxnId="{740BFC5E-D2E6-438A-BBF4-B2E98D371086}">
      <dgm:prSet/>
      <dgm:spPr/>
      <dgm:t>
        <a:bodyPr/>
        <a:lstStyle/>
        <a:p>
          <a:endParaRPr lang="pl-PL"/>
        </a:p>
      </dgm:t>
    </dgm:pt>
    <dgm:pt modelId="{6AEBFC89-FF76-4F97-A959-C48F66841CA6}" type="sibTrans" cxnId="{740BFC5E-D2E6-438A-BBF4-B2E98D371086}">
      <dgm:prSet/>
      <dgm:spPr/>
      <dgm:t>
        <a:bodyPr/>
        <a:lstStyle/>
        <a:p>
          <a:endParaRPr lang="pl-PL"/>
        </a:p>
      </dgm:t>
    </dgm:pt>
    <dgm:pt modelId="{6E452E69-5BDE-42E5-BEF9-C343E4133DED}">
      <dgm:prSet/>
      <dgm:spPr/>
      <dgm:t>
        <a:bodyPr/>
        <a:lstStyle/>
        <a:p>
          <a:pPr rtl="0"/>
          <a:r>
            <a:rPr lang="pl-PL" dirty="0" err="1" smtClean="0"/>
            <a:t>Validation</a:t>
          </a:r>
          <a:r>
            <a:rPr lang="pl-PL" dirty="0" smtClean="0"/>
            <a:t>,</a:t>
          </a:r>
          <a:endParaRPr lang="pl-PL" dirty="0"/>
        </a:p>
      </dgm:t>
    </dgm:pt>
    <dgm:pt modelId="{BE31C711-21F7-4652-8948-BC59AAC9E0D4}" type="parTrans" cxnId="{D62496E7-A0AA-4E70-8BD6-F730B1BFDA33}">
      <dgm:prSet/>
      <dgm:spPr/>
      <dgm:t>
        <a:bodyPr/>
        <a:lstStyle/>
        <a:p>
          <a:endParaRPr lang="pl-PL"/>
        </a:p>
      </dgm:t>
    </dgm:pt>
    <dgm:pt modelId="{872435B1-AFF2-4F86-89DF-B3209570BE55}" type="sibTrans" cxnId="{D62496E7-A0AA-4E70-8BD6-F730B1BFDA33}">
      <dgm:prSet/>
      <dgm:spPr/>
      <dgm:t>
        <a:bodyPr/>
        <a:lstStyle/>
        <a:p>
          <a:endParaRPr lang="pl-PL"/>
        </a:p>
      </dgm:t>
    </dgm:pt>
    <dgm:pt modelId="{3B15C1C8-23B2-4170-B974-904A65559528}">
      <dgm:prSet/>
      <dgm:spPr/>
      <dgm:t>
        <a:bodyPr/>
        <a:lstStyle/>
        <a:p>
          <a:pPr rtl="0"/>
          <a:r>
            <a:rPr lang="pl-PL" dirty="0" err="1" smtClean="0"/>
            <a:t>Correction</a:t>
          </a:r>
          <a:r>
            <a:rPr lang="pl-PL" dirty="0" smtClean="0"/>
            <a:t>,</a:t>
          </a:r>
          <a:endParaRPr lang="pl-PL" dirty="0"/>
        </a:p>
      </dgm:t>
    </dgm:pt>
    <dgm:pt modelId="{1FE6E6EF-88B7-4649-9B43-640F66F2F286}" type="parTrans" cxnId="{4199FE87-7014-4528-9ACC-8B56DCB3B54E}">
      <dgm:prSet/>
      <dgm:spPr/>
      <dgm:t>
        <a:bodyPr/>
        <a:lstStyle/>
        <a:p>
          <a:endParaRPr lang="pl-PL"/>
        </a:p>
      </dgm:t>
    </dgm:pt>
    <dgm:pt modelId="{933C660F-5E8C-4E93-B816-45B32AECC74A}" type="sibTrans" cxnId="{4199FE87-7014-4528-9ACC-8B56DCB3B54E}">
      <dgm:prSet/>
      <dgm:spPr/>
      <dgm:t>
        <a:bodyPr/>
        <a:lstStyle/>
        <a:p>
          <a:endParaRPr lang="pl-PL"/>
        </a:p>
      </dgm:t>
    </dgm:pt>
    <dgm:pt modelId="{42946D90-8DCC-4B79-A606-16597E7722C8}">
      <dgm:prSet/>
      <dgm:spPr/>
      <dgm:t>
        <a:bodyPr/>
        <a:lstStyle/>
        <a:p>
          <a:pPr rtl="0"/>
          <a:r>
            <a:rPr lang="pl-PL" dirty="0" err="1" smtClean="0"/>
            <a:t>Operational</a:t>
          </a:r>
          <a:r>
            <a:rPr lang="pl-PL" dirty="0" smtClean="0"/>
            <a:t> </a:t>
          </a:r>
          <a:r>
            <a:rPr lang="pl-PL" dirty="0" err="1" smtClean="0"/>
            <a:t>Imputation</a:t>
          </a:r>
          <a:r>
            <a:rPr lang="pl-PL" dirty="0" smtClean="0"/>
            <a:t>,</a:t>
          </a:r>
          <a:endParaRPr lang="pl-PL" dirty="0"/>
        </a:p>
      </dgm:t>
    </dgm:pt>
    <dgm:pt modelId="{6E364307-EFB9-43E1-AD03-130B5CE961C5}" type="parTrans" cxnId="{5E0EAED7-5497-419F-B0B6-7D78929184DC}">
      <dgm:prSet/>
      <dgm:spPr/>
      <dgm:t>
        <a:bodyPr/>
        <a:lstStyle/>
        <a:p>
          <a:endParaRPr lang="pl-PL"/>
        </a:p>
      </dgm:t>
    </dgm:pt>
    <dgm:pt modelId="{4398E5EB-6B7F-4006-BF76-5C1B5AF3D2B4}" type="sibTrans" cxnId="{5E0EAED7-5497-419F-B0B6-7D78929184DC}">
      <dgm:prSet/>
      <dgm:spPr/>
      <dgm:t>
        <a:bodyPr/>
        <a:lstStyle/>
        <a:p>
          <a:endParaRPr lang="pl-PL"/>
        </a:p>
      </dgm:t>
    </dgm:pt>
    <dgm:pt modelId="{2F356E13-ABB5-4255-97D4-12359CA0FDBC}">
      <dgm:prSet/>
      <dgm:spPr/>
      <dgm:t>
        <a:bodyPr/>
        <a:lstStyle/>
        <a:p>
          <a:pPr rtl="0"/>
          <a:r>
            <a:rPr lang="pl-PL" dirty="0" smtClean="0"/>
            <a:t>Transfer </a:t>
          </a:r>
          <a:r>
            <a:rPr lang="pl-PL" dirty="0" err="1" smtClean="0"/>
            <a:t>proper</a:t>
          </a:r>
          <a:r>
            <a:rPr lang="pl-PL" dirty="0" smtClean="0"/>
            <a:t> </a:t>
          </a:r>
          <a:r>
            <a:rPr lang="pl-PL" dirty="0" err="1" smtClean="0"/>
            <a:t>values</a:t>
          </a:r>
          <a:r>
            <a:rPr lang="pl-PL" dirty="0" smtClean="0"/>
            <a:t> to Golden </a:t>
          </a:r>
          <a:r>
            <a:rPr lang="pl-PL" dirty="0" err="1" smtClean="0"/>
            <a:t>Record</a:t>
          </a:r>
          <a:r>
            <a:rPr lang="pl-PL" dirty="0" smtClean="0"/>
            <a:t>,</a:t>
          </a:r>
          <a:endParaRPr lang="pl-PL" dirty="0"/>
        </a:p>
      </dgm:t>
    </dgm:pt>
    <dgm:pt modelId="{3E11EB20-3E7B-4774-87FC-2A5A861C9C42}" type="parTrans" cxnId="{9BEA3152-DB54-48D9-BAE2-CA61BED8C54D}">
      <dgm:prSet/>
      <dgm:spPr/>
      <dgm:t>
        <a:bodyPr/>
        <a:lstStyle/>
        <a:p>
          <a:endParaRPr lang="pl-PL"/>
        </a:p>
      </dgm:t>
    </dgm:pt>
    <dgm:pt modelId="{11EAB773-8441-4A6E-9B11-F82CBE4E5184}" type="sibTrans" cxnId="{9BEA3152-DB54-48D9-BAE2-CA61BED8C54D}">
      <dgm:prSet/>
      <dgm:spPr/>
      <dgm:t>
        <a:bodyPr/>
        <a:lstStyle/>
        <a:p>
          <a:endParaRPr lang="pl-PL"/>
        </a:p>
      </dgm:t>
    </dgm:pt>
    <dgm:pt modelId="{368E2656-0C96-4EF3-942A-EB7CB464C843}" type="pres">
      <dgm:prSet presAssocID="{C304DE9A-497C-4E40-849F-8C6730CD8B23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88DA5168-003B-4D3B-B241-0AB69E3B9B30}" type="pres">
      <dgm:prSet presAssocID="{DAD85289-B8D3-4D48-B35C-D8C39FD28EF5}" presName="parentText" presStyleLbl="node1" presStyleIdx="0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099DF9CC-CCC0-42EE-B9D8-A3DC5C1D90F5}" type="pres">
      <dgm:prSet presAssocID="{6AEBFC89-FF76-4F97-A959-C48F66841CA6}" presName="spacer" presStyleCnt="0"/>
      <dgm:spPr/>
    </dgm:pt>
    <dgm:pt modelId="{93479E05-19FE-4A50-8412-A8F5181C1227}" type="pres">
      <dgm:prSet presAssocID="{6E452E69-5BDE-42E5-BEF9-C343E4133DED}" presName="parentText" presStyleLbl="node1" presStyleIdx="1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C730DE89-EEDE-4CCD-A3EB-A9D31A243E0F}" type="pres">
      <dgm:prSet presAssocID="{872435B1-AFF2-4F86-89DF-B3209570BE55}" presName="spacer" presStyleCnt="0"/>
      <dgm:spPr/>
    </dgm:pt>
    <dgm:pt modelId="{17F8ACE0-6ABE-4CA9-AEC7-F164D170AD6E}" type="pres">
      <dgm:prSet presAssocID="{3B15C1C8-23B2-4170-B974-904A65559528}" presName="parentText" presStyleLbl="node1" presStyleIdx="2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F4714B5B-C119-4499-BC39-A3358AC21DFB}" type="pres">
      <dgm:prSet presAssocID="{933C660F-5E8C-4E93-B816-45B32AECC74A}" presName="spacer" presStyleCnt="0"/>
      <dgm:spPr/>
    </dgm:pt>
    <dgm:pt modelId="{F5AFB587-2AFA-4FDF-8173-90976678B1D6}" type="pres">
      <dgm:prSet presAssocID="{42946D90-8DCC-4B79-A606-16597E7722C8}" presName="parentText" presStyleLbl="node1" presStyleIdx="3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EB39531A-0160-40A3-A0E3-3CA6F900C2FB}" type="pres">
      <dgm:prSet presAssocID="{4398E5EB-6B7F-4006-BF76-5C1B5AF3D2B4}" presName="spacer" presStyleCnt="0"/>
      <dgm:spPr/>
    </dgm:pt>
    <dgm:pt modelId="{826BBCB3-0B21-405E-A794-2BF6F2EF7FC4}" type="pres">
      <dgm:prSet presAssocID="{2F356E13-ABB5-4255-97D4-12359CA0FDBC}" presName="parentText" presStyleLbl="node1" presStyleIdx="4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27936BE2-A45C-4A77-A901-E90355BC3842}" type="presOf" srcId="{DAD85289-B8D3-4D48-B35C-D8C39FD28EF5}" destId="{88DA5168-003B-4D3B-B241-0AB69E3B9B30}" srcOrd="0" destOrd="0" presId="urn:microsoft.com/office/officeart/2005/8/layout/vList2"/>
    <dgm:cxn modelId="{4199FE87-7014-4528-9ACC-8B56DCB3B54E}" srcId="{C304DE9A-497C-4E40-849F-8C6730CD8B23}" destId="{3B15C1C8-23B2-4170-B974-904A65559528}" srcOrd="2" destOrd="0" parTransId="{1FE6E6EF-88B7-4649-9B43-640F66F2F286}" sibTransId="{933C660F-5E8C-4E93-B816-45B32AECC74A}"/>
    <dgm:cxn modelId="{A44F5529-C4ED-4D94-836A-32CC48F3C27F}" type="presOf" srcId="{6E452E69-5BDE-42E5-BEF9-C343E4133DED}" destId="{93479E05-19FE-4A50-8412-A8F5181C1227}" srcOrd="0" destOrd="0" presId="urn:microsoft.com/office/officeart/2005/8/layout/vList2"/>
    <dgm:cxn modelId="{740BFC5E-D2E6-438A-BBF4-B2E98D371086}" srcId="{C304DE9A-497C-4E40-849F-8C6730CD8B23}" destId="{DAD85289-B8D3-4D48-B35C-D8C39FD28EF5}" srcOrd="0" destOrd="0" parTransId="{600D990B-4F07-4A28-BA2E-AE1B23C770E4}" sibTransId="{6AEBFC89-FF76-4F97-A959-C48F66841CA6}"/>
    <dgm:cxn modelId="{51D21258-081D-48BB-8FA2-4895A70002A5}" type="presOf" srcId="{C304DE9A-497C-4E40-849F-8C6730CD8B23}" destId="{368E2656-0C96-4EF3-942A-EB7CB464C843}" srcOrd="0" destOrd="0" presId="urn:microsoft.com/office/officeart/2005/8/layout/vList2"/>
    <dgm:cxn modelId="{9BEA3152-DB54-48D9-BAE2-CA61BED8C54D}" srcId="{C304DE9A-497C-4E40-849F-8C6730CD8B23}" destId="{2F356E13-ABB5-4255-97D4-12359CA0FDBC}" srcOrd="4" destOrd="0" parTransId="{3E11EB20-3E7B-4774-87FC-2A5A861C9C42}" sibTransId="{11EAB773-8441-4A6E-9B11-F82CBE4E5184}"/>
    <dgm:cxn modelId="{9E1A6C6E-E159-4024-B582-348CF07E952B}" type="presOf" srcId="{3B15C1C8-23B2-4170-B974-904A65559528}" destId="{17F8ACE0-6ABE-4CA9-AEC7-F164D170AD6E}" srcOrd="0" destOrd="0" presId="urn:microsoft.com/office/officeart/2005/8/layout/vList2"/>
    <dgm:cxn modelId="{206008AA-4534-4CB1-A5B9-CBB8D3D76B2F}" type="presOf" srcId="{2F356E13-ABB5-4255-97D4-12359CA0FDBC}" destId="{826BBCB3-0B21-405E-A794-2BF6F2EF7FC4}" srcOrd="0" destOrd="0" presId="urn:microsoft.com/office/officeart/2005/8/layout/vList2"/>
    <dgm:cxn modelId="{5E0EAED7-5497-419F-B0B6-7D78929184DC}" srcId="{C304DE9A-497C-4E40-849F-8C6730CD8B23}" destId="{42946D90-8DCC-4B79-A606-16597E7722C8}" srcOrd="3" destOrd="0" parTransId="{6E364307-EFB9-43E1-AD03-130B5CE961C5}" sibTransId="{4398E5EB-6B7F-4006-BF76-5C1B5AF3D2B4}"/>
    <dgm:cxn modelId="{D62496E7-A0AA-4E70-8BD6-F730B1BFDA33}" srcId="{C304DE9A-497C-4E40-849F-8C6730CD8B23}" destId="{6E452E69-5BDE-42E5-BEF9-C343E4133DED}" srcOrd="1" destOrd="0" parTransId="{BE31C711-21F7-4652-8948-BC59AAC9E0D4}" sibTransId="{872435B1-AFF2-4F86-89DF-B3209570BE55}"/>
    <dgm:cxn modelId="{7F36D332-C81C-4365-AF28-40012BBFBA4F}" type="presOf" srcId="{42946D90-8DCC-4B79-A606-16597E7722C8}" destId="{F5AFB587-2AFA-4FDF-8173-90976678B1D6}" srcOrd="0" destOrd="0" presId="urn:microsoft.com/office/officeart/2005/8/layout/vList2"/>
    <dgm:cxn modelId="{E9E46A6B-404A-4088-BCD5-A3211605EAD3}" type="presParOf" srcId="{368E2656-0C96-4EF3-942A-EB7CB464C843}" destId="{88DA5168-003B-4D3B-B241-0AB69E3B9B30}" srcOrd="0" destOrd="0" presId="urn:microsoft.com/office/officeart/2005/8/layout/vList2"/>
    <dgm:cxn modelId="{7721E350-C32C-49A9-944E-E9701493904D}" type="presParOf" srcId="{368E2656-0C96-4EF3-942A-EB7CB464C843}" destId="{099DF9CC-CCC0-42EE-B9D8-A3DC5C1D90F5}" srcOrd="1" destOrd="0" presId="urn:microsoft.com/office/officeart/2005/8/layout/vList2"/>
    <dgm:cxn modelId="{FFAC05B4-E23B-4DF4-B78D-7AF623AAB16E}" type="presParOf" srcId="{368E2656-0C96-4EF3-942A-EB7CB464C843}" destId="{93479E05-19FE-4A50-8412-A8F5181C1227}" srcOrd="2" destOrd="0" presId="urn:microsoft.com/office/officeart/2005/8/layout/vList2"/>
    <dgm:cxn modelId="{C28AE1A7-1B36-4967-A554-30F7C8233DA6}" type="presParOf" srcId="{368E2656-0C96-4EF3-942A-EB7CB464C843}" destId="{C730DE89-EEDE-4CCD-A3EB-A9D31A243E0F}" srcOrd="3" destOrd="0" presId="urn:microsoft.com/office/officeart/2005/8/layout/vList2"/>
    <dgm:cxn modelId="{F29EA4EB-4D75-4B78-ACB2-1E1FEFC3CEC8}" type="presParOf" srcId="{368E2656-0C96-4EF3-942A-EB7CB464C843}" destId="{17F8ACE0-6ABE-4CA9-AEC7-F164D170AD6E}" srcOrd="4" destOrd="0" presId="urn:microsoft.com/office/officeart/2005/8/layout/vList2"/>
    <dgm:cxn modelId="{1B086AE4-A52F-45E0-9BB0-410CE4CD0E9E}" type="presParOf" srcId="{368E2656-0C96-4EF3-942A-EB7CB464C843}" destId="{F4714B5B-C119-4499-BC39-A3358AC21DFB}" srcOrd="5" destOrd="0" presId="urn:microsoft.com/office/officeart/2005/8/layout/vList2"/>
    <dgm:cxn modelId="{EA619E96-5B85-4884-9FF6-9B87B5F5B9A2}" type="presParOf" srcId="{368E2656-0C96-4EF3-942A-EB7CB464C843}" destId="{F5AFB587-2AFA-4FDF-8173-90976678B1D6}" srcOrd="6" destOrd="0" presId="urn:microsoft.com/office/officeart/2005/8/layout/vList2"/>
    <dgm:cxn modelId="{5897D8D5-6CD7-428A-9771-DAE3F1C818AD}" type="presParOf" srcId="{368E2656-0C96-4EF3-942A-EB7CB464C843}" destId="{EB39531A-0160-40A3-A0E3-3CA6F900C2FB}" srcOrd="7" destOrd="0" presId="urn:microsoft.com/office/officeart/2005/8/layout/vList2"/>
    <dgm:cxn modelId="{A4629C4F-E254-4F37-8F49-8F19569E9D87}" type="presParOf" srcId="{368E2656-0C96-4EF3-942A-EB7CB464C843}" destId="{826BBCB3-0B21-405E-A794-2BF6F2EF7FC4}" srcOrd="8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15.xml><?xml version="1.0" encoding="utf-8"?>
<dgm:dataModel xmlns:dgm="http://schemas.openxmlformats.org/drawingml/2006/diagram" xmlns:a="http://schemas.openxmlformats.org/drawingml/2006/main">
  <dgm:ptLst>
    <dgm:pt modelId="{E6104675-9FB5-4CB9-99AC-F420BB6A07C5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/>
      <dgm:spPr/>
      <dgm:t>
        <a:bodyPr/>
        <a:lstStyle/>
        <a:p>
          <a:endParaRPr lang="pl-PL"/>
        </a:p>
      </dgm:t>
    </dgm:pt>
    <dgm:pt modelId="{7255C5E5-5278-42BC-8448-EFF4AE0F57EE}">
      <dgm:prSet/>
      <dgm:spPr/>
      <dgm:t>
        <a:bodyPr/>
        <a:lstStyle/>
        <a:p>
          <a:pPr rtl="0"/>
          <a:r>
            <a:rPr lang="pl-PL" dirty="0" err="1" smtClean="0"/>
            <a:t>Transition</a:t>
          </a:r>
          <a:r>
            <a:rPr lang="pl-PL" dirty="0" smtClean="0"/>
            <a:t> </a:t>
          </a:r>
          <a:r>
            <a:rPr lang="pl-PL" dirty="0" err="1" smtClean="0"/>
            <a:t>Tables</a:t>
          </a:r>
          <a:r>
            <a:rPr lang="pl-PL" dirty="0" smtClean="0"/>
            <a:t> </a:t>
          </a:r>
          <a:r>
            <a:rPr lang="pl-PL" dirty="0" err="1" smtClean="0"/>
            <a:t>Preparing</a:t>
          </a:r>
          <a:r>
            <a:rPr lang="pl-PL" dirty="0" smtClean="0"/>
            <a:t>,</a:t>
          </a:r>
          <a:endParaRPr lang="pl-PL" dirty="0"/>
        </a:p>
      </dgm:t>
    </dgm:pt>
    <dgm:pt modelId="{0B28FF59-3178-40B7-A482-7A2E041540FB}" type="parTrans" cxnId="{B864DCE1-0714-405A-ADDE-F3143E97033B}">
      <dgm:prSet/>
      <dgm:spPr/>
      <dgm:t>
        <a:bodyPr/>
        <a:lstStyle/>
        <a:p>
          <a:endParaRPr lang="pl-PL"/>
        </a:p>
      </dgm:t>
    </dgm:pt>
    <dgm:pt modelId="{1A271C45-E2AA-4FEC-8D6D-5D3DD5496EEB}" type="sibTrans" cxnId="{B864DCE1-0714-405A-ADDE-F3143E97033B}">
      <dgm:prSet/>
      <dgm:spPr/>
      <dgm:t>
        <a:bodyPr/>
        <a:lstStyle/>
        <a:p>
          <a:endParaRPr lang="pl-PL"/>
        </a:p>
      </dgm:t>
    </dgm:pt>
    <dgm:pt modelId="{A8EFC365-F184-48ED-8965-5E83FBC7EE85}">
      <dgm:prSet/>
      <dgm:spPr/>
      <dgm:t>
        <a:bodyPr/>
        <a:lstStyle/>
        <a:p>
          <a:pPr rtl="0"/>
          <a:r>
            <a:rPr lang="pl-PL" dirty="0" smtClean="0"/>
            <a:t>Golden </a:t>
          </a:r>
          <a:r>
            <a:rPr lang="pl-PL" dirty="0" err="1" smtClean="0"/>
            <a:t>Records</a:t>
          </a:r>
          <a:r>
            <a:rPr lang="pl-PL" dirty="0" smtClean="0"/>
            <a:t> </a:t>
          </a:r>
          <a:r>
            <a:rPr lang="pl-PL" dirty="0" err="1" smtClean="0"/>
            <a:t>anonymisation</a:t>
          </a:r>
          <a:r>
            <a:rPr lang="pl-PL" dirty="0" smtClean="0"/>
            <a:t>,</a:t>
          </a:r>
          <a:endParaRPr lang="pl-PL" dirty="0"/>
        </a:p>
      </dgm:t>
    </dgm:pt>
    <dgm:pt modelId="{977CC652-8726-4728-8EA0-278030BAE608}" type="parTrans" cxnId="{F7D28A43-6937-48CB-86C1-4C5580FE2200}">
      <dgm:prSet/>
      <dgm:spPr/>
      <dgm:t>
        <a:bodyPr/>
        <a:lstStyle/>
        <a:p>
          <a:endParaRPr lang="pl-PL"/>
        </a:p>
      </dgm:t>
    </dgm:pt>
    <dgm:pt modelId="{BC7DF1FC-8383-40AF-9AF1-442B2DCF7A75}" type="sibTrans" cxnId="{F7D28A43-6937-48CB-86C1-4C5580FE2200}">
      <dgm:prSet/>
      <dgm:spPr/>
      <dgm:t>
        <a:bodyPr/>
        <a:lstStyle/>
        <a:p>
          <a:endParaRPr lang="pl-PL"/>
        </a:p>
      </dgm:t>
    </dgm:pt>
    <dgm:pt modelId="{FD16802E-AE12-4073-9996-5327412E63CD}">
      <dgm:prSet/>
      <dgm:spPr/>
      <dgm:t>
        <a:bodyPr/>
        <a:lstStyle/>
        <a:p>
          <a:pPr rtl="0"/>
          <a:r>
            <a:rPr lang="pl-PL" dirty="0" smtClean="0"/>
            <a:t>Transfer to </a:t>
          </a:r>
          <a:r>
            <a:rPr lang="pl-PL" dirty="0" err="1" smtClean="0"/>
            <a:t>Analitycal</a:t>
          </a:r>
          <a:r>
            <a:rPr lang="pl-PL" dirty="0" smtClean="0"/>
            <a:t> </a:t>
          </a:r>
          <a:r>
            <a:rPr lang="pl-PL" dirty="0" err="1" smtClean="0"/>
            <a:t>Microdatabase</a:t>
          </a:r>
          <a:r>
            <a:rPr lang="pl-PL" dirty="0" smtClean="0"/>
            <a:t>,</a:t>
          </a:r>
          <a:endParaRPr lang="pl-PL" dirty="0"/>
        </a:p>
      </dgm:t>
    </dgm:pt>
    <dgm:pt modelId="{440D792F-9A5C-49FF-BC92-31D89D0341FE}" type="parTrans" cxnId="{11EB6B07-F740-444D-ABB9-12D5FED9C774}">
      <dgm:prSet/>
      <dgm:spPr/>
      <dgm:t>
        <a:bodyPr/>
        <a:lstStyle/>
        <a:p>
          <a:endParaRPr lang="pl-PL"/>
        </a:p>
      </dgm:t>
    </dgm:pt>
    <dgm:pt modelId="{86B06B57-0033-4EC3-94FC-DD8E05345428}" type="sibTrans" cxnId="{11EB6B07-F740-444D-ABB9-12D5FED9C774}">
      <dgm:prSet/>
      <dgm:spPr/>
      <dgm:t>
        <a:bodyPr/>
        <a:lstStyle/>
        <a:p>
          <a:endParaRPr lang="pl-PL"/>
        </a:p>
      </dgm:t>
    </dgm:pt>
    <dgm:pt modelId="{51B72AA0-2AED-4531-8360-92B9D09E8889}" type="pres">
      <dgm:prSet presAssocID="{E6104675-9FB5-4CB9-99AC-F420BB6A07C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ADF3F1E5-AE14-4F1D-B914-A836EEEACCDA}" type="pres">
      <dgm:prSet presAssocID="{7255C5E5-5278-42BC-8448-EFF4AE0F57EE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6265F6F5-C44E-4DCE-A0A0-2A7BE08898AD}" type="pres">
      <dgm:prSet presAssocID="{1A271C45-E2AA-4FEC-8D6D-5D3DD5496EEB}" presName="spacer" presStyleCnt="0"/>
      <dgm:spPr/>
    </dgm:pt>
    <dgm:pt modelId="{DB2ADBFB-F8DD-483D-9CE5-C00706639171}" type="pres">
      <dgm:prSet presAssocID="{A8EFC365-F184-48ED-8965-5E83FBC7EE85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DF2DDF25-16C2-4B65-B776-A611A74DC26C}" type="pres">
      <dgm:prSet presAssocID="{BC7DF1FC-8383-40AF-9AF1-442B2DCF7A75}" presName="spacer" presStyleCnt="0"/>
      <dgm:spPr/>
    </dgm:pt>
    <dgm:pt modelId="{E664D42C-D139-4437-A297-A0F760DB9E19}" type="pres">
      <dgm:prSet presAssocID="{FD16802E-AE12-4073-9996-5327412E63CD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F7D28A43-6937-48CB-86C1-4C5580FE2200}" srcId="{E6104675-9FB5-4CB9-99AC-F420BB6A07C5}" destId="{A8EFC365-F184-48ED-8965-5E83FBC7EE85}" srcOrd="1" destOrd="0" parTransId="{977CC652-8726-4728-8EA0-278030BAE608}" sibTransId="{BC7DF1FC-8383-40AF-9AF1-442B2DCF7A75}"/>
    <dgm:cxn modelId="{BD41749A-B101-46D3-A49A-875BA21A1A33}" type="presOf" srcId="{7255C5E5-5278-42BC-8448-EFF4AE0F57EE}" destId="{ADF3F1E5-AE14-4F1D-B914-A836EEEACCDA}" srcOrd="0" destOrd="0" presId="urn:microsoft.com/office/officeart/2005/8/layout/vList2"/>
    <dgm:cxn modelId="{11EB6B07-F740-444D-ABB9-12D5FED9C774}" srcId="{E6104675-9FB5-4CB9-99AC-F420BB6A07C5}" destId="{FD16802E-AE12-4073-9996-5327412E63CD}" srcOrd="2" destOrd="0" parTransId="{440D792F-9A5C-49FF-BC92-31D89D0341FE}" sibTransId="{86B06B57-0033-4EC3-94FC-DD8E05345428}"/>
    <dgm:cxn modelId="{68223CA1-AD7F-4161-9504-C6A64886B94D}" type="presOf" srcId="{A8EFC365-F184-48ED-8965-5E83FBC7EE85}" destId="{DB2ADBFB-F8DD-483D-9CE5-C00706639171}" srcOrd="0" destOrd="0" presId="urn:microsoft.com/office/officeart/2005/8/layout/vList2"/>
    <dgm:cxn modelId="{7725D7BE-DBDA-44FD-922E-7BC304F64078}" type="presOf" srcId="{FD16802E-AE12-4073-9996-5327412E63CD}" destId="{E664D42C-D139-4437-A297-A0F760DB9E19}" srcOrd="0" destOrd="0" presId="urn:microsoft.com/office/officeart/2005/8/layout/vList2"/>
    <dgm:cxn modelId="{B864DCE1-0714-405A-ADDE-F3143E97033B}" srcId="{E6104675-9FB5-4CB9-99AC-F420BB6A07C5}" destId="{7255C5E5-5278-42BC-8448-EFF4AE0F57EE}" srcOrd="0" destOrd="0" parTransId="{0B28FF59-3178-40B7-A482-7A2E041540FB}" sibTransId="{1A271C45-E2AA-4FEC-8D6D-5D3DD5496EEB}"/>
    <dgm:cxn modelId="{4CFE8D43-D240-40E2-8E01-16DBD040DF08}" type="presOf" srcId="{E6104675-9FB5-4CB9-99AC-F420BB6A07C5}" destId="{51B72AA0-2AED-4531-8360-92B9D09E8889}" srcOrd="0" destOrd="0" presId="urn:microsoft.com/office/officeart/2005/8/layout/vList2"/>
    <dgm:cxn modelId="{C2BAC4D7-4952-437B-B2DA-379D241F914C}" type="presParOf" srcId="{51B72AA0-2AED-4531-8360-92B9D09E8889}" destId="{ADF3F1E5-AE14-4F1D-B914-A836EEEACCDA}" srcOrd="0" destOrd="0" presId="urn:microsoft.com/office/officeart/2005/8/layout/vList2"/>
    <dgm:cxn modelId="{FC0FE16C-B592-4D34-A336-939AD7328AFB}" type="presParOf" srcId="{51B72AA0-2AED-4531-8360-92B9D09E8889}" destId="{6265F6F5-C44E-4DCE-A0A0-2A7BE08898AD}" srcOrd="1" destOrd="0" presId="urn:microsoft.com/office/officeart/2005/8/layout/vList2"/>
    <dgm:cxn modelId="{6F4CC9DA-4406-4DC4-A03F-4592BCB489EE}" type="presParOf" srcId="{51B72AA0-2AED-4531-8360-92B9D09E8889}" destId="{DB2ADBFB-F8DD-483D-9CE5-C00706639171}" srcOrd="2" destOrd="0" presId="urn:microsoft.com/office/officeart/2005/8/layout/vList2"/>
    <dgm:cxn modelId="{9EAE49DA-DF30-4E6E-8944-A3447FBC35F8}" type="presParOf" srcId="{51B72AA0-2AED-4531-8360-92B9D09E8889}" destId="{DF2DDF25-16C2-4B65-B776-A611A74DC26C}" srcOrd="3" destOrd="0" presId="urn:microsoft.com/office/officeart/2005/8/layout/vList2"/>
    <dgm:cxn modelId="{65AB3609-F3CB-44E1-B8DF-602F8B5EE4E7}" type="presParOf" srcId="{51B72AA0-2AED-4531-8360-92B9D09E8889}" destId="{E664D42C-D139-4437-A297-A0F760DB9E19}" srcOrd="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16.xml><?xml version="1.0" encoding="utf-8"?>
<dgm:dataModel xmlns:dgm="http://schemas.openxmlformats.org/drawingml/2006/diagram" xmlns:a="http://schemas.openxmlformats.org/drawingml/2006/main">
  <dgm:ptLst>
    <dgm:pt modelId="{994CF1F4-2732-4AB8-8227-C604B16962D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A308609C-445A-4897-ADAF-6786F18530B4}">
      <dgm:prSet/>
      <dgm:spPr/>
      <dgm:t>
        <a:bodyPr/>
        <a:lstStyle/>
        <a:p>
          <a:r>
            <a:rPr lang="en-US" b="1" noProof="0" dirty="0" smtClean="0"/>
            <a:t>Developing procedures for bringing data from administrative sources to full compliance or minimum discrepancy with appropriate methodology adopted in statistics,</a:t>
          </a:r>
          <a:endParaRPr lang="en-US" noProof="0" dirty="0"/>
        </a:p>
      </dgm:t>
    </dgm:pt>
    <dgm:pt modelId="{E5547750-E33A-427B-9FA6-223CCD5FBBCD}" type="parTrans" cxnId="{16B02656-EBA6-4DA0-B472-11A19DDC9158}">
      <dgm:prSet/>
      <dgm:spPr/>
      <dgm:t>
        <a:bodyPr/>
        <a:lstStyle/>
        <a:p>
          <a:endParaRPr lang="pl-PL"/>
        </a:p>
      </dgm:t>
    </dgm:pt>
    <dgm:pt modelId="{3863CD70-4AEC-4742-A0C2-628697B970E9}" type="sibTrans" cxnId="{16B02656-EBA6-4DA0-B472-11A19DDC9158}">
      <dgm:prSet/>
      <dgm:spPr/>
      <dgm:t>
        <a:bodyPr/>
        <a:lstStyle/>
        <a:p>
          <a:endParaRPr lang="pl-PL"/>
        </a:p>
      </dgm:t>
    </dgm:pt>
    <dgm:pt modelId="{15A40F28-69F1-4707-BFEB-9AF56C1CE224}">
      <dgm:prSet/>
      <dgm:spPr/>
      <dgm:t>
        <a:bodyPr/>
        <a:lstStyle/>
        <a:p>
          <a:r>
            <a:rPr lang="en-US" b="1" noProof="0" dirty="0" smtClean="0"/>
            <a:t>Developing procedures for normalization, editing of data sets from the administrative systems, including the imputation of data (administrative data sets),</a:t>
          </a:r>
          <a:endParaRPr lang="en-US" noProof="0" dirty="0"/>
        </a:p>
      </dgm:t>
    </dgm:pt>
    <dgm:pt modelId="{5D5C5EDB-BB06-4BCC-9367-560E0F0B97CA}" type="parTrans" cxnId="{F151CE5F-82BE-492C-B041-422D3F969819}">
      <dgm:prSet/>
      <dgm:spPr/>
      <dgm:t>
        <a:bodyPr/>
        <a:lstStyle/>
        <a:p>
          <a:endParaRPr lang="pl-PL"/>
        </a:p>
      </dgm:t>
    </dgm:pt>
    <dgm:pt modelId="{8B20ADDF-5B40-4EB3-9C5D-7C67822C01F4}" type="sibTrans" cxnId="{F151CE5F-82BE-492C-B041-422D3F969819}">
      <dgm:prSet/>
      <dgm:spPr/>
      <dgm:t>
        <a:bodyPr/>
        <a:lstStyle/>
        <a:p>
          <a:endParaRPr lang="pl-PL"/>
        </a:p>
      </dgm:t>
    </dgm:pt>
    <dgm:pt modelId="{53F65A22-727F-4B5E-8CD7-B3C2AC1069C5}">
      <dgm:prSet/>
      <dgm:spPr/>
      <dgm:t>
        <a:bodyPr/>
        <a:lstStyle/>
        <a:p>
          <a:r>
            <a:rPr lang="en-US" b="1" noProof="0" dirty="0" smtClean="0"/>
            <a:t>Developing procedures for synchronization of data from administrative systems,</a:t>
          </a:r>
          <a:endParaRPr lang="en-US" noProof="0" dirty="0"/>
        </a:p>
      </dgm:t>
    </dgm:pt>
    <dgm:pt modelId="{6B51C1C4-AD66-4560-A6F7-2FC9C960FFA0}" type="parTrans" cxnId="{9B4410DD-2CDC-4130-8F47-8F8073070EDF}">
      <dgm:prSet/>
      <dgm:spPr/>
      <dgm:t>
        <a:bodyPr/>
        <a:lstStyle/>
        <a:p>
          <a:endParaRPr lang="pl-PL"/>
        </a:p>
      </dgm:t>
    </dgm:pt>
    <dgm:pt modelId="{0D4F2995-77D7-4070-AB2F-16A459A42D20}" type="sibTrans" cxnId="{9B4410DD-2CDC-4130-8F47-8F8073070EDF}">
      <dgm:prSet/>
      <dgm:spPr/>
      <dgm:t>
        <a:bodyPr/>
        <a:lstStyle/>
        <a:p>
          <a:endParaRPr lang="pl-PL"/>
        </a:p>
      </dgm:t>
    </dgm:pt>
    <dgm:pt modelId="{1777A091-D5E1-405B-9451-EDFC43A7C7AB}">
      <dgm:prSet/>
      <dgm:spPr/>
      <dgm:t>
        <a:bodyPr/>
        <a:lstStyle/>
        <a:p>
          <a:r>
            <a:rPr lang="en-US" b="1" noProof="0" dirty="0" smtClean="0"/>
            <a:t>Developing rules for linking data from different administrative systems,</a:t>
          </a:r>
          <a:endParaRPr lang="en-US" noProof="0" dirty="0"/>
        </a:p>
      </dgm:t>
    </dgm:pt>
    <dgm:pt modelId="{457DEE2F-A8AF-4A5D-A98A-3ADE960CDF77}" type="parTrans" cxnId="{B78D57CA-77ED-4EAB-BE40-CF6647A670D2}">
      <dgm:prSet/>
      <dgm:spPr/>
      <dgm:t>
        <a:bodyPr/>
        <a:lstStyle/>
        <a:p>
          <a:endParaRPr lang="pl-PL"/>
        </a:p>
      </dgm:t>
    </dgm:pt>
    <dgm:pt modelId="{7F59B313-6B79-4BDA-BC2C-261F77593FA8}" type="sibTrans" cxnId="{B78D57CA-77ED-4EAB-BE40-CF6647A670D2}">
      <dgm:prSet/>
      <dgm:spPr/>
      <dgm:t>
        <a:bodyPr/>
        <a:lstStyle/>
        <a:p>
          <a:endParaRPr lang="pl-PL"/>
        </a:p>
      </dgm:t>
    </dgm:pt>
    <dgm:pt modelId="{07DB7D01-6FB0-4C3D-A79C-1E7F9437E3FC}">
      <dgm:prSet/>
      <dgm:spPr/>
      <dgm:t>
        <a:bodyPr/>
        <a:lstStyle/>
        <a:p>
          <a:r>
            <a:rPr lang="en-US" b="1" noProof="0" dirty="0" smtClean="0"/>
            <a:t>Developing rules for linking data from administrative systems with </a:t>
          </a:r>
          <a:r>
            <a:rPr lang="pl-PL" b="1" noProof="0" dirty="0" smtClean="0"/>
            <a:t>data </a:t>
          </a:r>
          <a:r>
            <a:rPr lang="en-US" b="1" noProof="0" dirty="0" smtClean="0"/>
            <a:t>from </a:t>
          </a:r>
          <a:r>
            <a:rPr lang="en-US" b="1" noProof="0" dirty="0" err="1" smtClean="0"/>
            <a:t>CAII</a:t>
          </a:r>
          <a:r>
            <a:rPr lang="en-US" b="1" noProof="0" dirty="0" smtClean="0"/>
            <a:t>, </a:t>
          </a:r>
          <a:r>
            <a:rPr lang="en-US" b="1" noProof="0" dirty="0" err="1" smtClean="0"/>
            <a:t>CAPI</a:t>
          </a:r>
          <a:r>
            <a:rPr lang="en-US" b="1" noProof="0" dirty="0" smtClean="0"/>
            <a:t>, </a:t>
          </a:r>
          <a:r>
            <a:rPr lang="en-US" b="1" noProof="0" dirty="0" err="1" smtClean="0"/>
            <a:t>CATI</a:t>
          </a:r>
          <a:r>
            <a:rPr lang="en-US" b="1" noProof="0" dirty="0" smtClean="0"/>
            <a:t>,</a:t>
          </a:r>
          <a:endParaRPr lang="en-US" noProof="0" dirty="0"/>
        </a:p>
      </dgm:t>
    </dgm:pt>
    <dgm:pt modelId="{EA77CA69-1AD3-4231-8BCD-12ACE86343CC}" type="parTrans" cxnId="{0DE2EF0B-AD85-4A9A-96A6-21C343B232DA}">
      <dgm:prSet/>
      <dgm:spPr/>
      <dgm:t>
        <a:bodyPr/>
        <a:lstStyle/>
        <a:p>
          <a:endParaRPr lang="pl-PL"/>
        </a:p>
      </dgm:t>
    </dgm:pt>
    <dgm:pt modelId="{C772F928-FD56-466D-9A85-6F12BDEA9EA5}" type="sibTrans" cxnId="{0DE2EF0B-AD85-4A9A-96A6-21C343B232DA}">
      <dgm:prSet/>
      <dgm:spPr/>
      <dgm:t>
        <a:bodyPr/>
        <a:lstStyle/>
        <a:p>
          <a:endParaRPr lang="pl-PL"/>
        </a:p>
      </dgm:t>
    </dgm:pt>
    <dgm:pt modelId="{FB4D39FF-D55C-4EA1-A983-9307340A197C}">
      <dgm:prSet/>
      <dgm:spPr/>
      <dgm:t>
        <a:bodyPr/>
        <a:lstStyle/>
        <a:p>
          <a:r>
            <a:rPr lang="en-US" b="1" noProof="0" dirty="0" smtClean="0"/>
            <a:t>Developing rules for calculation of Golden Record census variables,</a:t>
          </a:r>
          <a:endParaRPr lang="en-US" noProof="0" dirty="0"/>
        </a:p>
      </dgm:t>
    </dgm:pt>
    <dgm:pt modelId="{27EFA270-707A-4920-A71A-19ADF3FF9AE8}" type="parTrans" cxnId="{1FA8B7FB-C5A7-4B1C-8AFA-DD618E6B5F5A}">
      <dgm:prSet/>
      <dgm:spPr/>
      <dgm:t>
        <a:bodyPr/>
        <a:lstStyle/>
        <a:p>
          <a:endParaRPr lang="pl-PL"/>
        </a:p>
      </dgm:t>
    </dgm:pt>
    <dgm:pt modelId="{AC8EFC88-0A9F-4C28-951C-CEDBA764F121}" type="sibTrans" cxnId="{1FA8B7FB-C5A7-4B1C-8AFA-DD618E6B5F5A}">
      <dgm:prSet/>
      <dgm:spPr/>
      <dgm:t>
        <a:bodyPr/>
        <a:lstStyle/>
        <a:p>
          <a:endParaRPr lang="pl-PL"/>
        </a:p>
      </dgm:t>
    </dgm:pt>
    <dgm:pt modelId="{82A19B76-229C-40E1-B786-EC74DF11AB2B}">
      <dgm:prSet/>
      <dgm:spPr/>
      <dgm:t>
        <a:bodyPr/>
        <a:lstStyle/>
        <a:p>
          <a:r>
            <a:rPr lang="en-US" b="1" noProof="0" dirty="0" smtClean="0"/>
            <a:t>Developing rules for </a:t>
          </a:r>
          <a:r>
            <a:rPr lang="pl-PL" b="1" dirty="0" err="1" smtClean="0"/>
            <a:t>anonymisation</a:t>
          </a:r>
          <a:r>
            <a:rPr lang="en-US" b="1" noProof="0" dirty="0" smtClean="0"/>
            <a:t> of Golden Record census data.</a:t>
          </a:r>
          <a:endParaRPr lang="en-US" noProof="0" dirty="0"/>
        </a:p>
      </dgm:t>
    </dgm:pt>
    <dgm:pt modelId="{1933F764-E8E7-431F-8DAC-95A5F45B9300}" type="parTrans" cxnId="{58F63579-FF57-41EB-9A73-320B509FF574}">
      <dgm:prSet/>
      <dgm:spPr/>
      <dgm:t>
        <a:bodyPr/>
        <a:lstStyle/>
        <a:p>
          <a:endParaRPr lang="pl-PL"/>
        </a:p>
      </dgm:t>
    </dgm:pt>
    <dgm:pt modelId="{1CDC552C-6FEF-496D-BF06-B191118F0B3A}" type="sibTrans" cxnId="{58F63579-FF57-41EB-9A73-320B509FF574}">
      <dgm:prSet/>
      <dgm:spPr/>
      <dgm:t>
        <a:bodyPr/>
        <a:lstStyle/>
        <a:p>
          <a:endParaRPr lang="pl-PL"/>
        </a:p>
      </dgm:t>
    </dgm:pt>
    <dgm:pt modelId="{E62FCA1B-82D7-4672-BB1A-61122B949779}">
      <dgm:prSet custT="1"/>
      <dgm:spPr/>
      <dgm:t>
        <a:bodyPr/>
        <a:lstStyle/>
        <a:p>
          <a:r>
            <a:rPr lang="en-US" sz="3200" b="1" noProof="0" dirty="0" smtClean="0"/>
            <a:t>Data processing</a:t>
          </a:r>
          <a:r>
            <a:rPr lang="en-US" sz="1900" b="1" noProof="0" dirty="0" smtClean="0"/>
            <a:t/>
          </a:r>
          <a:br>
            <a:rPr lang="en-US" sz="1900" b="1" noProof="0" dirty="0" smtClean="0"/>
          </a:br>
          <a:r>
            <a:rPr lang="en-US" sz="2800" b="1" noProof="0" dirty="0" smtClean="0">
              <a:solidFill>
                <a:srgbClr val="FF5050"/>
              </a:solidFill>
            </a:rPr>
            <a:t>Quality aspects: </a:t>
          </a:r>
          <a:r>
            <a:rPr lang="en-US" sz="2800" b="1" noProof="0" dirty="0" smtClean="0">
              <a:solidFill>
                <a:srgbClr val="FFFF00"/>
              </a:solidFill>
            </a:rPr>
            <a:t>accuracy</a:t>
          </a:r>
          <a:endParaRPr lang="en-US" sz="2800" b="1" noProof="0" dirty="0">
            <a:solidFill>
              <a:srgbClr val="FFFF00"/>
            </a:solidFill>
          </a:endParaRPr>
        </a:p>
      </dgm:t>
    </dgm:pt>
    <dgm:pt modelId="{A7BB108B-0AB9-4C55-8434-EB7BC6291B5B}" type="parTrans" cxnId="{9D5DE6D3-0B8D-4B66-BACC-4CB0BEE836FB}">
      <dgm:prSet/>
      <dgm:spPr/>
      <dgm:t>
        <a:bodyPr/>
        <a:lstStyle/>
        <a:p>
          <a:endParaRPr lang="pl-PL"/>
        </a:p>
      </dgm:t>
    </dgm:pt>
    <dgm:pt modelId="{25A5C352-0813-4D9F-A9C4-171F2920B5EE}" type="sibTrans" cxnId="{9D5DE6D3-0B8D-4B66-BACC-4CB0BEE836FB}">
      <dgm:prSet/>
      <dgm:spPr/>
      <dgm:t>
        <a:bodyPr/>
        <a:lstStyle/>
        <a:p>
          <a:endParaRPr lang="pl-PL"/>
        </a:p>
      </dgm:t>
    </dgm:pt>
    <dgm:pt modelId="{883008BB-AF06-4B17-B8B1-4AB70B67C7FF}">
      <dgm:prSet/>
      <dgm:spPr/>
      <dgm:t>
        <a:bodyPr/>
        <a:lstStyle/>
        <a:p>
          <a:r>
            <a:rPr lang="en-US" b="1" noProof="0" dirty="0" smtClean="0"/>
            <a:t>Developing quality indicators for data sets at each stage of data processing and the procedures for calculating their value,</a:t>
          </a:r>
          <a:endParaRPr lang="en-US" noProof="0" dirty="0"/>
        </a:p>
      </dgm:t>
    </dgm:pt>
    <dgm:pt modelId="{EB110CDD-FFA0-47E0-B556-3B7701000A0B}" type="sibTrans" cxnId="{A2CAD55B-0DB7-4DC9-BC41-4D0F04279610}">
      <dgm:prSet/>
      <dgm:spPr/>
      <dgm:t>
        <a:bodyPr/>
        <a:lstStyle/>
        <a:p>
          <a:endParaRPr lang="pl-PL"/>
        </a:p>
      </dgm:t>
    </dgm:pt>
    <dgm:pt modelId="{68E25044-60B1-477F-A026-E1FA1909125D}" type="parTrans" cxnId="{A2CAD55B-0DB7-4DC9-BC41-4D0F04279610}">
      <dgm:prSet/>
      <dgm:spPr/>
      <dgm:t>
        <a:bodyPr/>
        <a:lstStyle/>
        <a:p>
          <a:endParaRPr lang="pl-PL"/>
        </a:p>
      </dgm:t>
    </dgm:pt>
    <dgm:pt modelId="{ADC6FB53-26A8-4358-956F-33CD97D623A0}" type="pres">
      <dgm:prSet presAssocID="{994CF1F4-2732-4AB8-8227-C604B16962D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2F1E2A50-FDD6-4E65-BEB4-8A6FC97C7302}" type="pres">
      <dgm:prSet presAssocID="{E62FCA1B-82D7-4672-BB1A-61122B949779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39ADCD7A-3885-44BF-8FD9-214335FEB7C2}" type="pres">
      <dgm:prSet presAssocID="{E62FCA1B-82D7-4672-BB1A-61122B949779}" presName="childText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1C0FB624-8D8F-4942-A9AA-67E3B7F08397}" type="presOf" srcId="{1777A091-D5E1-405B-9451-EDFC43A7C7AB}" destId="{39ADCD7A-3885-44BF-8FD9-214335FEB7C2}" srcOrd="0" destOrd="4" presId="urn:microsoft.com/office/officeart/2005/8/layout/vList2"/>
    <dgm:cxn modelId="{B61CA6CA-1899-4905-B0AB-94A7D64B67D6}" type="presOf" srcId="{07DB7D01-6FB0-4C3D-A79C-1E7F9437E3FC}" destId="{39ADCD7A-3885-44BF-8FD9-214335FEB7C2}" srcOrd="0" destOrd="5" presId="urn:microsoft.com/office/officeart/2005/8/layout/vList2"/>
    <dgm:cxn modelId="{90D21EE5-C45B-4C5C-B184-E043B2102C75}" type="presOf" srcId="{883008BB-AF06-4B17-B8B1-4AB70B67C7FF}" destId="{39ADCD7A-3885-44BF-8FD9-214335FEB7C2}" srcOrd="0" destOrd="0" presId="urn:microsoft.com/office/officeart/2005/8/layout/vList2"/>
    <dgm:cxn modelId="{B2BCD4E4-75DC-4281-9A5B-19995DE03707}" type="presOf" srcId="{A308609C-445A-4897-ADAF-6786F18530B4}" destId="{39ADCD7A-3885-44BF-8FD9-214335FEB7C2}" srcOrd="0" destOrd="1" presId="urn:microsoft.com/office/officeart/2005/8/layout/vList2"/>
    <dgm:cxn modelId="{B78D57CA-77ED-4EAB-BE40-CF6647A670D2}" srcId="{E62FCA1B-82D7-4672-BB1A-61122B949779}" destId="{1777A091-D5E1-405B-9451-EDFC43A7C7AB}" srcOrd="4" destOrd="0" parTransId="{457DEE2F-A8AF-4A5D-A98A-3ADE960CDF77}" sibTransId="{7F59B313-6B79-4BDA-BC2C-261F77593FA8}"/>
    <dgm:cxn modelId="{F3757EF6-DCE5-41A2-ABD0-C8712B46964B}" type="presOf" srcId="{E62FCA1B-82D7-4672-BB1A-61122B949779}" destId="{2F1E2A50-FDD6-4E65-BEB4-8A6FC97C7302}" srcOrd="0" destOrd="0" presId="urn:microsoft.com/office/officeart/2005/8/layout/vList2"/>
    <dgm:cxn modelId="{9B4410DD-2CDC-4130-8F47-8F8073070EDF}" srcId="{E62FCA1B-82D7-4672-BB1A-61122B949779}" destId="{53F65A22-727F-4B5E-8CD7-B3C2AC1069C5}" srcOrd="3" destOrd="0" parTransId="{6B51C1C4-AD66-4560-A6F7-2FC9C960FFA0}" sibTransId="{0D4F2995-77D7-4070-AB2F-16A459A42D20}"/>
    <dgm:cxn modelId="{46261004-CAAF-41EF-8096-771254A2B9CA}" type="presOf" srcId="{15A40F28-69F1-4707-BFEB-9AF56C1CE224}" destId="{39ADCD7A-3885-44BF-8FD9-214335FEB7C2}" srcOrd="0" destOrd="2" presId="urn:microsoft.com/office/officeart/2005/8/layout/vList2"/>
    <dgm:cxn modelId="{0F699AC5-F57A-4762-A386-4AE6D6AC9CA9}" type="presOf" srcId="{994CF1F4-2732-4AB8-8227-C604B16962DD}" destId="{ADC6FB53-26A8-4358-956F-33CD97D623A0}" srcOrd="0" destOrd="0" presId="urn:microsoft.com/office/officeart/2005/8/layout/vList2"/>
    <dgm:cxn modelId="{0DE2EF0B-AD85-4A9A-96A6-21C343B232DA}" srcId="{E62FCA1B-82D7-4672-BB1A-61122B949779}" destId="{07DB7D01-6FB0-4C3D-A79C-1E7F9437E3FC}" srcOrd="5" destOrd="0" parTransId="{EA77CA69-1AD3-4231-8BCD-12ACE86343CC}" sibTransId="{C772F928-FD56-466D-9A85-6F12BDEA9EA5}"/>
    <dgm:cxn modelId="{16B02656-EBA6-4DA0-B472-11A19DDC9158}" srcId="{E62FCA1B-82D7-4672-BB1A-61122B949779}" destId="{A308609C-445A-4897-ADAF-6786F18530B4}" srcOrd="1" destOrd="0" parTransId="{E5547750-E33A-427B-9FA6-223CCD5FBBCD}" sibTransId="{3863CD70-4AEC-4742-A0C2-628697B970E9}"/>
    <dgm:cxn modelId="{2B78B6F0-948B-456D-8D0C-5F9BAF9BB7A2}" type="presOf" srcId="{53F65A22-727F-4B5E-8CD7-B3C2AC1069C5}" destId="{39ADCD7A-3885-44BF-8FD9-214335FEB7C2}" srcOrd="0" destOrd="3" presId="urn:microsoft.com/office/officeart/2005/8/layout/vList2"/>
    <dgm:cxn modelId="{F151CE5F-82BE-492C-B041-422D3F969819}" srcId="{E62FCA1B-82D7-4672-BB1A-61122B949779}" destId="{15A40F28-69F1-4707-BFEB-9AF56C1CE224}" srcOrd="2" destOrd="0" parTransId="{5D5C5EDB-BB06-4BCC-9367-560E0F0B97CA}" sibTransId="{8B20ADDF-5B40-4EB3-9C5D-7C67822C01F4}"/>
    <dgm:cxn modelId="{D835FF5E-7341-4560-B358-5F796FF9E64A}" type="presOf" srcId="{82A19B76-229C-40E1-B786-EC74DF11AB2B}" destId="{39ADCD7A-3885-44BF-8FD9-214335FEB7C2}" srcOrd="0" destOrd="7" presId="urn:microsoft.com/office/officeart/2005/8/layout/vList2"/>
    <dgm:cxn modelId="{58F63579-FF57-41EB-9A73-320B509FF574}" srcId="{E62FCA1B-82D7-4672-BB1A-61122B949779}" destId="{82A19B76-229C-40E1-B786-EC74DF11AB2B}" srcOrd="7" destOrd="0" parTransId="{1933F764-E8E7-431F-8DAC-95A5F45B9300}" sibTransId="{1CDC552C-6FEF-496D-BF06-B191118F0B3A}"/>
    <dgm:cxn modelId="{9D5DE6D3-0B8D-4B66-BACC-4CB0BEE836FB}" srcId="{994CF1F4-2732-4AB8-8227-C604B16962DD}" destId="{E62FCA1B-82D7-4672-BB1A-61122B949779}" srcOrd="0" destOrd="0" parTransId="{A7BB108B-0AB9-4C55-8434-EB7BC6291B5B}" sibTransId="{25A5C352-0813-4D9F-A9C4-171F2920B5EE}"/>
    <dgm:cxn modelId="{1FA8B7FB-C5A7-4B1C-8AFA-DD618E6B5F5A}" srcId="{E62FCA1B-82D7-4672-BB1A-61122B949779}" destId="{FB4D39FF-D55C-4EA1-A983-9307340A197C}" srcOrd="6" destOrd="0" parTransId="{27EFA270-707A-4920-A71A-19ADF3FF9AE8}" sibTransId="{AC8EFC88-0A9F-4C28-951C-CEDBA764F121}"/>
    <dgm:cxn modelId="{0A72920D-AD85-46C3-885A-266A2DB8BA89}" type="presOf" srcId="{FB4D39FF-D55C-4EA1-A983-9307340A197C}" destId="{39ADCD7A-3885-44BF-8FD9-214335FEB7C2}" srcOrd="0" destOrd="6" presId="urn:microsoft.com/office/officeart/2005/8/layout/vList2"/>
    <dgm:cxn modelId="{A2CAD55B-0DB7-4DC9-BC41-4D0F04279610}" srcId="{E62FCA1B-82D7-4672-BB1A-61122B949779}" destId="{883008BB-AF06-4B17-B8B1-4AB70B67C7FF}" srcOrd="0" destOrd="0" parTransId="{68E25044-60B1-477F-A026-E1FA1909125D}" sibTransId="{EB110CDD-FFA0-47E0-B556-3B7701000A0B}"/>
    <dgm:cxn modelId="{AC1E7079-D223-4E84-84AD-F4C91578CFC8}" type="presParOf" srcId="{ADC6FB53-26A8-4358-956F-33CD97D623A0}" destId="{2F1E2A50-FDD6-4E65-BEB4-8A6FC97C7302}" srcOrd="0" destOrd="0" presId="urn:microsoft.com/office/officeart/2005/8/layout/vList2"/>
    <dgm:cxn modelId="{62F44DAD-3968-4996-9E4A-2C5DBA9AB108}" type="presParOf" srcId="{ADC6FB53-26A8-4358-956F-33CD97D623A0}" destId="{39ADCD7A-3885-44BF-8FD9-214335FEB7C2}" srcOrd="1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7" minVer="http://schemas.openxmlformats.org/drawingml/2006/diagram"/>
    </a:ext>
  </dgm:extLst>
</dgm:dataModel>
</file>

<file path=ppt/diagrams/data17.xml><?xml version="1.0" encoding="utf-8"?>
<dgm:dataModel xmlns:dgm="http://schemas.openxmlformats.org/drawingml/2006/diagram" xmlns:a="http://schemas.openxmlformats.org/drawingml/2006/main">
  <dgm:ptLst>
    <dgm:pt modelId="{AA75E3B0-4208-4A76-A0AB-16F697970856}" type="doc">
      <dgm:prSet loTypeId="urn:microsoft.com/office/officeart/2005/8/layout/chevron1" loCatId="process" qsTypeId="urn:microsoft.com/office/officeart/2005/8/quickstyle/simple1" qsCatId="simple" csTypeId="urn:microsoft.com/office/officeart/2005/8/colors/accent1_2" csCatId="accent1" phldr="1"/>
      <dgm:spPr/>
    </dgm:pt>
    <dgm:pt modelId="{D4FCD594-EB88-4F2D-868D-005FDC370DD0}">
      <dgm:prSet phldrT="[Tekst]"/>
      <dgm:spPr/>
      <dgm:t>
        <a:bodyPr/>
        <a:lstStyle/>
        <a:p>
          <a:r>
            <a:rPr lang="pl-PL" dirty="0" err="1" smtClean="0"/>
            <a:t>Process</a:t>
          </a:r>
          <a:r>
            <a:rPr lang="pl-PL" dirty="0" smtClean="0"/>
            <a:t> data</a:t>
          </a:r>
          <a:endParaRPr lang="pl-PL" dirty="0"/>
        </a:p>
      </dgm:t>
    </dgm:pt>
    <dgm:pt modelId="{A8AF1BB1-2CBB-4C6D-8D0D-7DDF9F78B6A0}" type="parTrans" cxnId="{96D0A37A-891F-483C-BD05-3F90F27ABFCC}">
      <dgm:prSet/>
      <dgm:spPr/>
      <dgm:t>
        <a:bodyPr/>
        <a:lstStyle/>
        <a:p>
          <a:endParaRPr lang="pl-PL"/>
        </a:p>
      </dgm:t>
    </dgm:pt>
    <dgm:pt modelId="{9D79FA66-19FF-4634-87F4-7A6249D28CB7}" type="sibTrans" cxnId="{96D0A37A-891F-483C-BD05-3F90F27ABFCC}">
      <dgm:prSet/>
      <dgm:spPr/>
      <dgm:t>
        <a:bodyPr/>
        <a:lstStyle/>
        <a:p>
          <a:endParaRPr lang="pl-PL"/>
        </a:p>
      </dgm:t>
    </dgm:pt>
    <dgm:pt modelId="{8ECED30E-F4EC-4502-B152-F4BBAC3F18C8}">
      <dgm:prSet phldrT="[Tekst]"/>
      <dgm:spPr/>
      <dgm:t>
        <a:bodyPr/>
        <a:lstStyle/>
        <a:p>
          <a:r>
            <a:rPr lang="pl-PL" dirty="0" err="1" smtClean="0"/>
            <a:t>Analyse</a:t>
          </a:r>
          <a:endParaRPr lang="pl-PL" dirty="0"/>
        </a:p>
      </dgm:t>
    </dgm:pt>
    <dgm:pt modelId="{CEE2F57E-0636-4045-8E94-80373E3B7F2C}" type="parTrans" cxnId="{DC0EC59A-2B7B-404D-84F9-DA5D13DB4418}">
      <dgm:prSet/>
      <dgm:spPr/>
      <dgm:t>
        <a:bodyPr/>
        <a:lstStyle/>
        <a:p>
          <a:endParaRPr lang="pl-PL"/>
        </a:p>
      </dgm:t>
    </dgm:pt>
    <dgm:pt modelId="{0BEB9B38-6281-4FD0-996F-2D6C841B6E0D}" type="sibTrans" cxnId="{DC0EC59A-2B7B-404D-84F9-DA5D13DB4418}">
      <dgm:prSet/>
      <dgm:spPr/>
      <dgm:t>
        <a:bodyPr/>
        <a:lstStyle/>
        <a:p>
          <a:endParaRPr lang="pl-PL"/>
        </a:p>
      </dgm:t>
    </dgm:pt>
    <dgm:pt modelId="{02C43C29-488F-4C33-BFA5-131DE392AA0E}">
      <dgm:prSet phldrT="[Tekst]"/>
      <dgm:spPr/>
      <dgm:t>
        <a:bodyPr/>
        <a:lstStyle/>
        <a:p>
          <a:r>
            <a:rPr lang="pl-PL" dirty="0" err="1" smtClean="0"/>
            <a:t>Disseminate</a:t>
          </a:r>
          <a:endParaRPr lang="pl-PL" dirty="0"/>
        </a:p>
      </dgm:t>
    </dgm:pt>
    <dgm:pt modelId="{DA2DB665-410F-45F4-AB1D-A48DE645AB79}" type="parTrans" cxnId="{F80B7D49-E283-4912-B4C1-0E5D153118CC}">
      <dgm:prSet/>
      <dgm:spPr/>
      <dgm:t>
        <a:bodyPr/>
        <a:lstStyle/>
        <a:p>
          <a:endParaRPr lang="pl-PL"/>
        </a:p>
      </dgm:t>
    </dgm:pt>
    <dgm:pt modelId="{4C624CBA-0D00-4830-90B1-936A03E2D368}" type="sibTrans" cxnId="{F80B7D49-E283-4912-B4C1-0E5D153118CC}">
      <dgm:prSet/>
      <dgm:spPr/>
      <dgm:t>
        <a:bodyPr/>
        <a:lstStyle/>
        <a:p>
          <a:endParaRPr lang="pl-PL"/>
        </a:p>
      </dgm:t>
    </dgm:pt>
    <dgm:pt modelId="{1F1265D5-7184-4784-B53C-66BC989B9353}">
      <dgm:prSet phldrT="[Tekst]"/>
      <dgm:spPr/>
      <dgm:t>
        <a:bodyPr/>
        <a:lstStyle/>
        <a:p>
          <a:r>
            <a:rPr lang="pl-PL" dirty="0" err="1" smtClean="0"/>
            <a:t>Archive</a:t>
          </a:r>
          <a:endParaRPr lang="pl-PL" dirty="0"/>
        </a:p>
      </dgm:t>
    </dgm:pt>
    <dgm:pt modelId="{08922338-FD65-4A46-ACFD-018A1A08416F}" type="parTrans" cxnId="{7960FD37-5510-42B5-87B7-3B171BFC6465}">
      <dgm:prSet/>
      <dgm:spPr/>
      <dgm:t>
        <a:bodyPr/>
        <a:lstStyle/>
        <a:p>
          <a:endParaRPr lang="pl-PL"/>
        </a:p>
      </dgm:t>
    </dgm:pt>
    <dgm:pt modelId="{212796AC-2A1A-4D7A-9EB9-00C07069FA7D}" type="sibTrans" cxnId="{7960FD37-5510-42B5-87B7-3B171BFC6465}">
      <dgm:prSet/>
      <dgm:spPr/>
      <dgm:t>
        <a:bodyPr/>
        <a:lstStyle/>
        <a:p>
          <a:endParaRPr lang="pl-PL"/>
        </a:p>
      </dgm:t>
    </dgm:pt>
    <dgm:pt modelId="{2DE24749-32D8-4214-BBAA-C56FA4BA38FF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err="1" smtClean="0"/>
            <a:t>Load</a:t>
          </a:r>
          <a:r>
            <a:rPr lang="pl-PL" dirty="0" smtClean="0"/>
            <a:t> data and </a:t>
          </a:r>
          <a:r>
            <a:rPr lang="pl-PL" dirty="0" err="1" smtClean="0"/>
            <a:t>metadata</a:t>
          </a:r>
          <a:endParaRPr lang="pl-PL" dirty="0"/>
        </a:p>
      </dgm:t>
    </dgm:pt>
    <dgm:pt modelId="{69BBAFCF-A5DE-4A93-B5FC-727B1EAAE11C}" type="parTrans" cxnId="{ADFC8C39-4D29-4615-A28C-B0C02C8A9430}">
      <dgm:prSet/>
      <dgm:spPr/>
      <dgm:t>
        <a:bodyPr/>
        <a:lstStyle/>
        <a:p>
          <a:endParaRPr lang="pl-PL"/>
        </a:p>
      </dgm:t>
    </dgm:pt>
    <dgm:pt modelId="{673C0827-D5F7-4CA7-84B5-08D171B627DD}" type="sibTrans" cxnId="{ADFC8C39-4D29-4615-A28C-B0C02C8A9430}">
      <dgm:prSet/>
      <dgm:spPr/>
      <dgm:t>
        <a:bodyPr/>
        <a:lstStyle/>
        <a:p>
          <a:endParaRPr lang="pl-PL"/>
        </a:p>
      </dgm:t>
    </dgm:pt>
    <dgm:pt modelId="{DF21B734-871C-4EB0-BC33-2E5509B93031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err="1" smtClean="0"/>
            <a:t>Integrate</a:t>
          </a:r>
          <a:r>
            <a:rPr lang="pl-PL" dirty="0" smtClean="0"/>
            <a:t> data</a:t>
          </a:r>
          <a:endParaRPr lang="pl-PL" dirty="0"/>
        </a:p>
      </dgm:t>
    </dgm:pt>
    <dgm:pt modelId="{2A4EA873-B324-40E5-8015-CA45EDE2C4F0}" type="parTrans" cxnId="{3B298C57-987B-4C40-8F8F-160C6D08B194}">
      <dgm:prSet/>
      <dgm:spPr/>
      <dgm:t>
        <a:bodyPr/>
        <a:lstStyle/>
        <a:p>
          <a:endParaRPr lang="pl-PL"/>
        </a:p>
      </dgm:t>
    </dgm:pt>
    <dgm:pt modelId="{0ED0F79C-B86B-4840-BF06-603DE4B30188}" type="sibTrans" cxnId="{3B298C57-987B-4C40-8F8F-160C6D08B194}">
      <dgm:prSet/>
      <dgm:spPr/>
      <dgm:t>
        <a:bodyPr/>
        <a:lstStyle/>
        <a:p>
          <a:endParaRPr lang="pl-PL"/>
        </a:p>
      </dgm:t>
    </dgm:pt>
    <dgm:pt modelId="{D115CDA4-C246-4E00-A702-5792432E017E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err="1" smtClean="0"/>
            <a:t>Classify</a:t>
          </a:r>
          <a:r>
            <a:rPr lang="pl-PL" dirty="0" smtClean="0"/>
            <a:t> and </a:t>
          </a:r>
          <a:r>
            <a:rPr lang="pl-PL" dirty="0" err="1" smtClean="0"/>
            <a:t>code</a:t>
          </a:r>
          <a:r>
            <a:rPr lang="pl-PL" dirty="0" smtClean="0"/>
            <a:t> data</a:t>
          </a:r>
          <a:endParaRPr lang="pl-PL" dirty="0"/>
        </a:p>
      </dgm:t>
    </dgm:pt>
    <dgm:pt modelId="{95252904-EFFA-4E91-B10D-D6522AAD7952}" type="parTrans" cxnId="{5A86D723-0CCA-47A0-88A6-6E8DCAF5FE05}">
      <dgm:prSet/>
      <dgm:spPr/>
      <dgm:t>
        <a:bodyPr/>
        <a:lstStyle/>
        <a:p>
          <a:endParaRPr lang="pl-PL"/>
        </a:p>
      </dgm:t>
    </dgm:pt>
    <dgm:pt modelId="{7467762D-BA8A-4067-A73F-AF012C360F8B}" type="sibTrans" cxnId="{5A86D723-0CCA-47A0-88A6-6E8DCAF5FE05}">
      <dgm:prSet/>
      <dgm:spPr/>
      <dgm:t>
        <a:bodyPr/>
        <a:lstStyle/>
        <a:p>
          <a:endParaRPr lang="pl-PL"/>
        </a:p>
      </dgm:t>
    </dgm:pt>
    <dgm:pt modelId="{850C825A-DAFC-4840-9022-1FCC91472344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smtClean="0"/>
            <a:t>Edit and </a:t>
          </a:r>
          <a:r>
            <a:rPr lang="pl-PL" dirty="0" err="1" smtClean="0"/>
            <a:t>validate</a:t>
          </a:r>
          <a:r>
            <a:rPr lang="pl-PL" dirty="0" smtClean="0"/>
            <a:t> data</a:t>
          </a:r>
          <a:endParaRPr lang="pl-PL" dirty="0"/>
        </a:p>
      </dgm:t>
    </dgm:pt>
    <dgm:pt modelId="{55638C47-F98C-4B54-90A6-7EBF3186D1C3}" type="parTrans" cxnId="{6E66538E-AF90-4587-B2CC-1D59CCA90691}">
      <dgm:prSet/>
      <dgm:spPr/>
      <dgm:t>
        <a:bodyPr/>
        <a:lstStyle/>
        <a:p>
          <a:endParaRPr lang="pl-PL"/>
        </a:p>
      </dgm:t>
    </dgm:pt>
    <dgm:pt modelId="{35141B87-FED6-4789-B065-4E3718F758D2}" type="sibTrans" cxnId="{6E66538E-AF90-4587-B2CC-1D59CCA90691}">
      <dgm:prSet/>
      <dgm:spPr/>
      <dgm:t>
        <a:bodyPr/>
        <a:lstStyle/>
        <a:p>
          <a:endParaRPr lang="pl-PL"/>
        </a:p>
      </dgm:t>
    </dgm:pt>
    <dgm:pt modelId="{D4B5D2B7-16C1-43FA-ACF5-405459AC6A88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err="1" smtClean="0"/>
            <a:t>Impute</a:t>
          </a:r>
          <a:endParaRPr lang="pl-PL" dirty="0"/>
        </a:p>
      </dgm:t>
    </dgm:pt>
    <dgm:pt modelId="{BC6BF591-DCA9-41A5-AB9F-558A0B561782}" type="parTrans" cxnId="{E4155A13-BF08-4B06-A0EC-BD9271226B16}">
      <dgm:prSet/>
      <dgm:spPr/>
      <dgm:t>
        <a:bodyPr/>
        <a:lstStyle/>
        <a:p>
          <a:endParaRPr lang="pl-PL"/>
        </a:p>
      </dgm:t>
    </dgm:pt>
    <dgm:pt modelId="{91008830-C6BA-44A3-B0AE-0CCA3EBAE36B}" type="sibTrans" cxnId="{E4155A13-BF08-4B06-A0EC-BD9271226B16}">
      <dgm:prSet/>
      <dgm:spPr/>
      <dgm:t>
        <a:bodyPr/>
        <a:lstStyle/>
        <a:p>
          <a:endParaRPr lang="pl-PL"/>
        </a:p>
      </dgm:t>
    </dgm:pt>
    <dgm:pt modelId="{E82DCFAF-C37D-4BC4-8855-34E40A588576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err="1" smtClean="0"/>
            <a:t>Derive</a:t>
          </a:r>
          <a:r>
            <a:rPr lang="pl-PL" dirty="0" smtClean="0"/>
            <a:t> </a:t>
          </a:r>
          <a:r>
            <a:rPr lang="pl-PL" dirty="0" err="1" smtClean="0"/>
            <a:t>new</a:t>
          </a:r>
          <a:r>
            <a:rPr lang="pl-PL" dirty="0" smtClean="0"/>
            <a:t> </a:t>
          </a:r>
          <a:r>
            <a:rPr lang="pl-PL" dirty="0" err="1" smtClean="0"/>
            <a:t>variables</a:t>
          </a:r>
          <a:endParaRPr lang="pl-PL" dirty="0"/>
        </a:p>
      </dgm:t>
    </dgm:pt>
    <dgm:pt modelId="{77C288E2-5D6C-4171-8BD0-BAEAA6875C93}" type="parTrans" cxnId="{AABECB0B-2502-4066-89C2-C5ABE055516B}">
      <dgm:prSet/>
      <dgm:spPr/>
      <dgm:t>
        <a:bodyPr/>
        <a:lstStyle/>
        <a:p>
          <a:endParaRPr lang="pl-PL"/>
        </a:p>
      </dgm:t>
    </dgm:pt>
    <dgm:pt modelId="{F7E7AB2E-8E58-4A1C-8922-9DA90561CAA4}" type="sibTrans" cxnId="{AABECB0B-2502-4066-89C2-C5ABE055516B}">
      <dgm:prSet/>
      <dgm:spPr/>
      <dgm:t>
        <a:bodyPr/>
        <a:lstStyle/>
        <a:p>
          <a:endParaRPr lang="pl-PL"/>
        </a:p>
      </dgm:t>
    </dgm:pt>
    <dgm:pt modelId="{CC88BFFB-C03D-43EE-BC24-BC293ABAA283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err="1" smtClean="0"/>
            <a:t>Wage</a:t>
          </a:r>
          <a:endParaRPr lang="pl-PL" dirty="0"/>
        </a:p>
      </dgm:t>
    </dgm:pt>
    <dgm:pt modelId="{36D876E9-89ED-4678-98F4-5EFBD35F6DD2}" type="parTrans" cxnId="{9E4D3631-7873-4D84-A470-A24D11966E20}">
      <dgm:prSet/>
      <dgm:spPr/>
      <dgm:t>
        <a:bodyPr/>
        <a:lstStyle/>
        <a:p>
          <a:endParaRPr lang="pl-PL"/>
        </a:p>
      </dgm:t>
    </dgm:pt>
    <dgm:pt modelId="{3B036E15-B3F9-413D-9E22-A7A8765465D6}" type="sibTrans" cxnId="{9E4D3631-7873-4D84-A470-A24D11966E20}">
      <dgm:prSet/>
      <dgm:spPr/>
      <dgm:t>
        <a:bodyPr/>
        <a:lstStyle/>
        <a:p>
          <a:endParaRPr lang="pl-PL"/>
        </a:p>
      </dgm:t>
    </dgm:pt>
    <dgm:pt modelId="{D6BF80A1-FF08-4EB3-8555-FF1D3D2FF082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err="1" smtClean="0"/>
            <a:t>Aggregate</a:t>
          </a:r>
          <a:endParaRPr lang="pl-PL" dirty="0"/>
        </a:p>
      </dgm:t>
    </dgm:pt>
    <dgm:pt modelId="{72F82950-678E-4C16-A568-BD7A3F46988C}" type="parTrans" cxnId="{EEDF731B-2347-4CA5-ABE9-6911C78259BB}">
      <dgm:prSet/>
      <dgm:spPr/>
      <dgm:t>
        <a:bodyPr/>
        <a:lstStyle/>
        <a:p>
          <a:endParaRPr lang="pl-PL"/>
        </a:p>
      </dgm:t>
    </dgm:pt>
    <dgm:pt modelId="{C9993980-55DE-4EB7-8F8E-12AB617C8A28}" type="sibTrans" cxnId="{EEDF731B-2347-4CA5-ABE9-6911C78259BB}">
      <dgm:prSet/>
      <dgm:spPr/>
      <dgm:t>
        <a:bodyPr/>
        <a:lstStyle/>
        <a:p>
          <a:endParaRPr lang="pl-PL"/>
        </a:p>
      </dgm:t>
    </dgm:pt>
    <dgm:pt modelId="{EA7E9F35-F75F-4544-9897-DA8646F8797B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err="1" smtClean="0"/>
            <a:t>Create</a:t>
          </a:r>
          <a:r>
            <a:rPr lang="pl-PL" dirty="0" smtClean="0"/>
            <a:t> </a:t>
          </a:r>
          <a:r>
            <a:rPr lang="pl-PL" dirty="0" err="1" smtClean="0"/>
            <a:t>files</a:t>
          </a:r>
          <a:endParaRPr lang="pl-PL" dirty="0"/>
        </a:p>
      </dgm:t>
    </dgm:pt>
    <dgm:pt modelId="{1D4D53B5-2DC5-412E-9524-25D4AAEF488F}" type="parTrans" cxnId="{4FCC1D49-7111-4AE6-ACB0-4973C14DB513}">
      <dgm:prSet/>
      <dgm:spPr/>
      <dgm:t>
        <a:bodyPr/>
        <a:lstStyle/>
        <a:p>
          <a:endParaRPr lang="pl-PL"/>
        </a:p>
      </dgm:t>
    </dgm:pt>
    <dgm:pt modelId="{505880A3-1D86-4544-B56D-766F6FE96E1E}" type="sibTrans" cxnId="{4FCC1D49-7111-4AE6-ACB0-4973C14DB513}">
      <dgm:prSet/>
      <dgm:spPr/>
      <dgm:t>
        <a:bodyPr/>
        <a:lstStyle/>
        <a:p>
          <a:endParaRPr lang="pl-PL"/>
        </a:p>
      </dgm:t>
    </dgm:pt>
    <dgm:pt modelId="{ADD15DD9-9FEC-422E-A4FE-DDE44232DABC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err="1" smtClean="0"/>
            <a:t>Produce</a:t>
          </a:r>
          <a:r>
            <a:rPr lang="pl-PL" dirty="0" smtClean="0"/>
            <a:t> </a:t>
          </a:r>
          <a:r>
            <a:rPr lang="pl-PL" dirty="0" err="1" smtClean="0"/>
            <a:t>preliminary</a:t>
          </a:r>
          <a:r>
            <a:rPr lang="pl-PL" dirty="0" smtClean="0"/>
            <a:t> </a:t>
          </a:r>
          <a:r>
            <a:rPr lang="pl-PL" dirty="0" err="1" smtClean="0"/>
            <a:t>statistics</a:t>
          </a:r>
          <a:endParaRPr lang="pl-PL" dirty="0"/>
        </a:p>
      </dgm:t>
    </dgm:pt>
    <dgm:pt modelId="{A7D9C0B6-3667-4BE8-8977-C69B00627B5A}" type="parTrans" cxnId="{B6CD1CA5-5506-4418-B3B5-342227AD95E3}">
      <dgm:prSet/>
      <dgm:spPr/>
      <dgm:t>
        <a:bodyPr/>
        <a:lstStyle/>
        <a:p>
          <a:endParaRPr lang="pl-PL"/>
        </a:p>
      </dgm:t>
    </dgm:pt>
    <dgm:pt modelId="{B7DE94C5-3398-4AB3-84D1-6B2ADA6EA9B1}" type="sibTrans" cxnId="{B6CD1CA5-5506-4418-B3B5-342227AD95E3}">
      <dgm:prSet/>
      <dgm:spPr/>
      <dgm:t>
        <a:bodyPr/>
        <a:lstStyle/>
        <a:p>
          <a:endParaRPr lang="pl-PL"/>
        </a:p>
      </dgm:t>
    </dgm:pt>
    <dgm:pt modelId="{8E5B0EDD-1FB0-4D31-A4BE-F5E728ED8A4A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endParaRPr lang="pl-PL" dirty="0"/>
        </a:p>
      </dgm:t>
    </dgm:pt>
    <dgm:pt modelId="{D4D4C6B3-2FF4-410A-AC03-EE365241B32B}" type="parTrans" cxnId="{ED64F59D-2170-4C22-8946-9718BBB0DAD2}">
      <dgm:prSet/>
      <dgm:spPr/>
      <dgm:t>
        <a:bodyPr/>
        <a:lstStyle/>
        <a:p>
          <a:endParaRPr lang="pl-PL"/>
        </a:p>
      </dgm:t>
    </dgm:pt>
    <dgm:pt modelId="{A8CE607A-4825-4729-9EBD-4F54F8489099}" type="sibTrans" cxnId="{ED64F59D-2170-4C22-8946-9718BBB0DAD2}">
      <dgm:prSet/>
      <dgm:spPr/>
      <dgm:t>
        <a:bodyPr/>
        <a:lstStyle/>
        <a:p>
          <a:endParaRPr lang="pl-PL"/>
        </a:p>
      </dgm:t>
    </dgm:pt>
    <dgm:pt modelId="{1A459C9B-D778-4A78-A3D1-FB36CD8D5FD8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err="1" smtClean="0"/>
            <a:t>Prepare</a:t>
          </a:r>
          <a:r>
            <a:rPr lang="pl-PL" dirty="0" smtClean="0"/>
            <a:t> and </a:t>
          </a:r>
          <a:r>
            <a:rPr lang="pl-PL" dirty="0" err="1" smtClean="0"/>
            <a:t>modify</a:t>
          </a:r>
          <a:r>
            <a:rPr lang="pl-PL" dirty="0" smtClean="0"/>
            <a:t> </a:t>
          </a:r>
          <a:r>
            <a:rPr lang="pl-PL" dirty="0" err="1" smtClean="0"/>
            <a:t>dissemiation</a:t>
          </a:r>
          <a:r>
            <a:rPr lang="pl-PL" dirty="0" smtClean="0"/>
            <a:t> systems</a:t>
          </a:r>
          <a:endParaRPr lang="pl-PL" dirty="0"/>
        </a:p>
      </dgm:t>
    </dgm:pt>
    <dgm:pt modelId="{FA2D6B45-0003-4035-A499-399F9883C3C5}" type="parTrans" cxnId="{149EAA7C-5401-4692-BDA1-41CCF859C8EB}">
      <dgm:prSet/>
      <dgm:spPr/>
      <dgm:t>
        <a:bodyPr/>
        <a:lstStyle/>
        <a:p>
          <a:endParaRPr lang="pl-PL"/>
        </a:p>
      </dgm:t>
    </dgm:pt>
    <dgm:pt modelId="{DEFEAF26-8C5B-4186-998D-E5DA145FD6AC}" type="sibTrans" cxnId="{149EAA7C-5401-4692-BDA1-41CCF859C8EB}">
      <dgm:prSet/>
      <dgm:spPr/>
      <dgm:t>
        <a:bodyPr/>
        <a:lstStyle/>
        <a:p>
          <a:endParaRPr lang="pl-PL"/>
        </a:p>
      </dgm:t>
    </dgm:pt>
    <dgm:pt modelId="{A2287C82-9313-4D86-8AA2-D59B7AC5BC94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err="1" smtClean="0"/>
            <a:t>Manage</a:t>
          </a:r>
          <a:r>
            <a:rPr lang="pl-PL" dirty="0" smtClean="0"/>
            <a:t> products</a:t>
          </a:r>
          <a:endParaRPr lang="pl-PL" dirty="0"/>
        </a:p>
      </dgm:t>
    </dgm:pt>
    <dgm:pt modelId="{192AF61A-1C28-448B-8ECE-019D7CE485F6}" type="parTrans" cxnId="{44798050-3457-4957-82FB-71ECB56AE35F}">
      <dgm:prSet/>
      <dgm:spPr/>
      <dgm:t>
        <a:bodyPr/>
        <a:lstStyle/>
        <a:p>
          <a:endParaRPr lang="pl-PL"/>
        </a:p>
      </dgm:t>
    </dgm:pt>
    <dgm:pt modelId="{484B018E-2D00-4F89-8924-55C4B484A406}" type="sibTrans" cxnId="{44798050-3457-4957-82FB-71ECB56AE35F}">
      <dgm:prSet/>
      <dgm:spPr/>
      <dgm:t>
        <a:bodyPr/>
        <a:lstStyle/>
        <a:p>
          <a:endParaRPr lang="pl-PL"/>
        </a:p>
      </dgm:t>
    </dgm:pt>
    <dgm:pt modelId="{A7DC2526-367E-4F1B-981E-57713396CE86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err="1" smtClean="0"/>
            <a:t>Check</a:t>
          </a:r>
          <a:r>
            <a:rPr lang="pl-PL" dirty="0" smtClean="0"/>
            <a:t> </a:t>
          </a:r>
          <a:r>
            <a:rPr lang="pl-PL" dirty="0" err="1" smtClean="0"/>
            <a:t>quality</a:t>
          </a:r>
          <a:endParaRPr lang="pl-PL" dirty="0"/>
        </a:p>
      </dgm:t>
    </dgm:pt>
    <dgm:pt modelId="{EFC93DEE-59B2-4173-A8CE-7C940C564902}" type="parTrans" cxnId="{A292BECA-2011-4E37-9D91-EEA17601DF6D}">
      <dgm:prSet/>
      <dgm:spPr/>
    </dgm:pt>
    <dgm:pt modelId="{E683FBFD-4E6E-4D73-8FEF-D7DD7D977F20}" type="sibTrans" cxnId="{A292BECA-2011-4E37-9D91-EEA17601DF6D}">
      <dgm:prSet/>
      <dgm:spPr/>
    </dgm:pt>
    <dgm:pt modelId="{C41BEE0B-C229-484F-8DBF-54838BD4A751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endParaRPr lang="pl-PL" dirty="0"/>
        </a:p>
      </dgm:t>
    </dgm:pt>
    <dgm:pt modelId="{25B70042-41F9-41E5-9C10-B91B9953B4F7}" type="parTrans" cxnId="{A9F281E6-06ED-45D2-A860-75F578F6B2B0}">
      <dgm:prSet/>
      <dgm:spPr/>
    </dgm:pt>
    <dgm:pt modelId="{41D52DD0-9F5A-439C-B557-DA9E71FF52F2}" type="sibTrans" cxnId="{A9F281E6-06ED-45D2-A860-75F578F6B2B0}">
      <dgm:prSet/>
      <dgm:spPr/>
    </dgm:pt>
    <dgm:pt modelId="{7A1D9E4D-3F78-4E04-B91E-0F5738CF76FE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err="1" smtClean="0"/>
            <a:t>Analyse</a:t>
          </a:r>
          <a:endParaRPr lang="pl-PL" dirty="0"/>
        </a:p>
      </dgm:t>
    </dgm:pt>
    <dgm:pt modelId="{9DF6AD78-A50C-4BB3-A120-9349D0DD4B8E}" type="parTrans" cxnId="{81D25192-383B-401B-A664-E79B2548F732}">
      <dgm:prSet/>
      <dgm:spPr/>
    </dgm:pt>
    <dgm:pt modelId="{C4487891-2D54-4BC1-8377-827D6E76CDB1}" type="sibTrans" cxnId="{81D25192-383B-401B-A664-E79B2548F732}">
      <dgm:prSet/>
      <dgm:spPr/>
    </dgm:pt>
    <dgm:pt modelId="{4EF39B06-9155-4C1D-B9C4-8EC8AA0E3A5C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err="1" smtClean="0"/>
            <a:t>Prepare</a:t>
          </a:r>
          <a:r>
            <a:rPr lang="pl-PL" dirty="0" smtClean="0"/>
            <a:t> </a:t>
          </a:r>
          <a:r>
            <a:rPr lang="pl-PL" dirty="0" err="1" smtClean="0"/>
            <a:t>statistics</a:t>
          </a:r>
          <a:r>
            <a:rPr lang="pl-PL" dirty="0" smtClean="0"/>
            <a:t> for </a:t>
          </a:r>
          <a:r>
            <a:rPr lang="pl-PL" dirty="0" err="1" smtClean="0"/>
            <a:t>Dissemination</a:t>
          </a:r>
          <a:endParaRPr lang="pl-PL" dirty="0"/>
        </a:p>
      </dgm:t>
    </dgm:pt>
    <dgm:pt modelId="{917273AD-832B-4F33-9A04-9A0DFF1E637A}" type="parTrans" cxnId="{B680B703-1B93-4BB7-922D-2F24CDE7BB52}">
      <dgm:prSet/>
      <dgm:spPr/>
    </dgm:pt>
    <dgm:pt modelId="{70C0E1F4-0FED-4C4B-9FEC-D3B16E91D216}" type="sibTrans" cxnId="{B680B703-1B93-4BB7-922D-2F24CDE7BB52}">
      <dgm:prSet/>
      <dgm:spPr/>
    </dgm:pt>
    <dgm:pt modelId="{14D71EEF-CD08-4B3E-AF20-2629C5C829DA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err="1" smtClean="0"/>
            <a:t>Approve</a:t>
          </a:r>
          <a:endParaRPr lang="pl-PL" dirty="0"/>
        </a:p>
      </dgm:t>
    </dgm:pt>
    <dgm:pt modelId="{B4B5B555-4B83-4459-B537-7C3138FCBDA6}" type="parTrans" cxnId="{0C12D562-2E66-4DDC-A152-9B8041298C14}">
      <dgm:prSet/>
      <dgm:spPr/>
    </dgm:pt>
    <dgm:pt modelId="{10FAE890-633F-4F53-8858-6F97B254EDAB}" type="sibTrans" cxnId="{0C12D562-2E66-4DDC-A152-9B8041298C14}">
      <dgm:prSet/>
      <dgm:spPr/>
    </dgm:pt>
    <dgm:pt modelId="{BCA7F4C6-81BD-401C-976B-ECB932934A68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b="0" dirty="0" err="1" smtClean="0"/>
            <a:t>Prepare</a:t>
          </a:r>
          <a:r>
            <a:rPr lang="pl-PL" b="0" dirty="0" smtClean="0"/>
            <a:t> products</a:t>
          </a:r>
          <a:endParaRPr lang="pl-PL" dirty="0"/>
        </a:p>
      </dgm:t>
    </dgm:pt>
    <dgm:pt modelId="{7EC44C18-CBCF-4DCD-AB92-5F8006864532}" type="parTrans" cxnId="{C693CF17-AA84-4FDA-BEDF-256EE6639B93}">
      <dgm:prSet/>
      <dgm:spPr/>
    </dgm:pt>
    <dgm:pt modelId="{C28E9B72-E1C7-4561-92BB-0857447D2CF5}" type="sibTrans" cxnId="{C693CF17-AA84-4FDA-BEDF-256EE6639B93}">
      <dgm:prSet/>
      <dgm:spPr/>
    </dgm:pt>
    <dgm:pt modelId="{50DB8F5E-03D1-47EB-803B-9090A25A0FEF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err="1" smtClean="0"/>
            <a:t>Promote</a:t>
          </a:r>
          <a:endParaRPr lang="pl-PL" dirty="0"/>
        </a:p>
      </dgm:t>
    </dgm:pt>
    <dgm:pt modelId="{CF580BE9-3920-4FAC-8220-CEB766BB0888}" type="parTrans" cxnId="{C7770FDF-C472-45D1-B401-F2EDDB7C423D}">
      <dgm:prSet/>
      <dgm:spPr/>
    </dgm:pt>
    <dgm:pt modelId="{1AF8DE4B-846E-4395-912D-32C2E05F9E85}" type="sibTrans" cxnId="{C7770FDF-C472-45D1-B401-F2EDDB7C423D}">
      <dgm:prSet/>
      <dgm:spPr/>
    </dgm:pt>
    <dgm:pt modelId="{F25AA9E7-C9D4-4153-87C0-65704F055B45}">
      <dgm:prSet phldrT="[Tekst]"/>
      <dgm:spPr>
        <a:solidFill>
          <a:schemeClr val="tx2">
            <a:lumMod val="20000"/>
            <a:lumOff val="80000"/>
          </a:schemeClr>
        </a:solidFill>
      </dgm:spPr>
      <dgm:t>
        <a:bodyPr/>
        <a:lstStyle/>
        <a:p>
          <a:r>
            <a:rPr lang="pl-PL" dirty="0" smtClean="0"/>
            <a:t>Monitor</a:t>
          </a:r>
          <a:endParaRPr lang="pl-PL" dirty="0"/>
        </a:p>
      </dgm:t>
    </dgm:pt>
    <dgm:pt modelId="{75A13C3A-434C-4DBF-B141-72870856B32F}" type="parTrans" cxnId="{8DB85036-B393-4B28-A2F9-A1CA0D8FD7ED}">
      <dgm:prSet/>
      <dgm:spPr/>
    </dgm:pt>
    <dgm:pt modelId="{E10CC1FB-4A91-419A-B432-D8E34A94AAC2}" type="sibTrans" cxnId="{8DB85036-B393-4B28-A2F9-A1CA0D8FD7ED}">
      <dgm:prSet/>
      <dgm:spPr/>
    </dgm:pt>
    <dgm:pt modelId="{FCE6F437-68E2-4E72-836E-0E165623140C}" type="pres">
      <dgm:prSet presAssocID="{AA75E3B0-4208-4A76-A0AB-16F697970856}" presName="Name0" presStyleCnt="0">
        <dgm:presLayoutVars>
          <dgm:dir/>
          <dgm:animLvl val="lvl"/>
          <dgm:resizeHandles val="exact"/>
        </dgm:presLayoutVars>
      </dgm:prSet>
      <dgm:spPr/>
    </dgm:pt>
    <dgm:pt modelId="{4DA401DE-B4AE-461E-A6CC-0292000C150E}" type="pres">
      <dgm:prSet presAssocID="{D4FCD594-EB88-4F2D-868D-005FDC370DD0}" presName="composite" presStyleCnt="0"/>
      <dgm:spPr/>
    </dgm:pt>
    <dgm:pt modelId="{3DF4E8DD-2815-4A49-877E-9CA41623152F}" type="pres">
      <dgm:prSet presAssocID="{D4FCD594-EB88-4F2D-868D-005FDC370DD0}" presName="parTx" presStyleLbl="node1" presStyleIdx="0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FDF4B52E-A781-4CDA-8D17-A383FAEEC7B7}" type="pres">
      <dgm:prSet presAssocID="{D4FCD594-EB88-4F2D-868D-005FDC370DD0}" presName="desTx" presStyleLbl="revTx" presStyleIdx="0" presStyleCnt="3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7527BD0D-09BE-4682-9748-33F29B6FD962}" type="pres">
      <dgm:prSet presAssocID="{9D79FA66-19FF-4634-87F4-7A6249D28CB7}" presName="space" presStyleCnt="0"/>
      <dgm:spPr/>
    </dgm:pt>
    <dgm:pt modelId="{484AFAEA-5D0A-4CAB-B9B2-F54091B6A823}" type="pres">
      <dgm:prSet presAssocID="{8ECED30E-F4EC-4502-B152-F4BBAC3F18C8}" presName="composite" presStyleCnt="0"/>
      <dgm:spPr/>
    </dgm:pt>
    <dgm:pt modelId="{566A99EC-6BD1-4A02-B6F1-1249D600CA1F}" type="pres">
      <dgm:prSet presAssocID="{8ECED30E-F4EC-4502-B152-F4BBAC3F18C8}" presName="parTx" presStyleLbl="node1" presStyleIdx="1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D97E73E7-AC45-4AC7-947C-B5F8AD17418F}" type="pres">
      <dgm:prSet presAssocID="{8ECED30E-F4EC-4502-B152-F4BBAC3F18C8}" presName="desTx" presStyleLbl="revTx" presStyleIdx="1" presStyleCnt="3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773063D3-7B26-43E7-81B0-55D2CD4249EC}" type="pres">
      <dgm:prSet presAssocID="{0BEB9B38-6281-4FD0-996F-2D6C841B6E0D}" presName="space" presStyleCnt="0"/>
      <dgm:spPr/>
    </dgm:pt>
    <dgm:pt modelId="{953557F7-C803-4BE4-820A-9A3DE0B64757}" type="pres">
      <dgm:prSet presAssocID="{02C43C29-488F-4C33-BFA5-131DE392AA0E}" presName="composite" presStyleCnt="0"/>
      <dgm:spPr/>
    </dgm:pt>
    <dgm:pt modelId="{A0BE351B-9681-406D-8839-9B2F914F0332}" type="pres">
      <dgm:prSet presAssocID="{02C43C29-488F-4C33-BFA5-131DE392AA0E}" presName="parTx" presStyleLbl="node1" presStyleIdx="2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325D809E-6EF4-4879-BD75-E85AE6818449}" type="pres">
      <dgm:prSet presAssocID="{02C43C29-488F-4C33-BFA5-131DE392AA0E}" presName="desTx" presStyleLbl="revTx" presStyleIdx="2" presStyleCnt="3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15539E18-28C1-47CB-9CC4-9DA75587B3A4}" type="pres">
      <dgm:prSet presAssocID="{4C624CBA-0D00-4830-90B1-936A03E2D368}" presName="space" presStyleCnt="0"/>
      <dgm:spPr/>
    </dgm:pt>
    <dgm:pt modelId="{528338D6-E976-40B3-AE51-A9BB5484DBE8}" type="pres">
      <dgm:prSet presAssocID="{1F1265D5-7184-4784-B53C-66BC989B9353}" presName="composite" presStyleCnt="0"/>
      <dgm:spPr/>
    </dgm:pt>
    <dgm:pt modelId="{8874570D-D5B9-4C5E-88C4-6F80236E9EC2}" type="pres">
      <dgm:prSet presAssocID="{1F1265D5-7184-4784-B53C-66BC989B9353}" presName="parTx" presStyleLbl="node1" presStyleIdx="3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AED5BA50-06DA-4605-877A-E1CB9DE82AA4}" type="pres">
      <dgm:prSet presAssocID="{1F1265D5-7184-4784-B53C-66BC989B9353}" presName="desTx" presStyleLbl="revTx" presStyleIdx="2" presStyleCnt="3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0C12D562-2E66-4DDC-A152-9B8041298C14}" srcId="{8ECED30E-F4EC-4502-B152-F4BBAC3F18C8}" destId="{14D71EEF-CD08-4B3E-AF20-2629C5C829DA}" srcOrd="4" destOrd="0" parTransId="{B4B5B555-4B83-4459-B537-7C3138FCBDA6}" sibTransId="{10FAE890-633F-4F53-8858-6F97B254EDAB}"/>
    <dgm:cxn modelId="{56025A39-9656-4699-8052-FE1E0454082A}" type="presOf" srcId="{A2287C82-9313-4D86-8AA2-D59B7AC5BC94}" destId="{325D809E-6EF4-4879-BD75-E85AE6818449}" srcOrd="0" destOrd="2" presId="urn:microsoft.com/office/officeart/2005/8/layout/chevron1"/>
    <dgm:cxn modelId="{B6CD1CA5-5506-4418-B3B5-342227AD95E3}" srcId="{8ECED30E-F4EC-4502-B152-F4BBAC3F18C8}" destId="{ADD15DD9-9FEC-422E-A4FE-DDE44232DABC}" srcOrd="0" destOrd="0" parTransId="{A7D9C0B6-3667-4BE8-8977-C69B00627B5A}" sibTransId="{B7DE94C5-3398-4AB3-84D1-6B2ADA6EA9B1}"/>
    <dgm:cxn modelId="{8DB85036-B393-4B28-A2F9-A1CA0D8FD7ED}" srcId="{02C43C29-488F-4C33-BFA5-131DE392AA0E}" destId="{F25AA9E7-C9D4-4153-87C0-65704F055B45}" srcOrd="4" destOrd="0" parTransId="{75A13C3A-434C-4DBF-B141-72870856B32F}" sibTransId="{E10CC1FB-4A91-419A-B432-D8E34A94AAC2}"/>
    <dgm:cxn modelId="{9DE28D3E-8877-492C-969A-C6593BC980B2}" type="presOf" srcId="{1A459C9B-D778-4A78-A3D1-FB36CD8D5FD8}" destId="{325D809E-6EF4-4879-BD75-E85AE6818449}" srcOrd="0" destOrd="0" presId="urn:microsoft.com/office/officeart/2005/8/layout/chevron1"/>
    <dgm:cxn modelId="{81D25192-383B-401B-A664-E79B2548F732}" srcId="{8ECED30E-F4EC-4502-B152-F4BBAC3F18C8}" destId="{7A1D9E4D-3F78-4E04-B91E-0F5738CF76FE}" srcOrd="2" destOrd="0" parTransId="{9DF6AD78-A50C-4BB3-A120-9349D0DD4B8E}" sibTransId="{C4487891-2D54-4BC1-8377-827D6E76CDB1}"/>
    <dgm:cxn modelId="{4ECDA0E4-879D-4021-B666-295C47BEFFC9}" type="presOf" srcId="{D4FCD594-EB88-4F2D-868D-005FDC370DD0}" destId="{3DF4E8DD-2815-4A49-877E-9CA41623152F}" srcOrd="0" destOrd="0" presId="urn:microsoft.com/office/officeart/2005/8/layout/chevron1"/>
    <dgm:cxn modelId="{1F13C24B-7FB8-4E42-B24C-DD779A84CCE9}" type="presOf" srcId="{F25AA9E7-C9D4-4153-87C0-65704F055B45}" destId="{325D809E-6EF4-4879-BD75-E85AE6818449}" srcOrd="0" destOrd="4" presId="urn:microsoft.com/office/officeart/2005/8/layout/chevron1"/>
    <dgm:cxn modelId="{B133DA5F-3050-4711-8A1F-7CB11ADE4E1A}" type="presOf" srcId="{AA75E3B0-4208-4A76-A0AB-16F697970856}" destId="{FCE6F437-68E2-4E72-836E-0E165623140C}" srcOrd="0" destOrd="0" presId="urn:microsoft.com/office/officeart/2005/8/layout/chevron1"/>
    <dgm:cxn modelId="{ED64F59D-2170-4C22-8946-9718BBB0DAD2}" srcId="{8ECED30E-F4EC-4502-B152-F4BBAC3F18C8}" destId="{8E5B0EDD-1FB0-4D31-A4BE-F5E728ED8A4A}" srcOrd="6" destOrd="0" parTransId="{D4D4C6B3-2FF4-410A-AC03-EE365241B32B}" sibTransId="{A8CE607A-4825-4729-9EBD-4F54F8489099}"/>
    <dgm:cxn modelId="{87C94805-BCA1-448C-8470-F7472B781937}" type="presOf" srcId="{8ECED30E-F4EC-4502-B152-F4BBAC3F18C8}" destId="{566A99EC-6BD1-4A02-B6F1-1249D600CA1F}" srcOrd="0" destOrd="0" presId="urn:microsoft.com/office/officeart/2005/8/layout/chevron1"/>
    <dgm:cxn modelId="{F80B7D49-E283-4912-B4C1-0E5D153118CC}" srcId="{AA75E3B0-4208-4A76-A0AB-16F697970856}" destId="{02C43C29-488F-4C33-BFA5-131DE392AA0E}" srcOrd="2" destOrd="0" parTransId="{DA2DB665-410F-45F4-AB1D-A48DE645AB79}" sibTransId="{4C624CBA-0D00-4830-90B1-936A03E2D368}"/>
    <dgm:cxn modelId="{6539EB88-7B6C-4D62-A51F-B3362505A259}" type="presOf" srcId="{D115CDA4-C246-4E00-A702-5792432E017E}" destId="{FDF4B52E-A781-4CDA-8D17-A383FAEEC7B7}" srcOrd="0" destOrd="2" presId="urn:microsoft.com/office/officeart/2005/8/layout/chevron1"/>
    <dgm:cxn modelId="{6E66538E-AF90-4587-B2CC-1D59CCA90691}" srcId="{D4FCD594-EB88-4F2D-868D-005FDC370DD0}" destId="{850C825A-DAFC-4840-9022-1FCC91472344}" srcOrd="3" destOrd="0" parTransId="{55638C47-F98C-4B54-90A6-7EBF3186D1C3}" sibTransId="{35141B87-FED6-4789-B065-4E3718F758D2}"/>
    <dgm:cxn modelId="{7960FD37-5510-42B5-87B7-3B171BFC6465}" srcId="{AA75E3B0-4208-4A76-A0AB-16F697970856}" destId="{1F1265D5-7184-4784-B53C-66BC989B9353}" srcOrd="3" destOrd="0" parTransId="{08922338-FD65-4A46-ACFD-018A1A08416F}" sibTransId="{212796AC-2A1A-4D7A-9EB9-00C07069FA7D}"/>
    <dgm:cxn modelId="{5A86D723-0CCA-47A0-88A6-6E8DCAF5FE05}" srcId="{D4FCD594-EB88-4F2D-868D-005FDC370DD0}" destId="{D115CDA4-C246-4E00-A702-5792432E017E}" srcOrd="2" destOrd="0" parTransId="{95252904-EFFA-4E91-B10D-D6522AAD7952}" sibTransId="{7467762D-BA8A-4067-A73F-AF012C360F8B}"/>
    <dgm:cxn modelId="{B458D3CE-25F8-4643-8F42-648B647BA2D6}" type="presOf" srcId="{C41BEE0B-C229-484F-8DBF-54838BD4A751}" destId="{D97E73E7-AC45-4AC7-947C-B5F8AD17418F}" srcOrd="0" destOrd="5" presId="urn:microsoft.com/office/officeart/2005/8/layout/chevron1"/>
    <dgm:cxn modelId="{44798050-3457-4957-82FB-71ECB56AE35F}" srcId="{02C43C29-488F-4C33-BFA5-131DE392AA0E}" destId="{A2287C82-9313-4D86-8AA2-D59B7AC5BC94}" srcOrd="2" destOrd="0" parTransId="{192AF61A-1C28-448B-8ECE-019D7CE485F6}" sibTransId="{484B018E-2D00-4F89-8924-55C4B484A406}"/>
    <dgm:cxn modelId="{C6661550-FED7-40BC-AADD-7E7C4E2555FF}" type="presOf" srcId="{E82DCFAF-C37D-4BC4-8855-34E40A588576}" destId="{FDF4B52E-A781-4CDA-8D17-A383FAEEC7B7}" srcOrd="0" destOrd="5" presId="urn:microsoft.com/office/officeart/2005/8/layout/chevron1"/>
    <dgm:cxn modelId="{E4155A13-BF08-4B06-A0EC-BD9271226B16}" srcId="{D4FCD594-EB88-4F2D-868D-005FDC370DD0}" destId="{D4B5D2B7-16C1-43FA-ACF5-405459AC6A88}" srcOrd="4" destOrd="0" parTransId="{BC6BF591-DCA9-41A5-AB9F-558A0B561782}" sibTransId="{91008830-C6BA-44A3-B0AE-0CCA3EBAE36B}"/>
    <dgm:cxn modelId="{96D0A37A-891F-483C-BD05-3F90F27ABFCC}" srcId="{AA75E3B0-4208-4A76-A0AB-16F697970856}" destId="{D4FCD594-EB88-4F2D-868D-005FDC370DD0}" srcOrd="0" destOrd="0" parTransId="{A8AF1BB1-2CBB-4C6D-8D0D-7DDF9F78B6A0}" sibTransId="{9D79FA66-19FF-4634-87F4-7A6249D28CB7}"/>
    <dgm:cxn modelId="{AEE12EFB-78CB-4A60-A452-B2FB772CB0E1}" type="presOf" srcId="{14D71EEF-CD08-4B3E-AF20-2629C5C829DA}" destId="{D97E73E7-AC45-4AC7-947C-B5F8AD17418F}" srcOrd="0" destOrd="4" presId="urn:microsoft.com/office/officeart/2005/8/layout/chevron1"/>
    <dgm:cxn modelId="{EEDF731B-2347-4CA5-ABE9-6911C78259BB}" srcId="{D4FCD594-EB88-4F2D-868D-005FDC370DD0}" destId="{D6BF80A1-FF08-4EB3-8555-FF1D3D2FF082}" srcOrd="7" destOrd="0" parTransId="{72F82950-678E-4C16-A568-BD7A3F46988C}" sibTransId="{C9993980-55DE-4EB7-8F8E-12AB617C8A28}"/>
    <dgm:cxn modelId="{ADFC8C39-4D29-4615-A28C-B0C02C8A9430}" srcId="{D4FCD594-EB88-4F2D-868D-005FDC370DD0}" destId="{2DE24749-32D8-4214-BBAA-C56FA4BA38FF}" srcOrd="0" destOrd="0" parTransId="{69BBAFCF-A5DE-4A93-B5FC-727B1EAAE11C}" sibTransId="{673C0827-D5F7-4CA7-84B5-08D171B627DD}"/>
    <dgm:cxn modelId="{844EC5D7-6934-436D-B60A-591AB240B1BE}" type="presOf" srcId="{2DE24749-32D8-4214-BBAA-C56FA4BA38FF}" destId="{FDF4B52E-A781-4CDA-8D17-A383FAEEC7B7}" srcOrd="0" destOrd="0" presId="urn:microsoft.com/office/officeart/2005/8/layout/chevron1"/>
    <dgm:cxn modelId="{A9F281E6-06ED-45D2-A860-75F578F6B2B0}" srcId="{8ECED30E-F4EC-4502-B152-F4BBAC3F18C8}" destId="{C41BEE0B-C229-484F-8DBF-54838BD4A751}" srcOrd="5" destOrd="0" parTransId="{25B70042-41F9-41E5-9C10-B91B9953B4F7}" sibTransId="{41D52DD0-9F5A-439C-B557-DA9E71FF52F2}"/>
    <dgm:cxn modelId="{DCD2AE8D-EF52-41AD-857A-B67A32609AF5}" type="presOf" srcId="{A7DC2526-367E-4F1B-981E-57713396CE86}" destId="{D97E73E7-AC45-4AC7-947C-B5F8AD17418F}" srcOrd="0" destOrd="1" presId="urn:microsoft.com/office/officeart/2005/8/layout/chevron1"/>
    <dgm:cxn modelId="{F2147231-A8BC-4666-8EE9-1569907FE83B}" type="presOf" srcId="{1F1265D5-7184-4784-B53C-66BC989B9353}" destId="{8874570D-D5B9-4C5E-88C4-6F80236E9EC2}" srcOrd="0" destOrd="0" presId="urn:microsoft.com/office/officeart/2005/8/layout/chevron1"/>
    <dgm:cxn modelId="{C693CF17-AA84-4FDA-BEDF-256EE6639B93}" srcId="{02C43C29-488F-4C33-BFA5-131DE392AA0E}" destId="{BCA7F4C6-81BD-401C-976B-ECB932934A68}" srcOrd="1" destOrd="0" parTransId="{7EC44C18-CBCF-4DCD-AB92-5F8006864532}" sibTransId="{C28E9B72-E1C7-4561-92BB-0857447D2CF5}"/>
    <dgm:cxn modelId="{3E601110-14A6-4256-BD00-C9BD631E7A47}" type="presOf" srcId="{DF21B734-871C-4EB0-BC33-2E5509B93031}" destId="{FDF4B52E-A781-4CDA-8D17-A383FAEEC7B7}" srcOrd="0" destOrd="1" presId="urn:microsoft.com/office/officeart/2005/8/layout/chevron1"/>
    <dgm:cxn modelId="{C7770FDF-C472-45D1-B401-F2EDDB7C423D}" srcId="{02C43C29-488F-4C33-BFA5-131DE392AA0E}" destId="{50DB8F5E-03D1-47EB-803B-9090A25A0FEF}" srcOrd="3" destOrd="0" parTransId="{CF580BE9-3920-4FAC-8220-CEB766BB0888}" sibTransId="{1AF8DE4B-846E-4395-912D-32C2E05F9E85}"/>
    <dgm:cxn modelId="{65072EA1-E239-404D-87C1-03DCF4B253D8}" type="presOf" srcId="{D4B5D2B7-16C1-43FA-ACF5-405459AC6A88}" destId="{FDF4B52E-A781-4CDA-8D17-A383FAEEC7B7}" srcOrd="0" destOrd="4" presId="urn:microsoft.com/office/officeart/2005/8/layout/chevron1"/>
    <dgm:cxn modelId="{788D4D58-CD73-4628-97A5-A85CB7DE311C}" type="presOf" srcId="{7A1D9E4D-3F78-4E04-B91E-0F5738CF76FE}" destId="{D97E73E7-AC45-4AC7-947C-B5F8AD17418F}" srcOrd="0" destOrd="2" presId="urn:microsoft.com/office/officeart/2005/8/layout/chevron1"/>
    <dgm:cxn modelId="{FB924B23-4019-4488-866C-950A34EBD411}" type="presOf" srcId="{850C825A-DAFC-4840-9022-1FCC91472344}" destId="{FDF4B52E-A781-4CDA-8D17-A383FAEEC7B7}" srcOrd="0" destOrd="3" presId="urn:microsoft.com/office/officeart/2005/8/layout/chevron1"/>
    <dgm:cxn modelId="{EF697940-86F4-4927-BAAF-6596D9D21C5D}" type="presOf" srcId="{8E5B0EDD-1FB0-4D31-A4BE-F5E728ED8A4A}" destId="{D97E73E7-AC45-4AC7-947C-B5F8AD17418F}" srcOrd="0" destOrd="6" presId="urn:microsoft.com/office/officeart/2005/8/layout/chevron1"/>
    <dgm:cxn modelId="{A292BECA-2011-4E37-9D91-EEA17601DF6D}" srcId="{8ECED30E-F4EC-4502-B152-F4BBAC3F18C8}" destId="{A7DC2526-367E-4F1B-981E-57713396CE86}" srcOrd="1" destOrd="0" parTransId="{EFC93DEE-59B2-4173-A8CE-7C940C564902}" sibTransId="{E683FBFD-4E6E-4D73-8FEF-D7DD7D977F20}"/>
    <dgm:cxn modelId="{FC46CB34-DE57-44CC-B418-9CCB5DB00A6D}" type="presOf" srcId="{BCA7F4C6-81BD-401C-976B-ECB932934A68}" destId="{325D809E-6EF4-4879-BD75-E85AE6818449}" srcOrd="0" destOrd="1" presId="urn:microsoft.com/office/officeart/2005/8/layout/chevron1"/>
    <dgm:cxn modelId="{8E7EE68A-221A-4B15-877D-179958D16277}" type="presOf" srcId="{4EF39B06-9155-4C1D-B9C4-8EC8AA0E3A5C}" destId="{D97E73E7-AC45-4AC7-947C-B5F8AD17418F}" srcOrd="0" destOrd="3" presId="urn:microsoft.com/office/officeart/2005/8/layout/chevron1"/>
    <dgm:cxn modelId="{149EAA7C-5401-4692-BDA1-41CCF859C8EB}" srcId="{02C43C29-488F-4C33-BFA5-131DE392AA0E}" destId="{1A459C9B-D778-4A78-A3D1-FB36CD8D5FD8}" srcOrd="0" destOrd="0" parTransId="{FA2D6B45-0003-4035-A499-399F9883C3C5}" sibTransId="{DEFEAF26-8C5B-4186-998D-E5DA145FD6AC}"/>
    <dgm:cxn modelId="{3B6A0F03-1E14-45E4-AFB5-D143E5A608CE}" type="presOf" srcId="{ADD15DD9-9FEC-422E-A4FE-DDE44232DABC}" destId="{D97E73E7-AC45-4AC7-947C-B5F8AD17418F}" srcOrd="0" destOrd="0" presId="urn:microsoft.com/office/officeart/2005/8/layout/chevron1"/>
    <dgm:cxn modelId="{DC0EC59A-2B7B-404D-84F9-DA5D13DB4418}" srcId="{AA75E3B0-4208-4A76-A0AB-16F697970856}" destId="{8ECED30E-F4EC-4502-B152-F4BBAC3F18C8}" srcOrd="1" destOrd="0" parTransId="{CEE2F57E-0636-4045-8E94-80373E3B7F2C}" sibTransId="{0BEB9B38-6281-4FD0-996F-2D6C841B6E0D}"/>
    <dgm:cxn modelId="{10E43088-8A9B-4205-AE54-D5FE6AD1387C}" type="presOf" srcId="{02C43C29-488F-4C33-BFA5-131DE392AA0E}" destId="{A0BE351B-9681-406D-8839-9B2F914F0332}" srcOrd="0" destOrd="0" presId="urn:microsoft.com/office/officeart/2005/8/layout/chevron1"/>
    <dgm:cxn modelId="{B680B703-1B93-4BB7-922D-2F24CDE7BB52}" srcId="{8ECED30E-F4EC-4502-B152-F4BBAC3F18C8}" destId="{4EF39B06-9155-4C1D-B9C4-8EC8AA0E3A5C}" srcOrd="3" destOrd="0" parTransId="{917273AD-832B-4F33-9A04-9A0DFF1E637A}" sibTransId="{70C0E1F4-0FED-4C4B-9FEC-D3B16E91D216}"/>
    <dgm:cxn modelId="{748D0290-D1DA-4A0F-BE19-BB461CF0AC72}" type="presOf" srcId="{EA7E9F35-F75F-4544-9897-DA8646F8797B}" destId="{FDF4B52E-A781-4CDA-8D17-A383FAEEC7B7}" srcOrd="0" destOrd="8" presId="urn:microsoft.com/office/officeart/2005/8/layout/chevron1"/>
    <dgm:cxn modelId="{3B298C57-987B-4C40-8F8F-160C6D08B194}" srcId="{D4FCD594-EB88-4F2D-868D-005FDC370DD0}" destId="{DF21B734-871C-4EB0-BC33-2E5509B93031}" srcOrd="1" destOrd="0" parTransId="{2A4EA873-B324-40E5-8015-CA45EDE2C4F0}" sibTransId="{0ED0F79C-B86B-4840-BF06-603DE4B30188}"/>
    <dgm:cxn modelId="{9E4D3631-7873-4D84-A470-A24D11966E20}" srcId="{D4FCD594-EB88-4F2D-868D-005FDC370DD0}" destId="{CC88BFFB-C03D-43EE-BC24-BC293ABAA283}" srcOrd="6" destOrd="0" parTransId="{36D876E9-89ED-4678-98F4-5EFBD35F6DD2}" sibTransId="{3B036E15-B3F9-413D-9E22-A7A8765465D6}"/>
    <dgm:cxn modelId="{D4EDC5D6-E4B9-47F4-8FA5-2C8D4B2648CA}" type="presOf" srcId="{CC88BFFB-C03D-43EE-BC24-BC293ABAA283}" destId="{FDF4B52E-A781-4CDA-8D17-A383FAEEC7B7}" srcOrd="0" destOrd="6" presId="urn:microsoft.com/office/officeart/2005/8/layout/chevron1"/>
    <dgm:cxn modelId="{DE5C8F3E-6128-43CD-A32F-D9534BFF59B8}" type="presOf" srcId="{50DB8F5E-03D1-47EB-803B-9090A25A0FEF}" destId="{325D809E-6EF4-4879-BD75-E85AE6818449}" srcOrd="0" destOrd="3" presId="urn:microsoft.com/office/officeart/2005/8/layout/chevron1"/>
    <dgm:cxn modelId="{74C44F96-877F-49E1-9E5A-8D9A83C58731}" type="presOf" srcId="{D6BF80A1-FF08-4EB3-8555-FF1D3D2FF082}" destId="{FDF4B52E-A781-4CDA-8D17-A383FAEEC7B7}" srcOrd="0" destOrd="7" presId="urn:microsoft.com/office/officeart/2005/8/layout/chevron1"/>
    <dgm:cxn modelId="{4FCC1D49-7111-4AE6-ACB0-4973C14DB513}" srcId="{D4FCD594-EB88-4F2D-868D-005FDC370DD0}" destId="{EA7E9F35-F75F-4544-9897-DA8646F8797B}" srcOrd="8" destOrd="0" parTransId="{1D4D53B5-2DC5-412E-9524-25D4AAEF488F}" sibTransId="{505880A3-1D86-4544-B56D-766F6FE96E1E}"/>
    <dgm:cxn modelId="{AABECB0B-2502-4066-89C2-C5ABE055516B}" srcId="{D4FCD594-EB88-4F2D-868D-005FDC370DD0}" destId="{E82DCFAF-C37D-4BC4-8855-34E40A588576}" srcOrd="5" destOrd="0" parTransId="{77C288E2-5D6C-4171-8BD0-BAEAA6875C93}" sibTransId="{F7E7AB2E-8E58-4A1C-8922-9DA90561CAA4}"/>
    <dgm:cxn modelId="{B8AC0C69-8169-4E71-9220-78CA386DC105}" type="presParOf" srcId="{FCE6F437-68E2-4E72-836E-0E165623140C}" destId="{4DA401DE-B4AE-461E-A6CC-0292000C150E}" srcOrd="0" destOrd="0" presId="urn:microsoft.com/office/officeart/2005/8/layout/chevron1"/>
    <dgm:cxn modelId="{4A094FC5-4D1F-4A25-B2C4-80196C8D2368}" type="presParOf" srcId="{4DA401DE-B4AE-461E-A6CC-0292000C150E}" destId="{3DF4E8DD-2815-4A49-877E-9CA41623152F}" srcOrd="0" destOrd="0" presId="urn:microsoft.com/office/officeart/2005/8/layout/chevron1"/>
    <dgm:cxn modelId="{14859899-6D0F-4C2E-A3CC-0F1119D0FC7E}" type="presParOf" srcId="{4DA401DE-B4AE-461E-A6CC-0292000C150E}" destId="{FDF4B52E-A781-4CDA-8D17-A383FAEEC7B7}" srcOrd="1" destOrd="0" presId="urn:microsoft.com/office/officeart/2005/8/layout/chevron1"/>
    <dgm:cxn modelId="{B6015467-7E87-47D2-9E98-C4C8A7120977}" type="presParOf" srcId="{FCE6F437-68E2-4E72-836E-0E165623140C}" destId="{7527BD0D-09BE-4682-9748-33F29B6FD962}" srcOrd="1" destOrd="0" presId="urn:microsoft.com/office/officeart/2005/8/layout/chevron1"/>
    <dgm:cxn modelId="{43C22500-DC4B-4BF4-AC67-9504C7739B96}" type="presParOf" srcId="{FCE6F437-68E2-4E72-836E-0E165623140C}" destId="{484AFAEA-5D0A-4CAB-B9B2-F54091B6A823}" srcOrd="2" destOrd="0" presId="urn:microsoft.com/office/officeart/2005/8/layout/chevron1"/>
    <dgm:cxn modelId="{0FCDACDB-D66A-48AA-A45E-CAE728A372CD}" type="presParOf" srcId="{484AFAEA-5D0A-4CAB-B9B2-F54091B6A823}" destId="{566A99EC-6BD1-4A02-B6F1-1249D600CA1F}" srcOrd="0" destOrd="0" presId="urn:microsoft.com/office/officeart/2005/8/layout/chevron1"/>
    <dgm:cxn modelId="{28959899-B040-4236-9013-37809FE5B49F}" type="presParOf" srcId="{484AFAEA-5D0A-4CAB-B9B2-F54091B6A823}" destId="{D97E73E7-AC45-4AC7-947C-B5F8AD17418F}" srcOrd="1" destOrd="0" presId="urn:microsoft.com/office/officeart/2005/8/layout/chevron1"/>
    <dgm:cxn modelId="{F25650A4-6CD0-4F46-94E1-1E0E1DA36CD4}" type="presParOf" srcId="{FCE6F437-68E2-4E72-836E-0E165623140C}" destId="{773063D3-7B26-43E7-81B0-55D2CD4249EC}" srcOrd="3" destOrd="0" presId="urn:microsoft.com/office/officeart/2005/8/layout/chevron1"/>
    <dgm:cxn modelId="{4457DC2D-784E-46CA-B176-50A6A6941A8D}" type="presParOf" srcId="{FCE6F437-68E2-4E72-836E-0E165623140C}" destId="{953557F7-C803-4BE4-820A-9A3DE0B64757}" srcOrd="4" destOrd="0" presId="urn:microsoft.com/office/officeart/2005/8/layout/chevron1"/>
    <dgm:cxn modelId="{3248AB3B-3A47-4294-B34F-5C97C29CCE27}" type="presParOf" srcId="{953557F7-C803-4BE4-820A-9A3DE0B64757}" destId="{A0BE351B-9681-406D-8839-9B2F914F0332}" srcOrd="0" destOrd="0" presId="urn:microsoft.com/office/officeart/2005/8/layout/chevron1"/>
    <dgm:cxn modelId="{3131D996-ED82-4F0C-AC38-A64D7EFE875E}" type="presParOf" srcId="{953557F7-C803-4BE4-820A-9A3DE0B64757}" destId="{325D809E-6EF4-4879-BD75-E85AE6818449}" srcOrd="1" destOrd="0" presId="urn:microsoft.com/office/officeart/2005/8/layout/chevron1"/>
    <dgm:cxn modelId="{B62F19F4-75B6-4675-8B7A-F7104AD4CE20}" type="presParOf" srcId="{FCE6F437-68E2-4E72-836E-0E165623140C}" destId="{15539E18-28C1-47CB-9CC4-9DA75587B3A4}" srcOrd="5" destOrd="0" presId="urn:microsoft.com/office/officeart/2005/8/layout/chevron1"/>
    <dgm:cxn modelId="{C72195BA-1325-4564-8A97-73FC9DAB1FB7}" type="presParOf" srcId="{FCE6F437-68E2-4E72-836E-0E165623140C}" destId="{528338D6-E976-40B3-AE51-A9BB5484DBE8}" srcOrd="6" destOrd="0" presId="urn:microsoft.com/office/officeart/2005/8/layout/chevron1"/>
    <dgm:cxn modelId="{38A86816-B59F-4CD2-B263-3413935A1635}" type="presParOf" srcId="{528338D6-E976-40B3-AE51-A9BB5484DBE8}" destId="{8874570D-D5B9-4C5E-88C4-6F80236E9EC2}" srcOrd="0" destOrd="0" presId="urn:microsoft.com/office/officeart/2005/8/layout/chevron1"/>
    <dgm:cxn modelId="{8FD7E369-584F-416D-8A84-69865426C3A3}" type="presParOf" srcId="{528338D6-E976-40B3-AE51-A9BB5484DBE8}" destId="{AED5BA50-06DA-4605-877A-E1CB9DE82AA4}" srcOrd="1" destOrd="0" presId="urn:microsoft.com/office/officeart/2005/8/layout/chevron1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18.xml><?xml version="1.0" encoding="utf-8"?>
<dgm:dataModel xmlns:dgm="http://schemas.openxmlformats.org/drawingml/2006/diagram" xmlns:a="http://schemas.openxmlformats.org/drawingml/2006/main">
  <dgm:ptLst>
    <dgm:pt modelId="{994CF1F4-2732-4AB8-8227-C604B16962D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BD7EE201-E696-47DB-B52A-69835367956F}">
      <dgm:prSet custT="1"/>
      <dgm:spPr/>
      <dgm:t>
        <a:bodyPr/>
        <a:lstStyle/>
        <a:p>
          <a:r>
            <a:rPr lang="en-US" sz="3200" b="1" dirty="0" smtClean="0"/>
            <a:t>Development of census results</a:t>
          </a:r>
          <a:r>
            <a:rPr lang="pl-PL" sz="2100" b="1" dirty="0" smtClean="0"/>
            <a:t/>
          </a:r>
          <a:br>
            <a:rPr lang="pl-PL" sz="2100" b="1" dirty="0" smtClean="0"/>
          </a:br>
          <a:r>
            <a:rPr lang="en-US" sz="2800" b="1" dirty="0" smtClean="0">
              <a:solidFill>
                <a:srgbClr val="FF5050"/>
              </a:solidFill>
            </a:rPr>
            <a:t>Quality aspects: </a:t>
          </a:r>
          <a:r>
            <a:rPr lang="en-US" sz="2800" b="1" dirty="0" smtClean="0">
              <a:solidFill>
                <a:srgbClr val="FFFF00"/>
              </a:solidFill>
            </a:rPr>
            <a:t>relevance, accuracy, comparability and coherence</a:t>
          </a:r>
          <a:endParaRPr lang="pl-PL" sz="2800" dirty="0">
            <a:solidFill>
              <a:srgbClr val="FFFF00"/>
            </a:solidFill>
          </a:endParaRPr>
        </a:p>
      </dgm:t>
    </dgm:pt>
    <dgm:pt modelId="{900A7E0E-76BC-4A48-9E24-D87F07AD20D3}" type="parTrans" cxnId="{E4BE50DC-500F-441C-BE6C-A761D12300B2}">
      <dgm:prSet/>
      <dgm:spPr/>
      <dgm:t>
        <a:bodyPr/>
        <a:lstStyle/>
        <a:p>
          <a:endParaRPr lang="pl-PL"/>
        </a:p>
      </dgm:t>
    </dgm:pt>
    <dgm:pt modelId="{E1393532-9089-43A4-B3A0-5C7FDBA41D5C}" type="sibTrans" cxnId="{E4BE50DC-500F-441C-BE6C-A761D12300B2}">
      <dgm:prSet/>
      <dgm:spPr/>
      <dgm:t>
        <a:bodyPr/>
        <a:lstStyle/>
        <a:p>
          <a:endParaRPr lang="pl-PL"/>
        </a:p>
      </dgm:t>
    </dgm:pt>
    <dgm:pt modelId="{4EC12F8D-F405-41E0-A8FE-89236D455F61}">
      <dgm:prSet/>
      <dgm:spPr/>
      <dgm:t>
        <a:bodyPr/>
        <a:lstStyle/>
        <a:p>
          <a:r>
            <a:rPr lang="en-US" b="1" noProof="0" smtClean="0"/>
            <a:t>Developing rules for missing data completion - imputation and calibration,</a:t>
          </a:r>
          <a:endParaRPr lang="en-US" noProof="0"/>
        </a:p>
      </dgm:t>
    </dgm:pt>
    <dgm:pt modelId="{0C7C2007-5499-48C9-9D87-E4930E1BDE9D}" type="parTrans" cxnId="{DCC448B4-6BE1-4F17-9B32-A6B512F01850}">
      <dgm:prSet/>
      <dgm:spPr/>
      <dgm:t>
        <a:bodyPr/>
        <a:lstStyle/>
        <a:p>
          <a:endParaRPr lang="pl-PL"/>
        </a:p>
      </dgm:t>
    </dgm:pt>
    <dgm:pt modelId="{BA49E62D-B65A-43AC-8F00-4BB19779256B}" type="sibTrans" cxnId="{DCC448B4-6BE1-4F17-9B32-A6B512F01850}">
      <dgm:prSet/>
      <dgm:spPr/>
      <dgm:t>
        <a:bodyPr/>
        <a:lstStyle/>
        <a:p>
          <a:endParaRPr lang="pl-PL"/>
        </a:p>
      </dgm:t>
    </dgm:pt>
    <dgm:pt modelId="{A9F12319-10CA-4308-ABBE-625E1312F1C6}">
      <dgm:prSet/>
      <dgm:spPr/>
      <dgm:t>
        <a:bodyPr/>
        <a:lstStyle/>
        <a:p>
          <a:r>
            <a:rPr lang="en-US" b="1" noProof="0" smtClean="0"/>
            <a:t>Developing rules for creating derived objects - creation of new objects (households, families),</a:t>
          </a:r>
          <a:endParaRPr lang="en-US" noProof="0"/>
        </a:p>
      </dgm:t>
    </dgm:pt>
    <dgm:pt modelId="{1769D1F1-67BF-4615-9AF2-18971A4BD715}" type="parTrans" cxnId="{2CE5E986-AB45-4CD6-8F95-BAD36E16A012}">
      <dgm:prSet/>
      <dgm:spPr/>
      <dgm:t>
        <a:bodyPr/>
        <a:lstStyle/>
        <a:p>
          <a:endParaRPr lang="pl-PL"/>
        </a:p>
      </dgm:t>
    </dgm:pt>
    <dgm:pt modelId="{F629E56E-C08C-45BF-B1D8-CF3ABC141C49}" type="sibTrans" cxnId="{2CE5E986-AB45-4CD6-8F95-BAD36E16A012}">
      <dgm:prSet/>
      <dgm:spPr/>
      <dgm:t>
        <a:bodyPr/>
        <a:lstStyle/>
        <a:p>
          <a:endParaRPr lang="pl-PL"/>
        </a:p>
      </dgm:t>
    </dgm:pt>
    <dgm:pt modelId="{2B79A121-2C0E-4FE8-A1A2-A9EC11F6847E}">
      <dgm:prSet/>
      <dgm:spPr/>
      <dgm:t>
        <a:bodyPr/>
        <a:lstStyle/>
        <a:p>
          <a:r>
            <a:rPr lang="en-US" b="1" noProof="0" smtClean="0"/>
            <a:t>Developing a model / method of data estimation with the use of the data from administrative systems and sample surveys,</a:t>
          </a:r>
          <a:endParaRPr lang="en-US" noProof="0"/>
        </a:p>
      </dgm:t>
    </dgm:pt>
    <dgm:pt modelId="{C977E4DA-3030-4230-97CD-406FE6027104}" type="parTrans" cxnId="{1F8D35CE-68FC-4A79-81CA-DD472A5568CB}">
      <dgm:prSet/>
      <dgm:spPr/>
      <dgm:t>
        <a:bodyPr/>
        <a:lstStyle/>
        <a:p>
          <a:endParaRPr lang="pl-PL"/>
        </a:p>
      </dgm:t>
    </dgm:pt>
    <dgm:pt modelId="{E543883E-EB4B-48B2-9317-DD02FAD09A48}" type="sibTrans" cxnId="{1F8D35CE-68FC-4A79-81CA-DD472A5568CB}">
      <dgm:prSet/>
      <dgm:spPr/>
      <dgm:t>
        <a:bodyPr/>
        <a:lstStyle/>
        <a:p>
          <a:endParaRPr lang="pl-PL"/>
        </a:p>
      </dgm:t>
    </dgm:pt>
    <dgm:pt modelId="{FB722E92-298B-4AB9-B9B5-4BCBFEDB8B0C}">
      <dgm:prSet/>
      <dgm:spPr/>
      <dgm:t>
        <a:bodyPr/>
        <a:lstStyle/>
        <a:p>
          <a:r>
            <a:rPr lang="en-US" b="1" noProof="0" dirty="0" smtClean="0"/>
            <a:t>Developing rules for calculating data outputs.</a:t>
          </a:r>
          <a:endParaRPr lang="en-US" noProof="0" dirty="0"/>
        </a:p>
      </dgm:t>
    </dgm:pt>
    <dgm:pt modelId="{4BF89C37-9F3C-4F35-B6FB-CEF0DCBE786F}" type="parTrans" cxnId="{E4A6C152-BD24-4707-85C0-8A932B9F3B91}">
      <dgm:prSet/>
      <dgm:spPr/>
      <dgm:t>
        <a:bodyPr/>
        <a:lstStyle/>
        <a:p>
          <a:endParaRPr lang="pl-PL"/>
        </a:p>
      </dgm:t>
    </dgm:pt>
    <dgm:pt modelId="{1A9EB811-7ADE-4169-BD29-CF3CADDE7E19}" type="sibTrans" cxnId="{E4A6C152-BD24-4707-85C0-8A932B9F3B91}">
      <dgm:prSet/>
      <dgm:spPr/>
      <dgm:t>
        <a:bodyPr/>
        <a:lstStyle/>
        <a:p>
          <a:endParaRPr lang="pl-PL"/>
        </a:p>
      </dgm:t>
    </dgm:pt>
    <dgm:pt modelId="{9DA460CD-728C-431B-B0D8-B192BFA091C0}">
      <dgm:prSet/>
      <dgm:spPr/>
      <dgm:t>
        <a:bodyPr/>
        <a:lstStyle/>
        <a:p>
          <a:endParaRPr lang="pl-PL" dirty="0"/>
        </a:p>
      </dgm:t>
    </dgm:pt>
    <dgm:pt modelId="{4C74513A-0219-4899-8D3D-7182C2E41013}" type="parTrans" cxnId="{AAE46403-9521-4276-95FA-E2948362BB9C}">
      <dgm:prSet/>
      <dgm:spPr/>
    </dgm:pt>
    <dgm:pt modelId="{D55D19EE-810E-45E5-99EE-7F77113877D2}" type="sibTrans" cxnId="{AAE46403-9521-4276-95FA-E2948362BB9C}">
      <dgm:prSet/>
      <dgm:spPr/>
    </dgm:pt>
    <dgm:pt modelId="{74AC2AD2-64D7-46DD-BC99-4A05B19844CF}">
      <dgm:prSet/>
      <dgm:spPr/>
      <dgm:t>
        <a:bodyPr/>
        <a:lstStyle/>
        <a:p>
          <a:endParaRPr lang="pl-PL" dirty="0"/>
        </a:p>
      </dgm:t>
    </dgm:pt>
    <dgm:pt modelId="{515E3DC3-504E-4B6D-9343-EC781A07AC9C}" type="parTrans" cxnId="{D72CE5F3-EEA8-4743-9BF8-8BA5C556FD43}">
      <dgm:prSet/>
      <dgm:spPr/>
    </dgm:pt>
    <dgm:pt modelId="{6B5DA7EF-3B27-49D3-809C-17BA4E56428C}" type="sibTrans" cxnId="{D72CE5F3-EEA8-4743-9BF8-8BA5C556FD43}">
      <dgm:prSet/>
      <dgm:spPr/>
    </dgm:pt>
    <dgm:pt modelId="{ADC6FB53-26A8-4358-956F-33CD97D623A0}" type="pres">
      <dgm:prSet presAssocID="{994CF1F4-2732-4AB8-8227-C604B16962D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CF29B001-2224-4BE2-8EC6-3C251DBD7BCC}" type="pres">
      <dgm:prSet presAssocID="{BD7EE201-E696-47DB-B52A-69835367956F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660397B3-CB39-4EFC-9B9E-AFADFC6CF128}" type="pres">
      <dgm:prSet presAssocID="{BD7EE201-E696-47DB-B52A-69835367956F}" presName="childText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E4BE50DC-500F-441C-BE6C-A761D12300B2}" srcId="{994CF1F4-2732-4AB8-8227-C604B16962DD}" destId="{BD7EE201-E696-47DB-B52A-69835367956F}" srcOrd="0" destOrd="0" parTransId="{900A7E0E-76BC-4A48-9E24-D87F07AD20D3}" sibTransId="{E1393532-9089-43A4-B3A0-5C7FDBA41D5C}"/>
    <dgm:cxn modelId="{D72CE5F3-EEA8-4743-9BF8-8BA5C556FD43}" srcId="{BD7EE201-E696-47DB-B52A-69835367956F}" destId="{74AC2AD2-64D7-46DD-BC99-4A05B19844CF}" srcOrd="4" destOrd="0" parTransId="{515E3DC3-504E-4B6D-9343-EC781A07AC9C}" sibTransId="{6B5DA7EF-3B27-49D3-809C-17BA4E56428C}"/>
    <dgm:cxn modelId="{DAD8B460-337C-4B45-9112-208E5B0280F7}" type="presOf" srcId="{A9F12319-10CA-4308-ABBE-625E1312F1C6}" destId="{660397B3-CB39-4EFC-9B9E-AFADFC6CF128}" srcOrd="0" destOrd="1" presId="urn:microsoft.com/office/officeart/2005/8/layout/vList2"/>
    <dgm:cxn modelId="{BF8006D0-1FB7-4EC9-BA57-1287ECBCDE58}" type="presOf" srcId="{2B79A121-2C0E-4FE8-A1A2-A9EC11F6847E}" destId="{660397B3-CB39-4EFC-9B9E-AFADFC6CF128}" srcOrd="0" destOrd="2" presId="urn:microsoft.com/office/officeart/2005/8/layout/vList2"/>
    <dgm:cxn modelId="{5794A22D-E3C3-491F-9578-96FE167CA096}" type="presOf" srcId="{FB722E92-298B-4AB9-B9B5-4BCBFEDB8B0C}" destId="{660397B3-CB39-4EFC-9B9E-AFADFC6CF128}" srcOrd="0" destOrd="3" presId="urn:microsoft.com/office/officeart/2005/8/layout/vList2"/>
    <dgm:cxn modelId="{DCC448B4-6BE1-4F17-9B32-A6B512F01850}" srcId="{BD7EE201-E696-47DB-B52A-69835367956F}" destId="{4EC12F8D-F405-41E0-A8FE-89236D455F61}" srcOrd="0" destOrd="0" parTransId="{0C7C2007-5499-48C9-9D87-E4930E1BDE9D}" sibTransId="{BA49E62D-B65A-43AC-8F00-4BB19779256B}"/>
    <dgm:cxn modelId="{C94870C5-F68F-4D24-AB52-9DB718C87A81}" type="presOf" srcId="{BD7EE201-E696-47DB-B52A-69835367956F}" destId="{CF29B001-2224-4BE2-8EC6-3C251DBD7BCC}" srcOrd="0" destOrd="0" presId="urn:microsoft.com/office/officeart/2005/8/layout/vList2"/>
    <dgm:cxn modelId="{E4A6C152-BD24-4707-85C0-8A932B9F3B91}" srcId="{BD7EE201-E696-47DB-B52A-69835367956F}" destId="{FB722E92-298B-4AB9-B9B5-4BCBFEDB8B0C}" srcOrd="3" destOrd="0" parTransId="{4BF89C37-9F3C-4F35-B6FB-CEF0DCBE786F}" sibTransId="{1A9EB811-7ADE-4169-BD29-CF3CADDE7E19}"/>
    <dgm:cxn modelId="{9B038137-288D-467F-8A56-86BF3D0F7CF6}" type="presOf" srcId="{4EC12F8D-F405-41E0-A8FE-89236D455F61}" destId="{660397B3-CB39-4EFC-9B9E-AFADFC6CF128}" srcOrd="0" destOrd="0" presId="urn:microsoft.com/office/officeart/2005/8/layout/vList2"/>
    <dgm:cxn modelId="{1F8D35CE-68FC-4A79-81CA-DD472A5568CB}" srcId="{BD7EE201-E696-47DB-B52A-69835367956F}" destId="{2B79A121-2C0E-4FE8-A1A2-A9EC11F6847E}" srcOrd="2" destOrd="0" parTransId="{C977E4DA-3030-4230-97CD-406FE6027104}" sibTransId="{E543883E-EB4B-48B2-9317-DD02FAD09A48}"/>
    <dgm:cxn modelId="{2CE5E986-AB45-4CD6-8F95-BAD36E16A012}" srcId="{BD7EE201-E696-47DB-B52A-69835367956F}" destId="{A9F12319-10CA-4308-ABBE-625E1312F1C6}" srcOrd="1" destOrd="0" parTransId="{1769D1F1-67BF-4615-9AF2-18971A4BD715}" sibTransId="{F629E56E-C08C-45BF-B1D8-CF3ABC141C49}"/>
    <dgm:cxn modelId="{47561AED-FE30-4501-ABBC-984D9D76F2C1}" type="presOf" srcId="{994CF1F4-2732-4AB8-8227-C604B16962DD}" destId="{ADC6FB53-26A8-4358-956F-33CD97D623A0}" srcOrd="0" destOrd="0" presId="urn:microsoft.com/office/officeart/2005/8/layout/vList2"/>
    <dgm:cxn modelId="{4B0FC23D-FE11-4D2E-A221-9D707746F1B6}" type="presOf" srcId="{74AC2AD2-64D7-46DD-BC99-4A05B19844CF}" destId="{660397B3-CB39-4EFC-9B9E-AFADFC6CF128}" srcOrd="0" destOrd="4" presId="urn:microsoft.com/office/officeart/2005/8/layout/vList2"/>
    <dgm:cxn modelId="{6ACFEA16-D1CE-4E29-88D7-5CB14AAF3BB3}" type="presOf" srcId="{9DA460CD-728C-431B-B0D8-B192BFA091C0}" destId="{660397B3-CB39-4EFC-9B9E-AFADFC6CF128}" srcOrd="0" destOrd="5" presId="urn:microsoft.com/office/officeart/2005/8/layout/vList2"/>
    <dgm:cxn modelId="{AAE46403-9521-4276-95FA-E2948362BB9C}" srcId="{BD7EE201-E696-47DB-B52A-69835367956F}" destId="{9DA460CD-728C-431B-B0D8-B192BFA091C0}" srcOrd="5" destOrd="0" parTransId="{4C74513A-0219-4899-8D3D-7182C2E41013}" sibTransId="{D55D19EE-810E-45E5-99EE-7F77113877D2}"/>
    <dgm:cxn modelId="{FCB4B0B8-CDA1-4A0C-BF82-94EF883326E7}" type="presParOf" srcId="{ADC6FB53-26A8-4358-956F-33CD97D623A0}" destId="{CF29B001-2224-4BE2-8EC6-3C251DBD7BCC}" srcOrd="0" destOrd="0" presId="urn:microsoft.com/office/officeart/2005/8/layout/vList2"/>
    <dgm:cxn modelId="{74CE6A69-BA0C-4FBA-9A12-F1CD1D76C974}" type="presParOf" srcId="{ADC6FB53-26A8-4358-956F-33CD97D623A0}" destId="{660397B3-CB39-4EFC-9B9E-AFADFC6CF128}" srcOrd="1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7" minVer="http://schemas.openxmlformats.org/drawingml/2006/diagram"/>
    </a:ext>
  </dgm:extLst>
</dgm:dataModel>
</file>

<file path=ppt/diagrams/data19.xml><?xml version="1.0" encoding="utf-8"?>
<dgm:dataModel xmlns:dgm="http://schemas.openxmlformats.org/drawingml/2006/diagram" xmlns:a="http://schemas.openxmlformats.org/drawingml/2006/main">
  <dgm:ptLst>
    <dgm:pt modelId="{994CF1F4-2732-4AB8-8227-C604B16962D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74AC2AD2-64D7-46DD-BC99-4A05B19844CF}">
      <dgm:prSet/>
      <dgm:spPr/>
      <dgm:t>
        <a:bodyPr/>
        <a:lstStyle/>
        <a:p>
          <a:endParaRPr lang="pl-PL" dirty="0"/>
        </a:p>
      </dgm:t>
    </dgm:pt>
    <dgm:pt modelId="{515E3DC3-504E-4B6D-9343-EC781A07AC9C}" type="parTrans" cxnId="{D72CE5F3-EEA8-4743-9BF8-8BA5C556FD43}">
      <dgm:prSet/>
      <dgm:spPr/>
      <dgm:t>
        <a:bodyPr/>
        <a:lstStyle/>
        <a:p>
          <a:endParaRPr lang="pl-PL"/>
        </a:p>
      </dgm:t>
    </dgm:pt>
    <dgm:pt modelId="{6B5DA7EF-3B27-49D3-809C-17BA4E56428C}" type="sibTrans" cxnId="{D72CE5F3-EEA8-4743-9BF8-8BA5C556FD43}">
      <dgm:prSet/>
      <dgm:spPr/>
      <dgm:t>
        <a:bodyPr/>
        <a:lstStyle/>
        <a:p>
          <a:endParaRPr lang="pl-PL"/>
        </a:p>
      </dgm:t>
    </dgm:pt>
    <dgm:pt modelId="{F36B5F3A-11F2-4156-BAD5-0B8705A3C356}">
      <dgm:prSet custT="1"/>
      <dgm:spPr/>
      <dgm:t>
        <a:bodyPr/>
        <a:lstStyle/>
        <a:p>
          <a:r>
            <a:rPr lang="en-GB" sz="3200" b="1" dirty="0" smtClean="0"/>
            <a:t>Dissemination </a:t>
          </a:r>
          <a:r>
            <a:rPr lang="pl-PL" sz="3200" b="1" dirty="0" smtClean="0"/>
            <a:t>of </a:t>
          </a:r>
          <a:r>
            <a:rPr lang="en-US" sz="3200" b="1" dirty="0" smtClean="0"/>
            <a:t>census results</a:t>
          </a:r>
          <a:r>
            <a:rPr lang="pl-PL" sz="2200" b="1" dirty="0" smtClean="0"/>
            <a:t/>
          </a:r>
          <a:br>
            <a:rPr lang="pl-PL" sz="2200" b="1" dirty="0" smtClean="0"/>
          </a:br>
          <a:r>
            <a:rPr lang="en-US" sz="2800" b="1" dirty="0" smtClean="0">
              <a:solidFill>
                <a:srgbClr val="FF5050"/>
              </a:solidFill>
            </a:rPr>
            <a:t>Quality aspects: </a:t>
          </a:r>
          <a:r>
            <a:rPr lang="en-US" sz="2800" b="1" dirty="0" smtClean="0">
              <a:solidFill>
                <a:srgbClr val="FFFF00"/>
              </a:solidFill>
            </a:rPr>
            <a:t>relevance, timeliness and punctuality, accessibility and clarity</a:t>
          </a:r>
          <a:r>
            <a:rPr lang="pl-PL" sz="2800" b="1" dirty="0" smtClean="0">
              <a:solidFill>
                <a:srgbClr val="FFFF00"/>
              </a:solidFill>
            </a:rPr>
            <a:t>,</a:t>
          </a:r>
          <a:r>
            <a:rPr lang="en-US" sz="2800" b="1" dirty="0" smtClean="0">
              <a:solidFill>
                <a:srgbClr val="FFFF00"/>
              </a:solidFill>
            </a:rPr>
            <a:t> comparability and coherence, information security</a:t>
          </a:r>
          <a:endParaRPr lang="pl-PL" sz="2800" dirty="0">
            <a:solidFill>
              <a:srgbClr val="FFFF00"/>
            </a:solidFill>
          </a:endParaRPr>
        </a:p>
      </dgm:t>
    </dgm:pt>
    <dgm:pt modelId="{515DE475-4C9A-4233-8D90-FC382D7D8665}" type="parTrans" cxnId="{2975CF2D-23FA-4085-A8E3-32F661D7C64B}">
      <dgm:prSet/>
      <dgm:spPr/>
      <dgm:t>
        <a:bodyPr/>
        <a:lstStyle/>
        <a:p>
          <a:endParaRPr lang="pl-PL"/>
        </a:p>
      </dgm:t>
    </dgm:pt>
    <dgm:pt modelId="{5DC62304-C072-42AE-9C25-781E99A10EDB}" type="sibTrans" cxnId="{2975CF2D-23FA-4085-A8E3-32F661D7C64B}">
      <dgm:prSet/>
      <dgm:spPr/>
      <dgm:t>
        <a:bodyPr/>
        <a:lstStyle/>
        <a:p>
          <a:endParaRPr lang="pl-PL"/>
        </a:p>
      </dgm:t>
    </dgm:pt>
    <dgm:pt modelId="{E3B756AE-C4B7-4780-825A-A51AFB473550}">
      <dgm:prSet/>
      <dgm:spPr/>
      <dgm:t>
        <a:bodyPr/>
        <a:lstStyle/>
        <a:p>
          <a:r>
            <a:rPr lang="en-US" b="1" noProof="0" smtClean="0"/>
            <a:t>Designing Analitycal Microdata Base features including compliance with users needs, accessibility and clarity of census data.</a:t>
          </a:r>
          <a:endParaRPr lang="en-US" noProof="0"/>
        </a:p>
      </dgm:t>
    </dgm:pt>
    <dgm:pt modelId="{8E3A5626-F4B3-4DDF-8E4B-F31F79A39F78}" type="parTrans" cxnId="{D778AD31-DB6A-4B5B-90EF-4F3BEB7AA59C}">
      <dgm:prSet/>
      <dgm:spPr/>
      <dgm:t>
        <a:bodyPr/>
        <a:lstStyle/>
        <a:p>
          <a:endParaRPr lang="pl-PL"/>
        </a:p>
      </dgm:t>
    </dgm:pt>
    <dgm:pt modelId="{A7B69D54-4001-4CC3-B2EF-F943FD80A62D}" type="sibTrans" cxnId="{D778AD31-DB6A-4B5B-90EF-4F3BEB7AA59C}">
      <dgm:prSet/>
      <dgm:spPr/>
      <dgm:t>
        <a:bodyPr/>
        <a:lstStyle/>
        <a:p>
          <a:endParaRPr lang="pl-PL"/>
        </a:p>
      </dgm:t>
    </dgm:pt>
    <dgm:pt modelId="{756B6E50-DAA6-4258-8CFD-08932EC6A042}">
      <dgm:prSet/>
      <dgm:spPr/>
      <dgm:t>
        <a:bodyPr/>
        <a:lstStyle/>
        <a:p>
          <a:endParaRPr lang="pl-PL" dirty="0"/>
        </a:p>
      </dgm:t>
    </dgm:pt>
    <dgm:pt modelId="{0A8C9D57-8B3B-4037-BD1A-50CD2EC07214}" type="parTrans" cxnId="{3B23BBFD-B776-47F9-8264-35E145E9FF88}">
      <dgm:prSet/>
      <dgm:spPr/>
      <dgm:t>
        <a:bodyPr/>
        <a:lstStyle/>
        <a:p>
          <a:endParaRPr lang="pl-PL"/>
        </a:p>
      </dgm:t>
    </dgm:pt>
    <dgm:pt modelId="{0812C184-14D1-49ED-914B-C2CF30278F9D}" type="sibTrans" cxnId="{3B23BBFD-B776-47F9-8264-35E145E9FF88}">
      <dgm:prSet/>
      <dgm:spPr/>
      <dgm:t>
        <a:bodyPr/>
        <a:lstStyle/>
        <a:p>
          <a:endParaRPr lang="pl-PL"/>
        </a:p>
      </dgm:t>
    </dgm:pt>
    <dgm:pt modelId="{436236F5-353B-4908-9873-F2992CFD1A9D}">
      <dgm:prSet/>
      <dgm:spPr/>
      <dgm:t>
        <a:bodyPr/>
        <a:lstStyle/>
        <a:p>
          <a:endParaRPr lang="pl-PL" dirty="0"/>
        </a:p>
      </dgm:t>
    </dgm:pt>
    <dgm:pt modelId="{BBBC11F3-E89A-4B58-B37B-A1491C4F9B6D}" type="parTrans" cxnId="{B81222F1-DE9E-4CB9-BE60-6F7BF4B26BA1}">
      <dgm:prSet/>
      <dgm:spPr/>
      <dgm:t>
        <a:bodyPr/>
        <a:lstStyle/>
        <a:p>
          <a:endParaRPr lang="pl-PL"/>
        </a:p>
      </dgm:t>
    </dgm:pt>
    <dgm:pt modelId="{025FA84F-6A51-41FB-989A-C1D211D2FE41}" type="sibTrans" cxnId="{B81222F1-DE9E-4CB9-BE60-6F7BF4B26BA1}">
      <dgm:prSet/>
      <dgm:spPr/>
      <dgm:t>
        <a:bodyPr/>
        <a:lstStyle/>
        <a:p>
          <a:endParaRPr lang="pl-PL"/>
        </a:p>
      </dgm:t>
    </dgm:pt>
    <dgm:pt modelId="{ADC6FB53-26A8-4358-956F-33CD97D623A0}" type="pres">
      <dgm:prSet presAssocID="{994CF1F4-2732-4AB8-8227-C604B16962D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1479F760-4FEE-481B-BC43-36695C76BE89}" type="pres">
      <dgm:prSet presAssocID="{F36B5F3A-11F2-4156-BAD5-0B8705A3C356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809CFCD2-B655-49B2-813A-FC3AB954C543}" type="pres">
      <dgm:prSet presAssocID="{F36B5F3A-11F2-4156-BAD5-0B8705A3C356}" presName="childText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D778AD31-DB6A-4B5B-90EF-4F3BEB7AA59C}" srcId="{F36B5F3A-11F2-4156-BAD5-0B8705A3C356}" destId="{E3B756AE-C4B7-4780-825A-A51AFB473550}" srcOrd="0" destOrd="0" parTransId="{8E3A5626-F4B3-4DDF-8E4B-F31F79A39F78}" sibTransId="{A7B69D54-4001-4CC3-B2EF-F943FD80A62D}"/>
    <dgm:cxn modelId="{D72CE5F3-EEA8-4743-9BF8-8BA5C556FD43}" srcId="{F36B5F3A-11F2-4156-BAD5-0B8705A3C356}" destId="{74AC2AD2-64D7-46DD-BC99-4A05B19844CF}" srcOrd="3" destOrd="0" parTransId="{515E3DC3-504E-4B6D-9343-EC781A07AC9C}" sibTransId="{6B5DA7EF-3B27-49D3-809C-17BA4E56428C}"/>
    <dgm:cxn modelId="{C685FAFD-9849-4BF5-BEA8-B71F6F02D801}" type="presOf" srcId="{756B6E50-DAA6-4258-8CFD-08932EC6A042}" destId="{809CFCD2-B655-49B2-813A-FC3AB954C543}" srcOrd="0" destOrd="1" presId="urn:microsoft.com/office/officeart/2005/8/layout/vList2"/>
    <dgm:cxn modelId="{E701FA2D-330C-452C-8BBC-A0FB157C3BCF}" type="presOf" srcId="{E3B756AE-C4B7-4780-825A-A51AFB473550}" destId="{809CFCD2-B655-49B2-813A-FC3AB954C543}" srcOrd="0" destOrd="0" presId="urn:microsoft.com/office/officeart/2005/8/layout/vList2"/>
    <dgm:cxn modelId="{6FDEE5EA-46C2-4967-9306-3A22F35C1838}" type="presOf" srcId="{74AC2AD2-64D7-46DD-BC99-4A05B19844CF}" destId="{809CFCD2-B655-49B2-813A-FC3AB954C543}" srcOrd="0" destOrd="3" presId="urn:microsoft.com/office/officeart/2005/8/layout/vList2"/>
    <dgm:cxn modelId="{3B23BBFD-B776-47F9-8264-35E145E9FF88}" srcId="{F36B5F3A-11F2-4156-BAD5-0B8705A3C356}" destId="{756B6E50-DAA6-4258-8CFD-08932EC6A042}" srcOrd="1" destOrd="0" parTransId="{0A8C9D57-8B3B-4037-BD1A-50CD2EC07214}" sibTransId="{0812C184-14D1-49ED-914B-C2CF30278F9D}"/>
    <dgm:cxn modelId="{4781F961-01BA-481C-A01C-066E805EAD47}" type="presOf" srcId="{436236F5-353B-4908-9873-F2992CFD1A9D}" destId="{809CFCD2-B655-49B2-813A-FC3AB954C543}" srcOrd="0" destOrd="2" presId="urn:microsoft.com/office/officeart/2005/8/layout/vList2"/>
    <dgm:cxn modelId="{18258061-3115-4F44-A0FA-791CD2C4757C}" type="presOf" srcId="{994CF1F4-2732-4AB8-8227-C604B16962DD}" destId="{ADC6FB53-26A8-4358-956F-33CD97D623A0}" srcOrd="0" destOrd="0" presId="urn:microsoft.com/office/officeart/2005/8/layout/vList2"/>
    <dgm:cxn modelId="{E3BD2BAD-5079-4626-BE79-62773F5132F7}" type="presOf" srcId="{F36B5F3A-11F2-4156-BAD5-0B8705A3C356}" destId="{1479F760-4FEE-481B-BC43-36695C76BE89}" srcOrd="0" destOrd="0" presId="urn:microsoft.com/office/officeart/2005/8/layout/vList2"/>
    <dgm:cxn modelId="{2975CF2D-23FA-4085-A8E3-32F661D7C64B}" srcId="{994CF1F4-2732-4AB8-8227-C604B16962DD}" destId="{F36B5F3A-11F2-4156-BAD5-0B8705A3C356}" srcOrd="0" destOrd="0" parTransId="{515DE475-4C9A-4233-8D90-FC382D7D8665}" sibTransId="{5DC62304-C072-42AE-9C25-781E99A10EDB}"/>
    <dgm:cxn modelId="{B81222F1-DE9E-4CB9-BE60-6F7BF4B26BA1}" srcId="{F36B5F3A-11F2-4156-BAD5-0B8705A3C356}" destId="{436236F5-353B-4908-9873-F2992CFD1A9D}" srcOrd="2" destOrd="0" parTransId="{BBBC11F3-E89A-4B58-B37B-A1491C4F9B6D}" sibTransId="{025FA84F-6A51-41FB-989A-C1D211D2FE41}"/>
    <dgm:cxn modelId="{E4E4DA5B-4F2A-4F16-B4A8-A09A8BDB2FFE}" type="presParOf" srcId="{ADC6FB53-26A8-4358-956F-33CD97D623A0}" destId="{1479F760-4FEE-481B-BC43-36695C76BE89}" srcOrd="0" destOrd="0" presId="urn:microsoft.com/office/officeart/2005/8/layout/vList2"/>
    <dgm:cxn modelId="{C876D802-A1F4-4CF2-AB85-5128F7C68F67}" type="presParOf" srcId="{ADC6FB53-26A8-4358-956F-33CD97D623A0}" destId="{809CFCD2-B655-49B2-813A-FC3AB954C543}" srcOrd="1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7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994CF1F4-2732-4AB8-8227-C604B16962D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85254C96-526E-467C-8215-23DF49ADA6E7}">
      <dgm:prSet custT="1"/>
      <dgm:spPr/>
      <dgm:t>
        <a:bodyPr/>
        <a:lstStyle/>
        <a:p>
          <a:pPr algn="l" rtl="0"/>
          <a:r>
            <a:rPr lang="en-GB" sz="3200" b="1" dirty="0" smtClean="0"/>
            <a:t>Census planning</a:t>
          </a:r>
          <a:r>
            <a:rPr lang="pl-PL" sz="3200" b="1" dirty="0" smtClean="0"/>
            <a:t> </a:t>
          </a:r>
          <a:br>
            <a:rPr lang="pl-PL" sz="3200" b="1" dirty="0" smtClean="0"/>
          </a:br>
          <a:r>
            <a:rPr lang="en-US" sz="2800" b="1" noProof="0" dirty="0" smtClean="0">
              <a:solidFill>
                <a:srgbClr val="FF3300"/>
              </a:solidFill>
            </a:rPr>
            <a:t>Quality aspects: </a:t>
          </a:r>
          <a:r>
            <a:rPr lang="en-US" sz="2800" b="1" noProof="0" dirty="0" smtClean="0">
              <a:solidFill>
                <a:srgbClr val="FFFF00"/>
              </a:solidFill>
            </a:rPr>
            <a:t>relevance, accuracy, costs including the burden on respondents, information security</a:t>
          </a:r>
          <a:endParaRPr lang="en-US" sz="2800" noProof="0" dirty="0">
            <a:solidFill>
              <a:srgbClr val="FFFF00"/>
            </a:solidFill>
          </a:endParaRPr>
        </a:p>
      </dgm:t>
    </dgm:pt>
    <dgm:pt modelId="{56F792A5-83DE-42C7-8300-7623CB492B2B}" type="parTrans" cxnId="{56479F06-31A1-4119-B85A-4A4DCD8E26C9}">
      <dgm:prSet/>
      <dgm:spPr/>
      <dgm:t>
        <a:bodyPr/>
        <a:lstStyle/>
        <a:p>
          <a:endParaRPr lang="pl-PL"/>
        </a:p>
      </dgm:t>
    </dgm:pt>
    <dgm:pt modelId="{BB18EFB1-AAB8-4515-90C2-1F1549C665BA}" type="sibTrans" cxnId="{56479F06-31A1-4119-B85A-4A4DCD8E26C9}">
      <dgm:prSet/>
      <dgm:spPr/>
      <dgm:t>
        <a:bodyPr/>
        <a:lstStyle/>
        <a:p>
          <a:endParaRPr lang="pl-PL"/>
        </a:p>
      </dgm:t>
    </dgm:pt>
    <dgm:pt modelId="{571DB22D-EE67-47DB-8600-21F7630EAF5D}">
      <dgm:prSet custT="1"/>
      <dgm:spPr/>
      <dgm:t>
        <a:bodyPr/>
        <a:lstStyle/>
        <a:p>
          <a:r>
            <a:rPr lang="en-US" sz="2400" b="1" noProof="0" dirty="0" smtClean="0"/>
            <a:t>Determining the data scope defined in Act including:</a:t>
          </a:r>
          <a:endParaRPr lang="en-US" sz="2400" noProof="0" dirty="0"/>
        </a:p>
      </dgm:t>
    </dgm:pt>
    <dgm:pt modelId="{0C4C8F57-AB99-4529-AAB5-89B1260E6475}" type="parTrans" cxnId="{9C7D2BBE-F870-4D03-A058-4EC66BCAC1A6}">
      <dgm:prSet/>
      <dgm:spPr/>
      <dgm:t>
        <a:bodyPr/>
        <a:lstStyle/>
        <a:p>
          <a:endParaRPr lang="pl-PL"/>
        </a:p>
      </dgm:t>
    </dgm:pt>
    <dgm:pt modelId="{84151E81-FF2E-487A-8F00-E5B8CBCE94C0}" type="sibTrans" cxnId="{9C7D2BBE-F870-4D03-A058-4EC66BCAC1A6}">
      <dgm:prSet/>
      <dgm:spPr/>
      <dgm:t>
        <a:bodyPr/>
        <a:lstStyle/>
        <a:p>
          <a:endParaRPr lang="pl-PL"/>
        </a:p>
      </dgm:t>
    </dgm:pt>
    <dgm:pt modelId="{DFFD34CE-E6DD-4FEC-8740-D71CA2154536}">
      <dgm:prSet custT="1"/>
      <dgm:spPr/>
      <dgm:t>
        <a:bodyPr/>
        <a:lstStyle/>
        <a:p>
          <a:r>
            <a:rPr lang="en-US" sz="2400" b="1" noProof="0" dirty="0" smtClean="0"/>
            <a:t>Quality of data source,</a:t>
          </a:r>
          <a:endParaRPr lang="en-US" sz="2400" noProof="0" dirty="0"/>
        </a:p>
      </dgm:t>
    </dgm:pt>
    <dgm:pt modelId="{DCDB26A4-DFCB-4515-9EC0-1D863D9F79EF}" type="parTrans" cxnId="{574BDF60-0912-4D8B-8260-F0F68C20A658}">
      <dgm:prSet/>
      <dgm:spPr/>
      <dgm:t>
        <a:bodyPr/>
        <a:lstStyle/>
        <a:p>
          <a:endParaRPr lang="pl-PL"/>
        </a:p>
      </dgm:t>
    </dgm:pt>
    <dgm:pt modelId="{CC8EA912-250F-41EB-A6E6-F6057CBE8846}" type="sibTrans" cxnId="{574BDF60-0912-4D8B-8260-F0F68C20A658}">
      <dgm:prSet/>
      <dgm:spPr/>
      <dgm:t>
        <a:bodyPr/>
        <a:lstStyle/>
        <a:p>
          <a:endParaRPr lang="pl-PL"/>
        </a:p>
      </dgm:t>
    </dgm:pt>
    <dgm:pt modelId="{89F1CD99-31D9-4A06-8B6C-7668C7CE6AB8}">
      <dgm:prSet custT="1"/>
      <dgm:spPr/>
      <dgm:t>
        <a:bodyPr/>
        <a:lstStyle/>
        <a:p>
          <a:r>
            <a:rPr lang="en-US" sz="2400" b="1" noProof="0" dirty="0" smtClean="0"/>
            <a:t>Coherence and comparability of results from census 2011 and 2002,</a:t>
          </a:r>
          <a:endParaRPr lang="en-US" sz="2400" noProof="0" dirty="0"/>
        </a:p>
      </dgm:t>
    </dgm:pt>
    <dgm:pt modelId="{EE688637-FDFC-4FFE-AC35-0CAF7C779A21}" type="parTrans" cxnId="{FF7C85D5-87E4-4A89-88DC-D91098F761F7}">
      <dgm:prSet/>
      <dgm:spPr/>
      <dgm:t>
        <a:bodyPr/>
        <a:lstStyle/>
        <a:p>
          <a:endParaRPr lang="pl-PL"/>
        </a:p>
      </dgm:t>
    </dgm:pt>
    <dgm:pt modelId="{81EB88C3-16BE-45DF-B7DD-507AC02C8F0C}" type="sibTrans" cxnId="{FF7C85D5-87E4-4A89-88DC-D91098F761F7}">
      <dgm:prSet/>
      <dgm:spPr/>
      <dgm:t>
        <a:bodyPr/>
        <a:lstStyle/>
        <a:p>
          <a:endParaRPr lang="pl-PL"/>
        </a:p>
      </dgm:t>
    </dgm:pt>
    <dgm:pt modelId="{32F43493-B90C-4517-B016-A6E65E248531}">
      <dgm:prSet custT="1"/>
      <dgm:spPr/>
      <dgm:t>
        <a:bodyPr/>
        <a:lstStyle/>
        <a:p>
          <a:r>
            <a:rPr lang="en-US" sz="2400" b="1" noProof="0" dirty="0" smtClean="0"/>
            <a:t>Compliance with needs of domestic and EU users,</a:t>
          </a:r>
          <a:endParaRPr lang="en-US" sz="2400" noProof="0" dirty="0"/>
        </a:p>
      </dgm:t>
    </dgm:pt>
    <dgm:pt modelId="{2C67AAC4-BD26-4396-9BF2-D453E4EEC99E}" type="parTrans" cxnId="{FDA83BCB-FA89-4812-A497-EFC68DE90F9C}">
      <dgm:prSet/>
      <dgm:spPr/>
      <dgm:t>
        <a:bodyPr/>
        <a:lstStyle/>
        <a:p>
          <a:endParaRPr lang="pl-PL"/>
        </a:p>
      </dgm:t>
    </dgm:pt>
    <dgm:pt modelId="{35446713-A889-4AA8-A65F-85C5AF5C4117}" type="sibTrans" cxnId="{FDA83BCB-FA89-4812-A497-EFC68DE90F9C}">
      <dgm:prSet/>
      <dgm:spPr/>
      <dgm:t>
        <a:bodyPr/>
        <a:lstStyle/>
        <a:p>
          <a:endParaRPr lang="pl-PL"/>
        </a:p>
      </dgm:t>
    </dgm:pt>
    <dgm:pt modelId="{ADC6FB53-26A8-4358-956F-33CD97D623A0}" type="pres">
      <dgm:prSet presAssocID="{994CF1F4-2732-4AB8-8227-C604B16962D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748FD6B1-5284-4A35-BE66-DF23DE258E16}" type="pres">
      <dgm:prSet presAssocID="{85254C96-526E-467C-8215-23DF49ADA6E7}" presName="parentText" presStyleLbl="node1" presStyleIdx="0" presStyleCnt="1" custLinFactNeighborX="126" custLinFactNeighborY="1752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30260CF6-4D9C-4193-B208-91D5CEDD28C2}" type="pres">
      <dgm:prSet presAssocID="{85254C96-526E-467C-8215-23DF49ADA6E7}" presName="childText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5898B695-6D2B-494B-8D19-2D92AC49D456}" type="presOf" srcId="{571DB22D-EE67-47DB-8600-21F7630EAF5D}" destId="{30260CF6-4D9C-4193-B208-91D5CEDD28C2}" srcOrd="0" destOrd="0" presId="urn:microsoft.com/office/officeart/2005/8/layout/vList2"/>
    <dgm:cxn modelId="{B6AB28D6-F8B8-42DD-8FE8-76BA2A8F6899}" type="presOf" srcId="{994CF1F4-2732-4AB8-8227-C604B16962DD}" destId="{ADC6FB53-26A8-4358-956F-33CD97D623A0}" srcOrd="0" destOrd="0" presId="urn:microsoft.com/office/officeart/2005/8/layout/vList2"/>
    <dgm:cxn modelId="{FDA83BCB-FA89-4812-A497-EFC68DE90F9C}" srcId="{571DB22D-EE67-47DB-8600-21F7630EAF5D}" destId="{32F43493-B90C-4517-B016-A6E65E248531}" srcOrd="0" destOrd="0" parTransId="{2C67AAC4-BD26-4396-9BF2-D453E4EEC99E}" sibTransId="{35446713-A889-4AA8-A65F-85C5AF5C4117}"/>
    <dgm:cxn modelId="{B9D164C3-0232-4494-8C75-7FBD9181ED2B}" type="presOf" srcId="{DFFD34CE-E6DD-4FEC-8740-D71CA2154536}" destId="{30260CF6-4D9C-4193-B208-91D5CEDD28C2}" srcOrd="0" destOrd="2" presId="urn:microsoft.com/office/officeart/2005/8/layout/vList2"/>
    <dgm:cxn modelId="{FF7C85D5-87E4-4A89-88DC-D91098F761F7}" srcId="{571DB22D-EE67-47DB-8600-21F7630EAF5D}" destId="{89F1CD99-31D9-4A06-8B6C-7668C7CE6AB8}" srcOrd="2" destOrd="0" parTransId="{EE688637-FDFC-4FFE-AC35-0CAF7C779A21}" sibTransId="{81EB88C3-16BE-45DF-B7DD-507AC02C8F0C}"/>
    <dgm:cxn modelId="{9A098B34-3392-4D86-970C-C57DF485A6AD}" type="presOf" srcId="{89F1CD99-31D9-4A06-8B6C-7668C7CE6AB8}" destId="{30260CF6-4D9C-4193-B208-91D5CEDD28C2}" srcOrd="0" destOrd="3" presId="urn:microsoft.com/office/officeart/2005/8/layout/vList2"/>
    <dgm:cxn modelId="{574BDF60-0912-4D8B-8260-F0F68C20A658}" srcId="{571DB22D-EE67-47DB-8600-21F7630EAF5D}" destId="{DFFD34CE-E6DD-4FEC-8740-D71CA2154536}" srcOrd="1" destOrd="0" parTransId="{DCDB26A4-DFCB-4515-9EC0-1D863D9F79EF}" sibTransId="{CC8EA912-250F-41EB-A6E6-F6057CBE8846}"/>
    <dgm:cxn modelId="{56479F06-31A1-4119-B85A-4A4DCD8E26C9}" srcId="{994CF1F4-2732-4AB8-8227-C604B16962DD}" destId="{85254C96-526E-467C-8215-23DF49ADA6E7}" srcOrd="0" destOrd="0" parTransId="{56F792A5-83DE-42C7-8300-7623CB492B2B}" sibTransId="{BB18EFB1-AAB8-4515-90C2-1F1549C665BA}"/>
    <dgm:cxn modelId="{61F67145-F33A-4204-A036-BCB697F0AEBB}" type="presOf" srcId="{85254C96-526E-467C-8215-23DF49ADA6E7}" destId="{748FD6B1-5284-4A35-BE66-DF23DE258E16}" srcOrd="0" destOrd="0" presId="urn:microsoft.com/office/officeart/2005/8/layout/vList2"/>
    <dgm:cxn modelId="{A2AD9BE1-96B6-45AD-B2C9-EE4055904371}" type="presOf" srcId="{32F43493-B90C-4517-B016-A6E65E248531}" destId="{30260CF6-4D9C-4193-B208-91D5CEDD28C2}" srcOrd="0" destOrd="1" presId="urn:microsoft.com/office/officeart/2005/8/layout/vList2"/>
    <dgm:cxn modelId="{9C7D2BBE-F870-4D03-A058-4EC66BCAC1A6}" srcId="{85254C96-526E-467C-8215-23DF49ADA6E7}" destId="{571DB22D-EE67-47DB-8600-21F7630EAF5D}" srcOrd="0" destOrd="0" parTransId="{0C4C8F57-AB99-4529-AAB5-89B1260E6475}" sibTransId="{84151E81-FF2E-487A-8F00-E5B8CBCE94C0}"/>
    <dgm:cxn modelId="{4C6CAFC7-0985-4F79-AEE0-92CDD5C6377D}" type="presParOf" srcId="{ADC6FB53-26A8-4358-956F-33CD97D623A0}" destId="{748FD6B1-5284-4A35-BE66-DF23DE258E16}" srcOrd="0" destOrd="0" presId="urn:microsoft.com/office/officeart/2005/8/layout/vList2"/>
    <dgm:cxn modelId="{AD0E3E22-C612-4718-949E-B872E238FA6F}" type="presParOf" srcId="{ADC6FB53-26A8-4358-956F-33CD97D623A0}" destId="{30260CF6-4D9C-4193-B208-91D5CEDD28C2}" srcOrd="1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0.xml><?xml version="1.0" encoding="utf-8"?>
<dgm:dataModel xmlns:dgm="http://schemas.openxmlformats.org/drawingml/2006/diagram" xmlns:a="http://schemas.openxmlformats.org/drawingml/2006/main">
  <dgm:ptLst>
    <dgm:pt modelId="{3594FF3A-B37C-4572-9A2A-71BF48FD49CC}" type="doc">
      <dgm:prSet loTypeId="urn:microsoft.com/office/officeart/2005/8/layout/hierarchy4" loCatId="list" qsTypeId="urn:microsoft.com/office/officeart/2005/8/quickstyle/simple2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CA969B1A-E26B-44B1-9CA6-1E7A003194F9}">
      <dgm:prSet phldrT="[Tekst]"/>
      <dgm:spPr/>
      <dgm:t>
        <a:bodyPr/>
        <a:lstStyle/>
        <a:p>
          <a:r>
            <a:rPr lang="pl-PL" dirty="0" err="1" smtClean="0"/>
            <a:t>Metainformation</a:t>
          </a:r>
          <a:endParaRPr lang="pl-PL" dirty="0"/>
        </a:p>
      </dgm:t>
    </dgm:pt>
    <dgm:pt modelId="{8D28D3D8-31F3-49C6-80B1-834D8464B66C}" type="parTrans" cxnId="{61C6F45B-3990-48F7-BFE2-57EFC26F46A4}">
      <dgm:prSet/>
      <dgm:spPr/>
      <dgm:t>
        <a:bodyPr/>
        <a:lstStyle/>
        <a:p>
          <a:endParaRPr lang="pl-PL"/>
        </a:p>
      </dgm:t>
    </dgm:pt>
    <dgm:pt modelId="{9A562D64-80BF-499D-A4B5-F67D1DC059B4}" type="sibTrans" cxnId="{61C6F45B-3990-48F7-BFE2-57EFC26F46A4}">
      <dgm:prSet/>
      <dgm:spPr/>
      <dgm:t>
        <a:bodyPr/>
        <a:lstStyle/>
        <a:p>
          <a:endParaRPr lang="pl-PL"/>
        </a:p>
      </dgm:t>
    </dgm:pt>
    <dgm:pt modelId="{16C3A5F1-9F8A-4B45-ADDD-52EFFACE2404}">
      <dgm:prSet phldrT="[Tekst]"/>
      <dgm:spPr>
        <a:solidFill>
          <a:srgbClr val="92D050"/>
        </a:solidFill>
      </dgm:spPr>
      <dgm:t>
        <a:bodyPr/>
        <a:lstStyle/>
        <a:p>
          <a:r>
            <a:rPr lang="pl-PL" dirty="0" smtClean="0"/>
            <a:t>Bussines</a:t>
          </a:r>
          <a:endParaRPr lang="pl-PL" dirty="0"/>
        </a:p>
      </dgm:t>
    </dgm:pt>
    <dgm:pt modelId="{44A23BC5-1084-4C66-961F-197B0A086C87}" type="parTrans" cxnId="{864069FA-4568-49ED-895C-B14C07114C26}">
      <dgm:prSet/>
      <dgm:spPr/>
      <dgm:t>
        <a:bodyPr/>
        <a:lstStyle/>
        <a:p>
          <a:endParaRPr lang="pl-PL"/>
        </a:p>
      </dgm:t>
    </dgm:pt>
    <dgm:pt modelId="{8EF4BA2C-3EC3-48D1-AAE5-38330867EF49}" type="sibTrans" cxnId="{864069FA-4568-49ED-895C-B14C07114C26}">
      <dgm:prSet/>
      <dgm:spPr/>
      <dgm:t>
        <a:bodyPr/>
        <a:lstStyle/>
        <a:p>
          <a:endParaRPr lang="pl-PL"/>
        </a:p>
      </dgm:t>
    </dgm:pt>
    <dgm:pt modelId="{23DEB03F-4680-4420-9AFD-E3C5474E809A}">
      <dgm:prSet phldrT="[Tekst]"/>
      <dgm:spPr>
        <a:solidFill>
          <a:schemeClr val="accent4">
            <a:lumMod val="75000"/>
          </a:schemeClr>
        </a:solidFill>
      </dgm:spPr>
      <dgm:t>
        <a:bodyPr/>
        <a:lstStyle/>
        <a:p>
          <a:r>
            <a:rPr lang="pl-PL" dirty="0" err="1" smtClean="0"/>
            <a:t>Referencial</a:t>
          </a:r>
          <a:endParaRPr lang="pl-PL" dirty="0"/>
        </a:p>
      </dgm:t>
    </dgm:pt>
    <dgm:pt modelId="{26956FEA-7401-48FF-8CE5-950E30AC42E4}" type="parTrans" cxnId="{F68507F2-13E6-4688-A0DD-A6B7EB7A2FB0}">
      <dgm:prSet/>
      <dgm:spPr/>
      <dgm:t>
        <a:bodyPr/>
        <a:lstStyle/>
        <a:p>
          <a:endParaRPr lang="pl-PL"/>
        </a:p>
      </dgm:t>
    </dgm:pt>
    <dgm:pt modelId="{1F194E2B-70EC-48B4-AF7C-734D5C06110D}" type="sibTrans" cxnId="{F68507F2-13E6-4688-A0DD-A6B7EB7A2FB0}">
      <dgm:prSet/>
      <dgm:spPr/>
      <dgm:t>
        <a:bodyPr/>
        <a:lstStyle/>
        <a:p>
          <a:endParaRPr lang="pl-PL"/>
        </a:p>
      </dgm:t>
    </dgm:pt>
    <dgm:pt modelId="{B1480876-BF90-444C-B2FA-6C02E7B89B0B}">
      <dgm:prSet phldrT="[Tekst]"/>
      <dgm:spPr>
        <a:solidFill>
          <a:srgbClr val="92D050"/>
        </a:solidFill>
      </dgm:spPr>
      <dgm:t>
        <a:bodyPr/>
        <a:lstStyle/>
        <a:p>
          <a:r>
            <a:rPr lang="pl-PL" dirty="0" err="1" smtClean="0"/>
            <a:t>Technical</a:t>
          </a:r>
          <a:endParaRPr lang="pl-PL" dirty="0"/>
        </a:p>
      </dgm:t>
    </dgm:pt>
    <dgm:pt modelId="{09841234-505C-4573-9695-264987420EAE}" type="parTrans" cxnId="{B98C9715-978F-4327-836D-138C8DB15E1F}">
      <dgm:prSet/>
      <dgm:spPr/>
      <dgm:t>
        <a:bodyPr/>
        <a:lstStyle/>
        <a:p>
          <a:endParaRPr lang="pl-PL"/>
        </a:p>
      </dgm:t>
    </dgm:pt>
    <dgm:pt modelId="{0514A724-A1B6-4714-8D74-1429E91ED56F}" type="sibTrans" cxnId="{B98C9715-978F-4327-836D-138C8DB15E1F}">
      <dgm:prSet/>
      <dgm:spPr/>
      <dgm:t>
        <a:bodyPr/>
        <a:lstStyle/>
        <a:p>
          <a:endParaRPr lang="pl-PL"/>
        </a:p>
      </dgm:t>
    </dgm:pt>
    <dgm:pt modelId="{B9F3118D-2508-46D9-B699-FCB190A1EE85}">
      <dgm:prSet phldrT="[Tekst]"/>
      <dgm:spPr>
        <a:solidFill>
          <a:schemeClr val="accent4">
            <a:lumMod val="75000"/>
          </a:schemeClr>
        </a:solidFill>
      </dgm:spPr>
      <dgm:t>
        <a:bodyPr/>
        <a:lstStyle/>
        <a:p>
          <a:r>
            <a:rPr lang="pl-PL" dirty="0" smtClean="0"/>
            <a:t>System</a:t>
          </a:r>
          <a:endParaRPr lang="pl-PL" dirty="0"/>
        </a:p>
      </dgm:t>
    </dgm:pt>
    <dgm:pt modelId="{DBCB2424-E2F2-40E7-9D5C-76156BDD5899}" type="parTrans" cxnId="{CE2204CB-AEC5-44DD-80D1-F0F3618C4B8A}">
      <dgm:prSet/>
      <dgm:spPr/>
      <dgm:t>
        <a:bodyPr/>
        <a:lstStyle/>
        <a:p>
          <a:endParaRPr lang="pl-PL"/>
        </a:p>
      </dgm:t>
    </dgm:pt>
    <dgm:pt modelId="{76830C43-8FB9-40C0-9DAD-2FD428EBDC2E}" type="sibTrans" cxnId="{CE2204CB-AEC5-44DD-80D1-F0F3618C4B8A}">
      <dgm:prSet/>
      <dgm:spPr/>
      <dgm:t>
        <a:bodyPr/>
        <a:lstStyle/>
        <a:p>
          <a:endParaRPr lang="pl-PL"/>
        </a:p>
      </dgm:t>
    </dgm:pt>
    <dgm:pt modelId="{5E808564-9AC9-47F1-AF02-C96897B5AF17}">
      <dgm:prSet phldrT="[Tekst]"/>
      <dgm:spPr>
        <a:solidFill>
          <a:schemeClr val="accent5">
            <a:lumMod val="50000"/>
          </a:schemeClr>
        </a:solidFill>
      </dgm:spPr>
      <dgm:t>
        <a:bodyPr/>
        <a:lstStyle/>
        <a:p>
          <a:r>
            <a:rPr lang="pl-PL" dirty="0" err="1" smtClean="0"/>
            <a:t>Conceptual</a:t>
          </a:r>
          <a:endParaRPr lang="pl-PL" dirty="0"/>
        </a:p>
      </dgm:t>
    </dgm:pt>
    <dgm:pt modelId="{97B2544E-A67E-4BFC-BA9C-2926A93EA37D}" type="parTrans" cxnId="{AA218A7B-C5B5-42F6-AEE7-B903EB4C75FD}">
      <dgm:prSet/>
      <dgm:spPr/>
      <dgm:t>
        <a:bodyPr/>
        <a:lstStyle/>
        <a:p>
          <a:endParaRPr lang="pl-PL"/>
        </a:p>
      </dgm:t>
    </dgm:pt>
    <dgm:pt modelId="{82BD05D8-F650-4657-AF2B-A95804FCCD3A}" type="sibTrans" cxnId="{AA218A7B-C5B5-42F6-AEE7-B903EB4C75FD}">
      <dgm:prSet/>
      <dgm:spPr/>
      <dgm:t>
        <a:bodyPr/>
        <a:lstStyle/>
        <a:p>
          <a:endParaRPr lang="pl-PL"/>
        </a:p>
      </dgm:t>
    </dgm:pt>
    <dgm:pt modelId="{00FDB6AD-F567-442F-88B8-D967B45750F8}">
      <dgm:prSet phldrT="[Tekst]"/>
      <dgm:spPr>
        <a:solidFill>
          <a:schemeClr val="accent5">
            <a:lumMod val="50000"/>
          </a:schemeClr>
        </a:solidFill>
      </dgm:spPr>
      <dgm:t>
        <a:bodyPr/>
        <a:lstStyle/>
        <a:p>
          <a:r>
            <a:rPr lang="pl-PL" dirty="0" err="1" smtClean="0"/>
            <a:t>Methodical</a:t>
          </a:r>
          <a:endParaRPr lang="pl-PL" dirty="0"/>
        </a:p>
      </dgm:t>
    </dgm:pt>
    <dgm:pt modelId="{C32F3761-C399-4CCD-B196-745A524FF8C1}" type="parTrans" cxnId="{32789895-6199-415A-AD00-0132DD5C40D6}">
      <dgm:prSet/>
      <dgm:spPr/>
      <dgm:t>
        <a:bodyPr/>
        <a:lstStyle/>
        <a:p>
          <a:endParaRPr lang="pl-PL"/>
        </a:p>
      </dgm:t>
    </dgm:pt>
    <dgm:pt modelId="{1B124942-046D-41B4-B840-D8B705ABAF41}" type="sibTrans" cxnId="{32789895-6199-415A-AD00-0132DD5C40D6}">
      <dgm:prSet/>
      <dgm:spPr/>
      <dgm:t>
        <a:bodyPr/>
        <a:lstStyle/>
        <a:p>
          <a:endParaRPr lang="pl-PL"/>
        </a:p>
      </dgm:t>
    </dgm:pt>
    <dgm:pt modelId="{694E85DF-8428-44D7-94F8-3000F74BB732}">
      <dgm:prSet phldrT="[Tekst]"/>
      <dgm:spPr>
        <a:solidFill>
          <a:schemeClr val="accent5">
            <a:lumMod val="50000"/>
          </a:schemeClr>
        </a:solidFill>
      </dgm:spPr>
      <dgm:t>
        <a:bodyPr/>
        <a:lstStyle/>
        <a:p>
          <a:r>
            <a:rPr lang="pl-PL" dirty="0" err="1" smtClean="0"/>
            <a:t>Quality</a:t>
          </a:r>
          <a:endParaRPr lang="pl-PL" dirty="0"/>
        </a:p>
      </dgm:t>
    </dgm:pt>
    <dgm:pt modelId="{CCCE72B4-F014-4AFB-A6BD-459F076790B4}" type="parTrans" cxnId="{27064B4E-3B16-479B-A3BC-44C7C1FDB205}">
      <dgm:prSet/>
      <dgm:spPr/>
      <dgm:t>
        <a:bodyPr/>
        <a:lstStyle/>
        <a:p>
          <a:endParaRPr lang="pl-PL"/>
        </a:p>
      </dgm:t>
    </dgm:pt>
    <dgm:pt modelId="{ABC5F23D-9156-4E72-A316-79881037FC2D}" type="sibTrans" cxnId="{27064B4E-3B16-479B-A3BC-44C7C1FDB205}">
      <dgm:prSet/>
      <dgm:spPr/>
      <dgm:t>
        <a:bodyPr/>
        <a:lstStyle/>
        <a:p>
          <a:endParaRPr lang="pl-PL"/>
        </a:p>
      </dgm:t>
    </dgm:pt>
    <dgm:pt modelId="{895C5EAE-1058-45CF-80B8-B8F3A9CAC6A7}">
      <dgm:prSet phldrT="[Tekst]"/>
      <dgm:spPr>
        <a:solidFill>
          <a:schemeClr val="accent4">
            <a:lumMod val="75000"/>
          </a:schemeClr>
        </a:solidFill>
      </dgm:spPr>
      <dgm:t>
        <a:bodyPr/>
        <a:lstStyle/>
        <a:p>
          <a:r>
            <a:rPr lang="pl-PL" dirty="0" err="1" smtClean="0"/>
            <a:t>Structural</a:t>
          </a:r>
          <a:endParaRPr lang="pl-PL" dirty="0"/>
        </a:p>
      </dgm:t>
    </dgm:pt>
    <dgm:pt modelId="{5BA50164-98FA-4EB0-ACB0-1811B959A84E}" type="parTrans" cxnId="{1704E13B-E84F-4E36-BEA4-DAEB9A681830}">
      <dgm:prSet/>
      <dgm:spPr/>
      <dgm:t>
        <a:bodyPr/>
        <a:lstStyle/>
        <a:p>
          <a:endParaRPr lang="pl-PL"/>
        </a:p>
      </dgm:t>
    </dgm:pt>
    <dgm:pt modelId="{4E664BB7-3040-45BF-A96E-0C436123950F}" type="sibTrans" cxnId="{1704E13B-E84F-4E36-BEA4-DAEB9A681830}">
      <dgm:prSet/>
      <dgm:spPr/>
      <dgm:t>
        <a:bodyPr/>
        <a:lstStyle/>
        <a:p>
          <a:endParaRPr lang="pl-PL"/>
        </a:p>
      </dgm:t>
    </dgm:pt>
    <dgm:pt modelId="{7CB3CCAB-8E96-4708-BFD0-9FF06F3A1F78}">
      <dgm:prSet phldrT="[Tekst]" custT="1"/>
      <dgm:spPr>
        <a:solidFill>
          <a:schemeClr val="accent1">
            <a:lumMod val="60000"/>
            <a:lumOff val="40000"/>
          </a:schemeClr>
        </a:solidFill>
      </dgm:spPr>
      <dgm:t>
        <a:bodyPr/>
        <a:lstStyle/>
        <a:p>
          <a:r>
            <a:rPr lang="pl-PL" sz="1600" dirty="0" err="1" smtClean="0"/>
            <a:t>Definition</a:t>
          </a:r>
          <a:endParaRPr lang="pl-PL" sz="1600" dirty="0"/>
        </a:p>
      </dgm:t>
    </dgm:pt>
    <dgm:pt modelId="{1052A87D-D3B5-4751-83F0-2418CF2B808D}" type="parTrans" cxnId="{8C0AEB05-CC50-420B-A23B-5B4514251375}">
      <dgm:prSet/>
      <dgm:spPr/>
      <dgm:t>
        <a:bodyPr/>
        <a:lstStyle/>
        <a:p>
          <a:endParaRPr lang="pl-PL"/>
        </a:p>
      </dgm:t>
    </dgm:pt>
    <dgm:pt modelId="{3DACF3D8-22DF-4059-8E62-09B56D2C505F}" type="sibTrans" cxnId="{8C0AEB05-CC50-420B-A23B-5B4514251375}">
      <dgm:prSet/>
      <dgm:spPr/>
      <dgm:t>
        <a:bodyPr/>
        <a:lstStyle/>
        <a:p>
          <a:endParaRPr lang="pl-PL"/>
        </a:p>
      </dgm:t>
    </dgm:pt>
    <dgm:pt modelId="{47052517-3D07-4A36-820B-5A6EA51C347A}">
      <dgm:prSet phldrT="[Tekst]" custT="1"/>
      <dgm:spPr>
        <a:solidFill>
          <a:schemeClr val="accent1">
            <a:lumMod val="60000"/>
            <a:lumOff val="40000"/>
          </a:schemeClr>
        </a:solidFill>
      </dgm:spPr>
      <dgm:t>
        <a:bodyPr/>
        <a:lstStyle/>
        <a:p>
          <a:r>
            <a:rPr lang="pl-PL" sz="1400" i="0" dirty="0" err="1" smtClean="0"/>
            <a:t>Postprocessing</a:t>
          </a:r>
          <a:endParaRPr lang="pl-PL" sz="1400" i="0" dirty="0"/>
        </a:p>
      </dgm:t>
    </dgm:pt>
    <dgm:pt modelId="{0BE24653-EBEF-42F8-B367-53B1493FFCC5}" type="parTrans" cxnId="{260EB204-7B51-4AA3-A612-0F99FAD0DA13}">
      <dgm:prSet/>
      <dgm:spPr/>
      <dgm:t>
        <a:bodyPr/>
        <a:lstStyle/>
        <a:p>
          <a:endParaRPr lang="pl-PL"/>
        </a:p>
      </dgm:t>
    </dgm:pt>
    <dgm:pt modelId="{44A86788-D54D-4640-8364-90C7B675427A}" type="sibTrans" cxnId="{260EB204-7B51-4AA3-A612-0F99FAD0DA13}">
      <dgm:prSet/>
      <dgm:spPr/>
      <dgm:t>
        <a:bodyPr/>
        <a:lstStyle/>
        <a:p>
          <a:endParaRPr lang="pl-PL"/>
        </a:p>
      </dgm:t>
    </dgm:pt>
    <dgm:pt modelId="{615F7C14-3132-4212-BB9D-552E543E6BD6}" type="pres">
      <dgm:prSet presAssocID="{3594FF3A-B37C-4572-9A2A-71BF48FD49CC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pl-PL"/>
        </a:p>
      </dgm:t>
    </dgm:pt>
    <dgm:pt modelId="{C3101359-168A-4238-B915-DD4CC3343A50}" type="pres">
      <dgm:prSet presAssocID="{CA969B1A-E26B-44B1-9CA6-1E7A003194F9}" presName="vertOne" presStyleCnt="0"/>
      <dgm:spPr/>
    </dgm:pt>
    <dgm:pt modelId="{5234F537-BDDF-4A54-9EE9-3249BF562FDB}" type="pres">
      <dgm:prSet presAssocID="{CA969B1A-E26B-44B1-9CA6-1E7A003194F9}" presName="txOne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pl-PL"/>
        </a:p>
      </dgm:t>
    </dgm:pt>
    <dgm:pt modelId="{4AAB889A-3ED1-43BD-B7E5-D5689090C110}" type="pres">
      <dgm:prSet presAssocID="{CA969B1A-E26B-44B1-9CA6-1E7A003194F9}" presName="parTransOne" presStyleCnt="0"/>
      <dgm:spPr/>
    </dgm:pt>
    <dgm:pt modelId="{C37D64D0-854E-4C32-AF8B-69DE06AE658A}" type="pres">
      <dgm:prSet presAssocID="{CA969B1A-E26B-44B1-9CA6-1E7A003194F9}" presName="horzOne" presStyleCnt="0"/>
      <dgm:spPr/>
    </dgm:pt>
    <dgm:pt modelId="{E04307D1-8FC4-473D-8EBD-3DCF3998D4F8}" type="pres">
      <dgm:prSet presAssocID="{7CB3CCAB-8E96-4708-BFD0-9FF06F3A1F78}" presName="vertTwo" presStyleCnt="0"/>
      <dgm:spPr/>
    </dgm:pt>
    <dgm:pt modelId="{7079E0AE-EFEE-4D40-AE19-8BB31FE4AF7D}" type="pres">
      <dgm:prSet presAssocID="{7CB3CCAB-8E96-4708-BFD0-9FF06F3A1F78}" presName="txTwo" presStyleLbl="node2" presStyleIdx="0" presStyleCnt="2">
        <dgm:presLayoutVars>
          <dgm:chPref val="3"/>
        </dgm:presLayoutVars>
      </dgm:prSet>
      <dgm:spPr/>
      <dgm:t>
        <a:bodyPr/>
        <a:lstStyle/>
        <a:p>
          <a:endParaRPr lang="pl-PL"/>
        </a:p>
      </dgm:t>
    </dgm:pt>
    <dgm:pt modelId="{5868EC24-59D9-4B3B-B881-1D2285193FF8}" type="pres">
      <dgm:prSet presAssocID="{7CB3CCAB-8E96-4708-BFD0-9FF06F3A1F78}" presName="parTransTwo" presStyleCnt="0"/>
      <dgm:spPr/>
    </dgm:pt>
    <dgm:pt modelId="{8D8FF5A6-57A5-49A6-B59C-DDEEC62EF38F}" type="pres">
      <dgm:prSet presAssocID="{7CB3CCAB-8E96-4708-BFD0-9FF06F3A1F78}" presName="horzTwo" presStyleCnt="0"/>
      <dgm:spPr/>
    </dgm:pt>
    <dgm:pt modelId="{92E91886-D6DD-46B0-88A7-E4F3E56A8407}" type="pres">
      <dgm:prSet presAssocID="{16C3A5F1-9F8A-4B45-ADDD-52EFFACE2404}" presName="vertThree" presStyleCnt="0"/>
      <dgm:spPr/>
    </dgm:pt>
    <dgm:pt modelId="{902E6AB6-EBD1-4EF5-BBB0-7048A2B3365A}" type="pres">
      <dgm:prSet presAssocID="{16C3A5F1-9F8A-4B45-ADDD-52EFFACE2404}" presName="txThree" presStyleLbl="node3" presStyleIdx="0" presStyleCnt="2">
        <dgm:presLayoutVars>
          <dgm:chPref val="3"/>
        </dgm:presLayoutVars>
      </dgm:prSet>
      <dgm:spPr/>
      <dgm:t>
        <a:bodyPr/>
        <a:lstStyle/>
        <a:p>
          <a:endParaRPr lang="pl-PL"/>
        </a:p>
      </dgm:t>
    </dgm:pt>
    <dgm:pt modelId="{BB1B1DF3-4614-48AC-805A-4B6522EF1DFF}" type="pres">
      <dgm:prSet presAssocID="{16C3A5F1-9F8A-4B45-ADDD-52EFFACE2404}" presName="parTransThree" presStyleCnt="0"/>
      <dgm:spPr/>
    </dgm:pt>
    <dgm:pt modelId="{6215F0DD-F591-480C-AA09-220D833990A7}" type="pres">
      <dgm:prSet presAssocID="{16C3A5F1-9F8A-4B45-ADDD-52EFFACE2404}" presName="horzThree" presStyleCnt="0"/>
      <dgm:spPr/>
    </dgm:pt>
    <dgm:pt modelId="{3515B427-EB99-4547-A309-92486C90066E}" type="pres">
      <dgm:prSet presAssocID="{23DEB03F-4680-4420-9AFD-E3C5474E809A}" presName="vertFour" presStyleCnt="0">
        <dgm:presLayoutVars>
          <dgm:chPref val="3"/>
        </dgm:presLayoutVars>
      </dgm:prSet>
      <dgm:spPr/>
    </dgm:pt>
    <dgm:pt modelId="{AB1B146D-EA6B-495F-AEC4-52B0AC7B885C}" type="pres">
      <dgm:prSet presAssocID="{23DEB03F-4680-4420-9AFD-E3C5474E809A}" presName="txFour" presStyleLbl="node4" presStyleIdx="0" presStyleCnt="6">
        <dgm:presLayoutVars>
          <dgm:chPref val="3"/>
        </dgm:presLayoutVars>
      </dgm:prSet>
      <dgm:spPr/>
      <dgm:t>
        <a:bodyPr/>
        <a:lstStyle/>
        <a:p>
          <a:endParaRPr lang="pl-PL"/>
        </a:p>
      </dgm:t>
    </dgm:pt>
    <dgm:pt modelId="{30052CA1-97A3-4F94-88E5-B3E915AA516D}" type="pres">
      <dgm:prSet presAssocID="{23DEB03F-4680-4420-9AFD-E3C5474E809A}" presName="parTransFour" presStyleCnt="0"/>
      <dgm:spPr/>
    </dgm:pt>
    <dgm:pt modelId="{41FE4376-DCF9-4909-AA34-3A67AAF378A8}" type="pres">
      <dgm:prSet presAssocID="{23DEB03F-4680-4420-9AFD-E3C5474E809A}" presName="horzFour" presStyleCnt="0"/>
      <dgm:spPr/>
    </dgm:pt>
    <dgm:pt modelId="{96908BBF-198B-444E-AEAA-A7A5547301A7}" type="pres">
      <dgm:prSet presAssocID="{5E808564-9AC9-47F1-AF02-C96897B5AF17}" presName="vertFour" presStyleCnt="0">
        <dgm:presLayoutVars>
          <dgm:chPref val="3"/>
        </dgm:presLayoutVars>
      </dgm:prSet>
      <dgm:spPr/>
    </dgm:pt>
    <dgm:pt modelId="{BF8A7575-A1F8-467E-855F-2F71C174AB6C}" type="pres">
      <dgm:prSet presAssocID="{5E808564-9AC9-47F1-AF02-C96897B5AF17}" presName="txFour" presStyleLbl="node4" presStyleIdx="1" presStyleCnt="6">
        <dgm:presLayoutVars>
          <dgm:chPref val="3"/>
        </dgm:presLayoutVars>
      </dgm:prSet>
      <dgm:spPr/>
      <dgm:t>
        <a:bodyPr/>
        <a:lstStyle/>
        <a:p>
          <a:endParaRPr lang="pl-PL"/>
        </a:p>
      </dgm:t>
    </dgm:pt>
    <dgm:pt modelId="{5A0C5B69-DF09-41E9-9054-E36B46C790C9}" type="pres">
      <dgm:prSet presAssocID="{5E808564-9AC9-47F1-AF02-C96897B5AF17}" presName="horzFour" presStyleCnt="0"/>
      <dgm:spPr/>
    </dgm:pt>
    <dgm:pt modelId="{F258A6E6-9E74-4347-8103-462A214BE750}" type="pres">
      <dgm:prSet presAssocID="{82BD05D8-F650-4657-AF2B-A95804FCCD3A}" presName="sibSpaceFour" presStyleCnt="0"/>
      <dgm:spPr/>
    </dgm:pt>
    <dgm:pt modelId="{6EFF2F1D-C1FC-408B-B7EE-2D428DC17307}" type="pres">
      <dgm:prSet presAssocID="{00FDB6AD-F567-442F-88B8-D967B45750F8}" presName="vertFour" presStyleCnt="0">
        <dgm:presLayoutVars>
          <dgm:chPref val="3"/>
        </dgm:presLayoutVars>
      </dgm:prSet>
      <dgm:spPr/>
    </dgm:pt>
    <dgm:pt modelId="{C24A4122-7F06-46C0-BFBC-322298D2FEB3}" type="pres">
      <dgm:prSet presAssocID="{00FDB6AD-F567-442F-88B8-D967B45750F8}" presName="txFour" presStyleLbl="node4" presStyleIdx="2" presStyleCnt="6">
        <dgm:presLayoutVars>
          <dgm:chPref val="3"/>
        </dgm:presLayoutVars>
      </dgm:prSet>
      <dgm:spPr/>
      <dgm:t>
        <a:bodyPr/>
        <a:lstStyle/>
        <a:p>
          <a:endParaRPr lang="pl-PL"/>
        </a:p>
      </dgm:t>
    </dgm:pt>
    <dgm:pt modelId="{E6B9E411-CD2D-4040-99A8-5E3E12E58938}" type="pres">
      <dgm:prSet presAssocID="{00FDB6AD-F567-442F-88B8-D967B45750F8}" presName="horzFour" presStyleCnt="0"/>
      <dgm:spPr/>
    </dgm:pt>
    <dgm:pt modelId="{1DC49A39-D99B-4152-9B42-B8E11DA05875}" type="pres">
      <dgm:prSet presAssocID="{1B124942-046D-41B4-B840-D8B705ABAF41}" presName="sibSpaceFour" presStyleCnt="0"/>
      <dgm:spPr/>
    </dgm:pt>
    <dgm:pt modelId="{44E188D7-D6B2-4862-829A-541954E577AC}" type="pres">
      <dgm:prSet presAssocID="{694E85DF-8428-44D7-94F8-3000F74BB732}" presName="vertFour" presStyleCnt="0">
        <dgm:presLayoutVars>
          <dgm:chPref val="3"/>
        </dgm:presLayoutVars>
      </dgm:prSet>
      <dgm:spPr/>
    </dgm:pt>
    <dgm:pt modelId="{2B408833-28BD-4417-A9BC-FB588FE1F6F0}" type="pres">
      <dgm:prSet presAssocID="{694E85DF-8428-44D7-94F8-3000F74BB732}" presName="txFour" presStyleLbl="node4" presStyleIdx="3" presStyleCnt="6">
        <dgm:presLayoutVars>
          <dgm:chPref val="3"/>
        </dgm:presLayoutVars>
      </dgm:prSet>
      <dgm:spPr/>
      <dgm:t>
        <a:bodyPr/>
        <a:lstStyle/>
        <a:p>
          <a:endParaRPr lang="pl-PL"/>
        </a:p>
      </dgm:t>
    </dgm:pt>
    <dgm:pt modelId="{6330E80C-BF57-4941-9805-FA0E59CE7C1C}" type="pres">
      <dgm:prSet presAssocID="{694E85DF-8428-44D7-94F8-3000F74BB732}" presName="horzFour" presStyleCnt="0"/>
      <dgm:spPr/>
    </dgm:pt>
    <dgm:pt modelId="{1740AFA5-CF61-4C40-B109-EA7302109AA6}" type="pres">
      <dgm:prSet presAssocID="{1F194E2B-70EC-48B4-AF7C-734D5C06110D}" presName="sibSpaceFour" presStyleCnt="0"/>
      <dgm:spPr/>
    </dgm:pt>
    <dgm:pt modelId="{A4C28C1A-A861-431D-B1CD-B87E6C05836E}" type="pres">
      <dgm:prSet presAssocID="{895C5EAE-1058-45CF-80B8-B8F3A9CAC6A7}" presName="vertFour" presStyleCnt="0">
        <dgm:presLayoutVars>
          <dgm:chPref val="3"/>
        </dgm:presLayoutVars>
      </dgm:prSet>
      <dgm:spPr/>
    </dgm:pt>
    <dgm:pt modelId="{AD6F5E74-44FE-49EA-9217-812F4DF4E5AF}" type="pres">
      <dgm:prSet presAssocID="{895C5EAE-1058-45CF-80B8-B8F3A9CAC6A7}" presName="txFour" presStyleLbl="node4" presStyleIdx="4" presStyleCnt="6">
        <dgm:presLayoutVars>
          <dgm:chPref val="3"/>
        </dgm:presLayoutVars>
      </dgm:prSet>
      <dgm:spPr/>
      <dgm:t>
        <a:bodyPr/>
        <a:lstStyle/>
        <a:p>
          <a:endParaRPr lang="pl-PL"/>
        </a:p>
      </dgm:t>
    </dgm:pt>
    <dgm:pt modelId="{67124058-81EF-4317-A0A5-0A69EB295204}" type="pres">
      <dgm:prSet presAssocID="{895C5EAE-1058-45CF-80B8-B8F3A9CAC6A7}" presName="horzFour" presStyleCnt="0"/>
      <dgm:spPr/>
    </dgm:pt>
    <dgm:pt modelId="{B4EF9069-5657-450B-85E8-CAA3B3D1C03E}" type="pres">
      <dgm:prSet presAssocID="{8EF4BA2C-3EC3-48D1-AAE5-38330867EF49}" presName="sibSpaceThree" presStyleCnt="0"/>
      <dgm:spPr/>
    </dgm:pt>
    <dgm:pt modelId="{088DE58C-FC20-41F8-AE28-355EF65157A2}" type="pres">
      <dgm:prSet presAssocID="{B1480876-BF90-444C-B2FA-6C02E7B89B0B}" presName="vertThree" presStyleCnt="0"/>
      <dgm:spPr/>
    </dgm:pt>
    <dgm:pt modelId="{345F45C0-48CF-4BA3-B588-8D6D31B33A49}" type="pres">
      <dgm:prSet presAssocID="{B1480876-BF90-444C-B2FA-6C02E7B89B0B}" presName="txThree" presStyleLbl="node3" presStyleIdx="1" presStyleCnt="2">
        <dgm:presLayoutVars>
          <dgm:chPref val="3"/>
        </dgm:presLayoutVars>
      </dgm:prSet>
      <dgm:spPr/>
      <dgm:t>
        <a:bodyPr/>
        <a:lstStyle/>
        <a:p>
          <a:endParaRPr lang="pl-PL"/>
        </a:p>
      </dgm:t>
    </dgm:pt>
    <dgm:pt modelId="{29F7B7AF-61AF-4267-A840-B5643815DFE4}" type="pres">
      <dgm:prSet presAssocID="{B1480876-BF90-444C-B2FA-6C02E7B89B0B}" presName="parTransThree" presStyleCnt="0"/>
      <dgm:spPr/>
    </dgm:pt>
    <dgm:pt modelId="{B5038EA2-2C1E-4FDA-841F-4A844705CDD4}" type="pres">
      <dgm:prSet presAssocID="{B1480876-BF90-444C-B2FA-6C02E7B89B0B}" presName="horzThree" presStyleCnt="0"/>
      <dgm:spPr/>
    </dgm:pt>
    <dgm:pt modelId="{45C060BF-EEB2-4A4F-AAAD-2366DB53476E}" type="pres">
      <dgm:prSet presAssocID="{B9F3118D-2508-46D9-B699-FCB190A1EE85}" presName="vertFour" presStyleCnt="0">
        <dgm:presLayoutVars>
          <dgm:chPref val="3"/>
        </dgm:presLayoutVars>
      </dgm:prSet>
      <dgm:spPr/>
    </dgm:pt>
    <dgm:pt modelId="{4123143E-DB6C-43C7-8543-CAF9B2D1F887}" type="pres">
      <dgm:prSet presAssocID="{B9F3118D-2508-46D9-B699-FCB190A1EE85}" presName="txFour" presStyleLbl="node4" presStyleIdx="5" presStyleCnt="6">
        <dgm:presLayoutVars>
          <dgm:chPref val="3"/>
        </dgm:presLayoutVars>
      </dgm:prSet>
      <dgm:spPr/>
      <dgm:t>
        <a:bodyPr/>
        <a:lstStyle/>
        <a:p>
          <a:endParaRPr lang="pl-PL"/>
        </a:p>
      </dgm:t>
    </dgm:pt>
    <dgm:pt modelId="{866C7447-3927-4DA2-9A84-57B8FDA41AA5}" type="pres">
      <dgm:prSet presAssocID="{B9F3118D-2508-46D9-B699-FCB190A1EE85}" presName="horzFour" presStyleCnt="0"/>
      <dgm:spPr/>
    </dgm:pt>
    <dgm:pt modelId="{AF131166-1966-4E70-8127-921574FC9BC2}" type="pres">
      <dgm:prSet presAssocID="{3DACF3D8-22DF-4059-8E62-09B56D2C505F}" presName="sibSpaceTwo" presStyleCnt="0"/>
      <dgm:spPr/>
    </dgm:pt>
    <dgm:pt modelId="{55B47EA5-E19A-4EA7-A3DF-F4717B587276}" type="pres">
      <dgm:prSet presAssocID="{47052517-3D07-4A36-820B-5A6EA51C347A}" presName="vertTwo" presStyleCnt="0"/>
      <dgm:spPr/>
    </dgm:pt>
    <dgm:pt modelId="{0BFB5BC1-87DB-4C4B-AD4D-2DC910ACA710}" type="pres">
      <dgm:prSet presAssocID="{47052517-3D07-4A36-820B-5A6EA51C347A}" presName="txTwo" presStyleLbl="node2" presStyleIdx="1" presStyleCnt="2">
        <dgm:presLayoutVars>
          <dgm:chPref val="3"/>
        </dgm:presLayoutVars>
      </dgm:prSet>
      <dgm:spPr/>
      <dgm:t>
        <a:bodyPr/>
        <a:lstStyle/>
        <a:p>
          <a:endParaRPr lang="pl-PL"/>
        </a:p>
      </dgm:t>
    </dgm:pt>
    <dgm:pt modelId="{14227A5F-51DA-4972-A994-B16417D7E03A}" type="pres">
      <dgm:prSet presAssocID="{47052517-3D07-4A36-820B-5A6EA51C347A}" presName="horzTwo" presStyleCnt="0"/>
      <dgm:spPr/>
    </dgm:pt>
  </dgm:ptLst>
  <dgm:cxnLst>
    <dgm:cxn modelId="{45F7A2CC-500F-48A2-BDF7-B8D9F8E80B86}" type="presOf" srcId="{895C5EAE-1058-45CF-80B8-B8F3A9CAC6A7}" destId="{AD6F5E74-44FE-49EA-9217-812F4DF4E5AF}" srcOrd="0" destOrd="0" presId="urn:microsoft.com/office/officeart/2005/8/layout/hierarchy4"/>
    <dgm:cxn modelId="{1704E13B-E84F-4E36-BEA4-DAEB9A681830}" srcId="{16C3A5F1-9F8A-4B45-ADDD-52EFFACE2404}" destId="{895C5EAE-1058-45CF-80B8-B8F3A9CAC6A7}" srcOrd="1" destOrd="0" parTransId="{5BA50164-98FA-4EB0-ACB0-1811B959A84E}" sibTransId="{4E664BB7-3040-45BF-A96E-0C436123950F}"/>
    <dgm:cxn modelId="{260EB204-7B51-4AA3-A612-0F99FAD0DA13}" srcId="{CA969B1A-E26B-44B1-9CA6-1E7A003194F9}" destId="{47052517-3D07-4A36-820B-5A6EA51C347A}" srcOrd="1" destOrd="0" parTransId="{0BE24653-EBEF-42F8-B367-53B1493FFCC5}" sibTransId="{44A86788-D54D-4640-8364-90C7B675427A}"/>
    <dgm:cxn modelId="{3396A9A3-2028-40AF-A0A1-AC7261A1AD1E}" type="presOf" srcId="{CA969B1A-E26B-44B1-9CA6-1E7A003194F9}" destId="{5234F537-BDDF-4A54-9EE9-3249BF562FDB}" srcOrd="0" destOrd="0" presId="urn:microsoft.com/office/officeart/2005/8/layout/hierarchy4"/>
    <dgm:cxn modelId="{864069FA-4568-49ED-895C-B14C07114C26}" srcId="{7CB3CCAB-8E96-4708-BFD0-9FF06F3A1F78}" destId="{16C3A5F1-9F8A-4B45-ADDD-52EFFACE2404}" srcOrd="0" destOrd="0" parTransId="{44A23BC5-1084-4C66-961F-197B0A086C87}" sibTransId="{8EF4BA2C-3EC3-48D1-AAE5-38330867EF49}"/>
    <dgm:cxn modelId="{3DBD778E-1096-4F9C-AFB8-57A363D8087C}" type="presOf" srcId="{7CB3CCAB-8E96-4708-BFD0-9FF06F3A1F78}" destId="{7079E0AE-EFEE-4D40-AE19-8BB31FE4AF7D}" srcOrd="0" destOrd="0" presId="urn:microsoft.com/office/officeart/2005/8/layout/hierarchy4"/>
    <dgm:cxn modelId="{275615F9-449F-41B0-BC9C-2D56318AA2ED}" type="presOf" srcId="{B9F3118D-2508-46D9-B699-FCB190A1EE85}" destId="{4123143E-DB6C-43C7-8543-CAF9B2D1F887}" srcOrd="0" destOrd="0" presId="urn:microsoft.com/office/officeart/2005/8/layout/hierarchy4"/>
    <dgm:cxn modelId="{4EF02300-9B58-4E11-BAD9-21D0FF27ED4C}" type="presOf" srcId="{16C3A5F1-9F8A-4B45-ADDD-52EFFACE2404}" destId="{902E6AB6-EBD1-4EF5-BBB0-7048A2B3365A}" srcOrd="0" destOrd="0" presId="urn:microsoft.com/office/officeart/2005/8/layout/hierarchy4"/>
    <dgm:cxn modelId="{1247F697-C872-41D8-BAD3-E33FE1936575}" type="presOf" srcId="{47052517-3D07-4A36-820B-5A6EA51C347A}" destId="{0BFB5BC1-87DB-4C4B-AD4D-2DC910ACA710}" srcOrd="0" destOrd="0" presId="urn:microsoft.com/office/officeart/2005/8/layout/hierarchy4"/>
    <dgm:cxn modelId="{CE2204CB-AEC5-44DD-80D1-F0F3618C4B8A}" srcId="{B1480876-BF90-444C-B2FA-6C02E7B89B0B}" destId="{B9F3118D-2508-46D9-B699-FCB190A1EE85}" srcOrd="0" destOrd="0" parTransId="{DBCB2424-E2F2-40E7-9D5C-76156BDD5899}" sibTransId="{76830C43-8FB9-40C0-9DAD-2FD428EBDC2E}"/>
    <dgm:cxn modelId="{AA218A7B-C5B5-42F6-AEE7-B903EB4C75FD}" srcId="{23DEB03F-4680-4420-9AFD-E3C5474E809A}" destId="{5E808564-9AC9-47F1-AF02-C96897B5AF17}" srcOrd="0" destOrd="0" parTransId="{97B2544E-A67E-4BFC-BA9C-2926A93EA37D}" sibTransId="{82BD05D8-F650-4657-AF2B-A95804FCCD3A}"/>
    <dgm:cxn modelId="{61C6F45B-3990-48F7-BFE2-57EFC26F46A4}" srcId="{3594FF3A-B37C-4572-9A2A-71BF48FD49CC}" destId="{CA969B1A-E26B-44B1-9CA6-1E7A003194F9}" srcOrd="0" destOrd="0" parTransId="{8D28D3D8-31F3-49C6-80B1-834D8464B66C}" sibTransId="{9A562D64-80BF-499D-A4B5-F67D1DC059B4}"/>
    <dgm:cxn modelId="{8C0AEB05-CC50-420B-A23B-5B4514251375}" srcId="{CA969B1A-E26B-44B1-9CA6-1E7A003194F9}" destId="{7CB3CCAB-8E96-4708-BFD0-9FF06F3A1F78}" srcOrd="0" destOrd="0" parTransId="{1052A87D-D3B5-4751-83F0-2418CF2B808D}" sibTransId="{3DACF3D8-22DF-4059-8E62-09B56D2C505F}"/>
    <dgm:cxn modelId="{27064B4E-3B16-479B-A3BC-44C7C1FDB205}" srcId="{23DEB03F-4680-4420-9AFD-E3C5474E809A}" destId="{694E85DF-8428-44D7-94F8-3000F74BB732}" srcOrd="2" destOrd="0" parTransId="{CCCE72B4-F014-4AFB-A6BD-459F076790B4}" sibTransId="{ABC5F23D-9156-4E72-A316-79881037FC2D}"/>
    <dgm:cxn modelId="{B98C9715-978F-4327-836D-138C8DB15E1F}" srcId="{7CB3CCAB-8E96-4708-BFD0-9FF06F3A1F78}" destId="{B1480876-BF90-444C-B2FA-6C02E7B89B0B}" srcOrd="1" destOrd="0" parTransId="{09841234-505C-4573-9695-264987420EAE}" sibTransId="{0514A724-A1B6-4714-8D74-1429E91ED56F}"/>
    <dgm:cxn modelId="{64ABDFFF-9EFB-49E2-BE62-402E529BD5C7}" type="presOf" srcId="{23DEB03F-4680-4420-9AFD-E3C5474E809A}" destId="{AB1B146D-EA6B-495F-AEC4-52B0AC7B885C}" srcOrd="0" destOrd="0" presId="urn:microsoft.com/office/officeart/2005/8/layout/hierarchy4"/>
    <dgm:cxn modelId="{8442B4A3-8665-4D47-AE12-E3BBCB3E49F6}" type="presOf" srcId="{3594FF3A-B37C-4572-9A2A-71BF48FD49CC}" destId="{615F7C14-3132-4212-BB9D-552E543E6BD6}" srcOrd="0" destOrd="0" presId="urn:microsoft.com/office/officeart/2005/8/layout/hierarchy4"/>
    <dgm:cxn modelId="{D58FD84E-E3D7-4007-9CCF-7091DB4FA789}" type="presOf" srcId="{B1480876-BF90-444C-B2FA-6C02E7B89B0B}" destId="{345F45C0-48CF-4BA3-B588-8D6D31B33A49}" srcOrd="0" destOrd="0" presId="urn:microsoft.com/office/officeart/2005/8/layout/hierarchy4"/>
    <dgm:cxn modelId="{2F4474BA-4C13-4901-B763-2C72A768FF75}" type="presOf" srcId="{00FDB6AD-F567-442F-88B8-D967B45750F8}" destId="{C24A4122-7F06-46C0-BFBC-322298D2FEB3}" srcOrd="0" destOrd="0" presId="urn:microsoft.com/office/officeart/2005/8/layout/hierarchy4"/>
    <dgm:cxn modelId="{26A4AD28-AC10-4A4A-9313-6A137754836B}" type="presOf" srcId="{5E808564-9AC9-47F1-AF02-C96897B5AF17}" destId="{BF8A7575-A1F8-467E-855F-2F71C174AB6C}" srcOrd="0" destOrd="0" presId="urn:microsoft.com/office/officeart/2005/8/layout/hierarchy4"/>
    <dgm:cxn modelId="{F68507F2-13E6-4688-A0DD-A6B7EB7A2FB0}" srcId="{16C3A5F1-9F8A-4B45-ADDD-52EFFACE2404}" destId="{23DEB03F-4680-4420-9AFD-E3C5474E809A}" srcOrd="0" destOrd="0" parTransId="{26956FEA-7401-48FF-8CE5-950E30AC42E4}" sibTransId="{1F194E2B-70EC-48B4-AF7C-734D5C06110D}"/>
    <dgm:cxn modelId="{32789895-6199-415A-AD00-0132DD5C40D6}" srcId="{23DEB03F-4680-4420-9AFD-E3C5474E809A}" destId="{00FDB6AD-F567-442F-88B8-D967B45750F8}" srcOrd="1" destOrd="0" parTransId="{C32F3761-C399-4CCD-B196-745A524FF8C1}" sibTransId="{1B124942-046D-41B4-B840-D8B705ABAF41}"/>
    <dgm:cxn modelId="{EFCC15F2-FFAA-4918-B5C8-6A2FE3AF921A}" type="presOf" srcId="{694E85DF-8428-44D7-94F8-3000F74BB732}" destId="{2B408833-28BD-4417-A9BC-FB588FE1F6F0}" srcOrd="0" destOrd="0" presId="urn:microsoft.com/office/officeart/2005/8/layout/hierarchy4"/>
    <dgm:cxn modelId="{8C8C833D-2837-4D3F-8976-EA8E07C355FA}" type="presParOf" srcId="{615F7C14-3132-4212-BB9D-552E543E6BD6}" destId="{C3101359-168A-4238-B915-DD4CC3343A50}" srcOrd="0" destOrd="0" presId="urn:microsoft.com/office/officeart/2005/8/layout/hierarchy4"/>
    <dgm:cxn modelId="{007ECFC6-3AF5-4DEA-AE6B-169858E90583}" type="presParOf" srcId="{C3101359-168A-4238-B915-DD4CC3343A50}" destId="{5234F537-BDDF-4A54-9EE9-3249BF562FDB}" srcOrd="0" destOrd="0" presId="urn:microsoft.com/office/officeart/2005/8/layout/hierarchy4"/>
    <dgm:cxn modelId="{F8FF27DB-6F62-4B55-9621-7E396DDC231F}" type="presParOf" srcId="{C3101359-168A-4238-B915-DD4CC3343A50}" destId="{4AAB889A-3ED1-43BD-B7E5-D5689090C110}" srcOrd="1" destOrd="0" presId="urn:microsoft.com/office/officeart/2005/8/layout/hierarchy4"/>
    <dgm:cxn modelId="{8C4D6EC9-DF29-4B57-A3FB-E5BA3FDE43DA}" type="presParOf" srcId="{C3101359-168A-4238-B915-DD4CC3343A50}" destId="{C37D64D0-854E-4C32-AF8B-69DE06AE658A}" srcOrd="2" destOrd="0" presId="urn:microsoft.com/office/officeart/2005/8/layout/hierarchy4"/>
    <dgm:cxn modelId="{FA2AF2F0-0846-4420-AD69-B8DB0C7BBC1D}" type="presParOf" srcId="{C37D64D0-854E-4C32-AF8B-69DE06AE658A}" destId="{E04307D1-8FC4-473D-8EBD-3DCF3998D4F8}" srcOrd="0" destOrd="0" presId="urn:microsoft.com/office/officeart/2005/8/layout/hierarchy4"/>
    <dgm:cxn modelId="{0F3B4A04-3F7B-45E1-A1BD-FB3224A7F982}" type="presParOf" srcId="{E04307D1-8FC4-473D-8EBD-3DCF3998D4F8}" destId="{7079E0AE-EFEE-4D40-AE19-8BB31FE4AF7D}" srcOrd="0" destOrd="0" presId="urn:microsoft.com/office/officeart/2005/8/layout/hierarchy4"/>
    <dgm:cxn modelId="{35F28366-A8F1-4717-A105-3CDB015842D9}" type="presParOf" srcId="{E04307D1-8FC4-473D-8EBD-3DCF3998D4F8}" destId="{5868EC24-59D9-4B3B-B881-1D2285193FF8}" srcOrd="1" destOrd="0" presId="urn:microsoft.com/office/officeart/2005/8/layout/hierarchy4"/>
    <dgm:cxn modelId="{C366BA46-6682-4F04-BA1F-0D88AF632B7E}" type="presParOf" srcId="{E04307D1-8FC4-473D-8EBD-3DCF3998D4F8}" destId="{8D8FF5A6-57A5-49A6-B59C-DDEEC62EF38F}" srcOrd="2" destOrd="0" presId="urn:microsoft.com/office/officeart/2005/8/layout/hierarchy4"/>
    <dgm:cxn modelId="{EF8ADC1D-F5DD-4CE5-9986-D0124234825C}" type="presParOf" srcId="{8D8FF5A6-57A5-49A6-B59C-DDEEC62EF38F}" destId="{92E91886-D6DD-46B0-88A7-E4F3E56A8407}" srcOrd="0" destOrd="0" presId="urn:microsoft.com/office/officeart/2005/8/layout/hierarchy4"/>
    <dgm:cxn modelId="{FB8BEAEE-17AD-46EB-ADED-215555DF6D64}" type="presParOf" srcId="{92E91886-D6DD-46B0-88A7-E4F3E56A8407}" destId="{902E6AB6-EBD1-4EF5-BBB0-7048A2B3365A}" srcOrd="0" destOrd="0" presId="urn:microsoft.com/office/officeart/2005/8/layout/hierarchy4"/>
    <dgm:cxn modelId="{4427F1F7-A883-4B62-A0B7-A30D9BB70634}" type="presParOf" srcId="{92E91886-D6DD-46B0-88A7-E4F3E56A8407}" destId="{BB1B1DF3-4614-48AC-805A-4B6522EF1DFF}" srcOrd="1" destOrd="0" presId="urn:microsoft.com/office/officeart/2005/8/layout/hierarchy4"/>
    <dgm:cxn modelId="{0CB8160C-219A-4486-BC6A-4707651DAA1B}" type="presParOf" srcId="{92E91886-D6DD-46B0-88A7-E4F3E56A8407}" destId="{6215F0DD-F591-480C-AA09-220D833990A7}" srcOrd="2" destOrd="0" presId="urn:microsoft.com/office/officeart/2005/8/layout/hierarchy4"/>
    <dgm:cxn modelId="{C9BF9BA8-CC44-4A17-93A5-EF64A8B47A96}" type="presParOf" srcId="{6215F0DD-F591-480C-AA09-220D833990A7}" destId="{3515B427-EB99-4547-A309-92486C90066E}" srcOrd="0" destOrd="0" presId="urn:microsoft.com/office/officeart/2005/8/layout/hierarchy4"/>
    <dgm:cxn modelId="{BFE5C757-A8D9-418F-AB00-90427957C974}" type="presParOf" srcId="{3515B427-EB99-4547-A309-92486C90066E}" destId="{AB1B146D-EA6B-495F-AEC4-52B0AC7B885C}" srcOrd="0" destOrd="0" presId="urn:microsoft.com/office/officeart/2005/8/layout/hierarchy4"/>
    <dgm:cxn modelId="{12FD324A-2A1C-4CE8-9B55-F6B6BE05D9ED}" type="presParOf" srcId="{3515B427-EB99-4547-A309-92486C90066E}" destId="{30052CA1-97A3-4F94-88E5-B3E915AA516D}" srcOrd="1" destOrd="0" presId="urn:microsoft.com/office/officeart/2005/8/layout/hierarchy4"/>
    <dgm:cxn modelId="{3D276067-645C-4EFA-9F73-310CCB37460E}" type="presParOf" srcId="{3515B427-EB99-4547-A309-92486C90066E}" destId="{41FE4376-DCF9-4909-AA34-3A67AAF378A8}" srcOrd="2" destOrd="0" presId="urn:microsoft.com/office/officeart/2005/8/layout/hierarchy4"/>
    <dgm:cxn modelId="{73A30835-CD6D-4B76-9ACB-567D46939FCA}" type="presParOf" srcId="{41FE4376-DCF9-4909-AA34-3A67AAF378A8}" destId="{96908BBF-198B-444E-AEAA-A7A5547301A7}" srcOrd="0" destOrd="0" presId="urn:microsoft.com/office/officeart/2005/8/layout/hierarchy4"/>
    <dgm:cxn modelId="{D94005EF-53B7-43B7-B179-C9E29B44A164}" type="presParOf" srcId="{96908BBF-198B-444E-AEAA-A7A5547301A7}" destId="{BF8A7575-A1F8-467E-855F-2F71C174AB6C}" srcOrd="0" destOrd="0" presId="urn:microsoft.com/office/officeart/2005/8/layout/hierarchy4"/>
    <dgm:cxn modelId="{F85D0D99-4F0F-4591-ABE1-9E47FE17FDE5}" type="presParOf" srcId="{96908BBF-198B-444E-AEAA-A7A5547301A7}" destId="{5A0C5B69-DF09-41E9-9054-E36B46C790C9}" srcOrd="1" destOrd="0" presId="urn:microsoft.com/office/officeart/2005/8/layout/hierarchy4"/>
    <dgm:cxn modelId="{C7B4D18B-27EE-48FE-8CC5-BE9DF4ADC5F8}" type="presParOf" srcId="{41FE4376-DCF9-4909-AA34-3A67AAF378A8}" destId="{F258A6E6-9E74-4347-8103-462A214BE750}" srcOrd="1" destOrd="0" presId="urn:microsoft.com/office/officeart/2005/8/layout/hierarchy4"/>
    <dgm:cxn modelId="{E88972F5-6FA3-4D12-9029-B1305DDC87D5}" type="presParOf" srcId="{41FE4376-DCF9-4909-AA34-3A67AAF378A8}" destId="{6EFF2F1D-C1FC-408B-B7EE-2D428DC17307}" srcOrd="2" destOrd="0" presId="urn:microsoft.com/office/officeart/2005/8/layout/hierarchy4"/>
    <dgm:cxn modelId="{30A5852C-B0E3-440F-8F03-CBD7E539C54F}" type="presParOf" srcId="{6EFF2F1D-C1FC-408B-B7EE-2D428DC17307}" destId="{C24A4122-7F06-46C0-BFBC-322298D2FEB3}" srcOrd="0" destOrd="0" presId="urn:microsoft.com/office/officeart/2005/8/layout/hierarchy4"/>
    <dgm:cxn modelId="{52C746BF-6C09-4F72-A820-77F567D2B1B9}" type="presParOf" srcId="{6EFF2F1D-C1FC-408B-B7EE-2D428DC17307}" destId="{E6B9E411-CD2D-4040-99A8-5E3E12E58938}" srcOrd="1" destOrd="0" presId="urn:microsoft.com/office/officeart/2005/8/layout/hierarchy4"/>
    <dgm:cxn modelId="{B8CD3BE3-5A98-44FC-86D8-972A100B9B63}" type="presParOf" srcId="{41FE4376-DCF9-4909-AA34-3A67AAF378A8}" destId="{1DC49A39-D99B-4152-9B42-B8E11DA05875}" srcOrd="3" destOrd="0" presId="urn:microsoft.com/office/officeart/2005/8/layout/hierarchy4"/>
    <dgm:cxn modelId="{368F3AE6-1115-479E-9F85-44D1A7E454DD}" type="presParOf" srcId="{41FE4376-DCF9-4909-AA34-3A67AAF378A8}" destId="{44E188D7-D6B2-4862-829A-541954E577AC}" srcOrd="4" destOrd="0" presId="urn:microsoft.com/office/officeart/2005/8/layout/hierarchy4"/>
    <dgm:cxn modelId="{CE24C212-EA23-4700-8F8F-CBDB29B71A4C}" type="presParOf" srcId="{44E188D7-D6B2-4862-829A-541954E577AC}" destId="{2B408833-28BD-4417-A9BC-FB588FE1F6F0}" srcOrd="0" destOrd="0" presId="urn:microsoft.com/office/officeart/2005/8/layout/hierarchy4"/>
    <dgm:cxn modelId="{232BCB3C-44B6-4FB3-9FAB-3ED5F3893E52}" type="presParOf" srcId="{44E188D7-D6B2-4862-829A-541954E577AC}" destId="{6330E80C-BF57-4941-9805-FA0E59CE7C1C}" srcOrd="1" destOrd="0" presId="urn:microsoft.com/office/officeart/2005/8/layout/hierarchy4"/>
    <dgm:cxn modelId="{E53659D4-C887-4144-BEC5-E34E6A5F1849}" type="presParOf" srcId="{6215F0DD-F591-480C-AA09-220D833990A7}" destId="{1740AFA5-CF61-4C40-B109-EA7302109AA6}" srcOrd="1" destOrd="0" presId="urn:microsoft.com/office/officeart/2005/8/layout/hierarchy4"/>
    <dgm:cxn modelId="{0D07B25E-9A46-4453-A9C1-191FD2E69CF5}" type="presParOf" srcId="{6215F0DD-F591-480C-AA09-220D833990A7}" destId="{A4C28C1A-A861-431D-B1CD-B87E6C05836E}" srcOrd="2" destOrd="0" presId="urn:microsoft.com/office/officeart/2005/8/layout/hierarchy4"/>
    <dgm:cxn modelId="{88269B52-D893-421F-9FFB-07C0918B9D4A}" type="presParOf" srcId="{A4C28C1A-A861-431D-B1CD-B87E6C05836E}" destId="{AD6F5E74-44FE-49EA-9217-812F4DF4E5AF}" srcOrd="0" destOrd="0" presId="urn:microsoft.com/office/officeart/2005/8/layout/hierarchy4"/>
    <dgm:cxn modelId="{C3712A4D-94AD-4CA4-BCE6-805F39DD8254}" type="presParOf" srcId="{A4C28C1A-A861-431D-B1CD-B87E6C05836E}" destId="{67124058-81EF-4317-A0A5-0A69EB295204}" srcOrd="1" destOrd="0" presId="urn:microsoft.com/office/officeart/2005/8/layout/hierarchy4"/>
    <dgm:cxn modelId="{AD57D882-2E6D-4F70-A7FD-0DA3D442993A}" type="presParOf" srcId="{8D8FF5A6-57A5-49A6-B59C-DDEEC62EF38F}" destId="{B4EF9069-5657-450B-85E8-CAA3B3D1C03E}" srcOrd="1" destOrd="0" presId="urn:microsoft.com/office/officeart/2005/8/layout/hierarchy4"/>
    <dgm:cxn modelId="{D652CBA0-0C1A-4D69-9135-11F172FE8D48}" type="presParOf" srcId="{8D8FF5A6-57A5-49A6-B59C-DDEEC62EF38F}" destId="{088DE58C-FC20-41F8-AE28-355EF65157A2}" srcOrd="2" destOrd="0" presId="urn:microsoft.com/office/officeart/2005/8/layout/hierarchy4"/>
    <dgm:cxn modelId="{646BE7B1-2B37-4B71-A131-5D77A63EEADE}" type="presParOf" srcId="{088DE58C-FC20-41F8-AE28-355EF65157A2}" destId="{345F45C0-48CF-4BA3-B588-8D6D31B33A49}" srcOrd="0" destOrd="0" presId="urn:microsoft.com/office/officeart/2005/8/layout/hierarchy4"/>
    <dgm:cxn modelId="{D128205A-F1D5-40CA-8174-E698873E3186}" type="presParOf" srcId="{088DE58C-FC20-41F8-AE28-355EF65157A2}" destId="{29F7B7AF-61AF-4267-A840-B5643815DFE4}" srcOrd="1" destOrd="0" presId="urn:microsoft.com/office/officeart/2005/8/layout/hierarchy4"/>
    <dgm:cxn modelId="{784D5A41-2C44-47BB-AD95-FB56C77C6B6C}" type="presParOf" srcId="{088DE58C-FC20-41F8-AE28-355EF65157A2}" destId="{B5038EA2-2C1E-4FDA-841F-4A844705CDD4}" srcOrd="2" destOrd="0" presId="urn:microsoft.com/office/officeart/2005/8/layout/hierarchy4"/>
    <dgm:cxn modelId="{86824543-2C19-4640-8D5E-62C1F2825E52}" type="presParOf" srcId="{B5038EA2-2C1E-4FDA-841F-4A844705CDD4}" destId="{45C060BF-EEB2-4A4F-AAAD-2366DB53476E}" srcOrd="0" destOrd="0" presId="urn:microsoft.com/office/officeart/2005/8/layout/hierarchy4"/>
    <dgm:cxn modelId="{527434DE-363C-488E-A037-F55E9A8CD16A}" type="presParOf" srcId="{45C060BF-EEB2-4A4F-AAAD-2366DB53476E}" destId="{4123143E-DB6C-43C7-8543-CAF9B2D1F887}" srcOrd="0" destOrd="0" presId="urn:microsoft.com/office/officeart/2005/8/layout/hierarchy4"/>
    <dgm:cxn modelId="{C69ADBAD-7DD9-4F08-926D-4B40415A3DB3}" type="presParOf" srcId="{45C060BF-EEB2-4A4F-AAAD-2366DB53476E}" destId="{866C7447-3927-4DA2-9A84-57B8FDA41AA5}" srcOrd="1" destOrd="0" presId="urn:microsoft.com/office/officeart/2005/8/layout/hierarchy4"/>
    <dgm:cxn modelId="{A889125A-1366-443E-9942-4175959F5E2D}" type="presParOf" srcId="{C37D64D0-854E-4C32-AF8B-69DE06AE658A}" destId="{AF131166-1966-4E70-8127-921574FC9BC2}" srcOrd="1" destOrd="0" presId="urn:microsoft.com/office/officeart/2005/8/layout/hierarchy4"/>
    <dgm:cxn modelId="{83604D38-E745-4CCD-8EDA-574D59648D59}" type="presParOf" srcId="{C37D64D0-854E-4C32-AF8B-69DE06AE658A}" destId="{55B47EA5-E19A-4EA7-A3DF-F4717B587276}" srcOrd="2" destOrd="0" presId="urn:microsoft.com/office/officeart/2005/8/layout/hierarchy4"/>
    <dgm:cxn modelId="{A404CC29-7CA3-4261-98A8-4DE1259E8D64}" type="presParOf" srcId="{55B47EA5-E19A-4EA7-A3DF-F4717B587276}" destId="{0BFB5BC1-87DB-4C4B-AD4D-2DC910ACA710}" srcOrd="0" destOrd="0" presId="urn:microsoft.com/office/officeart/2005/8/layout/hierarchy4"/>
    <dgm:cxn modelId="{F6180C46-E9B0-42B6-BBE2-107D32FA3B09}" type="presParOf" srcId="{55B47EA5-E19A-4EA7-A3DF-F4717B587276}" destId="{14227A5F-51DA-4972-A994-B16417D7E03A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21.xml><?xml version="1.0" encoding="utf-8"?>
<dgm:dataModel xmlns:dgm="http://schemas.openxmlformats.org/drawingml/2006/diagram" xmlns:a="http://schemas.openxmlformats.org/drawingml/2006/main">
  <dgm:ptLst>
    <dgm:pt modelId="{994CF1F4-2732-4AB8-8227-C604B16962D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74AC2AD2-64D7-46DD-BC99-4A05B19844CF}">
      <dgm:prSet/>
      <dgm:spPr/>
      <dgm:t>
        <a:bodyPr/>
        <a:lstStyle/>
        <a:p>
          <a:endParaRPr lang="pl-PL" dirty="0"/>
        </a:p>
      </dgm:t>
    </dgm:pt>
    <dgm:pt modelId="{515E3DC3-504E-4B6D-9343-EC781A07AC9C}" type="parTrans" cxnId="{D72CE5F3-EEA8-4743-9BF8-8BA5C556FD43}">
      <dgm:prSet/>
      <dgm:spPr/>
      <dgm:t>
        <a:bodyPr/>
        <a:lstStyle/>
        <a:p>
          <a:endParaRPr lang="pl-PL"/>
        </a:p>
      </dgm:t>
    </dgm:pt>
    <dgm:pt modelId="{6B5DA7EF-3B27-49D3-809C-17BA4E56428C}" type="sibTrans" cxnId="{D72CE5F3-EEA8-4743-9BF8-8BA5C556FD43}">
      <dgm:prSet/>
      <dgm:spPr/>
      <dgm:t>
        <a:bodyPr/>
        <a:lstStyle/>
        <a:p>
          <a:endParaRPr lang="pl-PL"/>
        </a:p>
      </dgm:t>
    </dgm:pt>
    <dgm:pt modelId="{376CDA48-94C4-4CDF-977E-8FAFD76D511B}">
      <dgm:prSet/>
      <dgm:spPr/>
      <dgm:t>
        <a:bodyPr/>
        <a:lstStyle/>
        <a:p>
          <a:endParaRPr lang="pl-PL" dirty="0"/>
        </a:p>
      </dgm:t>
    </dgm:pt>
    <dgm:pt modelId="{EA5451D3-199B-4998-993A-2756586CFFBA}" type="parTrans" cxnId="{E2D470B0-EF4F-458E-9E6B-72E28A000CCE}">
      <dgm:prSet/>
      <dgm:spPr/>
      <dgm:t>
        <a:bodyPr/>
        <a:lstStyle/>
        <a:p>
          <a:endParaRPr lang="pl-PL"/>
        </a:p>
      </dgm:t>
    </dgm:pt>
    <dgm:pt modelId="{C9046F97-7378-4E11-B06C-D2D613036A9F}" type="sibTrans" cxnId="{E2D470B0-EF4F-458E-9E6B-72E28A000CCE}">
      <dgm:prSet/>
      <dgm:spPr/>
      <dgm:t>
        <a:bodyPr/>
        <a:lstStyle/>
        <a:p>
          <a:endParaRPr lang="pl-PL"/>
        </a:p>
      </dgm:t>
    </dgm:pt>
    <dgm:pt modelId="{756B6E50-DAA6-4258-8CFD-08932EC6A042}">
      <dgm:prSet/>
      <dgm:spPr/>
      <dgm:t>
        <a:bodyPr/>
        <a:lstStyle/>
        <a:p>
          <a:endParaRPr lang="pl-PL" dirty="0"/>
        </a:p>
      </dgm:t>
    </dgm:pt>
    <dgm:pt modelId="{0A8C9D57-8B3B-4037-BD1A-50CD2EC07214}" type="parTrans" cxnId="{3B23BBFD-B776-47F9-8264-35E145E9FF88}">
      <dgm:prSet/>
      <dgm:spPr/>
      <dgm:t>
        <a:bodyPr/>
        <a:lstStyle/>
        <a:p>
          <a:endParaRPr lang="pl-PL"/>
        </a:p>
      </dgm:t>
    </dgm:pt>
    <dgm:pt modelId="{0812C184-14D1-49ED-914B-C2CF30278F9D}" type="sibTrans" cxnId="{3B23BBFD-B776-47F9-8264-35E145E9FF88}">
      <dgm:prSet/>
      <dgm:spPr/>
      <dgm:t>
        <a:bodyPr/>
        <a:lstStyle/>
        <a:p>
          <a:endParaRPr lang="pl-PL"/>
        </a:p>
      </dgm:t>
    </dgm:pt>
    <dgm:pt modelId="{436236F5-353B-4908-9873-F2992CFD1A9D}">
      <dgm:prSet/>
      <dgm:spPr/>
      <dgm:t>
        <a:bodyPr/>
        <a:lstStyle/>
        <a:p>
          <a:endParaRPr lang="pl-PL" dirty="0"/>
        </a:p>
      </dgm:t>
    </dgm:pt>
    <dgm:pt modelId="{BBBC11F3-E89A-4B58-B37B-A1491C4F9B6D}" type="parTrans" cxnId="{B81222F1-DE9E-4CB9-BE60-6F7BF4B26BA1}">
      <dgm:prSet/>
      <dgm:spPr/>
      <dgm:t>
        <a:bodyPr/>
        <a:lstStyle/>
        <a:p>
          <a:endParaRPr lang="pl-PL"/>
        </a:p>
      </dgm:t>
    </dgm:pt>
    <dgm:pt modelId="{025FA84F-6A51-41FB-989A-C1D211D2FE41}" type="sibTrans" cxnId="{B81222F1-DE9E-4CB9-BE60-6F7BF4B26BA1}">
      <dgm:prSet/>
      <dgm:spPr/>
      <dgm:t>
        <a:bodyPr/>
        <a:lstStyle/>
        <a:p>
          <a:endParaRPr lang="pl-PL"/>
        </a:p>
      </dgm:t>
    </dgm:pt>
    <dgm:pt modelId="{9AF0BD01-035D-4679-B129-0AF9B1A915E2}">
      <dgm:prSet custT="1"/>
      <dgm:spPr/>
      <dgm:t>
        <a:bodyPr/>
        <a:lstStyle/>
        <a:p>
          <a:r>
            <a:rPr lang="en-US" sz="3200" b="1" dirty="0" smtClean="0"/>
            <a:t>Census Metadata System</a:t>
          </a:r>
          <a:r>
            <a:rPr lang="pl-PL" sz="2600" b="1" dirty="0" smtClean="0"/>
            <a:t/>
          </a:r>
          <a:br>
            <a:rPr lang="pl-PL" sz="2600" b="1" dirty="0" smtClean="0"/>
          </a:br>
          <a:r>
            <a:rPr lang="en-US" sz="2800" b="1" dirty="0" smtClean="0">
              <a:solidFill>
                <a:srgbClr val="FF5050"/>
              </a:solidFill>
            </a:rPr>
            <a:t>Quality aspects: </a:t>
          </a:r>
          <a:r>
            <a:rPr lang="en-US" sz="2800" b="1" dirty="0" smtClean="0">
              <a:solidFill>
                <a:srgbClr val="FFFF00"/>
              </a:solidFill>
            </a:rPr>
            <a:t>accessibility and clarity</a:t>
          </a:r>
          <a:endParaRPr lang="pl-PL" sz="2800" dirty="0">
            <a:solidFill>
              <a:srgbClr val="FFFF00"/>
            </a:solidFill>
          </a:endParaRPr>
        </a:p>
      </dgm:t>
    </dgm:pt>
    <dgm:pt modelId="{E8D345AB-257F-4395-9CAB-618732465C7E}" type="parTrans" cxnId="{F250E3D1-45F5-424A-B9BB-63BE1B74AC23}">
      <dgm:prSet/>
      <dgm:spPr/>
      <dgm:t>
        <a:bodyPr/>
        <a:lstStyle/>
        <a:p>
          <a:endParaRPr lang="pl-PL"/>
        </a:p>
      </dgm:t>
    </dgm:pt>
    <dgm:pt modelId="{C1CE4E85-833D-428D-91FE-8204B7496FA5}" type="sibTrans" cxnId="{F250E3D1-45F5-424A-B9BB-63BE1B74AC23}">
      <dgm:prSet/>
      <dgm:spPr/>
      <dgm:t>
        <a:bodyPr/>
        <a:lstStyle/>
        <a:p>
          <a:endParaRPr lang="pl-PL"/>
        </a:p>
      </dgm:t>
    </dgm:pt>
    <dgm:pt modelId="{D74B8217-3255-4240-8732-0397E563F72D}">
      <dgm:prSet/>
      <dgm:spPr/>
      <dgm:t>
        <a:bodyPr/>
        <a:lstStyle/>
        <a:p>
          <a:r>
            <a:rPr lang="en-US" b="1" dirty="0" smtClean="0"/>
            <a:t>Developing quality indicators at each stage of census and the procedures for calculating their value.</a:t>
          </a:r>
          <a:endParaRPr lang="pl-PL" dirty="0"/>
        </a:p>
      </dgm:t>
    </dgm:pt>
    <dgm:pt modelId="{44BCB142-7770-407B-B3FC-BF0E7F6C4933}" type="parTrans" cxnId="{188090A8-3133-4542-A697-22C0B32A860E}">
      <dgm:prSet/>
      <dgm:spPr/>
      <dgm:t>
        <a:bodyPr/>
        <a:lstStyle/>
        <a:p>
          <a:endParaRPr lang="pl-PL"/>
        </a:p>
      </dgm:t>
    </dgm:pt>
    <dgm:pt modelId="{62E64BD6-01F5-471E-97B9-BD62E73CDEF4}" type="sibTrans" cxnId="{188090A8-3133-4542-A697-22C0B32A860E}">
      <dgm:prSet/>
      <dgm:spPr/>
      <dgm:t>
        <a:bodyPr/>
        <a:lstStyle/>
        <a:p>
          <a:endParaRPr lang="pl-PL"/>
        </a:p>
      </dgm:t>
    </dgm:pt>
    <dgm:pt modelId="{ADC6FB53-26A8-4358-956F-33CD97D623A0}" type="pres">
      <dgm:prSet presAssocID="{994CF1F4-2732-4AB8-8227-C604B16962D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8315F585-49E5-4AE1-84E8-C926F2BB84A6}" type="pres">
      <dgm:prSet presAssocID="{9AF0BD01-035D-4679-B129-0AF9B1A915E2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C2C382E9-3334-4EC2-821F-32DCA64F321E}" type="pres">
      <dgm:prSet presAssocID="{9AF0BD01-035D-4679-B129-0AF9B1A915E2}" presName="childText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D72CE5F3-EEA8-4743-9BF8-8BA5C556FD43}" srcId="{9AF0BD01-035D-4679-B129-0AF9B1A915E2}" destId="{74AC2AD2-64D7-46DD-BC99-4A05B19844CF}" srcOrd="3" destOrd="0" parTransId="{515E3DC3-504E-4B6D-9343-EC781A07AC9C}" sibTransId="{6B5DA7EF-3B27-49D3-809C-17BA4E56428C}"/>
    <dgm:cxn modelId="{F250E3D1-45F5-424A-B9BB-63BE1B74AC23}" srcId="{994CF1F4-2732-4AB8-8227-C604B16962DD}" destId="{9AF0BD01-035D-4679-B129-0AF9B1A915E2}" srcOrd="0" destOrd="0" parTransId="{E8D345AB-257F-4395-9CAB-618732465C7E}" sibTransId="{C1CE4E85-833D-428D-91FE-8204B7496FA5}"/>
    <dgm:cxn modelId="{2F27CC01-9B6C-4153-9755-F3F08AD217B3}" type="presOf" srcId="{74AC2AD2-64D7-46DD-BC99-4A05B19844CF}" destId="{C2C382E9-3334-4EC2-821F-32DCA64F321E}" srcOrd="0" destOrd="3" presId="urn:microsoft.com/office/officeart/2005/8/layout/vList2"/>
    <dgm:cxn modelId="{EAF585A9-9D6A-4DD0-8644-485D1C7B92D4}" type="presOf" srcId="{D74B8217-3255-4240-8732-0397E563F72D}" destId="{C2C382E9-3334-4EC2-821F-32DCA64F321E}" srcOrd="0" destOrd="0" presId="urn:microsoft.com/office/officeart/2005/8/layout/vList2"/>
    <dgm:cxn modelId="{188090A8-3133-4542-A697-22C0B32A860E}" srcId="{9AF0BD01-035D-4679-B129-0AF9B1A915E2}" destId="{D74B8217-3255-4240-8732-0397E563F72D}" srcOrd="0" destOrd="0" parTransId="{44BCB142-7770-407B-B3FC-BF0E7F6C4933}" sibTransId="{62E64BD6-01F5-471E-97B9-BD62E73CDEF4}"/>
    <dgm:cxn modelId="{3B23BBFD-B776-47F9-8264-35E145E9FF88}" srcId="{9AF0BD01-035D-4679-B129-0AF9B1A915E2}" destId="{756B6E50-DAA6-4258-8CFD-08932EC6A042}" srcOrd="1" destOrd="0" parTransId="{0A8C9D57-8B3B-4037-BD1A-50CD2EC07214}" sibTransId="{0812C184-14D1-49ED-914B-C2CF30278F9D}"/>
    <dgm:cxn modelId="{2B64BFE4-EA1D-460F-9B5B-DBD7E13DC8E6}" type="presOf" srcId="{994CF1F4-2732-4AB8-8227-C604B16962DD}" destId="{ADC6FB53-26A8-4358-956F-33CD97D623A0}" srcOrd="0" destOrd="0" presId="urn:microsoft.com/office/officeart/2005/8/layout/vList2"/>
    <dgm:cxn modelId="{7C817F9D-C767-4D60-A4E4-37109CCBED3C}" type="presOf" srcId="{376CDA48-94C4-4CDF-977E-8FAFD76D511B}" destId="{C2C382E9-3334-4EC2-821F-32DCA64F321E}" srcOrd="0" destOrd="4" presId="urn:microsoft.com/office/officeart/2005/8/layout/vList2"/>
    <dgm:cxn modelId="{E2D470B0-EF4F-458E-9E6B-72E28A000CCE}" srcId="{9AF0BD01-035D-4679-B129-0AF9B1A915E2}" destId="{376CDA48-94C4-4CDF-977E-8FAFD76D511B}" srcOrd="4" destOrd="0" parTransId="{EA5451D3-199B-4998-993A-2756586CFFBA}" sibTransId="{C9046F97-7378-4E11-B06C-D2D613036A9F}"/>
    <dgm:cxn modelId="{9D2ED189-CC8F-4BE8-B499-26D386A925C1}" type="presOf" srcId="{756B6E50-DAA6-4258-8CFD-08932EC6A042}" destId="{C2C382E9-3334-4EC2-821F-32DCA64F321E}" srcOrd="0" destOrd="1" presId="urn:microsoft.com/office/officeart/2005/8/layout/vList2"/>
    <dgm:cxn modelId="{8671F1DE-FDF6-4C31-81B7-669A6D5FEC61}" type="presOf" srcId="{9AF0BD01-035D-4679-B129-0AF9B1A915E2}" destId="{8315F585-49E5-4AE1-84E8-C926F2BB84A6}" srcOrd="0" destOrd="0" presId="urn:microsoft.com/office/officeart/2005/8/layout/vList2"/>
    <dgm:cxn modelId="{2AC927FA-37F5-4089-98FC-0598A90B99F7}" type="presOf" srcId="{436236F5-353B-4908-9873-F2992CFD1A9D}" destId="{C2C382E9-3334-4EC2-821F-32DCA64F321E}" srcOrd="0" destOrd="2" presId="urn:microsoft.com/office/officeart/2005/8/layout/vList2"/>
    <dgm:cxn modelId="{B81222F1-DE9E-4CB9-BE60-6F7BF4B26BA1}" srcId="{9AF0BD01-035D-4679-B129-0AF9B1A915E2}" destId="{436236F5-353B-4908-9873-F2992CFD1A9D}" srcOrd="2" destOrd="0" parTransId="{BBBC11F3-E89A-4B58-B37B-A1491C4F9B6D}" sibTransId="{025FA84F-6A51-41FB-989A-C1D211D2FE41}"/>
    <dgm:cxn modelId="{D5C41C23-C0E1-4842-8925-23789FEC01AA}" type="presParOf" srcId="{ADC6FB53-26A8-4358-956F-33CD97D623A0}" destId="{8315F585-49E5-4AE1-84E8-C926F2BB84A6}" srcOrd="0" destOrd="0" presId="urn:microsoft.com/office/officeart/2005/8/layout/vList2"/>
    <dgm:cxn modelId="{3AEA5D88-95F5-4309-A0ED-E1A79BFA72D7}" type="presParOf" srcId="{ADC6FB53-26A8-4358-956F-33CD97D623A0}" destId="{C2C382E9-3334-4EC2-821F-32DCA64F321E}" srcOrd="1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7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392B82CD-7B60-4D82-BAEA-866EAC65A579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32BA8031-26E7-407C-A5E6-D78B8EE38B22}">
      <dgm:prSet/>
      <dgm:spPr/>
      <dgm:t>
        <a:bodyPr/>
        <a:lstStyle/>
        <a:p>
          <a:pPr rtl="0"/>
          <a:r>
            <a:rPr lang="pl-PL" dirty="0" err="1" smtClean="0"/>
            <a:t>Files</a:t>
          </a:r>
          <a:r>
            <a:rPr lang="pl-PL" dirty="0" smtClean="0"/>
            <a:t> format:</a:t>
          </a:r>
          <a:endParaRPr lang="pl-PL" dirty="0"/>
        </a:p>
      </dgm:t>
    </dgm:pt>
    <dgm:pt modelId="{01155F96-F3C2-4250-BA37-4B3672E9D386}" type="parTrans" cxnId="{A57B7C3A-452A-44C6-9FEE-3B640EF71608}">
      <dgm:prSet/>
      <dgm:spPr/>
      <dgm:t>
        <a:bodyPr/>
        <a:lstStyle/>
        <a:p>
          <a:endParaRPr lang="pl-PL"/>
        </a:p>
      </dgm:t>
    </dgm:pt>
    <dgm:pt modelId="{66BE1EA5-713D-4AD6-9DB0-C344ABAAD82C}" type="sibTrans" cxnId="{A57B7C3A-452A-44C6-9FEE-3B640EF71608}">
      <dgm:prSet/>
      <dgm:spPr/>
      <dgm:t>
        <a:bodyPr/>
        <a:lstStyle/>
        <a:p>
          <a:endParaRPr lang="pl-PL"/>
        </a:p>
      </dgm:t>
    </dgm:pt>
    <dgm:pt modelId="{24B8B2DE-EF26-498B-9009-037B75D7F653}">
      <dgm:prSet/>
      <dgm:spPr/>
      <dgm:t>
        <a:bodyPr/>
        <a:lstStyle/>
        <a:p>
          <a:pPr rtl="0"/>
          <a:r>
            <a:rPr lang="pl-PL" dirty="0" smtClean="0"/>
            <a:t>Flat </a:t>
          </a:r>
          <a:r>
            <a:rPr lang="pl-PL" dirty="0" err="1" smtClean="0"/>
            <a:t>files</a:t>
          </a:r>
          <a:r>
            <a:rPr lang="pl-PL" dirty="0" smtClean="0"/>
            <a:t>,</a:t>
          </a:r>
          <a:endParaRPr lang="pl-PL" dirty="0"/>
        </a:p>
      </dgm:t>
    </dgm:pt>
    <dgm:pt modelId="{BF3042B6-1D4A-405C-92B0-F07BA59305D1}" type="parTrans" cxnId="{9822A328-15BB-4BF9-98CB-FFF1B62DD63B}">
      <dgm:prSet/>
      <dgm:spPr/>
      <dgm:t>
        <a:bodyPr/>
        <a:lstStyle/>
        <a:p>
          <a:endParaRPr lang="pl-PL"/>
        </a:p>
      </dgm:t>
    </dgm:pt>
    <dgm:pt modelId="{683F4701-BD4B-4C18-9732-8E3E034B3521}" type="sibTrans" cxnId="{9822A328-15BB-4BF9-98CB-FFF1B62DD63B}">
      <dgm:prSet/>
      <dgm:spPr/>
      <dgm:t>
        <a:bodyPr/>
        <a:lstStyle/>
        <a:p>
          <a:endParaRPr lang="pl-PL"/>
        </a:p>
      </dgm:t>
    </dgm:pt>
    <dgm:pt modelId="{B6AD9A28-8AAB-4F45-BEDC-DDC400F39CA0}">
      <dgm:prSet/>
      <dgm:spPr/>
      <dgm:t>
        <a:bodyPr/>
        <a:lstStyle/>
        <a:p>
          <a:pPr rtl="0"/>
          <a:r>
            <a:rPr lang="pl-PL" dirty="0" smtClean="0"/>
            <a:t>XML </a:t>
          </a:r>
          <a:r>
            <a:rPr lang="pl-PL" dirty="0" err="1" smtClean="0"/>
            <a:t>files</a:t>
          </a:r>
          <a:r>
            <a:rPr lang="pl-PL" dirty="0" smtClean="0"/>
            <a:t>,</a:t>
          </a:r>
          <a:endParaRPr lang="pl-PL" dirty="0"/>
        </a:p>
      </dgm:t>
    </dgm:pt>
    <dgm:pt modelId="{8164852B-BEAB-4A96-802D-66E368D85FA8}" type="parTrans" cxnId="{A23A824A-189E-4E8D-9749-2A280739CA2C}">
      <dgm:prSet/>
      <dgm:spPr/>
      <dgm:t>
        <a:bodyPr/>
        <a:lstStyle/>
        <a:p>
          <a:endParaRPr lang="pl-PL"/>
        </a:p>
      </dgm:t>
    </dgm:pt>
    <dgm:pt modelId="{0A4A16FB-FBB1-49E6-B045-F13BCB496EC8}" type="sibTrans" cxnId="{A23A824A-189E-4E8D-9749-2A280739CA2C}">
      <dgm:prSet/>
      <dgm:spPr/>
      <dgm:t>
        <a:bodyPr/>
        <a:lstStyle/>
        <a:p>
          <a:endParaRPr lang="pl-PL"/>
        </a:p>
      </dgm:t>
    </dgm:pt>
    <dgm:pt modelId="{E71118CE-7578-4EF0-B542-EC5CC199346F}">
      <dgm:prSet/>
      <dgm:spPr/>
      <dgm:t>
        <a:bodyPr/>
        <a:lstStyle/>
        <a:p>
          <a:pPr rtl="0"/>
          <a:r>
            <a:rPr lang="pl-PL" dirty="0" err="1" smtClean="0"/>
            <a:t>Local</a:t>
          </a:r>
          <a:r>
            <a:rPr lang="pl-PL" dirty="0" smtClean="0"/>
            <a:t> </a:t>
          </a:r>
          <a:r>
            <a:rPr lang="pl-PL" dirty="0" err="1" smtClean="0"/>
            <a:t>Databases</a:t>
          </a:r>
          <a:r>
            <a:rPr lang="pl-PL" dirty="0" smtClean="0"/>
            <a:t> XML </a:t>
          </a:r>
          <a:r>
            <a:rPr lang="pl-PL" dirty="0" err="1" smtClean="0"/>
            <a:t>files</a:t>
          </a:r>
          <a:r>
            <a:rPr lang="pl-PL" dirty="0" smtClean="0"/>
            <a:t> </a:t>
          </a:r>
          <a:r>
            <a:rPr lang="pl-PL" dirty="0" err="1" smtClean="0"/>
            <a:t>integration</a:t>
          </a:r>
          <a:r>
            <a:rPr lang="pl-PL" dirty="0" smtClean="0"/>
            <a:t>,</a:t>
          </a:r>
          <a:endParaRPr lang="pl-PL" dirty="0"/>
        </a:p>
      </dgm:t>
    </dgm:pt>
    <dgm:pt modelId="{DDF9EA72-8C79-4479-9398-339BC354CB3D}" type="parTrans" cxnId="{08003ED3-6536-484B-9FA4-1A2989E42EF7}">
      <dgm:prSet/>
      <dgm:spPr/>
      <dgm:t>
        <a:bodyPr/>
        <a:lstStyle/>
        <a:p>
          <a:endParaRPr lang="pl-PL"/>
        </a:p>
      </dgm:t>
    </dgm:pt>
    <dgm:pt modelId="{F930548A-36DB-4CE6-A850-9FD62EBE3D47}" type="sibTrans" cxnId="{08003ED3-6536-484B-9FA4-1A2989E42EF7}">
      <dgm:prSet/>
      <dgm:spPr/>
      <dgm:t>
        <a:bodyPr/>
        <a:lstStyle/>
        <a:p>
          <a:endParaRPr lang="pl-PL"/>
        </a:p>
      </dgm:t>
    </dgm:pt>
    <dgm:pt modelId="{56792CE5-5C4E-4F10-805B-C043C5BBDEF4}">
      <dgm:prSet/>
      <dgm:spPr/>
      <dgm:t>
        <a:bodyPr/>
        <a:lstStyle/>
        <a:p>
          <a:pPr rtl="0"/>
          <a:endParaRPr lang="pl-PL" dirty="0"/>
        </a:p>
      </dgm:t>
    </dgm:pt>
    <dgm:pt modelId="{2003E04A-56BF-43B8-87DF-48860EDCCAAD}" type="parTrans" cxnId="{F4834BEB-236D-41C6-B880-2D5C4EE92407}">
      <dgm:prSet/>
      <dgm:spPr/>
      <dgm:t>
        <a:bodyPr/>
        <a:lstStyle/>
        <a:p>
          <a:endParaRPr lang="pl-PL"/>
        </a:p>
      </dgm:t>
    </dgm:pt>
    <dgm:pt modelId="{76AC3BE8-DBD2-441A-B05C-D64E2F825B14}" type="sibTrans" cxnId="{F4834BEB-236D-41C6-B880-2D5C4EE92407}">
      <dgm:prSet/>
      <dgm:spPr/>
      <dgm:t>
        <a:bodyPr/>
        <a:lstStyle/>
        <a:p>
          <a:endParaRPr lang="pl-PL"/>
        </a:p>
      </dgm:t>
    </dgm:pt>
    <dgm:pt modelId="{3E6D878B-BDA3-4740-AD4B-3AE032B20756}">
      <dgm:prSet/>
      <dgm:spPr/>
      <dgm:t>
        <a:bodyPr/>
        <a:lstStyle/>
        <a:p>
          <a:pPr rtl="0"/>
          <a:endParaRPr lang="pl-PL" dirty="0"/>
        </a:p>
      </dgm:t>
    </dgm:pt>
    <dgm:pt modelId="{021D0ECB-28A2-4CF0-AF57-45921A2CBB2A}" type="parTrans" cxnId="{13E87569-7B21-4B8B-920A-4A16AAE9F656}">
      <dgm:prSet/>
      <dgm:spPr/>
      <dgm:t>
        <a:bodyPr/>
        <a:lstStyle/>
        <a:p>
          <a:endParaRPr lang="pl-PL"/>
        </a:p>
      </dgm:t>
    </dgm:pt>
    <dgm:pt modelId="{29191E62-C7BA-4765-831C-C6848B8440A0}" type="sibTrans" cxnId="{13E87569-7B21-4B8B-920A-4A16AAE9F656}">
      <dgm:prSet/>
      <dgm:spPr/>
      <dgm:t>
        <a:bodyPr/>
        <a:lstStyle/>
        <a:p>
          <a:endParaRPr lang="pl-PL"/>
        </a:p>
      </dgm:t>
    </dgm:pt>
    <dgm:pt modelId="{4F16C673-4A25-4420-BA97-6CE96B75D3C9}">
      <dgm:prSet/>
      <dgm:spPr/>
      <dgm:t>
        <a:bodyPr/>
        <a:lstStyle/>
        <a:p>
          <a:pPr rtl="0"/>
          <a:endParaRPr lang="pl-PL" dirty="0"/>
        </a:p>
      </dgm:t>
    </dgm:pt>
    <dgm:pt modelId="{BB68D662-5D2C-440B-A3FC-A2014F32EB70}" type="parTrans" cxnId="{87F05BDD-FF60-4625-A76B-F56726F5350D}">
      <dgm:prSet/>
      <dgm:spPr/>
      <dgm:t>
        <a:bodyPr/>
        <a:lstStyle/>
        <a:p>
          <a:endParaRPr lang="pl-PL"/>
        </a:p>
      </dgm:t>
    </dgm:pt>
    <dgm:pt modelId="{14E50F50-7918-400F-A92B-95BB76D8028C}" type="sibTrans" cxnId="{87F05BDD-FF60-4625-A76B-F56726F5350D}">
      <dgm:prSet/>
      <dgm:spPr/>
      <dgm:t>
        <a:bodyPr/>
        <a:lstStyle/>
        <a:p>
          <a:endParaRPr lang="pl-PL"/>
        </a:p>
      </dgm:t>
    </dgm:pt>
    <dgm:pt modelId="{EC474EC3-5B22-4DD3-B964-B649590FBC05}">
      <dgm:prSet/>
      <dgm:spPr/>
      <dgm:t>
        <a:bodyPr/>
        <a:lstStyle/>
        <a:p>
          <a:pPr rtl="0"/>
          <a:endParaRPr lang="pl-PL" dirty="0"/>
        </a:p>
      </dgm:t>
    </dgm:pt>
    <dgm:pt modelId="{ED570035-A3C8-4145-B1D9-7004F50C776D}" type="parTrans" cxnId="{A436656F-25F7-4D99-9B54-3B6394C663B4}">
      <dgm:prSet/>
      <dgm:spPr/>
      <dgm:t>
        <a:bodyPr/>
        <a:lstStyle/>
        <a:p>
          <a:endParaRPr lang="pl-PL"/>
        </a:p>
      </dgm:t>
    </dgm:pt>
    <dgm:pt modelId="{0AF4280A-5CD0-4DB1-B1BF-4529F58FF1AE}" type="sibTrans" cxnId="{A436656F-25F7-4D99-9B54-3B6394C663B4}">
      <dgm:prSet/>
      <dgm:spPr/>
      <dgm:t>
        <a:bodyPr/>
        <a:lstStyle/>
        <a:p>
          <a:endParaRPr lang="pl-PL"/>
        </a:p>
      </dgm:t>
    </dgm:pt>
    <dgm:pt modelId="{F2085B93-35D0-404B-B391-84AF27CE0FBF}">
      <dgm:prSet/>
      <dgm:spPr/>
      <dgm:t>
        <a:bodyPr/>
        <a:lstStyle/>
        <a:p>
          <a:pPr rtl="0"/>
          <a:endParaRPr lang="pl-PL" dirty="0"/>
        </a:p>
      </dgm:t>
    </dgm:pt>
    <dgm:pt modelId="{FF2F6A37-74C3-4B35-9102-479690AD3624}" type="parTrans" cxnId="{CAADA44B-2CA8-4DB3-ABF6-A3A829C0915F}">
      <dgm:prSet/>
      <dgm:spPr/>
      <dgm:t>
        <a:bodyPr/>
        <a:lstStyle/>
        <a:p>
          <a:endParaRPr lang="pl-PL"/>
        </a:p>
      </dgm:t>
    </dgm:pt>
    <dgm:pt modelId="{58769D1E-3D6F-47D5-8C64-A92AC32E7E44}" type="sibTrans" cxnId="{CAADA44B-2CA8-4DB3-ABF6-A3A829C0915F}">
      <dgm:prSet/>
      <dgm:spPr/>
      <dgm:t>
        <a:bodyPr/>
        <a:lstStyle/>
        <a:p>
          <a:endParaRPr lang="pl-PL"/>
        </a:p>
      </dgm:t>
    </dgm:pt>
    <dgm:pt modelId="{A68D4D7B-3DFF-43E5-B981-30254728CA0C}" type="pres">
      <dgm:prSet presAssocID="{392B82CD-7B60-4D82-BAEA-866EAC65A579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2BEF9BE7-330E-48C8-B679-3B164A3778C7}" type="pres">
      <dgm:prSet presAssocID="{32BA8031-26E7-407C-A5E6-D78B8EE38B22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0C4C1444-18FF-4840-BE5C-2D7A1267ED66}" type="pres">
      <dgm:prSet presAssocID="{32BA8031-26E7-407C-A5E6-D78B8EE38B22}" presName="childText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A23A824A-189E-4E8D-9749-2A280739CA2C}" srcId="{32BA8031-26E7-407C-A5E6-D78B8EE38B22}" destId="{B6AD9A28-8AAB-4F45-BEDC-DDC400F39CA0}" srcOrd="1" destOrd="0" parTransId="{8164852B-BEAB-4A96-802D-66E368D85FA8}" sibTransId="{0A4A16FB-FBB1-49E6-B045-F13BCB496EC8}"/>
    <dgm:cxn modelId="{5F3EA59C-95CA-445B-9009-392DF087D2BC}" type="presOf" srcId="{56792CE5-5C4E-4F10-805B-C043C5BBDEF4}" destId="{0C4C1444-18FF-4840-BE5C-2D7A1267ED66}" srcOrd="0" destOrd="7" presId="urn:microsoft.com/office/officeart/2005/8/layout/vList2"/>
    <dgm:cxn modelId="{284A4746-DB80-41C1-8D7F-219BEEA44A82}" type="presOf" srcId="{F2085B93-35D0-404B-B391-84AF27CE0FBF}" destId="{0C4C1444-18FF-4840-BE5C-2D7A1267ED66}" srcOrd="0" destOrd="6" presId="urn:microsoft.com/office/officeart/2005/8/layout/vList2"/>
    <dgm:cxn modelId="{83420B92-812D-4224-8BC2-E8AA51C4296E}" type="presOf" srcId="{24B8B2DE-EF26-498B-9009-037B75D7F653}" destId="{0C4C1444-18FF-4840-BE5C-2D7A1267ED66}" srcOrd="0" destOrd="0" presId="urn:microsoft.com/office/officeart/2005/8/layout/vList2"/>
    <dgm:cxn modelId="{3FA834E5-AD52-4EEE-9962-976F6D1B4F6D}" type="presOf" srcId="{3E6D878B-BDA3-4740-AD4B-3AE032B20756}" destId="{0C4C1444-18FF-4840-BE5C-2D7A1267ED66}" srcOrd="0" destOrd="3" presId="urn:microsoft.com/office/officeart/2005/8/layout/vList2"/>
    <dgm:cxn modelId="{36299833-E42A-47AB-81C7-5280105EED2E}" type="presOf" srcId="{32BA8031-26E7-407C-A5E6-D78B8EE38B22}" destId="{2BEF9BE7-330E-48C8-B679-3B164A3778C7}" srcOrd="0" destOrd="0" presId="urn:microsoft.com/office/officeart/2005/8/layout/vList2"/>
    <dgm:cxn modelId="{CAADA44B-2CA8-4DB3-ABF6-A3A829C0915F}" srcId="{32BA8031-26E7-407C-A5E6-D78B8EE38B22}" destId="{F2085B93-35D0-404B-B391-84AF27CE0FBF}" srcOrd="6" destOrd="0" parTransId="{FF2F6A37-74C3-4B35-9102-479690AD3624}" sibTransId="{58769D1E-3D6F-47D5-8C64-A92AC32E7E44}"/>
    <dgm:cxn modelId="{C1FA9F09-42A5-4C6E-ADD1-AF4FA4DBE406}" type="presOf" srcId="{392B82CD-7B60-4D82-BAEA-866EAC65A579}" destId="{A68D4D7B-3DFF-43E5-B981-30254728CA0C}" srcOrd="0" destOrd="0" presId="urn:microsoft.com/office/officeart/2005/8/layout/vList2"/>
    <dgm:cxn modelId="{A57B7C3A-452A-44C6-9FEE-3B640EF71608}" srcId="{392B82CD-7B60-4D82-BAEA-866EAC65A579}" destId="{32BA8031-26E7-407C-A5E6-D78B8EE38B22}" srcOrd="0" destOrd="0" parTransId="{01155F96-F3C2-4250-BA37-4B3672E9D386}" sibTransId="{66BE1EA5-713D-4AD6-9DB0-C344ABAAD82C}"/>
    <dgm:cxn modelId="{020FB28D-B787-46C3-B234-12B079725608}" type="presOf" srcId="{E71118CE-7578-4EF0-B542-EC5CC199346F}" destId="{0C4C1444-18FF-4840-BE5C-2D7A1267ED66}" srcOrd="0" destOrd="2" presId="urn:microsoft.com/office/officeart/2005/8/layout/vList2"/>
    <dgm:cxn modelId="{A436656F-25F7-4D99-9B54-3B6394C663B4}" srcId="{32BA8031-26E7-407C-A5E6-D78B8EE38B22}" destId="{EC474EC3-5B22-4DD3-B964-B649590FBC05}" srcOrd="5" destOrd="0" parTransId="{ED570035-A3C8-4145-B1D9-7004F50C776D}" sibTransId="{0AF4280A-5CD0-4DB1-B1BF-4529F58FF1AE}"/>
    <dgm:cxn modelId="{08003ED3-6536-484B-9FA4-1A2989E42EF7}" srcId="{32BA8031-26E7-407C-A5E6-D78B8EE38B22}" destId="{E71118CE-7578-4EF0-B542-EC5CC199346F}" srcOrd="2" destOrd="0" parTransId="{DDF9EA72-8C79-4479-9398-339BC354CB3D}" sibTransId="{F930548A-36DB-4CE6-A850-9FD62EBE3D47}"/>
    <dgm:cxn modelId="{F4834BEB-236D-41C6-B880-2D5C4EE92407}" srcId="{32BA8031-26E7-407C-A5E6-D78B8EE38B22}" destId="{56792CE5-5C4E-4F10-805B-C043C5BBDEF4}" srcOrd="7" destOrd="0" parTransId="{2003E04A-56BF-43B8-87DF-48860EDCCAAD}" sibTransId="{76AC3BE8-DBD2-441A-B05C-D64E2F825B14}"/>
    <dgm:cxn modelId="{9822A328-15BB-4BF9-98CB-FFF1B62DD63B}" srcId="{32BA8031-26E7-407C-A5E6-D78B8EE38B22}" destId="{24B8B2DE-EF26-498B-9009-037B75D7F653}" srcOrd="0" destOrd="0" parTransId="{BF3042B6-1D4A-405C-92B0-F07BA59305D1}" sibTransId="{683F4701-BD4B-4C18-9732-8E3E034B3521}"/>
    <dgm:cxn modelId="{92AD037A-E9CC-489E-B5B2-7141C05DCED5}" type="presOf" srcId="{4F16C673-4A25-4420-BA97-6CE96B75D3C9}" destId="{0C4C1444-18FF-4840-BE5C-2D7A1267ED66}" srcOrd="0" destOrd="4" presId="urn:microsoft.com/office/officeart/2005/8/layout/vList2"/>
    <dgm:cxn modelId="{AB6F40ED-EBC3-46DC-ACF4-8B6455F3C654}" type="presOf" srcId="{EC474EC3-5B22-4DD3-B964-B649590FBC05}" destId="{0C4C1444-18FF-4840-BE5C-2D7A1267ED66}" srcOrd="0" destOrd="5" presId="urn:microsoft.com/office/officeart/2005/8/layout/vList2"/>
    <dgm:cxn modelId="{EF7DBC87-4AE6-4516-A236-EA373E27E186}" type="presOf" srcId="{B6AD9A28-8AAB-4F45-BEDC-DDC400F39CA0}" destId="{0C4C1444-18FF-4840-BE5C-2D7A1267ED66}" srcOrd="0" destOrd="1" presId="urn:microsoft.com/office/officeart/2005/8/layout/vList2"/>
    <dgm:cxn modelId="{87F05BDD-FF60-4625-A76B-F56726F5350D}" srcId="{32BA8031-26E7-407C-A5E6-D78B8EE38B22}" destId="{4F16C673-4A25-4420-BA97-6CE96B75D3C9}" srcOrd="4" destOrd="0" parTransId="{BB68D662-5D2C-440B-A3FC-A2014F32EB70}" sibTransId="{14E50F50-7918-400F-A92B-95BB76D8028C}"/>
    <dgm:cxn modelId="{13E87569-7B21-4B8B-920A-4A16AAE9F656}" srcId="{32BA8031-26E7-407C-A5E6-D78B8EE38B22}" destId="{3E6D878B-BDA3-4740-AD4B-3AE032B20756}" srcOrd="3" destOrd="0" parTransId="{021D0ECB-28A2-4CF0-AF57-45921A2CBB2A}" sibTransId="{29191E62-C7BA-4765-831C-C6848B8440A0}"/>
    <dgm:cxn modelId="{F0FC218E-59E8-4DD1-AF6B-3331ABA5AFE3}" type="presParOf" srcId="{A68D4D7B-3DFF-43E5-B981-30254728CA0C}" destId="{2BEF9BE7-330E-48C8-B679-3B164A3778C7}" srcOrd="0" destOrd="0" presId="urn:microsoft.com/office/officeart/2005/8/layout/vList2"/>
    <dgm:cxn modelId="{1939C9F2-4781-4018-9D46-EAF36904A432}" type="presParOf" srcId="{A68D4D7B-3DFF-43E5-B981-30254728CA0C}" destId="{0C4C1444-18FF-4840-BE5C-2D7A1267ED66}" srcOrd="1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994CF1F4-2732-4AB8-8227-C604B16962D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0CAFD500-7CF1-47C4-BFF1-8BDE8FC45418}">
      <dgm:prSet custT="1"/>
      <dgm:spPr/>
      <dgm:t>
        <a:bodyPr/>
        <a:lstStyle/>
        <a:p>
          <a:r>
            <a:rPr lang="en-US" sz="2000" b="1" noProof="0" dirty="0" smtClean="0"/>
            <a:t>Assessment of data sources quality for census:</a:t>
          </a:r>
          <a:endParaRPr lang="en-US" sz="2000" noProof="0" dirty="0"/>
        </a:p>
      </dgm:t>
    </dgm:pt>
    <dgm:pt modelId="{A682B004-112C-4E86-A193-385573CA1CC7}" type="parTrans" cxnId="{042D2757-2F01-42F3-8E7C-2469A5110018}">
      <dgm:prSet/>
      <dgm:spPr/>
      <dgm:t>
        <a:bodyPr/>
        <a:lstStyle/>
        <a:p>
          <a:endParaRPr lang="pl-PL"/>
        </a:p>
      </dgm:t>
    </dgm:pt>
    <dgm:pt modelId="{F32F822D-FFDC-4182-B550-E228BE4BE0E0}" type="sibTrans" cxnId="{042D2757-2F01-42F3-8E7C-2469A5110018}">
      <dgm:prSet/>
      <dgm:spPr/>
      <dgm:t>
        <a:bodyPr/>
        <a:lstStyle/>
        <a:p>
          <a:endParaRPr lang="pl-PL"/>
        </a:p>
      </dgm:t>
    </dgm:pt>
    <dgm:pt modelId="{B4DD8BAD-B014-485D-8BE7-6BE2230E64A0}">
      <dgm:prSet custT="1"/>
      <dgm:spPr/>
      <dgm:t>
        <a:bodyPr/>
        <a:lstStyle/>
        <a:p>
          <a:r>
            <a:rPr lang="en-US" sz="2000" b="1" noProof="0" dirty="0" smtClean="0"/>
            <a:t>analyses of methodological compliance of concepts definitions from </a:t>
          </a:r>
          <a:r>
            <a:rPr lang="pl-PL" sz="2000" b="1" noProof="0" dirty="0" err="1" smtClean="0"/>
            <a:t>registers</a:t>
          </a:r>
          <a:r>
            <a:rPr lang="pl-PL" sz="2000" b="1" noProof="0" dirty="0" smtClean="0"/>
            <a:t> </a:t>
          </a:r>
          <a:r>
            <a:rPr lang="en-US" sz="2000" b="1" noProof="0" dirty="0" smtClean="0"/>
            <a:t>with those adopted in statistics and the UNECE and EUROSTAT Recommendations for the 2010 Censuses </a:t>
          </a:r>
          <a:r>
            <a:rPr lang="pl-PL" sz="2000" b="1" noProof="0" dirty="0" smtClean="0"/>
            <a:t>on </a:t>
          </a:r>
          <a:r>
            <a:rPr lang="en-US" sz="2000" b="1" noProof="0" dirty="0" smtClean="0"/>
            <a:t>Population and Housing,</a:t>
          </a:r>
          <a:endParaRPr lang="en-US" sz="2000" noProof="0" dirty="0"/>
        </a:p>
      </dgm:t>
    </dgm:pt>
    <dgm:pt modelId="{0F0BA702-C31A-4B9B-99B4-F0A1F0CF8124}" type="parTrans" cxnId="{D7174B9C-892C-427D-A4E2-B38078CF44AE}">
      <dgm:prSet/>
      <dgm:spPr/>
      <dgm:t>
        <a:bodyPr/>
        <a:lstStyle/>
        <a:p>
          <a:endParaRPr lang="pl-PL"/>
        </a:p>
      </dgm:t>
    </dgm:pt>
    <dgm:pt modelId="{0BE31BC1-59B3-4FA1-909D-C14ECD40B574}" type="sibTrans" cxnId="{D7174B9C-892C-427D-A4E2-B38078CF44AE}">
      <dgm:prSet/>
      <dgm:spPr/>
      <dgm:t>
        <a:bodyPr/>
        <a:lstStyle/>
        <a:p>
          <a:endParaRPr lang="pl-PL"/>
        </a:p>
      </dgm:t>
    </dgm:pt>
    <dgm:pt modelId="{C1DAAE7A-32BE-4F95-AA7A-7AB0AA406CDA}">
      <dgm:prSet custT="1"/>
      <dgm:spPr/>
      <dgm:t>
        <a:bodyPr/>
        <a:lstStyle/>
        <a:p>
          <a:r>
            <a:rPr lang="en-US" sz="2000" b="1" noProof="0" dirty="0" smtClean="0"/>
            <a:t>developing methodology for compliance analyses,</a:t>
          </a:r>
          <a:endParaRPr lang="en-US" sz="2000" noProof="0" dirty="0"/>
        </a:p>
      </dgm:t>
    </dgm:pt>
    <dgm:pt modelId="{92F6ED8C-4D39-4583-98D3-040E64F17365}" type="parTrans" cxnId="{47757584-000C-4C38-A514-56ADADF67772}">
      <dgm:prSet/>
      <dgm:spPr/>
      <dgm:t>
        <a:bodyPr/>
        <a:lstStyle/>
        <a:p>
          <a:endParaRPr lang="pl-PL"/>
        </a:p>
      </dgm:t>
    </dgm:pt>
    <dgm:pt modelId="{CA381916-1BBE-4461-A6FC-8440ACC4BC1B}" type="sibTrans" cxnId="{47757584-000C-4C38-A514-56ADADF67772}">
      <dgm:prSet/>
      <dgm:spPr/>
      <dgm:t>
        <a:bodyPr/>
        <a:lstStyle/>
        <a:p>
          <a:endParaRPr lang="pl-PL"/>
        </a:p>
      </dgm:t>
    </dgm:pt>
    <dgm:pt modelId="{F8F6038E-B715-4A5D-A794-1038883CAE10}">
      <dgm:prSet custT="1"/>
      <dgm:spPr/>
      <dgm:t>
        <a:bodyPr/>
        <a:lstStyle/>
        <a:p>
          <a:r>
            <a:rPr lang="en-US" sz="2000" b="1" noProof="0" dirty="0" smtClean="0"/>
            <a:t>constructing </a:t>
          </a:r>
          <a:r>
            <a:rPr lang="pl-PL" sz="2000" b="1" noProof="0" dirty="0" err="1" smtClean="0"/>
            <a:t>the</a:t>
          </a:r>
          <a:r>
            <a:rPr lang="en-US" sz="2000" b="1" noProof="0" dirty="0" smtClean="0"/>
            <a:t> IT system </a:t>
          </a:r>
          <a:r>
            <a:rPr lang="en-US" sz="2000" b="1" noProof="0" dirty="0" err="1" smtClean="0"/>
            <a:t>PiK</a:t>
          </a:r>
          <a:r>
            <a:rPr lang="en-US" sz="2000" b="1" noProof="0" dirty="0" smtClean="0"/>
            <a:t> for describing, comparing and assessing coherence level,</a:t>
          </a:r>
          <a:endParaRPr lang="en-US" sz="2000" noProof="0" dirty="0"/>
        </a:p>
      </dgm:t>
    </dgm:pt>
    <dgm:pt modelId="{EBE60EDC-ADDF-423C-ACAA-2F7590066495}" type="parTrans" cxnId="{FBEED543-5F82-4503-9E1D-816F2F33A993}">
      <dgm:prSet/>
      <dgm:spPr/>
      <dgm:t>
        <a:bodyPr/>
        <a:lstStyle/>
        <a:p>
          <a:endParaRPr lang="pl-PL"/>
        </a:p>
      </dgm:t>
    </dgm:pt>
    <dgm:pt modelId="{615196CB-5D2A-41CE-834C-C681D5E77920}" type="sibTrans" cxnId="{FBEED543-5F82-4503-9E1D-816F2F33A993}">
      <dgm:prSet/>
      <dgm:spPr/>
      <dgm:t>
        <a:bodyPr/>
        <a:lstStyle/>
        <a:p>
          <a:endParaRPr lang="pl-PL"/>
        </a:p>
      </dgm:t>
    </dgm:pt>
    <dgm:pt modelId="{F8F217F5-E46A-426E-84D0-420ABB1EC07B}">
      <dgm:prSet custT="1"/>
      <dgm:spPr/>
      <dgm:t>
        <a:bodyPr/>
        <a:lstStyle/>
        <a:p>
          <a:r>
            <a:rPr lang="en-US" sz="3200" b="1" dirty="0" err="1" smtClean="0"/>
            <a:t>Datasources</a:t>
          </a:r>
          <a:r>
            <a:rPr lang="en-US" sz="3200" b="1" dirty="0" smtClean="0"/>
            <a:t> </a:t>
          </a:r>
          <a:r>
            <a:rPr lang="pl-PL" sz="1300" b="1" dirty="0" smtClean="0"/>
            <a:t/>
          </a:r>
          <a:br>
            <a:rPr lang="pl-PL" sz="1300" b="1" dirty="0" smtClean="0"/>
          </a:br>
          <a:r>
            <a:rPr lang="en-GB" sz="2800" b="1" dirty="0" smtClean="0">
              <a:solidFill>
                <a:srgbClr val="FF3300"/>
              </a:solidFill>
            </a:rPr>
            <a:t>Q</a:t>
          </a:r>
          <a:r>
            <a:rPr lang="en-US" sz="2800" b="1" dirty="0" err="1" smtClean="0">
              <a:solidFill>
                <a:srgbClr val="FF3300"/>
              </a:solidFill>
            </a:rPr>
            <a:t>uality</a:t>
          </a:r>
          <a:r>
            <a:rPr lang="en-US" sz="2800" b="1" dirty="0" smtClean="0">
              <a:solidFill>
                <a:srgbClr val="FF3300"/>
              </a:solidFill>
            </a:rPr>
            <a:t> aspects:</a:t>
          </a:r>
          <a:r>
            <a:rPr lang="en-GB" sz="2800" b="1" dirty="0" smtClean="0">
              <a:solidFill>
                <a:srgbClr val="FF3300"/>
              </a:solidFill>
            </a:rPr>
            <a:t> </a:t>
          </a:r>
          <a:r>
            <a:rPr lang="en-GB" sz="2800" b="1" dirty="0" smtClean="0">
              <a:solidFill>
                <a:srgbClr val="FFFF00"/>
              </a:solidFill>
            </a:rPr>
            <a:t>accuracy, </a:t>
          </a:r>
          <a:r>
            <a:rPr lang="en-US" sz="2800" b="1" dirty="0" smtClean="0">
              <a:solidFill>
                <a:srgbClr val="FFFF00"/>
              </a:solidFill>
            </a:rPr>
            <a:t>timeliness and punctuality</a:t>
          </a:r>
          <a:r>
            <a:rPr lang="pl-PL" sz="2800" b="1" dirty="0" smtClean="0">
              <a:solidFill>
                <a:srgbClr val="FFFF00"/>
              </a:solidFill>
            </a:rPr>
            <a:t>, </a:t>
          </a:r>
          <a:r>
            <a:rPr lang="en-US" sz="2800" b="1" dirty="0" smtClean="0">
              <a:solidFill>
                <a:srgbClr val="FFFF00"/>
              </a:solidFill>
            </a:rPr>
            <a:t>comparability and coherence</a:t>
          </a:r>
          <a:r>
            <a:rPr lang="pl-PL" sz="2800" b="1" dirty="0" smtClean="0">
              <a:solidFill>
                <a:srgbClr val="FFFF00"/>
              </a:solidFill>
            </a:rPr>
            <a:t>, </a:t>
          </a:r>
          <a:r>
            <a:rPr lang="en-GB" sz="2800" b="1" dirty="0" smtClean="0">
              <a:solidFill>
                <a:srgbClr val="FFFF00"/>
              </a:solidFill>
            </a:rPr>
            <a:t>costs including the burden on respondents, information security</a:t>
          </a:r>
          <a:endParaRPr lang="pl-PL" sz="2800" b="1" dirty="0">
            <a:solidFill>
              <a:srgbClr val="FFFF00"/>
            </a:solidFill>
          </a:endParaRPr>
        </a:p>
      </dgm:t>
    </dgm:pt>
    <dgm:pt modelId="{04FA6192-FA04-43CC-842B-89D210F9E8EA}" type="parTrans" cxnId="{102E70E2-9FF9-49B0-B543-EE55B9F883A5}">
      <dgm:prSet/>
      <dgm:spPr/>
      <dgm:t>
        <a:bodyPr/>
        <a:lstStyle/>
        <a:p>
          <a:endParaRPr lang="pl-PL"/>
        </a:p>
      </dgm:t>
    </dgm:pt>
    <dgm:pt modelId="{6EED3AD2-2F4E-4595-8344-30CF85E5E9BF}" type="sibTrans" cxnId="{102E70E2-9FF9-49B0-B543-EE55B9F883A5}">
      <dgm:prSet/>
      <dgm:spPr/>
      <dgm:t>
        <a:bodyPr/>
        <a:lstStyle/>
        <a:p>
          <a:endParaRPr lang="pl-PL"/>
        </a:p>
      </dgm:t>
    </dgm:pt>
    <dgm:pt modelId="{ADC6FB53-26A8-4358-956F-33CD97D623A0}" type="pres">
      <dgm:prSet presAssocID="{994CF1F4-2732-4AB8-8227-C604B16962D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077A01B9-6C71-4DB9-AC09-73099ECE0AC8}" type="pres">
      <dgm:prSet presAssocID="{F8F217F5-E46A-426E-84D0-420ABB1EC07B}" presName="parentText" presStyleLbl="node1" presStyleIdx="0" presStyleCnt="1" custScaleY="89090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9EC087C6-236F-466A-B473-28A3CBFAB76A}" type="pres">
      <dgm:prSet presAssocID="{F8F217F5-E46A-426E-84D0-420ABB1EC07B}" presName="childText" presStyleLbl="revTx" presStyleIdx="0" presStyleCnt="1" custScaleY="95489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8AB83367-D5F0-4726-B69A-DA93CEB8EF86}" type="presOf" srcId="{994CF1F4-2732-4AB8-8227-C604B16962DD}" destId="{ADC6FB53-26A8-4358-956F-33CD97D623A0}" srcOrd="0" destOrd="0" presId="urn:microsoft.com/office/officeart/2005/8/layout/vList2"/>
    <dgm:cxn modelId="{47757584-000C-4C38-A514-56ADADF67772}" srcId="{B4DD8BAD-B014-485D-8BE7-6BE2230E64A0}" destId="{C1DAAE7A-32BE-4F95-AA7A-7AB0AA406CDA}" srcOrd="0" destOrd="0" parTransId="{92F6ED8C-4D39-4583-98D3-040E64F17365}" sibTransId="{CA381916-1BBE-4461-A6FC-8440ACC4BC1B}"/>
    <dgm:cxn modelId="{042D2757-2F01-42F3-8E7C-2469A5110018}" srcId="{F8F217F5-E46A-426E-84D0-420ABB1EC07B}" destId="{0CAFD500-7CF1-47C4-BFF1-8BDE8FC45418}" srcOrd="0" destOrd="0" parTransId="{A682B004-112C-4E86-A193-385573CA1CC7}" sibTransId="{F32F822D-FFDC-4182-B550-E228BE4BE0E0}"/>
    <dgm:cxn modelId="{102E70E2-9FF9-49B0-B543-EE55B9F883A5}" srcId="{994CF1F4-2732-4AB8-8227-C604B16962DD}" destId="{F8F217F5-E46A-426E-84D0-420ABB1EC07B}" srcOrd="0" destOrd="0" parTransId="{04FA6192-FA04-43CC-842B-89D210F9E8EA}" sibTransId="{6EED3AD2-2F4E-4595-8344-30CF85E5E9BF}"/>
    <dgm:cxn modelId="{3ECA08DA-DA62-44CA-B5D3-A9AE6CF41D99}" type="presOf" srcId="{F8F6038E-B715-4A5D-A794-1038883CAE10}" destId="{9EC087C6-236F-466A-B473-28A3CBFAB76A}" srcOrd="0" destOrd="3" presId="urn:microsoft.com/office/officeart/2005/8/layout/vList2"/>
    <dgm:cxn modelId="{78654A21-A04E-4BAA-90E4-AD7FB708017E}" type="presOf" srcId="{F8F217F5-E46A-426E-84D0-420ABB1EC07B}" destId="{077A01B9-6C71-4DB9-AC09-73099ECE0AC8}" srcOrd="0" destOrd="0" presId="urn:microsoft.com/office/officeart/2005/8/layout/vList2"/>
    <dgm:cxn modelId="{FBEED543-5F82-4503-9E1D-816F2F33A993}" srcId="{B4DD8BAD-B014-485D-8BE7-6BE2230E64A0}" destId="{F8F6038E-B715-4A5D-A794-1038883CAE10}" srcOrd="1" destOrd="0" parTransId="{EBE60EDC-ADDF-423C-ACAA-2F7590066495}" sibTransId="{615196CB-5D2A-41CE-834C-C681D5E77920}"/>
    <dgm:cxn modelId="{8D20FD99-C64D-4E70-93ED-A9D2B7900A25}" type="presOf" srcId="{B4DD8BAD-B014-485D-8BE7-6BE2230E64A0}" destId="{9EC087C6-236F-466A-B473-28A3CBFAB76A}" srcOrd="0" destOrd="1" presId="urn:microsoft.com/office/officeart/2005/8/layout/vList2"/>
    <dgm:cxn modelId="{E6C9F93F-6829-400C-82DC-3036CE98D722}" type="presOf" srcId="{0CAFD500-7CF1-47C4-BFF1-8BDE8FC45418}" destId="{9EC087C6-236F-466A-B473-28A3CBFAB76A}" srcOrd="0" destOrd="0" presId="urn:microsoft.com/office/officeart/2005/8/layout/vList2"/>
    <dgm:cxn modelId="{EC4D28F2-493B-4B68-BABA-B50586672C20}" type="presOf" srcId="{C1DAAE7A-32BE-4F95-AA7A-7AB0AA406CDA}" destId="{9EC087C6-236F-466A-B473-28A3CBFAB76A}" srcOrd="0" destOrd="2" presId="urn:microsoft.com/office/officeart/2005/8/layout/vList2"/>
    <dgm:cxn modelId="{D7174B9C-892C-427D-A4E2-B38078CF44AE}" srcId="{0CAFD500-7CF1-47C4-BFF1-8BDE8FC45418}" destId="{B4DD8BAD-B014-485D-8BE7-6BE2230E64A0}" srcOrd="0" destOrd="0" parTransId="{0F0BA702-C31A-4B9B-99B4-F0A1F0CF8124}" sibTransId="{0BE31BC1-59B3-4FA1-909D-C14ECD40B574}"/>
    <dgm:cxn modelId="{B26C48C2-F86C-4AC1-8C95-56103E527BFD}" type="presParOf" srcId="{ADC6FB53-26A8-4358-956F-33CD97D623A0}" destId="{077A01B9-6C71-4DB9-AC09-73099ECE0AC8}" srcOrd="0" destOrd="0" presId="urn:microsoft.com/office/officeart/2005/8/layout/vList2"/>
    <dgm:cxn modelId="{C7B4C2B2-4F8C-451D-9FDB-CDF91310D7B7}" type="presParOf" srcId="{ADC6FB53-26A8-4358-956F-33CD97D623A0}" destId="{9EC087C6-236F-466A-B473-28A3CBFAB76A}" srcOrd="1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994CF1F4-2732-4AB8-8227-C604B16962D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5E604D2D-4E0A-45E6-8B78-555D7202C73F}">
      <dgm:prSet/>
      <dgm:spPr/>
      <dgm:t>
        <a:bodyPr/>
        <a:lstStyle/>
        <a:p>
          <a:r>
            <a:rPr lang="en-US" b="1" noProof="0" dirty="0" smtClean="0"/>
            <a:t>evaluation and description of sources quality,</a:t>
          </a:r>
          <a:endParaRPr lang="en-US" noProof="0" dirty="0"/>
        </a:p>
      </dgm:t>
    </dgm:pt>
    <dgm:pt modelId="{F80E97E1-CD07-4D58-A765-12E393D89BDB}" type="parTrans" cxnId="{108DA66C-BEC2-4A6E-920F-AE13C0E54ADF}">
      <dgm:prSet/>
      <dgm:spPr/>
      <dgm:t>
        <a:bodyPr/>
        <a:lstStyle/>
        <a:p>
          <a:endParaRPr lang="pl-PL"/>
        </a:p>
      </dgm:t>
    </dgm:pt>
    <dgm:pt modelId="{CDEEEFF1-9D8B-4288-B5B8-858B4F703235}" type="sibTrans" cxnId="{108DA66C-BEC2-4A6E-920F-AE13C0E54ADF}">
      <dgm:prSet/>
      <dgm:spPr/>
      <dgm:t>
        <a:bodyPr/>
        <a:lstStyle/>
        <a:p>
          <a:endParaRPr lang="pl-PL"/>
        </a:p>
      </dgm:t>
    </dgm:pt>
    <dgm:pt modelId="{D34C0156-AA39-4353-B22C-D09D3FC1D751}">
      <dgm:prSet/>
      <dgm:spPr/>
      <dgm:t>
        <a:bodyPr/>
        <a:lstStyle/>
        <a:p>
          <a:r>
            <a:rPr lang="pl-PL" b="1" noProof="0" dirty="0" smtClean="0"/>
            <a:t>MATRIX</a:t>
          </a:r>
          <a:r>
            <a:rPr lang="en-US" b="1" noProof="0" dirty="0" smtClean="0"/>
            <a:t> that represents the possibility of obtaining the values for the census from registers:</a:t>
          </a:r>
          <a:endParaRPr lang="en-US" noProof="0" dirty="0"/>
        </a:p>
      </dgm:t>
    </dgm:pt>
    <dgm:pt modelId="{E5EFBD04-6D7F-4D20-92BA-E52D2E8796D3}" type="parTrans" cxnId="{B1F68508-6DAB-428D-A85F-CB8120BA4553}">
      <dgm:prSet/>
      <dgm:spPr/>
      <dgm:t>
        <a:bodyPr/>
        <a:lstStyle/>
        <a:p>
          <a:endParaRPr lang="pl-PL"/>
        </a:p>
      </dgm:t>
    </dgm:pt>
    <dgm:pt modelId="{4B6865C5-81B0-47E6-956A-635D1980EC01}" type="sibTrans" cxnId="{B1F68508-6DAB-428D-A85F-CB8120BA4553}">
      <dgm:prSet/>
      <dgm:spPr/>
      <dgm:t>
        <a:bodyPr/>
        <a:lstStyle/>
        <a:p>
          <a:endParaRPr lang="pl-PL"/>
        </a:p>
      </dgm:t>
    </dgm:pt>
    <dgm:pt modelId="{0CAFD500-7CF1-47C4-BFF1-8BDE8FC45418}">
      <dgm:prSet/>
      <dgm:spPr/>
      <dgm:t>
        <a:bodyPr/>
        <a:lstStyle/>
        <a:p>
          <a:r>
            <a:rPr lang="en-US" b="1" noProof="0" dirty="0" smtClean="0"/>
            <a:t>developing methodology for assessing the quality: dimensions, quality indicators,</a:t>
          </a:r>
          <a:endParaRPr lang="en-US" noProof="0" dirty="0"/>
        </a:p>
      </dgm:t>
    </dgm:pt>
    <dgm:pt modelId="{F32F822D-FFDC-4182-B550-E228BE4BE0E0}" type="sibTrans" cxnId="{042D2757-2F01-42F3-8E7C-2469A5110018}">
      <dgm:prSet/>
      <dgm:spPr/>
      <dgm:t>
        <a:bodyPr/>
        <a:lstStyle/>
        <a:p>
          <a:endParaRPr lang="pl-PL"/>
        </a:p>
      </dgm:t>
    </dgm:pt>
    <dgm:pt modelId="{A682B004-112C-4E86-A193-385573CA1CC7}" type="parTrans" cxnId="{042D2757-2F01-42F3-8E7C-2469A5110018}">
      <dgm:prSet/>
      <dgm:spPr/>
      <dgm:t>
        <a:bodyPr/>
        <a:lstStyle/>
        <a:p>
          <a:endParaRPr lang="pl-PL"/>
        </a:p>
      </dgm:t>
    </dgm:pt>
    <dgm:pt modelId="{E18FEAD7-00F1-45F7-A6E2-F7655B32480A}">
      <dgm:prSet/>
      <dgm:spPr/>
      <dgm:t>
        <a:bodyPr/>
        <a:lstStyle/>
        <a:p>
          <a:r>
            <a:rPr lang="pl-PL" dirty="0" err="1" smtClean="0"/>
            <a:t>Registers</a:t>
          </a:r>
          <a:endParaRPr lang="pl-PL" dirty="0"/>
        </a:p>
      </dgm:t>
    </dgm:pt>
    <dgm:pt modelId="{F6E988C6-051B-4AA2-BE3B-A524740E5E68}" type="parTrans" cxnId="{C162039C-C859-4AAA-95BE-4AFCEC5A6B69}">
      <dgm:prSet/>
      <dgm:spPr/>
      <dgm:t>
        <a:bodyPr/>
        <a:lstStyle/>
        <a:p>
          <a:endParaRPr lang="pl-PL"/>
        </a:p>
      </dgm:t>
    </dgm:pt>
    <dgm:pt modelId="{177BD548-413E-4F8E-A7CB-FF5AB369ECA5}" type="sibTrans" cxnId="{C162039C-C859-4AAA-95BE-4AFCEC5A6B69}">
      <dgm:prSet/>
      <dgm:spPr/>
      <dgm:t>
        <a:bodyPr/>
        <a:lstStyle/>
        <a:p>
          <a:endParaRPr lang="pl-PL"/>
        </a:p>
      </dgm:t>
    </dgm:pt>
    <dgm:pt modelId="{5D6B1430-477B-4B88-A22A-D6FD86CF35FC}">
      <dgm:prSet/>
      <dgm:spPr/>
      <dgm:t>
        <a:bodyPr/>
        <a:lstStyle/>
        <a:p>
          <a:r>
            <a:rPr lang="en-US" b="1" noProof="0" dirty="0" smtClean="0"/>
            <a:t>census variable compliance indicators (methodology compliance</a:t>
          </a:r>
          <a:r>
            <a:rPr lang="pl-PL" b="1" noProof="0" dirty="0" smtClean="0"/>
            <a:t> </a:t>
          </a:r>
          <a:r>
            <a:rPr lang="en-US" b="1" noProof="0" dirty="0" smtClean="0"/>
            <a:t>indicator), </a:t>
          </a:r>
          <a:endParaRPr lang="en-US" noProof="0" dirty="0"/>
        </a:p>
      </dgm:t>
    </dgm:pt>
    <dgm:pt modelId="{D0FED448-7662-4B32-B0E2-66461A21FEF1}" type="parTrans" cxnId="{10A5CD63-3EE7-489F-8DDA-1964CB1C6A99}">
      <dgm:prSet/>
      <dgm:spPr/>
    </dgm:pt>
    <dgm:pt modelId="{3B93204A-D9C8-4AAA-BB30-3C6BCABCAC17}" type="sibTrans" cxnId="{10A5CD63-3EE7-489F-8DDA-1964CB1C6A99}">
      <dgm:prSet/>
      <dgm:spPr/>
    </dgm:pt>
    <dgm:pt modelId="{41E686EC-AC15-4ECA-8A84-70B9F9EDE312}">
      <dgm:prSet/>
      <dgm:spPr/>
      <dgm:t>
        <a:bodyPr/>
        <a:lstStyle/>
        <a:p>
          <a:r>
            <a:rPr lang="pl-PL" b="1" noProof="0" dirty="0" smtClean="0"/>
            <a:t>register</a:t>
          </a:r>
          <a:r>
            <a:rPr lang="en-US" b="1" noProof="0" dirty="0" smtClean="0"/>
            <a:t> suitability indicators (population coverage indicator for data from the </a:t>
          </a:r>
          <a:r>
            <a:rPr lang="pl-PL" b="1" noProof="0" dirty="0" smtClean="0"/>
            <a:t>register</a:t>
          </a:r>
          <a:r>
            <a:rPr lang="en-US" b="1" noProof="0" dirty="0" smtClean="0"/>
            <a:t>),</a:t>
          </a:r>
          <a:endParaRPr lang="en-US" noProof="0" dirty="0"/>
        </a:p>
      </dgm:t>
    </dgm:pt>
    <dgm:pt modelId="{F30BB8AD-EB93-4B8C-B730-0792E9FFB7FD}" type="parTrans" cxnId="{E712DB5B-C770-4CD5-BF3E-D0B0C7D0313F}">
      <dgm:prSet/>
      <dgm:spPr/>
    </dgm:pt>
    <dgm:pt modelId="{C59C878D-0DC8-43EF-8677-7AEC2CE4F00A}" type="sibTrans" cxnId="{E712DB5B-C770-4CD5-BF3E-D0B0C7D0313F}">
      <dgm:prSet/>
      <dgm:spPr/>
    </dgm:pt>
    <dgm:pt modelId="{ADC6FB53-26A8-4358-956F-33CD97D623A0}" type="pres">
      <dgm:prSet presAssocID="{994CF1F4-2732-4AB8-8227-C604B16962D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DACDA7B0-E12E-426E-9975-211DF6370DCE}" type="pres">
      <dgm:prSet presAssocID="{E18FEAD7-00F1-45F7-A6E2-F7655B32480A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DA36F35B-08CA-4E5A-9CDB-570725B9D2BF}" type="pres">
      <dgm:prSet presAssocID="{E18FEAD7-00F1-45F7-A6E2-F7655B32480A}" presName="childText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C4E445C8-AC45-47B4-8170-4E3805210716}" type="presOf" srcId="{994CF1F4-2732-4AB8-8227-C604B16962DD}" destId="{ADC6FB53-26A8-4358-956F-33CD97D623A0}" srcOrd="0" destOrd="0" presId="urn:microsoft.com/office/officeart/2005/8/layout/vList2"/>
    <dgm:cxn modelId="{C162039C-C859-4AAA-95BE-4AFCEC5A6B69}" srcId="{994CF1F4-2732-4AB8-8227-C604B16962DD}" destId="{E18FEAD7-00F1-45F7-A6E2-F7655B32480A}" srcOrd="0" destOrd="0" parTransId="{F6E988C6-051B-4AA2-BE3B-A524740E5E68}" sibTransId="{177BD548-413E-4F8E-A7CB-FF5AB369ECA5}"/>
    <dgm:cxn modelId="{042D2757-2F01-42F3-8E7C-2469A5110018}" srcId="{E18FEAD7-00F1-45F7-A6E2-F7655B32480A}" destId="{0CAFD500-7CF1-47C4-BFF1-8BDE8FC45418}" srcOrd="0" destOrd="0" parTransId="{A682B004-112C-4E86-A193-385573CA1CC7}" sibTransId="{F32F822D-FFDC-4182-B550-E228BE4BE0E0}"/>
    <dgm:cxn modelId="{4A0AC3FD-67C6-4D04-9121-1569AE9DD39B}" type="presOf" srcId="{5E604D2D-4E0A-45E6-8B78-555D7202C73F}" destId="{DA36F35B-08CA-4E5A-9CDB-570725B9D2BF}" srcOrd="0" destOrd="1" presId="urn:microsoft.com/office/officeart/2005/8/layout/vList2"/>
    <dgm:cxn modelId="{108DA66C-BEC2-4A6E-920F-AE13C0E54ADF}" srcId="{E18FEAD7-00F1-45F7-A6E2-F7655B32480A}" destId="{5E604D2D-4E0A-45E6-8B78-555D7202C73F}" srcOrd="1" destOrd="0" parTransId="{F80E97E1-CD07-4D58-A765-12E393D89BDB}" sibTransId="{CDEEEFF1-9D8B-4288-B5B8-858B4F703235}"/>
    <dgm:cxn modelId="{56719DF6-335F-419D-9AE6-DD0C1419538C}" type="presOf" srcId="{5D6B1430-477B-4B88-A22A-D6FD86CF35FC}" destId="{DA36F35B-08CA-4E5A-9CDB-570725B9D2BF}" srcOrd="0" destOrd="3" presId="urn:microsoft.com/office/officeart/2005/8/layout/vList2"/>
    <dgm:cxn modelId="{10A5CD63-3EE7-489F-8DDA-1964CB1C6A99}" srcId="{D34C0156-AA39-4353-B22C-D09D3FC1D751}" destId="{5D6B1430-477B-4B88-A22A-D6FD86CF35FC}" srcOrd="0" destOrd="0" parTransId="{D0FED448-7662-4B32-B0E2-66461A21FEF1}" sibTransId="{3B93204A-D9C8-4AAA-BB30-3C6BCABCAC17}"/>
    <dgm:cxn modelId="{AC365EE9-CDA5-4ADD-B083-0783697F558E}" type="presOf" srcId="{41E686EC-AC15-4ECA-8A84-70B9F9EDE312}" destId="{DA36F35B-08CA-4E5A-9CDB-570725B9D2BF}" srcOrd="0" destOrd="4" presId="urn:microsoft.com/office/officeart/2005/8/layout/vList2"/>
    <dgm:cxn modelId="{3424FED5-B6ED-4C18-A859-78D45727A2CF}" type="presOf" srcId="{D34C0156-AA39-4353-B22C-D09D3FC1D751}" destId="{DA36F35B-08CA-4E5A-9CDB-570725B9D2BF}" srcOrd="0" destOrd="2" presId="urn:microsoft.com/office/officeart/2005/8/layout/vList2"/>
    <dgm:cxn modelId="{9DEF4CCC-CD25-4DB2-9395-164D46CD2C6D}" type="presOf" srcId="{0CAFD500-7CF1-47C4-BFF1-8BDE8FC45418}" destId="{DA36F35B-08CA-4E5A-9CDB-570725B9D2BF}" srcOrd="0" destOrd="0" presId="urn:microsoft.com/office/officeart/2005/8/layout/vList2"/>
    <dgm:cxn modelId="{DBCF6C68-0E50-4E4B-A990-0F9AB44FB07D}" type="presOf" srcId="{E18FEAD7-00F1-45F7-A6E2-F7655B32480A}" destId="{DACDA7B0-E12E-426E-9975-211DF6370DCE}" srcOrd="0" destOrd="0" presId="urn:microsoft.com/office/officeart/2005/8/layout/vList2"/>
    <dgm:cxn modelId="{B1F68508-6DAB-428D-A85F-CB8120BA4553}" srcId="{E18FEAD7-00F1-45F7-A6E2-F7655B32480A}" destId="{D34C0156-AA39-4353-B22C-D09D3FC1D751}" srcOrd="2" destOrd="0" parTransId="{E5EFBD04-6D7F-4D20-92BA-E52D2E8796D3}" sibTransId="{4B6865C5-81B0-47E6-956A-635D1980EC01}"/>
    <dgm:cxn modelId="{E712DB5B-C770-4CD5-BF3E-D0B0C7D0313F}" srcId="{D34C0156-AA39-4353-B22C-D09D3FC1D751}" destId="{41E686EC-AC15-4ECA-8A84-70B9F9EDE312}" srcOrd="1" destOrd="0" parTransId="{F30BB8AD-EB93-4B8C-B730-0792E9FFB7FD}" sibTransId="{C59C878D-0DC8-43EF-8677-7AEC2CE4F00A}"/>
    <dgm:cxn modelId="{7550E994-796E-44A2-BF16-A1A0C138B718}" type="presParOf" srcId="{ADC6FB53-26A8-4358-956F-33CD97D623A0}" destId="{DACDA7B0-E12E-426E-9975-211DF6370DCE}" srcOrd="0" destOrd="0" presId="urn:microsoft.com/office/officeart/2005/8/layout/vList2"/>
    <dgm:cxn modelId="{3BF19576-28B5-40DB-A625-DE03916D79B6}" type="presParOf" srcId="{ADC6FB53-26A8-4358-956F-33CD97D623A0}" destId="{DA36F35B-08CA-4E5A-9CDB-570725B9D2BF}" srcOrd="1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994CF1F4-2732-4AB8-8227-C604B16962D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14E59A37-8413-4E58-950A-10522168BF9C}">
      <dgm:prSet/>
      <dgm:spPr/>
      <dgm:t>
        <a:bodyPr/>
        <a:lstStyle/>
        <a:p>
          <a:pPr rtl="0"/>
          <a:endParaRPr lang="en-US" b="1" noProof="0" dirty="0"/>
        </a:p>
      </dgm:t>
    </dgm:pt>
    <dgm:pt modelId="{45A30983-F849-4AD2-A747-3AAF6EA4DBA5}" type="sibTrans" cxnId="{8B5675C2-2330-4463-8C3F-DB715DF39233}">
      <dgm:prSet/>
      <dgm:spPr/>
      <dgm:t>
        <a:bodyPr/>
        <a:lstStyle/>
        <a:p>
          <a:endParaRPr lang="pl-PL"/>
        </a:p>
      </dgm:t>
    </dgm:pt>
    <dgm:pt modelId="{3EC14895-ABA6-465E-8C53-A0B794F02A4C}" type="parTrans" cxnId="{8B5675C2-2330-4463-8C3F-DB715DF39233}">
      <dgm:prSet/>
      <dgm:spPr/>
      <dgm:t>
        <a:bodyPr/>
        <a:lstStyle/>
        <a:p>
          <a:endParaRPr lang="pl-PL"/>
        </a:p>
      </dgm:t>
    </dgm:pt>
    <dgm:pt modelId="{0CA3B500-63FA-46D9-8507-67657537FF8C}">
      <dgm:prSet/>
      <dgm:spPr/>
      <dgm:t>
        <a:bodyPr/>
        <a:lstStyle/>
        <a:p>
          <a:r>
            <a:rPr lang="en-US" b="1" noProof="0" dirty="0" smtClean="0"/>
            <a:t>evaluation and description of data sets quality,</a:t>
          </a:r>
          <a:endParaRPr lang="en-US" noProof="0" dirty="0"/>
        </a:p>
      </dgm:t>
    </dgm:pt>
    <dgm:pt modelId="{4BC70202-797D-45FA-A63A-391E3FE13DBB}" type="parTrans" cxnId="{5283606C-A697-4860-AC51-6F5875799AD6}">
      <dgm:prSet/>
      <dgm:spPr/>
      <dgm:t>
        <a:bodyPr/>
        <a:lstStyle/>
        <a:p>
          <a:endParaRPr lang="pl-PL"/>
        </a:p>
      </dgm:t>
    </dgm:pt>
    <dgm:pt modelId="{81FFFBB3-3C3E-480F-9619-E775AD00B655}" type="sibTrans" cxnId="{5283606C-A697-4860-AC51-6F5875799AD6}">
      <dgm:prSet/>
      <dgm:spPr/>
      <dgm:t>
        <a:bodyPr/>
        <a:lstStyle/>
        <a:p>
          <a:endParaRPr lang="pl-PL"/>
        </a:p>
      </dgm:t>
    </dgm:pt>
    <dgm:pt modelId="{7A9BC89F-8ED7-4F75-8466-290D70EA075F}">
      <dgm:prSet/>
      <dgm:spPr/>
      <dgm:t>
        <a:bodyPr/>
        <a:lstStyle/>
        <a:p>
          <a:r>
            <a:rPr lang="en-US" b="1" noProof="0" dirty="0" smtClean="0"/>
            <a:t>developing methodology for improving source data sets quality – rules for: standardization, normalization, de-duplication, editing, imputation, calibration</a:t>
          </a:r>
          <a:endParaRPr lang="en-US" noProof="0" dirty="0"/>
        </a:p>
      </dgm:t>
    </dgm:pt>
    <dgm:pt modelId="{66CCB991-9828-4DA0-9F6E-61F187947011}" type="parTrans" cxnId="{526F8E43-7FA9-4A5B-A9C3-01D92BB22B63}">
      <dgm:prSet/>
      <dgm:spPr/>
      <dgm:t>
        <a:bodyPr/>
        <a:lstStyle/>
        <a:p>
          <a:endParaRPr lang="pl-PL"/>
        </a:p>
      </dgm:t>
    </dgm:pt>
    <dgm:pt modelId="{CB61F404-0E25-4DEC-9BA9-FA18D64EC2FF}" type="sibTrans" cxnId="{526F8E43-7FA9-4A5B-A9C3-01D92BB22B63}">
      <dgm:prSet/>
      <dgm:spPr/>
      <dgm:t>
        <a:bodyPr/>
        <a:lstStyle/>
        <a:p>
          <a:endParaRPr lang="pl-PL"/>
        </a:p>
      </dgm:t>
    </dgm:pt>
    <dgm:pt modelId="{0CAFD500-7CF1-47C4-BFF1-8BDE8FC45418}">
      <dgm:prSet/>
      <dgm:spPr/>
      <dgm:t>
        <a:bodyPr/>
        <a:lstStyle/>
        <a:p>
          <a:r>
            <a:rPr lang="en-US" b="1" noProof="0" smtClean="0"/>
            <a:t>developing methodology for assessing the quality,</a:t>
          </a:r>
          <a:endParaRPr lang="en-US" noProof="0" dirty="0"/>
        </a:p>
      </dgm:t>
    </dgm:pt>
    <dgm:pt modelId="{F32F822D-FFDC-4182-B550-E228BE4BE0E0}" type="sibTrans" cxnId="{042D2757-2F01-42F3-8E7C-2469A5110018}">
      <dgm:prSet/>
      <dgm:spPr/>
      <dgm:t>
        <a:bodyPr/>
        <a:lstStyle/>
        <a:p>
          <a:endParaRPr lang="pl-PL"/>
        </a:p>
      </dgm:t>
    </dgm:pt>
    <dgm:pt modelId="{A682B004-112C-4E86-A193-385573CA1CC7}" type="parTrans" cxnId="{042D2757-2F01-42F3-8E7C-2469A5110018}">
      <dgm:prSet/>
      <dgm:spPr/>
      <dgm:t>
        <a:bodyPr/>
        <a:lstStyle/>
        <a:p>
          <a:endParaRPr lang="pl-PL"/>
        </a:p>
      </dgm:t>
    </dgm:pt>
    <dgm:pt modelId="{60CCA8A3-2C72-48C4-9BF8-567423EFE356}">
      <dgm:prSet/>
      <dgm:spPr/>
      <dgm:t>
        <a:bodyPr/>
        <a:lstStyle/>
        <a:p>
          <a:r>
            <a:rPr lang="en-US" noProof="0" dirty="0" smtClean="0"/>
            <a:t>Data sets</a:t>
          </a:r>
          <a:endParaRPr lang="en-US" noProof="0" dirty="0"/>
        </a:p>
      </dgm:t>
    </dgm:pt>
    <dgm:pt modelId="{ADAE8969-6B25-48E4-A068-16387BFC8E50}" type="sibTrans" cxnId="{AC722B51-9F1B-45FD-B25E-003C48372CCF}">
      <dgm:prSet/>
      <dgm:spPr/>
      <dgm:t>
        <a:bodyPr/>
        <a:lstStyle/>
        <a:p>
          <a:endParaRPr lang="pl-PL"/>
        </a:p>
      </dgm:t>
    </dgm:pt>
    <dgm:pt modelId="{073ED705-3116-4878-9962-146F9581017D}" type="parTrans" cxnId="{AC722B51-9F1B-45FD-B25E-003C48372CCF}">
      <dgm:prSet/>
      <dgm:spPr/>
      <dgm:t>
        <a:bodyPr/>
        <a:lstStyle/>
        <a:p>
          <a:endParaRPr lang="pl-PL"/>
        </a:p>
      </dgm:t>
    </dgm:pt>
    <dgm:pt modelId="{ADC6FB53-26A8-4358-956F-33CD97D623A0}" type="pres">
      <dgm:prSet presAssocID="{994CF1F4-2732-4AB8-8227-C604B16962D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509A48E8-C058-49F6-98B7-7B26648C3627}" type="pres">
      <dgm:prSet presAssocID="{60CCA8A3-2C72-48C4-9BF8-567423EFE356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4249C476-281D-4DAD-B407-493823519957}" type="pres">
      <dgm:prSet presAssocID="{60CCA8A3-2C72-48C4-9BF8-567423EFE356}" presName="childText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526F8E43-7FA9-4A5B-A9C3-01D92BB22B63}" srcId="{60CCA8A3-2C72-48C4-9BF8-567423EFE356}" destId="{7A9BC89F-8ED7-4F75-8466-290D70EA075F}" srcOrd="2" destOrd="0" parTransId="{66CCB991-9828-4DA0-9F6E-61F187947011}" sibTransId="{CB61F404-0E25-4DEC-9BA9-FA18D64EC2FF}"/>
    <dgm:cxn modelId="{EDB9775D-AF1A-4C0E-A88C-D1E464A93080}" type="presOf" srcId="{0CA3B500-63FA-46D9-8507-67657537FF8C}" destId="{4249C476-281D-4DAD-B407-493823519957}" srcOrd="0" destOrd="1" presId="urn:microsoft.com/office/officeart/2005/8/layout/vList2"/>
    <dgm:cxn modelId="{042D2757-2F01-42F3-8E7C-2469A5110018}" srcId="{60CCA8A3-2C72-48C4-9BF8-567423EFE356}" destId="{0CAFD500-7CF1-47C4-BFF1-8BDE8FC45418}" srcOrd="0" destOrd="0" parTransId="{A682B004-112C-4E86-A193-385573CA1CC7}" sibTransId="{F32F822D-FFDC-4182-B550-E228BE4BE0E0}"/>
    <dgm:cxn modelId="{74BA0E22-C0D3-48C1-A71C-389AF58F1727}" type="presOf" srcId="{7A9BC89F-8ED7-4F75-8466-290D70EA075F}" destId="{4249C476-281D-4DAD-B407-493823519957}" srcOrd="0" destOrd="2" presId="urn:microsoft.com/office/officeart/2005/8/layout/vList2"/>
    <dgm:cxn modelId="{5B9C8D01-6CF1-4A0F-9648-153B9F510434}" type="presOf" srcId="{0CAFD500-7CF1-47C4-BFF1-8BDE8FC45418}" destId="{4249C476-281D-4DAD-B407-493823519957}" srcOrd="0" destOrd="0" presId="urn:microsoft.com/office/officeart/2005/8/layout/vList2"/>
    <dgm:cxn modelId="{C83D2C01-9D3F-43EA-87DF-1EABF10FFC15}" type="presOf" srcId="{14E59A37-8413-4E58-950A-10522168BF9C}" destId="{4249C476-281D-4DAD-B407-493823519957}" srcOrd="0" destOrd="3" presId="urn:microsoft.com/office/officeart/2005/8/layout/vList2"/>
    <dgm:cxn modelId="{42A8A2E9-6AD3-4ED6-B22B-3E33DCF78EC5}" type="presOf" srcId="{994CF1F4-2732-4AB8-8227-C604B16962DD}" destId="{ADC6FB53-26A8-4358-956F-33CD97D623A0}" srcOrd="0" destOrd="0" presId="urn:microsoft.com/office/officeart/2005/8/layout/vList2"/>
    <dgm:cxn modelId="{8B5675C2-2330-4463-8C3F-DB715DF39233}" srcId="{60CCA8A3-2C72-48C4-9BF8-567423EFE356}" destId="{14E59A37-8413-4E58-950A-10522168BF9C}" srcOrd="3" destOrd="0" parTransId="{3EC14895-ABA6-465E-8C53-A0B794F02A4C}" sibTransId="{45A30983-F849-4AD2-A747-3AAF6EA4DBA5}"/>
    <dgm:cxn modelId="{D6435D18-E99B-487F-996E-9723C9640807}" type="presOf" srcId="{60CCA8A3-2C72-48C4-9BF8-567423EFE356}" destId="{509A48E8-C058-49F6-98B7-7B26648C3627}" srcOrd="0" destOrd="0" presId="urn:microsoft.com/office/officeart/2005/8/layout/vList2"/>
    <dgm:cxn modelId="{AC722B51-9F1B-45FD-B25E-003C48372CCF}" srcId="{994CF1F4-2732-4AB8-8227-C604B16962DD}" destId="{60CCA8A3-2C72-48C4-9BF8-567423EFE356}" srcOrd="0" destOrd="0" parTransId="{073ED705-3116-4878-9962-146F9581017D}" sibTransId="{ADAE8969-6B25-48E4-A068-16387BFC8E50}"/>
    <dgm:cxn modelId="{5283606C-A697-4860-AC51-6F5875799AD6}" srcId="{60CCA8A3-2C72-48C4-9BF8-567423EFE356}" destId="{0CA3B500-63FA-46D9-8507-67657537FF8C}" srcOrd="1" destOrd="0" parTransId="{4BC70202-797D-45FA-A63A-391E3FE13DBB}" sibTransId="{81FFFBB3-3C3E-480F-9619-E775AD00B655}"/>
    <dgm:cxn modelId="{EEAC9AC9-0BF5-45B5-BDB7-C9255E965956}" type="presParOf" srcId="{ADC6FB53-26A8-4358-956F-33CD97D623A0}" destId="{509A48E8-C058-49F6-98B7-7B26648C3627}" srcOrd="0" destOrd="0" presId="urn:microsoft.com/office/officeart/2005/8/layout/vList2"/>
    <dgm:cxn modelId="{295AA759-9837-45D2-A157-5E6DEAA9C6D3}" type="presParOf" srcId="{ADC6FB53-26A8-4358-956F-33CD97D623A0}" destId="{4249C476-281D-4DAD-B407-493823519957}" srcOrd="1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9C0FF86F-A2B8-4FC1-9481-187191693154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6EBC14C1-9147-4883-834A-5F74793DD22B}">
      <dgm:prSet custT="1"/>
      <dgm:spPr/>
      <dgm:t>
        <a:bodyPr/>
        <a:lstStyle/>
        <a:p>
          <a:pPr rtl="0"/>
          <a:r>
            <a:rPr lang="pl-PL" sz="2400" dirty="0" err="1" smtClean="0"/>
            <a:t>Citizens</a:t>
          </a:r>
          <a:r>
            <a:rPr lang="pl-PL" sz="2400" dirty="0" smtClean="0"/>
            <a:t>, </a:t>
          </a:r>
          <a:r>
            <a:rPr lang="pl-PL" sz="2400" dirty="0" err="1" smtClean="0"/>
            <a:t>buildings</a:t>
          </a:r>
          <a:r>
            <a:rPr lang="pl-PL" sz="2400" dirty="0" smtClean="0"/>
            <a:t> and </a:t>
          </a:r>
          <a:r>
            <a:rPr lang="pl-PL" sz="2400" dirty="0" err="1" smtClean="0"/>
            <a:t>dwelling</a:t>
          </a:r>
          <a:r>
            <a:rPr lang="pl-PL" sz="2400" dirty="0" smtClean="0"/>
            <a:t> list </a:t>
          </a:r>
          <a:r>
            <a:rPr lang="pl-PL" sz="2400" dirty="0" err="1" smtClean="0"/>
            <a:t>preparing</a:t>
          </a:r>
          <a:r>
            <a:rPr lang="pl-PL" sz="2400" dirty="0" smtClean="0"/>
            <a:t>,</a:t>
          </a:r>
          <a:endParaRPr lang="pl-PL" sz="2400" dirty="0"/>
        </a:p>
      </dgm:t>
    </dgm:pt>
    <dgm:pt modelId="{74269E2D-6021-4536-BD2C-98FEE57383EC}" type="parTrans" cxnId="{385F34D0-D84C-4DDF-8135-6DC6C66213E9}">
      <dgm:prSet/>
      <dgm:spPr/>
      <dgm:t>
        <a:bodyPr/>
        <a:lstStyle/>
        <a:p>
          <a:endParaRPr lang="pl-PL" sz="2400"/>
        </a:p>
      </dgm:t>
    </dgm:pt>
    <dgm:pt modelId="{50BF826A-13BE-4D4C-BF51-5B0EF87CD91E}" type="sibTrans" cxnId="{385F34D0-D84C-4DDF-8135-6DC6C66213E9}">
      <dgm:prSet/>
      <dgm:spPr/>
      <dgm:t>
        <a:bodyPr/>
        <a:lstStyle/>
        <a:p>
          <a:endParaRPr lang="pl-PL" sz="2400"/>
        </a:p>
      </dgm:t>
    </dgm:pt>
    <dgm:pt modelId="{F03C47EF-79D1-4D22-AD43-3389443B9408}">
      <dgm:prSet custT="1"/>
      <dgm:spPr/>
      <dgm:t>
        <a:bodyPr/>
        <a:lstStyle/>
        <a:p>
          <a:pPr rtl="0"/>
          <a:r>
            <a:rPr lang="pl-PL" sz="2400" dirty="0" err="1" smtClean="0"/>
            <a:t>Citizens</a:t>
          </a:r>
          <a:r>
            <a:rPr lang="pl-PL" sz="2400" dirty="0" smtClean="0"/>
            <a:t>, </a:t>
          </a:r>
          <a:r>
            <a:rPr lang="pl-PL" sz="2400" dirty="0" err="1" smtClean="0"/>
            <a:t>buildings</a:t>
          </a:r>
          <a:r>
            <a:rPr lang="pl-PL" sz="2400" dirty="0" smtClean="0"/>
            <a:t> and </a:t>
          </a:r>
          <a:r>
            <a:rPr lang="pl-PL" sz="2400" dirty="0" err="1" smtClean="0"/>
            <a:t>dwelling</a:t>
          </a:r>
          <a:r>
            <a:rPr lang="pl-PL" sz="2400" dirty="0" smtClean="0"/>
            <a:t> list and </a:t>
          </a:r>
          <a:r>
            <a:rPr lang="pl-PL" sz="2400" dirty="0" err="1" smtClean="0"/>
            <a:t>statistical</a:t>
          </a:r>
          <a:r>
            <a:rPr lang="pl-PL" sz="2400" dirty="0" smtClean="0"/>
            <a:t> data </a:t>
          </a:r>
          <a:r>
            <a:rPr lang="pl-PL" sz="2400" dirty="0" err="1" smtClean="0"/>
            <a:t>integration</a:t>
          </a:r>
          <a:r>
            <a:rPr lang="pl-PL" sz="2400" dirty="0" smtClean="0"/>
            <a:t>,</a:t>
          </a:r>
          <a:endParaRPr lang="pl-PL" sz="2400" dirty="0"/>
        </a:p>
      </dgm:t>
    </dgm:pt>
    <dgm:pt modelId="{9A20A60E-DFB1-4D49-9AEB-002232508C6B}" type="parTrans" cxnId="{A738F8FB-7BE7-4AAB-8D1F-A9EBBE325487}">
      <dgm:prSet/>
      <dgm:spPr/>
      <dgm:t>
        <a:bodyPr/>
        <a:lstStyle/>
        <a:p>
          <a:endParaRPr lang="pl-PL" sz="2400"/>
        </a:p>
      </dgm:t>
    </dgm:pt>
    <dgm:pt modelId="{E86CC248-DC7F-4B0D-AF06-AA91BF1A6FFE}" type="sibTrans" cxnId="{A738F8FB-7BE7-4AAB-8D1F-A9EBBE325487}">
      <dgm:prSet/>
      <dgm:spPr/>
      <dgm:t>
        <a:bodyPr/>
        <a:lstStyle/>
        <a:p>
          <a:endParaRPr lang="pl-PL" sz="2400"/>
        </a:p>
      </dgm:t>
    </dgm:pt>
    <dgm:pt modelId="{9CAE1D14-0348-4134-A8CE-5ED0DAED59FC}">
      <dgm:prSet custT="1"/>
      <dgm:spPr/>
      <dgm:t>
        <a:bodyPr/>
        <a:lstStyle/>
        <a:p>
          <a:pPr rtl="0"/>
          <a:r>
            <a:rPr lang="pl-PL" sz="2400" dirty="0" err="1" smtClean="0"/>
            <a:t>Census</a:t>
          </a:r>
          <a:r>
            <a:rPr lang="pl-PL" sz="2400" dirty="0" smtClean="0"/>
            <a:t> </a:t>
          </a:r>
          <a:r>
            <a:rPr lang="pl-PL" sz="2400" dirty="0" err="1" smtClean="0"/>
            <a:t>Frame</a:t>
          </a:r>
          <a:r>
            <a:rPr lang="pl-PL" sz="2400" dirty="0" smtClean="0"/>
            <a:t> </a:t>
          </a:r>
          <a:r>
            <a:rPr lang="pl-PL" sz="2400" dirty="0" err="1" smtClean="0"/>
            <a:t>preparing</a:t>
          </a:r>
          <a:r>
            <a:rPr lang="pl-PL" sz="2400" dirty="0" smtClean="0"/>
            <a:t>.</a:t>
          </a:r>
          <a:endParaRPr lang="pl-PL" sz="2400" dirty="0"/>
        </a:p>
      </dgm:t>
    </dgm:pt>
    <dgm:pt modelId="{AF503B13-1A45-4E3C-9DE7-AFED511F82EA}" type="parTrans" cxnId="{AA8A5E88-FCD1-4635-B2D3-D0D9676DDEF8}">
      <dgm:prSet/>
      <dgm:spPr/>
      <dgm:t>
        <a:bodyPr/>
        <a:lstStyle/>
        <a:p>
          <a:endParaRPr lang="pl-PL" sz="2400"/>
        </a:p>
      </dgm:t>
    </dgm:pt>
    <dgm:pt modelId="{CFE0DEA2-9F30-4BC8-B6AD-E89FD129D35A}" type="sibTrans" cxnId="{AA8A5E88-FCD1-4635-B2D3-D0D9676DDEF8}">
      <dgm:prSet/>
      <dgm:spPr/>
      <dgm:t>
        <a:bodyPr/>
        <a:lstStyle/>
        <a:p>
          <a:endParaRPr lang="pl-PL" sz="2400"/>
        </a:p>
      </dgm:t>
    </dgm:pt>
    <dgm:pt modelId="{9BE6A883-60E5-4952-9F8F-BE2FDFD63B0C}" type="pres">
      <dgm:prSet presAssocID="{9C0FF86F-A2B8-4FC1-9481-187191693154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8A7087E0-7808-4DD0-A07C-0635AA92E5A2}" type="pres">
      <dgm:prSet presAssocID="{6EBC14C1-9147-4883-834A-5F74793DD22B}" presName="parentText" presStyleLbl="node1" presStyleIdx="0" presStyleCnt="3" custScaleY="53863" custLinFactY="-34709" custLinFactNeighborY="-100000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026D7A2B-71FA-46F5-9551-BD660029D0E7}" type="pres">
      <dgm:prSet presAssocID="{50BF826A-13BE-4D4C-BF51-5B0EF87CD91E}" presName="spacer" presStyleCnt="0"/>
      <dgm:spPr/>
    </dgm:pt>
    <dgm:pt modelId="{C9D46555-8D0D-487A-B2E3-081581C06599}" type="pres">
      <dgm:prSet presAssocID="{F03C47EF-79D1-4D22-AD43-3389443B9408}" presName="parentText" presStyleLbl="node1" presStyleIdx="1" presStyleCnt="3" custScaleY="68803" custLinFactY="-37186" custLinFactNeighborX="-875" custLinFactNeighborY="-100000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FD344895-5486-452B-864D-D1B182F4267F}" type="pres">
      <dgm:prSet presAssocID="{E86CC248-DC7F-4B0D-AF06-AA91BF1A6FFE}" presName="spacer" presStyleCnt="0"/>
      <dgm:spPr/>
    </dgm:pt>
    <dgm:pt modelId="{24E779B6-35D8-46D0-9381-77B1A8E5428A}" type="pres">
      <dgm:prSet presAssocID="{9CAE1D14-0348-4134-A8CE-5ED0DAED59FC}" presName="parentText" presStyleLbl="node1" presStyleIdx="2" presStyleCnt="3" custScaleY="63953" custLinFactY="-37229" custLinFactNeighborX="-875" custLinFactNeighborY="-100000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A738F8FB-7BE7-4AAB-8D1F-A9EBBE325487}" srcId="{9C0FF86F-A2B8-4FC1-9481-187191693154}" destId="{F03C47EF-79D1-4D22-AD43-3389443B9408}" srcOrd="1" destOrd="0" parTransId="{9A20A60E-DFB1-4D49-9AEB-002232508C6B}" sibTransId="{E86CC248-DC7F-4B0D-AF06-AA91BF1A6FFE}"/>
    <dgm:cxn modelId="{640876AA-C4D8-46AB-A744-67A320E3FF69}" type="presOf" srcId="{9CAE1D14-0348-4134-A8CE-5ED0DAED59FC}" destId="{24E779B6-35D8-46D0-9381-77B1A8E5428A}" srcOrd="0" destOrd="0" presId="urn:microsoft.com/office/officeart/2005/8/layout/vList2"/>
    <dgm:cxn modelId="{33DBA0CE-7A3F-4E75-8865-82179600DAF8}" type="presOf" srcId="{9C0FF86F-A2B8-4FC1-9481-187191693154}" destId="{9BE6A883-60E5-4952-9F8F-BE2FDFD63B0C}" srcOrd="0" destOrd="0" presId="urn:microsoft.com/office/officeart/2005/8/layout/vList2"/>
    <dgm:cxn modelId="{FDE3F553-4DFA-4927-B003-6FC3453A13CA}" type="presOf" srcId="{6EBC14C1-9147-4883-834A-5F74793DD22B}" destId="{8A7087E0-7808-4DD0-A07C-0635AA92E5A2}" srcOrd="0" destOrd="0" presId="urn:microsoft.com/office/officeart/2005/8/layout/vList2"/>
    <dgm:cxn modelId="{33ACACF9-DF10-405E-8AF5-306907501739}" type="presOf" srcId="{F03C47EF-79D1-4D22-AD43-3389443B9408}" destId="{C9D46555-8D0D-487A-B2E3-081581C06599}" srcOrd="0" destOrd="0" presId="urn:microsoft.com/office/officeart/2005/8/layout/vList2"/>
    <dgm:cxn modelId="{385F34D0-D84C-4DDF-8135-6DC6C66213E9}" srcId="{9C0FF86F-A2B8-4FC1-9481-187191693154}" destId="{6EBC14C1-9147-4883-834A-5F74793DD22B}" srcOrd="0" destOrd="0" parTransId="{74269E2D-6021-4536-BD2C-98FEE57383EC}" sibTransId="{50BF826A-13BE-4D4C-BF51-5B0EF87CD91E}"/>
    <dgm:cxn modelId="{AA8A5E88-FCD1-4635-B2D3-D0D9676DDEF8}" srcId="{9C0FF86F-A2B8-4FC1-9481-187191693154}" destId="{9CAE1D14-0348-4134-A8CE-5ED0DAED59FC}" srcOrd="2" destOrd="0" parTransId="{AF503B13-1A45-4E3C-9DE7-AFED511F82EA}" sibTransId="{CFE0DEA2-9F30-4BC8-B6AD-E89FD129D35A}"/>
    <dgm:cxn modelId="{90B9D4B8-88AE-418A-BB04-5CD4D00D5E48}" type="presParOf" srcId="{9BE6A883-60E5-4952-9F8F-BE2FDFD63B0C}" destId="{8A7087E0-7808-4DD0-A07C-0635AA92E5A2}" srcOrd="0" destOrd="0" presId="urn:microsoft.com/office/officeart/2005/8/layout/vList2"/>
    <dgm:cxn modelId="{7EF1CB7C-0694-47CF-B9F9-C2B817B1AED0}" type="presParOf" srcId="{9BE6A883-60E5-4952-9F8F-BE2FDFD63B0C}" destId="{026D7A2B-71FA-46F5-9551-BD660029D0E7}" srcOrd="1" destOrd="0" presId="urn:microsoft.com/office/officeart/2005/8/layout/vList2"/>
    <dgm:cxn modelId="{C22BC232-3421-4618-B330-5D4D9A5A9C61}" type="presParOf" srcId="{9BE6A883-60E5-4952-9F8F-BE2FDFD63B0C}" destId="{C9D46555-8D0D-487A-B2E3-081581C06599}" srcOrd="2" destOrd="0" presId="urn:microsoft.com/office/officeart/2005/8/layout/vList2"/>
    <dgm:cxn modelId="{F1ECD5F6-C517-4207-80CE-A31AFC93C7DD}" type="presParOf" srcId="{9BE6A883-60E5-4952-9F8F-BE2FDFD63B0C}" destId="{FD344895-5486-452B-864D-D1B182F4267F}" srcOrd="3" destOrd="0" presId="urn:microsoft.com/office/officeart/2005/8/layout/vList2"/>
    <dgm:cxn modelId="{38D7785D-DB91-42D3-987A-DC666A7B7F57}" type="presParOf" srcId="{9BE6A883-60E5-4952-9F8F-BE2FDFD63B0C}" destId="{24E779B6-35D8-46D0-9381-77B1A8E5428A}" srcOrd="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8.xml><?xml version="1.0" encoding="utf-8"?>
<dgm:dataModel xmlns:dgm="http://schemas.openxmlformats.org/drawingml/2006/diagram" xmlns:a="http://schemas.openxmlformats.org/drawingml/2006/main">
  <dgm:ptLst>
    <dgm:pt modelId="{8072A359-307E-47BF-968D-C1734B8A10E5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/>
      <dgm:spPr/>
      <dgm:t>
        <a:bodyPr/>
        <a:lstStyle/>
        <a:p>
          <a:endParaRPr lang="pl-PL"/>
        </a:p>
      </dgm:t>
    </dgm:pt>
    <dgm:pt modelId="{3299F259-7D77-4994-8DF8-9CE159B9BD29}">
      <dgm:prSet/>
      <dgm:spPr/>
      <dgm:t>
        <a:bodyPr/>
        <a:lstStyle/>
        <a:p>
          <a:pPr rtl="0"/>
          <a:r>
            <a:rPr lang="en-US" noProof="0" smtClean="0"/>
            <a:t>Registers loading into data laboratory envroiment,</a:t>
          </a:r>
          <a:endParaRPr lang="en-US" noProof="0"/>
        </a:p>
      </dgm:t>
    </dgm:pt>
    <dgm:pt modelId="{EECE9923-C5D9-4FB5-935A-7352C5CBFBB9}" type="parTrans" cxnId="{69AEC32B-E008-4114-8BE4-C1AD47224AA0}">
      <dgm:prSet/>
      <dgm:spPr/>
      <dgm:t>
        <a:bodyPr/>
        <a:lstStyle/>
        <a:p>
          <a:endParaRPr lang="en-US" noProof="0"/>
        </a:p>
      </dgm:t>
    </dgm:pt>
    <dgm:pt modelId="{8330E32D-196A-4AFC-B217-F3F88220D906}" type="sibTrans" cxnId="{69AEC32B-E008-4114-8BE4-C1AD47224AA0}">
      <dgm:prSet/>
      <dgm:spPr/>
      <dgm:t>
        <a:bodyPr/>
        <a:lstStyle/>
        <a:p>
          <a:endParaRPr lang="en-US" noProof="0"/>
        </a:p>
      </dgm:t>
    </dgm:pt>
    <dgm:pt modelId="{7A74A707-6DCE-4722-8D28-01265B26FA7B}">
      <dgm:prSet/>
      <dgm:spPr/>
      <dgm:t>
        <a:bodyPr/>
        <a:lstStyle/>
        <a:p>
          <a:pPr rtl="0"/>
          <a:r>
            <a:rPr lang="en-US" noProof="0" smtClean="0"/>
            <a:t>Denormalization,</a:t>
          </a:r>
          <a:endParaRPr lang="en-US" noProof="0"/>
        </a:p>
      </dgm:t>
    </dgm:pt>
    <dgm:pt modelId="{D708EEEB-C5F2-4C25-810C-75F5DB386145}" type="parTrans" cxnId="{FB0745B7-3902-4E08-AF91-7428F6C0E272}">
      <dgm:prSet/>
      <dgm:spPr/>
      <dgm:t>
        <a:bodyPr/>
        <a:lstStyle/>
        <a:p>
          <a:endParaRPr lang="en-US" noProof="0"/>
        </a:p>
      </dgm:t>
    </dgm:pt>
    <dgm:pt modelId="{7FC6BCE7-9442-420F-A054-7823483F63E2}" type="sibTrans" cxnId="{FB0745B7-3902-4E08-AF91-7428F6C0E272}">
      <dgm:prSet/>
      <dgm:spPr/>
      <dgm:t>
        <a:bodyPr/>
        <a:lstStyle/>
        <a:p>
          <a:endParaRPr lang="en-US" noProof="0"/>
        </a:p>
      </dgm:t>
    </dgm:pt>
    <dgm:pt modelId="{24A6C6F1-ABAE-4351-B11E-A9226C29E0B7}">
      <dgm:prSet/>
      <dgm:spPr/>
      <dgm:t>
        <a:bodyPr/>
        <a:lstStyle/>
        <a:p>
          <a:pPr rtl="0"/>
          <a:r>
            <a:rPr lang="en-US" noProof="0" smtClean="0"/>
            <a:t>Standarization,</a:t>
          </a:r>
          <a:endParaRPr lang="en-US" noProof="0"/>
        </a:p>
      </dgm:t>
    </dgm:pt>
    <dgm:pt modelId="{F1483A4D-1143-4F64-A34F-47D419067805}" type="parTrans" cxnId="{E738F448-F356-4D0A-A5D5-B50F4BB8CF04}">
      <dgm:prSet/>
      <dgm:spPr/>
      <dgm:t>
        <a:bodyPr/>
        <a:lstStyle/>
        <a:p>
          <a:endParaRPr lang="en-US" noProof="0"/>
        </a:p>
      </dgm:t>
    </dgm:pt>
    <dgm:pt modelId="{0B3829A8-8F02-4ECE-8B49-A5350F386F1E}" type="sibTrans" cxnId="{E738F448-F356-4D0A-A5D5-B50F4BB8CF04}">
      <dgm:prSet/>
      <dgm:spPr/>
      <dgm:t>
        <a:bodyPr/>
        <a:lstStyle/>
        <a:p>
          <a:endParaRPr lang="en-US" noProof="0"/>
        </a:p>
      </dgm:t>
    </dgm:pt>
    <dgm:pt modelId="{F167B0DE-5214-49D4-AA6E-174F04FA4A74}">
      <dgm:prSet/>
      <dgm:spPr/>
      <dgm:t>
        <a:bodyPr/>
        <a:lstStyle/>
        <a:p>
          <a:pPr rtl="0"/>
          <a:r>
            <a:rPr lang="en-US" noProof="0" smtClean="0"/>
            <a:t>Deduplication,</a:t>
          </a:r>
          <a:endParaRPr lang="en-US" noProof="0"/>
        </a:p>
      </dgm:t>
    </dgm:pt>
    <dgm:pt modelId="{BDF66524-51D8-4E22-B4B3-8EB1628F8F19}" type="parTrans" cxnId="{A69AF797-9D52-4AA6-A4D7-73C8986C30B6}">
      <dgm:prSet/>
      <dgm:spPr/>
      <dgm:t>
        <a:bodyPr/>
        <a:lstStyle/>
        <a:p>
          <a:endParaRPr lang="en-US" noProof="0"/>
        </a:p>
      </dgm:t>
    </dgm:pt>
    <dgm:pt modelId="{50553D77-47F9-4284-BD78-60A244C03681}" type="sibTrans" cxnId="{A69AF797-9D52-4AA6-A4D7-73C8986C30B6}">
      <dgm:prSet/>
      <dgm:spPr/>
      <dgm:t>
        <a:bodyPr/>
        <a:lstStyle/>
        <a:p>
          <a:endParaRPr lang="en-US" noProof="0"/>
        </a:p>
      </dgm:t>
    </dgm:pt>
    <dgm:pt modelId="{066D1B05-86E2-4498-9274-B6055E097F5C}">
      <dgm:prSet/>
      <dgm:spPr/>
      <dgm:t>
        <a:bodyPr/>
        <a:lstStyle/>
        <a:p>
          <a:pPr rtl="0"/>
          <a:r>
            <a:rPr lang="en-US" noProof="0" smtClean="0"/>
            <a:t>Validation,</a:t>
          </a:r>
          <a:endParaRPr lang="en-US" noProof="0"/>
        </a:p>
      </dgm:t>
    </dgm:pt>
    <dgm:pt modelId="{7907F6EA-87D2-4690-8995-3BA20A553818}" type="parTrans" cxnId="{9F989953-B2DD-43CC-8E55-33305CC62241}">
      <dgm:prSet/>
      <dgm:spPr/>
      <dgm:t>
        <a:bodyPr/>
        <a:lstStyle/>
        <a:p>
          <a:endParaRPr lang="en-US" noProof="0"/>
        </a:p>
      </dgm:t>
    </dgm:pt>
    <dgm:pt modelId="{03C0F452-C470-4798-A14B-B58AF7652FB6}" type="sibTrans" cxnId="{9F989953-B2DD-43CC-8E55-33305CC62241}">
      <dgm:prSet/>
      <dgm:spPr/>
      <dgm:t>
        <a:bodyPr/>
        <a:lstStyle/>
        <a:p>
          <a:endParaRPr lang="en-US" noProof="0"/>
        </a:p>
      </dgm:t>
    </dgm:pt>
    <dgm:pt modelId="{A37BDD26-0FE4-4C78-915A-FE1A41520E6F}">
      <dgm:prSet/>
      <dgm:spPr/>
      <dgm:t>
        <a:bodyPr/>
        <a:lstStyle/>
        <a:p>
          <a:pPr rtl="0"/>
          <a:r>
            <a:rPr lang="en-US" noProof="0" smtClean="0"/>
            <a:t>Data completion,</a:t>
          </a:r>
          <a:endParaRPr lang="en-US" noProof="0"/>
        </a:p>
      </dgm:t>
    </dgm:pt>
    <dgm:pt modelId="{8155C4A5-477D-4BD4-B77B-FEF4DA6A4AE9}" type="parTrans" cxnId="{7FE87E76-940E-4DD5-B1C9-186685B661F9}">
      <dgm:prSet/>
      <dgm:spPr/>
      <dgm:t>
        <a:bodyPr/>
        <a:lstStyle/>
        <a:p>
          <a:endParaRPr lang="en-US" noProof="0"/>
        </a:p>
      </dgm:t>
    </dgm:pt>
    <dgm:pt modelId="{7E7E838C-9DEF-40EA-BD07-20F621DAB93B}" type="sibTrans" cxnId="{7FE87E76-940E-4DD5-B1C9-186685B661F9}">
      <dgm:prSet/>
      <dgm:spPr/>
      <dgm:t>
        <a:bodyPr/>
        <a:lstStyle/>
        <a:p>
          <a:endParaRPr lang="en-US" noProof="0"/>
        </a:p>
      </dgm:t>
    </dgm:pt>
    <dgm:pt modelId="{70AA72AE-C54D-469F-9AFB-690A1E8440E6}">
      <dgm:prSet/>
      <dgm:spPr/>
      <dgm:t>
        <a:bodyPr/>
        <a:lstStyle/>
        <a:p>
          <a:pPr rtl="0"/>
          <a:r>
            <a:rPr lang="en-US" noProof="0" smtClean="0"/>
            <a:t>Vocabulary validation and automatic correction,</a:t>
          </a:r>
          <a:endParaRPr lang="en-US" noProof="0"/>
        </a:p>
      </dgm:t>
    </dgm:pt>
    <dgm:pt modelId="{3B3DE241-64C7-4884-821B-ADE6E156085A}" type="parTrans" cxnId="{C88CD66D-2A8D-437D-9204-B305352DC74C}">
      <dgm:prSet/>
      <dgm:spPr/>
      <dgm:t>
        <a:bodyPr/>
        <a:lstStyle/>
        <a:p>
          <a:endParaRPr lang="en-US" noProof="0"/>
        </a:p>
      </dgm:t>
    </dgm:pt>
    <dgm:pt modelId="{7DBFB229-495C-4166-99A2-DD4E0644F52B}" type="sibTrans" cxnId="{C88CD66D-2A8D-437D-9204-B305352DC74C}">
      <dgm:prSet/>
      <dgm:spPr/>
      <dgm:t>
        <a:bodyPr/>
        <a:lstStyle/>
        <a:p>
          <a:endParaRPr lang="en-US" noProof="0"/>
        </a:p>
      </dgm:t>
    </dgm:pt>
    <dgm:pt modelId="{B79B56CC-65CA-4A6B-90A9-79574B793874}">
      <dgm:prSet/>
      <dgm:spPr/>
      <dgm:t>
        <a:bodyPr/>
        <a:lstStyle/>
        <a:p>
          <a:pPr rtl="0"/>
          <a:r>
            <a:rPr lang="en-US" noProof="0" smtClean="0"/>
            <a:t>Statistical files (register) generation,</a:t>
          </a:r>
          <a:endParaRPr lang="en-US" noProof="0"/>
        </a:p>
      </dgm:t>
    </dgm:pt>
    <dgm:pt modelId="{0C7DBF07-F27E-4AA7-8733-0216E1E0BA05}" type="parTrans" cxnId="{F3FE5403-2A29-4103-883F-CDDD2CE1C5B2}">
      <dgm:prSet/>
      <dgm:spPr/>
      <dgm:t>
        <a:bodyPr/>
        <a:lstStyle/>
        <a:p>
          <a:endParaRPr lang="en-US" noProof="0"/>
        </a:p>
      </dgm:t>
    </dgm:pt>
    <dgm:pt modelId="{2ACD6414-796E-48C1-BDB3-EBBE0667B0CF}" type="sibTrans" cxnId="{F3FE5403-2A29-4103-883F-CDDD2CE1C5B2}">
      <dgm:prSet/>
      <dgm:spPr/>
      <dgm:t>
        <a:bodyPr/>
        <a:lstStyle/>
        <a:p>
          <a:endParaRPr lang="en-US" noProof="0"/>
        </a:p>
      </dgm:t>
    </dgm:pt>
    <dgm:pt modelId="{9A158C9B-1791-4AC7-964A-C916AAE61A82}" type="pres">
      <dgm:prSet presAssocID="{8072A359-307E-47BF-968D-C1734B8A10E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190F2FC5-138A-4F84-9CFB-1A1B8EB81E0E}" type="pres">
      <dgm:prSet presAssocID="{3299F259-7D77-4994-8DF8-9CE159B9BD29}" presName="parentText" presStyleLbl="node1" presStyleIdx="0" presStyleCnt="8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491A3B35-D49B-4D20-80CE-827A648AB84B}" type="pres">
      <dgm:prSet presAssocID="{8330E32D-196A-4AFC-B217-F3F88220D906}" presName="spacer" presStyleCnt="0"/>
      <dgm:spPr/>
    </dgm:pt>
    <dgm:pt modelId="{3EA0C62F-CF0D-4F11-953A-EFB1EA2AEC13}" type="pres">
      <dgm:prSet presAssocID="{7A74A707-6DCE-4722-8D28-01265B26FA7B}" presName="parentText" presStyleLbl="node1" presStyleIdx="1" presStyleCnt="8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988F12C6-AAF6-485A-A6B6-4E4730F99547}" type="pres">
      <dgm:prSet presAssocID="{7FC6BCE7-9442-420F-A054-7823483F63E2}" presName="spacer" presStyleCnt="0"/>
      <dgm:spPr/>
    </dgm:pt>
    <dgm:pt modelId="{11568000-B510-4118-B910-E1097CF36CE8}" type="pres">
      <dgm:prSet presAssocID="{24A6C6F1-ABAE-4351-B11E-A9226C29E0B7}" presName="parentText" presStyleLbl="node1" presStyleIdx="2" presStyleCnt="8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5888A71B-0C77-4C10-A95C-FA5BBF2DFD8C}" type="pres">
      <dgm:prSet presAssocID="{0B3829A8-8F02-4ECE-8B49-A5350F386F1E}" presName="spacer" presStyleCnt="0"/>
      <dgm:spPr/>
    </dgm:pt>
    <dgm:pt modelId="{6FF74AE1-980D-42D3-99C2-75E02ACC253B}" type="pres">
      <dgm:prSet presAssocID="{F167B0DE-5214-49D4-AA6E-174F04FA4A74}" presName="parentText" presStyleLbl="node1" presStyleIdx="3" presStyleCnt="8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CD3B5E84-F7D7-4D3F-AC4C-91E197A28BE5}" type="pres">
      <dgm:prSet presAssocID="{50553D77-47F9-4284-BD78-60A244C03681}" presName="spacer" presStyleCnt="0"/>
      <dgm:spPr/>
    </dgm:pt>
    <dgm:pt modelId="{4A5AE4DB-0F7F-4C26-8D58-5BD218FFE33D}" type="pres">
      <dgm:prSet presAssocID="{066D1B05-86E2-4498-9274-B6055E097F5C}" presName="parentText" presStyleLbl="node1" presStyleIdx="4" presStyleCnt="8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1822D7D1-4942-47D4-9A85-4B6EA3314E43}" type="pres">
      <dgm:prSet presAssocID="{03C0F452-C470-4798-A14B-B58AF7652FB6}" presName="spacer" presStyleCnt="0"/>
      <dgm:spPr/>
    </dgm:pt>
    <dgm:pt modelId="{FA9AC831-D74B-4C93-9F2B-42124C3F1F23}" type="pres">
      <dgm:prSet presAssocID="{A37BDD26-0FE4-4C78-915A-FE1A41520E6F}" presName="parentText" presStyleLbl="node1" presStyleIdx="5" presStyleCnt="8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971B5798-E5D3-4586-BA8D-CFA49CF01DBD}" type="pres">
      <dgm:prSet presAssocID="{7E7E838C-9DEF-40EA-BD07-20F621DAB93B}" presName="spacer" presStyleCnt="0"/>
      <dgm:spPr/>
    </dgm:pt>
    <dgm:pt modelId="{3F15CCE2-E15F-410F-8E36-A6BBFADADD8A}" type="pres">
      <dgm:prSet presAssocID="{70AA72AE-C54D-469F-9AFB-690A1E8440E6}" presName="parentText" presStyleLbl="node1" presStyleIdx="6" presStyleCnt="8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781C3B59-C363-47AA-88A9-230C0FEB858B}" type="pres">
      <dgm:prSet presAssocID="{7DBFB229-495C-4166-99A2-DD4E0644F52B}" presName="spacer" presStyleCnt="0"/>
      <dgm:spPr/>
    </dgm:pt>
    <dgm:pt modelId="{E85CC4DA-0B50-426B-843F-F177D47C43AC}" type="pres">
      <dgm:prSet presAssocID="{B79B56CC-65CA-4A6B-90A9-79574B793874}" presName="parentText" presStyleLbl="node1" presStyleIdx="7" presStyleCnt="8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E738F448-F356-4D0A-A5D5-B50F4BB8CF04}" srcId="{8072A359-307E-47BF-968D-C1734B8A10E5}" destId="{24A6C6F1-ABAE-4351-B11E-A9226C29E0B7}" srcOrd="2" destOrd="0" parTransId="{F1483A4D-1143-4F64-A34F-47D419067805}" sibTransId="{0B3829A8-8F02-4ECE-8B49-A5350F386F1E}"/>
    <dgm:cxn modelId="{7FE87E76-940E-4DD5-B1C9-186685B661F9}" srcId="{8072A359-307E-47BF-968D-C1734B8A10E5}" destId="{A37BDD26-0FE4-4C78-915A-FE1A41520E6F}" srcOrd="5" destOrd="0" parTransId="{8155C4A5-477D-4BD4-B77B-FEF4DA6A4AE9}" sibTransId="{7E7E838C-9DEF-40EA-BD07-20F621DAB93B}"/>
    <dgm:cxn modelId="{9F989953-B2DD-43CC-8E55-33305CC62241}" srcId="{8072A359-307E-47BF-968D-C1734B8A10E5}" destId="{066D1B05-86E2-4498-9274-B6055E097F5C}" srcOrd="4" destOrd="0" parTransId="{7907F6EA-87D2-4690-8995-3BA20A553818}" sibTransId="{03C0F452-C470-4798-A14B-B58AF7652FB6}"/>
    <dgm:cxn modelId="{CE57D8A0-5C28-4ACF-B0A6-651AE03AA7CA}" type="presOf" srcId="{F167B0DE-5214-49D4-AA6E-174F04FA4A74}" destId="{6FF74AE1-980D-42D3-99C2-75E02ACC253B}" srcOrd="0" destOrd="0" presId="urn:microsoft.com/office/officeart/2005/8/layout/vList2"/>
    <dgm:cxn modelId="{FB0745B7-3902-4E08-AF91-7428F6C0E272}" srcId="{8072A359-307E-47BF-968D-C1734B8A10E5}" destId="{7A74A707-6DCE-4722-8D28-01265B26FA7B}" srcOrd="1" destOrd="0" parTransId="{D708EEEB-C5F2-4C25-810C-75F5DB386145}" sibTransId="{7FC6BCE7-9442-420F-A054-7823483F63E2}"/>
    <dgm:cxn modelId="{A69AF797-9D52-4AA6-A4D7-73C8986C30B6}" srcId="{8072A359-307E-47BF-968D-C1734B8A10E5}" destId="{F167B0DE-5214-49D4-AA6E-174F04FA4A74}" srcOrd="3" destOrd="0" parTransId="{BDF66524-51D8-4E22-B4B3-8EB1628F8F19}" sibTransId="{50553D77-47F9-4284-BD78-60A244C03681}"/>
    <dgm:cxn modelId="{1F82F095-EEA5-41F8-80AB-F29CAC483715}" type="presOf" srcId="{24A6C6F1-ABAE-4351-B11E-A9226C29E0B7}" destId="{11568000-B510-4118-B910-E1097CF36CE8}" srcOrd="0" destOrd="0" presId="urn:microsoft.com/office/officeart/2005/8/layout/vList2"/>
    <dgm:cxn modelId="{C88CD66D-2A8D-437D-9204-B305352DC74C}" srcId="{8072A359-307E-47BF-968D-C1734B8A10E5}" destId="{70AA72AE-C54D-469F-9AFB-690A1E8440E6}" srcOrd="6" destOrd="0" parTransId="{3B3DE241-64C7-4884-821B-ADE6E156085A}" sibTransId="{7DBFB229-495C-4166-99A2-DD4E0644F52B}"/>
    <dgm:cxn modelId="{924EC88B-C61B-41D8-A980-8D188CD55AC5}" type="presOf" srcId="{8072A359-307E-47BF-968D-C1734B8A10E5}" destId="{9A158C9B-1791-4AC7-964A-C916AAE61A82}" srcOrd="0" destOrd="0" presId="urn:microsoft.com/office/officeart/2005/8/layout/vList2"/>
    <dgm:cxn modelId="{8594AFF0-F66C-472A-80F5-AB404EF19253}" type="presOf" srcId="{7A74A707-6DCE-4722-8D28-01265B26FA7B}" destId="{3EA0C62F-CF0D-4F11-953A-EFB1EA2AEC13}" srcOrd="0" destOrd="0" presId="urn:microsoft.com/office/officeart/2005/8/layout/vList2"/>
    <dgm:cxn modelId="{97A8FD2E-0C31-4D8A-ABD8-A7EC41229F56}" type="presOf" srcId="{3299F259-7D77-4994-8DF8-9CE159B9BD29}" destId="{190F2FC5-138A-4F84-9CFB-1A1B8EB81E0E}" srcOrd="0" destOrd="0" presId="urn:microsoft.com/office/officeart/2005/8/layout/vList2"/>
    <dgm:cxn modelId="{6FCB1F3F-E6FD-4299-97C3-23F949AF6FE6}" type="presOf" srcId="{70AA72AE-C54D-469F-9AFB-690A1E8440E6}" destId="{3F15CCE2-E15F-410F-8E36-A6BBFADADD8A}" srcOrd="0" destOrd="0" presId="urn:microsoft.com/office/officeart/2005/8/layout/vList2"/>
    <dgm:cxn modelId="{65A56FEC-1F4C-4675-B788-E6DCC2251273}" type="presOf" srcId="{066D1B05-86E2-4498-9274-B6055E097F5C}" destId="{4A5AE4DB-0F7F-4C26-8D58-5BD218FFE33D}" srcOrd="0" destOrd="0" presId="urn:microsoft.com/office/officeart/2005/8/layout/vList2"/>
    <dgm:cxn modelId="{30D55E40-F95D-4D50-A355-14994C6C6E58}" type="presOf" srcId="{B79B56CC-65CA-4A6B-90A9-79574B793874}" destId="{E85CC4DA-0B50-426B-843F-F177D47C43AC}" srcOrd="0" destOrd="0" presId="urn:microsoft.com/office/officeart/2005/8/layout/vList2"/>
    <dgm:cxn modelId="{71D655F9-8968-4649-9036-1C84C2DC6B6C}" type="presOf" srcId="{A37BDD26-0FE4-4C78-915A-FE1A41520E6F}" destId="{FA9AC831-D74B-4C93-9F2B-42124C3F1F23}" srcOrd="0" destOrd="0" presId="urn:microsoft.com/office/officeart/2005/8/layout/vList2"/>
    <dgm:cxn modelId="{F3FE5403-2A29-4103-883F-CDDD2CE1C5B2}" srcId="{8072A359-307E-47BF-968D-C1734B8A10E5}" destId="{B79B56CC-65CA-4A6B-90A9-79574B793874}" srcOrd="7" destOrd="0" parTransId="{0C7DBF07-F27E-4AA7-8733-0216E1E0BA05}" sibTransId="{2ACD6414-796E-48C1-BDB3-EBBE0667B0CF}"/>
    <dgm:cxn modelId="{69AEC32B-E008-4114-8BE4-C1AD47224AA0}" srcId="{8072A359-307E-47BF-968D-C1734B8A10E5}" destId="{3299F259-7D77-4994-8DF8-9CE159B9BD29}" srcOrd="0" destOrd="0" parTransId="{EECE9923-C5D9-4FB5-935A-7352C5CBFBB9}" sibTransId="{8330E32D-196A-4AFC-B217-F3F88220D906}"/>
    <dgm:cxn modelId="{E5B76AB1-54A9-4B32-8A61-BE1C2C767582}" type="presParOf" srcId="{9A158C9B-1791-4AC7-964A-C916AAE61A82}" destId="{190F2FC5-138A-4F84-9CFB-1A1B8EB81E0E}" srcOrd="0" destOrd="0" presId="urn:microsoft.com/office/officeart/2005/8/layout/vList2"/>
    <dgm:cxn modelId="{7C1AFF0B-43CC-40CF-9654-6B47EEBE4C05}" type="presParOf" srcId="{9A158C9B-1791-4AC7-964A-C916AAE61A82}" destId="{491A3B35-D49B-4D20-80CE-827A648AB84B}" srcOrd="1" destOrd="0" presId="urn:microsoft.com/office/officeart/2005/8/layout/vList2"/>
    <dgm:cxn modelId="{32F49558-78DC-4DCD-A6C8-437C0D31EBC7}" type="presParOf" srcId="{9A158C9B-1791-4AC7-964A-C916AAE61A82}" destId="{3EA0C62F-CF0D-4F11-953A-EFB1EA2AEC13}" srcOrd="2" destOrd="0" presId="urn:microsoft.com/office/officeart/2005/8/layout/vList2"/>
    <dgm:cxn modelId="{0AFD4B93-AC14-41AA-9182-0C023C2130F9}" type="presParOf" srcId="{9A158C9B-1791-4AC7-964A-C916AAE61A82}" destId="{988F12C6-AAF6-485A-A6B6-4E4730F99547}" srcOrd="3" destOrd="0" presId="urn:microsoft.com/office/officeart/2005/8/layout/vList2"/>
    <dgm:cxn modelId="{39F12E39-D512-4D78-A8CD-DDAB355B0126}" type="presParOf" srcId="{9A158C9B-1791-4AC7-964A-C916AAE61A82}" destId="{11568000-B510-4118-B910-E1097CF36CE8}" srcOrd="4" destOrd="0" presId="urn:microsoft.com/office/officeart/2005/8/layout/vList2"/>
    <dgm:cxn modelId="{D2945664-B15E-4817-8303-5C69BC2EB00F}" type="presParOf" srcId="{9A158C9B-1791-4AC7-964A-C916AAE61A82}" destId="{5888A71B-0C77-4C10-A95C-FA5BBF2DFD8C}" srcOrd="5" destOrd="0" presId="urn:microsoft.com/office/officeart/2005/8/layout/vList2"/>
    <dgm:cxn modelId="{71D5C3B6-DD3C-48B4-821F-AEFEC01DEAC5}" type="presParOf" srcId="{9A158C9B-1791-4AC7-964A-C916AAE61A82}" destId="{6FF74AE1-980D-42D3-99C2-75E02ACC253B}" srcOrd="6" destOrd="0" presId="urn:microsoft.com/office/officeart/2005/8/layout/vList2"/>
    <dgm:cxn modelId="{248EA996-AE3C-4CF8-991F-AB05A9D81A35}" type="presParOf" srcId="{9A158C9B-1791-4AC7-964A-C916AAE61A82}" destId="{CD3B5E84-F7D7-4D3F-AC4C-91E197A28BE5}" srcOrd="7" destOrd="0" presId="urn:microsoft.com/office/officeart/2005/8/layout/vList2"/>
    <dgm:cxn modelId="{489166D6-06A6-418E-99A2-882EBE30D649}" type="presParOf" srcId="{9A158C9B-1791-4AC7-964A-C916AAE61A82}" destId="{4A5AE4DB-0F7F-4C26-8D58-5BD218FFE33D}" srcOrd="8" destOrd="0" presId="urn:microsoft.com/office/officeart/2005/8/layout/vList2"/>
    <dgm:cxn modelId="{6E8CC50C-059D-47A7-B952-C06873503B69}" type="presParOf" srcId="{9A158C9B-1791-4AC7-964A-C916AAE61A82}" destId="{1822D7D1-4942-47D4-9A85-4B6EA3314E43}" srcOrd="9" destOrd="0" presId="urn:microsoft.com/office/officeart/2005/8/layout/vList2"/>
    <dgm:cxn modelId="{37F8EFA4-CE95-4C70-9C2C-181CBFA91412}" type="presParOf" srcId="{9A158C9B-1791-4AC7-964A-C916AAE61A82}" destId="{FA9AC831-D74B-4C93-9F2B-42124C3F1F23}" srcOrd="10" destOrd="0" presId="urn:microsoft.com/office/officeart/2005/8/layout/vList2"/>
    <dgm:cxn modelId="{1E7D0268-429D-4BFC-BEDD-4C99B3606335}" type="presParOf" srcId="{9A158C9B-1791-4AC7-964A-C916AAE61A82}" destId="{971B5798-E5D3-4586-BA8D-CFA49CF01DBD}" srcOrd="11" destOrd="0" presId="urn:microsoft.com/office/officeart/2005/8/layout/vList2"/>
    <dgm:cxn modelId="{40A96F94-F00C-4D1B-8B96-1781F2AD4F62}" type="presParOf" srcId="{9A158C9B-1791-4AC7-964A-C916AAE61A82}" destId="{3F15CCE2-E15F-410F-8E36-A6BBFADADD8A}" srcOrd="12" destOrd="0" presId="urn:microsoft.com/office/officeart/2005/8/layout/vList2"/>
    <dgm:cxn modelId="{3A030493-B4EF-4750-B56B-B724600D5F48}" type="presParOf" srcId="{9A158C9B-1791-4AC7-964A-C916AAE61A82}" destId="{781C3B59-C363-47AA-88A9-230C0FEB858B}" srcOrd="13" destOrd="0" presId="urn:microsoft.com/office/officeart/2005/8/layout/vList2"/>
    <dgm:cxn modelId="{7F0A92D4-9A73-48B4-8006-739C3C0A4D75}" type="presParOf" srcId="{9A158C9B-1791-4AC7-964A-C916AAE61A82}" destId="{E85CC4DA-0B50-426B-843F-F177D47C43AC}" srcOrd="1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9.xml><?xml version="1.0" encoding="utf-8"?>
<dgm:dataModel xmlns:dgm="http://schemas.openxmlformats.org/drawingml/2006/diagram" xmlns:a="http://schemas.openxmlformats.org/drawingml/2006/main">
  <dgm:ptLst>
    <dgm:pt modelId="{994CF1F4-2732-4AB8-8227-C604B16962DD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pl-PL"/>
        </a:p>
      </dgm:t>
    </dgm:pt>
    <dgm:pt modelId="{3ED9902A-1EBF-454F-BE5D-EE05BC6E7D48}">
      <dgm:prSet custT="1"/>
      <dgm:spPr/>
      <dgm:t>
        <a:bodyPr/>
        <a:lstStyle/>
        <a:p>
          <a:r>
            <a:rPr lang="en-US" sz="3200" b="1" noProof="0" dirty="0" smtClean="0"/>
            <a:t>Collecting data</a:t>
          </a:r>
          <a:r>
            <a:rPr lang="en-US" sz="1700" b="1" noProof="0" dirty="0" smtClean="0"/>
            <a:t/>
          </a:r>
          <a:br>
            <a:rPr lang="en-US" sz="1700" b="1" noProof="0" dirty="0" smtClean="0"/>
          </a:br>
          <a:r>
            <a:rPr lang="en-US" sz="2800" b="1" noProof="0" dirty="0" smtClean="0">
              <a:solidFill>
                <a:srgbClr val="FF3300"/>
              </a:solidFill>
            </a:rPr>
            <a:t>Quality aspects: </a:t>
          </a:r>
          <a:r>
            <a:rPr lang="en-US" sz="2800" b="1" noProof="0" dirty="0" smtClean="0">
              <a:solidFill>
                <a:srgbClr val="FFFF00"/>
              </a:solidFill>
            </a:rPr>
            <a:t>accuracy, costs including the burden on respondents, information security</a:t>
          </a:r>
          <a:endParaRPr lang="en-US" sz="2800" noProof="0" dirty="0">
            <a:solidFill>
              <a:srgbClr val="FFFF00"/>
            </a:solidFill>
          </a:endParaRPr>
        </a:p>
      </dgm:t>
    </dgm:pt>
    <dgm:pt modelId="{BF0E18C9-7F42-4393-B5FF-7E1CEBC2B14F}" type="parTrans" cxnId="{9C67332D-A3E9-411C-84E4-B025B0E65801}">
      <dgm:prSet/>
      <dgm:spPr/>
      <dgm:t>
        <a:bodyPr/>
        <a:lstStyle/>
        <a:p>
          <a:endParaRPr lang="pl-PL"/>
        </a:p>
      </dgm:t>
    </dgm:pt>
    <dgm:pt modelId="{5E09A35B-1943-4461-8EAB-D5056684ABDA}" type="sibTrans" cxnId="{9C67332D-A3E9-411C-84E4-B025B0E65801}">
      <dgm:prSet/>
      <dgm:spPr/>
      <dgm:t>
        <a:bodyPr/>
        <a:lstStyle/>
        <a:p>
          <a:endParaRPr lang="pl-PL"/>
        </a:p>
      </dgm:t>
    </dgm:pt>
    <dgm:pt modelId="{6E9ABF69-9855-4EDE-B316-F2460C919719}">
      <dgm:prSet/>
      <dgm:spPr/>
      <dgm:t>
        <a:bodyPr/>
        <a:lstStyle/>
        <a:p>
          <a:r>
            <a:rPr lang="en-US" b="1" noProof="0" dirty="0" smtClean="0"/>
            <a:t>Central</a:t>
          </a:r>
          <a:r>
            <a:rPr lang="pl-PL" b="1" noProof="0" dirty="0" smtClean="0"/>
            <a:t> </a:t>
          </a:r>
          <a:r>
            <a:rPr lang="en-US" b="1" noProof="0" dirty="0" smtClean="0"/>
            <a:t>registers,</a:t>
          </a:r>
          <a:endParaRPr lang="en-US" noProof="0" dirty="0"/>
        </a:p>
      </dgm:t>
    </dgm:pt>
    <dgm:pt modelId="{0DC777C2-823B-40EE-A641-78A1B2487300}" type="parTrans" cxnId="{92937901-B30E-4277-AB74-811E4A77CAE6}">
      <dgm:prSet/>
      <dgm:spPr/>
      <dgm:t>
        <a:bodyPr/>
        <a:lstStyle/>
        <a:p>
          <a:endParaRPr lang="pl-PL"/>
        </a:p>
      </dgm:t>
    </dgm:pt>
    <dgm:pt modelId="{6BE824B3-D84A-406A-96B9-C29FF275FF15}" type="sibTrans" cxnId="{92937901-B30E-4277-AB74-811E4A77CAE6}">
      <dgm:prSet/>
      <dgm:spPr/>
      <dgm:t>
        <a:bodyPr/>
        <a:lstStyle/>
        <a:p>
          <a:endParaRPr lang="pl-PL"/>
        </a:p>
      </dgm:t>
    </dgm:pt>
    <dgm:pt modelId="{EA1C4B9A-68B8-4D4A-85B3-251B9603B6EB}">
      <dgm:prSet/>
      <dgm:spPr/>
      <dgm:t>
        <a:bodyPr/>
        <a:lstStyle/>
        <a:p>
          <a:r>
            <a:rPr lang="en-US" b="1" noProof="0" dirty="0" smtClean="0"/>
            <a:t>Distributed</a:t>
          </a:r>
          <a:r>
            <a:rPr lang="pl-PL" b="1" noProof="0" dirty="0" smtClean="0"/>
            <a:t> </a:t>
          </a:r>
          <a:r>
            <a:rPr lang="en-US" b="1" noProof="0" dirty="0" smtClean="0"/>
            <a:t>registers,</a:t>
          </a:r>
          <a:endParaRPr lang="en-US" noProof="0" dirty="0"/>
        </a:p>
      </dgm:t>
    </dgm:pt>
    <dgm:pt modelId="{DE79F814-B0AD-4682-ABFF-73DA53857F7B}" type="parTrans" cxnId="{8EE48F88-0AD3-43A6-8024-225DE06408EA}">
      <dgm:prSet/>
      <dgm:spPr/>
      <dgm:t>
        <a:bodyPr/>
        <a:lstStyle/>
        <a:p>
          <a:endParaRPr lang="pl-PL"/>
        </a:p>
      </dgm:t>
    </dgm:pt>
    <dgm:pt modelId="{74F2B826-CCCF-473F-8994-807C1EFED285}" type="sibTrans" cxnId="{8EE48F88-0AD3-43A6-8024-225DE06408EA}">
      <dgm:prSet/>
      <dgm:spPr/>
      <dgm:t>
        <a:bodyPr/>
        <a:lstStyle/>
        <a:p>
          <a:endParaRPr lang="pl-PL"/>
        </a:p>
      </dgm:t>
    </dgm:pt>
    <dgm:pt modelId="{1A3D7719-2899-430B-B18C-6EEF092B0D53}">
      <dgm:prSet/>
      <dgm:spPr/>
      <dgm:t>
        <a:bodyPr/>
        <a:lstStyle/>
        <a:p>
          <a:r>
            <a:rPr lang="en-US" b="1" noProof="0" dirty="0" smtClean="0"/>
            <a:t>format / file structure (XSD schemas),</a:t>
          </a:r>
          <a:endParaRPr lang="en-US" noProof="0" dirty="0"/>
        </a:p>
      </dgm:t>
    </dgm:pt>
    <dgm:pt modelId="{11081983-17A8-4447-858A-5BDFDB7F5F6E}" type="parTrans" cxnId="{B1D41755-0CCA-4A16-BC05-F61D4DBA7B39}">
      <dgm:prSet/>
      <dgm:spPr/>
      <dgm:t>
        <a:bodyPr/>
        <a:lstStyle/>
        <a:p>
          <a:endParaRPr lang="pl-PL"/>
        </a:p>
      </dgm:t>
    </dgm:pt>
    <dgm:pt modelId="{41A93E95-2E9D-4599-873A-A2D24BE5B057}" type="sibTrans" cxnId="{B1D41755-0CCA-4A16-BC05-F61D4DBA7B39}">
      <dgm:prSet/>
      <dgm:spPr/>
      <dgm:t>
        <a:bodyPr/>
        <a:lstStyle/>
        <a:p>
          <a:endParaRPr lang="pl-PL"/>
        </a:p>
      </dgm:t>
    </dgm:pt>
    <dgm:pt modelId="{9A20E72C-CB02-4F56-A0EE-364DB2318B34}">
      <dgm:prSet/>
      <dgm:spPr/>
      <dgm:t>
        <a:bodyPr/>
        <a:lstStyle/>
        <a:p>
          <a:r>
            <a:rPr lang="en-US" b="1" noProof="0" dirty="0" smtClean="0"/>
            <a:t>data transfer platform,</a:t>
          </a:r>
          <a:endParaRPr lang="en-US" noProof="0" dirty="0"/>
        </a:p>
      </dgm:t>
    </dgm:pt>
    <dgm:pt modelId="{A5B65F64-5C5E-484A-B928-786DB98F4992}" type="parTrans" cxnId="{4EDE9F9E-D873-4E03-8E0B-3A503555BBA7}">
      <dgm:prSet/>
      <dgm:spPr/>
      <dgm:t>
        <a:bodyPr/>
        <a:lstStyle/>
        <a:p>
          <a:endParaRPr lang="pl-PL"/>
        </a:p>
      </dgm:t>
    </dgm:pt>
    <dgm:pt modelId="{144450A7-9ADE-4773-801B-CE59DE1A647C}" type="sibTrans" cxnId="{4EDE9F9E-D873-4E03-8E0B-3A503555BBA7}">
      <dgm:prSet/>
      <dgm:spPr/>
      <dgm:t>
        <a:bodyPr/>
        <a:lstStyle/>
        <a:p>
          <a:endParaRPr lang="pl-PL"/>
        </a:p>
      </dgm:t>
    </dgm:pt>
    <dgm:pt modelId="{F3D0BDC3-2F2F-490C-9F93-66D7027BF5C3}">
      <dgm:prSet/>
      <dgm:spPr/>
      <dgm:t>
        <a:bodyPr/>
        <a:lstStyle/>
        <a:p>
          <a:r>
            <a:rPr lang="en-US" b="1" noProof="0" dirty="0" smtClean="0"/>
            <a:t>application for encrypted data transfer,</a:t>
          </a:r>
          <a:endParaRPr lang="en-US" noProof="0" dirty="0"/>
        </a:p>
      </dgm:t>
    </dgm:pt>
    <dgm:pt modelId="{2C6EE1CB-ABEA-4391-90E3-B3BF7C092A6B}" type="parTrans" cxnId="{38684ED7-E9AA-4012-9849-CE351A60FB62}">
      <dgm:prSet/>
      <dgm:spPr/>
      <dgm:t>
        <a:bodyPr/>
        <a:lstStyle/>
        <a:p>
          <a:endParaRPr lang="pl-PL"/>
        </a:p>
      </dgm:t>
    </dgm:pt>
    <dgm:pt modelId="{EE9B1F17-6879-4BA5-BC9F-951DE948F4F3}" type="sibTrans" cxnId="{38684ED7-E9AA-4012-9849-CE351A60FB62}">
      <dgm:prSet/>
      <dgm:spPr/>
      <dgm:t>
        <a:bodyPr/>
        <a:lstStyle/>
        <a:p>
          <a:endParaRPr lang="pl-PL"/>
        </a:p>
      </dgm:t>
    </dgm:pt>
    <dgm:pt modelId="{0DD15E19-1B4A-4170-923C-BADBAB05D260}">
      <dgm:prSet/>
      <dgm:spPr/>
      <dgm:t>
        <a:bodyPr/>
        <a:lstStyle/>
        <a:p>
          <a:r>
            <a:rPr lang="en-US" b="1" noProof="0" dirty="0" smtClean="0"/>
            <a:t>application for validation and data set control</a:t>
          </a:r>
          <a:endParaRPr lang="en-US" noProof="0" dirty="0"/>
        </a:p>
      </dgm:t>
    </dgm:pt>
    <dgm:pt modelId="{C27E8C8D-641C-46F6-BECA-39697A0D3A30}" type="parTrans" cxnId="{ABAA893D-656F-44A4-A3FC-66CC76E2DAB2}">
      <dgm:prSet/>
      <dgm:spPr/>
      <dgm:t>
        <a:bodyPr/>
        <a:lstStyle/>
        <a:p>
          <a:endParaRPr lang="pl-PL"/>
        </a:p>
      </dgm:t>
    </dgm:pt>
    <dgm:pt modelId="{A5137873-9501-4E60-AC97-DFADA062674E}" type="sibTrans" cxnId="{ABAA893D-656F-44A4-A3FC-66CC76E2DAB2}">
      <dgm:prSet/>
      <dgm:spPr/>
      <dgm:t>
        <a:bodyPr/>
        <a:lstStyle/>
        <a:p>
          <a:endParaRPr lang="pl-PL"/>
        </a:p>
      </dgm:t>
    </dgm:pt>
    <dgm:pt modelId="{1859CAC7-7EC4-4F87-9083-CA97B645A355}">
      <dgm:prSet/>
      <dgm:spPr/>
      <dgm:t>
        <a:bodyPr/>
        <a:lstStyle/>
        <a:p>
          <a:r>
            <a:rPr lang="en-US" b="1" noProof="0" dirty="0" smtClean="0"/>
            <a:t>Collecting data from information systems</a:t>
          </a:r>
          <a:endParaRPr lang="en-US" noProof="0" dirty="0"/>
        </a:p>
      </dgm:t>
    </dgm:pt>
    <dgm:pt modelId="{BA8DF1EB-37DA-4853-8BCD-ECF9DCFCFF18}" type="parTrans" cxnId="{455365A4-D26A-4C7C-B612-A6834D3723EF}">
      <dgm:prSet/>
      <dgm:spPr/>
    </dgm:pt>
    <dgm:pt modelId="{B9FC7601-6E3B-4F07-BBD1-0D2ACDB323C0}" type="sibTrans" cxnId="{455365A4-D26A-4C7C-B612-A6834D3723EF}">
      <dgm:prSet/>
      <dgm:spPr/>
    </dgm:pt>
    <dgm:pt modelId="{ADC6FB53-26A8-4358-956F-33CD97D623A0}" type="pres">
      <dgm:prSet presAssocID="{994CF1F4-2732-4AB8-8227-C604B16962D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pl-PL"/>
        </a:p>
      </dgm:t>
    </dgm:pt>
    <dgm:pt modelId="{307CDB06-043D-4B15-A00F-8829BA85AC58}" type="pres">
      <dgm:prSet presAssocID="{3ED9902A-1EBF-454F-BE5D-EE05BC6E7D48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pl-PL"/>
        </a:p>
      </dgm:t>
    </dgm:pt>
    <dgm:pt modelId="{0FE54BAE-4F67-456A-B7DD-D82318E29667}" type="pres">
      <dgm:prSet presAssocID="{3ED9902A-1EBF-454F-BE5D-EE05BC6E7D48}" presName="childText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pl-PL"/>
        </a:p>
      </dgm:t>
    </dgm:pt>
  </dgm:ptLst>
  <dgm:cxnLst>
    <dgm:cxn modelId="{2BAF3BEE-39E3-4012-9650-B779CAB4CDCC}" type="presOf" srcId="{1859CAC7-7EC4-4F87-9083-CA97B645A355}" destId="{0FE54BAE-4F67-456A-B7DD-D82318E29667}" srcOrd="0" destOrd="0" presId="urn:microsoft.com/office/officeart/2005/8/layout/vList2"/>
    <dgm:cxn modelId="{4EDE9F9E-D873-4E03-8E0B-3A503555BBA7}" srcId="{EA1C4B9A-68B8-4D4A-85B3-251B9603B6EB}" destId="{9A20E72C-CB02-4F56-A0EE-364DB2318B34}" srcOrd="1" destOrd="0" parTransId="{A5B65F64-5C5E-484A-B928-786DB98F4992}" sibTransId="{144450A7-9ADE-4773-801B-CE59DE1A647C}"/>
    <dgm:cxn modelId="{9C67332D-A3E9-411C-84E4-B025B0E65801}" srcId="{994CF1F4-2732-4AB8-8227-C604B16962DD}" destId="{3ED9902A-1EBF-454F-BE5D-EE05BC6E7D48}" srcOrd="0" destOrd="0" parTransId="{BF0E18C9-7F42-4393-B5FF-7E1CEBC2B14F}" sibTransId="{5E09A35B-1943-4461-8EAB-D5056684ABDA}"/>
    <dgm:cxn modelId="{FAE87C54-487E-4453-BF85-578CAD8F9849}" type="presOf" srcId="{1A3D7719-2899-430B-B18C-6EEF092B0D53}" destId="{0FE54BAE-4F67-456A-B7DD-D82318E29667}" srcOrd="0" destOrd="3" presId="urn:microsoft.com/office/officeart/2005/8/layout/vList2"/>
    <dgm:cxn modelId="{6B6A0DAA-BBA5-4885-A236-14FCEC641861}" type="presOf" srcId="{F3D0BDC3-2F2F-490C-9F93-66D7027BF5C3}" destId="{0FE54BAE-4F67-456A-B7DD-D82318E29667}" srcOrd="0" destOrd="5" presId="urn:microsoft.com/office/officeart/2005/8/layout/vList2"/>
    <dgm:cxn modelId="{F26FE797-7D9F-4147-8A34-8D298ACF9C63}" type="presOf" srcId="{994CF1F4-2732-4AB8-8227-C604B16962DD}" destId="{ADC6FB53-26A8-4358-956F-33CD97D623A0}" srcOrd="0" destOrd="0" presId="urn:microsoft.com/office/officeart/2005/8/layout/vList2"/>
    <dgm:cxn modelId="{DFD60181-A400-4078-BF86-402E5B6A1097}" type="presOf" srcId="{9A20E72C-CB02-4F56-A0EE-364DB2318B34}" destId="{0FE54BAE-4F67-456A-B7DD-D82318E29667}" srcOrd="0" destOrd="4" presId="urn:microsoft.com/office/officeart/2005/8/layout/vList2"/>
    <dgm:cxn modelId="{EED6B428-DF14-4DDD-9FD2-3AD4EC751EBF}" type="presOf" srcId="{6E9ABF69-9855-4EDE-B316-F2460C919719}" destId="{0FE54BAE-4F67-456A-B7DD-D82318E29667}" srcOrd="0" destOrd="1" presId="urn:microsoft.com/office/officeart/2005/8/layout/vList2"/>
    <dgm:cxn modelId="{B1D41755-0CCA-4A16-BC05-F61D4DBA7B39}" srcId="{EA1C4B9A-68B8-4D4A-85B3-251B9603B6EB}" destId="{1A3D7719-2899-430B-B18C-6EEF092B0D53}" srcOrd="0" destOrd="0" parTransId="{11081983-17A8-4447-858A-5BDFDB7F5F6E}" sibTransId="{41A93E95-2E9D-4599-873A-A2D24BE5B057}"/>
    <dgm:cxn modelId="{F7F18724-B61B-4D88-934E-10BB4225A7ED}" type="presOf" srcId="{3ED9902A-1EBF-454F-BE5D-EE05BC6E7D48}" destId="{307CDB06-043D-4B15-A00F-8829BA85AC58}" srcOrd="0" destOrd="0" presId="urn:microsoft.com/office/officeart/2005/8/layout/vList2"/>
    <dgm:cxn modelId="{8EE48F88-0AD3-43A6-8024-225DE06408EA}" srcId="{1859CAC7-7EC4-4F87-9083-CA97B645A355}" destId="{EA1C4B9A-68B8-4D4A-85B3-251B9603B6EB}" srcOrd="1" destOrd="0" parTransId="{DE79F814-B0AD-4682-ABFF-73DA53857F7B}" sibTransId="{74F2B826-CCCF-473F-8994-807C1EFED285}"/>
    <dgm:cxn modelId="{92937901-B30E-4277-AB74-811E4A77CAE6}" srcId="{1859CAC7-7EC4-4F87-9083-CA97B645A355}" destId="{6E9ABF69-9855-4EDE-B316-F2460C919719}" srcOrd="0" destOrd="0" parTransId="{0DC777C2-823B-40EE-A641-78A1B2487300}" sibTransId="{6BE824B3-D84A-406A-96B9-C29FF275FF15}"/>
    <dgm:cxn modelId="{ABAA893D-656F-44A4-A3FC-66CC76E2DAB2}" srcId="{EA1C4B9A-68B8-4D4A-85B3-251B9603B6EB}" destId="{0DD15E19-1B4A-4170-923C-BADBAB05D260}" srcOrd="3" destOrd="0" parTransId="{C27E8C8D-641C-46F6-BECA-39697A0D3A30}" sibTransId="{A5137873-9501-4E60-AC97-DFADA062674E}"/>
    <dgm:cxn modelId="{455365A4-D26A-4C7C-B612-A6834D3723EF}" srcId="{3ED9902A-1EBF-454F-BE5D-EE05BC6E7D48}" destId="{1859CAC7-7EC4-4F87-9083-CA97B645A355}" srcOrd="0" destOrd="0" parTransId="{BA8DF1EB-37DA-4853-8BCD-ECF9DCFCFF18}" sibTransId="{B9FC7601-6E3B-4F07-BBD1-0D2ACDB323C0}"/>
    <dgm:cxn modelId="{01370B55-A4D2-4A4C-8D9F-FD12D11A7C66}" type="presOf" srcId="{EA1C4B9A-68B8-4D4A-85B3-251B9603B6EB}" destId="{0FE54BAE-4F67-456A-B7DD-D82318E29667}" srcOrd="0" destOrd="2" presId="urn:microsoft.com/office/officeart/2005/8/layout/vList2"/>
    <dgm:cxn modelId="{D7A69AEF-C302-4306-95DC-0A563CD29A27}" type="presOf" srcId="{0DD15E19-1B4A-4170-923C-BADBAB05D260}" destId="{0FE54BAE-4F67-456A-B7DD-D82318E29667}" srcOrd="0" destOrd="6" presId="urn:microsoft.com/office/officeart/2005/8/layout/vList2"/>
    <dgm:cxn modelId="{38684ED7-E9AA-4012-9849-CE351A60FB62}" srcId="{EA1C4B9A-68B8-4D4A-85B3-251B9603B6EB}" destId="{F3D0BDC3-2F2F-490C-9F93-66D7027BF5C3}" srcOrd="2" destOrd="0" parTransId="{2C6EE1CB-ABEA-4391-90E3-B3BF7C092A6B}" sibTransId="{EE9B1F17-6879-4BA5-BC9F-951DE948F4F3}"/>
    <dgm:cxn modelId="{477C617C-9C51-4C5C-9C3F-F08DA2CD87DB}" type="presParOf" srcId="{ADC6FB53-26A8-4358-956F-33CD97D623A0}" destId="{307CDB06-043D-4B15-A00F-8829BA85AC58}" srcOrd="0" destOrd="0" presId="urn:microsoft.com/office/officeart/2005/8/layout/vList2"/>
    <dgm:cxn modelId="{DFECB96D-8F86-4CAB-A0A8-1D33CE7EA27C}" type="presParOf" srcId="{ADC6FB53-26A8-4358-956F-33CD97D623A0}" destId="{0FE54BAE-4F67-456A-B7DD-D82318E29667}" srcOrd="1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7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748FD6B1-5284-4A35-BE66-DF23DE258E16}">
      <dsp:nvSpPr>
        <dsp:cNvPr id="0" name=""/>
        <dsp:cNvSpPr/>
      </dsp:nvSpPr>
      <dsp:spPr>
        <a:xfrm>
          <a:off x="0" y="3033"/>
          <a:ext cx="8229600" cy="1168674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1920" tIns="121920" rIns="121920" bIns="121920" numCol="1" spcCol="1270" anchor="ctr" anchorCtr="0">
          <a:noAutofit/>
        </a:bodyPr>
        <a:lstStyle/>
        <a:p>
          <a:pPr lvl="0" algn="l" defTabSz="14224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kern="1200" noProof="0" dirty="0" smtClean="0"/>
            <a:t>Key elements of census process in terms of census quality </a:t>
          </a:r>
          <a:endParaRPr lang="en-US" sz="3200" kern="1200" noProof="0" dirty="0"/>
        </a:p>
      </dsp:txBody>
      <dsp:txXfrm>
        <a:off x="0" y="3033"/>
        <a:ext cx="8229600" cy="1168674"/>
      </dsp:txXfrm>
    </dsp:sp>
    <dsp:sp modelId="{30260CF6-4D9C-4193-B208-91D5CEDD28C2}">
      <dsp:nvSpPr>
        <dsp:cNvPr id="0" name=""/>
        <dsp:cNvSpPr/>
      </dsp:nvSpPr>
      <dsp:spPr>
        <a:xfrm>
          <a:off x="0" y="1171707"/>
          <a:ext cx="8229600" cy="3522672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61290" tIns="25400" rIns="142240" bIns="25400" numCol="1" spcCol="1270" anchor="t" anchorCtr="0">
          <a:noAutofit/>
        </a:bodyPr>
        <a:lstStyle/>
        <a:p>
          <a:pPr marL="228600" lvl="1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GB" sz="2000" b="1" kern="1200" dirty="0" smtClean="0"/>
            <a:t>Census planning - scope of census,</a:t>
          </a:r>
          <a:endParaRPr lang="pl-PL" sz="2000" kern="1200" dirty="0"/>
        </a:p>
        <a:p>
          <a:pPr marL="228600" lvl="1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GB" sz="2000" b="1" kern="1200" dirty="0" smtClean="0"/>
            <a:t>Data </a:t>
          </a:r>
          <a:r>
            <a:rPr lang="pl-PL" sz="2000" b="1" kern="1200" dirty="0" smtClean="0"/>
            <a:t>s</a:t>
          </a:r>
          <a:r>
            <a:rPr lang="en-GB" sz="2000" b="1" kern="1200" dirty="0" err="1" smtClean="0"/>
            <a:t>ources</a:t>
          </a:r>
          <a:r>
            <a:rPr lang="en-GB" sz="2000" b="1" kern="1200" dirty="0" smtClean="0"/>
            <a:t>,</a:t>
          </a:r>
          <a:endParaRPr lang="pl-PL" sz="2000" kern="1200" dirty="0"/>
        </a:p>
        <a:p>
          <a:pPr marL="228600" lvl="1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GB" sz="2000" b="1" kern="1200" dirty="0" smtClean="0"/>
            <a:t>Data collecting,</a:t>
          </a:r>
          <a:endParaRPr lang="pl-PL" sz="2000" kern="1200" dirty="0"/>
        </a:p>
        <a:p>
          <a:pPr marL="228600" lvl="1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GB" sz="2000" b="1" kern="1200" dirty="0" smtClean="0"/>
            <a:t>Data storing,</a:t>
          </a:r>
          <a:endParaRPr lang="pl-PL" sz="2000" kern="1200" dirty="0"/>
        </a:p>
        <a:p>
          <a:pPr marL="228600" lvl="1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GB" sz="2000" b="1" kern="1200" dirty="0" smtClean="0"/>
            <a:t>Data processing,</a:t>
          </a:r>
          <a:endParaRPr lang="pl-PL" sz="2000" kern="1200" dirty="0"/>
        </a:p>
        <a:p>
          <a:pPr marL="228600" lvl="1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GB" sz="2000" b="1" kern="1200" dirty="0" smtClean="0"/>
            <a:t>Development of census results,</a:t>
          </a:r>
          <a:endParaRPr lang="pl-PL" sz="2000" kern="1200" dirty="0"/>
        </a:p>
        <a:p>
          <a:pPr marL="228600" lvl="1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GB" sz="2000" b="1" kern="1200" dirty="0" smtClean="0"/>
            <a:t>Dissemination </a:t>
          </a:r>
          <a:r>
            <a:rPr lang="pl-PL" sz="2000" b="1" kern="1200" dirty="0" smtClean="0"/>
            <a:t>of </a:t>
          </a:r>
          <a:r>
            <a:rPr lang="en-GB" sz="2000" b="1" kern="1200" dirty="0" smtClean="0"/>
            <a:t>census results,</a:t>
          </a:r>
          <a:endParaRPr lang="pl-PL" sz="2000" kern="1200" dirty="0"/>
        </a:p>
        <a:p>
          <a:pPr marL="228600" lvl="1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GB" sz="2000" b="1" kern="1200" dirty="0" smtClean="0"/>
            <a:t>Census Metadata System.</a:t>
          </a:r>
          <a:endParaRPr lang="pl-PL" sz="2000" kern="1200" dirty="0"/>
        </a:p>
        <a:p>
          <a:pPr marL="171450" lvl="1" indent="-171450" algn="l" defTabSz="711200" rtl="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endParaRPr lang="en-US" sz="1600" b="1" kern="1200" noProof="0" dirty="0"/>
        </a:p>
        <a:p>
          <a:pPr marL="171450" lvl="1" indent="-171450" algn="l" defTabSz="711200" rtl="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endParaRPr lang="en-US" sz="1600" b="1" kern="1200" noProof="0" dirty="0"/>
        </a:p>
        <a:p>
          <a:pPr marL="171450" lvl="1" indent="-171450" algn="l" defTabSz="711200" rtl="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endParaRPr lang="en-US" sz="1600" b="1" kern="1200" noProof="0" dirty="0"/>
        </a:p>
        <a:p>
          <a:pPr marL="171450" lvl="1" indent="-171450" algn="l" defTabSz="711200" rtl="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endParaRPr lang="en-US" sz="1600" b="1" kern="1200" noProof="0" dirty="0"/>
        </a:p>
      </dsp:txBody>
      <dsp:txXfrm>
        <a:off x="0" y="1171707"/>
        <a:ext cx="8229600" cy="3522672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748FD6B1-5284-4A35-BE66-DF23DE258E16}">
      <dsp:nvSpPr>
        <dsp:cNvPr id="0" name=""/>
        <dsp:cNvSpPr/>
      </dsp:nvSpPr>
      <dsp:spPr>
        <a:xfrm>
          <a:off x="0" y="280705"/>
          <a:ext cx="8229600" cy="2091375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1920" tIns="121920" rIns="121920" bIns="121920" numCol="1" spcCol="1270" anchor="ctr" anchorCtr="0">
          <a:noAutofit/>
        </a:bodyPr>
        <a:lstStyle/>
        <a:p>
          <a:pPr lvl="0" algn="l" defTabSz="14224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GB" sz="3200" b="1" kern="1200" dirty="0" smtClean="0"/>
            <a:t>Census planning</a:t>
          </a:r>
          <a:r>
            <a:rPr lang="pl-PL" sz="3200" b="1" kern="1200" dirty="0" smtClean="0"/>
            <a:t> </a:t>
          </a:r>
          <a:br>
            <a:rPr lang="pl-PL" sz="3200" b="1" kern="1200" dirty="0" smtClean="0"/>
          </a:br>
          <a:r>
            <a:rPr lang="en-US" sz="2800" b="1" kern="1200" noProof="0" dirty="0" smtClean="0">
              <a:solidFill>
                <a:srgbClr val="FF3300"/>
              </a:solidFill>
            </a:rPr>
            <a:t>Quality aspects: </a:t>
          </a:r>
          <a:r>
            <a:rPr lang="en-US" sz="2800" b="1" kern="1200" noProof="0" dirty="0" smtClean="0">
              <a:solidFill>
                <a:srgbClr val="FFFF00"/>
              </a:solidFill>
            </a:rPr>
            <a:t>relevance, accuracy, costs including the burden on respondents, information security</a:t>
          </a:r>
          <a:endParaRPr lang="en-US" sz="2800" kern="1200" noProof="0" dirty="0">
            <a:solidFill>
              <a:srgbClr val="FFFF00"/>
            </a:solidFill>
          </a:endParaRPr>
        </a:p>
      </dsp:txBody>
      <dsp:txXfrm>
        <a:off x="0" y="280705"/>
        <a:ext cx="8229600" cy="2091375"/>
      </dsp:txXfrm>
    </dsp:sp>
    <dsp:sp modelId="{30260CF6-4D9C-4193-B208-91D5CEDD28C2}">
      <dsp:nvSpPr>
        <dsp:cNvPr id="0" name=""/>
        <dsp:cNvSpPr/>
      </dsp:nvSpPr>
      <dsp:spPr>
        <a:xfrm>
          <a:off x="0" y="2326112"/>
          <a:ext cx="8229600" cy="2623725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61290" tIns="30480" rIns="170688" bIns="30480" numCol="1" spcCol="1270" anchor="t" anchorCtr="0">
          <a:noAutofit/>
        </a:bodyPr>
        <a:lstStyle/>
        <a:p>
          <a:pPr marL="228600" lvl="1" indent="-228600" algn="l" defTabSz="10668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400" b="1" kern="1200" noProof="0" dirty="0" smtClean="0"/>
            <a:t>Determining the data scope defined in Act including:</a:t>
          </a:r>
          <a:endParaRPr lang="en-US" sz="2400" kern="1200" noProof="0" dirty="0"/>
        </a:p>
        <a:p>
          <a:pPr marL="457200" lvl="2" indent="-228600" algn="l" defTabSz="10668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400" b="1" kern="1200" noProof="0" dirty="0" smtClean="0"/>
            <a:t>Compliance with needs of domestic and EU users,</a:t>
          </a:r>
          <a:endParaRPr lang="en-US" sz="2400" kern="1200" noProof="0" dirty="0"/>
        </a:p>
        <a:p>
          <a:pPr marL="457200" lvl="2" indent="-228600" algn="l" defTabSz="10668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400" b="1" kern="1200" noProof="0" dirty="0" smtClean="0"/>
            <a:t>Quality of data source,</a:t>
          </a:r>
          <a:endParaRPr lang="en-US" sz="2400" kern="1200" noProof="0" dirty="0"/>
        </a:p>
        <a:p>
          <a:pPr marL="457200" lvl="2" indent="-228600" algn="l" defTabSz="10668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400" b="1" kern="1200" noProof="0" dirty="0" smtClean="0"/>
            <a:t>Coherence and comparability of results from census 2011 and 2002,</a:t>
          </a:r>
          <a:endParaRPr lang="en-US" sz="2400" kern="1200" noProof="0" dirty="0"/>
        </a:p>
      </dsp:txBody>
      <dsp:txXfrm>
        <a:off x="0" y="2326112"/>
        <a:ext cx="8229600" cy="2623725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BEF9BE7-330E-48C8-B679-3B164A3778C7}">
      <dsp:nvSpPr>
        <dsp:cNvPr id="0" name=""/>
        <dsp:cNvSpPr/>
      </dsp:nvSpPr>
      <dsp:spPr>
        <a:xfrm>
          <a:off x="0" y="1413"/>
          <a:ext cx="8229600" cy="7675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1920" tIns="121920" rIns="121920" bIns="121920" numCol="1" spcCol="1270" anchor="ctr" anchorCtr="0">
          <a:noAutofit/>
        </a:bodyPr>
        <a:lstStyle/>
        <a:p>
          <a:pPr lvl="0" algn="l" defTabSz="14224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pl-PL" sz="3200" kern="1200" dirty="0" err="1" smtClean="0"/>
            <a:t>Files</a:t>
          </a:r>
          <a:r>
            <a:rPr lang="pl-PL" sz="3200" kern="1200" dirty="0" smtClean="0"/>
            <a:t> format:</a:t>
          </a:r>
          <a:endParaRPr lang="pl-PL" sz="3200" kern="1200" dirty="0"/>
        </a:p>
      </dsp:txBody>
      <dsp:txXfrm>
        <a:off x="0" y="1413"/>
        <a:ext cx="8229600" cy="767520"/>
      </dsp:txXfrm>
    </dsp:sp>
    <dsp:sp modelId="{0C4C1444-18FF-4840-BE5C-2D7A1267ED66}">
      <dsp:nvSpPr>
        <dsp:cNvPr id="0" name=""/>
        <dsp:cNvSpPr/>
      </dsp:nvSpPr>
      <dsp:spPr>
        <a:xfrm>
          <a:off x="0" y="768933"/>
          <a:ext cx="8229600" cy="344448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61290" tIns="40640" rIns="227584" bIns="40640" numCol="1" spcCol="1270" anchor="t" anchorCtr="0">
          <a:noAutofit/>
        </a:bodyPr>
        <a:lstStyle/>
        <a:p>
          <a:pPr marL="228600" lvl="1" indent="-228600" algn="l" defTabSz="1111250" rtl="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pl-PL" sz="2500" kern="1200" dirty="0" smtClean="0"/>
            <a:t>Flat </a:t>
          </a:r>
          <a:r>
            <a:rPr lang="pl-PL" sz="2500" kern="1200" dirty="0" err="1" smtClean="0"/>
            <a:t>files</a:t>
          </a:r>
          <a:r>
            <a:rPr lang="pl-PL" sz="2500" kern="1200" dirty="0" smtClean="0"/>
            <a:t>,</a:t>
          </a:r>
          <a:endParaRPr lang="pl-PL" sz="2500" kern="1200" dirty="0"/>
        </a:p>
        <a:p>
          <a:pPr marL="228600" lvl="1" indent="-228600" algn="l" defTabSz="1111250" rtl="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pl-PL" sz="2500" kern="1200" dirty="0" smtClean="0"/>
            <a:t>XML </a:t>
          </a:r>
          <a:r>
            <a:rPr lang="pl-PL" sz="2500" kern="1200" dirty="0" err="1" smtClean="0"/>
            <a:t>files</a:t>
          </a:r>
          <a:r>
            <a:rPr lang="pl-PL" sz="2500" kern="1200" dirty="0" smtClean="0"/>
            <a:t>,</a:t>
          </a:r>
          <a:endParaRPr lang="pl-PL" sz="2500" kern="1200" dirty="0"/>
        </a:p>
        <a:p>
          <a:pPr marL="228600" lvl="1" indent="-228600" algn="l" defTabSz="1111250" rtl="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pl-PL" sz="2500" kern="1200" dirty="0" err="1" smtClean="0"/>
            <a:t>Local</a:t>
          </a:r>
          <a:r>
            <a:rPr lang="pl-PL" sz="2500" kern="1200" dirty="0" smtClean="0"/>
            <a:t> </a:t>
          </a:r>
          <a:r>
            <a:rPr lang="pl-PL" sz="2500" kern="1200" dirty="0" err="1" smtClean="0"/>
            <a:t>Databases</a:t>
          </a:r>
          <a:r>
            <a:rPr lang="pl-PL" sz="2500" kern="1200" dirty="0" smtClean="0"/>
            <a:t> XML </a:t>
          </a:r>
          <a:r>
            <a:rPr lang="pl-PL" sz="2500" kern="1200" dirty="0" err="1" smtClean="0"/>
            <a:t>files</a:t>
          </a:r>
          <a:r>
            <a:rPr lang="pl-PL" sz="2500" kern="1200" dirty="0" smtClean="0"/>
            <a:t> </a:t>
          </a:r>
          <a:r>
            <a:rPr lang="pl-PL" sz="2500" kern="1200" dirty="0" err="1" smtClean="0"/>
            <a:t>integration</a:t>
          </a:r>
          <a:r>
            <a:rPr lang="pl-PL" sz="2500" kern="1200" dirty="0" smtClean="0"/>
            <a:t>,</a:t>
          </a:r>
          <a:endParaRPr lang="pl-PL" sz="2500" kern="1200" dirty="0"/>
        </a:p>
        <a:p>
          <a:pPr marL="228600" lvl="1" indent="-228600" algn="l" defTabSz="1111250" rtl="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endParaRPr lang="pl-PL" sz="2500" kern="1200" dirty="0"/>
        </a:p>
        <a:p>
          <a:pPr marL="228600" lvl="1" indent="-228600" algn="l" defTabSz="1111250" rtl="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endParaRPr lang="pl-PL" sz="2500" kern="1200" dirty="0"/>
        </a:p>
        <a:p>
          <a:pPr marL="228600" lvl="1" indent="-228600" algn="l" defTabSz="1111250" rtl="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endParaRPr lang="pl-PL" sz="2500" kern="1200" dirty="0"/>
        </a:p>
        <a:p>
          <a:pPr marL="228600" lvl="1" indent="-228600" algn="l" defTabSz="1111250" rtl="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endParaRPr lang="pl-PL" sz="2500" kern="1200" dirty="0"/>
        </a:p>
        <a:p>
          <a:pPr marL="228600" lvl="1" indent="-228600" algn="l" defTabSz="1111250" rtl="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endParaRPr lang="pl-PL" sz="2500" kern="1200" dirty="0"/>
        </a:p>
      </dsp:txBody>
      <dsp:txXfrm>
        <a:off x="0" y="768933"/>
        <a:ext cx="8229600" cy="3444480"/>
      </dsp:txXfrm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077A01B9-6C71-4DB9-AC09-73099ECE0AC8}">
      <dsp:nvSpPr>
        <dsp:cNvPr id="0" name=""/>
        <dsp:cNvSpPr/>
      </dsp:nvSpPr>
      <dsp:spPr>
        <a:xfrm>
          <a:off x="0" y="204330"/>
          <a:ext cx="8229600" cy="2265945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1920" tIns="121920" rIns="121920" bIns="121920" numCol="1" spcCol="1270" anchor="ctr" anchorCtr="0">
          <a:noAutofit/>
        </a:bodyPr>
        <a:lstStyle/>
        <a:p>
          <a:pPr lvl="0" algn="l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kern="1200" dirty="0" err="1" smtClean="0"/>
            <a:t>Datasources</a:t>
          </a:r>
          <a:r>
            <a:rPr lang="en-US" sz="3200" b="1" kern="1200" dirty="0" smtClean="0"/>
            <a:t> </a:t>
          </a:r>
          <a:r>
            <a:rPr lang="pl-PL" sz="1300" b="1" kern="1200" dirty="0" smtClean="0"/>
            <a:t/>
          </a:r>
          <a:br>
            <a:rPr lang="pl-PL" sz="1300" b="1" kern="1200" dirty="0" smtClean="0"/>
          </a:br>
          <a:r>
            <a:rPr lang="en-GB" sz="2800" b="1" kern="1200" dirty="0" smtClean="0">
              <a:solidFill>
                <a:srgbClr val="FF3300"/>
              </a:solidFill>
            </a:rPr>
            <a:t>Q</a:t>
          </a:r>
          <a:r>
            <a:rPr lang="en-US" sz="2800" b="1" kern="1200" dirty="0" err="1" smtClean="0">
              <a:solidFill>
                <a:srgbClr val="FF3300"/>
              </a:solidFill>
            </a:rPr>
            <a:t>uality</a:t>
          </a:r>
          <a:r>
            <a:rPr lang="en-US" sz="2800" b="1" kern="1200" dirty="0" smtClean="0">
              <a:solidFill>
                <a:srgbClr val="FF3300"/>
              </a:solidFill>
            </a:rPr>
            <a:t> aspects:</a:t>
          </a:r>
          <a:r>
            <a:rPr lang="en-GB" sz="2800" b="1" kern="1200" dirty="0" smtClean="0">
              <a:solidFill>
                <a:srgbClr val="FF3300"/>
              </a:solidFill>
            </a:rPr>
            <a:t> </a:t>
          </a:r>
          <a:r>
            <a:rPr lang="en-GB" sz="2800" b="1" kern="1200" dirty="0" smtClean="0">
              <a:solidFill>
                <a:srgbClr val="FFFF00"/>
              </a:solidFill>
            </a:rPr>
            <a:t>accuracy, </a:t>
          </a:r>
          <a:r>
            <a:rPr lang="en-US" sz="2800" b="1" kern="1200" dirty="0" smtClean="0">
              <a:solidFill>
                <a:srgbClr val="FFFF00"/>
              </a:solidFill>
            </a:rPr>
            <a:t>timeliness and punctuality</a:t>
          </a:r>
          <a:r>
            <a:rPr lang="pl-PL" sz="2800" b="1" kern="1200" dirty="0" smtClean="0">
              <a:solidFill>
                <a:srgbClr val="FFFF00"/>
              </a:solidFill>
            </a:rPr>
            <a:t>, </a:t>
          </a:r>
          <a:r>
            <a:rPr lang="en-US" sz="2800" b="1" kern="1200" dirty="0" smtClean="0">
              <a:solidFill>
                <a:srgbClr val="FFFF00"/>
              </a:solidFill>
            </a:rPr>
            <a:t>comparability and coherence</a:t>
          </a:r>
          <a:r>
            <a:rPr lang="pl-PL" sz="2800" b="1" kern="1200" dirty="0" smtClean="0">
              <a:solidFill>
                <a:srgbClr val="FFFF00"/>
              </a:solidFill>
            </a:rPr>
            <a:t>, </a:t>
          </a:r>
          <a:r>
            <a:rPr lang="en-GB" sz="2800" b="1" kern="1200" dirty="0" smtClean="0">
              <a:solidFill>
                <a:srgbClr val="FFFF00"/>
              </a:solidFill>
            </a:rPr>
            <a:t>costs including the burden on respondents, information security</a:t>
          </a:r>
          <a:endParaRPr lang="pl-PL" sz="2800" b="1" kern="1200" dirty="0">
            <a:solidFill>
              <a:srgbClr val="FFFF00"/>
            </a:solidFill>
          </a:endParaRPr>
        </a:p>
      </dsp:txBody>
      <dsp:txXfrm>
        <a:off x="0" y="204330"/>
        <a:ext cx="8229600" cy="2265945"/>
      </dsp:txXfrm>
    </dsp:sp>
    <dsp:sp modelId="{9EC087C6-236F-466A-B473-28A3CBFAB76A}">
      <dsp:nvSpPr>
        <dsp:cNvPr id="0" name=""/>
        <dsp:cNvSpPr/>
      </dsp:nvSpPr>
      <dsp:spPr>
        <a:xfrm>
          <a:off x="0" y="2470275"/>
          <a:ext cx="8229600" cy="2653986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61290" tIns="25400" rIns="142240" bIns="25400" numCol="1" spcCol="1270" anchor="t" anchorCtr="0">
          <a:noAutofit/>
        </a:bodyPr>
        <a:lstStyle/>
        <a:p>
          <a:pPr marL="228600" lvl="1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000" b="1" kern="1200" noProof="0" dirty="0" smtClean="0"/>
            <a:t>Assessment of data sources quality for census:</a:t>
          </a:r>
          <a:endParaRPr lang="en-US" sz="2000" kern="1200" noProof="0" dirty="0"/>
        </a:p>
        <a:p>
          <a:pPr marL="457200" lvl="2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000" b="1" kern="1200" noProof="0" dirty="0" smtClean="0"/>
            <a:t>analyses of methodological compliance of concepts definitions from </a:t>
          </a:r>
          <a:r>
            <a:rPr lang="pl-PL" sz="2000" b="1" kern="1200" noProof="0" dirty="0" err="1" smtClean="0"/>
            <a:t>registers</a:t>
          </a:r>
          <a:r>
            <a:rPr lang="pl-PL" sz="2000" b="1" kern="1200" noProof="0" dirty="0" smtClean="0"/>
            <a:t> </a:t>
          </a:r>
          <a:r>
            <a:rPr lang="en-US" sz="2000" b="1" kern="1200" noProof="0" dirty="0" smtClean="0"/>
            <a:t>with those adopted in statistics and the UNECE and EUROSTAT Recommendations for the 2010 Censuses </a:t>
          </a:r>
          <a:r>
            <a:rPr lang="pl-PL" sz="2000" b="1" kern="1200" noProof="0" dirty="0" smtClean="0"/>
            <a:t>on </a:t>
          </a:r>
          <a:r>
            <a:rPr lang="en-US" sz="2000" b="1" kern="1200" noProof="0" dirty="0" smtClean="0"/>
            <a:t>Population and Housing,</a:t>
          </a:r>
          <a:endParaRPr lang="en-US" sz="2000" kern="1200" noProof="0" dirty="0"/>
        </a:p>
        <a:p>
          <a:pPr marL="685800" lvl="3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000" b="1" kern="1200" noProof="0" dirty="0" smtClean="0"/>
            <a:t>developing methodology for compliance analyses,</a:t>
          </a:r>
          <a:endParaRPr lang="en-US" sz="2000" kern="1200" noProof="0" dirty="0"/>
        </a:p>
        <a:p>
          <a:pPr marL="685800" lvl="3" indent="-228600" algn="l" defTabSz="8890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000" b="1" kern="1200" noProof="0" dirty="0" smtClean="0"/>
            <a:t>constructing </a:t>
          </a:r>
          <a:r>
            <a:rPr lang="pl-PL" sz="2000" b="1" kern="1200" noProof="0" dirty="0" err="1" smtClean="0"/>
            <a:t>the</a:t>
          </a:r>
          <a:r>
            <a:rPr lang="en-US" sz="2000" b="1" kern="1200" noProof="0" dirty="0" smtClean="0"/>
            <a:t> IT system </a:t>
          </a:r>
          <a:r>
            <a:rPr lang="en-US" sz="2000" b="1" kern="1200" noProof="0" dirty="0" err="1" smtClean="0"/>
            <a:t>PiK</a:t>
          </a:r>
          <a:r>
            <a:rPr lang="en-US" sz="2000" b="1" kern="1200" noProof="0" dirty="0" smtClean="0"/>
            <a:t> for describing, comparing and assessing coherence level,</a:t>
          </a:r>
          <a:endParaRPr lang="en-US" sz="2000" kern="1200" noProof="0" dirty="0"/>
        </a:p>
      </dsp:txBody>
      <dsp:txXfrm>
        <a:off x="0" y="2470275"/>
        <a:ext cx="8229600" cy="2653986"/>
      </dsp:txXfrm>
    </dsp:sp>
  </dsp:spTree>
</dsp:drawing>
</file>

<file path=ppt/diagrams/drawing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DACDA7B0-E12E-426E-9975-211DF6370DCE}">
      <dsp:nvSpPr>
        <dsp:cNvPr id="0" name=""/>
        <dsp:cNvSpPr/>
      </dsp:nvSpPr>
      <dsp:spPr>
        <a:xfrm>
          <a:off x="0" y="32781"/>
          <a:ext cx="8229600" cy="71954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0" tIns="114300" rIns="114300" bIns="114300" numCol="1" spcCol="1270" anchor="ctr" anchorCtr="0">
          <a:noAutofit/>
        </a:bodyPr>
        <a:lstStyle/>
        <a:p>
          <a:pPr lvl="0" algn="l" defTabSz="1333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pl-PL" sz="3000" kern="1200" dirty="0" err="1" smtClean="0"/>
            <a:t>Registers</a:t>
          </a:r>
          <a:endParaRPr lang="pl-PL" sz="3000" kern="1200" dirty="0"/>
        </a:p>
      </dsp:txBody>
      <dsp:txXfrm>
        <a:off x="0" y="32781"/>
        <a:ext cx="8229600" cy="719549"/>
      </dsp:txXfrm>
    </dsp:sp>
    <dsp:sp modelId="{DA36F35B-08CA-4E5A-9CDB-570725B9D2BF}">
      <dsp:nvSpPr>
        <dsp:cNvPr id="0" name=""/>
        <dsp:cNvSpPr/>
      </dsp:nvSpPr>
      <dsp:spPr>
        <a:xfrm>
          <a:off x="0" y="752331"/>
          <a:ext cx="8229600" cy="391230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61290" tIns="38100" rIns="213360" bIns="38100" numCol="1" spcCol="1270" anchor="t" anchorCtr="0">
          <a:noAutofit/>
        </a:bodyPr>
        <a:lstStyle/>
        <a:p>
          <a:pPr marL="228600" lvl="1" indent="-228600" algn="l" defTabSz="102235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300" b="1" kern="1200" noProof="0" dirty="0" smtClean="0"/>
            <a:t>developing methodology for assessing the quality: dimensions, quality indicators,</a:t>
          </a:r>
          <a:endParaRPr lang="en-US" sz="2300" kern="1200" noProof="0" dirty="0"/>
        </a:p>
        <a:p>
          <a:pPr marL="228600" lvl="1" indent="-228600" algn="l" defTabSz="102235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300" b="1" kern="1200" noProof="0" dirty="0" smtClean="0"/>
            <a:t>evaluation and description of sources quality,</a:t>
          </a:r>
          <a:endParaRPr lang="en-US" sz="2300" kern="1200" noProof="0" dirty="0"/>
        </a:p>
        <a:p>
          <a:pPr marL="228600" lvl="1" indent="-228600" algn="l" defTabSz="102235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pl-PL" sz="2300" b="1" kern="1200" noProof="0" dirty="0" smtClean="0"/>
            <a:t>MATRIX</a:t>
          </a:r>
          <a:r>
            <a:rPr lang="en-US" sz="2300" b="1" kern="1200" noProof="0" dirty="0" smtClean="0"/>
            <a:t> that represents the possibility of obtaining the values for the census from registers:</a:t>
          </a:r>
          <a:endParaRPr lang="en-US" sz="2300" kern="1200" noProof="0" dirty="0"/>
        </a:p>
        <a:p>
          <a:pPr marL="457200" lvl="2" indent="-228600" algn="l" defTabSz="102235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300" b="1" kern="1200" noProof="0" dirty="0" smtClean="0"/>
            <a:t>census variable compliance indicators (methodology compliance</a:t>
          </a:r>
          <a:r>
            <a:rPr lang="pl-PL" sz="2300" b="1" kern="1200" noProof="0" dirty="0" smtClean="0"/>
            <a:t> </a:t>
          </a:r>
          <a:r>
            <a:rPr lang="en-US" sz="2300" b="1" kern="1200" noProof="0" dirty="0" smtClean="0"/>
            <a:t>indicator), </a:t>
          </a:r>
          <a:endParaRPr lang="en-US" sz="2300" kern="1200" noProof="0" dirty="0"/>
        </a:p>
        <a:p>
          <a:pPr marL="457200" lvl="2" indent="-228600" algn="l" defTabSz="102235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pl-PL" sz="2300" b="1" kern="1200" noProof="0" dirty="0" smtClean="0"/>
            <a:t>register</a:t>
          </a:r>
          <a:r>
            <a:rPr lang="en-US" sz="2300" b="1" kern="1200" noProof="0" dirty="0" smtClean="0"/>
            <a:t> suitability indicators (population coverage indicator for data from the </a:t>
          </a:r>
          <a:r>
            <a:rPr lang="pl-PL" sz="2300" b="1" kern="1200" noProof="0" dirty="0" smtClean="0"/>
            <a:t>register</a:t>
          </a:r>
          <a:r>
            <a:rPr lang="en-US" sz="2300" b="1" kern="1200" noProof="0" dirty="0" smtClean="0"/>
            <a:t>),</a:t>
          </a:r>
          <a:endParaRPr lang="en-US" sz="2300" kern="1200" noProof="0" dirty="0"/>
        </a:p>
      </dsp:txBody>
      <dsp:txXfrm>
        <a:off x="0" y="752331"/>
        <a:ext cx="8229600" cy="3912300"/>
      </dsp:txXfrm>
    </dsp:sp>
  </dsp:spTree>
</dsp:drawing>
</file>

<file path=ppt/diagrams/drawing6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09A48E8-C058-49F6-98B7-7B26648C3627}">
      <dsp:nvSpPr>
        <dsp:cNvPr id="0" name=""/>
        <dsp:cNvSpPr/>
      </dsp:nvSpPr>
      <dsp:spPr>
        <a:xfrm>
          <a:off x="0" y="43986"/>
          <a:ext cx="8229600" cy="7675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1920" tIns="121920" rIns="121920" bIns="121920" numCol="1" spcCol="1270" anchor="ctr" anchorCtr="0">
          <a:noAutofit/>
        </a:bodyPr>
        <a:lstStyle/>
        <a:p>
          <a:pPr lvl="0" algn="l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kern="1200" noProof="0" dirty="0" smtClean="0"/>
            <a:t>Data sets</a:t>
          </a:r>
          <a:endParaRPr lang="en-US" sz="3200" kern="1200" noProof="0" dirty="0"/>
        </a:p>
      </dsp:txBody>
      <dsp:txXfrm>
        <a:off x="0" y="43986"/>
        <a:ext cx="8229600" cy="767520"/>
      </dsp:txXfrm>
    </dsp:sp>
    <dsp:sp modelId="{4249C476-281D-4DAD-B407-493823519957}">
      <dsp:nvSpPr>
        <dsp:cNvPr id="0" name=""/>
        <dsp:cNvSpPr/>
      </dsp:nvSpPr>
      <dsp:spPr>
        <a:xfrm>
          <a:off x="0" y="811506"/>
          <a:ext cx="8229600" cy="384192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61290" tIns="40640" rIns="227584" bIns="40640" numCol="1" spcCol="1270" anchor="t" anchorCtr="0">
          <a:noAutofit/>
        </a:bodyPr>
        <a:lstStyle/>
        <a:p>
          <a:pPr marL="228600" lvl="1" indent="-228600" algn="l" defTabSz="111125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500" b="1" kern="1200" noProof="0" smtClean="0"/>
            <a:t>developing methodology for assessing the quality,</a:t>
          </a:r>
          <a:endParaRPr lang="en-US" sz="2500" kern="1200" noProof="0" dirty="0"/>
        </a:p>
        <a:p>
          <a:pPr marL="228600" lvl="1" indent="-228600" algn="l" defTabSz="111125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500" b="1" kern="1200" noProof="0" dirty="0" smtClean="0"/>
            <a:t>evaluation and description of data sets quality,</a:t>
          </a:r>
          <a:endParaRPr lang="en-US" sz="2500" kern="1200" noProof="0" dirty="0"/>
        </a:p>
        <a:p>
          <a:pPr marL="228600" lvl="1" indent="-228600" algn="l" defTabSz="111125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en-US" sz="2500" b="1" kern="1200" noProof="0" dirty="0" smtClean="0"/>
            <a:t>developing methodology for improving source data sets quality – rules for: standardization, normalization, de-duplication, editing, imputation, calibration</a:t>
          </a:r>
          <a:endParaRPr lang="en-US" sz="2500" kern="1200" noProof="0" dirty="0"/>
        </a:p>
        <a:p>
          <a:pPr marL="228600" lvl="1" indent="-228600" algn="l" defTabSz="1111250" rtl="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endParaRPr lang="en-US" sz="2500" b="1" kern="1200" noProof="0" dirty="0"/>
        </a:p>
      </dsp:txBody>
      <dsp:txXfrm>
        <a:off x="0" y="811506"/>
        <a:ext cx="8229600" cy="3841920"/>
      </dsp:txXfrm>
    </dsp:sp>
  </dsp:spTree>
</dsp:drawing>
</file>

<file path=ppt/diagrams/drawing7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8A7087E0-7808-4DD0-A07C-0635AA92E5A2}">
      <dsp:nvSpPr>
        <dsp:cNvPr id="0" name=""/>
        <dsp:cNvSpPr/>
      </dsp:nvSpPr>
      <dsp:spPr>
        <a:xfrm>
          <a:off x="0" y="0"/>
          <a:ext cx="8229600" cy="645321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pl-PL" sz="2400" kern="1200" dirty="0" err="1" smtClean="0"/>
            <a:t>Citizens</a:t>
          </a:r>
          <a:r>
            <a:rPr lang="pl-PL" sz="2400" kern="1200" dirty="0" smtClean="0"/>
            <a:t>, </a:t>
          </a:r>
          <a:r>
            <a:rPr lang="pl-PL" sz="2400" kern="1200" dirty="0" err="1" smtClean="0"/>
            <a:t>buildings</a:t>
          </a:r>
          <a:r>
            <a:rPr lang="pl-PL" sz="2400" kern="1200" dirty="0" smtClean="0"/>
            <a:t> and </a:t>
          </a:r>
          <a:r>
            <a:rPr lang="pl-PL" sz="2400" kern="1200" dirty="0" err="1" smtClean="0"/>
            <a:t>dwelling</a:t>
          </a:r>
          <a:r>
            <a:rPr lang="pl-PL" sz="2400" kern="1200" dirty="0" smtClean="0"/>
            <a:t> list </a:t>
          </a:r>
          <a:r>
            <a:rPr lang="pl-PL" sz="2400" kern="1200" dirty="0" err="1" smtClean="0"/>
            <a:t>preparing</a:t>
          </a:r>
          <a:r>
            <a:rPr lang="pl-PL" sz="2400" kern="1200" dirty="0" smtClean="0"/>
            <a:t>,</a:t>
          </a:r>
          <a:endParaRPr lang="pl-PL" sz="2400" kern="1200" dirty="0"/>
        </a:p>
      </dsp:txBody>
      <dsp:txXfrm>
        <a:off x="0" y="0"/>
        <a:ext cx="8229600" cy="645321"/>
      </dsp:txXfrm>
    </dsp:sp>
    <dsp:sp modelId="{C9D46555-8D0D-487A-B2E3-081581C06599}">
      <dsp:nvSpPr>
        <dsp:cNvPr id="0" name=""/>
        <dsp:cNvSpPr/>
      </dsp:nvSpPr>
      <dsp:spPr>
        <a:xfrm>
          <a:off x="0" y="792086"/>
          <a:ext cx="8229600" cy="824314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pl-PL" sz="2400" kern="1200" dirty="0" err="1" smtClean="0"/>
            <a:t>Citizens</a:t>
          </a:r>
          <a:r>
            <a:rPr lang="pl-PL" sz="2400" kern="1200" dirty="0" smtClean="0"/>
            <a:t>, </a:t>
          </a:r>
          <a:r>
            <a:rPr lang="pl-PL" sz="2400" kern="1200" dirty="0" err="1" smtClean="0"/>
            <a:t>buildings</a:t>
          </a:r>
          <a:r>
            <a:rPr lang="pl-PL" sz="2400" kern="1200" dirty="0" smtClean="0"/>
            <a:t> and </a:t>
          </a:r>
          <a:r>
            <a:rPr lang="pl-PL" sz="2400" kern="1200" dirty="0" err="1" smtClean="0"/>
            <a:t>dwelling</a:t>
          </a:r>
          <a:r>
            <a:rPr lang="pl-PL" sz="2400" kern="1200" dirty="0" smtClean="0"/>
            <a:t> list and </a:t>
          </a:r>
          <a:r>
            <a:rPr lang="pl-PL" sz="2400" kern="1200" dirty="0" err="1" smtClean="0"/>
            <a:t>statistical</a:t>
          </a:r>
          <a:r>
            <a:rPr lang="pl-PL" sz="2400" kern="1200" dirty="0" smtClean="0"/>
            <a:t> data </a:t>
          </a:r>
          <a:r>
            <a:rPr lang="pl-PL" sz="2400" kern="1200" dirty="0" err="1" smtClean="0"/>
            <a:t>integration</a:t>
          </a:r>
          <a:r>
            <a:rPr lang="pl-PL" sz="2400" kern="1200" dirty="0" smtClean="0"/>
            <a:t>,</a:t>
          </a:r>
          <a:endParaRPr lang="pl-PL" sz="2400" kern="1200" dirty="0"/>
        </a:p>
      </dsp:txBody>
      <dsp:txXfrm>
        <a:off x="0" y="792086"/>
        <a:ext cx="8229600" cy="824314"/>
      </dsp:txXfrm>
    </dsp:sp>
    <dsp:sp modelId="{24E779B6-35D8-46D0-9381-77B1A8E5428A}">
      <dsp:nvSpPr>
        <dsp:cNvPr id="0" name=""/>
        <dsp:cNvSpPr/>
      </dsp:nvSpPr>
      <dsp:spPr>
        <a:xfrm>
          <a:off x="0" y="1800206"/>
          <a:ext cx="8229600" cy="766208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pl-PL" sz="2400" kern="1200" dirty="0" err="1" smtClean="0"/>
            <a:t>Census</a:t>
          </a:r>
          <a:r>
            <a:rPr lang="pl-PL" sz="2400" kern="1200" dirty="0" smtClean="0"/>
            <a:t> </a:t>
          </a:r>
          <a:r>
            <a:rPr lang="pl-PL" sz="2400" kern="1200" dirty="0" err="1" smtClean="0"/>
            <a:t>Frame</a:t>
          </a:r>
          <a:r>
            <a:rPr lang="pl-PL" sz="2400" kern="1200" dirty="0" smtClean="0"/>
            <a:t> </a:t>
          </a:r>
          <a:r>
            <a:rPr lang="pl-PL" sz="2400" kern="1200" dirty="0" err="1" smtClean="0"/>
            <a:t>preparing</a:t>
          </a:r>
          <a:r>
            <a:rPr lang="pl-PL" sz="2400" kern="1200" dirty="0" smtClean="0"/>
            <a:t>.</a:t>
          </a:r>
          <a:endParaRPr lang="pl-PL" sz="2400" kern="1200" dirty="0"/>
        </a:p>
      </dsp:txBody>
      <dsp:txXfrm>
        <a:off x="0" y="1800206"/>
        <a:ext cx="8229600" cy="76620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1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7.xml><?xml version="1.0" encoding="utf-8"?>
<dgm:layoutDef xmlns:dgm="http://schemas.openxmlformats.org/drawingml/2006/diagram" xmlns:a="http://schemas.openxmlformats.org/drawingml/2006/main" uniqueId="urn:microsoft.com/office/officeart/2005/8/layout/chevron1">
  <dgm:title val=""/>
  <dgm:desc val=""/>
  <dgm:catLst>
    <dgm:cat type="process" pri="9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hoose name="Name4">
      <dgm:if name="Name5" axis="des" func="maxDepth" op="gte" val="2">
        <dgm:constrLst>
          <dgm:constr type="h" for="ch" forName="composite" refType="h"/>
          <dgm:constr type="w" for="ch" forName="composite" refType="w"/>
          <dgm:constr type="w" for="des" forName="parTx"/>
          <dgm:constr type="h" for="des" forName="parTx" op="equ"/>
          <dgm:constr type="w" for="des" forName="desTx"/>
          <dgm:constr type="h" for="des" forName="desTx" op="equ"/>
          <dgm:constr type="primFontSz" for="des" forName="parTx" val="65"/>
          <dgm:constr type="secFontSz" for="des" forName="desTx" refType="primFontSz" refFor="des" refForName="parTx" op="equ"/>
          <dgm:constr type="h" for="des" forName="parTx" refType="primFontSz" refFor="des" refForName="parTx" fact="1.5"/>
          <dgm:constr type="h" for="des" forName="desTx" refType="primFontSz" refFor="des" refForName="parTx" fact="0.5"/>
          <dgm:constr type="w" for="ch" forName="space" op="equ" val="-6"/>
        </dgm:constrLst>
        <dgm:ruleLst>
          <dgm:rule type="w" for="ch" forName="composite" val="0" fact="NaN" max="NaN"/>
          <dgm:rule type="primFontSz" for="des" forName="parTx" val="5" fact="NaN" max="NaN"/>
        </dgm:ruleLst>
        <dgm:forEach name="Name6" axis="ch" ptType="node"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hoose name="Name7">
              <dgm:if name="Name8" func="var" arg="dir" op="equ" val="norm">
                <dgm:constrLst>
                  <dgm:constr type="l" for="ch" forName="parTx"/>
                  <dgm:constr type="w" for="ch" forName="parTx" refType="w"/>
                  <dgm:constr type="t" for="ch" forName="parTx"/>
                  <dgm:constr type="l" for="ch" forName="desTx"/>
                  <dgm:constr type="w" for="ch" forName="desTx" refType="w" refFor="ch" refForName="parTx" fact="0.8"/>
                  <dgm:constr type="t" for="ch" forName="desTx" refType="h" refFor="ch" refForName="parTx" fact="1.125"/>
                </dgm:constrLst>
              </dgm:if>
              <dgm:else name="Name9">
                <dgm:constrLst>
                  <dgm:constr type="l" for="ch" forName="parTx"/>
                  <dgm:constr type="w" for="ch" forName="parTx" refType="w"/>
                  <dgm:constr type="t" for="ch" forName="parTx"/>
                  <dgm:constr type="l" for="ch" forName="desTx" refType="w" fact="0.2"/>
                  <dgm:constr type="w" for="ch" forName="desTx" refType="w" refFor="ch" refForName="parTx" fact="0.8"/>
                  <dgm:constr type="t" for="ch" forName="desTx" refType="h" refFor="ch" refForName="parTx" fact="1.125"/>
                </dgm:constrLst>
              </dgm:else>
            </dgm:choose>
            <dgm:ruleLst>
              <dgm:rule type="h" val="INF" fact="NaN" max="NaN"/>
            </dgm:ruleLst>
            <dgm:layoutNode name="parTx">
              <dgm:varLst>
                <dgm:chMax val="0"/>
                <dgm:chPref val="0"/>
                <dgm:bulletEnabled val="1"/>
              </dgm:varLst>
              <dgm:alg type="tx"/>
              <dgm:choose name="Name10">
                <dgm:if name="Name11" func="var" arg="dir" op="equ" val="norm">
                  <dgm:shape xmlns:r="http://schemas.openxmlformats.org/officeDocument/2006/relationships" type="chevron" r:blip="">
                    <dgm:adjLst/>
                  </dgm:shape>
                </dgm:if>
                <dgm:else name="Name12">
                  <dgm:shape xmlns:r="http://schemas.openxmlformats.org/officeDocument/2006/relationships" rot="180" type="chevron" r:blip="">
                    <dgm:adjLst/>
                  </dgm:shape>
                </dgm:else>
              </dgm:choose>
              <dgm:presOf axis="self" ptType="node"/>
              <dgm:choose name="Name13">
                <dgm:if name="Name14" func="var" arg="dir" op="equ" val="norm">
                  <dgm:constrLst>
                    <dgm:constr type="h" refType="w" op="lte" fact="0.4"/>
                    <dgm:constr type="h"/>
                    <dgm:constr type="tMarg" refType="primFontSz" fact="0.105"/>
                    <dgm:constr type="bMarg" refType="primFontSz" fact="0.105"/>
                    <dgm:constr type="lMarg" refType="primFontSz" fact="0.315"/>
                    <dgm:constr type="rMarg" refType="primFontSz" fact="0.105"/>
                  </dgm:constrLst>
                </dgm:if>
                <dgm:else name="Name15">
                  <dgm:constrLst>
                    <dgm:constr type="h" refType="w" op="lte" fact="0.4"/>
                    <dgm:constr type="h"/>
                    <dgm:constr type="tMarg" refType="primFontSz" fact="0.105"/>
                    <dgm:constr type="bMarg" refType="primFontSz" fact="0.105"/>
                    <dgm:constr type="lMarg" refType="primFontSz" fact="0.105"/>
                    <dgm:constr type="rMarg" refType="primFontSz" fact="0.315"/>
                  </dgm:constrLst>
                </dgm:else>
              </dgm:choose>
              <dgm:ruleLst>
                <dgm:rule type="h" val="INF" fact="NaN" max="NaN"/>
              </dgm:ruleLst>
            </dgm:layoutNode>
            <dgm:layoutNode name="desTx" styleLbl="revTx">
              <dgm:varLst>
                <dgm:bulletEnabled val="1"/>
              </dgm:varLst>
              <dgm:alg type="tx">
                <dgm:param type="stBulletLvl" val="1"/>
              </dgm:alg>
              <dgm:choose name="Name16">
                <dgm:if name="Name17" axis="ch" ptType="node" func="cnt" op="gte" val="1">
                  <dgm:shape xmlns:r="http://schemas.openxmlformats.org/officeDocument/2006/relationships" type="rect" r:blip="">
                    <dgm:adjLst/>
                  </dgm:shape>
                </dgm:if>
                <dgm:else name="Name18">
                  <dgm:shape xmlns:r="http://schemas.openxmlformats.org/officeDocument/2006/relationships" type="rect" r:blip="" hideGeom="1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h"/>
                <dgm:constr type="tMarg"/>
                <dgm:constr type="bMarg"/>
                <dgm:constr type="rMarg"/>
                <dgm:constr type="lMarg"/>
              </dgm:constrLst>
              <dgm:ruleLst>
                <dgm:rule type="h" val="INF" fact="NaN" max="NaN"/>
              </dgm:ruleLst>
            </dgm:layoutNode>
          </dgm:layoutNode>
          <dgm:forEach name="Name19" axis="followSib" ptType="sibTrans" cnt="1">
            <dgm:layoutNode name="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forEach>
      </dgm:if>
      <dgm:else name="Name20">
        <dgm:constrLst>
          <dgm:constr type="w" for="ch" forName="parTxOnly" refType="w"/>
          <dgm:constr type="h" for="des" forName="parTxOnly" op="equ"/>
          <dgm:constr type="primFontSz" for="des" forName="parTxOnly" op="equ" val="65"/>
          <dgm:constr type="w" for="ch" forName="parTxOnlySpace" refType="w" refFor="ch" refForName="parTxOnly" fact="-0.1"/>
        </dgm:constrLst>
        <dgm:ruleLst/>
        <dgm:forEach name="Name21" axis="ch" ptType="node">
          <dgm:layoutNode name="parTxOnly">
            <dgm:varLst>
              <dgm:chMax val="0"/>
              <dgm:chPref val="0"/>
              <dgm:bulletEnabled val="1"/>
            </dgm:varLst>
            <dgm:alg type="tx"/>
            <dgm:choose name="Name22">
              <dgm:if name="Name23" func="var" arg="dir" op="equ" val="norm">
                <dgm:shape xmlns:r="http://schemas.openxmlformats.org/officeDocument/2006/relationships" type="chevron" r:blip="">
                  <dgm:adjLst/>
                </dgm:shape>
              </dgm:if>
              <dgm:else name="Name24">
                <dgm:shape xmlns:r="http://schemas.openxmlformats.org/officeDocument/2006/relationships" rot="180" type="chevron" r:blip="">
                  <dgm:adjLst/>
                </dgm:shape>
              </dgm:else>
            </dgm:choose>
            <dgm:presOf axis="self" ptType="node"/>
            <dgm:choose name="Name25">
              <dgm:if name="Name26" func="var" arg="dir" op="equ" val="norm">
                <dgm:constrLst>
                  <dgm:constr type="h" refType="w" op="equ" fact="0.4"/>
                  <dgm:constr type="tMarg" refType="primFontSz" fact="0.105"/>
                  <dgm:constr type="bMarg" refType="primFontSz" fact="0.105"/>
                  <dgm:constr type="lMarg" refType="primFontSz" fact="0.315"/>
                  <dgm:constr type="rMarg" refType="primFontSz" fact="0.105"/>
                </dgm:constrLst>
              </dgm:if>
              <dgm:else name="Name27">
                <dgm:constrLst>
                  <dgm:constr type="h" refType="w" op="equ" fact="0.4"/>
                  <dgm:constr type="tMarg" refType="primFontSz" fact="0.105"/>
                  <dgm:constr type="bMarg" refType="primFontSz" fact="0.105"/>
                  <dgm:constr type="lMarg" refType="primFontSz" fact="0.105"/>
                  <dgm:constr type="rMarg" refType="primFontSz" fact="0.315"/>
                </dgm:constrLst>
              </dgm:else>
            </dgm:choose>
            <dgm:ruleLst>
              <dgm:rule type="primFontSz" val="5" fact="NaN" max="NaN"/>
            </dgm:ruleLst>
          </dgm:layoutNode>
          <dgm:forEach name="Name28" axis="followSib" ptType="sibTrans" cnt="1">
            <dgm:layoutNode name="parTxOnly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forEach>
      </dgm:else>
    </dgm:choose>
  </dgm:layoutNode>
</dgm:layoutDef>
</file>

<file path=ppt/diagrams/layout1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0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layout2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0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dt" idx="1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ftr" idx="1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 type="sldNum" idx="1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E523B8-E6B0-4134-8B62-5B880962A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sldNum" idx="5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F3A99C-B26A-4242-8C79-51E8F56FA6C9}" type="slidenum">
              <a:rPr b="0" lang="pl-PL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sldNum" idx="5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52AC90-1C64-4E01-B2F7-FDEFCDD707F7}" type="slidenum">
              <a:rPr b="0" lang="pl-PL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sldNum" idx="6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FEA90A-4372-47E3-ADD8-11E0C45AE0B3}" type="slidenum">
              <a:rPr b="0" lang="pl-PL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8792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prepared final data processing infrastructure. Pilot infrastructure is exactly the same like in main census in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92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you can see from the left we collect data from public registers – both for centralized (it is very easy) and spreaded ( with use special integrated platform based on the Web secure service). So we have data collection, data preparat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ETL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Data linkage, anonynomization (Golden record), data processing wit various analyses including spatial analyse and finally dissemination of census products.  The main part o f this infrastructure is Metadata Server which control all activities step by step in this infrastructure – including quality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765AAD-C832-4D7F-9D25-0BF0ABB3B80B}" type="slidenum">
              <a:rPr b="0" lang="pl-PL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sldNum" idx="6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1CF9CE-B945-4D16-852C-B8BD403B86C5}" type="slidenum">
              <a:rPr b="0" lang="pl-PL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39448E-6313-4A19-848A-5B812FA23C13}" type="slidenum">
              <a:rPr b="0" lang="pl-PL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sldNum" idx="6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6A3E70-1261-48DF-B3B1-142CADAB22F1}" type="slidenum">
              <a:rPr b="0" lang="pl-PL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sldNum" idx="6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36437F-FD57-4003-B3C3-2AFAACF7D023}" type="slidenum">
              <a:rPr b="0" lang="pl-PL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6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F12A1C-894C-4E5A-84F7-3A0B97D26A33}" type="slidenum">
              <a:rPr b="0" lang="pl-PL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sldNum" idx="6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209F6C-BAA0-4AA8-AFAA-755E1AE23F34}" type="slidenum">
              <a:rPr b="0" lang="pl-PL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sldNum" idx="6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972C63-3ED3-4E9A-BF54-31AEFB0C0137}" type="slidenum">
              <a:rPr b="0" lang="pl-PL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sldNum" idx="5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DA11A6-AD96-44FD-8BAC-5C9D36DEEEC4}" type="slidenum">
              <a:rPr b="0" lang="pl-PL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sldNum" idx="6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7092A5-1DA4-4748-A0C6-331CB064E1C9}" type="slidenum">
              <a:rPr b="0" lang="pl-PL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0039-171E-468F-9C53-BE718A09B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C97C-A81B-4CD4-BCB2-622FF2BF1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3BC9-D0D6-4FB2-AC15-9B12C1E16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4B20-55BB-4845-B8D0-37069ED71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45F0E-A0E4-4F5A-9D71-3E92607F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7C77D-5387-4E8D-8D46-5F054096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6FBC4-A6C3-44F7-8DDB-976B1CFC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96E1A-E1B6-438D-BEBD-89860C6F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5AF4A-11CB-4B84-8A26-164C199F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87E0F-3A7A-4CBE-ABC3-E5DF7EC6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26633-E434-4158-8608-066F221A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3F5F-F63B-49DA-8C08-763A91981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81853-F634-47B2-AE95-A19927DB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BE65E-CA41-45F9-9DB3-639E6F3E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EA09A-56FB-4BF8-A387-5C24154B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B9ACC-6D92-4DA8-877A-F47BEDB7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2D368-5E90-4A5D-98E2-774CF1B9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A570F-5145-491F-8978-31E707E6FF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55D18-48F7-4155-9B83-1DD2B6B433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B7D66-E2A5-4AB5-87C0-5DDC2224A0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59675-C071-4304-B79B-3A876FE3FA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8E926-C04E-4222-B787-23CCC5419A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D6D7-3510-4F29-9ED2-944511B14C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F39C0-74D5-4B77-97F5-F82F5BD3B7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17C5E-6A4D-442E-9717-27DD84DFC0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9DAE4-0691-4866-8DAC-C38F3378A4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25E89-1028-4F85-B41D-3780185022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302FA-BCAE-49BE-A943-DF98E3760D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887F2-0ECD-462E-BE59-25B419EA0D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9D0D3-C69F-4BD9-BEAF-AD08B454B7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75F3-B38F-415C-9F2E-FEB6913558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50B7-1119-40C6-8EE2-BECC5656D8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8438-1190-47EB-9E9A-76E246B7C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A4CD-8A37-4151-8FC6-B1DB6D3B0B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8FB1-1B95-4578-B5AA-4A89ECA285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7C14-8889-4EAF-9F06-117A17E671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D804-01D5-487E-BF73-09D51602E8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DAEF-3478-4862-92F4-528EA28ED2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A0DE-2782-4439-B925-DB27F444B6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1840-A072-4C40-BFF7-0BDFC29B6E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53E0-416E-4C75-8E23-EE7E0741D8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60C1-1BBB-4076-B498-9A1D0DD074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B89E-325F-40AC-B574-9DD8AD6E414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9C4A6-C7F2-47F1-9B2F-2A3ADF1C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51C7-34A9-463B-A208-68643807109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9EEA-543B-49CB-AC28-4CF346B9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B237-9F71-41C3-B53E-404F8676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CC3C4-A19A-4137-B30E-A917B30D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4AB6A-A5BE-426A-A66B-4B702A5D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59096-C885-4C7C-BF76-2DD8632B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1E9D-C8AB-4FFC-ABB7-B382A714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1654-09A2-4516-A7A8-A8AF152C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C349D-FCB2-4C1E-8330-63C709A8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83FD6-FEAC-4B5B-B109-F894F284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4A9E7-4C53-4BF3-9B07-92B0B016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1A9D-65EB-4500-8D53-C21DEF6F25F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87BDF-716D-4FE7-A5AC-9C23D6B8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62E0F7-F2D2-4063-BCCC-051F91AEECE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B9AA61-F91E-4C5C-94A6-F87E8CEFD8B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AD6319-79D3-4DEC-9CE4-40EA47DD864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2D072C-75FC-4267-B291-CF056AB8E86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75FC6-DFD2-465C-AE56-9F30061026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5E7A19-8B4B-486F-911C-3B4C1EEC5BB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4568E-1BAE-4EA5-907B-72A5BE3FE32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036194-FC4C-44DC-963B-DBFFBF83CFC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881FB7-C7D7-4632-8A29-583CE4F29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E27A-96CF-4B41-9927-065310E53E9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646578-419F-48B9-A52E-7FB88F56293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E89729-2691-4D4C-A0F2-9DFC8AFD4C0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60331-4D1B-48C9-8DB5-36D3E1D0E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4447-165E-4561-94E1-79FDD0B0A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CD5D-49FD-472B-8BDE-EDE2C6B2F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asek"/>
          <p:cNvPicPr/>
          <p:nvPr/>
        </p:nvPicPr>
        <p:blipFill>
          <a:blip r:embed="rId2"/>
          <a:stretch/>
        </p:blipFill>
        <p:spPr>
          <a:xfrm>
            <a:off x="-11160" y="6485040"/>
            <a:ext cx="9175320" cy="40752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3" descr="tloPrezentcja"/>
          <p:cNvPicPr/>
          <p:nvPr/>
        </p:nvPicPr>
        <p:blipFill>
          <a:blip r:embed="rId3"/>
          <a:stretch/>
        </p:blipFill>
        <p:spPr>
          <a:xfrm>
            <a:off x="4500720" y="2214720"/>
            <a:ext cx="4177800" cy="3784320"/>
          </a:xfrm>
          <a:prstGeom prst="rect">
            <a:avLst/>
          </a:prstGeom>
          <a:ln w="9525">
            <a:noFill/>
          </a:ln>
        </p:spPr>
      </p:pic>
      <p:pic>
        <p:nvPicPr>
          <p:cNvPr id="2" name="Obraz 7" descr="LogoANGIELSKIErgb.jpg"/>
          <p:cNvPicPr/>
          <p:nvPr/>
        </p:nvPicPr>
        <p:blipFill>
          <a:blip r:embed="rId4"/>
          <a:stretch/>
        </p:blipFill>
        <p:spPr>
          <a:xfrm>
            <a:off x="214200" y="142920"/>
            <a:ext cx="1428480" cy="1293480"/>
          </a:xfrm>
          <a:prstGeom prst="rect">
            <a:avLst/>
          </a:prstGeom>
          <a:ln w="9525">
            <a:noFill/>
          </a:ln>
        </p:spPr>
      </p:pic>
      <p:pic>
        <p:nvPicPr>
          <p:cNvPr id="3" name="Obraz 8" descr="LogoANGIELSKIErgb.jpg"/>
          <p:cNvPicPr/>
          <p:nvPr/>
        </p:nvPicPr>
        <p:blipFill>
          <a:blip r:embed="rId5"/>
          <a:stretch/>
        </p:blipFill>
        <p:spPr>
          <a:xfrm>
            <a:off x="3286080" y="285840"/>
            <a:ext cx="2761920" cy="2499840"/>
          </a:xfrm>
          <a:prstGeom prst="rect">
            <a:avLst/>
          </a:prstGeom>
          <a:ln w="9525">
            <a:noFill/>
          </a:ln>
        </p:spPr>
      </p:pic>
      <p:pic>
        <p:nvPicPr>
          <p:cNvPr id="4" name="Picture 4" descr="tlo2Prezentcja"/>
          <p:cNvPicPr/>
          <p:nvPr/>
        </p:nvPicPr>
        <p:blipFill>
          <a:blip r:embed="rId6"/>
          <a:stretch/>
        </p:blipFill>
        <p:spPr>
          <a:xfrm>
            <a:off x="1909800" y="-30240"/>
            <a:ext cx="7248240" cy="6886080"/>
          </a:xfrm>
          <a:prstGeom prst="rect">
            <a:avLst/>
          </a:prstGeom>
          <a:ln w="9525">
            <a:noFill/>
          </a:ln>
        </p:spPr>
      </p:pic>
      <p:pic>
        <p:nvPicPr>
          <p:cNvPr id="5" name="Picture 8" descr="pasek"/>
          <p:cNvPicPr/>
          <p:nvPr/>
        </p:nvPicPr>
        <p:blipFill>
          <a:blip r:embed="rId7"/>
          <a:stretch/>
        </p:blipFill>
        <p:spPr>
          <a:xfrm>
            <a:off x="-11160" y="6451560"/>
            <a:ext cx="9154800" cy="406080"/>
          </a:xfrm>
          <a:prstGeom prst="rect">
            <a:avLst/>
          </a:prstGeom>
          <a:ln w="9525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00068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</a:rPr>
              <a:t>Kliknij, aby edytować styl</a:t>
            </a:r>
            <a:endParaRPr b="0" lang="pl-P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383B13-ABF2-4826-939E-DF352D26DD38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pl-PL" sz="18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pl-PL" sz="16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asek"/>
          <p:cNvPicPr/>
          <p:nvPr/>
        </p:nvPicPr>
        <p:blipFill>
          <a:blip r:embed="rId2"/>
          <a:stretch/>
        </p:blipFill>
        <p:spPr>
          <a:xfrm>
            <a:off x="-11160" y="6485040"/>
            <a:ext cx="9175320" cy="407520"/>
          </a:xfrm>
          <a:prstGeom prst="rect">
            <a:avLst/>
          </a:prstGeom>
          <a:ln w="9525">
            <a:noFill/>
          </a:ln>
        </p:spPr>
      </p:pic>
      <p:pic>
        <p:nvPicPr>
          <p:cNvPr id="46" name="Picture 3" descr="tloPrezentcja"/>
          <p:cNvPicPr/>
          <p:nvPr/>
        </p:nvPicPr>
        <p:blipFill>
          <a:blip r:embed="rId3"/>
          <a:stretch/>
        </p:blipFill>
        <p:spPr>
          <a:xfrm>
            <a:off x="4500720" y="2214720"/>
            <a:ext cx="4177800" cy="3784320"/>
          </a:xfrm>
          <a:prstGeom prst="rect">
            <a:avLst/>
          </a:prstGeom>
          <a:ln w="9525">
            <a:noFill/>
          </a:ln>
        </p:spPr>
      </p:pic>
      <p:pic>
        <p:nvPicPr>
          <p:cNvPr id="47" name="Obraz 7" descr="LogoANGIELSKIErgb.jpg"/>
          <p:cNvPicPr/>
          <p:nvPr/>
        </p:nvPicPr>
        <p:blipFill>
          <a:blip r:embed="rId4"/>
          <a:stretch/>
        </p:blipFill>
        <p:spPr>
          <a:xfrm>
            <a:off x="214200" y="142920"/>
            <a:ext cx="1428480" cy="1293480"/>
          </a:xfrm>
          <a:prstGeom prst="rect">
            <a:avLst/>
          </a:prstGeom>
          <a:ln w="9525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Kliknij, aby edytować styl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BD9DDD-0146-4643-ABE0-3BE6E6C68321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pl-PL" sz="18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pl-PL" sz="16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pasek"/>
          <p:cNvPicPr/>
          <p:nvPr/>
        </p:nvPicPr>
        <p:blipFill>
          <a:blip r:embed="rId2"/>
          <a:stretch/>
        </p:blipFill>
        <p:spPr>
          <a:xfrm>
            <a:off x="-11160" y="6485040"/>
            <a:ext cx="9175320" cy="407520"/>
          </a:xfrm>
          <a:prstGeom prst="rect">
            <a:avLst/>
          </a:prstGeom>
          <a:ln w="9525">
            <a:noFill/>
          </a:ln>
        </p:spPr>
      </p:pic>
      <p:pic>
        <p:nvPicPr>
          <p:cNvPr id="90" name="Picture 3" descr="tloPrezentcja"/>
          <p:cNvPicPr/>
          <p:nvPr/>
        </p:nvPicPr>
        <p:blipFill>
          <a:blip r:embed="rId3"/>
          <a:stretch/>
        </p:blipFill>
        <p:spPr>
          <a:xfrm>
            <a:off x="4500720" y="2214720"/>
            <a:ext cx="4177800" cy="3784320"/>
          </a:xfrm>
          <a:prstGeom prst="rect">
            <a:avLst/>
          </a:prstGeom>
          <a:ln w="9525">
            <a:noFill/>
          </a:ln>
        </p:spPr>
      </p:pic>
      <p:pic>
        <p:nvPicPr>
          <p:cNvPr id="91" name="Obraz 7" descr="LogoANGIELSKIErgb.jpg"/>
          <p:cNvPicPr/>
          <p:nvPr/>
        </p:nvPicPr>
        <p:blipFill>
          <a:blip r:embed="rId4"/>
          <a:stretch/>
        </p:blipFill>
        <p:spPr>
          <a:xfrm>
            <a:off x="214200" y="142920"/>
            <a:ext cx="1428480" cy="1293480"/>
          </a:xfrm>
          <a:prstGeom prst="rect">
            <a:avLst/>
          </a:prstGeom>
          <a:ln w="9525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240" cy="469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Kliknij, aby edytować style wzorca tekstu</a:t>
            </a: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Drugi poziom</a:t>
            </a:r>
            <a:endParaRPr b="0" lang="pl-PL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rzeci poziom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Czwarty poziom</a:t>
            </a:r>
            <a:endParaRPr b="0" lang="pl-PL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iąty poziom</a:t>
            </a:r>
            <a:endParaRPr b="0" lang="pl-PL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Kliknij, aby edytować styl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5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5A3CC2-0CAC-493E-AABE-A58E673EB464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pasek"/>
          <p:cNvPicPr/>
          <p:nvPr/>
        </p:nvPicPr>
        <p:blipFill>
          <a:blip r:embed="rId2"/>
          <a:stretch/>
        </p:blipFill>
        <p:spPr>
          <a:xfrm>
            <a:off x="-11160" y="6485040"/>
            <a:ext cx="9175320" cy="407520"/>
          </a:xfrm>
          <a:prstGeom prst="rect">
            <a:avLst/>
          </a:prstGeom>
          <a:ln w="9525">
            <a:noFill/>
          </a:ln>
        </p:spPr>
      </p:pic>
      <p:pic>
        <p:nvPicPr>
          <p:cNvPr id="132" name="Picture 3" descr="tloPrezentcja"/>
          <p:cNvPicPr/>
          <p:nvPr/>
        </p:nvPicPr>
        <p:blipFill>
          <a:blip r:embed="rId3"/>
          <a:stretch/>
        </p:blipFill>
        <p:spPr>
          <a:xfrm>
            <a:off x="4500720" y="2214720"/>
            <a:ext cx="4177800" cy="3784320"/>
          </a:xfrm>
          <a:prstGeom prst="rect">
            <a:avLst/>
          </a:prstGeom>
          <a:ln w="9525">
            <a:noFill/>
          </a:ln>
        </p:spPr>
      </p:pic>
      <p:pic>
        <p:nvPicPr>
          <p:cNvPr id="133" name="Obraz 7" descr="LogoANGIELSKIErgb.jpg"/>
          <p:cNvPicPr/>
          <p:nvPr/>
        </p:nvPicPr>
        <p:blipFill>
          <a:blip r:embed="rId4"/>
          <a:stretch/>
        </p:blipFill>
        <p:spPr>
          <a:xfrm>
            <a:off x="214200" y="142920"/>
            <a:ext cx="1428480" cy="1293480"/>
          </a:xfrm>
          <a:prstGeom prst="rect">
            <a:avLst/>
          </a:prstGeom>
          <a:ln w="9525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pl-PL" sz="4000" spc="-1" strike="noStrike" cap="all">
                <a:solidFill>
                  <a:srgbClr val="000000"/>
                </a:solidFill>
                <a:latin typeface="Verdana"/>
              </a:rPr>
              <a:t>Kliknij, aby edytować styl</a:t>
            </a:r>
            <a:endParaRPr b="0" lang="pl-P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pl-PL" sz="2000" spc="-1" strike="noStrike">
                <a:solidFill>
                  <a:srgbClr val="8b8b8b"/>
                </a:solidFill>
                <a:latin typeface="Verdana"/>
              </a:rPr>
              <a:t>Kliknij, aby edytować style wzorca tekstu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6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979D8C-9DE2-453F-B2B2-7CD0C70EA156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pasek"/>
          <p:cNvPicPr/>
          <p:nvPr/>
        </p:nvPicPr>
        <p:blipFill>
          <a:blip r:embed="rId2"/>
          <a:stretch/>
        </p:blipFill>
        <p:spPr>
          <a:xfrm>
            <a:off x="-11160" y="6485040"/>
            <a:ext cx="9175320" cy="40752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3" descr="tloPrezentcja"/>
          <p:cNvPicPr/>
          <p:nvPr/>
        </p:nvPicPr>
        <p:blipFill>
          <a:blip r:embed="rId3"/>
          <a:stretch/>
        </p:blipFill>
        <p:spPr>
          <a:xfrm>
            <a:off x="4500720" y="2214720"/>
            <a:ext cx="4177800" cy="3784320"/>
          </a:xfrm>
          <a:prstGeom prst="rect">
            <a:avLst/>
          </a:prstGeom>
          <a:ln w="9525">
            <a:noFill/>
          </a:ln>
        </p:spPr>
      </p:pic>
      <p:pic>
        <p:nvPicPr>
          <p:cNvPr id="175" name="Obraz 7" descr="LogoANGIELSKIErgb.jpg"/>
          <p:cNvPicPr/>
          <p:nvPr/>
        </p:nvPicPr>
        <p:blipFill>
          <a:blip r:embed="rId4"/>
          <a:stretch/>
        </p:blipFill>
        <p:spPr>
          <a:xfrm>
            <a:off x="214200" y="142920"/>
            <a:ext cx="1428480" cy="1293480"/>
          </a:xfrm>
          <a:prstGeom prst="rect">
            <a:avLst/>
          </a:prstGeom>
          <a:ln w="9525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9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74D109-B65B-4E8D-AAF1-D7110FED7A05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pl-PL" sz="18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pl-PL" sz="16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8" descr="pasek"/>
          <p:cNvPicPr/>
          <p:nvPr/>
        </p:nvPicPr>
        <p:blipFill>
          <a:blip r:embed="rId2"/>
          <a:stretch/>
        </p:blipFill>
        <p:spPr>
          <a:xfrm>
            <a:off x="-11160" y="6485040"/>
            <a:ext cx="9175320" cy="407520"/>
          </a:xfrm>
          <a:prstGeom prst="rect">
            <a:avLst/>
          </a:prstGeom>
          <a:ln w="9525">
            <a:noFill/>
          </a:ln>
        </p:spPr>
      </p:pic>
      <p:pic>
        <p:nvPicPr>
          <p:cNvPr id="218" name="Picture 3" descr="tloPrezentcja"/>
          <p:cNvPicPr/>
          <p:nvPr/>
        </p:nvPicPr>
        <p:blipFill>
          <a:blip r:embed="rId3"/>
          <a:stretch/>
        </p:blipFill>
        <p:spPr>
          <a:xfrm>
            <a:off x="4500720" y="2214720"/>
            <a:ext cx="4177800" cy="3784320"/>
          </a:xfrm>
          <a:prstGeom prst="rect">
            <a:avLst/>
          </a:prstGeom>
          <a:ln w="9525">
            <a:noFill/>
          </a:ln>
        </p:spPr>
      </p:pic>
      <p:pic>
        <p:nvPicPr>
          <p:cNvPr id="219" name="Obraz 7" descr="LogoANGIELSKIErgb.jpg"/>
          <p:cNvPicPr/>
          <p:nvPr/>
        </p:nvPicPr>
        <p:blipFill>
          <a:blip r:embed="rId4"/>
          <a:stretch/>
        </p:blipFill>
        <p:spPr>
          <a:xfrm>
            <a:off x="214200" y="142920"/>
            <a:ext cx="1428480" cy="1293480"/>
          </a:xfrm>
          <a:prstGeom prst="rect">
            <a:avLst/>
          </a:prstGeom>
          <a:ln w="9525">
            <a:noFill/>
          </a:ln>
        </p:spPr>
      </p:pic>
      <p:pic>
        <p:nvPicPr>
          <p:cNvPr id="220" name="Obraz 8" descr="LogoANGIELSKIErgb.jpg"/>
          <p:cNvPicPr/>
          <p:nvPr/>
        </p:nvPicPr>
        <p:blipFill>
          <a:blip r:embed="rId5"/>
          <a:stretch/>
        </p:blipFill>
        <p:spPr>
          <a:xfrm>
            <a:off x="2143080" y="1143000"/>
            <a:ext cx="5263920" cy="4766760"/>
          </a:xfrm>
          <a:prstGeom prst="rect">
            <a:avLst/>
          </a:prstGeom>
          <a:ln w="9525">
            <a:noFill/>
          </a:ln>
        </p:spPr>
      </p:pic>
      <p:pic>
        <p:nvPicPr>
          <p:cNvPr id="221" name="Picture 3" descr="pasek"/>
          <p:cNvPicPr/>
          <p:nvPr/>
        </p:nvPicPr>
        <p:blipFill>
          <a:blip r:embed="rId6"/>
          <a:stretch/>
        </p:blipFill>
        <p:spPr>
          <a:xfrm>
            <a:off x="0" y="6451560"/>
            <a:ext cx="9143640" cy="406080"/>
          </a:xfrm>
          <a:prstGeom prst="rect">
            <a:avLst/>
          </a:prstGeom>
          <a:ln w="9525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ldNum" idx="10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3FFE00-9BFF-4F7F-91D5-898036384868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pl-PL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pl-PL" sz="18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pl-PL" sz="16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pl-PL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microsoft.com/office/2007/relationships/diagramDrawing" Target="../diagrams/drawing6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microsoft.com/office/2007/relationships/diagramDrawing" Target="../diagrams/drawing7.xml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0.jpeg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7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0.jpeg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diagramData" Target="../diagrams/data8.xml"/><Relationship Id="rId2" Type="http://schemas.openxmlformats.org/officeDocument/2006/relationships/diagramLayout" Target="../diagrams/layout8.xml"/><Relationship Id="rId3" Type="http://schemas.openxmlformats.org/officeDocument/2006/relationships/diagramQuickStyle" Target="../diagrams/quickStyle8.xml"/><Relationship Id="rId4" Type="http://schemas.openxmlformats.org/officeDocument/2006/relationships/diagramColors" Target="../diagrams/colors8.xml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diagramData" Target="../diagrams/data9.xml"/><Relationship Id="rId2" Type="http://schemas.openxmlformats.org/officeDocument/2006/relationships/diagramLayout" Target="../diagrams/layout9.xml"/><Relationship Id="rId3" Type="http://schemas.openxmlformats.org/officeDocument/2006/relationships/diagramQuickStyle" Target="../diagrams/quickStyle9.xml"/><Relationship Id="rId4" Type="http://schemas.openxmlformats.org/officeDocument/2006/relationships/diagramColors" Target="../diagrams/colors9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diagramData" Target="../diagrams/data10.xml"/><Relationship Id="rId2" Type="http://schemas.openxmlformats.org/officeDocument/2006/relationships/diagramLayout" Target="../diagrams/layout10.xml"/><Relationship Id="rId3" Type="http://schemas.openxmlformats.org/officeDocument/2006/relationships/diagramQuickStyle" Target="../diagrams/quickStyle10.xml"/><Relationship Id="rId4" Type="http://schemas.openxmlformats.org/officeDocument/2006/relationships/diagramColors" Target="../diagrams/colors10.xm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0.jpeg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diagramData" Target="../diagrams/data11.xml"/><Relationship Id="rId2" Type="http://schemas.openxmlformats.org/officeDocument/2006/relationships/diagramLayout" Target="../diagrams/layout11.xml"/><Relationship Id="rId3" Type="http://schemas.openxmlformats.org/officeDocument/2006/relationships/diagramQuickStyle" Target="../diagrams/quickStyle11.xml"/><Relationship Id="rId4" Type="http://schemas.openxmlformats.org/officeDocument/2006/relationships/diagramColors" Target="../diagrams/colors11.xml"/><Relationship Id="rId5" Type="http://schemas.openxmlformats.org/officeDocument/2006/relationships/image" Target="../media/image7.gif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diagramData" Target="../diagrams/data12.xml"/><Relationship Id="rId2" Type="http://schemas.openxmlformats.org/officeDocument/2006/relationships/diagramLayout" Target="../diagrams/layout12.xml"/><Relationship Id="rId3" Type="http://schemas.openxmlformats.org/officeDocument/2006/relationships/diagramQuickStyle" Target="../diagrams/quickStyle12.xml"/><Relationship Id="rId4" Type="http://schemas.openxmlformats.org/officeDocument/2006/relationships/diagramColors" Target="../diagrams/colors12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diagramData" Target="../diagrams/data13.xml"/><Relationship Id="rId2" Type="http://schemas.openxmlformats.org/officeDocument/2006/relationships/diagramLayout" Target="../diagrams/layout13.xml"/><Relationship Id="rId3" Type="http://schemas.openxmlformats.org/officeDocument/2006/relationships/diagramQuickStyle" Target="../diagrams/quickStyle13.xml"/><Relationship Id="rId4" Type="http://schemas.openxmlformats.org/officeDocument/2006/relationships/diagramColors" Target="../diagrams/colors13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0.jpeg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0.jpeg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diagramData" Target="../diagrams/data14.xml"/><Relationship Id="rId2" Type="http://schemas.openxmlformats.org/officeDocument/2006/relationships/diagramLayout" Target="../diagrams/layout14.xml"/><Relationship Id="rId3" Type="http://schemas.openxmlformats.org/officeDocument/2006/relationships/diagramQuickStyle" Target="../diagrams/quickStyle14.xml"/><Relationship Id="rId4" Type="http://schemas.openxmlformats.org/officeDocument/2006/relationships/diagramColors" Target="../diagrams/colors14.xml"/><Relationship Id="rId5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diagramData" Target="../diagrams/data15.xml"/><Relationship Id="rId2" Type="http://schemas.openxmlformats.org/officeDocument/2006/relationships/diagramLayout" Target="../diagrams/layout15.xml"/><Relationship Id="rId3" Type="http://schemas.openxmlformats.org/officeDocument/2006/relationships/diagramQuickStyle" Target="../diagrams/quickStyle15.xml"/><Relationship Id="rId4" Type="http://schemas.openxmlformats.org/officeDocument/2006/relationships/diagramColors" Target="../diagrams/colors15.xml"/><Relationship Id="rId5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diagramData" Target="../diagrams/data16.xml"/><Relationship Id="rId2" Type="http://schemas.openxmlformats.org/officeDocument/2006/relationships/diagramLayout" Target="../diagrams/layout16.xml"/><Relationship Id="rId3" Type="http://schemas.openxmlformats.org/officeDocument/2006/relationships/diagramQuickStyle" Target="../diagrams/quickStyle16.xml"/><Relationship Id="rId4" Type="http://schemas.openxmlformats.org/officeDocument/2006/relationships/diagramColors" Target="../diagrams/colors16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0.jpeg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diagramData" Target="../diagrams/data17.xml"/><Relationship Id="rId2" Type="http://schemas.openxmlformats.org/officeDocument/2006/relationships/diagramLayout" Target="../diagrams/layout17.xml"/><Relationship Id="rId3" Type="http://schemas.openxmlformats.org/officeDocument/2006/relationships/diagramQuickStyle" Target="../diagrams/quickStyle17.xml"/><Relationship Id="rId4" Type="http://schemas.openxmlformats.org/officeDocument/2006/relationships/diagramColors" Target="../diagrams/colors17.xml"/><Relationship Id="rId5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diagramData" Target="../diagrams/data18.xml"/><Relationship Id="rId2" Type="http://schemas.openxmlformats.org/officeDocument/2006/relationships/diagramLayout" Target="../diagrams/layout18.xml"/><Relationship Id="rId3" Type="http://schemas.openxmlformats.org/officeDocument/2006/relationships/diagramQuickStyle" Target="../diagrams/quickStyle18.xml"/><Relationship Id="rId4" Type="http://schemas.openxmlformats.org/officeDocument/2006/relationships/diagramColors" Target="../diagrams/colors18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diagramData" Target="../diagrams/data19.xml"/><Relationship Id="rId2" Type="http://schemas.openxmlformats.org/officeDocument/2006/relationships/diagramLayout" Target="../diagrams/layout19.xml"/><Relationship Id="rId3" Type="http://schemas.openxmlformats.org/officeDocument/2006/relationships/diagramQuickStyle" Target="../diagrams/quickStyle19.xml"/><Relationship Id="rId4" Type="http://schemas.openxmlformats.org/officeDocument/2006/relationships/diagramColors" Target="../diagrams/colors19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0.jpeg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diagramData" Target="../diagrams/data20.xml"/><Relationship Id="rId2" Type="http://schemas.openxmlformats.org/officeDocument/2006/relationships/diagramLayout" Target="../diagrams/layout20.xml"/><Relationship Id="rId3" Type="http://schemas.openxmlformats.org/officeDocument/2006/relationships/diagramQuickStyle" Target="../diagrams/quickStyle20.xml"/><Relationship Id="rId4" Type="http://schemas.openxmlformats.org/officeDocument/2006/relationships/diagramColors" Target="../diagrams/colors20.xml"/><Relationship Id="rId5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diagramData" Target="../diagrams/data21.xml"/><Relationship Id="rId2" Type="http://schemas.openxmlformats.org/officeDocument/2006/relationships/diagramLayout" Target="../diagrams/layout21.xml"/><Relationship Id="rId3" Type="http://schemas.openxmlformats.org/officeDocument/2006/relationships/diagramQuickStyle" Target="../diagrams/quickStyle21.xml"/><Relationship Id="rId4" Type="http://schemas.openxmlformats.org/officeDocument/2006/relationships/diagramColors" Target="../diagrams/colors21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0.jpeg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3213000"/>
            <a:ext cx="78483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Pilot Census in Poland</a:t>
            </a:r>
            <a:br>
              <a:rPr sz="3600"/>
            </a:b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ome Quality Aspects</a:t>
            </a:r>
            <a:br>
              <a:rPr sz="2700"/>
            </a:br>
            <a:br>
              <a:rPr sz="27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Geneva, 7-9 July 2010</a:t>
            </a:r>
            <a:endParaRPr b="0" lang="pl-PL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895640" y="5373360"/>
            <a:ext cx="4248000" cy="35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Janusz Dygaszew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ntral Statistical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789115642"/>
              </p:ext>
            </p:extLst>
          </p:nvPr>
        </p:nvGraphicFramePr>
        <p:xfrm>
          <a:off x="457200" y="1196640"/>
          <a:ext cx="8229240" cy="532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nsus Quality – 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quisition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Num" idx="22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2082DE-1D78-40DB-A5ED-5899D22C3FD3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1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1990316433"/>
              </p:ext>
            </p:extLst>
          </p:nvPr>
        </p:nvGraphicFramePr>
        <p:xfrm>
          <a:off x="457200" y="1428840"/>
          <a:ext cx="8229240" cy="469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nsus Quality – 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quisition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ldNum" idx="23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498060-4FC6-41B1-8A00-278044F05ED4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1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1079302212"/>
              </p:ext>
            </p:extLst>
          </p:nvPr>
        </p:nvGraphicFramePr>
        <p:xfrm>
          <a:off x="457200" y="1428840"/>
          <a:ext cx="8229240" cy="469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nsus Quality – 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quisition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ldNum" idx="24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3B7004-971D-4534-B9C3-A38323A9CE61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1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pl-PL" sz="4000" spc="-1" strike="noStrike" cap="all">
                <a:solidFill>
                  <a:srgbClr val="000000"/>
                </a:solidFill>
                <a:latin typeface="Verdana"/>
              </a:rPr>
              <a:t>Census Frame Preparation</a:t>
            </a:r>
            <a:endParaRPr b="0" lang="pl-P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pl-PL" sz="2000" spc="-1" strike="noStrike">
              <a:solidFill>
                <a:srgbClr val="8b8b8b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5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74A48F-B2B9-451C-98C7-E9FBE9529363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1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544645810"/>
              </p:ext>
            </p:extLst>
          </p:nvPr>
        </p:nvGraphicFramePr>
        <p:xfrm>
          <a:off x="467640" y="1412640"/>
          <a:ext cx="8229240" cy="3788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nsus Frame preparation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Num" idx="26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B806AA-5C2E-4A95-9C38-97F25E8C046D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1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upa 5"/>
          <p:cNvGrpSpPr/>
          <p:nvPr/>
        </p:nvGrpSpPr>
        <p:grpSpPr>
          <a:xfrm>
            <a:off x="467640" y="4149000"/>
            <a:ext cx="8229240" cy="575640"/>
            <a:chOff x="467640" y="4149000"/>
            <a:chExt cx="8229240" cy="575640"/>
          </a:xfrm>
        </p:grpSpPr>
        <p:sp>
          <p:nvSpPr>
            <p:cNvPr id="406" name="Prostokąt zaokrąglony 6"/>
            <p:cNvSpPr/>
            <p:nvPr/>
          </p:nvSpPr>
          <p:spPr>
            <a:xfrm>
              <a:off x="467640" y="4149000"/>
              <a:ext cx="8229240" cy="575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rostokąt 7"/>
            <p:cNvSpPr/>
            <p:nvPr/>
          </p:nvSpPr>
          <p:spPr>
            <a:xfrm>
              <a:off x="495720" y="4177080"/>
              <a:ext cx="817308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tIns="91440" bIns="91440" anchor="ctr">
              <a:noAutofit/>
            </a:bodyPr>
            <a:p>
              <a:pPr>
                <a:lnSpc>
                  <a:spcPct val="90000"/>
                </a:lnSpc>
                <a:spcAft>
                  <a:spcPts val="839"/>
                </a:spcAft>
              </a:pPr>
              <a:r>
                <a:rPr b="0" lang="pl-PL" sz="2400" spc="-1" strike="noStrike">
                  <a:solidFill>
                    <a:schemeClr val="lt1"/>
                  </a:solidFill>
                  <a:latin typeface="Verdana"/>
                </a:rPr>
                <a:t>Goal Frame Preparation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upa 8"/>
          <p:cNvGrpSpPr/>
          <p:nvPr/>
        </p:nvGrpSpPr>
        <p:grpSpPr>
          <a:xfrm>
            <a:off x="467640" y="4869000"/>
            <a:ext cx="8229240" cy="825120"/>
            <a:chOff x="467640" y="4869000"/>
            <a:chExt cx="8229240" cy="825120"/>
          </a:xfrm>
        </p:grpSpPr>
        <p:sp>
          <p:nvSpPr>
            <p:cNvPr id="409" name="Prostokąt zaokrąglony 9"/>
            <p:cNvSpPr/>
            <p:nvPr/>
          </p:nvSpPr>
          <p:spPr>
            <a:xfrm>
              <a:off x="467640" y="4902480"/>
              <a:ext cx="8229240" cy="791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Prostokąt 10"/>
            <p:cNvSpPr/>
            <p:nvPr/>
          </p:nvSpPr>
          <p:spPr>
            <a:xfrm>
              <a:off x="515880" y="4869000"/>
              <a:ext cx="81324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95400" rIns="95400" tIns="95400" bIns="9540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</a:pPr>
              <a:r>
                <a:rPr b="0" lang="pl-PL" sz="2500" spc="-1" strike="noStrike">
                  <a:solidFill>
                    <a:schemeClr val="lt1"/>
                  </a:solidFill>
                  <a:latin typeface="Verdana"/>
                </a:rPr>
                <a:t>Random Sample preparation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of Census 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ame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ldNum" idx="27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137E2F-8200-4797-A9C2-1A5A693AF095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upa 4"/>
          <p:cNvGrpSpPr/>
          <p:nvPr/>
        </p:nvGrpSpPr>
        <p:grpSpPr>
          <a:xfrm>
            <a:off x="467640" y="3573000"/>
            <a:ext cx="8229240" cy="1439640"/>
            <a:chOff x="467640" y="3573000"/>
            <a:chExt cx="8229240" cy="1439640"/>
          </a:xfrm>
        </p:grpSpPr>
        <p:sp>
          <p:nvSpPr>
            <p:cNvPr id="414" name="Prostokąt zaokrąglony 6"/>
            <p:cNvSpPr/>
            <p:nvPr/>
          </p:nvSpPr>
          <p:spPr>
            <a:xfrm>
              <a:off x="467640" y="3573000"/>
              <a:ext cx="8229240" cy="1439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Prostokąt 7"/>
            <p:cNvSpPr/>
            <p:nvPr/>
          </p:nvSpPr>
          <p:spPr>
            <a:xfrm>
              <a:off x="467640" y="3573000"/>
              <a:ext cx="8184600" cy="12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72360" rIns="72360" tIns="72360" bIns="72360" anchor="ctr">
              <a:noAutofit/>
            </a:bodyPr>
            <a:p>
              <a:pPr>
                <a:lnSpc>
                  <a:spcPct val="90000"/>
                </a:lnSpc>
                <a:spcAft>
                  <a:spcPts val="1120"/>
                </a:spcAft>
              </a:pPr>
              <a:r>
                <a:rPr b="0" lang="en-US" sz="3200" spc="-1" strike="noStrike">
                  <a:solidFill>
                    <a:srgbClr val="ffff00"/>
                  </a:solidFill>
                  <a:latin typeface="Verdana"/>
                </a:rPr>
                <a:t>Census frame pre-census revision</a:t>
              </a:r>
              <a:r>
                <a:rPr b="0" lang="pl-PL" sz="3200" spc="-1" strike="noStrike">
                  <a:solidFill>
                    <a:srgbClr val="ffff00"/>
                  </a:solidFill>
                  <a:latin typeface="Verdana"/>
                </a:rPr>
                <a:t> - </a:t>
              </a:r>
              <a:r>
                <a:rPr b="0" lang="en-US" sz="3200" spc="-1" strike="noStrike">
                  <a:solidFill>
                    <a:srgbClr val="ffff00"/>
                  </a:solidFill>
                  <a:latin typeface="Verdana"/>
                </a:rPr>
                <a:t>checking in field by enumerator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upa 9"/>
          <p:cNvGrpSpPr/>
          <p:nvPr/>
        </p:nvGrpSpPr>
        <p:grpSpPr>
          <a:xfrm>
            <a:off x="467640" y="1845000"/>
            <a:ext cx="8229240" cy="1583640"/>
            <a:chOff x="467640" y="1845000"/>
            <a:chExt cx="8229240" cy="1583640"/>
          </a:xfrm>
        </p:grpSpPr>
        <p:sp>
          <p:nvSpPr>
            <p:cNvPr id="417" name="Prostokąt zaokrąglony 10"/>
            <p:cNvSpPr/>
            <p:nvPr/>
          </p:nvSpPr>
          <p:spPr>
            <a:xfrm>
              <a:off x="467640" y="1845000"/>
              <a:ext cx="8229240" cy="1286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Prostokąt 11"/>
            <p:cNvSpPr/>
            <p:nvPr/>
          </p:nvSpPr>
          <p:spPr>
            <a:xfrm>
              <a:off x="489960" y="1894680"/>
              <a:ext cx="8184600" cy="15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72360" rIns="72360" tIns="72360" bIns="72360" anchor="ctr">
              <a:noAutofit/>
            </a:bodyPr>
            <a:p>
              <a:pPr>
                <a:lnSpc>
                  <a:spcPct val="90000"/>
                </a:lnSpc>
                <a:spcAft>
                  <a:spcPts val="1120"/>
                </a:spcAft>
              </a:pPr>
              <a:r>
                <a:rPr b="0" lang="en-US" sz="3200" spc="-1" strike="noStrike">
                  <a:solidFill>
                    <a:srgbClr val="ffff00"/>
                  </a:solidFill>
                  <a:latin typeface="Verdana"/>
                </a:rPr>
                <a:t>Census frame preparation – validation and updating in counties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Object 2"/>
          <p:cNvGraphicFramePr/>
          <p:nvPr/>
        </p:nvGraphicFramePr>
        <p:xfrm>
          <a:off x="0" y="0"/>
          <a:ext cx="9143640" cy="6856200"/>
        </p:xfrm>
        <a:graphic>
          <a:graphicData uri="http://schemas.openxmlformats.org/presentationml/2006/ole">
            <p:oleObj progId="PBrush" r:id="rId1" spid="">
              <p:embed/>
              <p:pic>
                <p:nvPicPr>
                  <p:cNvPr id="4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3640" cy="68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3"/>
          <p:cNvGraphicFramePr/>
          <p:nvPr/>
        </p:nvGraphicFramePr>
        <p:xfrm>
          <a:off x="0" y="0"/>
          <a:ext cx="9143640" cy="232920"/>
        </p:xfrm>
        <a:graphic>
          <a:graphicData uri="http://schemas.openxmlformats.org/presentationml/2006/ole">
            <p:oleObj progId="PBrush" r:id="rId3" spid="">
              <p:embed/>
              <p:pic>
                <p:nvPicPr>
                  <p:cNvPr id="4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3640" cy="23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4"/>
          <p:cNvGraphicFramePr/>
          <p:nvPr/>
        </p:nvGraphicFramePr>
        <p:xfrm>
          <a:off x="620640" y="790560"/>
          <a:ext cx="7903800" cy="6059160"/>
        </p:xfrm>
        <a:graphic>
          <a:graphicData uri="http://schemas.openxmlformats.org/presentationml/2006/ole">
            <p:oleObj progId="PBrush" r:id="rId5" spid="">
              <p:embed/>
              <p:pic>
                <p:nvPicPr>
                  <p:cNvPr id="42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0640" y="790560"/>
                    <a:ext cx="7903800" cy="60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5"/>
          <p:cNvGraphicFramePr/>
          <p:nvPr/>
        </p:nvGraphicFramePr>
        <p:xfrm>
          <a:off x="0" y="0"/>
          <a:ext cx="9143640" cy="232920"/>
        </p:xfrm>
        <a:graphic>
          <a:graphicData uri="http://schemas.openxmlformats.org/presentationml/2006/ole">
            <p:oleObj progId="PBrush" r:id="rId7" spid="">
              <p:embed/>
              <p:pic>
                <p:nvPicPr>
                  <p:cNvPr id="42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9143640" cy="23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6"/>
          <p:cNvGraphicFramePr/>
          <p:nvPr/>
        </p:nvGraphicFramePr>
        <p:xfrm>
          <a:off x="108000" y="1870200"/>
          <a:ext cx="8964360" cy="4330440"/>
        </p:xfrm>
        <a:graphic>
          <a:graphicData uri="http://schemas.openxmlformats.org/presentationml/2006/ole">
            <p:oleObj progId="PBrush" r:id="rId9" spid="">
              <p:embed/>
              <p:pic>
                <p:nvPicPr>
                  <p:cNvPr id="42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1870200"/>
                    <a:ext cx="8964360" cy="43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4">
            <a:hlinkClick r:id="" action="ppaction://hlinkshowjump?jump=nextslide"/>
          </p:cNvPr>
          <p:cNvSpPr/>
          <p:nvPr/>
        </p:nvSpPr>
        <p:spPr>
          <a:xfrm flipH="1">
            <a:off x="8820000" y="1881360"/>
            <a:ext cx="252000" cy="250560"/>
          </a:xfrm>
          <a:prstGeom prst="rect">
            <a:avLst/>
          </a:prstGeom>
          <a:noFill/>
          <a:ln w="2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7"/>
          <p:cNvGraphicFramePr/>
          <p:nvPr/>
        </p:nvGraphicFramePr>
        <p:xfrm>
          <a:off x="0" y="0"/>
          <a:ext cx="9143640" cy="234720"/>
        </p:xfrm>
        <a:graphic>
          <a:graphicData uri="http://schemas.openxmlformats.org/presentationml/2006/ole">
            <p:oleObj progId="PBrush" r:id="rId11" spid="">
              <p:embed/>
              <p:pic>
                <p:nvPicPr>
                  <p:cNvPr id="43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91436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AutoShape 10"/>
          <p:cNvSpPr/>
          <p:nvPr/>
        </p:nvSpPr>
        <p:spPr>
          <a:xfrm>
            <a:off x="6143760" y="4572000"/>
            <a:ext cx="2231640" cy="856800"/>
          </a:xfrm>
          <a:prstGeom prst="wedgeRectCallout">
            <a:avLst>
              <a:gd name="adj1" fmla="val 25745"/>
              <a:gd name="adj2" fmla="val -22060"/>
            </a:avLst>
          </a:prstGeom>
          <a:solidFill>
            <a:srgbClr val="99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umerator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pl-PL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Symbol zastępczy zawartości 3" descr="wylaczanie warstw.bmp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ymbol zastępczy numeru slajdu 1"/>
          <p:cNvSpPr/>
          <p:nvPr/>
        </p:nvSpPr>
        <p:spPr>
          <a:xfrm>
            <a:off x="7010280" y="6492960"/>
            <a:ext cx="213336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41C9161D-8336-437E-A295-C0410906E17A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590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ymbol zastępczy numeru slajdu 1"/>
          <p:cNvSpPr/>
          <p:nvPr/>
        </p:nvSpPr>
        <p:spPr>
          <a:xfrm>
            <a:off x="7010280" y="6492960"/>
            <a:ext cx="213336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E13E2810-DD23-435B-9BA0-0EAAF41C479B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7308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rostokąt 35"/>
          <p:cNvSpPr/>
          <p:nvPr/>
        </p:nvSpPr>
        <p:spPr>
          <a:xfrm>
            <a:off x="285840" y="1428840"/>
            <a:ext cx="8715240" cy="50716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Num" idx="14"/>
          </p:nvPr>
        </p:nvSpPr>
        <p:spPr>
          <a:xfrm>
            <a:off x="796752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0CEAF6-C11B-4FD6-AEDE-EE8DBCF5981F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861840" y="197496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861840" y="252900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T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5"/>
          <p:cNvSpPr/>
          <p:nvPr/>
        </p:nvSpPr>
        <p:spPr>
          <a:xfrm>
            <a:off x="223920" y="210996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1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7"/>
          <p:cNvSpPr/>
          <p:nvPr/>
        </p:nvSpPr>
        <p:spPr>
          <a:xfrm>
            <a:off x="2109600" y="5002200"/>
            <a:ext cx="4571640" cy="998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etadata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0"/>
          <p:cNvSpPr/>
          <p:nvPr/>
        </p:nvSpPr>
        <p:spPr>
          <a:xfrm>
            <a:off x="389556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Operational Microdata Bas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4"/>
          <p:cNvSpPr/>
          <p:nvPr/>
        </p:nvSpPr>
        <p:spPr>
          <a:xfrm>
            <a:off x="214200" y="278604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5"/>
          <p:cNvSpPr/>
          <p:nvPr/>
        </p:nvSpPr>
        <p:spPr>
          <a:xfrm>
            <a:off x="214200" y="345600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n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AutoShape 56"/>
          <p:cNvCxnSpPr/>
          <p:nvPr/>
        </p:nvCxnSpPr>
        <p:spPr>
          <a:xfrm>
            <a:off x="966600" y="232884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279" name="AutoShape 57"/>
          <p:cNvCxnSpPr/>
          <p:nvPr/>
        </p:nvCxnSpPr>
        <p:spPr>
          <a:xfrm>
            <a:off x="966600" y="299556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280" name="AutoShape 59"/>
          <p:cNvCxnSpPr/>
          <p:nvPr/>
        </p:nvCxnSpPr>
        <p:spPr>
          <a:xfrm>
            <a:off x="966600" y="369072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281" name="AutoShape 60"/>
          <p:cNvCxnSpPr/>
          <p:nvPr/>
        </p:nvCxnSpPr>
        <p:spPr>
          <a:xfrm>
            <a:off x="975960" y="551016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282" name="AutoShape 61"/>
          <p:cNvCxnSpPr/>
          <p:nvPr/>
        </p:nvCxnSpPr>
        <p:spPr>
          <a:xfrm>
            <a:off x="1233360" y="2328840"/>
            <a:ext cx="360" cy="318168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283" name="AutoShape 68"/>
          <p:cNvCxnSpPr/>
          <p:nvPr/>
        </p:nvCxnSpPr>
        <p:spPr>
          <a:xfrm>
            <a:off x="2685960" y="3595680"/>
            <a:ext cx="12420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  <a:tailEnd len="med" type="triangle" w="med"/>
          </a:ln>
        </p:spPr>
      </p:cxnSp>
      <p:sp>
        <p:nvSpPr>
          <p:cNvPr id="284" name="AutoShape 82"/>
          <p:cNvSpPr/>
          <p:nvPr/>
        </p:nvSpPr>
        <p:spPr>
          <a:xfrm>
            <a:off x="573408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Analitycal</a:t>
            </a:r>
            <a:br>
              <a:rPr sz="1050"/>
            </a:b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Microdata Bas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2" descr="C:\Documents and Settings\drudzinski\Moje dokumenty\Moje obrazy\Microsoft Clip Organizer\j0236386.gif"/>
          <p:cNvPicPr/>
          <p:nvPr/>
        </p:nvPicPr>
        <p:blipFill>
          <a:blip r:embed="rId1"/>
          <a:stretch/>
        </p:blipFill>
        <p:spPr>
          <a:xfrm>
            <a:off x="252360" y="5195880"/>
            <a:ext cx="590040" cy="715680"/>
          </a:xfrm>
          <a:prstGeom prst="rect">
            <a:avLst/>
          </a:prstGeom>
          <a:ln w="9525">
            <a:noFill/>
          </a:ln>
        </p:spPr>
      </p:pic>
      <p:sp>
        <p:nvSpPr>
          <p:cNvPr id="286" name="AutoShape 50"/>
          <p:cNvSpPr/>
          <p:nvPr/>
        </p:nvSpPr>
        <p:spPr>
          <a:xfrm>
            <a:off x="203832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ETL </a:t>
            </a:r>
            <a:br>
              <a:rPr sz="1050"/>
            </a:b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załka w prawo 54"/>
          <p:cNvSpPr/>
          <p:nvPr/>
        </p:nvSpPr>
        <p:spPr>
          <a:xfrm>
            <a:off x="1252440" y="3562200"/>
            <a:ext cx="78552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88" name="Strzałka w prawo 55"/>
          <p:cNvSpPr/>
          <p:nvPr/>
        </p:nvSpPr>
        <p:spPr>
          <a:xfrm>
            <a:off x="3038400" y="3552840"/>
            <a:ext cx="8568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89" name="Strzałka w prawo 56"/>
          <p:cNvSpPr/>
          <p:nvPr/>
        </p:nvSpPr>
        <p:spPr>
          <a:xfrm>
            <a:off x="4896000" y="3527640"/>
            <a:ext cx="8190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90" name="Strzałka w górę i w dół 57"/>
          <p:cNvSpPr/>
          <p:nvPr/>
        </p:nvSpPr>
        <p:spPr>
          <a:xfrm>
            <a:off x="4243320" y="2500200"/>
            <a:ext cx="285480" cy="5806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291" name="Picture 52" descr="C:\Documents and Settings\drudzinski\Moje dokumenty\Moje obrazy\Microsoft Clip Organizer\j0236386.gif"/>
          <p:cNvPicPr/>
          <p:nvPr/>
        </p:nvPicPr>
        <p:blipFill>
          <a:blip r:embed="rId2"/>
          <a:stretch/>
        </p:blipFill>
        <p:spPr>
          <a:xfrm>
            <a:off x="3467160" y="1428840"/>
            <a:ext cx="642600" cy="779040"/>
          </a:xfrm>
          <a:prstGeom prst="rect">
            <a:avLst/>
          </a:prstGeom>
          <a:ln w="9525">
            <a:noFill/>
          </a:ln>
        </p:spPr>
      </p:pic>
      <p:sp>
        <p:nvSpPr>
          <p:cNvPr id="292" name="Strzałka w górę i w dół 59"/>
          <p:cNvSpPr/>
          <p:nvPr/>
        </p:nvSpPr>
        <p:spPr>
          <a:xfrm>
            <a:off x="239544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93" name="Strzałka w górę i w dół 60"/>
          <p:cNvSpPr/>
          <p:nvPr/>
        </p:nvSpPr>
        <p:spPr>
          <a:xfrm>
            <a:off x="425304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94" name="Strzałka w górę i w dół 61"/>
          <p:cNvSpPr/>
          <p:nvPr/>
        </p:nvSpPr>
        <p:spPr>
          <a:xfrm>
            <a:off x="614376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95" name="pole tekstowe 62"/>
          <p:cNvSpPr/>
          <p:nvPr/>
        </p:nvSpPr>
        <p:spPr>
          <a:xfrm>
            <a:off x="324000" y="5981760"/>
            <a:ext cx="642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9" descr="C:\Documents and Settings\drudzinski\Moje dokumenty\Moje obrazy\Microsoft Clip Organizer\j0431616.png"/>
          <p:cNvPicPr/>
          <p:nvPr/>
        </p:nvPicPr>
        <p:blipFill>
          <a:blip r:embed="rId3"/>
          <a:stretch/>
        </p:blipFill>
        <p:spPr>
          <a:xfrm>
            <a:off x="273348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297" name="Picture 50" descr="C:\Documents and Settings\drudzinski\Moje dokumenty\Moje obrazy\Microsoft Clip Organizer\j0441340.png"/>
          <p:cNvPicPr/>
          <p:nvPr/>
        </p:nvPicPr>
        <p:blipFill>
          <a:blip r:embed="rId4"/>
          <a:stretch/>
        </p:blipFill>
        <p:spPr>
          <a:xfrm>
            <a:off x="4038480" y="1428840"/>
            <a:ext cx="785520" cy="785520"/>
          </a:xfrm>
          <a:prstGeom prst="rect">
            <a:avLst/>
          </a:prstGeom>
          <a:ln w="9525">
            <a:noFill/>
          </a:ln>
        </p:spPr>
      </p:pic>
      <p:pic>
        <p:nvPicPr>
          <p:cNvPr id="298" name="Picture 49" descr="C:\Documents and Settings\drudzinski\Moje dokumenty\Moje obrazy\Microsoft Clip Organizer\j0431616.png"/>
          <p:cNvPicPr/>
          <p:nvPr/>
        </p:nvPicPr>
        <p:blipFill>
          <a:blip r:embed="rId5"/>
          <a:stretch/>
        </p:blipFill>
        <p:spPr>
          <a:xfrm>
            <a:off x="466236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299" name="Picture 49" descr="C:\Documents and Settings\drudzinski\Moje dokumenty\Moje obrazy\Microsoft Clip Organizer\j0431616.png"/>
          <p:cNvPicPr/>
          <p:nvPr/>
        </p:nvPicPr>
        <p:blipFill>
          <a:blip r:embed="rId6"/>
          <a:stretch/>
        </p:blipFill>
        <p:spPr>
          <a:xfrm>
            <a:off x="648180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300" name="Picture 49" descr="C:\Documents and Settings\drudzinski\Moje dokumenty\Moje obrazy\Microsoft Clip Organizer\j0431616.png"/>
          <p:cNvPicPr/>
          <p:nvPr/>
        </p:nvPicPr>
        <p:blipFill>
          <a:blip r:embed="rId7"/>
          <a:stretch/>
        </p:blipFill>
        <p:spPr>
          <a:xfrm>
            <a:off x="5896080" y="555300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301" name="Picture 34" descr="C:\Documents and Settings\drudzinski\Moje dokumenty\Moje obrazy\Microsoft Clip Organizer\j0438482.jpg"/>
          <p:cNvPicPr/>
          <p:nvPr/>
        </p:nvPicPr>
        <p:blipFill>
          <a:blip r:embed="rId8"/>
          <a:stretch/>
        </p:blipFill>
        <p:spPr>
          <a:xfrm>
            <a:off x="4753080" y="1643040"/>
            <a:ext cx="642600" cy="430200"/>
          </a:xfrm>
          <a:prstGeom prst="rect">
            <a:avLst/>
          </a:prstGeom>
          <a:ln w="0">
            <a:noFill/>
          </a:ln>
        </p:spPr>
      </p:pic>
      <p:sp>
        <p:nvSpPr>
          <p:cNvPr id="302" name="pole tekstowe 34"/>
          <p:cNvSpPr/>
          <p:nvPr/>
        </p:nvSpPr>
        <p:spPr>
          <a:xfrm>
            <a:off x="4110120" y="2214720"/>
            <a:ext cx="785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CAX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cessing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frastructure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" descr=""/>
          <p:cNvPicPr/>
          <p:nvPr/>
        </p:nvPicPr>
        <p:blipFill>
          <a:blip r:embed="rId9"/>
          <a:stretch/>
        </p:blipFill>
        <p:spPr>
          <a:xfrm>
            <a:off x="8286840" y="2000160"/>
            <a:ext cx="713880" cy="713880"/>
          </a:xfrm>
          <a:prstGeom prst="rect">
            <a:avLst/>
          </a:prstGeom>
          <a:ln w="9525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10"/>
          <a:stretch/>
        </p:blipFill>
        <p:spPr>
          <a:xfrm>
            <a:off x="8177400" y="3309840"/>
            <a:ext cx="810000" cy="537840"/>
          </a:xfrm>
          <a:prstGeom prst="rect">
            <a:avLst/>
          </a:prstGeom>
          <a:ln w="9525">
            <a:noFill/>
          </a:ln>
        </p:spPr>
      </p:pic>
      <p:pic>
        <p:nvPicPr>
          <p:cNvPr id="306" name="Picture 4" descr=""/>
          <p:cNvPicPr/>
          <p:nvPr/>
        </p:nvPicPr>
        <p:blipFill>
          <a:blip r:embed="rId11"/>
          <a:stretch/>
        </p:blipFill>
        <p:spPr>
          <a:xfrm>
            <a:off x="8286840" y="4187880"/>
            <a:ext cx="799920" cy="812520"/>
          </a:xfrm>
          <a:prstGeom prst="rect">
            <a:avLst/>
          </a:prstGeom>
          <a:ln w="9525">
            <a:noFill/>
          </a:ln>
        </p:spPr>
      </p:pic>
      <p:sp>
        <p:nvSpPr>
          <p:cNvPr id="307" name="Chmurka 41"/>
          <p:cNvSpPr/>
          <p:nvPr/>
        </p:nvSpPr>
        <p:spPr>
          <a:xfrm>
            <a:off x="7000920" y="3395520"/>
            <a:ext cx="713880" cy="428400"/>
          </a:xfrm>
          <a:prstGeom prst="cloud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cxnSp>
        <p:nvCxnSpPr>
          <p:cNvPr id="308" name="Łącznik prosty 48"/>
          <p:cNvCxnSpPr/>
          <p:nvPr/>
        </p:nvCxnSpPr>
        <p:spPr>
          <a:xfrm flipV="1">
            <a:off x="7572240" y="2571480"/>
            <a:ext cx="643320" cy="7862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309" name="Łącznik prosty 51"/>
          <p:cNvCxnSpPr/>
          <p:nvPr/>
        </p:nvCxnSpPr>
        <p:spPr>
          <a:xfrm>
            <a:off x="7715160" y="3571560"/>
            <a:ext cx="428760" cy="21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310" name="Łącznik prosty 62"/>
          <p:cNvCxnSpPr/>
          <p:nvPr/>
        </p:nvCxnSpPr>
        <p:spPr>
          <a:xfrm>
            <a:off x="7572240" y="3786120"/>
            <a:ext cx="714600" cy="5065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311" name="Łącznik prosty 65"/>
          <p:cNvCxnSpPr>
            <a:stCxn id="284" idx="1"/>
            <a:endCxn id="307" idx="2"/>
          </p:cNvCxnSpPr>
          <p:nvPr/>
        </p:nvCxnSpPr>
        <p:spPr>
          <a:xfrm>
            <a:off x="6715080" y="3605040"/>
            <a:ext cx="288360" cy="50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312" name="Text Box 42"/>
          <p:cNvSpPr/>
          <p:nvPr/>
        </p:nvSpPr>
        <p:spPr>
          <a:xfrm>
            <a:off x="971640" y="500076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ole tekstowe 68"/>
          <p:cNvSpPr/>
          <p:nvPr/>
        </p:nvSpPr>
        <p:spPr>
          <a:xfrm>
            <a:off x="1285920" y="3335400"/>
            <a:ext cx="713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ole tekstowe 69"/>
          <p:cNvSpPr/>
          <p:nvPr/>
        </p:nvSpPr>
        <p:spPr>
          <a:xfrm>
            <a:off x="3000240" y="3143160"/>
            <a:ext cx="856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Statistical 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ole tekstowe 70"/>
          <p:cNvSpPr/>
          <p:nvPr/>
        </p:nvSpPr>
        <p:spPr>
          <a:xfrm>
            <a:off x="4857840" y="3129120"/>
            <a:ext cx="856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Golden Rec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ole tekstowe 71"/>
          <p:cNvSpPr/>
          <p:nvPr/>
        </p:nvSpPr>
        <p:spPr>
          <a:xfrm>
            <a:off x="164304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ole tekstowe 72"/>
          <p:cNvSpPr/>
          <p:nvPr/>
        </p:nvSpPr>
        <p:spPr>
          <a:xfrm>
            <a:off x="542916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ole tekstowe 73"/>
          <p:cNvSpPr/>
          <p:nvPr/>
        </p:nvSpPr>
        <p:spPr>
          <a:xfrm>
            <a:off x="350028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ole tekstowe 74"/>
          <p:cNvSpPr/>
          <p:nvPr/>
        </p:nvSpPr>
        <p:spPr>
          <a:xfrm>
            <a:off x="7643880" y="3310200"/>
            <a:ext cx="642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05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ole tekstowe 75"/>
          <p:cNvSpPr/>
          <p:nvPr/>
        </p:nvSpPr>
        <p:spPr>
          <a:xfrm>
            <a:off x="4500720" y="2571840"/>
            <a:ext cx="1142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Questiona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załka w prawo 77"/>
          <p:cNvSpPr/>
          <p:nvPr/>
        </p:nvSpPr>
        <p:spPr>
          <a:xfrm>
            <a:off x="1527120" y="5214960"/>
            <a:ext cx="57132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2" name="Chmurka 78"/>
          <p:cNvSpPr/>
          <p:nvPr/>
        </p:nvSpPr>
        <p:spPr>
          <a:xfrm>
            <a:off x="3071880" y="1214280"/>
            <a:ext cx="2714400" cy="1285560"/>
          </a:xfrm>
          <a:prstGeom prst="cloud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ymbol zastępczy numeru slajdu 1"/>
          <p:cNvSpPr/>
          <p:nvPr/>
        </p:nvSpPr>
        <p:spPr>
          <a:xfrm>
            <a:off x="7010280" y="6492960"/>
            <a:ext cx="213336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C15EE97F-4443-4762-A3F7-AA1D766B78CF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-9360" y="-458640"/>
            <a:ext cx="9153000" cy="7316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ymbol zastępczy numeru slajdu 1"/>
          <p:cNvSpPr/>
          <p:nvPr/>
        </p:nvSpPr>
        <p:spPr>
          <a:xfrm>
            <a:off x="7010280" y="6492960"/>
            <a:ext cx="213336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C46911BB-EB7D-4460-9109-0493FEAC9D51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-154080" y="0"/>
            <a:ext cx="951840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ymbol zastępczy numeru slajdu 1"/>
          <p:cNvSpPr/>
          <p:nvPr/>
        </p:nvSpPr>
        <p:spPr>
          <a:xfrm>
            <a:off x="7010280" y="6492960"/>
            <a:ext cx="213336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838D6691-01C5-48EF-89AE-78A992507B89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962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Object 2"/>
          <p:cNvGraphicFramePr/>
          <p:nvPr/>
        </p:nvGraphicFramePr>
        <p:xfrm>
          <a:off x="0" y="1440"/>
          <a:ext cx="9143640" cy="6856200"/>
        </p:xfrm>
        <a:graphic>
          <a:graphicData uri="http://schemas.openxmlformats.org/presentationml/2006/ole">
            <p:oleObj progId="PBrush" r:id="rId1" spid="">
              <p:embed/>
              <p:pic>
                <p:nvPicPr>
                  <p:cNvPr id="4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3640" cy="68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3"/>
          <p:cNvGraphicFramePr/>
          <p:nvPr/>
        </p:nvGraphicFramePr>
        <p:xfrm>
          <a:off x="108000" y="903240"/>
          <a:ext cx="8927640" cy="5873400"/>
        </p:xfrm>
        <a:graphic>
          <a:graphicData uri="http://schemas.openxmlformats.org/presentationml/2006/ole">
            <p:oleObj progId="PBrush" r:id="rId3" spid="">
              <p:embed/>
              <p:pic>
                <p:nvPicPr>
                  <p:cNvPr id="4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903240"/>
                    <a:ext cx="8927640" cy="58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Rectangle 5">
            <a:hlinkClick r:id="" action="ppaction://hlinkshowjump?jump=nextslide"/>
          </p:cNvPr>
          <p:cNvSpPr/>
          <p:nvPr/>
        </p:nvSpPr>
        <p:spPr>
          <a:xfrm>
            <a:off x="8748720" y="944640"/>
            <a:ext cx="252000" cy="215640"/>
          </a:xfrm>
          <a:prstGeom prst="rect">
            <a:avLst/>
          </a:prstGeom>
          <a:noFill/>
          <a:ln w="2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Object 4"/>
          <p:cNvGraphicFramePr/>
          <p:nvPr/>
        </p:nvGraphicFramePr>
        <p:xfrm>
          <a:off x="0" y="0"/>
          <a:ext cx="9143640" cy="234720"/>
        </p:xfrm>
        <a:graphic>
          <a:graphicData uri="http://schemas.openxmlformats.org/presentationml/2006/ole">
            <p:oleObj progId="PBrush" r:id="rId5" spid="">
              <p:embed/>
              <p:pic>
                <p:nvPicPr>
                  <p:cNvPr id="45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36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AutoShape 8"/>
          <p:cNvSpPr/>
          <p:nvPr/>
        </p:nvSpPr>
        <p:spPr>
          <a:xfrm>
            <a:off x="6572160" y="5143680"/>
            <a:ext cx="2231640" cy="971280"/>
          </a:xfrm>
          <a:prstGeom prst="wedgeRectCallout">
            <a:avLst>
              <a:gd name="adj1" fmla="val 20412"/>
              <a:gd name="adj2" fmla="val -30227"/>
            </a:avLst>
          </a:prstGeom>
          <a:solidFill>
            <a:srgbClr val="99cc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ensus Completeness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ymbol zastępczy numeru slajdu 1"/>
          <p:cNvSpPr/>
          <p:nvPr/>
        </p:nvSpPr>
        <p:spPr>
          <a:xfrm>
            <a:off x="7010280" y="6492960"/>
            <a:ext cx="213336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15B7F621-3B99-406E-9CEE-7CC604D4542A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1"/>
          <a:stretch/>
        </p:blipFill>
        <p:spPr>
          <a:xfrm>
            <a:off x="-142920" y="-714240"/>
            <a:ext cx="9465840" cy="7571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000000"/>
                </a:solidFill>
                <a:latin typeface="Verdana"/>
              </a:rPr>
              <a:t>Transformation to StATISTICAL register</a:t>
            </a:r>
            <a:endParaRPr b="0" lang="pl-P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pl-PL" sz="2000" spc="-1" strike="noStrike">
              <a:solidFill>
                <a:srgbClr val="8b8b8b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8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4A05AF-3536-4D8C-81E4-80640CABAB6B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rostokąt 35"/>
          <p:cNvSpPr/>
          <p:nvPr/>
        </p:nvSpPr>
        <p:spPr>
          <a:xfrm>
            <a:off x="285840" y="1428840"/>
            <a:ext cx="8715240" cy="50716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Num" idx="29"/>
          </p:nvPr>
        </p:nvSpPr>
        <p:spPr>
          <a:xfrm>
            <a:off x="796752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B61E4A-7CBD-439B-9C5C-43782A670F99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2"/>
          <p:cNvSpPr/>
          <p:nvPr/>
        </p:nvSpPr>
        <p:spPr>
          <a:xfrm>
            <a:off x="861840" y="197496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3"/>
          <p:cNvSpPr/>
          <p:nvPr/>
        </p:nvSpPr>
        <p:spPr>
          <a:xfrm>
            <a:off x="861840" y="252900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T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45"/>
          <p:cNvSpPr/>
          <p:nvPr/>
        </p:nvSpPr>
        <p:spPr>
          <a:xfrm>
            <a:off x="223920" y="210996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1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47"/>
          <p:cNvSpPr/>
          <p:nvPr/>
        </p:nvSpPr>
        <p:spPr>
          <a:xfrm>
            <a:off x="2109600" y="5002200"/>
            <a:ext cx="4571640" cy="998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etadata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50"/>
          <p:cNvSpPr/>
          <p:nvPr/>
        </p:nvSpPr>
        <p:spPr>
          <a:xfrm>
            <a:off x="389556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Operational Microdata Bas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54"/>
          <p:cNvSpPr/>
          <p:nvPr/>
        </p:nvSpPr>
        <p:spPr>
          <a:xfrm>
            <a:off x="214200" y="278604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5"/>
          <p:cNvSpPr/>
          <p:nvPr/>
        </p:nvSpPr>
        <p:spPr>
          <a:xfrm>
            <a:off x="214200" y="345600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n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7" name="AutoShape 56"/>
          <p:cNvCxnSpPr/>
          <p:nvPr/>
        </p:nvCxnSpPr>
        <p:spPr>
          <a:xfrm>
            <a:off x="966600" y="232884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468" name="AutoShape 57"/>
          <p:cNvCxnSpPr/>
          <p:nvPr/>
        </p:nvCxnSpPr>
        <p:spPr>
          <a:xfrm>
            <a:off x="966600" y="299556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469" name="AutoShape 59"/>
          <p:cNvCxnSpPr/>
          <p:nvPr/>
        </p:nvCxnSpPr>
        <p:spPr>
          <a:xfrm>
            <a:off x="966600" y="369072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470" name="AutoShape 60"/>
          <p:cNvCxnSpPr/>
          <p:nvPr/>
        </p:nvCxnSpPr>
        <p:spPr>
          <a:xfrm>
            <a:off x="975960" y="551016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471" name="AutoShape 61"/>
          <p:cNvCxnSpPr/>
          <p:nvPr/>
        </p:nvCxnSpPr>
        <p:spPr>
          <a:xfrm>
            <a:off x="1233360" y="2328840"/>
            <a:ext cx="360" cy="318168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472" name="AutoShape 68"/>
          <p:cNvCxnSpPr/>
          <p:nvPr/>
        </p:nvCxnSpPr>
        <p:spPr>
          <a:xfrm>
            <a:off x="2685960" y="3595680"/>
            <a:ext cx="12420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  <a:tailEnd len="med" type="triangle" w="med"/>
          </a:ln>
        </p:spPr>
      </p:cxnSp>
      <p:sp>
        <p:nvSpPr>
          <p:cNvPr id="473" name="AutoShape 82"/>
          <p:cNvSpPr/>
          <p:nvPr/>
        </p:nvSpPr>
        <p:spPr>
          <a:xfrm>
            <a:off x="573408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Analitycal</a:t>
            </a:r>
            <a:br>
              <a:rPr sz="1050"/>
            </a:b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Microdata Bas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2" descr="C:\Documents and Settings\drudzinski\Moje dokumenty\Moje obrazy\Microsoft Clip Organizer\j0236386.gif"/>
          <p:cNvPicPr/>
          <p:nvPr/>
        </p:nvPicPr>
        <p:blipFill>
          <a:blip r:embed="rId1"/>
          <a:stretch/>
        </p:blipFill>
        <p:spPr>
          <a:xfrm>
            <a:off x="252360" y="5195880"/>
            <a:ext cx="590040" cy="715680"/>
          </a:xfrm>
          <a:prstGeom prst="rect">
            <a:avLst/>
          </a:prstGeom>
          <a:ln w="9525">
            <a:noFill/>
          </a:ln>
        </p:spPr>
      </p:pic>
      <p:sp>
        <p:nvSpPr>
          <p:cNvPr id="475" name="AutoShape 50"/>
          <p:cNvSpPr/>
          <p:nvPr/>
        </p:nvSpPr>
        <p:spPr>
          <a:xfrm>
            <a:off x="2038320" y="2900520"/>
            <a:ext cx="980640" cy="1409400"/>
          </a:xfrm>
          <a:prstGeom prst="can">
            <a:avLst>
              <a:gd name="adj" fmla="val 35922"/>
            </a:avLst>
          </a:prstGeom>
          <a:solidFill>
            <a:srgbClr val="ff0000"/>
          </a:soli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ETL </a:t>
            </a:r>
            <a:br>
              <a:rPr sz="1050"/>
            </a:b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trzałka w prawo 54"/>
          <p:cNvSpPr/>
          <p:nvPr/>
        </p:nvSpPr>
        <p:spPr>
          <a:xfrm>
            <a:off x="1252440" y="3562200"/>
            <a:ext cx="78552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7" name="Strzałka w prawo 55"/>
          <p:cNvSpPr/>
          <p:nvPr/>
        </p:nvSpPr>
        <p:spPr>
          <a:xfrm>
            <a:off x="3038400" y="3552840"/>
            <a:ext cx="8568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8" name="Strzałka w prawo 56"/>
          <p:cNvSpPr/>
          <p:nvPr/>
        </p:nvSpPr>
        <p:spPr>
          <a:xfrm>
            <a:off x="4896000" y="3527640"/>
            <a:ext cx="8190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9" name="Strzałka w górę i w dół 57"/>
          <p:cNvSpPr/>
          <p:nvPr/>
        </p:nvSpPr>
        <p:spPr>
          <a:xfrm>
            <a:off x="4243320" y="2500200"/>
            <a:ext cx="285480" cy="5806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480" name="Picture 52" descr="C:\Documents and Settings\drudzinski\Moje dokumenty\Moje obrazy\Microsoft Clip Organizer\j0236386.gif"/>
          <p:cNvPicPr/>
          <p:nvPr/>
        </p:nvPicPr>
        <p:blipFill>
          <a:blip r:embed="rId2"/>
          <a:stretch/>
        </p:blipFill>
        <p:spPr>
          <a:xfrm>
            <a:off x="3467160" y="1428840"/>
            <a:ext cx="642600" cy="779040"/>
          </a:xfrm>
          <a:prstGeom prst="rect">
            <a:avLst/>
          </a:prstGeom>
          <a:ln w="9525">
            <a:noFill/>
          </a:ln>
        </p:spPr>
      </p:pic>
      <p:sp>
        <p:nvSpPr>
          <p:cNvPr id="481" name="Strzałka w górę i w dół 59"/>
          <p:cNvSpPr/>
          <p:nvPr/>
        </p:nvSpPr>
        <p:spPr>
          <a:xfrm>
            <a:off x="239544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82" name="Strzałka w górę i w dół 60"/>
          <p:cNvSpPr/>
          <p:nvPr/>
        </p:nvSpPr>
        <p:spPr>
          <a:xfrm>
            <a:off x="425304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83" name="Strzałka w górę i w dół 61"/>
          <p:cNvSpPr/>
          <p:nvPr/>
        </p:nvSpPr>
        <p:spPr>
          <a:xfrm>
            <a:off x="614376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84" name="pole tekstowe 62"/>
          <p:cNvSpPr/>
          <p:nvPr/>
        </p:nvSpPr>
        <p:spPr>
          <a:xfrm>
            <a:off x="324000" y="5981760"/>
            <a:ext cx="642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49" descr="C:\Documents and Settings\drudzinski\Moje dokumenty\Moje obrazy\Microsoft Clip Organizer\j0431616.png"/>
          <p:cNvPicPr/>
          <p:nvPr/>
        </p:nvPicPr>
        <p:blipFill>
          <a:blip r:embed="rId3"/>
          <a:stretch/>
        </p:blipFill>
        <p:spPr>
          <a:xfrm>
            <a:off x="273348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486" name="Picture 50" descr="C:\Documents and Settings\drudzinski\Moje dokumenty\Moje obrazy\Microsoft Clip Organizer\j0441340.png"/>
          <p:cNvPicPr/>
          <p:nvPr/>
        </p:nvPicPr>
        <p:blipFill>
          <a:blip r:embed="rId4"/>
          <a:stretch/>
        </p:blipFill>
        <p:spPr>
          <a:xfrm>
            <a:off x="4038480" y="1428840"/>
            <a:ext cx="785520" cy="785520"/>
          </a:xfrm>
          <a:prstGeom prst="rect">
            <a:avLst/>
          </a:prstGeom>
          <a:ln w="9525">
            <a:noFill/>
          </a:ln>
        </p:spPr>
      </p:pic>
      <p:pic>
        <p:nvPicPr>
          <p:cNvPr id="487" name="Picture 49" descr="C:\Documents and Settings\drudzinski\Moje dokumenty\Moje obrazy\Microsoft Clip Organizer\j0431616.png"/>
          <p:cNvPicPr/>
          <p:nvPr/>
        </p:nvPicPr>
        <p:blipFill>
          <a:blip r:embed="rId5"/>
          <a:stretch/>
        </p:blipFill>
        <p:spPr>
          <a:xfrm>
            <a:off x="466236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488" name="Picture 49" descr="C:\Documents and Settings\drudzinski\Moje dokumenty\Moje obrazy\Microsoft Clip Organizer\j0431616.png"/>
          <p:cNvPicPr/>
          <p:nvPr/>
        </p:nvPicPr>
        <p:blipFill>
          <a:blip r:embed="rId6"/>
          <a:stretch/>
        </p:blipFill>
        <p:spPr>
          <a:xfrm>
            <a:off x="648180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489" name="Picture 49" descr="C:\Documents and Settings\drudzinski\Moje dokumenty\Moje obrazy\Microsoft Clip Organizer\j0431616.png"/>
          <p:cNvPicPr/>
          <p:nvPr/>
        </p:nvPicPr>
        <p:blipFill>
          <a:blip r:embed="rId7"/>
          <a:stretch/>
        </p:blipFill>
        <p:spPr>
          <a:xfrm>
            <a:off x="5896080" y="555300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490" name="Picture 34" descr="C:\Documents and Settings\drudzinski\Moje dokumenty\Moje obrazy\Microsoft Clip Organizer\j0438482.jpg"/>
          <p:cNvPicPr/>
          <p:nvPr/>
        </p:nvPicPr>
        <p:blipFill>
          <a:blip r:embed="rId8"/>
          <a:stretch/>
        </p:blipFill>
        <p:spPr>
          <a:xfrm>
            <a:off x="4753080" y="1643040"/>
            <a:ext cx="642600" cy="430200"/>
          </a:xfrm>
          <a:prstGeom prst="rect">
            <a:avLst/>
          </a:prstGeom>
          <a:ln w="0">
            <a:noFill/>
          </a:ln>
        </p:spPr>
      </p:pic>
      <p:sp>
        <p:nvSpPr>
          <p:cNvPr id="491" name="pole tekstowe 34"/>
          <p:cNvSpPr/>
          <p:nvPr/>
        </p:nvSpPr>
        <p:spPr>
          <a:xfrm>
            <a:off x="4110120" y="2214720"/>
            <a:ext cx="785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CAX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urce data collection and preparation</a:t>
            </a: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" descr=""/>
          <p:cNvPicPr/>
          <p:nvPr/>
        </p:nvPicPr>
        <p:blipFill>
          <a:blip r:embed="rId9"/>
          <a:stretch/>
        </p:blipFill>
        <p:spPr>
          <a:xfrm>
            <a:off x="8286840" y="2000160"/>
            <a:ext cx="713880" cy="713880"/>
          </a:xfrm>
          <a:prstGeom prst="rect">
            <a:avLst/>
          </a:prstGeom>
          <a:ln w="9525">
            <a:noFill/>
          </a:ln>
        </p:spPr>
      </p:pic>
      <p:pic>
        <p:nvPicPr>
          <p:cNvPr id="494" name="Picture 3" descr=""/>
          <p:cNvPicPr/>
          <p:nvPr/>
        </p:nvPicPr>
        <p:blipFill>
          <a:blip r:embed="rId10"/>
          <a:stretch/>
        </p:blipFill>
        <p:spPr>
          <a:xfrm>
            <a:off x="8177400" y="3309840"/>
            <a:ext cx="810000" cy="537840"/>
          </a:xfrm>
          <a:prstGeom prst="rect">
            <a:avLst/>
          </a:prstGeom>
          <a:ln w="9525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11"/>
          <a:stretch/>
        </p:blipFill>
        <p:spPr>
          <a:xfrm>
            <a:off x="8286840" y="4187880"/>
            <a:ext cx="799920" cy="812520"/>
          </a:xfrm>
          <a:prstGeom prst="rect">
            <a:avLst/>
          </a:prstGeom>
          <a:ln w="9525">
            <a:noFill/>
          </a:ln>
        </p:spPr>
      </p:pic>
      <p:sp>
        <p:nvSpPr>
          <p:cNvPr id="496" name="Chmurka 41"/>
          <p:cNvSpPr/>
          <p:nvPr/>
        </p:nvSpPr>
        <p:spPr>
          <a:xfrm>
            <a:off x="7000920" y="3395520"/>
            <a:ext cx="713880" cy="428400"/>
          </a:xfrm>
          <a:prstGeom prst="cloud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cxnSp>
        <p:nvCxnSpPr>
          <p:cNvPr id="497" name="Łącznik prosty 48"/>
          <p:cNvCxnSpPr/>
          <p:nvPr/>
        </p:nvCxnSpPr>
        <p:spPr>
          <a:xfrm flipV="1">
            <a:off x="7572240" y="2571480"/>
            <a:ext cx="643320" cy="7862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498" name="Łącznik prosty 51"/>
          <p:cNvCxnSpPr/>
          <p:nvPr/>
        </p:nvCxnSpPr>
        <p:spPr>
          <a:xfrm>
            <a:off x="7715160" y="3571560"/>
            <a:ext cx="428760" cy="21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499" name="Łącznik prosty 62"/>
          <p:cNvCxnSpPr/>
          <p:nvPr/>
        </p:nvCxnSpPr>
        <p:spPr>
          <a:xfrm>
            <a:off x="7572240" y="3786120"/>
            <a:ext cx="714600" cy="5065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00" name="Łącznik prosty 65"/>
          <p:cNvCxnSpPr>
            <a:stCxn id="473" idx="1"/>
            <a:endCxn id="496" idx="2"/>
          </p:cNvCxnSpPr>
          <p:nvPr/>
        </p:nvCxnSpPr>
        <p:spPr>
          <a:xfrm>
            <a:off x="6715080" y="3605040"/>
            <a:ext cx="288360" cy="50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501" name="Text Box 42"/>
          <p:cNvSpPr/>
          <p:nvPr/>
        </p:nvSpPr>
        <p:spPr>
          <a:xfrm>
            <a:off x="971640" y="500076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ole tekstowe 68"/>
          <p:cNvSpPr/>
          <p:nvPr/>
        </p:nvSpPr>
        <p:spPr>
          <a:xfrm>
            <a:off x="1285920" y="3335400"/>
            <a:ext cx="713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ole tekstowe 69"/>
          <p:cNvSpPr/>
          <p:nvPr/>
        </p:nvSpPr>
        <p:spPr>
          <a:xfrm>
            <a:off x="3000240" y="3143160"/>
            <a:ext cx="856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Statistical 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ole tekstowe 70"/>
          <p:cNvSpPr/>
          <p:nvPr/>
        </p:nvSpPr>
        <p:spPr>
          <a:xfrm>
            <a:off x="4857840" y="3129120"/>
            <a:ext cx="856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Golden Rec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ole tekstowe 71"/>
          <p:cNvSpPr/>
          <p:nvPr/>
        </p:nvSpPr>
        <p:spPr>
          <a:xfrm>
            <a:off x="164304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ole tekstowe 72"/>
          <p:cNvSpPr/>
          <p:nvPr/>
        </p:nvSpPr>
        <p:spPr>
          <a:xfrm>
            <a:off x="542916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ole tekstowe 73"/>
          <p:cNvSpPr/>
          <p:nvPr/>
        </p:nvSpPr>
        <p:spPr>
          <a:xfrm>
            <a:off x="350028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ole tekstowe 74"/>
          <p:cNvSpPr/>
          <p:nvPr/>
        </p:nvSpPr>
        <p:spPr>
          <a:xfrm>
            <a:off x="7643880" y="3310200"/>
            <a:ext cx="642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05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ole tekstowe 75"/>
          <p:cNvSpPr/>
          <p:nvPr/>
        </p:nvSpPr>
        <p:spPr>
          <a:xfrm>
            <a:off x="4500720" y="2571840"/>
            <a:ext cx="1142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Questiona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załka w prawo 77"/>
          <p:cNvSpPr/>
          <p:nvPr/>
        </p:nvSpPr>
        <p:spPr>
          <a:xfrm>
            <a:off x="1527120" y="5214960"/>
            <a:ext cx="57132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11" name="Chmurka 78"/>
          <p:cNvSpPr/>
          <p:nvPr/>
        </p:nvSpPr>
        <p:spPr>
          <a:xfrm>
            <a:off x="3071880" y="1214280"/>
            <a:ext cx="2714400" cy="1285560"/>
          </a:xfrm>
          <a:prstGeom prst="cloud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" name="Diagram8"/>
          <p:cNvGraphicFramePr/>
          <p:nvPr>
            <p:extLst>
              <p:ext uri="{D42A27DB-BD31-4B8C-83A1-F6EECF244321}">
                <p14:modId xmlns:p14="http://schemas.microsoft.com/office/powerpoint/2010/main" val="1535465906"/>
              </p:ext>
            </p:extLst>
          </p:nvPr>
        </p:nvGraphicFramePr>
        <p:xfrm>
          <a:off x="457200" y="1428840"/>
          <a:ext cx="7329240" cy="469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urce data collection and preparation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ldNum" idx="30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CF2B37-1EA5-48F4-912F-048185BD36B3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" name="Diagram9"/>
          <p:cNvGraphicFramePr/>
          <p:nvPr>
            <p:extLst>
              <p:ext uri="{D42A27DB-BD31-4B8C-83A1-F6EECF244321}">
                <p14:modId xmlns:p14="http://schemas.microsoft.com/office/powerpoint/2010/main" val="4126481763"/>
              </p:ext>
            </p:extLst>
          </p:nvPr>
        </p:nvGraphicFramePr>
        <p:xfrm>
          <a:off x="457200" y="1428840"/>
          <a:ext cx="8229240" cy="469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nsus Quality – collection and preparation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Num" idx="31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D198F2-D689-49CE-8AE1-B02F30F91A95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" name="Diagram10"/>
          <p:cNvGraphicFramePr/>
          <p:nvPr>
            <p:extLst>
              <p:ext uri="{D42A27DB-BD31-4B8C-83A1-F6EECF244321}">
                <p14:modId xmlns:p14="http://schemas.microsoft.com/office/powerpoint/2010/main" val="3202074062"/>
              </p:ext>
            </p:extLst>
          </p:nvPr>
        </p:nvGraphicFramePr>
        <p:xfrm>
          <a:off x="457200" y="1428840"/>
          <a:ext cx="8229240" cy="3714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urce data loading and correction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ldNum" idx="32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84EE15-725B-4288-9EAF-181811ED4BF9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155438447"/>
              </p:ext>
            </p:extLst>
          </p:nvPr>
        </p:nvGraphicFramePr>
        <p:xfrm>
          <a:off x="457200" y="1428840"/>
          <a:ext cx="8229240" cy="469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nsus Quality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ldNum" idx="15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B7B7E9-F63B-48FA-91FE-FDFE42FC1165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rostokąt 35"/>
          <p:cNvSpPr/>
          <p:nvPr/>
        </p:nvSpPr>
        <p:spPr>
          <a:xfrm>
            <a:off x="285840" y="1428840"/>
            <a:ext cx="8715240" cy="50716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Num" idx="33"/>
          </p:nvPr>
        </p:nvSpPr>
        <p:spPr>
          <a:xfrm>
            <a:off x="796752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C9A5D3-44FA-42C1-A51A-7DC0077CFB85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2"/>
          <p:cNvSpPr/>
          <p:nvPr/>
        </p:nvSpPr>
        <p:spPr>
          <a:xfrm>
            <a:off x="861840" y="197496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3"/>
          <p:cNvSpPr/>
          <p:nvPr/>
        </p:nvSpPr>
        <p:spPr>
          <a:xfrm>
            <a:off x="861840" y="252900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T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45"/>
          <p:cNvSpPr/>
          <p:nvPr/>
        </p:nvSpPr>
        <p:spPr>
          <a:xfrm>
            <a:off x="223920" y="210996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1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47"/>
          <p:cNvSpPr/>
          <p:nvPr/>
        </p:nvSpPr>
        <p:spPr>
          <a:xfrm>
            <a:off x="2109600" y="5002200"/>
            <a:ext cx="4571640" cy="998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etadata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0"/>
          <p:cNvSpPr/>
          <p:nvPr/>
        </p:nvSpPr>
        <p:spPr>
          <a:xfrm>
            <a:off x="3895560" y="2900520"/>
            <a:ext cx="980640" cy="1409400"/>
          </a:xfrm>
          <a:prstGeom prst="can">
            <a:avLst>
              <a:gd name="adj" fmla="val 35922"/>
            </a:avLst>
          </a:prstGeom>
          <a:solidFill>
            <a:srgbClr val="ff0000"/>
          </a:soli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Operational Microdata Bas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4"/>
          <p:cNvSpPr/>
          <p:nvPr/>
        </p:nvSpPr>
        <p:spPr>
          <a:xfrm>
            <a:off x="214200" y="278604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55"/>
          <p:cNvSpPr/>
          <p:nvPr/>
        </p:nvSpPr>
        <p:spPr>
          <a:xfrm>
            <a:off x="214200" y="345600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n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AutoShape 56"/>
          <p:cNvCxnSpPr/>
          <p:nvPr/>
        </p:nvCxnSpPr>
        <p:spPr>
          <a:xfrm>
            <a:off x="966600" y="232884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528" name="AutoShape 57"/>
          <p:cNvCxnSpPr/>
          <p:nvPr/>
        </p:nvCxnSpPr>
        <p:spPr>
          <a:xfrm>
            <a:off x="966600" y="299556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529" name="AutoShape 59"/>
          <p:cNvCxnSpPr/>
          <p:nvPr/>
        </p:nvCxnSpPr>
        <p:spPr>
          <a:xfrm>
            <a:off x="966600" y="369072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530" name="AutoShape 60"/>
          <p:cNvCxnSpPr/>
          <p:nvPr/>
        </p:nvCxnSpPr>
        <p:spPr>
          <a:xfrm>
            <a:off x="975960" y="551016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531" name="AutoShape 61"/>
          <p:cNvCxnSpPr/>
          <p:nvPr/>
        </p:nvCxnSpPr>
        <p:spPr>
          <a:xfrm>
            <a:off x="1233360" y="2328840"/>
            <a:ext cx="360" cy="318168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532" name="AutoShape 68"/>
          <p:cNvCxnSpPr/>
          <p:nvPr/>
        </p:nvCxnSpPr>
        <p:spPr>
          <a:xfrm>
            <a:off x="2685960" y="3595680"/>
            <a:ext cx="12420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  <a:tailEnd len="med" type="triangle" w="med"/>
          </a:ln>
        </p:spPr>
      </p:cxnSp>
      <p:sp>
        <p:nvSpPr>
          <p:cNvPr id="533" name="AutoShape 82"/>
          <p:cNvSpPr/>
          <p:nvPr/>
        </p:nvSpPr>
        <p:spPr>
          <a:xfrm>
            <a:off x="573408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Analitycal</a:t>
            </a:r>
            <a:br>
              <a:rPr sz="1050"/>
            </a:b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Microdata Bas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52" descr="C:\Documents and Settings\drudzinski\Moje dokumenty\Moje obrazy\Microsoft Clip Organizer\j0236386.gif"/>
          <p:cNvPicPr/>
          <p:nvPr/>
        </p:nvPicPr>
        <p:blipFill>
          <a:blip r:embed="rId1"/>
          <a:stretch/>
        </p:blipFill>
        <p:spPr>
          <a:xfrm>
            <a:off x="252360" y="5195880"/>
            <a:ext cx="590040" cy="715680"/>
          </a:xfrm>
          <a:prstGeom prst="rect">
            <a:avLst/>
          </a:prstGeom>
          <a:ln w="9525">
            <a:noFill/>
          </a:ln>
        </p:spPr>
      </p:pic>
      <p:sp>
        <p:nvSpPr>
          <p:cNvPr id="535" name="AutoShape 50"/>
          <p:cNvSpPr/>
          <p:nvPr/>
        </p:nvSpPr>
        <p:spPr>
          <a:xfrm>
            <a:off x="203832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ETL </a:t>
            </a:r>
            <a:br>
              <a:rPr sz="1050"/>
            </a:b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załka w prawo 54"/>
          <p:cNvSpPr/>
          <p:nvPr/>
        </p:nvSpPr>
        <p:spPr>
          <a:xfrm>
            <a:off x="1252440" y="3562200"/>
            <a:ext cx="78552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37" name="Strzałka w prawo 55"/>
          <p:cNvSpPr/>
          <p:nvPr/>
        </p:nvSpPr>
        <p:spPr>
          <a:xfrm>
            <a:off x="3038400" y="3552840"/>
            <a:ext cx="8568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38" name="Strzałka w prawo 56"/>
          <p:cNvSpPr/>
          <p:nvPr/>
        </p:nvSpPr>
        <p:spPr>
          <a:xfrm>
            <a:off x="4896000" y="3527640"/>
            <a:ext cx="8190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39" name="Strzałka w górę i w dół 57"/>
          <p:cNvSpPr/>
          <p:nvPr/>
        </p:nvSpPr>
        <p:spPr>
          <a:xfrm>
            <a:off x="4243320" y="2500200"/>
            <a:ext cx="285480" cy="5806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540" name="Picture 52" descr="C:\Documents and Settings\drudzinski\Moje dokumenty\Moje obrazy\Microsoft Clip Organizer\j0236386.gif"/>
          <p:cNvPicPr/>
          <p:nvPr/>
        </p:nvPicPr>
        <p:blipFill>
          <a:blip r:embed="rId2"/>
          <a:stretch/>
        </p:blipFill>
        <p:spPr>
          <a:xfrm>
            <a:off x="3467160" y="1428840"/>
            <a:ext cx="642600" cy="779040"/>
          </a:xfrm>
          <a:prstGeom prst="rect">
            <a:avLst/>
          </a:prstGeom>
          <a:ln w="9525">
            <a:noFill/>
          </a:ln>
        </p:spPr>
      </p:pic>
      <p:sp>
        <p:nvSpPr>
          <p:cNvPr id="541" name="Strzałka w górę i w dół 59"/>
          <p:cNvSpPr/>
          <p:nvPr/>
        </p:nvSpPr>
        <p:spPr>
          <a:xfrm>
            <a:off x="239544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42" name="Strzałka w górę i w dół 60"/>
          <p:cNvSpPr/>
          <p:nvPr/>
        </p:nvSpPr>
        <p:spPr>
          <a:xfrm>
            <a:off x="425304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43" name="Strzałka w górę i w dół 61"/>
          <p:cNvSpPr/>
          <p:nvPr/>
        </p:nvSpPr>
        <p:spPr>
          <a:xfrm>
            <a:off x="614376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44" name="pole tekstowe 62"/>
          <p:cNvSpPr/>
          <p:nvPr/>
        </p:nvSpPr>
        <p:spPr>
          <a:xfrm>
            <a:off x="324000" y="5981760"/>
            <a:ext cx="642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9" descr="C:\Documents and Settings\drudzinski\Moje dokumenty\Moje obrazy\Microsoft Clip Organizer\j0431616.png"/>
          <p:cNvPicPr/>
          <p:nvPr/>
        </p:nvPicPr>
        <p:blipFill>
          <a:blip r:embed="rId3"/>
          <a:stretch/>
        </p:blipFill>
        <p:spPr>
          <a:xfrm>
            <a:off x="273348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546" name="Picture 50" descr="C:\Documents and Settings\drudzinski\Moje dokumenty\Moje obrazy\Microsoft Clip Organizer\j0441340.png"/>
          <p:cNvPicPr/>
          <p:nvPr/>
        </p:nvPicPr>
        <p:blipFill>
          <a:blip r:embed="rId4"/>
          <a:stretch/>
        </p:blipFill>
        <p:spPr>
          <a:xfrm>
            <a:off x="4038480" y="1428840"/>
            <a:ext cx="785520" cy="785520"/>
          </a:xfrm>
          <a:prstGeom prst="rect">
            <a:avLst/>
          </a:prstGeom>
          <a:ln w="9525">
            <a:noFill/>
          </a:ln>
        </p:spPr>
      </p:pic>
      <p:pic>
        <p:nvPicPr>
          <p:cNvPr id="547" name="Picture 49" descr="C:\Documents and Settings\drudzinski\Moje dokumenty\Moje obrazy\Microsoft Clip Organizer\j0431616.png"/>
          <p:cNvPicPr/>
          <p:nvPr/>
        </p:nvPicPr>
        <p:blipFill>
          <a:blip r:embed="rId5"/>
          <a:stretch/>
        </p:blipFill>
        <p:spPr>
          <a:xfrm>
            <a:off x="466236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548" name="Picture 49" descr="C:\Documents and Settings\drudzinski\Moje dokumenty\Moje obrazy\Microsoft Clip Organizer\j0431616.png"/>
          <p:cNvPicPr/>
          <p:nvPr/>
        </p:nvPicPr>
        <p:blipFill>
          <a:blip r:embed="rId6"/>
          <a:stretch/>
        </p:blipFill>
        <p:spPr>
          <a:xfrm>
            <a:off x="648180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549" name="Picture 49" descr="C:\Documents and Settings\drudzinski\Moje dokumenty\Moje obrazy\Microsoft Clip Organizer\j0431616.png"/>
          <p:cNvPicPr/>
          <p:nvPr/>
        </p:nvPicPr>
        <p:blipFill>
          <a:blip r:embed="rId7"/>
          <a:stretch/>
        </p:blipFill>
        <p:spPr>
          <a:xfrm>
            <a:off x="5896080" y="555300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550" name="Picture 34" descr="C:\Documents and Settings\drudzinski\Moje dokumenty\Moje obrazy\Microsoft Clip Organizer\j0438482.jpg"/>
          <p:cNvPicPr/>
          <p:nvPr/>
        </p:nvPicPr>
        <p:blipFill>
          <a:blip r:embed="rId8"/>
          <a:stretch/>
        </p:blipFill>
        <p:spPr>
          <a:xfrm>
            <a:off x="4753080" y="1643040"/>
            <a:ext cx="642600" cy="430200"/>
          </a:xfrm>
          <a:prstGeom prst="rect">
            <a:avLst/>
          </a:prstGeom>
          <a:ln w="0">
            <a:noFill/>
          </a:ln>
        </p:spPr>
      </p:pic>
      <p:sp>
        <p:nvSpPr>
          <p:cNvPr id="551" name="pole tekstowe 34"/>
          <p:cNvSpPr/>
          <p:nvPr/>
        </p:nvSpPr>
        <p:spPr>
          <a:xfrm>
            <a:off x="4110120" y="2214720"/>
            <a:ext cx="785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CAX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CAxI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" descr=""/>
          <p:cNvPicPr/>
          <p:nvPr/>
        </p:nvPicPr>
        <p:blipFill>
          <a:blip r:embed="rId9"/>
          <a:stretch/>
        </p:blipFill>
        <p:spPr>
          <a:xfrm>
            <a:off x="8286840" y="2000160"/>
            <a:ext cx="713880" cy="713880"/>
          </a:xfrm>
          <a:prstGeom prst="rect">
            <a:avLst/>
          </a:prstGeom>
          <a:ln w="9525">
            <a:noFill/>
          </a:ln>
        </p:spPr>
      </p:pic>
      <p:pic>
        <p:nvPicPr>
          <p:cNvPr id="554" name="Picture 3" descr=""/>
          <p:cNvPicPr/>
          <p:nvPr/>
        </p:nvPicPr>
        <p:blipFill>
          <a:blip r:embed="rId10"/>
          <a:stretch/>
        </p:blipFill>
        <p:spPr>
          <a:xfrm>
            <a:off x="8177400" y="3309840"/>
            <a:ext cx="810000" cy="537840"/>
          </a:xfrm>
          <a:prstGeom prst="rect">
            <a:avLst/>
          </a:prstGeom>
          <a:ln w="9525">
            <a:noFill/>
          </a:ln>
        </p:spPr>
      </p:pic>
      <p:pic>
        <p:nvPicPr>
          <p:cNvPr id="555" name="Picture 4" descr=""/>
          <p:cNvPicPr/>
          <p:nvPr/>
        </p:nvPicPr>
        <p:blipFill>
          <a:blip r:embed="rId11"/>
          <a:stretch/>
        </p:blipFill>
        <p:spPr>
          <a:xfrm>
            <a:off x="8286840" y="4187880"/>
            <a:ext cx="799920" cy="812520"/>
          </a:xfrm>
          <a:prstGeom prst="rect">
            <a:avLst/>
          </a:prstGeom>
          <a:ln w="9525">
            <a:noFill/>
          </a:ln>
        </p:spPr>
      </p:pic>
      <p:sp>
        <p:nvSpPr>
          <p:cNvPr id="556" name="Chmurka 41"/>
          <p:cNvSpPr/>
          <p:nvPr/>
        </p:nvSpPr>
        <p:spPr>
          <a:xfrm>
            <a:off x="7000920" y="3395520"/>
            <a:ext cx="713880" cy="428400"/>
          </a:xfrm>
          <a:prstGeom prst="cloud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cxnSp>
        <p:nvCxnSpPr>
          <p:cNvPr id="557" name="Łącznik prosty 48"/>
          <p:cNvCxnSpPr/>
          <p:nvPr/>
        </p:nvCxnSpPr>
        <p:spPr>
          <a:xfrm flipV="1">
            <a:off x="7572240" y="2571480"/>
            <a:ext cx="643320" cy="7862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58" name="Łącznik prosty 51"/>
          <p:cNvCxnSpPr/>
          <p:nvPr/>
        </p:nvCxnSpPr>
        <p:spPr>
          <a:xfrm>
            <a:off x="7715160" y="3571560"/>
            <a:ext cx="428760" cy="21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59" name="Łącznik prosty 62"/>
          <p:cNvCxnSpPr/>
          <p:nvPr/>
        </p:nvCxnSpPr>
        <p:spPr>
          <a:xfrm>
            <a:off x="7572240" y="3786120"/>
            <a:ext cx="714600" cy="5065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560" name="Łącznik prosty 65"/>
          <p:cNvCxnSpPr>
            <a:stCxn id="533" idx="1"/>
            <a:endCxn id="556" idx="2"/>
          </p:cNvCxnSpPr>
          <p:nvPr/>
        </p:nvCxnSpPr>
        <p:spPr>
          <a:xfrm>
            <a:off x="6715080" y="3605040"/>
            <a:ext cx="288360" cy="50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561" name="Text Box 42"/>
          <p:cNvSpPr/>
          <p:nvPr/>
        </p:nvSpPr>
        <p:spPr>
          <a:xfrm>
            <a:off x="971640" y="500076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ole tekstowe 68"/>
          <p:cNvSpPr/>
          <p:nvPr/>
        </p:nvSpPr>
        <p:spPr>
          <a:xfrm>
            <a:off x="1285920" y="3335400"/>
            <a:ext cx="713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ole tekstowe 69"/>
          <p:cNvSpPr/>
          <p:nvPr/>
        </p:nvSpPr>
        <p:spPr>
          <a:xfrm>
            <a:off x="3000240" y="3143160"/>
            <a:ext cx="856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Statistical 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70"/>
          <p:cNvSpPr/>
          <p:nvPr/>
        </p:nvSpPr>
        <p:spPr>
          <a:xfrm>
            <a:off x="4857840" y="3129120"/>
            <a:ext cx="856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Golden Rec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ole tekstowe 71"/>
          <p:cNvSpPr/>
          <p:nvPr/>
        </p:nvSpPr>
        <p:spPr>
          <a:xfrm>
            <a:off x="164304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72"/>
          <p:cNvSpPr/>
          <p:nvPr/>
        </p:nvSpPr>
        <p:spPr>
          <a:xfrm>
            <a:off x="542916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ole tekstowe 73"/>
          <p:cNvSpPr/>
          <p:nvPr/>
        </p:nvSpPr>
        <p:spPr>
          <a:xfrm>
            <a:off x="350028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ole tekstowe 74"/>
          <p:cNvSpPr/>
          <p:nvPr/>
        </p:nvSpPr>
        <p:spPr>
          <a:xfrm>
            <a:off x="7643880" y="3310200"/>
            <a:ext cx="642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05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75"/>
          <p:cNvSpPr/>
          <p:nvPr/>
        </p:nvSpPr>
        <p:spPr>
          <a:xfrm>
            <a:off x="4500720" y="2571840"/>
            <a:ext cx="1142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Questiona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załka w prawo 77"/>
          <p:cNvSpPr/>
          <p:nvPr/>
        </p:nvSpPr>
        <p:spPr>
          <a:xfrm>
            <a:off x="1527120" y="5214960"/>
            <a:ext cx="57132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71" name="Chmurka 78"/>
          <p:cNvSpPr/>
          <p:nvPr/>
        </p:nvSpPr>
        <p:spPr>
          <a:xfrm>
            <a:off x="3071880" y="1214280"/>
            <a:ext cx="2714400" cy="1285560"/>
          </a:xfrm>
          <a:prstGeom prst="cloud">
            <a:avLst/>
          </a:prstGeom>
          <a:solidFill>
            <a:srgbClr val="ff0000">
              <a:alpha val="29000"/>
            </a:srgb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" name="Diagram11"/>
          <p:cNvGraphicFramePr/>
          <p:nvPr>
            <p:extLst>
              <p:ext uri="{D42A27DB-BD31-4B8C-83A1-F6EECF244321}">
                <p14:modId xmlns:p14="http://schemas.microsoft.com/office/powerpoint/2010/main" val="1150280998"/>
              </p:ext>
            </p:extLst>
          </p:nvPr>
        </p:nvGraphicFramePr>
        <p:xfrm>
          <a:off x="171360" y="2643120"/>
          <a:ext cx="6329160" cy="3642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CAxI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ldNum" idx="34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900118-6089-4FA0-A3DE-BBB50A01F6CE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52" descr="C:\Documents and Settings\drudzinski\Moje dokumenty\Moje obrazy\Microsoft Clip Organizer\j0236386.gif"/>
          <p:cNvPicPr/>
          <p:nvPr/>
        </p:nvPicPr>
        <p:blipFill>
          <a:blip r:embed="rId5"/>
          <a:stretch/>
        </p:blipFill>
        <p:spPr>
          <a:xfrm>
            <a:off x="3467160" y="1428840"/>
            <a:ext cx="642600" cy="779040"/>
          </a:xfrm>
          <a:prstGeom prst="rect">
            <a:avLst/>
          </a:prstGeom>
          <a:ln w="9525">
            <a:noFill/>
          </a:ln>
        </p:spPr>
      </p:pic>
      <p:pic>
        <p:nvPicPr>
          <p:cNvPr id="575" name="Picture 50" descr="C:\Documents and Settings\drudzinski\Moje dokumenty\Moje obrazy\Microsoft Clip Organizer\j0441340.png"/>
          <p:cNvPicPr/>
          <p:nvPr/>
        </p:nvPicPr>
        <p:blipFill>
          <a:blip r:embed="rId6"/>
          <a:stretch/>
        </p:blipFill>
        <p:spPr>
          <a:xfrm>
            <a:off x="4038480" y="1428840"/>
            <a:ext cx="785520" cy="785520"/>
          </a:xfrm>
          <a:prstGeom prst="rect">
            <a:avLst/>
          </a:prstGeom>
          <a:ln w="9525">
            <a:noFill/>
          </a:ln>
        </p:spPr>
      </p:pic>
      <p:pic>
        <p:nvPicPr>
          <p:cNvPr id="576" name="Picture 34" descr="C:\Documents and Settings\drudzinski\Moje dokumenty\Moje obrazy\Microsoft Clip Organizer\j0438482.jpg"/>
          <p:cNvPicPr/>
          <p:nvPr/>
        </p:nvPicPr>
        <p:blipFill>
          <a:blip r:embed="rId7"/>
          <a:stretch/>
        </p:blipFill>
        <p:spPr>
          <a:xfrm>
            <a:off x="4753080" y="1643040"/>
            <a:ext cx="642600" cy="430200"/>
          </a:xfrm>
          <a:prstGeom prst="rect">
            <a:avLst/>
          </a:prstGeom>
          <a:ln w="0">
            <a:noFill/>
          </a:ln>
        </p:spPr>
      </p:pic>
      <p:sp>
        <p:nvSpPr>
          <p:cNvPr id="577" name="pole tekstowe 9"/>
          <p:cNvSpPr/>
          <p:nvPr/>
        </p:nvSpPr>
        <p:spPr>
          <a:xfrm>
            <a:off x="4110120" y="2214720"/>
            <a:ext cx="785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CAX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Chmurka 10"/>
          <p:cNvSpPr/>
          <p:nvPr/>
        </p:nvSpPr>
        <p:spPr>
          <a:xfrm>
            <a:off x="3071880" y="1214280"/>
            <a:ext cx="2714400" cy="1285560"/>
          </a:xfrm>
          <a:prstGeom prst="cloud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579" name="Obraz 11" descr="Formular-Unters.jpg"/>
          <p:cNvPicPr/>
          <p:nvPr/>
        </p:nvPicPr>
        <p:blipFill>
          <a:blip r:embed="rId8"/>
          <a:stretch/>
        </p:blipFill>
        <p:spPr>
          <a:xfrm>
            <a:off x="5929200" y="1071720"/>
            <a:ext cx="3071520" cy="2219400"/>
          </a:xfrm>
          <a:prstGeom prst="rect">
            <a:avLst/>
          </a:prstGeom>
          <a:ln w="0">
            <a:noFill/>
          </a:ln>
        </p:spPr>
      </p:pic>
      <p:cxnSp>
        <p:nvCxnSpPr>
          <p:cNvPr id="580" name="Łącznik prosty 13"/>
          <p:cNvCxnSpPr/>
          <p:nvPr/>
        </p:nvCxnSpPr>
        <p:spPr>
          <a:xfrm>
            <a:off x="6072120" y="428400"/>
            <a:ext cx="2857680" cy="3143520"/>
          </a:xfrm>
          <a:prstGeom prst="straightConnector1">
            <a:avLst/>
          </a:prstGeom>
          <a:ln w="76200">
            <a:solidFill>
              <a:srgbClr val="ff0000"/>
            </a:solidFill>
            <a:round/>
          </a:ln>
        </p:spPr>
      </p:cxnSp>
      <p:cxnSp>
        <p:nvCxnSpPr>
          <p:cNvPr id="581" name="Łącznik prosty 14"/>
          <p:cNvCxnSpPr/>
          <p:nvPr/>
        </p:nvCxnSpPr>
        <p:spPr>
          <a:xfrm flipV="1">
            <a:off x="5929200" y="357120"/>
            <a:ext cx="2857680" cy="3143520"/>
          </a:xfrm>
          <a:prstGeom prst="straightConnector1">
            <a:avLst/>
          </a:prstGeom>
          <a:ln w="76200">
            <a:solidFill>
              <a:srgbClr val="ff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" name="Diagram12"/>
          <p:cNvGraphicFramePr/>
          <p:nvPr>
            <p:extLst>
              <p:ext uri="{D42A27DB-BD31-4B8C-83A1-F6EECF244321}">
                <p14:modId xmlns:p14="http://schemas.microsoft.com/office/powerpoint/2010/main" val="1335959802"/>
              </p:ext>
            </p:extLst>
          </p:nvPr>
        </p:nvGraphicFramePr>
        <p:xfrm>
          <a:off x="457200" y="1428840"/>
          <a:ext cx="8229240" cy="469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nsus Quality – 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llection by electronic questionare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ldNum" idx="35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BD85C9-3911-4990-84F4-C703DCA3CEA1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" name="Diagram13"/>
          <p:cNvGraphicFramePr/>
          <p:nvPr>
            <p:extLst>
              <p:ext uri="{D42A27DB-BD31-4B8C-83A1-F6EECF244321}">
                <p14:modId xmlns:p14="http://schemas.microsoft.com/office/powerpoint/2010/main" val="2274652304"/>
              </p:ext>
            </p:extLst>
          </p:nvPr>
        </p:nvGraphicFramePr>
        <p:xfrm>
          <a:off x="457200" y="1428840"/>
          <a:ext cx="8229240" cy="469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nsus Quality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ldNum" idx="36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ECD9BA-2FCB-4300-9652-FF93FD0E0669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pl-PL" sz="4000" spc="-1" strike="noStrike" cap="all">
                <a:solidFill>
                  <a:srgbClr val="000000"/>
                </a:solidFill>
                <a:latin typeface="Verdana"/>
              </a:rPr>
              <a:t>Golden Record,</a:t>
            </a:r>
            <a:br>
              <a:rPr sz="4000"/>
            </a:br>
            <a:endParaRPr b="0" lang="pl-P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pl-PL" sz="2000" spc="-1" strike="noStrike">
              <a:solidFill>
                <a:srgbClr val="8b8b8b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Num" idx="37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11D509-19EE-462B-8E91-2ADBAFAB9CF6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rostokąt 35"/>
          <p:cNvSpPr/>
          <p:nvPr/>
        </p:nvSpPr>
        <p:spPr>
          <a:xfrm>
            <a:off x="285840" y="1428840"/>
            <a:ext cx="8715240" cy="50716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Num" idx="38"/>
          </p:nvPr>
        </p:nvSpPr>
        <p:spPr>
          <a:xfrm>
            <a:off x="796752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CA196F-04AD-467C-81EB-EA8CAB1CAD91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42"/>
          <p:cNvSpPr/>
          <p:nvPr/>
        </p:nvSpPr>
        <p:spPr>
          <a:xfrm>
            <a:off x="861840" y="197496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3"/>
          <p:cNvSpPr/>
          <p:nvPr/>
        </p:nvSpPr>
        <p:spPr>
          <a:xfrm>
            <a:off x="861840" y="252900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T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5"/>
          <p:cNvSpPr/>
          <p:nvPr/>
        </p:nvSpPr>
        <p:spPr>
          <a:xfrm>
            <a:off x="223920" y="210996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1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7"/>
          <p:cNvSpPr/>
          <p:nvPr/>
        </p:nvSpPr>
        <p:spPr>
          <a:xfrm>
            <a:off x="2109600" y="5002200"/>
            <a:ext cx="4571640" cy="998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etadata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0"/>
          <p:cNvSpPr/>
          <p:nvPr/>
        </p:nvSpPr>
        <p:spPr>
          <a:xfrm>
            <a:off x="3895560" y="2900520"/>
            <a:ext cx="980640" cy="1409400"/>
          </a:xfrm>
          <a:prstGeom prst="can">
            <a:avLst>
              <a:gd name="adj" fmla="val 35922"/>
            </a:avLst>
          </a:prstGeom>
          <a:solidFill>
            <a:srgbClr val="ff0000"/>
          </a:soli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Operational Microdata Bas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54"/>
          <p:cNvSpPr/>
          <p:nvPr/>
        </p:nvSpPr>
        <p:spPr>
          <a:xfrm>
            <a:off x="214200" y="278604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55"/>
          <p:cNvSpPr/>
          <p:nvPr/>
        </p:nvSpPr>
        <p:spPr>
          <a:xfrm>
            <a:off x="214200" y="345600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n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AutoShape 56"/>
          <p:cNvCxnSpPr/>
          <p:nvPr/>
        </p:nvCxnSpPr>
        <p:spPr>
          <a:xfrm>
            <a:off x="966600" y="232884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599" name="AutoShape 57"/>
          <p:cNvCxnSpPr/>
          <p:nvPr/>
        </p:nvCxnSpPr>
        <p:spPr>
          <a:xfrm>
            <a:off x="966600" y="299556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600" name="AutoShape 59"/>
          <p:cNvCxnSpPr/>
          <p:nvPr/>
        </p:nvCxnSpPr>
        <p:spPr>
          <a:xfrm>
            <a:off x="966600" y="369072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601" name="AutoShape 60"/>
          <p:cNvCxnSpPr/>
          <p:nvPr/>
        </p:nvCxnSpPr>
        <p:spPr>
          <a:xfrm>
            <a:off x="975960" y="551016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602" name="AutoShape 61"/>
          <p:cNvCxnSpPr/>
          <p:nvPr/>
        </p:nvCxnSpPr>
        <p:spPr>
          <a:xfrm>
            <a:off x="1233360" y="2328840"/>
            <a:ext cx="360" cy="318168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603" name="AutoShape 68"/>
          <p:cNvCxnSpPr/>
          <p:nvPr/>
        </p:nvCxnSpPr>
        <p:spPr>
          <a:xfrm>
            <a:off x="2685960" y="3595680"/>
            <a:ext cx="12420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  <a:tailEnd len="med" type="triangle" w="med"/>
          </a:ln>
        </p:spPr>
      </p:cxnSp>
      <p:sp>
        <p:nvSpPr>
          <p:cNvPr id="604" name="AutoShape 82"/>
          <p:cNvSpPr/>
          <p:nvPr/>
        </p:nvSpPr>
        <p:spPr>
          <a:xfrm>
            <a:off x="573408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Analitycal</a:t>
            </a:r>
            <a:br>
              <a:rPr sz="1050"/>
            </a:b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Microdata Bas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52" descr="C:\Documents and Settings\drudzinski\Moje dokumenty\Moje obrazy\Microsoft Clip Organizer\j0236386.gif"/>
          <p:cNvPicPr/>
          <p:nvPr/>
        </p:nvPicPr>
        <p:blipFill>
          <a:blip r:embed="rId1"/>
          <a:stretch/>
        </p:blipFill>
        <p:spPr>
          <a:xfrm>
            <a:off x="252360" y="5195880"/>
            <a:ext cx="590040" cy="715680"/>
          </a:xfrm>
          <a:prstGeom prst="rect">
            <a:avLst/>
          </a:prstGeom>
          <a:ln w="9525">
            <a:noFill/>
          </a:ln>
        </p:spPr>
      </p:pic>
      <p:sp>
        <p:nvSpPr>
          <p:cNvPr id="606" name="AutoShape 50"/>
          <p:cNvSpPr/>
          <p:nvPr/>
        </p:nvSpPr>
        <p:spPr>
          <a:xfrm>
            <a:off x="203832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ETL </a:t>
            </a:r>
            <a:br>
              <a:rPr sz="1050"/>
            </a:b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załka w prawo 54"/>
          <p:cNvSpPr/>
          <p:nvPr/>
        </p:nvSpPr>
        <p:spPr>
          <a:xfrm>
            <a:off x="1252440" y="3562200"/>
            <a:ext cx="78552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08" name="Strzałka w prawo 55"/>
          <p:cNvSpPr/>
          <p:nvPr/>
        </p:nvSpPr>
        <p:spPr>
          <a:xfrm>
            <a:off x="3038400" y="3552840"/>
            <a:ext cx="8568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09" name="Strzałka w prawo 56"/>
          <p:cNvSpPr/>
          <p:nvPr/>
        </p:nvSpPr>
        <p:spPr>
          <a:xfrm>
            <a:off x="4896000" y="3527640"/>
            <a:ext cx="8190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10" name="Strzałka w górę i w dół 57"/>
          <p:cNvSpPr/>
          <p:nvPr/>
        </p:nvSpPr>
        <p:spPr>
          <a:xfrm>
            <a:off x="4243320" y="2500200"/>
            <a:ext cx="285480" cy="5806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611" name="Picture 52" descr="C:\Documents and Settings\drudzinski\Moje dokumenty\Moje obrazy\Microsoft Clip Organizer\j0236386.gif"/>
          <p:cNvPicPr/>
          <p:nvPr/>
        </p:nvPicPr>
        <p:blipFill>
          <a:blip r:embed="rId2"/>
          <a:stretch/>
        </p:blipFill>
        <p:spPr>
          <a:xfrm>
            <a:off x="3467160" y="1428840"/>
            <a:ext cx="642600" cy="779040"/>
          </a:xfrm>
          <a:prstGeom prst="rect">
            <a:avLst/>
          </a:prstGeom>
          <a:ln w="9525">
            <a:noFill/>
          </a:ln>
        </p:spPr>
      </p:pic>
      <p:sp>
        <p:nvSpPr>
          <p:cNvPr id="612" name="Strzałka w górę i w dół 59"/>
          <p:cNvSpPr/>
          <p:nvPr/>
        </p:nvSpPr>
        <p:spPr>
          <a:xfrm>
            <a:off x="239544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13" name="Strzałka w górę i w dół 60"/>
          <p:cNvSpPr/>
          <p:nvPr/>
        </p:nvSpPr>
        <p:spPr>
          <a:xfrm>
            <a:off x="425304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14" name="Strzałka w górę i w dół 61"/>
          <p:cNvSpPr/>
          <p:nvPr/>
        </p:nvSpPr>
        <p:spPr>
          <a:xfrm>
            <a:off x="614376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15" name="pole tekstowe 62"/>
          <p:cNvSpPr/>
          <p:nvPr/>
        </p:nvSpPr>
        <p:spPr>
          <a:xfrm>
            <a:off x="324000" y="5981760"/>
            <a:ext cx="642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49" descr="C:\Documents and Settings\drudzinski\Moje dokumenty\Moje obrazy\Microsoft Clip Organizer\j0431616.png"/>
          <p:cNvPicPr/>
          <p:nvPr/>
        </p:nvPicPr>
        <p:blipFill>
          <a:blip r:embed="rId3"/>
          <a:stretch/>
        </p:blipFill>
        <p:spPr>
          <a:xfrm>
            <a:off x="273348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617" name="Picture 50" descr="C:\Documents and Settings\drudzinski\Moje dokumenty\Moje obrazy\Microsoft Clip Organizer\j0441340.png"/>
          <p:cNvPicPr/>
          <p:nvPr/>
        </p:nvPicPr>
        <p:blipFill>
          <a:blip r:embed="rId4"/>
          <a:stretch/>
        </p:blipFill>
        <p:spPr>
          <a:xfrm>
            <a:off x="4038480" y="1428840"/>
            <a:ext cx="785520" cy="785520"/>
          </a:xfrm>
          <a:prstGeom prst="rect">
            <a:avLst/>
          </a:prstGeom>
          <a:ln w="9525">
            <a:noFill/>
          </a:ln>
        </p:spPr>
      </p:pic>
      <p:pic>
        <p:nvPicPr>
          <p:cNvPr id="618" name="Picture 49" descr="C:\Documents and Settings\drudzinski\Moje dokumenty\Moje obrazy\Microsoft Clip Organizer\j0431616.png"/>
          <p:cNvPicPr/>
          <p:nvPr/>
        </p:nvPicPr>
        <p:blipFill>
          <a:blip r:embed="rId5"/>
          <a:stretch/>
        </p:blipFill>
        <p:spPr>
          <a:xfrm>
            <a:off x="466236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619" name="Picture 49" descr="C:\Documents and Settings\drudzinski\Moje dokumenty\Moje obrazy\Microsoft Clip Organizer\j0431616.png"/>
          <p:cNvPicPr/>
          <p:nvPr/>
        </p:nvPicPr>
        <p:blipFill>
          <a:blip r:embed="rId6"/>
          <a:stretch/>
        </p:blipFill>
        <p:spPr>
          <a:xfrm>
            <a:off x="648180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620" name="Picture 49" descr="C:\Documents and Settings\drudzinski\Moje dokumenty\Moje obrazy\Microsoft Clip Organizer\j0431616.png"/>
          <p:cNvPicPr/>
          <p:nvPr/>
        </p:nvPicPr>
        <p:blipFill>
          <a:blip r:embed="rId7"/>
          <a:stretch/>
        </p:blipFill>
        <p:spPr>
          <a:xfrm>
            <a:off x="5896080" y="555300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621" name="Picture 34" descr="C:\Documents and Settings\drudzinski\Moje dokumenty\Moje obrazy\Microsoft Clip Organizer\j0438482.jpg"/>
          <p:cNvPicPr/>
          <p:nvPr/>
        </p:nvPicPr>
        <p:blipFill>
          <a:blip r:embed="rId8"/>
          <a:stretch/>
        </p:blipFill>
        <p:spPr>
          <a:xfrm>
            <a:off x="4753080" y="1643040"/>
            <a:ext cx="642600" cy="430200"/>
          </a:xfrm>
          <a:prstGeom prst="rect">
            <a:avLst/>
          </a:prstGeom>
          <a:ln w="0">
            <a:noFill/>
          </a:ln>
        </p:spPr>
      </p:pic>
      <p:sp>
        <p:nvSpPr>
          <p:cNvPr id="622" name="pole tekstowe 34"/>
          <p:cNvSpPr/>
          <p:nvPr/>
        </p:nvSpPr>
        <p:spPr>
          <a:xfrm>
            <a:off x="4110120" y="2214720"/>
            <a:ext cx="785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CAX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title"/>
          </p:nvPr>
        </p:nvSpPr>
        <p:spPr>
          <a:xfrm>
            <a:off x="1403640" y="1886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Golden Record generation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1" descr=""/>
          <p:cNvPicPr/>
          <p:nvPr/>
        </p:nvPicPr>
        <p:blipFill>
          <a:blip r:embed="rId9"/>
          <a:stretch/>
        </p:blipFill>
        <p:spPr>
          <a:xfrm>
            <a:off x="8286840" y="2000160"/>
            <a:ext cx="713880" cy="713880"/>
          </a:xfrm>
          <a:prstGeom prst="rect">
            <a:avLst/>
          </a:prstGeom>
          <a:ln w="9525">
            <a:noFill/>
          </a:ln>
        </p:spPr>
      </p:pic>
      <p:pic>
        <p:nvPicPr>
          <p:cNvPr id="625" name="Picture 3" descr=""/>
          <p:cNvPicPr/>
          <p:nvPr/>
        </p:nvPicPr>
        <p:blipFill>
          <a:blip r:embed="rId10"/>
          <a:stretch/>
        </p:blipFill>
        <p:spPr>
          <a:xfrm>
            <a:off x="8177400" y="3309840"/>
            <a:ext cx="810000" cy="537840"/>
          </a:xfrm>
          <a:prstGeom prst="rect">
            <a:avLst/>
          </a:prstGeom>
          <a:ln w="9525">
            <a:noFill/>
          </a:ln>
        </p:spPr>
      </p:pic>
      <p:pic>
        <p:nvPicPr>
          <p:cNvPr id="626" name="Picture 4" descr=""/>
          <p:cNvPicPr/>
          <p:nvPr/>
        </p:nvPicPr>
        <p:blipFill>
          <a:blip r:embed="rId11"/>
          <a:stretch/>
        </p:blipFill>
        <p:spPr>
          <a:xfrm>
            <a:off x="8286840" y="4187880"/>
            <a:ext cx="799920" cy="812520"/>
          </a:xfrm>
          <a:prstGeom prst="rect">
            <a:avLst/>
          </a:prstGeom>
          <a:ln w="9525">
            <a:noFill/>
          </a:ln>
        </p:spPr>
      </p:pic>
      <p:sp>
        <p:nvSpPr>
          <p:cNvPr id="627" name="Chmurka 41"/>
          <p:cNvSpPr/>
          <p:nvPr/>
        </p:nvSpPr>
        <p:spPr>
          <a:xfrm>
            <a:off x="7000920" y="3395520"/>
            <a:ext cx="713880" cy="428400"/>
          </a:xfrm>
          <a:prstGeom prst="cloud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cxnSp>
        <p:nvCxnSpPr>
          <p:cNvPr id="628" name="Łącznik prosty 48"/>
          <p:cNvCxnSpPr/>
          <p:nvPr/>
        </p:nvCxnSpPr>
        <p:spPr>
          <a:xfrm flipV="1">
            <a:off x="7572240" y="2571480"/>
            <a:ext cx="643320" cy="7862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629" name="Łącznik prosty 51"/>
          <p:cNvCxnSpPr/>
          <p:nvPr/>
        </p:nvCxnSpPr>
        <p:spPr>
          <a:xfrm>
            <a:off x="7715160" y="3571560"/>
            <a:ext cx="428760" cy="21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630" name="Łącznik prosty 62"/>
          <p:cNvCxnSpPr/>
          <p:nvPr/>
        </p:nvCxnSpPr>
        <p:spPr>
          <a:xfrm>
            <a:off x="7572240" y="3786120"/>
            <a:ext cx="714600" cy="5065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631" name="Łącznik prosty 65"/>
          <p:cNvCxnSpPr>
            <a:stCxn id="604" idx="1"/>
            <a:endCxn id="627" idx="2"/>
          </p:cNvCxnSpPr>
          <p:nvPr/>
        </p:nvCxnSpPr>
        <p:spPr>
          <a:xfrm>
            <a:off x="6715080" y="3605040"/>
            <a:ext cx="288360" cy="50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632" name="Text Box 42"/>
          <p:cNvSpPr/>
          <p:nvPr/>
        </p:nvSpPr>
        <p:spPr>
          <a:xfrm>
            <a:off x="971640" y="500076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ole tekstowe 68"/>
          <p:cNvSpPr/>
          <p:nvPr/>
        </p:nvSpPr>
        <p:spPr>
          <a:xfrm>
            <a:off x="1285920" y="3335400"/>
            <a:ext cx="713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ole tekstowe 69"/>
          <p:cNvSpPr/>
          <p:nvPr/>
        </p:nvSpPr>
        <p:spPr>
          <a:xfrm>
            <a:off x="3000240" y="3143160"/>
            <a:ext cx="856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Statistical 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ole tekstowe 70"/>
          <p:cNvSpPr/>
          <p:nvPr/>
        </p:nvSpPr>
        <p:spPr>
          <a:xfrm>
            <a:off x="4857840" y="3129120"/>
            <a:ext cx="856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Golden Rec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ole tekstowe 71"/>
          <p:cNvSpPr/>
          <p:nvPr/>
        </p:nvSpPr>
        <p:spPr>
          <a:xfrm>
            <a:off x="164304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ole tekstowe 72"/>
          <p:cNvSpPr/>
          <p:nvPr/>
        </p:nvSpPr>
        <p:spPr>
          <a:xfrm>
            <a:off x="542916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ole tekstowe 73"/>
          <p:cNvSpPr/>
          <p:nvPr/>
        </p:nvSpPr>
        <p:spPr>
          <a:xfrm>
            <a:off x="350028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ole tekstowe 74"/>
          <p:cNvSpPr/>
          <p:nvPr/>
        </p:nvSpPr>
        <p:spPr>
          <a:xfrm>
            <a:off x="7643880" y="3310200"/>
            <a:ext cx="642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05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ole tekstowe 75"/>
          <p:cNvSpPr/>
          <p:nvPr/>
        </p:nvSpPr>
        <p:spPr>
          <a:xfrm>
            <a:off x="4500720" y="2571840"/>
            <a:ext cx="1142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Questiona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załka w prawo 77"/>
          <p:cNvSpPr/>
          <p:nvPr/>
        </p:nvSpPr>
        <p:spPr>
          <a:xfrm>
            <a:off x="1527120" y="5214960"/>
            <a:ext cx="57132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42" name="Chmurka 78"/>
          <p:cNvSpPr/>
          <p:nvPr/>
        </p:nvSpPr>
        <p:spPr>
          <a:xfrm>
            <a:off x="3071880" y="1214280"/>
            <a:ext cx="2714400" cy="1285560"/>
          </a:xfrm>
          <a:prstGeom prst="cloud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rostokąt 35"/>
          <p:cNvSpPr/>
          <p:nvPr/>
        </p:nvSpPr>
        <p:spPr>
          <a:xfrm>
            <a:off x="285840" y="1428840"/>
            <a:ext cx="8715240" cy="50716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Num" idx="39"/>
          </p:nvPr>
        </p:nvSpPr>
        <p:spPr>
          <a:xfrm>
            <a:off x="796752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ECF799-9A06-4193-A42E-6F6D069B8BAE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42"/>
          <p:cNvSpPr/>
          <p:nvPr/>
        </p:nvSpPr>
        <p:spPr>
          <a:xfrm>
            <a:off x="861840" y="197496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3"/>
          <p:cNvSpPr/>
          <p:nvPr/>
        </p:nvSpPr>
        <p:spPr>
          <a:xfrm>
            <a:off x="861840" y="252900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T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45"/>
          <p:cNvSpPr/>
          <p:nvPr/>
        </p:nvSpPr>
        <p:spPr>
          <a:xfrm>
            <a:off x="223920" y="210996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1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47"/>
          <p:cNvSpPr/>
          <p:nvPr/>
        </p:nvSpPr>
        <p:spPr>
          <a:xfrm>
            <a:off x="2109600" y="5002200"/>
            <a:ext cx="4571640" cy="998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etadata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50"/>
          <p:cNvSpPr/>
          <p:nvPr/>
        </p:nvSpPr>
        <p:spPr>
          <a:xfrm>
            <a:off x="389556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Operational Microdata Bas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54"/>
          <p:cNvSpPr/>
          <p:nvPr/>
        </p:nvSpPr>
        <p:spPr>
          <a:xfrm>
            <a:off x="214200" y="278604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55"/>
          <p:cNvSpPr/>
          <p:nvPr/>
        </p:nvSpPr>
        <p:spPr>
          <a:xfrm>
            <a:off x="214200" y="345600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n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2" name="AutoShape 56"/>
          <p:cNvCxnSpPr/>
          <p:nvPr/>
        </p:nvCxnSpPr>
        <p:spPr>
          <a:xfrm>
            <a:off x="966600" y="232884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653" name="AutoShape 57"/>
          <p:cNvCxnSpPr/>
          <p:nvPr/>
        </p:nvCxnSpPr>
        <p:spPr>
          <a:xfrm>
            <a:off x="966600" y="299556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654" name="AutoShape 59"/>
          <p:cNvCxnSpPr/>
          <p:nvPr/>
        </p:nvCxnSpPr>
        <p:spPr>
          <a:xfrm>
            <a:off x="966600" y="369072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655" name="AutoShape 60"/>
          <p:cNvCxnSpPr/>
          <p:nvPr/>
        </p:nvCxnSpPr>
        <p:spPr>
          <a:xfrm>
            <a:off x="975960" y="551016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656" name="AutoShape 61"/>
          <p:cNvCxnSpPr/>
          <p:nvPr/>
        </p:nvCxnSpPr>
        <p:spPr>
          <a:xfrm>
            <a:off x="1233360" y="2328840"/>
            <a:ext cx="360" cy="318168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657" name="AutoShape 68"/>
          <p:cNvCxnSpPr/>
          <p:nvPr/>
        </p:nvCxnSpPr>
        <p:spPr>
          <a:xfrm>
            <a:off x="2685960" y="3595680"/>
            <a:ext cx="12420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  <a:tailEnd len="med" type="triangle" w="med"/>
          </a:ln>
        </p:spPr>
      </p:cxnSp>
      <p:sp>
        <p:nvSpPr>
          <p:cNvPr id="658" name="AutoShape 82"/>
          <p:cNvSpPr/>
          <p:nvPr/>
        </p:nvSpPr>
        <p:spPr>
          <a:xfrm>
            <a:off x="5734080" y="2900520"/>
            <a:ext cx="980640" cy="1409400"/>
          </a:xfrm>
          <a:prstGeom prst="can">
            <a:avLst>
              <a:gd name="adj" fmla="val 35922"/>
            </a:avLst>
          </a:prstGeom>
          <a:solidFill>
            <a:srgbClr val="ff0000"/>
          </a:soli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Analitycal</a:t>
            </a:r>
            <a:br>
              <a:rPr sz="1050"/>
            </a:b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Microdata Bas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52" descr="C:\Documents and Settings\drudzinski\Moje dokumenty\Moje obrazy\Microsoft Clip Organizer\j0236386.gif"/>
          <p:cNvPicPr/>
          <p:nvPr/>
        </p:nvPicPr>
        <p:blipFill>
          <a:blip r:embed="rId1"/>
          <a:stretch/>
        </p:blipFill>
        <p:spPr>
          <a:xfrm>
            <a:off x="252360" y="5195880"/>
            <a:ext cx="590040" cy="715680"/>
          </a:xfrm>
          <a:prstGeom prst="rect">
            <a:avLst/>
          </a:prstGeom>
          <a:ln w="9525">
            <a:noFill/>
          </a:ln>
        </p:spPr>
      </p:pic>
      <p:sp>
        <p:nvSpPr>
          <p:cNvPr id="660" name="AutoShape 50"/>
          <p:cNvSpPr/>
          <p:nvPr/>
        </p:nvSpPr>
        <p:spPr>
          <a:xfrm>
            <a:off x="203832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ETL </a:t>
            </a:r>
            <a:br>
              <a:rPr sz="1050"/>
            </a:b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załka w prawo 54"/>
          <p:cNvSpPr/>
          <p:nvPr/>
        </p:nvSpPr>
        <p:spPr>
          <a:xfrm>
            <a:off x="1252440" y="3562200"/>
            <a:ext cx="78552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62" name="Strzałka w prawo 55"/>
          <p:cNvSpPr/>
          <p:nvPr/>
        </p:nvSpPr>
        <p:spPr>
          <a:xfrm>
            <a:off x="3038400" y="3552840"/>
            <a:ext cx="8568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63" name="Strzałka w prawo 56"/>
          <p:cNvSpPr/>
          <p:nvPr/>
        </p:nvSpPr>
        <p:spPr>
          <a:xfrm>
            <a:off x="4896000" y="3527640"/>
            <a:ext cx="8190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64" name="Strzałka w górę i w dół 57"/>
          <p:cNvSpPr/>
          <p:nvPr/>
        </p:nvSpPr>
        <p:spPr>
          <a:xfrm>
            <a:off x="4243320" y="2500200"/>
            <a:ext cx="285480" cy="5806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665" name="Picture 52" descr="C:\Documents and Settings\drudzinski\Moje dokumenty\Moje obrazy\Microsoft Clip Organizer\j0236386.gif"/>
          <p:cNvPicPr/>
          <p:nvPr/>
        </p:nvPicPr>
        <p:blipFill>
          <a:blip r:embed="rId2"/>
          <a:stretch/>
        </p:blipFill>
        <p:spPr>
          <a:xfrm>
            <a:off x="3467160" y="1428840"/>
            <a:ext cx="642600" cy="779040"/>
          </a:xfrm>
          <a:prstGeom prst="rect">
            <a:avLst/>
          </a:prstGeom>
          <a:ln w="9525">
            <a:noFill/>
          </a:ln>
        </p:spPr>
      </p:pic>
      <p:sp>
        <p:nvSpPr>
          <p:cNvPr id="666" name="Strzałka w górę i w dół 59"/>
          <p:cNvSpPr/>
          <p:nvPr/>
        </p:nvSpPr>
        <p:spPr>
          <a:xfrm>
            <a:off x="239544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67" name="Strzałka w górę i w dół 60"/>
          <p:cNvSpPr/>
          <p:nvPr/>
        </p:nvSpPr>
        <p:spPr>
          <a:xfrm>
            <a:off x="425304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68" name="Strzałka w górę i w dół 61"/>
          <p:cNvSpPr/>
          <p:nvPr/>
        </p:nvSpPr>
        <p:spPr>
          <a:xfrm>
            <a:off x="614376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69" name="pole tekstowe 62"/>
          <p:cNvSpPr/>
          <p:nvPr/>
        </p:nvSpPr>
        <p:spPr>
          <a:xfrm>
            <a:off x="324000" y="5981760"/>
            <a:ext cx="642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49" descr="C:\Documents and Settings\drudzinski\Moje dokumenty\Moje obrazy\Microsoft Clip Organizer\j0431616.png"/>
          <p:cNvPicPr/>
          <p:nvPr/>
        </p:nvPicPr>
        <p:blipFill>
          <a:blip r:embed="rId3"/>
          <a:stretch/>
        </p:blipFill>
        <p:spPr>
          <a:xfrm>
            <a:off x="273348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671" name="Picture 50" descr="C:\Documents and Settings\drudzinski\Moje dokumenty\Moje obrazy\Microsoft Clip Organizer\j0441340.png"/>
          <p:cNvPicPr/>
          <p:nvPr/>
        </p:nvPicPr>
        <p:blipFill>
          <a:blip r:embed="rId4"/>
          <a:stretch/>
        </p:blipFill>
        <p:spPr>
          <a:xfrm>
            <a:off x="4038480" y="1428840"/>
            <a:ext cx="785520" cy="785520"/>
          </a:xfrm>
          <a:prstGeom prst="rect">
            <a:avLst/>
          </a:prstGeom>
          <a:ln w="9525">
            <a:noFill/>
          </a:ln>
        </p:spPr>
      </p:pic>
      <p:pic>
        <p:nvPicPr>
          <p:cNvPr id="672" name="Picture 49" descr="C:\Documents and Settings\drudzinski\Moje dokumenty\Moje obrazy\Microsoft Clip Organizer\j0431616.png"/>
          <p:cNvPicPr/>
          <p:nvPr/>
        </p:nvPicPr>
        <p:blipFill>
          <a:blip r:embed="rId5"/>
          <a:stretch/>
        </p:blipFill>
        <p:spPr>
          <a:xfrm>
            <a:off x="466236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673" name="Picture 49" descr="C:\Documents and Settings\drudzinski\Moje dokumenty\Moje obrazy\Microsoft Clip Organizer\j0431616.png"/>
          <p:cNvPicPr/>
          <p:nvPr/>
        </p:nvPicPr>
        <p:blipFill>
          <a:blip r:embed="rId6"/>
          <a:stretch/>
        </p:blipFill>
        <p:spPr>
          <a:xfrm>
            <a:off x="648180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674" name="Picture 49" descr="C:\Documents and Settings\drudzinski\Moje dokumenty\Moje obrazy\Microsoft Clip Organizer\j0431616.png"/>
          <p:cNvPicPr/>
          <p:nvPr/>
        </p:nvPicPr>
        <p:blipFill>
          <a:blip r:embed="rId7"/>
          <a:stretch/>
        </p:blipFill>
        <p:spPr>
          <a:xfrm>
            <a:off x="5896080" y="555300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675" name="Picture 34" descr="C:\Documents and Settings\drudzinski\Moje dokumenty\Moje obrazy\Microsoft Clip Organizer\j0438482.jpg"/>
          <p:cNvPicPr/>
          <p:nvPr/>
        </p:nvPicPr>
        <p:blipFill>
          <a:blip r:embed="rId8"/>
          <a:stretch/>
        </p:blipFill>
        <p:spPr>
          <a:xfrm>
            <a:off x="4753080" y="1643040"/>
            <a:ext cx="642600" cy="430200"/>
          </a:xfrm>
          <a:prstGeom prst="rect">
            <a:avLst/>
          </a:prstGeom>
          <a:ln w="0">
            <a:noFill/>
          </a:ln>
        </p:spPr>
      </p:pic>
      <p:sp>
        <p:nvSpPr>
          <p:cNvPr id="676" name="pole tekstowe 34"/>
          <p:cNvSpPr/>
          <p:nvPr/>
        </p:nvSpPr>
        <p:spPr>
          <a:xfrm>
            <a:off x="4110120" y="2214720"/>
            <a:ext cx="785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CAX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Export to Analitycal Microdata Base</a:t>
            </a: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1" descr=""/>
          <p:cNvPicPr/>
          <p:nvPr/>
        </p:nvPicPr>
        <p:blipFill>
          <a:blip r:embed="rId9"/>
          <a:stretch/>
        </p:blipFill>
        <p:spPr>
          <a:xfrm>
            <a:off x="8286840" y="2000160"/>
            <a:ext cx="713880" cy="713880"/>
          </a:xfrm>
          <a:prstGeom prst="rect">
            <a:avLst/>
          </a:prstGeom>
          <a:ln w="9525">
            <a:noFill/>
          </a:ln>
        </p:spPr>
      </p:pic>
      <p:pic>
        <p:nvPicPr>
          <p:cNvPr id="679" name="Picture 3" descr=""/>
          <p:cNvPicPr/>
          <p:nvPr/>
        </p:nvPicPr>
        <p:blipFill>
          <a:blip r:embed="rId10"/>
          <a:stretch/>
        </p:blipFill>
        <p:spPr>
          <a:xfrm>
            <a:off x="8177400" y="3309840"/>
            <a:ext cx="810000" cy="537840"/>
          </a:xfrm>
          <a:prstGeom prst="rect">
            <a:avLst/>
          </a:prstGeom>
          <a:ln w="9525">
            <a:noFill/>
          </a:ln>
        </p:spPr>
      </p:pic>
      <p:pic>
        <p:nvPicPr>
          <p:cNvPr id="680" name="Picture 4" descr=""/>
          <p:cNvPicPr/>
          <p:nvPr/>
        </p:nvPicPr>
        <p:blipFill>
          <a:blip r:embed="rId11"/>
          <a:stretch/>
        </p:blipFill>
        <p:spPr>
          <a:xfrm>
            <a:off x="8286840" y="4187880"/>
            <a:ext cx="799920" cy="812520"/>
          </a:xfrm>
          <a:prstGeom prst="rect">
            <a:avLst/>
          </a:prstGeom>
          <a:ln w="9525">
            <a:noFill/>
          </a:ln>
        </p:spPr>
      </p:pic>
      <p:sp>
        <p:nvSpPr>
          <p:cNvPr id="681" name="Chmurka 41"/>
          <p:cNvSpPr/>
          <p:nvPr/>
        </p:nvSpPr>
        <p:spPr>
          <a:xfrm>
            <a:off x="7000920" y="3395520"/>
            <a:ext cx="713880" cy="428400"/>
          </a:xfrm>
          <a:prstGeom prst="cloud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cxnSp>
        <p:nvCxnSpPr>
          <p:cNvPr id="682" name="Łącznik prosty 48"/>
          <p:cNvCxnSpPr/>
          <p:nvPr/>
        </p:nvCxnSpPr>
        <p:spPr>
          <a:xfrm flipV="1">
            <a:off x="7572240" y="2571480"/>
            <a:ext cx="643320" cy="7862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683" name="Łącznik prosty 51"/>
          <p:cNvCxnSpPr/>
          <p:nvPr/>
        </p:nvCxnSpPr>
        <p:spPr>
          <a:xfrm>
            <a:off x="7715160" y="3571560"/>
            <a:ext cx="428760" cy="21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684" name="Łącznik prosty 62"/>
          <p:cNvCxnSpPr/>
          <p:nvPr/>
        </p:nvCxnSpPr>
        <p:spPr>
          <a:xfrm>
            <a:off x="7572240" y="3786120"/>
            <a:ext cx="714600" cy="5065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685" name="Łącznik prosty 65"/>
          <p:cNvCxnSpPr>
            <a:stCxn id="658" idx="1"/>
            <a:endCxn id="681" idx="2"/>
          </p:cNvCxnSpPr>
          <p:nvPr/>
        </p:nvCxnSpPr>
        <p:spPr>
          <a:xfrm>
            <a:off x="6715080" y="3605040"/>
            <a:ext cx="288360" cy="50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686" name="Text Box 42"/>
          <p:cNvSpPr/>
          <p:nvPr/>
        </p:nvSpPr>
        <p:spPr>
          <a:xfrm>
            <a:off x="971640" y="500076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ole tekstowe 68"/>
          <p:cNvSpPr/>
          <p:nvPr/>
        </p:nvSpPr>
        <p:spPr>
          <a:xfrm>
            <a:off x="1285920" y="3335400"/>
            <a:ext cx="713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ole tekstowe 69"/>
          <p:cNvSpPr/>
          <p:nvPr/>
        </p:nvSpPr>
        <p:spPr>
          <a:xfrm>
            <a:off x="3000240" y="3143160"/>
            <a:ext cx="856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Statistical 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ole tekstowe 70"/>
          <p:cNvSpPr/>
          <p:nvPr/>
        </p:nvSpPr>
        <p:spPr>
          <a:xfrm>
            <a:off x="4857840" y="3129120"/>
            <a:ext cx="856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Golden Rec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ole tekstowe 71"/>
          <p:cNvSpPr/>
          <p:nvPr/>
        </p:nvSpPr>
        <p:spPr>
          <a:xfrm>
            <a:off x="164304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ole tekstowe 72"/>
          <p:cNvSpPr/>
          <p:nvPr/>
        </p:nvSpPr>
        <p:spPr>
          <a:xfrm>
            <a:off x="542916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ole tekstowe 73"/>
          <p:cNvSpPr/>
          <p:nvPr/>
        </p:nvSpPr>
        <p:spPr>
          <a:xfrm>
            <a:off x="350028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ole tekstowe 74"/>
          <p:cNvSpPr/>
          <p:nvPr/>
        </p:nvSpPr>
        <p:spPr>
          <a:xfrm>
            <a:off x="7643880" y="3310200"/>
            <a:ext cx="642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05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ole tekstowe 75"/>
          <p:cNvSpPr/>
          <p:nvPr/>
        </p:nvSpPr>
        <p:spPr>
          <a:xfrm>
            <a:off x="4500720" y="2571840"/>
            <a:ext cx="1142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Questiona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trzałka w prawo 77"/>
          <p:cNvSpPr/>
          <p:nvPr/>
        </p:nvSpPr>
        <p:spPr>
          <a:xfrm>
            <a:off x="1527120" y="5214960"/>
            <a:ext cx="57132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96" name="Chmurka 78"/>
          <p:cNvSpPr/>
          <p:nvPr/>
        </p:nvSpPr>
        <p:spPr>
          <a:xfrm>
            <a:off x="3071880" y="1214280"/>
            <a:ext cx="2714400" cy="1285560"/>
          </a:xfrm>
          <a:prstGeom prst="cloud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" name="Diagram14"/>
          <p:cNvGraphicFramePr/>
          <p:nvPr>
            <p:extLst>
              <p:ext uri="{D42A27DB-BD31-4B8C-83A1-F6EECF244321}">
                <p14:modId xmlns:p14="http://schemas.microsoft.com/office/powerpoint/2010/main" val="379179592"/>
              </p:ext>
            </p:extLst>
          </p:nvPr>
        </p:nvGraphicFramePr>
        <p:xfrm>
          <a:off x="1942920" y="1428840"/>
          <a:ext cx="5257440" cy="214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olden Record generation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ldNum" idx="40"/>
          </p:nvPr>
        </p:nvSpPr>
        <p:spPr>
          <a:xfrm>
            <a:off x="8643960" y="627840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DC0259-C9F6-47F8-A3D2-EBF63EE12850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Schemat blokowy: dane 5"/>
          <p:cNvSpPr/>
          <p:nvPr/>
        </p:nvSpPr>
        <p:spPr>
          <a:xfrm>
            <a:off x="3071880" y="3929040"/>
            <a:ext cx="3357360" cy="428400"/>
          </a:xfrm>
          <a:prstGeom prst="flowChartInputOutpu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00" name="Schemat blokowy: dane 6"/>
          <p:cNvSpPr/>
          <p:nvPr/>
        </p:nvSpPr>
        <p:spPr>
          <a:xfrm>
            <a:off x="3071880" y="4071960"/>
            <a:ext cx="3357360" cy="428400"/>
          </a:xfrm>
          <a:prstGeom prst="flowChartInputOutpu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01" name="Schemat blokowy: dane 7"/>
          <p:cNvSpPr/>
          <p:nvPr/>
        </p:nvSpPr>
        <p:spPr>
          <a:xfrm>
            <a:off x="3071880" y="4214880"/>
            <a:ext cx="3357360" cy="428400"/>
          </a:xfrm>
          <a:prstGeom prst="flowChartInputOutpu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02" name="Schemat blokowy: dane 8"/>
          <p:cNvSpPr/>
          <p:nvPr/>
        </p:nvSpPr>
        <p:spPr>
          <a:xfrm>
            <a:off x="3071880" y="4357800"/>
            <a:ext cx="3357360" cy="428400"/>
          </a:xfrm>
          <a:prstGeom prst="flowChartInputOutpu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03" name="Schemat blokowy: dane 9"/>
          <p:cNvSpPr/>
          <p:nvPr/>
        </p:nvSpPr>
        <p:spPr>
          <a:xfrm>
            <a:off x="3071880" y="4500720"/>
            <a:ext cx="3357360" cy="428400"/>
          </a:xfrm>
          <a:prstGeom prst="flowChartInputOutpu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04" name="Schemat blokowy: dane 10"/>
          <p:cNvSpPr/>
          <p:nvPr/>
        </p:nvSpPr>
        <p:spPr>
          <a:xfrm>
            <a:off x="3071880" y="4929120"/>
            <a:ext cx="3357360" cy="428400"/>
          </a:xfrm>
          <a:prstGeom prst="flowChartInputOutpu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05" name="pole tekstowe 11"/>
          <p:cNvSpPr/>
          <p:nvPr/>
        </p:nvSpPr>
        <p:spPr>
          <a:xfrm>
            <a:off x="1214280" y="3987720"/>
            <a:ext cx="1642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gisters 1..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ole tekstowe 12"/>
          <p:cNvSpPr/>
          <p:nvPr/>
        </p:nvSpPr>
        <p:spPr>
          <a:xfrm>
            <a:off x="1214280" y="5000760"/>
            <a:ext cx="1642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Ax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załka w dół 13"/>
          <p:cNvSpPr/>
          <p:nvPr/>
        </p:nvSpPr>
        <p:spPr>
          <a:xfrm>
            <a:off x="4357800" y="5429160"/>
            <a:ext cx="5713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08" name="Schemat blokowy: dane 14"/>
          <p:cNvSpPr/>
          <p:nvPr/>
        </p:nvSpPr>
        <p:spPr>
          <a:xfrm>
            <a:off x="3071880" y="5786280"/>
            <a:ext cx="3357360" cy="428400"/>
          </a:xfrm>
          <a:prstGeom prst="flowChartInputOutput">
            <a:avLst/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09" name="pole tekstowe 16"/>
          <p:cNvSpPr/>
          <p:nvPr/>
        </p:nvSpPr>
        <p:spPr>
          <a:xfrm>
            <a:off x="1214280" y="5715000"/>
            <a:ext cx="1642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olden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Łącznik prosty 15"/>
          <p:cNvCxnSpPr/>
          <p:nvPr/>
        </p:nvCxnSpPr>
        <p:spPr>
          <a:xfrm flipH="1">
            <a:off x="3997080" y="3286080"/>
            <a:ext cx="2160" cy="2573640"/>
          </a:xfrm>
          <a:prstGeom prst="straightConnector1">
            <a:avLst/>
          </a:prstGeom>
          <a:ln>
            <a:solidFill>
              <a:srgbClr val="4a7ebb"/>
            </a:solidFill>
            <a:prstDash val="lgDash"/>
            <a:round/>
          </a:ln>
        </p:spPr>
      </p:cxnSp>
      <p:cxnSp>
        <p:nvCxnSpPr>
          <p:cNvPr id="711" name="Łącznik prosty 16"/>
          <p:cNvCxnSpPr/>
          <p:nvPr/>
        </p:nvCxnSpPr>
        <p:spPr>
          <a:xfrm flipH="1">
            <a:off x="4149720" y="3438360"/>
            <a:ext cx="1800" cy="2573640"/>
          </a:xfrm>
          <a:prstGeom prst="straightConnector1">
            <a:avLst/>
          </a:prstGeom>
          <a:ln>
            <a:solidFill>
              <a:srgbClr val="4a7ebb"/>
            </a:solidFill>
            <a:prstDash val="lgDash"/>
            <a:round/>
          </a:ln>
        </p:spPr>
      </p:cxnSp>
      <p:cxnSp>
        <p:nvCxnSpPr>
          <p:cNvPr id="712" name="Łącznik prosty 17"/>
          <p:cNvCxnSpPr/>
          <p:nvPr/>
        </p:nvCxnSpPr>
        <p:spPr>
          <a:xfrm flipH="1">
            <a:off x="4302000" y="3590640"/>
            <a:ext cx="1800" cy="2573640"/>
          </a:xfrm>
          <a:prstGeom prst="straightConnector1">
            <a:avLst/>
          </a:prstGeom>
          <a:ln>
            <a:solidFill>
              <a:srgbClr val="4a7ebb"/>
            </a:solidFill>
            <a:prstDash val="lgDash"/>
            <a:round/>
          </a:ln>
        </p:spPr>
      </p:cxnSp>
      <p:cxnSp>
        <p:nvCxnSpPr>
          <p:cNvPr id="713" name="Łącznik prosty 18"/>
          <p:cNvCxnSpPr/>
          <p:nvPr/>
        </p:nvCxnSpPr>
        <p:spPr>
          <a:xfrm flipH="1">
            <a:off x="5356080" y="3286080"/>
            <a:ext cx="1800" cy="2571840"/>
          </a:xfrm>
          <a:prstGeom prst="straightConnector1">
            <a:avLst/>
          </a:prstGeom>
          <a:ln>
            <a:solidFill>
              <a:srgbClr val="4a7ebb"/>
            </a:solidFill>
            <a:prstDash val="lgDash"/>
            <a:round/>
          </a:ln>
        </p:spPr>
      </p:cxnSp>
      <p:cxnSp>
        <p:nvCxnSpPr>
          <p:cNvPr id="714" name="Łącznik prosty 19"/>
          <p:cNvCxnSpPr/>
          <p:nvPr/>
        </p:nvCxnSpPr>
        <p:spPr>
          <a:xfrm flipH="1">
            <a:off x="5713200" y="3286080"/>
            <a:ext cx="2160" cy="2571840"/>
          </a:xfrm>
          <a:prstGeom prst="straightConnector1">
            <a:avLst/>
          </a:prstGeom>
          <a:ln>
            <a:solidFill>
              <a:srgbClr val="4a7ebb"/>
            </a:solidFill>
            <a:prstDash val="lgDash"/>
            <a:round/>
          </a:ln>
        </p:spPr>
      </p:cxnSp>
      <p:sp>
        <p:nvSpPr>
          <p:cNvPr id="715" name="Elipsa 21"/>
          <p:cNvSpPr/>
          <p:nvPr/>
        </p:nvSpPr>
        <p:spPr>
          <a:xfrm>
            <a:off x="4000320" y="5857920"/>
            <a:ext cx="70920" cy="7092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16" name="Elipsa 22"/>
          <p:cNvSpPr/>
          <p:nvPr/>
        </p:nvSpPr>
        <p:spPr>
          <a:xfrm>
            <a:off x="4152960" y="6010200"/>
            <a:ext cx="70920" cy="7092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17" name="Elipsa 23"/>
          <p:cNvSpPr/>
          <p:nvPr/>
        </p:nvSpPr>
        <p:spPr>
          <a:xfrm>
            <a:off x="4305240" y="6162840"/>
            <a:ext cx="70920" cy="7092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18" name="Elipsa 24"/>
          <p:cNvSpPr/>
          <p:nvPr/>
        </p:nvSpPr>
        <p:spPr>
          <a:xfrm>
            <a:off x="4500720" y="6000840"/>
            <a:ext cx="70920" cy="7092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19" name="Elipsa 25"/>
          <p:cNvSpPr/>
          <p:nvPr/>
        </p:nvSpPr>
        <p:spPr>
          <a:xfrm>
            <a:off x="5715000" y="5857920"/>
            <a:ext cx="70920" cy="7092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20" name="Elipsa 26"/>
          <p:cNvSpPr/>
          <p:nvPr/>
        </p:nvSpPr>
        <p:spPr>
          <a:xfrm>
            <a:off x="5339520" y="5857920"/>
            <a:ext cx="70920" cy="7092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21" name="Elipsa 27"/>
          <p:cNvSpPr/>
          <p:nvPr/>
        </p:nvSpPr>
        <p:spPr>
          <a:xfrm>
            <a:off x="3929040" y="5000760"/>
            <a:ext cx="70920" cy="70920"/>
          </a:xfrm>
          <a:prstGeom prst="ellipse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22" name="Elipsa 28"/>
          <p:cNvSpPr/>
          <p:nvPr/>
        </p:nvSpPr>
        <p:spPr>
          <a:xfrm>
            <a:off x="4081320" y="5153040"/>
            <a:ext cx="70920" cy="70920"/>
          </a:xfrm>
          <a:prstGeom prst="ellipse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23" name="Elipsa 29"/>
          <p:cNvSpPr/>
          <p:nvPr/>
        </p:nvSpPr>
        <p:spPr>
          <a:xfrm>
            <a:off x="4233960" y="4714920"/>
            <a:ext cx="70920" cy="70920"/>
          </a:xfrm>
          <a:prstGeom prst="ellipse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24" name="Elipsa 30"/>
          <p:cNvSpPr/>
          <p:nvPr/>
        </p:nvSpPr>
        <p:spPr>
          <a:xfrm>
            <a:off x="4429080" y="5143680"/>
            <a:ext cx="70920" cy="70920"/>
          </a:xfrm>
          <a:prstGeom prst="ellipse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25" name="Elipsa 31"/>
          <p:cNvSpPr/>
          <p:nvPr/>
        </p:nvSpPr>
        <p:spPr>
          <a:xfrm>
            <a:off x="5643720" y="4357800"/>
            <a:ext cx="70920" cy="70920"/>
          </a:xfrm>
          <a:prstGeom prst="ellipse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26" name="Elipsa 32"/>
          <p:cNvSpPr/>
          <p:nvPr/>
        </p:nvSpPr>
        <p:spPr>
          <a:xfrm>
            <a:off x="5268240" y="4357800"/>
            <a:ext cx="70920" cy="70920"/>
          </a:xfrm>
          <a:prstGeom prst="ellipse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27" name="pole tekstowe 12"/>
          <p:cNvSpPr/>
          <p:nvPr/>
        </p:nvSpPr>
        <p:spPr>
          <a:xfrm>
            <a:off x="6876360" y="4725000"/>
            <a:ext cx="1642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MB  La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" name="Diagram15"/>
          <p:cNvGraphicFramePr/>
          <p:nvPr>
            <p:extLst>
              <p:ext uri="{D42A27DB-BD31-4B8C-83A1-F6EECF244321}">
                <p14:modId xmlns:p14="http://schemas.microsoft.com/office/powerpoint/2010/main" val="2977863966"/>
              </p:ext>
            </p:extLst>
          </p:nvPr>
        </p:nvGraphicFramePr>
        <p:xfrm>
          <a:off x="457200" y="1428840"/>
          <a:ext cx="6543360" cy="29998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Export to Analitycal Microdata Base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ldNum" idx="41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62C397-F666-4828-BEDC-585CEA9A42F3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" name="Diagram16"/>
          <p:cNvGraphicFramePr/>
          <p:nvPr>
            <p:extLst>
              <p:ext uri="{D42A27DB-BD31-4B8C-83A1-F6EECF244321}">
                <p14:modId xmlns:p14="http://schemas.microsoft.com/office/powerpoint/2010/main" val="1704727220"/>
              </p:ext>
            </p:extLst>
          </p:nvPr>
        </p:nvGraphicFramePr>
        <p:xfrm>
          <a:off x="457200" y="1428840"/>
          <a:ext cx="8229240" cy="469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nsus Quality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ldNum" idx="42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F3B9F2-1C46-4868-8744-6835F51C676F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000000"/>
                </a:solidFill>
                <a:latin typeface="Verdana"/>
              </a:rPr>
              <a:t>Census planning</a:t>
            </a:r>
            <a:endParaRPr b="0" lang="pl-P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pl-PL" sz="2000" spc="-1" strike="noStrike">
              <a:solidFill>
                <a:srgbClr val="8b8b8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16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BA7EBD-8493-409E-AEE9-E34B3BF2D008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pl-PL" sz="4000" spc="-1" strike="noStrike" cap="all">
                <a:solidFill>
                  <a:srgbClr val="000000"/>
                </a:solidFill>
                <a:latin typeface="Verdana"/>
              </a:rPr>
              <a:t>Analitycal MicrodataBase</a:t>
            </a:r>
            <a:endParaRPr b="0" lang="pl-P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pl-PL" sz="2000" spc="-1" strike="noStrike">
              <a:solidFill>
                <a:srgbClr val="8b8b8b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Num" idx="43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2275DF-3875-41C0-ABFF-4F0C7229C25A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rostokąt 35"/>
          <p:cNvSpPr/>
          <p:nvPr/>
        </p:nvSpPr>
        <p:spPr>
          <a:xfrm>
            <a:off x="285840" y="1428840"/>
            <a:ext cx="8715240" cy="50716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Num" idx="44"/>
          </p:nvPr>
        </p:nvSpPr>
        <p:spPr>
          <a:xfrm>
            <a:off x="796752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CA2F15-9BAC-48BD-81BF-872309872BC4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42"/>
          <p:cNvSpPr/>
          <p:nvPr/>
        </p:nvSpPr>
        <p:spPr>
          <a:xfrm>
            <a:off x="861840" y="197496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43"/>
          <p:cNvSpPr/>
          <p:nvPr/>
        </p:nvSpPr>
        <p:spPr>
          <a:xfrm>
            <a:off x="861840" y="252900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T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45"/>
          <p:cNvSpPr/>
          <p:nvPr/>
        </p:nvSpPr>
        <p:spPr>
          <a:xfrm>
            <a:off x="223920" y="210996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1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47"/>
          <p:cNvSpPr/>
          <p:nvPr/>
        </p:nvSpPr>
        <p:spPr>
          <a:xfrm>
            <a:off x="2109600" y="5002200"/>
            <a:ext cx="4571640" cy="998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etadata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50"/>
          <p:cNvSpPr/>
          <p:nvPr/>
        </p:nvSpPr>
        <p:spPr>
          <a:xfrm>
            <a:off x="389556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Operational Microdata Bas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54"/>
          <p:cNvSpPr/>
          <p:nvPr/>
        </p:nvSpPr>
        <p:spPr>
          <a:xfrm>
            <a:off x="214200" y="278604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55"/>
          <p:cNvSpPr/>
          <p:nvPr/>
        </p:nvSpPr>
        <p:spPr>
          <a:xfrm>
            <a:off x="214200" y="345600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n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4" name="AutoShape 56"/>
          <p:cNvCxnSpPr/>
          <p:nvPr/>
        </p:nvCxnSpPr>
        <p:spPr>
          <a:xfrm>
            <a:off x="966600" y="232884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745" name="AutoShape 57"/>
          <p:cNvCxnSpPr/>
          <p:nvPr/>
        </p:nvCxnSpPr>
        <p:spPr>
          <a:xfrm>
            <a:off x="966600" y="299556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746" name="AutoShape 59"/>
          <p:cNvCxnSpPr/>
          <p:nvPr/>
        </p:nvCxnSpPr>
        <p:spPr>
          <a:xfrm>
            <a:off x="966600" y="369072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747" name="AutoShape 60"/>
          <p:cNvCxnSpPr/>
          <p:nvPr/>
        </p:nvCxnSpPr>
        <p:spPr>
          <a:xfrm>
            <a:off x="975960" y="551016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748" name="AutoShape 61"/>
          <p:cNvCxnSpPr/>
          <p:nvPr/>
        </p:nvCxnSpPr>
        <p:spPr>
          <a:xfrm>
            <a:off x="1233360" y="2328840"/>
            <a:ext cx="360" cy="318168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749" name="AutoShape 68"/>
          <p:cNvCxnSpPr/>
          <p:nvPr/>
        </p:nvCxnSpPr>
        <p:spPr>
          <a:xfrm>
            <a:off x="2685960" y="3595680"/>
            <a:ext cx="12420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  <a:tailEnd len="med" type="triangle" w="med"/>
          </a:ln>
        </p:spPr>
      </p:cxnSp>
      <p:sp>
        <p:nvSpPr>
          <p:cNvPr id="750" name="AutoShape 82"/>
          <p:cNvSpPr/>
          <p:nvPr/>
        </p:nvSpPr>
        <p:spPr>
          <a:xfrm>
            <a:off x="5734080" y="2900520"/>
            <a:ext cx="980640" cy="1409400"/>
          </a:xfrm>
          <a:prstGeom prst="can">
            <a:avLst>
              <a:gd name="adj" fmla="val 35922"/>
            </a:avLst>
          </a:prstGeom>
          <a:solidFill>
            <a:srgbClr val="ff0000"/>
          </a:soli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Analitycal</a:t>
            </a:r>
            <a:br>
              <a:rPr sz="1050"/>
            </a:b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Microdata Bas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52" descr="C:\Documents and Settings\drudzinski\Moje dokumenty\Moje obrazy\Microsoft Clip Organizer\j0236386.gif"/>
          <p:cNvPicPr/>
          <p:nvPr/>
        </p:nvPicPr>
        <p:blipFill>
          <a:blip r:embed="rId1"/>
          <a:stretch/>
        </p:blipFill>
        <p:spPr>
          <a:xfrm>
            <a:off x="252360" y="5195880"/>
            <a:ext cx="590040" cy="715680"/>
          </a:xfrm>
          <a:prstGeom prst="rect">
            <a:avLst/>
          </a:prstGeom>
          <a:ln w="9525">
            <a:noFill/>
          </a:ln>
        </p:spPr>
      </p:pic>
      <p:sp>
        <p:nvSpPr>
          <p:cNvPr id="752" name="AutoShape 50"/>
          <p:cNvSpPr/>
          <p:nvPr/>
        </p:nvSpPr>
        <p:spPr>
          <a:xfrm>
            <a:off x="203832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ETL </a:t>
            </a:r>
            <a:br>
              <a:rPr sz="1050"/>
            </a:b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załka w prawo 54"/>
          <p:cNvSpPr/>
          <p:nvPr/>
        </p:nvSpPr>
        <p:spPr>
          <a:xfrm>
            <a:off x="1252440" y="3562200"/>
            <a:ext cx="78552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54" name="Strzałka w prawo 55"/>
          <p:cNvSpPr/>
          <p:nvPr/>
        </p:nvSpPr>
        <p:spPr>
          <a:xfrm>
            <a:off x="3038400" y="3552840"/>
            <a:ext cx="8568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55" name="Strzałka w prawo 56"/>
          <p:cNvSpPr/>
          <p:nvPr/>
        </p:nvSpPr>
        <p:spPr>
          <a:xfrm>
            <a:off x="4896000" y="3527640"/>
            <a:ext cx="8190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56" name="Strzałka w górę i w dół 57"/>
          <p:cNvSpPr/>
          <p:nvPr/>
        </p:nvSpPr>
        <p:spPr>
          <a:xfrm>
            <a:off x="4243320" y="2500200"/>
            <a:ext cx="285480" cy="5806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757" name="Picture 52" descr="C:\Documents and Settings\drudzinski\Moje dokumenty\Moje obrazy\Microsoft Clip Organizer\j0236386.gif"/>
          <p:cNvPicPr/>
          <p:nvPr/>
        </p:nvPicPr>
        <p:blipFill>
          <a:blip r:embed="rId2"/>
          <a:stretch/>
        </p:blipFill>
        <p:spPr>
          <a:xfrm>
            <a:off x="3467160" y="1428840"/>
            <a:ext cx="642600" cy="779040"/>
          </a:xfrm>
          <a:prstGeom prst="rect">
            <a:avLst/>
          </a:prstGeom>
          <a:ln w="9525">
            <a:noFill/>
          </a:ln>
        </p:spPr>
      </p:pic>
      <p:sp>
        <p:nvSpPr>
          <p:cNvPr id="758" name="Strzałka w górę i w dół 59"/>
          <p:cNvSpPr/>
          <p:nvPr/>
        </p:nvSpPr>
        <p:spPr>
          <a:xfrm>
            <a:off x="239544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59" name="Strzałka w górę i w dół 60"/>
          <p:cNvSpPr/>
          <p:nvPr/>
        </p:nvSpPr>
        <p:spPr>
          <a:xfrm>
            <a:off x="425304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60" name="Strzałka w górę i w dół 61"/>
          <p:cNvSpPr/>
          <p:nvPr/>
        </p:nvSpPr>
        <p:spPr>
          <a:xfrm>
            <a:off x="614376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61" name="pole tekstowe 62"/>
          <p:cNvSpPr/>
          <p:nvPr/>
        </p:nvSpPr>
        <p:spPr>
          <a:xfrm>
            <a:off x="324000" y="5981760"/>
            <a:ext cx="642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49" descr="C:\Documents and Settings\drudzinski\Moje dokumenty\Moje obrazy\Microsoft Clip Organizer\j0431616.png"/>
          <p:cNvPicPr/>
          <p:nvPr/>
        </p:nvPicPr>
        <p:blipFill>
          <a:blip r:embed="rId3"/>
          <a:stretch/>
        </p:blipFill>
        <p:spPr>
          <a:xfrm>
            <a:off x="273348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763" name="Picture 50" descr="C:\Documents and Settings\drudzinski\Moje dokumenty\Moje obrazy\Microsoft Clip Organizer\j0441340.png"/>
          <p:cNvPicPr/>
          <p:nvPr/>
        </p:nvPicPr>
        <p:blipFill>
          <a:blip r:embed="rId4"/>
          <a:stretch/>
        </p:blipFill>
        <p:spPr>
          <a:xfrm>
            <a:off x="4038480" y="1428840"/>
            <a:ext cx="785520" cy="785520"/>
          </a:xfrm>
          <a:prstGeom prst="rect">
            <a:avLst/>
          </a:prstGeom>
          <a:ln w="9525">
            <a:noFill/>
          </a:ln>
        </p:spPr>
      </p:pic>
      <p:pic>
        <p:nvPicPr>
          <p:cNvPr id="764" name="Picture 49" descr="C:\Documents and Settings\drudzinski\Moje dokumenty\Moje obrazy\Microsoft Clip Organizer\j0431616.png"/>
          <p:cNvPicPr/>
          <p:nvPr/>
        </p:nvPicPr>
        <p:blipFill>
          <a:blip r:embed="rId5"/>
          <a:stretch/>
        </p:blipFill>
        <p:spPr>
          <a:xfrm>
            <a:off x="466236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765" name="Picture 49" descr="C:\Documents and Settings\drudzinski\Moje dokumenty\Moje obrazy\Microsoft Clip Organizer\j0431616.png"/>
          <p:cNvPicPr/>
          <p:nvPr/>
        </p:nvPicPr>
        <p:blipFill>
          <a:blip r:embed="rId6"/>
          <a:stretch/>
        </p:blipFill>
        <p:spPr>
          <a:xfrm>
            <a:off x="648180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766" name="Picture 49" descr="C:\Documents and Settings\drudzinski\Moje dokumenty\Moje obrazy\Microsoft Clip Organizer\j0431616.png"/>
          <p:cNvPicPr/>
          <p:nvPr/>
        </p:nvPicPr>
        <p:blipFill>
          <a:blip r:embed="rId7"/>
          <a:stretch/>
        </p:blipFill>
        <p:spPr>
          <a:xfrm>
            <a:off x="5896080" y="555300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767" name="Picture 34" descr="C:\Documents and Settings\drudzinski\Moje dokumenty\Moje obrazy\Microsoft Clip Organizer\j0438482.jpg"/>
          <p:cNvPicPr/>
          <p:nvPr/>
        </p:nvPicPr>
        <p:blipFill>
          <a:blip r:embed="rId8"/>
          <a:stretch/>
        </p:blipFill>
        <p:spPr>
          <a:xfrm>
            <a:off x="4753080" y="1643040"/>
            <a:ext cx="642600" cy="430200"/>
          </a:xfrm>
          <a:prstGeom prst="rect">
            <a:avLst/>
          </a:prstGeom>
          <a:ln w="0">
            <a:noFill/>
          </a:ln>
        </p:spPr>
      </p:pic>
      <p:sp>
        <p:nvSpPr>
          <p:cNvPr id="768" name="pole tekstowe 34"/>
          <p:cNvSpPr/>
          <p:nvPr/>
        </p:nvSpPr>
        <p:spPr>
          <a:xfrm>
            <a:off x="4110120" y="2214720"/>
            <a:ext cx="785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CAX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Analitycal Microdata Base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" descr=""/>
          <p:cNvPicPr/>
          <p:nvPr/>
        </p:nvPicPr>
        <p:blipFill>
          <a:blip r:embed="rId9"/>
          <a:stretch/>
        </p:blipFill>
        <p:spPr>
          <a:xfrm>
            <a:off x="8286840" y="2000160"/>
            <a:ext cx="713880" cy="713880"/>
          </a:xfrm>
          <a:prstGeom prst="rect">
            <a:avLst/>
          </a:prstGeom>
          <a:ln w="9525">
            <a:noFill/>
          </a:ln>
        </p:spPr>
      </p:pic>
      <p:pic>
        <p:nvPicPr>
          <p:cNvPr id="771" name="Picture 3" descr=""/>
          <p:cNvPicPr/>
          <p:nvPr/>
        </p:nvPicPr>
        <p:blipFill>
          <a:blip r:embed="rId10"/>
          <a:stretch/>
        </p:blipFill>
        <p:spPr>
          <a:xfrm>
            <a:off x="8177400" y="3309840"/>
            <a:ext cx="810000" cy="537840"/>
          </a:xfrm>
          <a:prstGeom prst="rect">
            <a:avLst/>
          </a:prstGeom>
          <a:ln w="9525">
            <a:noFill/>
          </a:ln>
        </p:spPr>
      </p:pic>
      <p:pic>
        <p:nvPicPr>
          <p:cNvPr id="772" name="Picture 4" descr=""/>
          <p:cNvPicPr/>
          <p:nvPr/>
        </p:nvPicPr>
        <p:blipFill>
          <a:blip r:embed="rId11"/>
          <a:stretch/>
        </p:blipFill>
        <p:spPr>
          <a:xfrm>
            <a:off x="8286840" y="4187880"/>
            <a:ext cx="799920" cy="812520"/>
          </a:xfrm>
          <a:prstGeom prst="rect">
            <a:avLst/>
          </a:prstGeom>
          <a:ln w="9525">
            <a:noFill/>
          </a:ln>
        </p:spPr>
      </p:pic>
      <p:sp>
        <p:nvSpPr>
          <p:cNvPr id="773" name="Chmurka 41"/>
          <p:cNvSpPr/>
          <p:nvPr/>
        </p:nvSpPr>
        <p:spPr>
          <a:xfrm>
            <a:off x="7000920" y="3395520"/>
            <a:ext cx="713880" cy="428400"/>
          </a:xfrm>
          <a:prstGeom prst="cloud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cxnSp>
        <p:nvCxnSpPr>
          <p:cNvPr id="774" name="Łącznik prosty 48"/>
          <p:cNvCxnSpPr/>
          <p:nvPr/>
        </p:nvCxnSpPr>
        <p:spPr>
          <a:xfrm flipV="1">
            <a:off x="7572240" y="2571480"/>
            <a:ext cx="643320" cy="7862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775" name="Łącznik prosty 51"/>
          <p:cNvCxnSpPr/>
          <p:nvPr/>
        </p:nvCxnSpPr>
        <p:spPr>
          <a:xfrm>
            <a:off x="7715160" y="3571560"/>
            <a:ext cx="428760" cy="21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776" name="Łącznik prosty 62"/>
          <p:cNvCxnSpPr/>
          <p:nvPr/>
        </p:nvCxnSpPr>
        <p:spPr>
          <a:xfrm>
            <a:off x="7572240" y="3786120"/>
            <a:ext cx="714600" cy="5065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777" name="Łącznik prosty 65"/>
          <p:cNvCxnSpPr>
            <a:stCxn id="750" idx="1"/>
            <a:endCxn id="773" idx="2"/>
          </p:cNvCxnSpPr>
          <p:nvPr/>
        </p:nvCxnSpPr>
        <p:spPr>
          <a:xfrm>
            <a:off x="6715080" y="3605040"/>
            <a:ext cx="288360" cy="50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778" name="Text Box 42"/>
          <p:cNvSpPr/>
          <p:nvPr/>
        </p:nvSpPr>
        <p:spPr>
          <a:xfrm>
            <a:off x="971640" y="500076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ole tekstowe 68"/>
          <p:cNvSpPr/>
          <p:nvPr/>
        </p:nvSpPr>
        <p:spPr>
          <a:xfrm>
            <a:off x="1285920" y="3335400"/>
            <a:ext cx="713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ole tekstowe 69"/>
          <p:cNvSpPr/>
          <p:nvPr/>
        </p:nvSpPr>
        <p:spPr>
          <a:xfrm>
            <a:off x="3000240" y="3143160"/>
            <a:ext cx="856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Statistical 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ole tekstowe 70"/>
          <p:cNvSpPr/>
          <p:nvPr/>
        </p:nvSpPr>
        <p:spPr>
          <a:xfrm>
            <a:off x="4857840" y="3129120"/>
            <a:ext cx="856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Golden Rec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ole tekstowe 71"/>
          <p:cNvSpPr/>
          <p:nvPr/>
        </p:nvSpPr>
        <p:spPr>
          <a:xfrm>
            <a:off x="164304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ole tekstowe 72"/>
          <p:cNvSpPr/>
          <p:nvPr/>
        </p:nvSpPr>
        <p:spPr>
          <a:xfrm>
            <a:off x="542916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ole tekstowe 73"/>
          <p:cNvSpPr/>
          <p:nvPr/>
        </p:nvSpPr>
        <p:spPr>
          <a:xfrm>
            <a:off x="350028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ole tekstowe 74"/>
          <p:cNvSpPr/>
          <p:nvPr/>
        </p:nvSpPr>
        <p:spPr>
          <a:xfrm>
            <a:off x="7643880" y="3310200"/>
            <a:ext cx="642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05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ole tekstowe 75"/>
          <p:cNvSpPr/>
          <p:nvPr/>
        </p:nvSpPr>
        <p:spPr>
          <a:xfrm>
            <a:off x="4500720" y="2571840"/>
            <a:ext cx="1142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Questiona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załka w prawo 77"/>
          <p:cNvSpPr/>
          <p:nvPr/>
        </p:nvSpPr>
        <p:spPr>
          <a:xfrm>
            <a:off x="1527120" y="5214960"/>
            <a:ext cx="57132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88" name="Chmurka 78"/>
          <p:cNvSpPr/>
          <p:nvPr/>
        </p:nvSpPr>
        <p:spPr>
          <a:xfrm>
            <a:off x="3071880" y="1214280"/>
            <a:ext cx="2714400" cy="1285560"/>
          </a:xfrm>
          <a:prstGeom prst="cloud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rostokąt 9"/>
          <p:cNvSpPr/>
          <p:nvPr/>
        </p:nvSpPr>
        <p:spPr>
          <a:xfrm>
            <a:off x="928800" y="1571760"/>
            <a:ext cx="7929360" cy="47858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Analitycal Microdata Base - process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ldNum" idx="45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BF853F-7F02-478F-A23B-C0842E4BFC73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" name="Diagram17"/>
          <p:cNvGraphicFramePr/>
          <p:nvPr>
            <p:extLst>
              <p:ext uri="{D42A27DB-BD31-4B8C-83A1-F6EECF244321}">
                <p14:modId xmlns:p14="http://schemas.microsoft.com/office/powerpoint/2010/main" val="683539603"/>
              </p:ext>
            </p:extLst>
          </p:nvPr>
        </p:nvGraphicFramePr>
        <p:xfrm>
          <a:off x="1523880" y="139716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792" name="Pagon 7"/>
          <p:cNvSpPr/>
          <p:nvPr/>
        </p:nvSpPr>
        <p:spPr>
          <a:xfrm>
            <a:off x="1571760" y="5143680"/>
            <a:ext cx="6214680" cy="499680"/>
          </a:xfrm>
          <a:prstGeom prst="chevron">
            <a:avLst>
              <a:gd name="adj" fmla="val 50000"/>
            </a:avLst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Manage meta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agon 8"/>
          <p:cNvSpPr/>
          <p:nvPr/>
        </p:nvSpPr>
        <p:spPr>
          <a:xfrm>
            <a:off x="1571760" y="5715000"/>
            <a:ext cx="6214680" cy="499680"/>
          </a:xfrm>
          <a:prstGeom prst="chevron">
            <a:avLst>
              <a:gd name="adj" fmla="val 50000"/>
            </a:avLst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Manag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Functionality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ldNum" idx="46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C4D5E8-E88C-42D1-9C15-D3733DD02A64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rostokąt zaokrąglony 5"/>
          <p:cNvSpPr/>
          <p:nvPr/>
        </p:nvSpPr>
        <p:spPr>
          <a:xfrm>
            <a:off x="1643040" y="1143000"/>
            <a:ext cx="1356840" cy="713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chemeClr val="lt1"/>
                </a:solidFill>
                <a:latin typeface="Verdana"/>
              </a:rPr>
              <a:t>Administ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rostokąt zaokrąglony 6"/>
          <p:cNvSpPr/>
          <p:nvPr/>
        </p:nvSpPr>
        <p:spPr>
          <a:xfrm>
            <a:off x="6215040" y="1143000"/>
            <a:ext cx="1356840" cy="713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1200" spc="-1" strike="noStrike">
                <a:solidFill>
                  <a:schemeClr val="lt1"/>
                </a:solidFill>
                <a:latin typeface="Verdana"/>
              </a:rPr>
              <a:t>Information Security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rostokąt zaokrąglony 7"/>
          <p:cNvSpPr/>
          <p:nvPr/>
        </p:nvSpPr>
        <p:spPr>
          <a:xfrm>
            <a:off x="1643040" y="2643120"/>
            <a:ext cx="1356840" cy="713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1200" spc="-1" strike="noStrike">
                <a:solidFill>
                  <a:schemeClr val="lt1"/>
                </a:solidFill>
                <a:latin typeface="Verdana"/>
              </a:rPr>
              <a:t>Data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rostokąt zaokrąglony 8"/>
          <p:cNvSpPr/>
          <p:nvPr/>
        </p:nvSpPr>
        <p:spPr>
          <a:xfrm>
            <a:off x="1643040" y="5643720"/>
            <a:ext cx="1356840" cy="713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1200" spc="-1" strike="noStrike">
                <a:solidFill>
                  <a:schemeClr val="lt1"/>
                </a:solidFill>
                <a:latin typeface="Verdana"/>
              </a:rPr>
              <a:t>Information Anali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rostokąt zaokrąglony 9"/>
          <p:cNvSpPr/>
          <p:nvPr/>
        </p:nvSpPr>
        <p:spPr>
          <a:xfrm>
            <a:off x="6215040" y="4143240"/>
            <a:ext cx="1356840" cy="713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1200" spc="-1" strike="noStrike">
                <a:solidFill>
                  <a:schemeClr val="lt1"/>
                </a:solidFill>
                <a:latin typeface="Verdana"/>
              </a:rPr>
              <a:t>Requirement and Produc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rostokąt zaokrąglony 10"/>
          <p:cNvSpPr/>
          <p:nvPr/>
        </p:nvSpPr>
        <p:spPr>
          <a:xfrm>
            <a:off x="6215040" y="2643120"/>
            <a:ext cx="1356840" cy="713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1200" spc="-1" strike="noStrike">
                <a:solidFill>
                  <a:schemeClr val="lt1"/>
                </a:solidFill>
                <a:latin typeface="Verdana"/>
              </a:rPr>
              <a:t>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rostokąt zaokrąglony 11"/>
          <p:cNvSpPr/>
          <p:nvPr/>
        </p:nvSpPr>
        <p:spPr>
          <a:xfrm>
            <a:off x="1643040" y="4143240"/>
            <a:ext cx="1356840" cy="713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1200" spc="-1" strike="noStrike">
                <a:solidFill>
                  <a:schemeClr val="lt1"/>
                </a:solidFill>
                <a:latin typeface="Verdana"/>
              </a:rPr>
              <a:t>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rostokąt zaokrąglony 12"/>
          <p:cNvSpPr/>
          <p:nvPr/>
        </p:nvSpPr>
        <p:spPr>
          <a:xfrm>
            <a:off x="6215040" y="5643720"/>
            <a:ext cx="1356840" cy="713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1200" spc="-1" strike="noStrike">
                <a:solidFill>
                  <a:schemeClr val="lt1"/>
                </a:solidFill>
                <a:latin typeface="Verdana"/>
              </a:rPr>
              <a:t>Quality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chemat blokowy: dysk magnetyczny 13"/>
          <p:cNvSpPr/>
          <p:nvPr/>
        </p:nvSpPr>
        <p:spPr>
          <a:xfrm>
            <a:off x="3536280" y="2214720"/>
            <a:ext cx="2071440" cy="3071520"/>
          </a:xfrm>
          <a:prstGeom prst="flowChartMagneticDisk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l-PL" sz="1800" spc="-1" strike="noStrike">
                <a:solidFill>
                  <a:schemeClr val="lt1"/>
                </a:solidFill>
                <a:latin typeface="Verdana"/>
              </a:rPr>
              <a:t>Analitycal Micro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" name="Diagram18"/>
          <p:cNvGraphicFramePr/>
          <p:nvPr>
            <p:extLst>
              <p:ext uri="{D42A27DB-BD31-4B8C-83A1-F6EECF244321}">
                <p14:modId xmlns:p14="http://schemas.microsoft.com/office/powerpoint/2010/main" val="3893853112"/>
              </p:ext>
            </p:extLst>
          </p:nvPr>
        </p:nvGraphicFramePr>
        <p:xfrm>
          <a:off x="457200" y="1428840"/>
          <a:ext cx="8229240" cy="469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nsus Quality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ldNum" idx="47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7E7399-888B-401F-8D39-EFC1B32A62D3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pl-PL" sz="4000" spc="-1" strike="noStrike" cap="all">
                <a:solidFill>
                  <a:srgbClr val="000000"/>
                </a:solidFill>
                <a:latin typeface="Verdana"/>
              </a:rPr>
              <a:t>disemination</a:t>
            </a:r>
            <a:br>
              <a:rPr sz="4000"/>
            </a:br>
            <a:endParaRPr b="0" lang="pl-P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pl-PL" sz="2000" spc="-1" strike="noStrike">
              <a:solidFill>
                <a:srgbClr val="8b8b8b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sldNum" idx="48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1090A1-D8AE-4B30-87B6-58A7A3847544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" name="Diagram19"/>
          <p:cNvGraphicFramePr/>
          <p:nvPr>
            <p:extLst>
              <p:ext uri="{D42A27DB-BD31-4B8C-83A1-F6EECF244321}">
                <p14:modId xmlns:p14="http://schemas.microsoft.com/office/powerpoint/2010/main" val="3098418398"/>
              </p:ext>
            </p:extLst>
          </p:nvPr>
        </p:nvGraphicFramePr>
        <p:xfrm>
          <a:off x="457200" y="1428840"/>
          <a:ext cx="8229240" cy="469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nsus Quality 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- disemination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ldNum" idx="49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D80536-91E7-42AD-9DC4-07E4E2152E91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pl-PL" sz="4000" spc="-1" strike="noStrike" cap="all">
                <a:solidFill>
                  <a:srgbClr val="000000"/>
                </a:solidFill>
                <a:latin typeface="Verdana"/>
              </a:rPr>
              <a:t>Metainformation management</a:t>
            </a:r>
            <a:endParaRPr b="0" lang="pl-P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pl-PL" sz="2000" spc="-1" strike="noStrike">
              <a:solidFill>
                <a:srgbClr val="8b8b8b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50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992F44-4356-4C0F-B155-9FB65F8D4D37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rostokąt 35"/>
          <p:cNvSpPr/>
          <p:nvPr/>
        </p:nvSpPr>
        <p:spPr>
          <a:xfrm>
            <a:off x="285840" y="1428840"/>
            <a:ext cx="8715240" cy="50716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Num" idx="51"/>
          </p:nvPr>
        </p:nvSpPr>
        <p:spPr>
          <a:xfrm>
            <a:off x="796752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009C1B-41B6-4264-89CA-E0E95FF092B6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42"/>
          <p:cNvSpPr/>
          <p:nvPr/>
        </p:nvSpPr>
        <p:spPr>
          <a:xfrm>
            <a:off x="861840" y="197496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43"/>
          <p:cNvSpPr/>
          <p:nvPr/>
        </p:nvSpPr>
        <p:spPr>
          <a:xfrm>
            <a:off x="861840" y="252900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T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45"/>
          <p:cNvSpPr/>
          <p:nvPr/>
        </p:nvSpPr>
        <p:spPr>
          <a:xfrm>
            <a:off x="223920" y="210996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1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47"/>
          <p:cNvSpPr/>
          <p:nvPr/>
        </p:nvSpPr>
        <p:spPr>
          <a:xfrm>
            <a:off x="2109600" y="5002200"/>
            <a:ext cx="4571640" cy="9982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Metadata server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50"/>
          <p:cNvSpPr/>
          <p:nvPr/>
        </p:nvSpPr>
        <p:spPr>
          <a:xfrm>
            <a:off x="389556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Operational Microdata Bas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54"/>
          <p:cNvSpPr/>
          <p:nvPr/>
        </p:nvSpPr>
        <p:spPr>
          <a:xfrm>
            <a:off x="214200" y="278604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55"/>
          <p:cNvSpPr/>
          <p:nvPr/>
        </p:nvSpPr>
        <p:spPr>
          <a:xfrm>
            <a:off x="214200" y="345600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n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AutoShape 56"/>
          <p:cNvCxnSpPr/>
          <p:nvPr/>
        </p:nvCxnSpPr>
        <p:spPr>
          <a:xfrm>
            <a:off x="966600" y="232884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26" name="AutoShape 57"/>
          <p:cNvCxnSpPr/>
          <p:nvPr/>
        </p:nvCxnSpPr>
        <p:spPr>
          <a:xfrm>
            <a:off x="966600" y="299556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27" name="AutoShape 59"/>
          <p:cNvCxnSpPr/>
          <p:nvPr/>
        </p:nvCxnSpPr>
        <p:spPr>
          <a:xfrm>
            <a:off x="966600" y="369072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28" name="AutoShape 60"/>
          <p:cNvCxnSpPr/>
          <p:nvPr/>
        </p:nvCxnSpPr>
        <p:spPr>
          <a:xfrm>
            <a:off x="975960" y="551016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29" name="AutoShape 61"/>
          <p:cNvCxnSpPr/>
          <p:nvPr/>
        </p:nvCxnSpPr>
        <p:spPr>
          <a:xfrm>
            <a:off x="1233360" y="2328840"/>
            <a:ext cx="360" cy="318168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830" name="AutoShape 68"/>
          <p:cNvCxnSpPr/>
          <p:nvPr/>
        </p:nvCxnSpPr>
        <p:spPr>
          <a:xfrm>
            <a:off x="2685960" y="3595680"/>
            <a:ext cx="12420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  <a:tailEnd len="med" type="triangle" w="med"/>
          </a:ln>
        </p:spPr>
      </p:cxnSp>
      <p:sp>
        <p:nvSpPr>
          <p:cNvPr id="831" name="AutoShape 82"/>
          <p:cNvSpPr/>
          <p:nvPr/>
        </p:nvSpPr>
        <p:spPr>
          <a:xfrm>
            <a:off x="573408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Analitycal</a:t>
            </a:r>
            <a:br>
              <a:rPr sz="1050"/>
            </a:b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Microdata Bas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52" descr="C:\Documents and Settings\drudzinski\Moje dokumenty\Moje obrazy\Microsoft Clip Organizer\j0236386.gif"/>
          <p:cNvPicPr/>
          <p:nvPr/>
        </p:nvPicPr>
        <p:blipFill>
          <a:blip r:embed="rId1"/>
          <a:stretch/>
        </p:blipFill>
        <p:spPr>
          <a:xfrm>
            <a:off x="252360" y="5195880"/>
            <a:ext cx="590040" cy="715680"/>
          </a:xfrm>
          <a:prstGeom prst="rect">
            <a:avLst/>
          </a:prstGeom>
          <a:ln w="9525">
            <a:noFill/>
          </a:ln>
        </p:spPr>
      </p:pic>
      <p:sp>
        <p:nvSpPr>
          <p:cNvPr id="833" name="AutoShape 50"/>
          <p:cNvSpPr/>
          <p:nvPr/>
        </p:nvSpPr>
        <p:spPr>
          <a:xfrm>
            <a:off x="203832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ETL </a:t>
            </a:r>
            <a:br>
              <a:rPr sz="1050"/>
            </a:b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trzałka w prawo 54"/>
          <p:cNvSpPr/>
          <p:nvPr/>
        </p:nvSpPr>
        <p:spPr>
          <a:xfrm>
            <a:off x="1252440" y="3562200"/>
            <a:ext cx="78552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35" name="Strzałka w prawo 55"/>
          <p:cNvSpPr/>
          <p:nvPr/>
        </p:nvSpPr>
        <p:spPr>
          <a:xfrm>
            <a:off x="3038400" y="3552840"/>
            <a:ext cx="8568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36" name="Strzałka w prawo 56"/>
          <p:cNvSpPr/>
          <p:nvPr/>
        </p:nvSpPr>
        <p:spPr>
          <a:xfrm>
            <a:off x="4896000" y="3527640"/>
            <a:ext cx="8190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37" name="Strzałka w górę i w dół 57"/>
          <p:cNvSpPr/>
          <p:nvPr/>
        </p:nvSpPr>
        <p:spPr>
          <a:xfrm>
            <a:off x="4243320" y="2500200"/>
            <a:ext cx="285480" cy="5806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838" name="Picture 52" descr="C:\Documents and Settings\drudzinski\Moje dokumenty\Moje obrazy\Microsoft Clip Organizer\j0236386.gif"/>
          <p:cNvPicPr/>
          <p:nvPr/>
        </p:nvPicPr>
        <p:blipFill>
          <a:blip r:embed="rId2"/>
          <a:stretch/>
        </p:blipFill>
        <p:spPr>
          <a:xfrm>
            <a:off x="3467160" y="1428840"/>
            <a:ext cx="642600" cy="779040"/>
          </a:xfrm>
          <a:prstGeom prst="rect">
            <a:avLst/>
          </a:prstGeom>
          <a:ln w="9525">
            <a:noFill/>
          </a:ln>
        </p:spPr>
      </p:pic>
      <p:sp>
        <p:nvSpPr>
          <p:cNvPr id="839" name="Strzałka w górę i w dół 59"/>
          <p:cNvSpPr/>
          <p:nvPr/>
        </p:nvSpPr>
        <p:spPr>
          <a:xfrm>
            <a:off x="239544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40" name="Strzałka w górę i w dół 60"/>
          <p:cNvSpPr/>
          <p:nvPr/>
        </p:nvSpPr>
        <p:spPr>
          <a:xfrm>
            <a:off x="425304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41" name="Strzałka w górę i w dół 61"/>
          <p:cNvSpPr/>
          <p:nvPr/>
        </p:nvSpPr>
        <p:spPr>
          <a:xfrm>
            <a:off x="614376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42" name="pole tekstowe 62"/>
          <p:cNvSpPr/>
          <p:nvPr/>
        </p:nvSpPr>
        <p:spPr>
          <a:xfrm>
            <a:off x="324000" y="5981760"/>
            <a:ext cx="642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49" descr="C:\Documents and Settings\drudzinski\Moje dokumenty\Moje obrazy\Microsoft Clip Organizer\j0431616.png"/>
          <p:cNvPicPr/>
          <p:nvPr/>
        </p:nvPicPr>
        <p:blipFill>
          <a:blip r:embed="rId3"/>
          <a:stretch/>
        </p:blipFill>
        <p:spPr>
          <a:xfrm>
            <a:off x="273348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844" name="Picture 50" descr="C:\Documents and Settings\drudzinski\Moje dokumenty\Moje obrazy\Microsoft Clip Organizer\j0441340.png"/>
          <p:cNvPicPr/>
          <p:nvPr/>
        </p:nvPicPr>
        <p:blipFill>
          <a:blip r:embed="rId4"/>
          <a:stretch/>
        </p:blipFill>
        <p:spPr>
          <a:xfrm>
            <a:off x="4038480" y="1428840"/>
            <a:ext cx="785520" cy="785520"/>
          </a:xfrm>
          <a:prstGeom prst="rect">
            <a:avLst/>
          </a:prstGeom>
          <a:ln w="9525">
            <a:noFill/>
          </a:ln>
        </p:spPr>
      </p:pic>
      <p:pic>
        <p:nvPicPr>
          <p:cNvPr id="845" name="Picture 49" descr="C:\Documents and Settings\drudzinski\Moje dokumenty\Moje obrazy\Microsoft Clip Organizer\j0431616.png"/>
          <p:cNvPicPr/>
          <p:nvPr/>
        </p:nvPicPr>
        <p:blipFill>
          <a:blip r:embed="rId5"/>
          <a:stretch/>
        </p:blipFill>
        <p:spPr>
          <a:xfrm>
            <a:off x="466236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846" name="Picture 49" descr="C:\Documents and Settings\drudzinski\Moje dokumenty\Moje obrazy\Microsoft Clip Organizer\j0431616.png"/>
          <p:cNvPicPr/>
          <p:nvPr/>
        </p:nvPicPr>
        <p:blipFill>
          <a:blip r:embed="rId6"/>
          <a:stretch/>
        </p:blipFill>
        <p:spPr>
          <a:xfrm>
            <a:off x="648180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847" name="Picture 49" descr="C:\Documents and Settings\drudzinski\Moje dokumenty\Moje obrazy\Microsoft Clip Organizer\j0431616.png"/>
          <p:cNvPicPr/>
          <p:nvPr/>
        </p:nvPicPr>
        <p:blipFill>
          <a:blip r:embed="rId7"/>
          <a:stretch/>
        </p:blipFill>
        <p:spPr>
          <a:xfrm>
            <a:off x="5896080" y="555300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848" name="Picture 34" descr="C:\Documents and Settings\drudzinski\Moje dokumenty\Moje obrazy\Microsoft Clip Organizer\j0438482.jpg"/>
          <p:cNvPicPr/>
          <p:nvPr/>
        </p:nvPicPr>
        <p:blipFill>
          <a:blip r:embed="rId8"/>
          <a:stretch/>
        </p:blipFill>
        <p:spPr>
          <a:xfrm>
            <a:off x="4753080" y="1643040"/>
            <a:ext cx="642600" cy="430200"/>
          </a:xfrm>
          <a:prstGeom prst="rect">
            <a:avLst/>
          </a:prstGeom>
          <a:ln w="0">
            <a:noFill/>
          </a:ln>
        </p:spPr>
      </p:pic>
      <p:sp>
        <p:nvSpPr>
          <p:cNvPr id="849" name="pole tekstowe 34"/>
          <p:cNvSpPr/>
          <p:nvPr/>
        </p:nvSpPr>
        <p:spPr>
          <a:xfrm>
            <a:off x="4110120" y="2214720"/>
            <a:ext cx="785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CAX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Metadata server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1" descr=""/>
          <p:cNvPicPr/>
          <p:nvPr/>
        </p:nvPicPr>
        <p:blipFill>
          <a:blip r:embed="rId9"/>
          <a:stretch/>
        </p:blipFill>
        <p:spPr>
          <a:xfrm>
            <a:off x="8286840" y="2000160"/>
            <a:ext cx="713880" cy="713880"/>
          </a:xfrm>
          <a:prstGeom prst="rect">
            <a:avLst/>
          </a:prstGeom>
          <a:ln w="9525">
            <a:noFill/>
          </a:ln>
        </p:spPr>
      </p:pic>
      <p:pic>
        <p:nvPicPr>
          <p:cNvPr id="852" name="Picture 3" descr=""/>
          <p:cNvPicPr/>
          <p:nvPr/>
        </p:nvPicPr>
        <p:blipFill>
          <a:blip r:embed="rId10"/>
          <a:stretch/>
        </p:blipFill>
        <p:spPr>
          <a:xfrm>
            <a:off x="8177400" y="3309840"/>
            <a:ext cx="810000" cy="537840"/>
          </a:xfrm>
          <a:prstGeom prst="rect">
            <a:avLst/>
          </a:prstGeom>
          <a:ln w="9525">
            <a:noFill/>
          </a:ln>
        </p:spPr>
      </p:pic>
      <p:pic>
        <p:nvPicPr>
          <p:cNvPr id="853" name="Picture 4" descr=""/>
          <p:cNvPicPr/>
          <p:nvPr/>
        </p:nvPicPr>
        <p:blipFill>
          <a:blip r:embed="rId11"/>
          <a:stretch/>
        </p:blipFill>
        <p:spPr>
          <a:xfrm>
            <a:off x="8286840" y="4187880"/>
            <a:ext cx="799920" cy="812520"/>
          </a:xfrm>
          <a:prstGeom prst="rect">
            <a:avLst/>
          </a:prstGeom>
          <a:ln w="9525">
            <a:noFill/>
          </a:ln>
        </p:spPr>
      </p:pic>
      <p:sp>
        <p:nvSpPr>
          <p:cNvPr id="854" name="Chmurka 41"/>
          <p:cNvSpPr/>
          <p:nvPr/>
        </p:nvSpPr>
        <p:spPr>
          <a:xfrm>
            <a:off x="7000920" y="3395520"/>
            <a:ext cx="713880" cy="428400"/>
          </a:xfrm>
          <a:prstGeom prst="cloud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cxnSp>
        <p:nvCxnSpPr>
          <p:cNvPr id="855" name="Łącznik prosty 48"/>
          <p:cNvCxnSpPr/>
          <p:nvPr/>
        </p:nvCxnSpPr>
        <p:spPr>
          <a:xfrm flipV="1">
            <a:off x="7572240" y="2571480"/>
            <a:ext cx="643320" cy="7862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856" name="Łącznik prosty 51"/>
          <p:cNvCxnSpPr/>
          <p:nvPr/>
        </p:nvCxnSpPr>
        <p:spPr>
          <a:xfrm>
            <a:off x="7715160" y="3571560"/>
            <a:ext cx="428760" cy="21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857" name="Łącznik prosty 62"/>
          <p:cNvCxnSpPr/>
          <p:nvPr/>
        </p:nvCxnSpPr>
        <p:spPr>
          <a:xfrm>
            <a:off x="7572240" y="3786120"/>
            <a:ext cx="714600" cy="5065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858" name="Łącznik prosty 65"/>
          <p:cNvCxnSpPr>
            <a:stCxn id="831" idx="1"/>
            <a:endCxn id="854" idx="2"/>
          </p:cNvCxnSpPr>
          <p:nvPr/>
        </p:nvCxnSpPr>
        <p:spPr>
          <a:xfrm>
            <a:off x="6715080" y="3605040"/>
            <a:ext cx="288360" cy="50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859" name="Text Box 42"/>
          <p:cNvSpPr/>
          <p:nvPr/>
        </p:nvSpPr>
        <p:spPr>
          <a:xfrm>
            <a:off x="971640" y="500076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ole tekstowe 68"/>
          <p:cNvSpPr/>
          <p:nvPr/>
        </p:nvSpPr>
        <p:spPr>
          <a:xfrm>
            <a:off x="1285920" y="3335400"/>
            <a:ext cx="713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ole tekstowe 69"/>
          <p:cNvSpPr/>
          <p:nvPr/>
        </p:nvSpPr>
        <p:spPr>
          <a:xfrm>
            <a:off x="3000240" y="3143160"/>
            <a:ext cx="856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Statistical 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ole tekstowe 70"/>
          <p:cNvSpPr/>
          <p:nvPr/>
        </p:nvSpPr>
        <p:spPr>
          <a:xfrm>
            <a:off x="4857840" y="3129120"/>
            <a:ext cx="856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Golden Rec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ole tekstowe 71"/>
          <p:cNvSpPr/>
          <p:nvPr/>
        </p:nvSpPr>
        <p:spPr>
          <a:xfrm>
            <a:off x="164304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ole tekstowe 72"/>
          <p:cNvSpPr/>
          <p:nvPr/>
        </p:nvSpPr>
        <p:spPr>
          <a:xfrm>
            <a:off x="542916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ole tekstowe 73"/>
          <p:cNvSpPr/>
          <p:nvPr/>
        </p:nvSpPr>
        <p:spPr>
          <a:xfrm>
            <a:off x="350028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ole tekstowe 74"/>
          <p:cNvSpPr/>
          <p:nvPr/>
        </p:nvSpPr>
        <p:spPr>
          <a:xfrm>
            <a:off x="7643880" y="3310200"/>
            <a:ext cx="642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05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ole tekstowe 75"/>
          <p:cNvSpPr/>
          <p:nvPr/>
        </p:nvSpPr>
        <p:spPr>
          <a:xfrm>
            <a:off x="4500720" y="2571840"/>
            <a:ext cx="1142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Questiona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trzałka w prawo 77"/>
          <p:cNvSpPr/>
          <p:nvPr/>
        </p:nvSpPr>
        <p:spPr>
          <a:xfrm>
            <a:off x="1527120" y="5214960"/>
            <a:ext cx="57132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69" name="Chmurka 78"/>
          <p:cNvSpPr/>
          <p:nvPr/>
        </p:nvSpPr>
        <p:spPr>
          <a:xfrm>
            <a:off x="3071880" y="1214280"/>
            <a:ext cx="2714400" cy="1285560"/>
          </a:xfrm>
          <a:prstGeom prst="cloud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Metainformation management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ldNum" idx="52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50A0B2-A78F-413F-803C-AF9EA8A5BC12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" name="Diagram20"/>
          <p:cNvGraphicFramePr/>
          <p:nvPr>
            <p:extLst>
              <p:ext uri="{D42A27DB-BD31-4B8C-83A1-F6EECF244321}">
                <p14:modId xmlns:p14="http://schemas.microsoft.com/office/powerpoint/2010/main" val="3995740344"/>
              </p:ext>
            </p:extLst>
          </p:nvPr>
        </p:nvGraphicFramePr>
        <p:xfrm>
          <a:off x="527760" y="1928880"/>
          <a:ext cx="8330040" cy="4214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86908674"/>
              </p:ext>
            </p:extLst>
          </p:nvPr>
        </p:nvGraphicFramePr>
        <p:xfrm>
          <a:off x="457200" y="1268640"/>
          <a:ext cx="8229240" cy="518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nsus Quality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ldNum" idx="17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402668-0DD5-4A34-B123-3E3C45004852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" name="Diagram21"/>
          <p:cNvGraphicFramePr/>
          <p:nvPr>
            <p:extLst>
              <p:ext uri="{D42A27DB-BD31-4B8C-83A1-F6EECF244321}">
                <p14:modId xmlns:p14="http://schemas.microsoft.com/office/powerpoint/2010/main" val="3543046596"/>
              </p:ext>
            </p:extLst>
          </p:nvPr>
        </p:nvGraphicFramePr>
        <p:xfrm>
          <a:off x="457200" y="1428840"/>
          <a:ext cx="8229240" cy="469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nsus Quality – 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metainformation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ldNum" idx="53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5D75FF-5339-4DEF-B6B5-4D99FA7BCC18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Num" idx="54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2026A2-B915-47C4-BCD7-13E109856723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ole tekstowe 2"/>
          <p:cNvSpPr/>
          <p:nvPr/>
        </p:nvSpPr>
        <p:spPr>
          <a:xfrm>
            <a:off x="3060000" y="6021360"/>
            <a:ext cx="3096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pl-PL" sz="4000" spc="-1" strike="noStrike" cap="all">
                <a:solidFill>
                  <a:srgbClr val="000000"/>
                </a:solidFill>
                <a:latin typeface="Verdana"/>
              </a:rPr>
              <a:t>DATA </a:t>
            </a:r>
            <a:r>
              <a:rPr b="1" lang="en-US" sz="4000" spc="-1" strike="noStrike" cap="all">
                <a:solidFill>
                  <a:srgbClr val="000000"/>
                </a:solidFill>
                <a:latin typeface="Verdana"/>
              </a:rPr>
              <a:t>acquisition</a:t>
            </a:r>
            <a:r>
              <a:rPr b="1" lang="pl-PL" sz="4000" spc="-1" strike="noStrike" cap="all">
                <a:solidFill>
                  <a:srgbClr val="000000"/>
                </a:solidFill>
                <a:latin typeface="Verdana"/>
              </a:rPr>
              <a:t> </a:t>
            </a:r>
            <a:endParaRPr b="0" lang="pl-P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pl-PL" sz="2000" spc="-1" strike="noStrike">
              <a:solidFill>
                <a:srgbClr val="8b8b8b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8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DD7385-8E38-4AAE-8729-A4E7229F3487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rostokąt 35"/>
          <p:cNvSpPr/>
          <p:nvPr/>
        </p:nvSpPr>
        <p:spPr>
          <a:xfrm>
            <a:off x="285840" y="1428840"/>
            <a:ext cx="8715240" cy="50716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Num" idx="19"/>
          </p:nvPr>
        </p:nvSpPr>
        <p:spPr>
          <a:xfrm>
            <a:off x="796752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656E7C-DA1C-4BF7-884C-1E56DBEAD29B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2"/>
          <p:cNvSpPr/>
          <p:nvPr/>
        </p:nvSpPr>
        <p:spPr>
          <a:xfrm>
            <a:off x="861840" y="197496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3"/>
          <p:cNvSpPr/>
          <p:nvPr/>
        </p:nvSpPr>
        <p:spPr>
          <a:xfrm>
            <a:off x="861840" y="252900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T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45"/>
          <p:cNvSpPr/>
          <p:nvPr/>
        </p:nvSpPr>
        <p:spPr>
          <a:xfrm>
            <a:off x="223920" y="210996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1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47"/>
          <p:cNvSpPr/>
          <p:nvPr/>
        </p:nvSpPr>
        <p:spPr>
          <a:xfrm>
            <a:off x="2109600" y="5002200"/>
            <a:ext cx="4571640" cy="998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etadata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50"/>
          <p:cNvSpPr/>
          <p:nvPr/>
        </p:nvSpPr>
        <p:spPr>
          <a:xfrm>
            <a:off x="389556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Operational Microdata Bas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4"/>
          <p:cNvSpPr/>
          <p:nvPr/>
        </p:nvSpPr>
        <p:spPr>
          <a:xfrm>
            <a:off x="214200" y="278604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2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5"/>
          <p:cNvSpPr/>
          <p:nvPr/>
        </p:nvSpPr>
        <p:spPr>
          <a:xfrm>
            <a:off x="214200" y="3456000"/>
            <a:ext cx="742680" cy="418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Registry n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56"/>
          <p:cNvCxnSpPr/>
          <p:nvPr/>
        </p:nvCxnSpPr>
        <p:spPr>
          <a:xfrm>
            <a:off x="966600" y="232884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343" name="AutoShape 57"/>
          <p:cNvCxnSpPr/>
          <p:nvPr/>
        </p:nvCxnSpPr>
        <p:spPr>
          <a:xfrm>
            <a:off x="966600" y="299556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344" name="AutoShape 59"/>
          <p:cNvCxnSpPr/>
          <p:nvPr/>
        </p:nvCxnSpPr>
        <p:spPr>
          <a:xfrm>
            <a:off x="966600" y="369072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345" name="AutoShape 60"/>
          <p:cNvCxnSpPr/>
          <p:nvPr/>
        </p:nvCxnSpPr>
        <p:spPr>
          <a:xfrm>
            <a:off x="975960" y="5510160"/>
            <a:ext cx="26712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346" name="AutoShape 61"/>
          <p:cNvCxnSpPr/>
          <p:nvPr/>
        </p:nvCxnSpPr>
        <p:spPr>
          <a:xfrm>
            <a:off x="1233360" y="2328840"/>
            <a:ext cx="360" cy="318168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347" name="AutoShape 68"/>
          <p:cNvCxnSpPr/>
          <p:nvPr/>
        </p:nvCxnSpPr>
        <p:spPr>
          <a:xfrm>
            <a:off x="2685960" y="3595680"/>
            <a:ext cx="12420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  <a:tailEnd len="med" type="triangle" w="med"/>
          </a:ln>
        </p:spPr>
      </p:cxnSp>
      <p:sp>
        <p:nvSpPr>
          <p:cNvPr id="348" name="AutoShape 82"/>
          <p:cNvSpPr/>
          <p:nvPr/>
        </p:nvSpPr>
        <p:spPr>
          <a:xfrm>
            <a:off x="573408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Analitycal</a:t>
            </a:r>
            <a:br>
              <a:rPr sz="1050"/>
            </a:b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Microdata Bas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52" descr="C:\Documents and Settings\drudzinski\Moje dokumenty\Moje obrazy\Microsoft Clip Organizer\j0236386.gif"/>
          <p:cNvPicPr/>
          <p:nvPr/>
        </p:nvPicPr>
        <p:blipFill>
          <a:blip r:embed="rId1"/>
          <a:stretch/>
        </p:blipFill>
        <p:spPr>
          <a:xfrm>
            <a:off x="252360" y="5195880"/>
            <a:ext cx="590040" cy="715680"/>
          </a:xfrm>
          <a:prstGeom prst="rect">
            <a:avLst/>
          </a:prstGeom>
          <a:ln w="9525">
            <a:noFill/>
          </a:ln>
        </p:spPr>
      </p:pic>
      <p:sp>
        <p:nvSpPr>
          <p:cNvPr id="350" name="AutoShape 50"/>
          <p:cNvSpPr/>
          <p:nvPr/>
        </p:nvSpPr>
        <p:spPr>
          <a:xfrm>
            <a:off x="2038320" y="2900520"/>
            <a:ext cx="980640" cy="1409400"/>
          </a:xfrm>
          <a:prstGeom prst="can">
            <a:avLst>
              <a:gd name="adj" fmla="val 35922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700">
            <a:solidFill>
              <a:srgbClr val="92cddc"/>
            </a:solidFill>
            <a:round/>
          </a:ln>
          <a:effectLst>
            <a:outerShdw algn="ctr" dir="3806096" dist="28174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ETL </a:t>
            </a:r>
            <a:br>
              <a:rPr sz="1050"/>
            </a:b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załka w prawo 54"/>
          <p:cNvSpPr/>
          <p:nvPr/>
        </p:nvSpPr>
        <p:spPr>
          <a:xfrm>
            <a:off x="1252440" y="3562200"/>
            <a:ext cx="78552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2" name="Strzałka w prawo 55"/>
          <p:cNvSpPr/>
          <p:nvPr/>
        </p:nvSpPr>
        <p:spPr>
          <a:xfrm>
            <a:off x="3038400" y="3552840"/>
            <a:ext cx="8568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3" name="Strzałka w prawo 56"/>
          <p:cNvSpPr/>
          <p:nvPr/>
        </p:nvSpPr>
        <p:spPr>
          <a:xfrm>
            <a:off x="4896000" y="3527640"/>
            <a:ext cx="8190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4" name="Strzałka w górę i w dół 57"/>
          <p:cNvSpPr/>
          <p:nvPr/>
        </p:nvSpPr>
        <p:spPr>
          <a:xfrm>
            <a:off x="4243320" y="2500200"/>
            <a:ext cx="285480" cy="5806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355" name="Picture 52" descr="C:\Documents and Settings\drudzinski\Moje dokumenty\Moje obrazy\Microsoft Clip Organizer\j0236386.gif"/>
          <p:cNvPicPr/>
          <p:nvPr/>
        </p:nvPicPr>
        <p:blipFill>
          <a:blip r:embed="rId2"/>
          <a:stretch/>
        </p:blipFill>
        <p:spPr>
          <a:xfrm>
            <a:off x="3467160" y="1428840"/>
            <a:ext cx="642600" cy="779040"/>
          </a:xfrm>
          <a:prstGeom prst="rect">
            <a:avLst/>
          </a:prstGeom>
          <a:ln w="9525">
            <a:noFill/>
          </a:ln>
        </p:spPr>
      </p:pic>
      <p:sp>
        <p:nvSpPr>
          <p:cNvPr id="356" name="Strzałka w górę i w dół 59"/>
          <p:cNvSpPr/>
          <p:nvPr/>
        </p:nvSpPr>
        <p:spPr>
          <a:xfrm>
            <a:off x="239544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7" name="Strzałka w górę i w dół 60"/>
          <p:cNvSpPr/>
          <p:nvPr/>
        </p:nvSpPr>
        <p:spPr>
          <a:xfrm>
            <a:off x="425304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8" name="Strzałka w górę i w dół 61"/>
          <p:cNvSpPr/>
          <p:nvPr/>
        </p:nvSpPr>
        <p:spPr>
          <a:xfrm>
            <a:off x="6143760" y="4344840"/>
            <a:ext cx="285480" cy="71388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9" name="pole tekstowe 62"/>
          <p:cNvSpPr/>
          <p:nvPr/>
        </p:nvSpPr>
        <p:spPr>
          <a:xfrm>
            <a:off x="324000" y="5981760"/>
            <a:ext cx="642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9" descr="C:\Documents and Settings\drudzinski\Moje dokumenty\Moje obrazy\Microsoft Clip Organizer\j0431616.png"/>
          <p:cNvPicPr/>
          <p:nvPr/>
        </p:nvPicPr>
        <p:blipFill>
          <a:blip r:embed="rId3"/>
          <a:stretch/>
        </p:blipFill>
        <p:spPr>
          <a:xfrm>
            <a:off x="273348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361" name="Picture 50" descr="C:\Documents and Settings\drudzinski\Moje dokumenty\Moje obrazy\Microsoft Clip Organizer\j0441340.png"/>
          <p:cNvPicPr/>
          <p:nvPr/>
        </p:nvPicPr>
        <p:blipFill>
          <a:blip r:embed="rId4"/>
          <a:stretch/>
        </p:blipFill>
        <p:spPr>
          <a:xfrm>
            <a:off x="4038480" y="1428840"/>
            <a:ext cx="785520" cy="785520"/>
          </a:xfrm>
          <a:prstGeom prst="rect">
            <a:avLst/>
          </a:prstGeom>
          <a:ln w="9525">
            <a:noFill/>
          </a:ln>
        </p:spPr>
      </p:pic>
      <p:pic>
        <p:nvPicPr>
          <p:cNvPr id="362" name="Picture 49" descr="C:\Documents and Settings\drudzinski\Moje dokumenty\Moje obrazy\Microsoft Clip Organizer\j0431616.png"/>
          <p:cNvPicPr/>
          <p:nvPr/>
        </p:nvPicPr>
        <p:blipFill>
          <a:blip r:embed="rId5"/>
          <a:stretch/>
        </p:blipFill>
        <p:spPr>
          <a:xfrm>
            <a:off x="466236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363" name="Picture 49" descr="C:\Documents and Settings\drudzinski\Moje dokumenty\Moje obrazy\Microsoft Clip Organizer\j0431616.png"/>
          <p:cNvPicPr/>
          <p:nvPr/>
        </p:nvPicPr>
        <p:blipFill>
          <a:blip r:embed="rId6"/>
          <a:stretch/>
        </p:blipFill>
        <p:spPr>
          <a:xfrm>
            <a:off x="6481800" y="382572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364" name="Picture 49" descr="C:\Documents and Settings\drudzinski\Moje dokumenty\Moje obrazy\Microsoft Clip Organizer\j0431616.png"/>
          <p:cNvPicPr/>
          <p:nvPr/>
        </p:nvPicPr>
        <p:blipFill>
          <a:blip r:embed="rId7"/>
          <a:stretch/>
        </p:blipFill>
        <p:spPr>
          <a:xfrm>
            <a:off x="5896080" y="5553000"/>
            <a:ext cx="875880" cy="875880"/>
          </a:xfrm>
          <a:prstGeom prst="rect">
            <a:avLst/>
          </a:prstGeom>
          <a:ln w="9525">
            <a:noFill/>
          </a:ln>
        </p:spPr>
      </p:pic>
      <p:pic>
        <p:nvPicPr>
          <p:cNvPr id="365" name="Picture 34" descr="C:\Documents and Settings\drudzinski\Moje dokumenty\Moje obrazy\Microsoft Clip Organizer\j0438482.jpg"/>
          <p:cNvPicPr/>
          <p:nvPr/>
        </p:nvPicPr>
        <p:blipFill>
          <a:blip r:embed="rId8"/>
          <a:stretch/>
        </p:blipFill>
        <p:spPr>
          <a:xfrm>
            <a:off x="4753080" y="1643040"/>
            <a:ext cx="642600" cy="430200"/>
          </a:xfrm>
          <a:prstGeom prst="rect">
            <a:avLst/>
          </a:prstGeom>
          <a:ln w="0">
            <a:noFill/>
          </a:ln>
        </p:spPr>
      </p:pic>
      <p:sp>
        <p:nvSpPr>
          <p:cNvPr id="366" name="pole tekstowe 34"/>
          <p:cNvSpPr/>
          <p:nvPr/>
        </p:nvSpPr>
        <p:spPr>
          <a:xfrm>
            <a:off x="4110120" y="2214720"/>
            <a:ext cx="785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CAX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Data acquisition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" descr=""/>
          <p:cNvPicPr/>
          <p:nvPr/>
        </p:nvPicPr>
        <p:blipFill>
          <a:blip r:embed="rId9"/>
          <a:stretch/>
        </p:blipFill>
        <p:spPr>
          <a:xfrm>
            <a:off x="8286840" y="2000160"/>
            <a:ext cx="713880" cy="713880"/>
          </a:xfrm>
          <a:prstGeom prst="rect">
            <a:avLst/>
          </a:prstGeom>
          <a:ln w="9525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10"/>
          <a:stretch/>
        </p:blipFill>
        <p:spPr>
          <a:xfrm>
            <a:off x="8177400" y="3309840"/>
            <a:ext cx="810000" cy="537840"/>
          </a:xfrm>
          <a:prstGeom prst="rect">
            <a:avLst/>
          </a:prstGeom>
          <a:ln w="9525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11"/>
          <a:stretch/>
        </p:blipFill>
        <p:spPr>
          <a:xfrm>
            <a:off x="8286840" y="4187880"/>
            <a:ext cx="799920" cy="812520"/>
          </a:xfrm>
          <a:prstGeom prst="rect">
            <a:avLst/>
          </a:prstGeom>
          <a:ln w="9525">
            <a:noFill/>
          </a:ln>
        </p:spPr>
      </p:pic>
      <p:sp>
        <p:nvSpPr>
          <p:cNvPr id="371" name="Chmurka 41"/>
          <p:cNvSpPr/>
          <p:nvPr/>
        </p:nvSpPr>
        <p:spPr>
          <a:xfrm>
            <a:off x="7000920" y="3395520"/>
            <a:ext cx="713880" cy="428400"/>
          </a:xfrm>
          <a:prstGeom prst="cloud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cxnSp>
        <p:nvCxnSpPr>
          <p:cNvPr id="372" name="Łącznik prosty 48"/>
          <p:cNvCxnSpPr/>
          <p:nvPr/>
        </p:nvCxnSpPr>
        <p:spPr>
          <a:xfrm flipV="1">
            <a:off x="7572240" y="2571480"/>
            <a:ext cx="643320" cy="7862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373" name="Łącznik prosty 51"/>
          <p:cNvCxnSpPr/>
          <p:nvPr/>
        </p:nvCxnSpPr>
        <p:spPr>
          <a:xfrm>
            <a:off x="7715160" y="3571560"/>
            <a:ext cx="428760" cy="21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374" name="Łącznik prosty 62"/>
          <p:cNvCxnSpPr/>
          <p:nvPr/>
        </p:nvCxnSpPr>
        <p:spPr>
          <a:xfrm>
            <a:off x="7572240" y="3786120"/>
            <a:ext cx="714600" cy="5065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375" name="Łącznik prosty 65"/>
          <p:cNvCxnSpPr>
            <a:stCxn id="348" idx="1"/>
            <a:endCxn id="371" idx="2"/>
          </p:cNvCxnSpPr>
          <p:nvPr/>
        </p:nvCxnSpPr>
        <p:spPr>
          <a:xfrm>
            <a:off x="6715080" y="3605040"/>
            <a:ext cx="288360" cy="50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376" name="Text Box 42"/>
          <p:cNvSpPr/>
          <p:nvPr/>
        </p:nvSpPr>
        <p:spPr>
          <a:xfrm>
            <a:off x="971640" y="5000760"/>
            <a:ext cx="456840" cy="2584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1" lang="pl-PL" sz="105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ole tekstowe 68"/>
          <p:cNvSpPr/>
          <p:nvPr/>
        </p:nvSpPr>
        <p:spPr>
          <a:xfrm>
            <a:off x="1285920" y="3335400"/>
            <a:ext cx="713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ole tekstowe 69"/>
          <p:cNvSpPr/>
          <p:nvPr/>
        </p:nvSpPr>
        <p:spPr>
          <a:xfrm>
            <a:off x="3000240" y="3143160"/>
            <a:ext cx="856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Statistical 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ole tekstowe 70"/>
          <p:cNvSpPr/>
          <p:nvPr/>
        </p:nvSpPr>
        <p:spPr>
          <a:xfrm>
            <a:off x="4857840" y="3129120"/>
            <a:ext cx="856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Golden Rec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ole tekstowe 71"/>
          <p:cNvSpPr/>
          <p:nvPr/>
        </p:nvSpPr>
        <p:spPr>
          <a:xfrm>
            <a:off x="164304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ole tekstowe 72"/>
          <p:cNvSpPr/>
          <p:nvPr/>
        </p:nvSpPr>
        <p:spPr>
          <a:xfrm>
            <a:off x="542916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ole tekstowe 73"/>
          <p:cNvSpPr/>
          <p:nvPr/>
        </p:nvSpPr>
        <p:spPr>
          <a:xfrm>
            <a:off x="3500280" y="4643280"/>
            <a:ext cx="856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ole tekstowe 74"/>
          <p:cNvSpPr/>
          <p:nvPr/>
        </p:nvSpPr>
        <p:spPr>
          <a:xfrm>
            <a:off x="7643880" y="3310200"/>
            <a:ext cx="642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050" spc="-1" strike="noStrike">
                <a:solidFill>
                  <a:srgbClr val="000000"/>
                </a:solidFill>
                <a:latin typeface="Arial"/>
              </a:rPr>
              <a:t>SDMX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ole tekstowe 75"/>
          <p:cNvSpPr/>
          <p:nvPr/>
        </p:nvSpPr>
        <p:spPr>
          <a:xfrm>
            <a:off x="4500720" y="2571840"/>
            <a:ext cx="1142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Questionar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załka w prawo 77"/>
          <p:cNvSpPr/>
          <p:nvPr/>
        </p:nvSpPr>
        <p:spPr>
          <a:xfrm>
            <a:off x="1527120" y="5214960"/>
            <a:ext cx="57132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86" name="Chmurka 78"/>
          <p:cNvSpPr/>
          <p:nvPr/>
        </p:nvSpPr>
        <p:spPr>
          <a:xfrm>
            <a:off x="3071880" y="1214280"/>
            <a:ext cx="2714400" cy="1285560"/>
          </a:xfrm>
          <a:prstGeom prst="cloud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87" name="Prostokąt zaokrąglony 63"/>
          <p:cNvSpPr/>
          <p:nvPr/>
        </p:nvSpPr>
        <p:spPr>
          <a:xfrm>
            <a:off x="71280" y="1428840"/>
            <a:ext cx="1642680" cy="49287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l-PL" sz="1800" spc="-1" strike="noStrike">
              <a:solidFill>
                <a:schemeClr val="l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704406879"/>
              </p:ext>
            </p:extLst>
          </p:nvPr>
        </p:nvGraphicFramePr>
        <p:xfrm>
          <a:off x="457200" y="1428840"/>
          <a:ext cx="8229240" cy="4214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quisition</a:t>
            </a: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Num" idx="20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FB51F1-8D17-4C58-8BDD-2AE626D267E2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" descr=""/>
          <p:cNvPicPr/>
          <p:nvPr/>
        </p:nvPicPr>
        <p:blipFill>
          <a:blip r:embed="rId6"/>
          <a:stretch/>
        </p:blipFill>
        <p:spPr>
          <a:xfrm>
            <a:off x="5072040" y="3571920"/>
            <a:ext cx="3552480" cy="2638080"/>
          </a:xfrm>
          <a:prstGeom prst="rect">
            <a:avLst/>
          </a:prstGeom>
          <a:ln w="9525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476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Data acquisition - Portal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Num" idx="21"/>
          </p:nvPr>
        </p:nvSpPr>
        <p:spPr>
          <a:xfrm>
            <a:off x="8643960" y="6492960"/>
            <a:ext cx="49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527130-1EEE-47DE-B470-09CC90AAFC2B}" type="slidenum">
              <a:rPr b="0" lang="pl-PL" sz="1200" spc="-1" strike="noStrike">
                <a:solidFill>
                  <a:srgbClr val="ffffff"/>
                </a:solidFill>
                <a:latin typeface="Verdana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7602120" cy="5095080"/>
          </a:xfrm>
          <a:prstGeom prst="rect">
            <a:avLst/>
          </a:prstGeom>
          <a:ln w="9525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tyw pakietu Office">
  <a:themeElements>
    <a:clrScheme name="Pakiet 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tyw pakietu Office">
  <a:themeElements>
    <a:clrScheme name="Pakiet 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otyw pakietu Office">
  <a:themeElements>
    <a:clrScheme name="Pakiet 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otyw pakietu Office">
  <a:themeElements>
    <a:clrScheme name="Pakiet 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Motyw pakietu Office">
  <a:themeElements>
    <a:clrScheme name="Pakiet 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Motyw pakietu Office">
  <a:themeElements>
    <a:clrScheme name="Pakiet 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2</TotalTime>
  <Application>LibreOffice/7.4.7.2$Linux_X86_64 LibreOffice_project/40$Build-2</Application>
  <AppVersion>15.0000</AppVersion>
  <Words>1390</Words>
  <Paragraphs>42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0:05:21Z</dcterms:created>
  <dc:creator>AKOldak</dc:creator>
  <dc:description/>
  <dc:language>en-US</dc:language>
  <cp:lastModifiedBy>Administrator</cp:lastModifiedBy>
  <dcterms:modified xsi:type="dcterms:W3CDTF">2010-07-07T22:45:50Z</dcterms:modified>
  <cp:revision>365</cp:revision>
  <dc:subject/>
  <dc:title>Slajd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Pokaz na ekranie (4:3)</vt:lpwstr>
  </property>
  <property fmtid="{D5CDD505-2E9C-101B-9397-08002B2CF9AE}" pid="4" name="Slides">
    <vt:r8>51</vt:r8>
  </property>
</Properties>
</file>