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1813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289051-A7F7-46A1-B53A-6F773FC90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Num" idx="10"/>
          </p:nvPr>
        </p:nvSpPr>
        <p:spPr>
          <a:xfrm>
            <a:off x="3898800" y="8831160"/>
            <a:ext cx="298260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4D1FEC-66EB-412F-BC35-32D3D0686E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3"/>
          <p:cNvSpPr>
            <a:spLocks noGrp="1"/>
          </p:cNvSpPr>
          <p:nvPr>
            <p:ph type="body"/>
          </p:nvPr>
        </p:nvSpPr>
        <p:spPr>
          <a:xfrm>
            <a:off x="915840" y="4416480"/>
            <a:ext cx="504936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Num" idx="11"/>
          </p:nvPr>
        </p:nvSpPr>
        <p:spPr>
          <a:xfrm>
            <a:off x="3898800" y="8831160"/>
            <a:ext cx="298260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20FCBB-2E6B-4840-B951-8404B94245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915840" y="4416480"/>
            <a:ext cx="504936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F14-4267-4028-B004-22D7BBDA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6512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380-00F8-429E-8378-F4CFB692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96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6D4-0652-4F51-8BA7-C0FFF7E2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824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824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8E7-99CE-4FA4-8223-D8BD12CA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0AFB-5B72-46CB-8813-B5C485A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6F4-8664-4D89-AC34-500A96C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DB4-1F9A-4438-A6CF-0CFDDE7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2C9-FFA0-4711-867F-BFED53E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A2B-DDB5-4ECB-B87D-2682595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3651-3FB8-4D6B-8597-C3C51D2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464-AC0F-4147-A847-718573E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EFB-95A9-43AF-B7A8-EECD6B8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796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7506-DC87-45E6-BB1A-B66FDFC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701C-FC02-41EA-AD15-268E266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6512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81A-EB86-4A21-820E-6E779A6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796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CB27-3840-40E6-9BA3-6E2FBAC0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272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8240" y="188604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272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8240" y="406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947-4BD5-4297-B01C-78EF0A6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522-9B91-464D-8B18-B2A985FA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B96-E18F-4415-8985-D9CF413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09A-5BBB-4BFE-965C-E28D1C16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11E-DBE8-4A08-8FB4-B8D0CCF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39B-8119-4EF2-8EB0-4A9B862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960" y="406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1AF-CA8F-474C-9239-22AFC14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960" y="188604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65120"/>
            <a:ext cx="81784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CAE-C2DD-4DC7-A9C9-801BFFD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240" cy="38376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8" descr="csoLogo"/>
          <p:cNvPicPr/>
          <p:nvPr/>
        </p:nvPicPr>
        <p:blipFill>
          <a:blip r:embed="rId3"/>
          <a:stretch/>
        </p:blipFill>
        <p:spPr>
          <a:xfrm>
            <a:off x="0" y="0"/>
            <a:ext cx="4057200" cy="685440"/>
          </a:xfrm>
          <a:prstGeom prst="rect">
            <a:avLst/>
          </a:prstGeom>
          <a:ln w="9525">
            <a:noFill/>
          </a:ln>
        </p:spPr>
      </p:pic>
      <p:pic>
        <p:nvPicPr>
          <p:cNvPr id="2" name="Picture 7" descr="A:\paint.GIF"/>
          <p:cNvPicPr/>
          <p:nvPr/>
        </p:nvPicPr>
        <p:blipFill>
          <a:blip r:embed="rId4"/>
          <a:stretch/>
        </p:blipFill>
        <p:spPr>
          <a:xfrm>
            <a:off x="914400" y="1828800"/>
            <a:ext cx="8229240" cy="3837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21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Master title style</a:t>
            </a:r>
            <a:endParaRPr b="0" lang="en-GB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1360" y="6229440"/>
            <a:ext cx="1929960" cy="51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49640" y="6229440"/>
            <a:ext cx="2844360" cy="51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440"/>
            <a:ext cx="1828440" cy="51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5439DDC7-51DC-4F57-9FB2-43248AD28C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240" cy="383760"/>
          </a:xfrm>
          <a:prstGeom prst="rect">
            <a:avLst/>
          </a:prstGeom>
          <a:ln w="9525">
            <a:noFill/>
          </a:ln>
        </p:spPr>
      </p:pic>
      <p:pic>
        <p:nvPicPr>
          <p:cNvPr id="45" name="Picture 8" descr="csoLogo"/>
          <p:cNvPicPr/>
          <p:nvPr/>
        </p:nvPicPr>
        <p:blipFill>
          <a:blip r:embed="rId3"/>
          <a:stretch/>
        </p:blipFill>
        <p:spPr>
          <a:xfrm>
            <a:off x="0" y="0"/>
            <a:ext cx="4057200" cy="685440"/>
          </a:xfrm>
          <a:prstGeom prst="rect">
            <a:avLst/>
          </a:prstGeom>
          <a:ln w="9525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Master title style</a:t>
            </a:r>
            <a:endParaRPr b="0" lang="en-GB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Master text styl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Monotype Sorts" charset="2"/>
              <a:buChar char=""/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level</a:t>
            </a: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Monotype Sorts" charset="2"/>
              <a:buChar char="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level</a:t>
            </a:r>
            <a:endParaRPr b="0" lang="en-GB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level</a:t>
            </a: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31640" y="622944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2944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30920" y="622944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1EC6B70D-1332-4004-AAE8-FD9FD51018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21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ensus 2011 dissemination strategy - Ireland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720" y="3657600"/>
            <a:ext cx="6400440" cy="2437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Aidan Punch, Director of Census, Central Statistics Office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United Nations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Wednesday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Jul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Main challenges 1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or a census to be successful every phase has to work well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e need to work hard at understanding users’ needs and maintaining close liaison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avigating census results through online search facilities very important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Users may link to census via other sit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Main challenges 2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eed for members states to make EU info available as speedily as possible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urostat should invest in user friendly front end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Use of mapping products to enhance census outputs an area for development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eeting users’ needs while maintaining confidentiality of individual data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ayout of presentation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ensus 2006 dissemination strategy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ultation on Census 2011 strateg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eedback from consultation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ensus 2011 strategy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in challeng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ve yearly censuses provide major opportunity to build census brand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umerator delivery and collection of form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6 month processing cycle using OCR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rst definitive outputs within 12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ll outputs cleared by 20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2006 dissemination strategy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eliminary data within 3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incipal demographic results 11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incipal socioeconomic results 14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 further 13 reports 12-20 month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mall area population statistics (68 tables, in 15 themes, for 10 different geographi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5% sample of anonymised record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search microdata file of place of work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Consultation on 2011 outputs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hoice between web only and hard copy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hoice of dissemination tool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ensus releases organised by theme?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pulation profiles (snapshot reports)?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mall area data to be made available using GIS and mapping techniques?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Feedback from consultation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evel of response disappointing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Varying interpretation of web tabl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Users indifferent to choice of dissemination software packag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thusiastic welcome for Census Releas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ikewise population profile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totype mapping tool (SAPMAP) well received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2011 dissemination strategy 1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ardcopy reports reduced from 18 to 4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ensus releases containing interpretation, analysis, 10 key tables, thematic maps and graphs, comparison with earlier year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ecise number and sequencing to be decided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livering planned releases in April to December 2012 very challenging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2011 dissemination strategy 2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ajority of census tables in interactive table format using PC-Axi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nce table appears on screen user can print, download or customise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pulation profiles for selected geographical layers (mainly towns)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ainly discursive but with map, summary tables and chart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3600" spc="-1" strike="noStrike">
                <a:solidFill>
                  <a:srgbClr val="000000"/>
                </a:solidFill>
                <a:latin typeface="Arial Black"/>
              </a:rPr>
              <a:t>2011 dissemination strategy 3</a:t>
            </a:r>
            <a:endParaRPr b="0" lang="en-GB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78480" cy="41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10% household public use sample to be lodged with IPUMS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Font typeface="Monotype Sorts" charset="2"/>
              <a:buChar char=""/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WCAR (travel to work, school and college) research microdata file again to be made available</a:t>
            </a: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temporary Portrait">
  <a:themeElements>
    <a:clrScheme name="Contemporary Portrait 2">
      <a:dk1>
        <a:srgbClr val="000000"/>
      </a:dk1>
      <a:lt1>
        <a:srgbClr val="ffffff"/>
      </a:lt1>
      <a:dk2>
        <a:srgbClr val="000000"/>
      </a:dk2>
      <a:lt2>
        <a:srgbClr val="5e574e"/>
      </a:lt2>
      <a:accent1>
        <a:srgbClr val="ff6600"/>
      </a:accent1>
      <a:accent2>
        <a:srgbClr val="ffcc00"/>
      </a:accent2>
      <a:accent3>
        <a:srgbClr val="ffffff"/>
      </a:accent3>
      <a:accent4>
        <a:srgbClr val="000000"/>
      </a:accent4>
      <a:accent5>
        <a:srgbClr val="ffb8aa"/>
      </a:accent5>
      <a:accent6>
        <a:srgbClr val="e7b900"/>
      </a:accent6>
      <a:hlink>
        <a:srgbClr val="996633"/>
      </a:hlink>
      <a:folHlink>
        <a:srgbClr val="808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temporary Portrait">
  <a:themeElements>
    <a:clrScheme name="Contemporary Portrait 2">
      <a:dk1>
        <a:srgbClr val="000000"/>
      </a:dk1>
      <a:lt1>
        <a:srgbClr val="ffffff"/>
      </a:lt1>
      <a:dk2>
        <a:srgbClr val="000000"/>
      </a:dk2>
      <a:lt2>
        <a:srgbClr val="5e574e"/>
      </a:lt2>
      <a:accent1>
        <a:srgbClr val="ff6600"/>
      </a:accent1>
      <a:accent2>
        <a:srgbClr val="ffcc00"/>
      </a:accent2>
      <a:accent3>
        <a:srgbClr val="ffffff"/>
      </a:accent3>
      <a:accent4>
        <a:srgbClr val="000000"/>
      </a:accent4>
      <a:accent5>
        <a:srgbClr val="ffb8aa"/>
      </a:accent5>
      <a:accent6>
        <a:srgbClr val="e7b900"/>
      </a:accent6>
      <a:hlink>
        <a:srgbClr val="996633"/>
      </a:hlink>
      <a:folHlink>
        <a:srgbClr val="808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5e574e"/>
      </a:lt2>
      <a:accent1>
        <a:srgbClr val="ff6600"/>
      </a:accent1>
      <a:accent2>
        <a:srgbClr val="ffcc00"/>
      </a:accent2>
      <a:accent3>
        <a:srgbClr val="ffffff"/>
      </a:accent3>
      <a:accent4>
        <a:srgbClr val="000000"/>
      </a:accent4>
      <a:accent5>
        <a:srgbClr val="ffb8aa"/>
      </a:accent5>
      <a:accent6>
        <a:srgbClr val="e7b900"/>
      </a:accent6>
      <a:hlink>
        <a:srgbClr val="996633"/>
      </a:hlink>
      <a:folHlink>
        <a:srgbClr val="808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  <Words>403</Words>
  <Paragraphs>64</Paragraphs>
  <Company>Central Statistics Off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0:38:21Z</dcterms:created>
  <dc:creator>PunchA</dc:creator>
  <dc:description/>
  <dc:language>en-US</dc:language>
  <cp:lastModifiedBy>csd</cp:lastModifiedBy>
  <cp:lastPrinted>2008-02-04T15:53:07Z</cp:lastPrinted>
  <dcterms:modified xsi:type="dcterms:W3CDTF">2010-07-07T12:25:14Z</dcterms:modified>
  <cp:revision>88</cp:revision>
  <dc:subject/>
  <dc:title>Census 2006 Principal Demographic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