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6561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36561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71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71b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71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71bb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cotland’s Census Quality Survey 2011</a:t>
            </a:r>
            <a:endParaRPr b="0" lang="en-US" sz="31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68436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l Jack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Register Office for Scot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Example 1: Same response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2494080"/>
            <a:ext cx="8229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8229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Example 2: Equivalent response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2494080"/>
            <a:ext cx="8229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2494080"/>
            <a:ext cx="8229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2494080"/>
            <a:ext cx="8229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Example 3: Different response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2494080"/>
            <a:ext cx="8229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2494080"/>
            <a:ext cx="8229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2494080"/>
            <a:ext cx="8229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Sample design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1000 household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Not random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Three areas of different types: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71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Urban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71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Rura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71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emi-rural/market town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Early census returns only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Results still usefu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Fieldwork design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3 teams of 7 interviewers (including manager)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50 households each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Assistant interviewer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Interview takes up to 1 hour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Household and person question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Agenda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Background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Overview of CQ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Use of IT in 2011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2011 survey design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2009 rehearsal experience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ummary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Lessons from rehearsal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Carry out as soon as possible after census day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71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Memory effect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71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Mover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Don’t ask about overnight visitor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Upload from home via broadband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ecurity features must be unobtrusive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Some results from the rehearsal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Self-contained accommodation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98.7%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Country of birth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99.5%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Number of rooms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66.0%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Nature of disability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75.6%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4392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Summary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CQS gives measure of accuracy level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Use of IT in field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1000 households in selected area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Rehearsed in 2009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Why have a quality survey?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elf-completion censu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Provide measure of reliability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Feed into future censuse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Format of CQS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Post enumeration survey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amples households that have responded to censu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Re-asks census questions and compares result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Asks reason for any discrepancies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ubOvalCallout"/>
          <p:cNvSpPr/>
          <p:nvPr/>
        </p:nvSpPr>
        <p:spPr>
          <a:xfrm>
            <a:off x="108000" y="1413000"/>
            <a:ext cx="5400720" cy="3024000"/>
          </a:xfrm>
          <a:custGeom>
            <a:avLst/>
            <a:gdLst>
              <a:gd name="textAreaLeft" fmla="*/ 790560 w 5400720"/>
              <a:gd name="textAreaRight" fmla="*/ 4610160 w 5400720"/>
              <a:gd name="textAreaTop" fmla="*/ 332280 h 3024000"/>
              <a:gd name="textAreaBottom" fmla="*/ 1937160 h 30240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Arial"/>
              </a:rPr>
              <a:t>You’ve just told me that you have a mortgage, but in the census you said you own the house outright. Which was correct on census d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ubRRectCallout"/>
          <p:cNvSpPr/>
          <p:nvPr/>
        </p:nvSpPr>
        <p:spPr>
          <a:xfrm>
            <a:off x="4643280" y="3213000"/>
            <a:ext cx="4248360" cy="1582920"/>
          </a:xfrm>
          <a:custGeom>
            <a:avLst/>
            <a:gdLst>
              <a:gd name="textAreaLeft" fmla="*/ 28440 w 4248360"/>
              <a:gd name="textAreaRight" fmla="*/ 4210920 w 4248360"/>
              <a:gd name="textAreaTop" fmla="*/ 10440 h 1582920"/>
              <a:gd name="textAreaBottom" fmla="*/ 1253520 h 15829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Arial"/>
              </a:rPr>
              <a:t>I have a mortgage. I must have misunderstood the question on the cens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4654440"/>
            <a:ext cx="8650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1bb"/>
                </a:solidFill>
                <a:latin typeface="Arial"/>
              </a:rPr>
              <a:t>Correct response: Owns with a mortg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1bb"/>
                </a:solidFill>
                <a:latin typeface="Arial"/>
              </a:rPr>
              <a:t>Reason for difference: Misunderstood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Example 1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ubOvalCallout"/>
          <p:cNvSpPr/>
          <p:nvPr/>
        </p:nvSpPr>
        <p:spPr>
          <a:xfrm>
            <a:off x="108000" y="1413000"/>
            <a:ext cx="5400720" cy="3024000"/>
          </a:xfrm>
          <a:custGeom>
            <a:avLst/>
            <a:gdLst>
              <a:gd name="textAreaLeft" fmla="*/ 790560 w 5400720"/>
              <a:gd name="textAreaRight" fmla="*/ 4610160 w 5400720"/>
              <a:gd name="textAreaTop" fmla="*/ 332280 h 3024000"/>
              <a:gd name="textAreaBottom" fmla="*/ 1937160 h 30240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Arial"/>
              </a:rPr>
              <a:t>You’ve just told me that you are retired, but in the census you said you were working full time. Which was correct on census d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ubRRectCallout"/>
          <p:cNvSpPr/>
          <p:nvPr/>
        </p:nvSpPr>
        <p:spPr>
          <a:xfrm>
            <a:off x="4643280" y="3213000"/>
            <a:ext cx="4248360" cy="1582920"/>
          </a:xfrm>
          <a:custGeom>
            <a:avLst/>
            <a:gdLst>
              <a:gd name="textAreaLeft" fmla="*/ 28440 w 4248360"/>
              <a:gd name="textAreaRight" fmla="*/ 4210920 w 4248360"/>
              <a:gd name="textAreaTop" fmla="*/ 10440 h 1582920"/>
              <a:gd name="textAreaBottom" fmla="*/ 1253520 h 15829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1bb"/>
                </a:solidFill>
                <a:latin typeface="Arial"/>
              </a:rPr>
              <a:t>I was working on census day, but I have since ret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654440"/>
            <a:ext cx="8650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1bb"/>
                </a:solidFill>
                <a:latin typeface="Arial"/>
              </a:rPr>
              <a:t>Correct response: Full-time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1bb"/>
                </a:solidFill>
                <a:latin typeface="Arial"/>
              </a:rPr>
              <a:t>Reason for difference: No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Example 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Output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Quality report giving accuracy rate for each question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ome examples from 2001: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sex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99.9%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hours worked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80.2%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qualifications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60.6%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number of rooms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72bb"/>
                </a:solidFill>
                <a:latin typeface="Verdana"/>
              </a:rPr>
              <a:t>77.5%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Use of laptops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Lightweight mini-laptop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Preloaded with relevant census data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All data encrypted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Microsoft Access application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Regular uploads to census HQ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Sample screenshot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201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9:53:28Z</dcterms:created>
  <dc:creator>Craig Armstrong</dc:creator>
  <dc:description/>
  <dc:language>en-US</dc:language>
  <cp:lastModifiedBy>N Jackson</cp:lastModifiedBy>
  <cp:lastPrinted>2008-09-19T10:44:59Z</cp:lastPrinted>
  <dcterms:modified xsi:type="dcterms:W3CDTF">2010-06-28T08:39:56Z</dcterms:modified>
  <cp:revision>99</cp:revision>
  <dc:subject>GROSnet Census Database, Power Point Template</dc:subject>
  <dc:title>Sample title</dc:title>
</cp:coreProperties>
</file>