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780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696960" y="738000"/>
            <a:ext cx="5338800" cy="369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896400" y="4679640"/>
            <a:ext cx="4938840" cy="4437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9362880"/>
            <a:ext cx="291780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14560" y="9362880"/>
            <a:ext cx="291780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16E5A4E-90E7-49B4-961C-6E8CBA7E25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696960" y="738360"/>
            <a:ext cx="5338800" cy="36954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96400" y="4679640"/>
            <a:ext cx="493884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Dian numeron paikkamerkki 3"/>
          <p:cNvSpPr/>
          <p:nvPr/>
        </p:nvSpPr>
        <p:spPr>
          <a:xfrm>
            <a:off x="3814920" y="93632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002952C-3139-4305-B42F-A455664C21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696960" y="738360"/>
            <a:ext cx="5338800" cy="36954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96400" y="4679640"/>
            <a:ext cx="4938840" cy="4437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marL="193680" indent="-1936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Change Register homeless to Register-based home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14920" y="93632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AE82A71-660D-400A-995C-DF36FD6CCE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3C34E-9811-43AD-83E7-0ED40B27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B85AA-CA0C-44B5-8592-E91C2E3E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BF551-F947-4F5B-AAB4-FD32636D8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992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3680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268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992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3680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55694-5DE4-4D59-AAD9-93A80BEF2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2680" y="83772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C69B6-D7F0-4B16-83EB-9EBC5029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8992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3680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268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8992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43680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0380B-6004-4EEB-8C9A-E8BE54C1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94121-1365-43BB-B6F1-78B9DEAF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1E905-EDEF-4426-BC4D-67CAF442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83772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6AA1D-A02E-4BF7-8D7A-946D36B1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98CB8-67C5-431D-B2B8-9367914F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3E6DD-FA36-49AF-A5EB-065DB117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39CF3-D545-4384-8E02-0A7237D8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db333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db3334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185760">
              <a:spcBef>
                <a:spcPts val="601"/>
              </a:spcBef>
              <a:buClr>
                <a:srgbClr val="db3334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0200" indent="-198360">
              <a:spcBef>
                <a:spcPts val="601"/>
              </a:spcBef>
              <a:buClr>
                <a:srgbClr val="db3334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19360" indent="-198360">
              <a:spcBef>
                <a:spcPts val="601"/>
              </a:spcBef>
              <a:buClr>
                <a:srgbClr val="db3334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19360" indent="-1983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19360" indent="-1983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95720" y="6552720"/>
            <a:ext cx="15303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21/10/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201240" y="6552720"/>
            <a:ext cx="5522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5D14-7423-4771-9F51-C97B8ED9518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5409720" y="6552720"/>
            <a:ext cx="22100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Jari Nieminen/ Population Stati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8" descr="D:\TP\viestinta\grafi\mallit\lyhyt viiva.tif"/>
          <p:cNvPicPr/>
          <p:nvPr/>
        </p:nvPicPr>
        <p:blipFill>
          <a:blip r:embed="rId2"/>
          <a:stretch/>
        </p:blipFill>
        <p:spPr>
          <a:xfrm>
            <a:off x="5459400" y="6516720"/>
            <a:ext cx="4446720" cy="363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38" descr="D:\2004\tp\grafi\kalvopohjat\englanti2.jpg"/>
          <p:cNvPicPr/>
          <p:nvPr/>
        </p:nvPicPr>
        <p:blipFill>
          <a:blip r:embed="rId3"/>
          <a:stretch/>
        </p:blipFill>
        <p:spPr>
          <a:xfrm>
            <a:off x="306360" y="227160"/>
            <a:ext cx="3070080" cy="54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6" descr="D:\TP\viestinta\grafi\mallit\pitkapaksuviiva3.tif"/>
          <p:cNvPicPr/>
          <p:nvPr/>
        </p:nvPicPr>
        <p:blipFill>
          <a:blip r:embed="rId2"/>
          <a:stretch/>
        </p:blipFill>
        <p:spPr>
          <a:xfrm>
            <a:off x="0" y="6437160"/>
            <a:ext cx="9926640" cy="573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3" descr="D:\2004\tp\grafi\kalvopohjat\englanti2.jpg"/>
          <p:cNvPicPr/>
          <p:nvPr/>
        </p:nvPicPr>
        <p:blipFill>
          <a:blip r:embed="rId3"/>
          <a:stretch/>
        </p:blipFill>
        <p:spPr>
          <a:xfrm>
            <a:off x="304920" y="227160"/>
            <a:ext cx="4267080" cy="760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db333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db3334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185760">
              <a:spcBef>
                <a:spcPts val="601"/>
              </a:spcBef>
              <a:buClr>
                <a:srgbClr val="db3334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0200" indent="-198360">
              <a:spcBef>
                <a:spcPts val="601"/>
              </a:spcBef>
              <a:buClr>
                <a:srgbClr val="db3334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19360" indent="-198360">
              <a:spcBef>
                <a:spcPts val="601"/>
              </a:spcBef>
              <a:buClr>
                <a:srgbClr val="db3334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19360" indent="-1983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19360" indent="-1983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09720" y="1500120"/>
            <a:ext cx="731520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use of population register data for defining the homeless in Fin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81400" y="4786200"/>
            <a:ext cx="73152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Jari Niemin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tatistics Fi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8000" y="49968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uration of homeles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742680" y="1571400"/>
            <a:ext cx="842004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185760">
              <a:spcBef>
                <a:spcPts val="601"/>
              </a:spcBef>
              <a:buClr>
                <a:srgbClr val="db333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uration of the last period of homeless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db333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tal time of being homeless within a year or several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db333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tal number of periods within a year or several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db333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bsolute and relative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db333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nish definition of long-term homelessn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db3334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meless at least one year (peri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db3334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least two times within two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db3334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vere social or health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äivämäärän paikkamerkki 3"/>
          <p:cNvSpPr/>
          <p:nvPr/>
        </p:nvSpPr>
        <p:spPr>
          <a:xfrm>
            <a:off x="7696080" y="6553080"/>
            <a:ext cx="1530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1/10/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ian numeron paikkamerkki 4"/>
          <p:cNvSpPr/>
          <p:nvPr/>
        </p:nvSpPr>
        <p:spPr>
          <a:xfrm>
            <a:off x="9201240" y="6553080"/>
            <a:ext cx="55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B081-04CC-4290-B7C6-7B741A4B0D60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latunnisteen paikkamerkki 5"/>
          <p:cNvSpPr/>
          <p:nvPr/>
        </p:nvSpPr>
        <p:spPr>
          <a:xfrm>
            <a:off x="5410080" y="6553080"/>
            <a:ext cx="2210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ri Nieminen/ Population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66360" y="64260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meless 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95080" y="164304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185760">
              <a:spcBef>
                <a:spcPts val="601"/>
              </a:spcBef>
              <a:buClr>
                <a:srgbClr val="db333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decision made (10/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db333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mple could be taken using register-based information on the homel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db333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ection of data could be done by social and housing authorities (10-15 of the largest municipaliti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db333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uable information for the population register for updating the register (emigration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db333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mple data can also be combined with register data to get mor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db333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ly statistical data published using statistical confidentiality and data protec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db333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äivämäärän paikkamerkki 3"/>
          <p:cNvSpPr/>
          <p:nvPr/>
        </p:nvSpPr>
        <p:spPr>
          <a:xfrm>
            <a:off x="7696080" y="6553080"/>
            <a:ext cx="1530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1/10/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ian numeron paikkamerkki 4"/>
          <p:cNvSpPr/>
          <p:nvPr/>
        </p:nvSpPr>
        <p:spPr>
          <a:xfrm>
            <a:off x="9201240" y="6553080"/>
            <a:ext cx="55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49A5-5C40-43DC-8A03-6C83A3D64DD5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latunnisteen paikkamerkki 5"/>
          <p:cNvSpPr/>
          <p:nvPr/>
        </p:nvSpPr>
        <p:spPr>
          <a:xfrm>
            <a:off x="5410080" y="6553080"/>
            <a:ext cx="2210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ri Nieminen/ Population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Top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76400" indent="-176400">
              <a:spcBef>
                <a:spcPts val="601"/>
              </a:spcBef>
              <a:buClr>
                <a:srgbClr val="db333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/ECE 2010 Census recommendation: housing arrangements  covers the whole population. The EU regulation 763/2008 made it obligatory for the EU Member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400" indent="-176400">
              <a:spcBef>
                <a:spcPts val="601"/>
              </a:spcBef>
              <a:buClr>
                <a:srgbClr val="db333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use the population register to estimate and describe homeless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400" indent="-176400">
              <a:spcBef>
                <a:spcPts val="601"/>
              </a:spcBef>
              <a:buClr>
                <a:srgbClr val="db333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use the information of other official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400" indent="-176400">
              <a:spcBef>
                <a:spcPts val="601"/>
              </a:spcBef>
              <a:buClr>
                <a:srgbClr val="db333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e the data quality in the population regist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400" indent="-176400">
              <a:spcBef>
                <a:spcPts val="601"/>
              </a:spcBef>
              <a:buClr>
                <a:srgbClr val="db333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pulation register as a sample frame (homeless survey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400" indent="-176400">
              <a:spcBef>
                <a:spcPts val="601"/>
              </a:spcBef>
              <a:buClr>
                <a:srgbClr val="db333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meless 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400" indent="-176400">
              <a:spcBef>
                <a:spcPts val="601"/>
              </a:spcBef>
              <a:buClr>
                <a:srgbClr val="db333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äivämäärän paikkamerkki 3"/>
          <p:cNvSpPr/>
          <p:nvPr/>
        </p:nvSpPr>
        <p:spPr>
          <a:xfrm>
            <a:off x="7696080" y="6553080"/>
            <a:ext cx="1530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1/10/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ian numeron paikkamerkki 4"/>
          <p:cNvSpPr/>
          <p:nvPr/>
        </p:nvSpPr>
        <p:spPr>
          <a:xfrm>
            <a:off x="9201240" y="6553080"/>
            <a:ext cx="55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7445-9162-4183-8AD1-BCE9AEA42C44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latunnisteen paikkamerkki 5"/>
          <p:cNvSpPr/>
          <p:nvPr/>
        </p:nvSpPr>
        <p:spPr>
          <a:xfrm>
            <a:off x="5410080" y="6553080"/>
            <a:ext cx="2210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ri Nieminen/ Population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ister-based information on homeles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185760">
              <a:spcBef>
                <a:spcPts val="601"/>
              </a:spcBef>
              <a:buClr>
                <a:srgbClr val="db333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sonal ID (age, se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db333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micile code (place of residence: at least the municipa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db333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story of housing conditions (information on previous permanent residences: address, household information, dwelling size, density, tenure status, and information on the duration of the period when a person does not live at a permanent residence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db333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 on homeless people in other registers (employment, unemployment, subsides, income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db333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äivämäärän paikkamerkki 3"/>
          <p:cNvSpPr/>
          <p:nvPr/>
        </p:nvSpPr>
        <p:spPr>
          <a:xfrm>
            <a:off x="7696080" y="6553080"/>
            <a:ext cx="1530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1/10/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ian numeron paikkamerkki 4"/>
          <p:cNvSpPr/>
          <p:nvPr/>
        </p:nvSpPr>
        <p:spPr>
          <a:xfrm>
            <a:off x="9201240" y="6553080"/>
            <a:ext cx="55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B54D-EC0E-4913-A639-3D404413453B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latunnisteen paikkamerkki 5"/>
          <p:cNvSpPr/>
          <p:nvPr/>
        </p:nvSpPr>
        <p:spPr>
          <a:xfrm>
            <a:off x="5410080" y="6553080"/>
            <a:ext cx="2210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ri Nieminen/ Population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sibilities to study homeles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185760">
              <a:spcBef>
                <a:spcPts val="601"/>
              </a:spcBef>
              <a:buClr>
                <a:srgbClr val="db333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oss-sectional stu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db3334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pulati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db3334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db333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itudinal stu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db3334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ister-based information on previous housing conditions of homeless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db333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iling data from various register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184320">
              <a:spcBef>
                <a:spcPts val="601"/>
              </a:spcBef>
              <a:buClr>
                <a:srgbClr val="db3334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itudinal or cross-sect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äivämäärän paikkamerkki 3"/>
          <p:cNvSpPr/>
          <p:nvPr/>
        </p:nvSpPr>
        <p:spPr>
          <a:xfrm>
            <a:off x="7696080" y="6553080"/>
            <a:ext cx="1530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1/10/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ian numeron paikkamerkki 4"/>
          <p:cNvSpPr/>
          <p:nvPr/>
        </p:nvSpPr>
        <p:spPr>
          <a:xfrm>
            <a:off x="9201240" y="6553080"/>
            <a:ext cx="55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9F00-3176-4C8B-86CE-3A2EA7134009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latunnisteen paikkamerkki 5"/>
          <p:cNvSpPr/>
          <p:nvPr/>
        </p:nvSpPr>
        <p:spPr>
          <a:xfrm>
            <a:off x="5410080" y="6553080"/>
            <a:ext cx="2210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ri Nieminen/ Population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2920" y="71388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ople without a permanent residence and the total population in 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äivämäärän paikkamerkki 4"/>
          <p:cNvSpPr/>
          <p:nvPr/>
        </p:nvSpPr>
        <p:spPr>
          <a:xfrm>
            <a:off x="7696080" y="6553080"/>
            <a:ext cx="1530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1/10/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ian numeron paikkamerkki 5"/>
          <p:cNvSpPr/>
          <p:nvPr/>
        </p:nvSpPr>
        <p:spPr>
          <a:xfrm>
            <a:off x="9201240" y="6553080"/>
            <a:ext cx="55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5C90-4944-48B4-8079-E75D62A6B372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latunnisteen paikkamerkki 6"/>
          <p:cNvSpPr/>
          <p:nvPr/>
        </p:nvSpPr>
        <p:spPr>
          <a:xfrm>
            <a:off x="5410080" y="6553080"/>
            <a:ext cx="2210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ri Nieminen/ Population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Sisällön paikkamerkki 3" descr=""/>
          <p:cNvPicPr/>
          <p:nvPr/>
        </p:nvPicPr>
        <p:blipFill>
          <a:blip r:embed="rId1"/>
          <a:stretch/>
        </p:blipFill>
        <p:spPr>
          <a:xfrm>
            <a:off x="1090440" y="1773360"/>
            <a:ext cx="843156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ople in the population register not included in the ”register-based homeless population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äivämäärän paikkamerkki 3"/>
          <p:cNvSpPr/>
          <p:nvPr/>
        </p:nvSpPr>
        <p:spPr>
          <a:xfrm>
            <a:off x="7696080" y="6553080"/>
            <a:ext cx="1530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1/10/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ian numeron paikkamerkki 4"/>
          <p:cNvSpPr/>
          <p:nvPr/>
        </p:nvSpPr>
        <p:spPr>
          <a:xfrm>
            <a:off x="9201240" y="6553080"/>
            <a:ext cx="55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4A35-6851-401A-8218-BA82A7F6B213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latunnisteen paikkamerkki 5"/>
          <p:cNvSpPr/>
          <p:nvPr/>
        </p:nvSpPr>
        <p:spPr>
          <a:xfrm>
            <a:off x="5410080" y="6553080"/>
            <a:ext cx="2210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ri Nieminen/ Population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Sisällön paikkamerkki 3" descr=""/>
          <p:cNvPicPr/>
          <p:nvPr/>
        </p:nvPicPr>
        <p:blipFill>
          <a:blip r:embed="rId1"/>
          <a:stretch/>
        </p:blipFill>
        <p:spPr>
          <a:xfrm>
            <a:off x="298440" y="2066760"/>
            <a:ext cx="8742240" cy="42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72920" y="64260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ister-based homeless in 2007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ith information from various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Sisällön paikkamerkki 3" descr=""/>
          <p:cNvPicPr/>
          <p:nvPr/>
        </p:nvPicPr>
        <p:blipFill>
          <a:blip r:embed="rId1"/>
          <a:stretch/>
        </p:blipFill>
        <p:spPr>
          <a:xfrm>
            <a:off x="689040" y="1920960"/>
            <a:ext cx="8369280" cy="4308480"/>
          </a:xfrm>
          <a:prstGeom prst="rect">
            <a:avLst/>
          </a:prstGeom>
          <a:ln w="0">
            <a:noFill/>
          </a:ln>
        </p:spPr>
      </p:pic>
      <p:sp>
        <p:nvSpPr>
          <p:cNvPr id="119" name="Päivämäärän paikkamerkki 4"/>
          <p:cNvSpPr/>
          <p:nvPr/>
        </p:nvSpPr>
        <p:spPr>
          <a:xfrm>
            <a:off x="7696080" y="6553080"/>
            <a:ext cx="1530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1/10/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Dian numeron paikkamerkki 5"/>
          <p:cNvSpPr/>
          <p:nvPr/>
        </p:nvSpPr>
        <p:spPr>
          <a:xfrm>
            <a:off x="9201240" y="6553080"/>
            <a:ext cx="55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7B79-A60A-4EE0-91CF-955C37C8584A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latunnisteen paikkamerkki 6"/>
          <p:cNvSpPr/>
          <p:nvPr/>
        </p:nvSpPr>
        <p:spPr>
          <a:xfrm>
            <a:off x="5410080" y="6553080"/>
            <a:ext cx="2210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ri Nieminen/ Population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96600" y="571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ce between the register-based estimate of the homeless and ARA’s*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igure in some municip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kstikehys 4"/>
          <p:cNvSpPr/>
          <p:nvPr/>
        </p:nvSpPr>
        <p:spPr>
          <a:xfrm>
            <a:off x="8280" y="6357960"/>
            <a:ext cx="492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*)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Housing Finance and Development Centre of Fin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äivämäärän paikkamerkki 5"/>
          <p:cNvSpPr/>
          <p:nvPr/>
        </p:nvSpPr>
        <p:spPr>
          <a:xfrm>
            <a:off x="7696080" y="6553080"/>
            <a:ext cx="1530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1/10/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Dian numeron paikkamerkki 6"/>
          <p:cNvSpPr/>
          <p:nvPr/>
        </p:nvSpPr>
        <p:spPr>
          <a:xfrm>
            <a:off x="9201240" y="6553080"/>
            <a:ext cx="55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42D7-6F4D-4F2E-9874-2FE479CBD31D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latunnisteen paikkamerkki 7"/>
          <p:cNvSpPr/>
          <p:nvPr/>
        </p:nvSpPr>
        <p:spPr>
          <a:xfrm>
            <a:off x="5410080" y="6553080"/>
            <a:ext cx="2210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ri Nieminen/ Population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Sisällön paikkamerkki 3" descr=""/>
          <p:cNvPicPr/>
          <p:nvPr/>
        </p:nvPicPr>
        <p:blipFill>
          <a:blip r:embed="rId1"/>
          <a:stretch/>
        </p:blipFill>
        <p:spPr>
          <a:xfrm>
            <a:off x="743040" y="1571760"/>
            <a:ext cx="84200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23440" y="64260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Duration of homelessness in months </a:t>
            </a:r>
            <a:br>
              <a:rPr sz="2800"/>
            </a:b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(Homeless at year end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äivämäärän paikkamerkki 3"/>
          <p:cNvSpPr/>
          <p:nvPr/>
        </p:nvSpPr>
        <p:spPr>
          <a:xfrm>
            <a:off x="7696080" y="6553080"/>
            <a:ext cx="1530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1/10/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Dian numeron paikkamerkki 4"/>
          <p:cNvSpPr/>
          <p:nvPr/>
        </p:nvSpPr>
        <p:spPr>
          <a:xfrm>
            <a:off x="9201240" y="6553080"/>
            <a:ext cx="55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039B-0391-4696-B694-8879ACC1A870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latunnisteen paikkamerkki 5"/>
          <p:cNvSpPr/>
          <p:nvPr/>
        </p:nvSpPr>
        <p:spPr>
          <a:xfrm>
            <a:off x="5410080" y="6553080"/>
            <a:ext cx="2210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ari Nieminen/ Population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Kaavio 6" descr=""/>
          <p:cNvPicPr/>
          <p:nvPr/>
        </p:nvPicPr>
        <p:blipFill>
          <a:blip r:embed="rId1"/>
          <a:stretch/>
        </p:blipFill>
        <p:spPr>
          <a:xfrm>
            <a:off x="1085760" y="1773360"/>
            <a:ext cx="838224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17:54:11Z</dcterms:created>
  <dc:creator>Nieminej</dc:creator>
  <dc:description/>
  <dc:language>en-US</dc:language>
  <cp:lastModifiedBy>Valente</cp:lastModifiedBy>
  <cp:lastPrinted>2004-03-31T08:07:52Z</cp:lastPrinted>
  <dcterms:modified xsi:type="dcterms:W3CDTF">2009-11-25T14:06:08Z</dcterms:modified>
  <cp:revision>29</cp:revision>
  <dc:subject/>
  <dc:title>The use of population register data for quantifying certain subgroups of homeless people -  Census 2010 in Finland</dc:title>
</cp:coreProperties>
</file>