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0.png" ContentType="image/png"/>
  <Override PartName="/ppt/media/image3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333E21-3C69-4608-9D5A-1962EAF297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B653C2-C1EF-4411-A1A5-0E6C5C1BB7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C17E5A-5C66-4002-953B-304C5C7F14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8DC8AF-5B8A-4370-B047-A13019C5FD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C85732-9709-45E1-AC8D-C4043F83F1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FDFAEE-BDAF-4FCE-843B-F7EFFA5DD3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343F83-3024-4FAC-B25F-78B960ED1B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CF155C-A269-4C77-A4AF-49FEE42420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90529D-6F54-4350-81F4-83D4406A22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B8DFF4-CF82-4A16-BD85-C2224FBD54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B7F695-1A2A-47A2-9107-0861E85C3E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0A2775-8180-4F24-A08A-3A67D47DFF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0F6945-304B-4A64-8EA1-0966FE7AB4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C84221-C34C-4A99-91EE-0680C2033C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0FAD0E-AEC3-4A31-BC5E-2A37BF085F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54B3F0-0B0D-4614-A91B-AB3F0AD86E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6538D8-E122-4451-A423-72F0DA7106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4D395A-5328-4523-9AED-A92A64FD5F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A3683E-424D-4B70-BB61-324670A474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5AAAFE-7E4F-4B7E-9908-E3E00F9032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238F6B-F336-4E53-83DC-08A9FFB94C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F7C972-8E25-4AAE-B88D-0D08FD8EBC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B21363-F09A-4AE5-98B8-3474CFCA2E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EC96-536B-48CF-BAE5-96331A0A0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75F6-36BD-4E8C-99D4-CA10E4E7F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5EF9-915F-40C2-9131-51DCE474C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1C88-80C4-4BF2-9128-8B0695FE5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A6AF-ED03-481C-98BB-DE841A383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36D8-6C77-4EF5-ACED-EBF32ECD2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B133-CEB8-452E-988C-46D6D02CA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35B1-1682-4447-994F-74E92F236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10F7-0FE7-40BF-860E-8727EE2A5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82A9-87A4-45ED-B384-C2C9983C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7766-D640-4199-989D-7BE052F7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1083-C68F-465C-B1F9-415012FC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basic2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8B2BA-F457-40E7-B730-F8A1FEE66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9" descr="iecm_test_logo_transparent"/>
          <p:cNvPicPr/>
          <p:nvPr/>
        </p:nvPicPr>
        <p:blipFill>
          <a:blip r:embed="rId3"/>
          <a:stretch/>
        </p:blipFill>
        <p:spPr>
          <a:xfrm>
            <a:off x="5803920" y="6518160"/>
            <a:ext cx="833400" cy="32724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0" descr="logo_R_transp"/>
          <p:cNvPicPr/>
          <p:nvPr/>
        </p:nvPicPr>
        <p:blipFill>
          <a:blip r:embed="rId4"/>
          <a:stretch/>
        </p:blipFill>
        <p:spPr>
          <a:xfrm>
            <a:off x="3689280" y="6183360"/>
            <a:ext cx="1733760" cy="826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899172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trusting census microdata and metadata for timely integration and dissemination via the IPUMS-EurAsia and IECM initiatives, 2010-201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* *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obert McCaa, Albert Esteve and Patricia Kelly-Hall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nnesota Population Center an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entre d’Estudis Demogràfics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rmccaa@umn.edu; aesteve@ced.uab.es 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www.ipums.org/international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www.iecm-project.or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NSFLOGO"/>
          <p:cNvPicPr/>
          <p:nvPr/>
        </p:nvPicPr>
        <p:blipFill>
          <a:blip r:embed="rId1"/>
          <a:stretch/>
        </p:blipFill>
        <p:spPr>
          <a:xfrm>
            <a:off x="8077320" y="28440"/>
            <a:ext cx="961920" cy="962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NIHLOGO"/>
          <p:cNvPicPr/>
          <p:nvPr/>
        </p:nvPicPr>
        <p:blipFill>
          <a:blip r:embed="rId2"/>
          <a:stretch/>
        </p:blipFill>
        <p:spPr>
          <a:xfrm>
            <a:off x="152280" y="1522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IPUMS-~2"/>
          <p:cNvPicPr/>
          <p:nvPr/>
        </p:nvPicPr>
        <p:blipFill>
          <a:blip r:embed="rId3"/>
          <a:stretch/>
        </p:blipFill>
        <p:spPr>
          <a:xfrm>
            <a:off x="3809880" y="152280"/>
            <a:ext cx="1447920" cy="7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9144000" cy="838080"/>
          </a:xfrm>
          <a:prstGeom prst="rect">
            <a:avLst/>
          </a:prstGeom>
          <a:solidFill>
            <a:srgbClr val="99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 step process of integration in the IPUMS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 integrity and validity of each s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fore launch, each sample is scruplously che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 each integrated variable against non-harmoniz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integration decision may be checked by any researcher using integrated vs. non-harmoniz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ernal evaluation by INDEC-Argentina (commissioned by IPUMS), 4 censuses (1970-2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ed each variable, code and metadata against original source data and docu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ns of thousands of words, codes, and frequencies tested—only a handful of errors, mis-interpretations or mis-understandin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IPUMS-~2"/>
          <p:cNvPicPr/>
          <p:nvPr/>
        </p:nvPicPr>
        <p:blipFill>
          <a:blip r:embed="rId1"/>
          <a:stretch/>
        </p:blipFill>
        <p:spPr>
          <a:xfrm>
            <a:off x="3657600" y="0"/>
            <a:ext cx="1447920" cy="752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193680" y="2046240"/>
            <a:ext cx="8756640" cy="22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IECM project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egrated European Census Microdat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IPUMS-~2"/>
          <p:cNvPicPr/>
          <p:nvPr/>
        </p:nvPicPr>
        <p:blipFill>
          <a:blip r:embed="rId1"/>
          <a:stretch/>
        </p:blipFill>
        <p:spPr>
          <a:xfrm>
            <a:off x="3835440" y="101520"/>
            <a:ext cx="1447920" cy="752400"/>
          </a:xfrm>
          <a:prstGeom prst="rect">
            <a:avLst/>
          </a:prstGeom>
          <a:ln w="0">
            <a:noFill/>
          </a:ln>
        </p:spPr>
      </p:pic>
      <p:sp>
        <p:nvSpPr>
          <p:cNvPr id="94" name="Line 4"/>
          <p:cNvSpPr/>
          <p:nvPr/>
        </p:nvSpPr>
        <p:spPr>
          <a:xfrm>
            <a:off x="0" y="2209680"/>
            <a:ext cx="9144000" cy="0"/>
          </a:xfrm>
          <a:prstGeom prst="line">
            <a:avLst/>
          </a:prstGeom>
          <a:ln w="507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5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w="507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"/>
          <p:cNvPicPr/>
          <p:nvPr/>
        </p:nvPicPr>
        <p:blipFill>
          <a:blip r:embed="rId1"/>
          <a:srcRect l="8749" t="0" r="9375" b="4002"/>
          <a:stretch/>
        </p:blipFill>
        <p:spPr>
          <a:xfrm>
            <a:off x="914400" y="304920"/>
            <a:ext cx="8112240" cy="59436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"/>
          <p:cNvSpPr/>
          <p:nvPr/>
        </p:nvSpPr>
        <p:spPr>
          <a:xfrm>
            <a:off x="303120" y="0"/>
            <a:ext cx="33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www.iecm-project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2"/>
          <a:srcRect l="37503" t="77002" r="23126" b="7001"/>
          <a:stretch/>
        </p:blipFill>
        <p:spPr>
          <a:xfrm>
            <a:off x="5424480" y="5345280"/>
            <a:ext cx="3352680" cy="85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top"/>
          <p:cNvPicPr/>
          <p:nvPr/>
        </p:nvPicPr>
        <p:blipFill>
          <a:blip r:embed="rId1"/>
          <a:stretch/>
        </p:blipFill>
        <p:spPr>
          <a:xfrm>
            <a:off x="0" y="90360"/>
            <a:ext cx="9144000" cy="962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1979640" y="849960"/>
            <a:ext cx="69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 Unicode MS"/>
              </a:rPr>
              <a:t>PROJECT OVERVIEW</a:t>
            </a:r>
            <a:r>
              <a:rPr b="0" lang="es-ES_tradnl" sz="1200" spc="-1" strike="noStrike">
                <a:solidFill>
                  <a:srgbClr val="000000"/>
                </a:solidFill>
                <a:latin typeface="Arial Unicode MS"/>
              </a:rPr>
              <a:t> | COORDINATION | HARMONIZATION | DISSE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4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2232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-36360" y="836640"/>
            <a:ext cx="16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www.iecm-projec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79280" y="1341360"/>
            <a:ext cx="3672000" cy="45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Disseminating: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ustria, Belarus, France, Greece, Hungary, Italy, Netherlands, Portugal, Romania, Spain, Slovenia, United Kingd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ff"/>
                </a:solidFill>
                <a:latin typeface="Arial"/>
              </a:rPr>
              <a:t>Harmonizing: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zech Republic, Germany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reland, Switzerland (next release), Turk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66ff"/>
                </a:solidFill>
                <a:latin typeface="Arial"/>
              </a:rPr>
              <a:t>Negotiating:</a:t>
            </a:r>
            <a:r>
              <a:rPr b="0" lang="es-ES" sz="1800" spc="-1" strike="noStrike">
                <a:solidFill>
                  <a:srgbClr val="6666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Belgium, Bulgaria, Latvia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oland, Russia, Ukra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ccff"/>
                </a:solidFill>
                <a:latin typeface="Arial"/>
              </a:rPr>
              <a:t>Contacted: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inland, Iceland, Lithuania, Moldova, Norway, Slovak Re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2"/>
          <a:srcRect l="35958" t="39392" r="33543" b="16308"/>
          <a:stretch/>
        </p:blipFill>
        <p:spPr>
          <a:xfrm>
            <a:off x="3809880" y="1219320"/>
            <a:ext cx="4953240" cy="4495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peu"/>
          <p:cNvPicPr/>
          <p:nvPr/>
        </p:nvPicPr>
        <p:blipFill>
          <a:blip r:embed="rId3"/>
          <a:stretch/>
        </p:blipFill>
        <p:spPr>
          <a:xfrm>
            <a:off x="5181480" y="5657760"/>
            <a:ext cx="3810240" cy="7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343080" y="1442880"/>
            <a:ext cx="2323800" cy="3505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2"/>
          <a:stretch/>
        </p:blipFill>
        <p:spPr>
          <a:xfrm>
            <a:off x="3110040" y="1461960"/>
            <a:ext cx="2428920" cy="3514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"/>
          <p:cNvPicPr/>
          <p:nvPr/>
        </p:nvPicPr>
        <p:blipFill>
          <a:blip r:embed="rId3"/>
          <a:stretch/>
        </p:blipFill>
        <p:spPr>
          <a:xfrm>
            <a:off x="6067440" y="1471680"/>
            <a:ext cx="2467080" cy="34671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2625120" y="1052640"/>
            <a:ext cx="379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Variables Included in Extr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2"/>
          <p:cNvSpPr/>
          <p:nvPr/>
        </p:nvSpPr>
        <p:spPr>
          <a:xfrm>
            <a:off x="2057400" y="5257800"/>
            <a:ext cx="441972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Under-represen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eography, migration, ethn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3"/>
          <p:cNvSpPr/>
          <p:nvPr/>
        </p:nvSpPr>
        <p:spPr>
          <a:xfrm>
            <a:off x="324000" y="26028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Harmonization increases usability and accessi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5"/>
          <p:cNvSpPr/>
          <p:nvPr/>
        </p:nvSpPr>
        <p:spPr>
          <a:xfrm>
            <a:off x="379440" y="1428840"/>
            <a:ext cx="243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amples extra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3"/>
          <p:cNvSpPr/>
          <p:nvPr/>
        </p:nvSpPr>
        <p:spPr>
          <a:xfrm>
            <a:off x="324000" y="26028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Users statistics July – Dec 200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3980880" y="1428840"/>
            <a:ext cx="494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xtracts by user’s country of resi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7200" y="1981080"/>
          <a:ext cx="2743200" cy="3510000"/>
        </p:xfrm>
        <a:graphic>
          <a:graphicData uri="http://schemas.openxmlformats.org/drawingml/2006/table">
            <a:tbl>
              <a:tblPr/>
              <a:tblGrid>
                <a:gridCol w="274320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4 Fr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7 Gree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1 Sp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8 Aust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4 Hung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0 Portug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 United Kingd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9 Netherlan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 Belar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4038480" y="1981080"/>
          <a:ext cx="2743200" cy="3876840"/>
        </p:xfrm>
        <a:graphic>
          <a:graphicData uri="http://schemas.openxmlformats.org/drawingml/2006/table">
            <a:tbl>
              <a:tblPr/>
              <a:tblGrid>
                <a:gridCol w="2743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50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 Sp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 Ita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 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 Germa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 United Kingd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 Gree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 Netherla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 Belg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Czech Republ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Denma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Switzerl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Aust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Irel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Roma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Portu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Pol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top"/>
          <p:cNvPicPr/>
          <p:nvPr/>
        </p:nvPicPr>
        <p:blipFill>
          <a:blip r:embed="rId1"/>
          <a:stretch/>
        </p:blipFill>
        <p:spPr>
          <a:xfrm>
            <a:off x="0" y="90360"/>
            <a:ext cx="9144000" cy="9622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3"/>
          <p:cNvSpPr/>
          <p:nvPr/>
        </p:nvSpPr>
        <p:spPr>
          <a:xfrm>
            <a:off x="1979640" y="849960"/>
            <a:ext cx="69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Unicode MS"/>
              </a:rPr>
              <a:t>PROJECT OVERVIEW | COORDINATION | HARMONIZATION | DISSE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4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2232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-36360" y="836640"/>
            <a:ext cx="16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www.iecm-projec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2209680" y="1603440"/>
            <a:ext cx="44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ff"/>
                </a:solidFill>
                <a:latin typeface="Arial"/>
              </a:rPr>
              <a:t>I</a:t>
            </a:r>
            <a:r>
              <a:rPr b="0" lang="es-ES" sz="1800" spc="-1" strike="noStrike">
                <a:solidFill>
                  <a:srgbClr val="0066ff"/>
                </a:solidFill>
                <a:latin typeface="Arial"/>
              </a:rPr>
              <a:t>ntegrated </a:t>
            </a:r>
            <a:r>
              <a:rPr b="1" lang="es-ES" sz="2400" spc="-1" strike="noStrike">
                <a:solidFill>
                  <a:srgbClr val="0066ff"/>
                </a:solidFill>
                <a:latin typeface="Arial"/>
              </a:rPr>
              <a:t>E</a:t>
            </a:r>
            <a:r>
              <a:rPr b="0" lang="es-ES" sz="1800" spc="-1" strike="noStrike">
                <a:solidFill>
                  <a:srgbClr val="0066ff"/>
                </a:solidFill>
                <a:latin typeface="Arial"/>
              </a:rPr>
              <a:t>uropean </a:t>
            </a:r>
            <a:r>
              <a:rPr b="1" lang="es-ES" sz="2400" spc="-1" strike="noStrike">
                <a:solidFill>
                  <a:srgbClr val="0066ff"/>
                </a:solidFill>
                <a:latin typeface="Arial"/>
              </a:rPr>
              <a:t>C</a:t>
            </a:r>
            <a:r>
              <a:rPr b="0" lang="es-ES" sz="1800" spc="-1" strike="noStrike">
                <a:solidFill>
                  <a:srgbClr val="0066ff"/>
                </a:solidFill>
                <a:latin typeface="Arial"/>
              </a:rPr>
              <a:t>ensus </a:t>
            </a:r>
            <a:r>
              <a:rPr b="1" lang="es-ES" sz="2400" spc="-1" strike="noStrike">
                <a:solidFill>
                  <a:srgbClr val="0066ff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0066ff"/>
                </a:solidFill>
                <a:latin typeface="Arial"/>
              </a:rPr>
              <a:t>icro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0"/>
          <p:cNvSpPr/>
          <p:nvPr/>
        </p:nvSpPr>
        <p:spPr>
          <a:xfrm>
            <a:off x="1336680" y="2276640"/>
            <a:ext cx="0" cy="576000"/>
          </a:xfrm>
          <a:prstGeom prst="line">
            <a:avLst/>
          </a:prstGeom>
          <a:ln w="22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1"/>
          <p:cNvSpPr/>
          <p:nvPr/>
        </p:nvSpPr>
        <p:spPr>
          <a:xfrm>
            <a:off x="4433760" y="2276640"/>
            <a:ext cx="0" cy="576000"/>
          </a:xfrm>
          <a:prstGeom prst="line">
            <a:avLst/>
          </a:prstGeom>
          <a:ln w="22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2"/>
          <p:cNvSpPr/>
          <p:nvPr/>
        </p:nvSpPr>
        <p:spPr>
          <a:xfrm>
            <a:off x="7458120" y="2276640"/>
            <a:ext cx="0" cy="576000"/>
          </a:xfrm>
          <a:prstGeom prst="line">
            <a:avLst/>
          </a:prstGeom>
          <a:ln w="22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3"/>
          <p:cNvSpPr/>
          <p:nvPr/>
        </p:nvSpPr>
        <p:spPr>
          <a:xfrm>
            <a:off x="1336680" y="2276640"/>
            <a:ext cx="6121440" cy="0"/>
          </a:xfrm>
          <a:prstGeom prst="line">
            <a:avLst/>
          </a:prstGeom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4"/>
          <p:cNvSpPr/>
          <p:nvPr/>
        </p:nvSpPr>
        <p:spPr>
          <a:xfrm>
            <a:off x="3255840" y="10922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617400" y="2960640"/>
            <a:ext cx="19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ff"/>
                </a:solidFill>
                <a:latin typeface="Arial"/>
              </a:rPr>
              <a:t>Coord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6"/>
          <p:cNvSpPr/>
          <p:nvPr/>
        </p:nvSpPr>
        <p:spPr>
          <a:xfrm>
            <a:off x="3497400" y="296064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ff"/>
                </a:solidFill>
                <a:latin typeface="Arial"/>
              </a:rPr>
              <a:t>Harmo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7"/>
          <p:cNvSpPr/>
          <p:nvPr/>
        </p:nvSpPr>
        <p:spPr>
          <a:xfrm>
            <a:off x="6594480" y="292428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ff"/>
                </a:solidFill>
                <a:latin typeface="Arial"/>
              </a:rPr>
              <a:t>Disse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8"/>
          <p:cNvSpPr/>
          <p:nvPr/>
        </p:nvSpPr>
        <p:spPr>
          <a:xfrm>
            <a:off x="255600" y="3357720"/>
            <a:ext cx="23050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eting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arcelona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is 200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isbon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arcelona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0"/>
          <p:cNvSpPr/>
          <p:nvPr/>
        </p:nvSpPr>
        <p:spPr>
          <a:xfrm>
            <a:off x="2921040" y="3357720"/>
            <a:ext cx="302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egrated Docu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ra-European classif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1"/>
          <p:cNvSpPr/>
          <p:nvPr/>
        </p:nvSpPr>
        <p:spPr>
          <a:xfrm>
            <a:off x="6305400" y="3357720"/>
            <a:ext cx="23050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irror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dditional docu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ata Browser 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nline Tab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3"/>
          <p:cNvSpPr/>
          <p:nvPr/>
        </p:nvSpPr>
        <p:spPr>
          <a:xfrm>
            <a:off x="6473880" y="4438800"/>
            <a:ext cx="2057400" cy="742680"/>
          </a:xfrm>
          <a:prstGeom prst="rect">
            <a:avLst/>
          </a:prstGeom>
          <a:solidFill>
            <a:srgbClr val="ffc000">
              <a:alpha val="13000"/>
            </a:srgbClr>
          </a:solidFill>
          <a:ln w="44280">
            <a:solidFill>
              <a:srgbClr val="ff6600">
                <a:alpha val="7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1219320"/>
            <a:ext cx="9144000" cy="761760"/>
          </a:xfrm>
          <a:prstGeom prst="rect">
            <a:avLst/>
          </a:prstGeom>
          <a:solidFill>
            <a:srgbClr val="8b98a7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The IECM project—addendum. New tools for data analysi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rototype of on-line tabulator of integrated variab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top"/>
          <p:cNvPicPr/>
          <p:nvPr/>
        </p:nvPicPr>
        <p:blipFill>
          <a:blip r:embed="rId1"/>
          <a:stretch/>
        </p:blipFill>
        <p:spPr>
          <a:xfrm>
            <a:off x="0" y="90360"/>
            <a:ext cx="9144000" cy="9622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3"/>
          <p:cNvSpPr/>
          <p:nvPr/>
        </p:nvSpPr>
        <p:spPr>
          <a:xfrm>
            <a:off x="1979640" y="849960"/>
            <a:ext cx="69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Unicode MS"/>
              </a:rPr>
              <a:t>PROJECT OVERVIEW | COORDINATION | HARMONIZATION | </a:t>
            </a:r>
            <a:r>
              <a:rPr b="1" lang="es-ES_tradnl" sz="1200" spc="-1" strike="noStrike">
                <a:solidFill>
                  <a:srgbClr val="000000"/>
                </a:solidFill>
                <a:latin typeface="Arial Unicode MS"/>
              </a:rPr>
              <a:t>DISSE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0" y="2079720"/>
            <a:ext cx="9144000" cy="46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Calibri"/>
              </a:rPr>
              <a:t>How are we currently disseminating the IECM census microdata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alibri"/>
              </a:rPr>
              <a:t>- Through an extraction system where users can create custom tailored microdata sampl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Calibri"/>
              </a:rPr>
              <a:t>Why a data browser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900" spc="-1" strike="noStrike">
                <a:solidFill>
                  <a:srgbClr val="000000"/>
                </a:solidFill>
                <a:latin typeface="Calibri"/>
              </a:rPr>
              <a:t>Fast and convenient tool to explore the contents of the database before making an extrac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900" spc="-1" strike="noStrike">
                <a:solidFill>
                  <a:srgbClr val="000000"/>
                </a:solidFill>
                <a:latin typeface="Calibri"/>
              </a:rPr>
              <a:t>It prevents users from downloading microdata (if only basic figures are needed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Calibri"/>
              </a:rPr>
              <a:t>Some cavea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900" spc="-1" strike="noStrike">
                <a:solidFill>
                  <a:srgbClr val="000000"/>
                </a:solidFill>
                <a:latin typeface="Calibri"/>
              </a:rPr>
              <a:t>We are not providing official statistic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900" spc="-1" strike="noStrike">
                <a:solidFill>
                  <a:srgbClr val="000000"/>
                </a:solidFill>
                <a:latin typeface="Calibri"/>
              </a:rPr>
              <a:t>Frequencies are not based on 100% population coun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ampling errors must be calculated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900" spc="-1" strike="noStrike">
                <a:solidFill>
                  <a:srgbClr val="000000"/>
                </a:solidFill>
                <a:latin typeface="Calibri"/>
              </a:rPr>
              <a:t>Compared to microdata, cross-tabulated data have les s analyitical pow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"/>
          <p:cNvPicPr/>
          <p:nvPr/>
        </p:nvPicPr>
        <p:blipFill>
          <a:blip r:embed="rId1"/>
          <a:srcRect l="0" t="10420" r="0" b="6655"/>
          <a:stretch/>
        </p:blipFill>
        <p:spPr>
          <a:xfrm>
            <a:off x="0" y="779400"/>
            <a:ext cx="9169560" cy="5457960"/>
          </a:xfrm>
          <a:prstGeom prst="rect">
            <a:avLst/>
          </a:prstGeom>
          <a:ln w="0">
            <a:noFill/>
          </a:ln>
        </p:spPr>
      </p:pic>
      <p:sp>
        <p:nvSpPr>
          <p:cNvPr id="139" name="2 CuadroTexto"/>
          <p:cNvSpPr/>
          <p:nvPr/>
        </p:nvSpPr>
        <p:spPr>
          <a:xfrm>
            <a:off x="168840" y="223920"/>
            <a:ext cx="51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24b50"/>
                </a:solidFill>
                <a:latin typeface="Calibri"/>
              </a:rPr>
              <a:t>The online tabulator based on Redat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2 CuadroTexto"/>
          <p:cNvSpPr/>
          <p:nvPr/>
        </p:nvSpPr>
        <p:spPr>
          <a:xfrm>
            <a:off x="-247320" y="358920"/>
            <a:ext cx="620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224b50"/>
                </a:solidFill>
                <a:latin typeface="Calibri"/>
              </a:rPr>
              <a:t>CENSUS MICRODATA FAN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3 Imagen" descr="DSC_0136_2.JPG"/>
          <p:cNvPicPr/>
          <p:nvPr/>
        </p:nvPicPr>
        <p:blipFill>
          <a:blip r:embed="rId1"/>
          <a:stretch/>
        </p:blipFill>
        <p:spPr>
          <a:xfrm>
            <a:off x="2235240" y="1371600"/>
            <a:ext cx="6756480" cy="4876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"/>
          <p:cNvPicPr/>
          <p:nvPr/>
        </p:nvPicPr>
        <p:blipFill>
          <a:blip r:embed="rId2"/>
          <a:srcRect l="13125" t="18000" r="10001" b="21000"/>
          <a:stretch/>
        </p:blipFill>
        <p:spPr>
          <a:xfrm>
            <a:off x="228600" y="1371600"/>
            <a:ext cx="399420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52280" y="2590560"/>
            <a:ext cx="8839440" cy="373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522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. of sl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PUMS-International:  “Best practice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ECM Project: a European Flav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nsus output needs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110000"/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m “A”: succinct descriptions of both census and micro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110000"/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adata: questionnaires, instructions, dictionaries, codebook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 images, .txt, .doc, .xls, .pdf, XML, SDMX, CSPro, IMPS, DDI, etc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110000"/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crodata: to prepare, choose 1 of 4 modalities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trust as encrypted, executable files  (email or fax passwo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clusio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IPUMS-~2"/>
          <p:cNvPicPr/>
          <p:nvPr/>
        </p:nvPicPr>
        <p:blipFill>
          <a:blip r:embed="rId1"/>
          <a:stretch/>
        </p:blipFill>
        <p:spPr>
          <a:xfrm>
            <a:off x="3657600" y="0"/>
            <a:ext cx="1447920" cy="7524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0" y="762120"/>
            <a:ext cx="9144000" cy="1752480"/>
          </a:xfrm>
          <a:prstGeom prst="rect">
            <a:avLst/>
          </a:prstGeom>
          <a:solidFill>
            <a:srgbClr val="99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line: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trusting census microdata and metadata for timely integration and dissemination via the IPUMS-EurAsia and IECM initiatives, 2010-20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228600" y="1600200"/>
            <a:ext cx="8756640" cy="22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Census Output Needs:</a:t>
            </a:r>
            <a:br>
              <a:rPr sz="3600"/>
            </a:b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. Succinct description of census and microdata (Form “A”)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. Comprehensive metadata: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questionnaires, instructions, codebooks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. Encrypted micro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" descr="IPUMS-~2"/>
          <p:cNvPicPr/>
          <p:nvPr/>
        </p:nvPicPr>
        <p:blipFill>
          <a:blip r:embed="rId1"/>
          <a:stretch/>
        </p:blipFill>
        <p:spPr>
          <a:xfrm>
            <a:off x="3835440" y="101520"/>
            <a:ext cx="1447920" cy="752400"/>
          </a:xfrm>
          <a:prstGeom prst="rect">
            <a:avLst/>
          </a:prstGeom>
          <a:ln w="0">
            <a:noFill/>
          </a:ln>
        </p:spPr>
      </p:pic>
      <p:sp>
        <p:nvSpPr>
          <p:cNvPr id="145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507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5"/>
          <p:cNvSpPr/>
          <p:nvPr/>
        </p:nvSpPr>
        <p:spPr>
          <a:xfrm>
            <a:off x="0" y="4114800"/>
            <a:ext cx="9144000" cy="0"/>
          </a:xfrm>
          <a:prstGeom prst="line">
            <a:avLst/>
          </a:prstGeom>
          <a:ln w="507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1981080" y="4191120"/>
            <a:ext cx="6477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p FEDEX prepaid (email for account #) to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f. Robert McCa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nesota Population Cen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 Willey Hall, 225 19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ve. S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neapolis MN  55455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. 1+612.624.5818, rmccaa@umn.ed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9144000" cy="838080"/>
          </a:xfrm>
          <a:prstGeom prst="rect">
            <a:avLst/>
          </a:prstGeom>
          <a:solidFill>
            <a:srgbClr val="99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Need for succinct, authoritative documentation of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ensus and microdata:  Form “A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fficient processing of metadata &amp; micro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 “A”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e Appendix A for detai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pendix B is the completed form for Spain--censuses of 1981, 1991,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https://international.ipums.org/international/samples.shtml c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lick the name of a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untry to view s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scribe the census: name, population universe, reference date, field work period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scribe the microdata: source, sample design, sample unit, sample fraction, size, weight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ine units in the microdata: private household, collective dwelling, included/excluded populations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IPUMS-~2"/>
          <p:cNvPicPr/>
          <p:nvPr/>
        </p:nvPicPr>
        <p:blipFill>
          <a:blip r:embed="rId1"/>
          <a:stretch/>
        </p:blipFill>
        <p:spPr>
          <a:xfrm>
            <a:off x="3657600" y="0"/>
            <a:ext cx="1447920" cy="752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solidFill>
            <a:srgbClr val="99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Metadata need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e paragraphs 15-23 for additional 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8839440" cy="47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cuments in any form: .pdf, .txt, .doc, .xls, .pdf, XML, SDMX, DDI, CSPro, IMP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pies in official language and English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ssenti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11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uestionna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11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tructions to interview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11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debooks, data diction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lp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110000"/>
              <a:buFont typeface="Times New Roman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rrespondence tables (e.g., occupation with ISCO08/8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110000"/>
              <a:buFont typeface="Times New Roman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mmary official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110000"/>
              <a:buFont typeface="Times New Roman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chnical, methodological re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110000"/>
              <a:buFont typeface="Times New Roman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mple design: preferred, every tenth private household; for collective dwellings (e.g., hospitals), every tenth pers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110000"/>
              <a:buFont typeface="Times New Roman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undary files for administrative geography coded in micro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IPUMS-~2"/>
          <p:cNvPicPr/>
          <p:nvPr/>
        </p:nvPicPr>
        <p:blipFill>
          <a:blip r:embed="rId1"/>
          <a:stretch/>
        </p:blipFill>
        <p:spPr>
          <a:xfrm>
            <a:off x="3657600" y="0"/>
            <a:ext cx="1447920" cy="752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solidFill>
            <a:srgbClr val="99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Microdata need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e paragraphs 24-30 for additional 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8839440" cy="47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go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11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rmanently archive source microdata against loss (copies provided exclusively to the National Statistical Agency own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11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grate high precision, anonymized household samples into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 prefer 100% microdata, particularly from developing countries where microdata are at risk of lo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te: some European statistical offices can no longer locate census microdata for 1960s, 1970s, 1980s and even 1990s!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 even where they can locate it, are unable to make the data use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 modalities for entrusting micro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11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0% microdata to MPC: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8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11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mples provided by National Statistical Office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11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ulti-use samples also entrusted to MPC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11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mples constructed by Research Institute upon request of NSO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cense fee: US$5,000 for dataset of 1 million plus 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IPUMS-~2"/>
          <p:cNvPicPr/>
          <p:nvPr/>
        </p:nvPicPr>
        <p:blipFill>
          <a:blip r:embed="rId1"/>
          <a:stretch/>
        </p:blipFill>
        <p:spPr>
          <a:xfrm>
            <a:off x="3657600" y="0"/>
            <a:ext cx="1447920" cy="752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solidFill>
            <a:srgbClr val="99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Microdata need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e paragraphs 24-30 for additional 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8839440" cy="47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igh precision, household s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 percent: 70 of 130 samples currently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 percent: 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5 percent: 32 (8 constitute all that surviv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stematic random samples 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very n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private household after a random st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llective dwellings:  every n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s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extremely fine geographic stratification with proportional weigh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UTS-2, NUTS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onymization, performed by NSO or MPC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addition to sampling, 6 layers of technical prote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11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ppress small places or residence, work, school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11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ppress codes of social categories with small cou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11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p and Bottom coding of continuous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11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ppress sensitive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11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wap small % of households into different place of resi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11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domly order all househ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IPUMS-~2"/>
          <p:cNvPicPr/>
          <p:nvPr/>
        </p:nvPicPr>
        <p:blipFill>
          <a:blip r:embed="rId1"/>
          <a:stretch/>
        </p:blipFill>
        <p:spPr>
          <a:xfrm>
            <a:off x="3657600" y="0"/>
            <a:ext cx="1447920" cy="752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9144000" cy="838080"/>
          </a:xfrm>
          <a:prstGeom prst="rect">
            <a:avLst/>
          </a:prstGeom>
          <a:solidFill>
            <a:srgbClr val="99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clu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Times New Roman"/>
              </a:rPr>
              <a:t>Thank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National Statistical Offices for trust and co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International organizations for support and encour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Researchers for using of IPUMS integrated data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Times New Roman"/>
              </a:rPr>
              <a:t>Invitation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National Statistical Office partners to entrust 2010 round microdata and metadata with Form “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National Statistical Offices that are not yet cooperating to participate to integrate pre-2010 census micro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An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IPUMS-~2"/>
          <p:cNvPicPr/>
          <p:nvPr/>
        </p:nvPicPr>
        <p:blipFill>
          <a:blip r:embed="rId1"/>
          <a:stretch/>
        </p:blipFill>
        <p:spPr>
          <a:xfrm>
            <a:off x="3657600" y="0"/>
            <a:ext cx="1447920" cy="752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IPUMS-~2"/>
          <p:cNvPicPr/>
          <p:nvPr/>
        </p:nvPicPr>
        <p:blipFill>
          <a:blip r:embed="rId1"/>
          <a:stretch/>
        </p:blipFill>
        <p:spPr>
          <a:xfrm>
            <a:off x="3835440" y="101520"/>
            <a:ext cx="1447920" cy="7524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4"/>
          <p:cNvSpPr/>
          <p:nvPr/>
        </p:nvSpPr>
        <p:spPr>
          <a:xfrm>
            <a:off x="127080" y="914400"/>
            <a:ext cx="8912160" cy="1066680"/>
          </a:xfrm>
          <a:prstGeom prst="rect">
            <a:avLst/>
          </a:prstGeom>
          <a:solidFill>
            <a:srgbClr val="99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the 58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Session ISI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ublin, Aug 21-26, 2011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isi2001.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6781680" y="2438280"/>
            <a:ext cx="236232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PUMS Workshop, Aug 19-2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crodata s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PUMS Funding for delegates from developing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PUMS bo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"/>
          <p:cNvPicPr/>
          <p:nvPr/>
        </p:nvPicPr>
        <p:blipFill>
          <a:blip r:embed="rId2"/>
          <a:srcRect l="25501" t="12666" r="25501" b="37334"/>
          <a:stretch/>
        </p:blipFill>
        <p:spPr>
          <a:xfrm>
            <a:off x="304920" y="1901880"/>
            <a:ext cx="6476760" cy="495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193680" y="2046240"/>
            <a:ext cx="8756640" cy="22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Thank you!!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rmccaa@umn.edu</a:t>
            </a: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aepalos@ced.uab.es</a:t>
            </a: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pkelly@umn.edu</a:t>
            </a: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www.ipums.org/international</a:t>
            </a: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www.iecm-project.or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" descr="IPUMS-~2"/>
          <p:cNvPicPr/>
          <p:nvPr/>
        </p:nvPicPr>
        <p:blipFill>
          <a:blip r:embed="rId1"/>
          <a:stretch/>
        </p:blipFill>
        <p:spPr>
          <a:xfrm>
            <a:off x="3835440" y="101520"/>
            <a:ext cx="1447920" cy="752400"/>
          </a:xfrm>
          <a:prstGeom prst="rect">
            <a:avLst/>
          </a:prstGeom>
          <a:ln w="0">
            <a:noFill/>
          </a:ln>
        </p:spPr>
      </p:pic>
      <p:sp>
        <p:nvSpPr>
          <p:cNvPr id="169" name="Line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07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5"/>
          <p:cNvSpPr/>
          <p:nvPr/>
        </p:nvSpPr>
        <p:spPr>
          <a:xfrm>
            <a:off x="0" y="2133720"/>
            <a:ext cx="9144000" cy="0"/>
          </a:xfrm>
          <a:prstGeom prst="line">
            <a:avLst/>
          </a:prstGeom>
          <a:ln w="507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193680" y="2046240"/>
            <a:ext cx="8756640" cy="22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What is IPUMS-International?</a:t>
            </a: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“…best practice for a data repository of international statistical data”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Dennis Trewin 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air UNECE task force on Statistical Confidentiality &amp; Microdata Access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IPUMS-~2"/>
          <p:cNvPicPr/>
          <p:nvPr/>
        </p:nvPicPr>
        <p:blipFill>
          <a:blip r:embed="rId1"/>
          <a:stretch/>
        </p:blipFill>
        <p:spPr>
          <a:xfrm>
            <a:off x="3835440" y="101520"/>
            <a:ext cx="1447920" cy="752400"/>
          </a:xfrm>
          <a:prstGeom prst="rect">
            <a:avLst/>
          </a:prstGeom>
          <a:ln w="0">
            <a:noFill/>
          </a:ln>
        </p:spPr>
      </p:pic>
      <p:sp>
        <p:nvSpPr>
          <p:cNvPr id="60" name="Line 4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507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5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w="507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304920" y="838080"/>
            <a:ext cx="8534160" cy="782640"/>
          </a:xfrm>
          <a:prstGeom prst="rect">
            <a:avLst/>
          </a:prstGeom>
          <a:solidFill>
            <a:srgbClr val="99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PUMS-Internation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IPUMS-~2"/>
          <p:cNvPicPr/>
          <p:nvPr/>
        </p:nvPicPr>
        <p:blipFill>
          <a:blip r:embed="rId1"/>
          <a:stretch/>
        </p:blipFill>
        <p:spPr>
          <a:xfrm>
            <a:off x="3657600" y="0"/>
            <a:ext cx="1447920" cy="7524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4"/>
          <p:cNvSpPr/>
          <p:nvPr/>
        </p:nvSpPr>
        <p:spPr>
          <a:xfrm>
            <a:off x="0" y="1523880"/>
            <a:ext cx="8839080" cy="441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gun in 1999, IPUMS-International is the world’s largest integrated demographic databas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30 integrated, anonymized census samples (44 countrie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79 million person records; 3,000+ approved researc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base is likely to double over the next five years, by the addi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ＭＳ Ｐゴシック"/>
              </a:rPr>
              <a:t>2010 round samples of 17 current partner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:  Austria, Belarus, Canada, France, Greece, Hungary, Israel, Italy, Kyrgyzstan, Netherlands, Portugal, Romania, Slovenia, Spain, Switzerland, UK, USA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ＭＳ Ｐゴシック"/>
              </a:rPr>
              <a:t>Samples for 5 countries currently in developmen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: Belgium, Czech Republic, Ireland, Germany, Tur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ＭＳ Ｐゴシック"/>
              </a:rPr>
              <a:t>Future partner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?  Albania? Bulgaria? Croatia? Estonia? Finland? Kazahkstan? Latvia? Lithuania? Poland? Russian Federation? Serbia? Slovakia? Ukraine? FYR Macedonia? Othe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NIHLOGO"/>
          <p:cNvPicPr/>
          <p:nvPr/>
        </p:nvPicPr>
        <p:blipFill>
          <a:blip r:embed="rId2"/>
          <a:stretch/>
        </p:blipFill>
        <p:spPr>
          <a:xfrm>
            <a:off x="152280" y="1522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NSFLOGO"/>
          <p:cNvPicPr/>
          <p:nvPr/>
        </p:nvPicPr>
        <p:blipFill>
          <a:blip r:embed="rId3"/>
          <a:stretch/>
        </p:blipFill>
        <p:spPr>
          <a:xfrm>
            <a:off x="8077320" y="28440"/>
            <a:ext cx="961920" cy="96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PUMS-International </a:t>
            </a:r>
            <a:br>
              <a:rPr sz="2400"/>
            </a:br>
            <a:r>
              <a:rPr b="1" i="1" lang="es-ES" sz="2400" spc="-1" strike="noStrike">
                <a:solidFill>
                  <a:srgbClr val="009900"/>
                </a:solidFill>
                <a:latin typeface="Times New Roman"/>
              </a:rPr>
              <a:t>dark green</a:t>
            </a:r>
            <a:r>
              <a:rPr b="1" i="1" lang="en-US" sz="2400" spc="-1" strike="noStrike">
                <a:solidFill>
                  <a:srgbClr val="009900"/>
                </a:solidFill>
                <a:latin typeface="Times New Roman"/>
              </a:rPr>
              <a:t> = integrated and disseminating</a:t>
            </a:r>
            <a:r>
              <a:rPr b="1" i="1" lang="es-ES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br>
              <a:rPr sz="2400"/>
            </a:br>
            <a:r>
              <a:rPr b="1" i="1" lang="es-ES" sz="2400" spc="-1" strike="noStrike">
                <a:solidFill>
                  <a:srgbClr val="009900"/>
                </a:solidFill>
                <a:latin typeface="Times New Roman"/>
              </a:rPr>
              <a:t>(44 countries, 130 censuses, 279 millon person records)</a:t>
            </a:r>
            <a:br>
              <a:rPr sz="2400"/>
            </a:br>
            <a:r>
              <a:rPr b="1" i="1" lang="en-US" sz="2400" spc="-1" strike="noStrike">
                <a:solidFill>
                  <a:srgbClr val="99ff99"/>
                </a:solidFill>
                <a:latin typeface="Times New Roman"/>
              </a:rPr>
              <a:t>green = to be integrated (35 countries, 90 censuses, 150 mill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-304920" y="1752480"/>
            <a:ext cx="9725040" cy="43722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4038480" y="5943600"/>
            <a:ext cx="13716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200" rIns="61200" tIns="30600" bIns="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llweide proj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2"/>
          <a:srcRect l="42949" t="2944" r="9255" b="34317"/>
          <a:stretch/>
        </p:blipFill>
        <p:spPr>
          <a:xfrm>
            <a:off x="990720" y="1752480"/>
            <a:ext cx="7485120" cy="4429080"/>
          </a:xfrm>
          <a:prstGeom prst="rect">
            <a:avLst/>
          </a:prstGeom>
          <a:ln w="0">
            <a:noFill/>
          </a:ln>
        </p:spPr>
      </p:pic>
      <p:sp>
        <p:nvSpPr>
          <p:cNvPr id="71" name="Freeform 6"/>
          <p:cNvSpPr/>
          <p:nvPr/>
        </p:nvSpPr>
        <p:spPr>
          <a:xfrm>
            <a:off x="914400" y="3657600"/>
            <a:ext cx="2971800" cy="2514600"/>
          </a:xfrm>
          <a:prstGeom prst="pie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3124080" y="76320"/>
            <a:ext cx="3886200" cy="459720"/>
          </a:xfrm>
          <a:prstGeom prst="rect">
            <a:avLst/>
          </a:prstGeom>
          <a:solidFill>
            <a:srgbClr val="f0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PUMS-EurA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6781680" y="1752480"/>
            <a:ext cx="289584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010-11: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onesi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relan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pal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kista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witzerlan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iland</a:t>
            </a:r>
            <a:br>
              <a:rPr sz="24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012-4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y not you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0" y="762120"/>
            <a:ext cx="9144000" cy="990360"/>
          </a:xfrm>
          <a:prstGeom prst="rect">
            <a:avLst/>
          </a:prstGeom>
          <a:solidFill>
            <a:srgbClr val="99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IPUMS-International team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y 14, 2009 with NSF over-sight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IPUMS-~2"/>
          <p:cNvPicPr/>
          <p:nvPr/>
        </p:nvPicPr>
        <p:blipFill>
          <a:blip r:embed="rId1"/>
          <a:stretch/>
        </p:blipFill>
        <p:spPr>
          <a:xfrm>
            <a:off x="3657600" y="0"/>
            <a:ext cx="1447920" cy="7524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4"/>
          <p:cNvSpPr/>
          <p:nvPr/>
        </p:nvSpPr>
        <p:spPr>
          <a:xfrm>
            <a:off x="0" y="5257800"/>
            <a:ext cx="9144000" cy="990720"/>
          </a:xfrm>
          <a:prstGeom prst="rect">
            <a:avLst/>
          </a:prstGeom>
          <a:solidFill>
            <a:srgbClr val="99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Not present: computer gurus, some researchers, research assistants, civil service employees, and others who were absent from the National Science Foundation Board meet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5029200" y="4267080"/>
            <a:ext cx="4114800" cy="916920"/>
          </a:xfrm>
          <a:prstGeom prst="rect">
            <a:avLst/>
          </a:prstGeom>
          <a:solidFill>
            <a:srgbClr val="eaf5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ven Ruggles, inventor of IPUMS, Professor of History, and Director of the Minnesota Population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"/>
          <p:cNvSpPr/>
          <p:nvPr/>
        </p:nvSpPr>
        <p:spPr>
          <a:xfrm flipV="1">
            <a:off x="7467480" y="3276720"/>
            <a:ext cx="3812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09050949"/>
          <p:cNvPicPr/>
          <p:nvPr/>
        </p:nvPicPr>
        <p:blipFill>
          <a:blip r:embed="rId2"/>
          <a:srcRect l="6463" t="41796" r="8811" b="12558"/>
          <a:stretch/>
        </p:blipFill>
        <p:spPr>
          <a:xfrm>
            <a:off x="0" y="1828800"/>
            <a:ext cx="9144000" cy="327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9144000" cy="838080"/>
          </a:xfrm>
          <a:prstGeom prst="rect">
            <a:avLst/>
          </a:prstGeom>
          <a:solidFill>
            <a:srgbClr val="99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ructing the IPUMS-International integrated metadata and microdata syste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PUMS-International NEVER disseminates source microdat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 step process of integration--2+ years invested in integrating metadata and microdat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Confirm the integrity and validity of source microdata and meta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Draw and anonymize high precision samp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grate microdata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grate meta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firm the integrity and validity of the integrated microdata sample and metad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Steps 1 &amp; 2 conducted by commissioned senior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l source microdata never dissemin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iolation of confidentiality:  subject to civil fine ($250,000) and/or criminal pros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IPUMS-~2"/>
          <p:cNvPicPr/>
          <p:nvPr/>
        </p:nvPicPr>
        <p:blipFill>
          <a:blip r:embed="rId1"/>
          <a:stretch/>
        </p:blipFill>
        <p:spPr>
          <a:xfrm>
            <a:off x="3657600" y="0"/>
            <a:ext cx="1447920" cy="752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9144000" cy="838080"/>
          </a:xfrm>
          <a:prstGeom prst="rect">
            <a:avLst/>
          </a:prstGeom>
          <a:solidFill>
            <a:srgbClr val="99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 step process of integration in the IPUM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grate micro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site coding scheme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serve every significant detail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rmonize every co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  marital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 = marr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10 = married, form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11 = married, civ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12 = married, religi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20 = married, informal (consensu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IPUMS-~2"/>
          <p:cNvPicPr/>
          <p:nvPr/>
        </p:nvPicPr>
        <p:blipFill>
          <a:blip r:embed="rId1"/>
          <a:stretch/>
        </p:blipFill>
        <p:spPr>
          <a:xfrm>
            <a:off x="3657600" y="0"/>
            <a:ext cx="1447920" cy="752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9144000" cy="838080"/>
          </a:xfrm>
          <a:prstGeom prst="rect">
            <a:avLst/>
          </a:prstGeom>
          <a:solidFill>
            <a:srgbClr val="99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 step process of integration in the IPUMS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grate metadata (XML):  Document every census, sample, variable and co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urce documents (pdf) in official language and Englis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ynamic metadata system—compare any combination of countries and s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ding of any census question and instructions to field work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racteristics of each census and s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be each variable: “universe”, definition, comparabilit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IPUMS-~2"/>
          <p:cNvPicPr/>
          <p:nvPr/>
        </p:nvPicPr>
        <p:blipFill>
          <a:blip r:embed="rId1"/>
          <a:stretch/>
        </p:blipFill>
        <p:spPr>
          <a:xfrm>
            <a:off x="3657600" y="0"/>
            <a:ext cx="1447920" cy="752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23:35:41Z</dcterms:created>
  <dc:creator>Robert McCaa</dc:creator>
  <dc:description/>
  <dc:language>en-US</dc:language>
  <cp:lastModifiedBy>Albert Esteve Palós</cp:lastModifiedBy>
  <dcterms:modified xsi:type="dcterms:W3CDTF">2009-10-29T14:51:25Z</dcterms:modified>
  <cp:revision>278</cp:revision>
  <dc:subject/>
  <dc:title>IPUMS-International: Lessons from 10 years of Archving and Disseminating Census Microdata</dc:title>
</cp:coreProperties>
</file>