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8EA42-13D2-4ED2-837E-6AE85DD4C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C038E-5B5A-4B53-B34B-4D742584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624FF-861E-4989-BA34-E591C05E7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83690-BA3A-48F3-8FD4-96674869C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9781E-E9B5-4DE6-9497-DA537DC53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81751-9198-467C-85C4-ED546F43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14F62-8269-45C5-9312-C3FCE6BF1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F9E3B-D1F8-4DA7-B655-8E8626546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975E0-CAD2-47F7-81DA-93BD40EBB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A1AFA-E2EF-4596-9893-04E92D07F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0708F-B8A2-473F-B553-5C0A28B5B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C90F-1AF6-4797-95FE-0C7C355FF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D793-5ED4-49FF-8987-0DD37687FD5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Data collection on homelessness in statistical offices in France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523880" y="2742840"/>
            <a:ext cx="640080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1. National Institute of Statistics and Economic Studies (INSE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2. Statistical Office of the Ministry of Social Affairs (DRE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3. Other official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Other non conventional dwelling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hanties, et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 smaller municipalities, they are enumerated in the dwelling cens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 larger municipalities, if their address is listed in the repertory of adresses (the RIL), which is the sample frame for the census, they are enumerated (if selected) with the conventional dwellings; if their address is not listed, they are enumerated as rough sleep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imits and advantages of the censu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eople in long stay hostels, as well as in hotels or flats provided by accommodation services cannot be distinguished from people in similar housing situations (other long stay collective accommodation, hotels or flats rented by the person) but not homeles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ouble counting and underestimates for the most precarious situations (sleeping rough, shanties), heterogeneity of the data collection for the rough sleeper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ut : estimate for large municipalities every fifth year</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Other INSEE and DREES surveys</a:t>
            </a:r>
            <a:endParaRPr b="0" lang="en-US" sz="40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National surveys on homelessness conducted by INSEE</a:t>
            </a:r>
            <a:endParaRPr b="0" lang="en-US" sz="4400" spc="-1" strike="noStrike">
              <a:solidFill>
                <a:srgbClr val="000000"/>
              </a:solidFill>
              <a:latin typeface="Times New Roman"/>
            </a:endParaRPr>
          </a:p>
        </p:txBody>
      </p:sp>
      <p:sp>
        <p:nvSpPr>
          <p:cNvPr id="67"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irst survey in 2001, next one in 2012</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urvey of users of accommodation and hot meal distribution services (a detailed questionnaire, 920 variable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ough sleepers defined not by their usual situation as in the census but by the one the night before the survey</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etropolitan France, Paris metropolitan area, other cities of 20,000 inhabitants and over taken together</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 methodological survey in 2009, in Toulouse, to prepare the 2012 survey and ensure the maximum coverage of rough sleep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imits and advantag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D2001 cannot be used at the local level except for the Paris metropolitan area</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o new survey before 2012. Cannot be used for regular monitoring of the situa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ut: answers given by the homeless themselves; very detailed data, useful for a better understanding of processes into homelessness and the living conditions of the homeles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mpleted by questions in other surveys on past homeless periods (2002-2003 Health survey, 2006 Housing sur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The ES survey by DREE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ducted by the Statistical Services of the Ministry of Health and Social Affairs (DREES), every second year since 198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st one 2004; next one 2008 (end of the y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o data on rough sleepers; only on people accommodated by NGOs and other agencies in collective shelters and hostels listed in the sample frame (an improved version of FINE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The ES survey by DRE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he limits of the surve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ms filled by the service providers, not questions answered by the homeles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ts sample frame (attempts to improve i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ogress in recent years:  in taking into account other forms of accommodation for the homeless, such as hotel rooms and shared flats funded through the ALT gr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dvantage : dates back from 1983, now conducted every fourth year</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When is data available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001: SD2001 surve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004: ES surve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006: Rough sleepers census (larger mu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008: ES surve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011: Rough sleepers census (larger mu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012: ES survey, SD2012 surve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t>
            </a:r>
            <a:r>
              <a:rPr b="0" lang="fr-FR" sz="2800" spc="-1" strike="noStrike">
                <a:solidFill>
                  <a:srgbClr val="000000"/>
                </a:solidFill>
                <a:latin typeface="Times New Roman"/>
              </a:rPr>
              <a:t>. but not many figures at a local level at a time when the progress of decentralization would make them necess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Other data from public agencie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igures which should be considered carefully, more linked to the activity of (or funding by) an agency than an accurate evaluation of the number of people in a situatio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ouble counting and situations not cover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amples : data from the DGAS (which funds a large part of the long-stay shelters), from the CNAF (data of the beds funded by the ALT grant, but double counting possible with the DGAS figures, since a bed can have multiple sources of fu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E and DREES</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0720"/>
            <a:ext cx="38098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SE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Censu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National survey of users of accommodation and hot meal distribution services (SD2001, next SD201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Methodological survey on rough sleepers SA2009</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Housing survey for people accommodated by family or friends 1996, 200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05120"/>
            <a:ext cx="380988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REE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Survey of Social Establishments since 1983 (ES survey : last ES2004, next ES20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The French Censu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he 1999 Census was the last to enumerate the entire population simultaneous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ince 2004, the census is an annual surv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Not everyone is enumerated at the same time. Two categories of places of resid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unicipalities of &lt;10,000 inhabita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unicipalities of 10,000 inhabitants or m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Municipalities of &lt;10,000 inhabita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ne fifth of the total number of municipalities in this size category are surveyed each yea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or a given municipality, a comprehensive census every fifth ye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ventional dwellings are surveyed exhaustively in January-February of that year; people sleeping rough and mobile homes the first two days of the data collection; people in institutions in March of the same year</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Municipalities of 10,000 inhabitants and over</a:t>
            </a:r>
            <a:endParaRPr b="0" lang="en-US" sz="4400" spc="-1" strike="noStrike">
              <a:solidFill>
                <a:srgbClr val="000000"/>
              </a:solidFill>
              <a:latin typeface="Times New Roman"/>
            </a:endParaRPr>
          </a:p>
        </p:txBody>
      </p:sp>
      <p:sp>
        <p:nvSpPr>
          <p:cNvPr id="51"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ventional dwellings: each year, about 8% of the population surveyed in January-Februa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eople sleeping rough, people living in mobile homes: comprehensively enumerated the first two days of the census surveys, every five years starting in 2006 (2011, etc.), in all large municipalities at the same ti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eople in institutions: all institutions of the same municipality are enumerated every five years, except for some municipalities where the number of institutions is very large and one fifth is enumerated each ye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The homeless in the censu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eople defined as « usually » sleeping roug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eople accommodated by services in hotels or conventional dwellings (apart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eople accommodated in collective shelters and hostel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hort sta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ong st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eople defined as « usually » sleeping rough</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mprehensively enumerated by municipalities in the first two days of the dwelling census surveys, the year of the dwelling census in small municipalities, in 2006 (2011, etc.) for the large 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 2006 homeless agencies have been consulted and this should be resumed in 201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006 estimate: 13,700 in metropolitan Fr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eople accommodated in hotels or conventional dwellings (apartments</a:t>
            </a:r>
            <a:r>
              <a:rPr b="0" lang="fr-FR" sz="4400" spc="-1" strike="noStrike">
                <a:solidFill>
                  <a:srgbClr val="000000"/>
                </a:solidFill>
                <a:latin typeface="Times New Roman"/>
              </a:rPr>
              <a:t>) </a:t>
            </a:r>
            <a:r>
              <a:rPr b="0" lang="fr-FR" sz="4000" spc="-1" strike="noStrike">
                <a:solidFill>
                  <a:srgbClr val="000000"/>
                </a:solidFill>
                <a:latin typeface="Times New Roman"/>
              </a:rPr>
              <a:t>by NGOs or other agencies </a:t>
            </a:r>
            <a:br>
              <a:rPr sz="4000"/>
            </a:b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 hotel rooms: if for a short period, they should be enumerated with people sleeping rough (in theory); if on a permanent basis (for a long stay), they are enumerated with people who have payed for their room, if their address is sampled, and cannot be distinguished from other people living in a hot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 apartments: cannot be distinguished from other people living in conventional dwelling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Homeless people accommodated in collective shelters and hostels</a:t>
            </a:r>
            <a:br>
              <a:rPr sz="4400"/>
            </a:b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numerated at the time of the collective accommodation survey (in Marc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nly people in short stay shelters can be distinguished in the resul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eople in long-stay hostels are in one category with other long-stay institutions (retirement homes, long-stay medical centres, et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ssible modification for improvement: to collect data in institutions and on the street at the same time (to avoid double counting)</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3:41:04Z</dcterms:created>
  <dc:creator>Maryse Marpsat</dc:creator>
  <dc:description/>
  <dc:language>en-US</dc:language>
  <cp:lastModifiedBy>csd</cp:lastModifiedBy>
  <dcterms:modified xsi:type="dcterms:W3CDTF">2009-10-28T15:28:01Z</dcterms:modified>
  <cp:revision>10</cp:revision>
  <dc:subject/>
  <dc:title>Data collection on homelessness in statistical offices in France </dc:title>
</cp:coreProperties>
</file>