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6421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4EA8-C89E-484C-B349-69FF3C136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46EB-C1AD-40B8-90C0-AA4CE03C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D23A-CC08-4DB7-B92B-99E129E14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1205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363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9047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1205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363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EFDF-E3CD-4E19-BA1E-7674FA3B1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9D3F-61E8-46BD-9663-DEB279FEE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A925-4FCC-4AA5-8B1D-95B585BF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B169-C016-4EB2-8A21-059650CD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02509-D8E9-41BD-B981-D8BA60B0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DE50-2277-4546-892E-D70B69A7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904760" y="990360"/>
            <a:ext cx="6553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6227-708F-4748-B195-00CCCE47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138B-E770-48FE-AC15-419B6196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115A-D750-4876-BFE5-A3355054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7E4E-DC88-4826-87FF-30F65614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346B-65BB-4814-9A55-D8D81011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E7DB-4B87-4E91-8A51-F0C8B745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9F83-8B12-497E-95F8-0B44257C3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1205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363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9047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1205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363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90BC1-95B4-485B-9F28-D8F07909F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51FF-A29C-480E-A4AB-CD622BB7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0F95-BD00-4670-9A8B-1195EE51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AEA0-FE8F-4BB9-B9EF-9358ADD1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904760" y="990360"/>
            <a:ext cx="6553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51DB-0696-4805-BFD1-4FA93E75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A28F-519B-4939-A797-3E187F01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530B-14AF-47E4-BD51-FE537D39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1B58-B69B-49D6-B2CB-E65A606E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0512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0512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0512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973D609-030D-4F5E-969C-7DF99033289F}" type="slidenum">
              <a:rPr b="0" lang="en-GB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8380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157320" y="5546880"/>
            <a:ext cx="519120" cy="882360"/>
            <a:chOff x="157320" y="5546880"/>
            <a:chExt cx="519120" cy="882360"/>
          </a:xfrm>
        </p:grpSpPr>
        <p:sp>
          <p:nvSpPr>
            <p:cNvPr id="7" name=""/>
            <p:cNvSpPr/>
            <p:nvPr/>
          </p:nvSpPr>
          <p:spPr>
            <a:xfrm>
              <a:off x="504720" y="5778360"/>
              <a:ext cx="87480" cy="98640"/>
            </a:xfrm>
            <a:custGeom>
              <a:avLst/>
              <a:gdLst/>
              <a:ahLst/>
              <a:rect l="l" t="t" r="r" b="b"/>
              <a:pathLst>
                <a:path w="882" h="1004">
                  <a:moveTo>
                    <a:pt x="320" y="321"/>
                  </a:moveTo>
                  <a:lnTo>
                    <a:pt x="561" y="321"/>
                  </a:lnTo>
                  <a:lnTo>
                    <a:pt x="561" y="682"/>
                  </a:lnTo>
                  <a:lnTo>
                    <a:pt x="320" y="682"/>
                  </a:lnTo>
                  <a:lnTo>
                    <a:pt x="320" y="321"/>
                  </a:lnTo>
                  <a:close/>
                  <a:moveTo>
                    <a:pt x="0" y="0"/>
                  </a:moveTo>
                  <a:lnTo>
                    <a:pt x="882" y="0"/>
                  </a:lnTo>
                  <a:lnTo>
                    <a:pt x="882" y="1004"/>
                  </a:lnTo>
                  <a:lnTo>
                    <a:pt x="0" y="10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58760" y="5689440"/>
              <a:ext cx="235080" cy="271800"/>
            </a:xfrm>
            <a:custGeom>
              <a:avLst/>
              <a:gdLst/>
              <a:ahLst/>
              <a:rect l="l" t="t" r="r" b="b"/>
              <a:pathLst>
                <a:path w="2367" h="2729">
                  <a:moveTo>
                    <a:pt x="0" y="0"/>
                  </a:moveTo>
                  <a:lnTo>
                    <a:pt x="2367" y="0"/>
                  </a:lnTo>
                  <a:lnTo>
                    <a:pt x="2367" y="1203"/>
                  </a:lnTo>
                  <a:lnTo>
                    <a:pt x="1164" y="1203"/>
                  </a:lnTo>
                  <a:lnTo>
                    <a:pt x="1164" y="1565"/>
                  </a:lnTo>
                  <a:lnTo>
                    <a:pt x="2367" y="1565"/>
                  </a:lnTo>
                  <a:lnTo>
                    <a:pt x="2367" y="2729"/>
                  </a:lnTo>
                  <a:lnTo>
                    <a:pt x="0" y="2729"/>
                  </a:lnTo>
                  <a:lnTo>
                    <a:pt x="0" y="0"/>
                  </a:lnTo>
                  <a:close/>
                  <a:moveTo>
                    <a:pt x="321" y="362"/>
                  </a:moveTo>
                  <a:lnTo>
                    <a:pt x="2046" y="362"/>
                  </a:lnTo>
                  <a:lnTo>
                    <a:pt x="2046" y="882"/>
                  </a:lnTo>
                  <a:lnTo>
                    <a:pt x="843" y="882"/>
                  </a:lnTo>
                  <a:lnTo>
                    <a:pt x="843" y="1887"/>
                  </a:lnTo>
                  <a:lnTo>
                    <a:pt x="2046" y="1887"/>
                  </a:lnTo>
                  <a:lnTo>
                    <a:pt x="2046" y="2409"/>
                  </a:lnTo>
                  <a:lnTo>
                    <a:pt x="321" y="2409"/>
                  </a:lnTo>
                  <a:lnTo>
                    <a:pt x="321" y="3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57320" y="5996160"/>
              <a:ext cx="517320" cy="433080"/>
            </a:xfrm>
            <a:custGeom>
              <a:avLst/>
              <a:gdLst/>
              <a:ahLst/>
              <a:rect l="l" t="t" r="r" b="b"/>
              <a:pathLst>
                <a:path w="5216" h="4376">
                  <a:moveTo>
                    <a:pt x="5216" y="0"/>
                  </a:moveTo>
                  <a:lnTo>
                    <a:pt x="0" y="0"/>
                  </a:lnTo>
                  <a:lnTo>
                    <a:pt x="1" y="2770"/>
                  </a:lnTo>
                  <a:lnTo>
                    <a:pt x="4053" y="2771"/>
                  </a:lnTo>
                  <a:lnTo>
                    <a:pt x="4053" y="3212"/>
                  </a:lnTo>
                  <a:lnTo>
                    <a:pt x="1" y="3211"/>
                  </a:lnTo>
                  <a:lnTo>
                    <a:pt x="1" y="4376"/>
                  </a:lnTo>
                  <a:lnTo>
                    <a:pt x="5216" y="4376"/>
                  </a:lnTo>
                  <a:lnTo>
                    <a:pt x="5216" y="1605"/>
                  </a:lnTo>
                  <a:lnTo>
                    <a:pt x="1165" y="1605"/>
                  </a:lnTo>
                  <a:lnTo>
                    <a:pt x="1165" y="1164"/>
                  </a:lnTo>
                  <a:lnTo>
                    <a:pt x="5216" y="1164"/>
                  </a:lnTo>
                  <a:lnTo>
                    <a:pt x="5216" y="0"/>
                  </a:lnTo>
                  <a:close/>
                  <a:moveTo>
                    <a:pt x="321" y="321"/>
                  </a:moveTo>
                  <a:lnTo>
                    <a:pt x="4895" y="321"/>
                  </a:lnTo>
                  <a:lnTo>
                    <a:pt x="4895" y="842"/>
                  </a:lnTo>
                  <a:lnTo>
                    <a:pt x="843" y="842"/>
                  </a:lnTo>
                  <a:lnTo>
                    <a:pt x="843" y="1926"/>
                  </a:lnTo>
                  <a:lnTo>
                    <a:pt x="4895" y="1926"/>
                  </a:lnTo>
                  <a:lnTo>
                    <a:pt x="4895" y="4055"/>
                  </a:lnTo>
                  <a:lnTo>
                    <a:pt x="321" y="4055"/>
                  </a:lnTo>
                  <a:lnTo>
                    <a:pt x="321" y="3533"/>
                  </a:lnTo>
                  <a:lnTo>
                    <a:pt x="4374" y="3533"/>
                  </a:lnTo>
                  <a:lnTo>
                    <a:pt x="4374" y="2449"/>
                  </a:lnTo>
                  <a:lnTo>
                    <a:pt x="321" y="2449"/>
                  </a:lnTo>
                  <a:lnTo>
                    <a:pt x="321" y="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22280" y="5546880"/>
              <a:ext cx="254160" cy="414360"/>
            </a:xfrm>
            <a:custGeom>
              <a:avLst/>
              <a:gdLst/>
              <a:ahLst/>
              <a:rect l="l" t="t" r="r" b="b"/>
              <a:pathLst>
                <a:path w="2567" h="4174">
                  <a:moveTo>
                    <a:pt x="321" y="321"/>
                  </a:moveTo>
                  <a:lnTo>
                    <a:pt x="843" y="321"/>
                  </a:lnTo>
                  <a:lnTo>
                    <a:pt x="843" y="1806"/>
                  </a:lnTo>
                  <a:lnTo>
                    <a:pt x="2246" y="1806"/>
                  </a:lnTo>
                  <a:lnTo>
                    <a:pt x="2246" y="3854"/>
                  </a:lnTo>
                  <a:lnTo>
                    <a:pt x="321" y="3854"/>
                  </a:lnTo>
                  <a:lnTo>
                    <a:pt x="321" y="321"/>
                  </a:lnTo>
                  <a:close/>
                  <a:moveTo>
                    <a:pt x="0" y="0"/>
                  </a:moveTo>
                  <a:lnTo>
                    <a:pt x="1163" y="0"/>
                  </a:lnTo>
                  <a:lnTo>
                    <a:pt x="1163" y="1444"/>
                  </a:lnTo>
                  <a:lnTo>
                    <a:pt x="2567" y="1444"/>
                  </a:lnTo>
                  <a:lnTo>
                    <a:pt x="2567" y="4174"/>
                  </a:lnTo>
                  <a:lnTo>
                    <a:pt x="0" y="41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4A65B3E-1A30-4ED6-A2D7-3134B4E38917}" type="slidenum">
              <a:rPr b="0" lang="en-GB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8380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57320" y="5546880"/>
            <a:ext cx="519120" cy="882360"/>
            <a:chOff x="157320" y="5546880"/>
            <a:chExt cx="519120" cy="882360"/>
          </a:xfrm>
        </p:grpSpPr>
        <p:sp>
          <p:nvSpPr>
            <p:cNvPr id="53" name=""/>
            <p:cNvSpPr/>
            <p:nvPr/>
          </p:nvSpPr>
          <p:spPr>
            <a:xfrm>
              <a:off x="504720" y="5778360"/>
              <a:ext cx="87480" cy="98640"/>
            </a:xfrm>
            <a:custGeom>
              <a:avLst/>
              <a:gdLst/>
              <a:ahLst/>
              <a:rect l="l" t="t" r="r" b="b"/>
              <a:pathLst>
                <a:path w="882" h="1004">
                  <a:moveTo>
                    <a:pt x="320" y="321"/>
                  </a:moveTo>
                  <a:lnTo>
                    <a:pt x="561" y="321"/>
                  </a:lnTo>
                  <a:lnTo>
                    <a:pt x="561" y="682"/>
                  </a:lnTo>
                  <a:lnTo>
                    <a:pt x="320" y="682"/>
                  </a:lnTo>
                  <a:lnTo>
                    <a:pt x="320" y="321"/>
                  </a:lnTo>
                  <a:close/>
                  <a:moveTo>
                    <a:pt x="0" y="0"/>
                  </a:moveTo>
                  <a:lnTo>
                    <a:pt x="882" y="0"/>
                  </a:lnTo>
                  <a:lnTo>
                    <a:pt x="882" y="1004"/>
                  </a:lnTo>
                  <a:lnTo>
                    <a:pt x="0" y="10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8760" y="5689440"/>
              <a:ext cx="235080" cy="271800"/>
            </a:xfrm>
            <a:custGeom>
              <a:avLst/>
              <a:gdLst/>
              <a:ahLst/>
              <a:rect l="l" t="t" r="r" b="b"/>
              <a:pathLst>
                <a:path w="2367" h="2729">
                  <a:moveTo>
                    <a:pt x="0" y="0"/>
                  </a:moveTo>
                  <a:lnTo>
                    <a:pt x="2367" y="0"/>
                  </a:lnTo>
                  <a:lnTo>
                    <a:pt x="2367" y="1203"/>
                  </a:lnTo>
                  <a:lnTo>
                    <a:pt x="1164" y="1203"/>
                  </a:lnTo>
                  <a:lnTo>
                    <a:pt x="1164" y="1565"/>
                  </a:lnTo>
                  <a:lnTo>
                    <a:pt x="2367" y="1565"/>
                  </a:lnTo>
                  <a:lnTo>
                    <a:pt x="2367" y="2729"/>
                  </a:lnTo>
                  <a:lnTo>
                    <a:pt x="0" y="2729"/>
                  </a:lnTo>
                  <a:lnTo>
                    <a:pt x="0" y="0"/>
                  </a:lnTo>
                  <a:close/>
                  <a:moveTo>
                    <a:pt x="321" y="362"/>
                  </a:moveTo>
                  <a:lnTo>
                    <a:pt x="2046" y="362"/>
                  </a:lnTo>
                  <a:lnTo>
                    <a:pt x="2046" y="882"/>
                  </a:lnTo>
                  <a:lnTo>
                    <a:pt x="843" y="882"/>
                  </a:lnTo>
                  <a:lnTo>
                    <a:pt x="843" y="1887"/>
                  </a:lnTo>
                  <a:lnTo>
                    <a:pt x="2046" y="1887"/>
                  </a:lnTo>
                  <a:lnTo>
                    <a:pt x="2046" y="2409"/>
                  </a:lnTo>
                  <a:lnTo>
                    <a:pt x="321" y="2409"/>
                  </a:lnTo>
                  <a:lnTo>
                    <a:pt x="321" y="3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7320" y="5996160"/>
              <a:ext cx="517320" cy="433080"/>
            </a:xfrm>
            <a:custGeom>
              <a:avLst/>
              <a:gdLst/>
              <a:ahLst/>
              <a:rect l="l" t="t" r="r" b="b"/>
              <a:pathLst>
                <a:path w="5216" h="4376">
                  <a:moveTo>
                    <a:pt x="5216" y="0"/>
                  </a:moveTo>
                  <a:lnTo>
                    <a:pt x="0" y="0"/>
                  </a:lnTo>
                  <a:lnTo>
                    <a:pt x="1" y="2770"/>
                  </a:lnTo>
                  <a:lnTo>
                    <a:pt x="4053" y="2771"/>
                  </a:lnTo>
                  <a:lnTo>
                    <a:pt x="4053" y="3212"/>
                  </a:lnTo>
                  <a:lnTo>
                    <a:pt x="1" y="3211"/>
                  </a:lnTo>
                  <a:lnTo>
                    <a:pt x="1" y="4376"/>
                  </a:lnTo>
                  <a:lnTo>
                    <a:pt x="5216" y="4376"/>
                  </a:lnTo>
                  <a:lnTo>
                    <a:pt x="5216" y="1605"/>
                  </a:lnTo>
                  <a:lnTo>
                    <a:pt x="1165" y="1605"/>
                  </a:lnTo>
                  <a:lnTo>
                    <a:pt x="1165" y="1164"/>
                  </a:lnTo>
                  <a:lnTo>
                    <a:pt x="5216" y="1164"/>
                  </a:lnTo>
                  <a:lnTo>
                    <a:pt x="5216" y="0"/>
                  </a:lnTo>
                  <a:close/>
                  <a:moveTo>
                    <a:pt x="321" y="321"/>
                  </a:moveTo>
                  <a:lnTo>
                    <a:pt x="4895" y="321"/>
                  </a:lnTo>
                  <a:lnTo>
                    <a:pt x="4895" y="842"/>
                  </a:lnTo>
                  <a:lnTo>
                    <a:pt x="843" y="842"/>
                  </a:lnTo>
                  <a:lnTo>
                    <a:pt x="843" y="1926"/>
                  </a:lnTo>
                  <a:lnTo>
                    <a:pt x="4895" y="1926"/>
                  </a:lnTo>
                  <a:lnTo>
                    <a:pt x="4895" y="4055"/>
                  </a:lnTo>
                  <a:lnTo>
                    <a:pt x="321" y="4055"/>
                  </a:lnTo>
                  <a:lnTo>
                    <a:pt x="321" y="3533"/>
                  </a:lnTo>
                  <a:lnTo>
                    <a:pt x="4374" y="3533"/>
                  </a:lnTo>
                  <a:lnTo>
                    <a:pt x="4374" y="2449"/>
                  </a:lnTo>
                  <a:lnTo>
                    <a:pt x="321" y="2449"/>
                  </a:lnTo>
                  <a:lnTo>
                    <a:pt x="321" y="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22280" y="5546880"/>
              <a:ext cx="254160" cy="414360"/>
            </a:xfrm>
            <a:custGeom>
              <a:avLst/>
              <a:gdLst/>
              <a:ahLst/>
              <a:rect l="l" t="t" r="r" b="b"/>
              <a:pathLst>
                <a:path w="2567" h="4174">
                  <a:moveTo>
                    <a:pt x="321" y="321"/>
                  </a:moveTo>
                  <a:lnTo>
                    <a:pt x="843" y="321"/>
                  </a:lnTo>
                  <a:lnTo>
                    <a:pt x="843" y="1806"/>
                  </a:lnTo>
                  <a:lnTo>
                    <a:pt x="2246" y="1806"/>
                  </a:lnTo>
                  <a:lnTo>
                    <a:pt x="2246" y="3854"/>
                  </a:lnTo>
                  <a:lnTo>
                    <a:pt x="321" y="3854"/>
                  </a:lnTo>
                  <a:lnTo>
                    <a:pt x="321" y="321"/>
                  </a:lnTo>
                  <a:close/>
                  <a:moveTo>
                    <a:pt x="0" y="0"/>
                  </a:moveTo>
                  <a:lnTo>
                    <a:pt x="1163" y="0"/>
                  </a:lnTo>
                  <a:lnTo>
                    <a:pt x="1163" y="1444"/>
                  </a:lnTo>
                  <a:lnTo>
                    <a:pt x="2567" y="1444"/>
                  </a:lnTo>
                  <a:lnTo>
                    <a:pt x="2567" y="4174"/>
                  </a:lnTo>
                  <a:lnTo>
                    <a:pt x="0" y="41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90440" indent="0" algn="ctr"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6996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14624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62252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62252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62252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6800" y="1638360"/>
            <a:ext cx="8286840" cy="179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0ffff"/>
                </a:solidFill>
                <a:latin typeface="Arial"/>
              </a:rPr>
              <a:t>Confidentiality issues in the EU Population and Housing Censuses of 2011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66880" y="3886200"/>
            <a:ext cx="82771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isks and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0ffff"/>
                </a:solidFill>
                <a:latin typeface="Arial"/>
              </a:rPr>
              <a:t>Frequency tables (VII)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ssible criter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Fraction of respondents that score on a sensitive category should be less than </a:t>
            </a: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increase the uncertain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,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0ffff"/>
                </a:solidFill>
                <a:latin typeface="Arial"/>
              </a:rPr>
              <a:t>Frequency tables (VIII)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, continu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umber of shipow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nvironmental off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io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81080" y="5791320"/>
            <a:ext cx="5334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4343400"/>
            <a:ext cx="5334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3886200"/>
            <a:ext cx="5334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0ffff"/>
                </a:solidFill>
                <a:latin typeface="Arial"/>
              </a:rPr>
              <a:t>Frequency tables (IX)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04760" y="1980720"/>
            <a:ext cx="65530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il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Non-offensive shipowner knows that the other one committed an environmental off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05120" y="4038480"/>
            <a:ext cx="65530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ssible criter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If respondents score on a sensitive category, at least </a:t>
            </a: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respondents should score on </a:t>
            </a: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non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-sensitive catego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0ffff"/>
                </a:solidFill>
                <a:latin typeface="Arial"/>
              </a:rPr>
              <a:t>Frequency tables (X)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, continu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umber of shipow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nvironmental off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io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9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5410080"/>
            <a:ext cx="5334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3962520"/>
            <a:ext cx="5334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81080" y="3505320"/>
            <a:ext cx="5334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52480" y="57150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Non-offenders now do not know 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which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other shipowner committed the off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0ffff"/>
                </a:solidFill>
                <a:latin typeface="Arial"/>
              </a:rPr>
              <a:t>Hierarchical tables (I)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erarchical tables: special case of linked 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e or more of spanning variable are hierarchic, i.e. its categories contain several (sub)tot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ion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state/county/district/municipalit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siness classification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NA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0ffff"/>
                </a:solidFill>
                <a:latin typeface="Arial"/>
              </a:rPr>
              <a:t>Hierarchical tables (II)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roningen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iesla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99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enth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verijssel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lderland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levola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99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trech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ord-Holla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uid-Holla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6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eela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ord-Braban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mburg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therlands        4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05120" y="5967360"/>
            <a:ext cx="2743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267160" y="3699000"/>
            <a:ext cx="267336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0ffff"/>
                </a:solidFill>
                <a:latin typeface="Arial"/>
              </a:rPr>
              <a:t>Hierarchical tables (III)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Groningen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Friesla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99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Drenth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verijssel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lderland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levola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99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trech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ord-Holla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uid-Holla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6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eela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ord-Braban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mburg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therlands        4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05120" y="5967360"/>
            <a:ext cx="2743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5780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Nor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s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th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8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s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19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therlands        41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3317760"/>
            <a:ext cx="2590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267160" y="3699000"/>
            <a:ext cx="267336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0ffff"/>
                </a:solidFill>
                <a:latin typeface="Arial"/>
              </a:rPr>
              <a:t>Hierarchical tables (IV)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Groningen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Friesla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Drenth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Overijssel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Gelderland 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Flevoland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99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trech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ord-Holla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uid-Holla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6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eela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ord-Braban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mburg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therlands        4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05120" y="5967360"/>
            <a:ext cx="2743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Nor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East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th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8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s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19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therlands        41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3317760"/>
            <a:ext cx="2590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267160" y="3699000"/>
            <a:ext cx="267336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0ffff"/>
                </a:solidFill>
                <a:latin typeface="Arial"/>
              </a:rPr>
              <a:t>Hierarchical tables (V)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Groningen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Friesla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Drenth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Overijssel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Gelderland 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Flevoland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trech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ord-Holla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uid-Holla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6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eela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ord-Braban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mburg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therlands        4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05120" y="5967360"/>
            <a:ext cx="2743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5780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Nor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East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th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8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s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19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therlands        41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4120" y="3317760"/>
            <a:ext cx="2590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267160" y="3699000"/>
            <a:ext cx="267336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85760" y="97128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0ffff"/>
                </a:solidFill>
                <a:latin typeface="Arial"/>
              </a:rPr>
              <a:t>Discussion issues for the 2011 Census Round (I)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848720" cy="340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ulation No 763/2008 on Population and Housing Cens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ailed output in high dimensional tables (so-called hypercub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well are Census tables with these variables fill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4760" y="838080"/>
            <a:ext cx="65530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0ffff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05120" y="1828800"/>
            <a:ext cx="67435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fferent kinds of tabl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SzPct val="12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gnitude 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SzPct val="12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requency 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550"/>
              </a:spcBef>
              <a:buClr>
                <a:srgbClr val="ffffff"/>
              </a:buClr>
              <a:buSzPct val="12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tating the problem(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spcBef>
                <a:spcPts val="499"/>
              </a:spcBef>
              <a:buClr>
                <a:srgbClr val="ffffff"/>
              </a:buClr>
              <a:buSzPct val="120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nsitive catego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spcBef>
                <a:spcPts val="499"/>
              </a:spcBef>
              <a:buClr>
                <a:srgbClr val="ffffff"/>
              </a:buClr>
              <a:buSzPct val="120000"/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roup disclos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550"/>
              </a:spcBef>
              <a:buClr>
                <a:srgbClr val="ffffff"/>
              </a:buClr>
              <a:buSzPct val="12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ossible Criteri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SzPct val="12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erarchical 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scussion issues for the 2011 Census R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0ffff"/>
                </a:solidFill>
                <a:latin typeface="Arial"/>
              </a:rPr>
              <a:t>Discussion issues for the 2011 Census Round (II)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028960" y="1998720"/>
          <a:ext cx="6600600" cy="454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8960" y="1998720"/>
                    <a:ext cx="6600600" cy="45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0ffff"/>
                </a:solidFill>
                <a:latin typeface="Arial"/>
              </a:rPr>
              <a:t>Discussion issues for the 2011 Census Round (III)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019240" y="2027160"/>
          <a:ext cx="6600960" cy="454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19240" y="2027160"/>
                    <a:ext cx="6600960" cy="45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85760" y="97128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0ffff"/>
                </a:solidFill>
                <a:latin typeface="Arial"/>
              </a:rPr>
              <a:t>Discussion issues for the 2011 Census Round (IV)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680" y="2171520"/>
            <a:ext cx="7848720" cy="405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disclosure of individual sensitive informat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ich (categories of) variables are sensitiv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protection measures are feasible (preferably European wide co-ordinated)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prevent recalculations from marginal totals: secondary suppressions (across a hypercube and between hypercubes) with Tau-ARG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ggregation problems when cells are suppres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se issues have to be worked out further in the TF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2844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0ffff"/>
                </a:solidFill>
                <a:latin typeface="Arial"/>
              </a:rPr>
              <a:t>Magnitude tables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gnitude tab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cell value represents the sum of the scor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f the respondents that fall into that cel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0ffff"/>
                </a:solidFill>
                <a:latin typeface="Arial"/>
              </a:rPr>
              <a:t>Frequency tables (I)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requency tab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cell value represents the number of respondents that fall into that c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 Dutch population, 1/1/20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6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le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Femal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To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845 667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855 671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1 701 33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s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 716 457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 743 635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3 460 09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s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3 750 224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3 875 594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7 625 8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 766 540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 781 721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3 548 26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8 078 888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8 256 621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6 335 5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6064200"/>
            <a:ext cx="5016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3200" y="4362480"/>
            <a:ext cx="5016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0ffff"/>
                </a:solidFill>
                <a:latin typeface="Arial"/>
              </a:rPr>
              <a:t>Frequency tables (II)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701028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ell value not sensi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anning variab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dentify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Region, gender, type of business,…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Sexual behaviour, criminal offence, …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0ffff"/>
                </a:solidFill>
                <a:latin typeface="Arial"/>
              </a:rPr>
              <a:t>Frequency tables (III)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Spanning) variab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e sensi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maining identify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 number of shipow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nvironmental off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io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9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81080" y="5181480"/>
            <a:ext cx="5334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81080" y="6477120"/>
            <a:ext cx="5334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81080" y="4572000"/>
            <a:ext cx="5334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0ffff"/>
                </a:solidFill>
                <a:latin typeface="Arial"/>
              </a:rPr>
              <a:t>Frequency tables (IV)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up disclosu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ll shipowners in region A committed an environmental off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4114800"/>
            <a:ext cx="65530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clus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Not all respondents should score on a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ensitive categ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92160" y="5219640"/>
            <a:ext cx="655344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0ffff"/>
                </a:solidFill>
                <a:latin typeface="Arial"/>
              </a:rPr>
              <a:t>Frequency tables (V)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, continu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umber of shipow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nvironmental off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io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81080" y="3886200"/>
            <a:ext cx="5334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81080" y="4343400"/>
            <a:ext cx="5334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81080" y="5791320"/>
            <a:ext cx="5334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0ffff"/>
                </a:solidFill>
                <a:latin typeface="Arial"/>
              </a:rPr>
              <a:t>Frequency tables (VI)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04760" y="1980720"/>
            <a:ext cx="6553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il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non-offensive shipowners know quite surely that all other shipowners in region B committed an environmental off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05120" y="4114800"/>
            <a:ext cx="6553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clus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re should not be too many respondents that score on a sensitive categ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05T10:35:30Z</dcterms:created>
  <dc:creator>Maarten Pedroli/Hans Vogelaar</dc:creator>
  <dc:description/>
  <dc:language>en-US</dc:language>
  <cp:lastModifiedBy>Eric</cp:lastModifiedBy>
  <cp:lastPrinted>1997-01-15T14:42:22Z</cp:lastPrinted>
  <dcterms:modified xsi:type="dcterms:W3CDTF">2009-10-08T06:05:46Z</dcterms:modified>
  <cp:revision>101</cp:revision>
  <dc:subject/>
  <dc:title>CBS-presentatie met dia'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75233198</vt:r8>
  </property>
  <property fmtid="{D5CDD505-2E9C-101B-9397-08002B2CF9AE}" pid="3" name="_AuthorEmail">
    <vt:lpwstr>e.schultenordholt@cbs.nl</vt:lpwstr>
  </property>
  <property fmtid="{D5CDD505-2E9C-101B-9397-08002B2CF9AE}" pid="4" name="_AuthorEmailDisplayName">
    <vt:lpwstr>Schulte Nordholt, drs E.</vt:lpwstr>
  </property>
  <property fmtid="{D5CDD505-2E9C-101B-9397-08002B2CF9AE}" pid="5" name="_EmailSubject">
    <vt:lpwstr>Presentation at the Geneva meeting?</vt:lpwstr>
  </property>
</Properties>
</file>