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90360" y="3785760"/>
            <a:ext cx="754380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78576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856040" y="378576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0960" y="167652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920" y="167652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990360" y="378576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40960" y="378576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91920" y="378576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609588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360" y="378576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56040" y="378576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360" y="3785760"/>
            <a:ext cx="754380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360" y="3785760"/>
            <a:ext cx="754380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360" y="378576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56040" y="378576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0960" y="167652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920" y="167652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360" y="378576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0960" y="378576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920" y="3785760"/>
            <a:ext cx="24289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228600"/>
            <a:ext cx="609588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78576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856040" y="378576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56040" y="1676520"/>
            <a:ext cx="368136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90360" y="3785760"/>
            <a:ext cx="754380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1219320"/>
            <a:ext cx="8457840" cy="5257440"/>
            <a:chOff x="228600" y="1219320"/>
            <a:chExt cx="8457840" cy="5257440"/>
          </a:xfrm>
        </p:grpSpPr>
        <p:sp>
          <p:nvSpPr>
            <p:cNvPr id="1" name="Rectangle 3"/>
            <p:cNvSpPr/>
            <p:nvPr/>
          </p:nvSpPr>
          <p:spPr>
            <a:xfrm>
              <a:off x="236520" y="1222920"/>
              <a:ext cx="8438760" cy="525384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28600" y="1219320"/>
              <a:ext cx="8438760" cy="5256000"/>
            </a:xfrm>
            <a:prstGeom prst="pie">
              <a:avLst/>
            </a:pr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247680" y="1219320"/>
              <a:ext cx="8438760" cy="525600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380880" y="1447920"/>
            <a:ext cx="153720" cy="4754160"/>
            <a:chOff x="380880" y="1447920"/>
            <a:chExt cx="153720" cy="4754160"/>
          </a:xfrm>
        </p:grpSpPr>
        <p:sp>
          <p:nvSpPr>
            <p:cNvPr id="5" name="Rectangle 7"/>
            <p:cNvSpPr/>
            <p:nvPr/>
          </p:nvSpPr>
          <p:spPr>
            <a:xfrm>
              <a:off x="380880" y="1449360"/>
              <a:ext cx="152280" cy="47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80880" y="1447920"/>
              <a:ext cx="153720" cy="4754160"/>
            </a:xfrm>
            <a:prstGeom prst="pie">
              <a:avLst/>
            </a:pr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80880" y="1447920"/>
              <a:ext cx="153720" cy="47541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228600" y="152280"/>
            <a:ext cx="304920" cy="914400"/>
            <a:chOff x="228600" y="152280"/>
            <a:chExt cx="304920" cy="914400"/>
          </a:xfrm>
        </p:grpSpPr>
        <p:sp>
          <p:nvSpPr>
            <p:cNvPr id="9" name="Rectangle 11"/>
            <p:cNvSpPr/>
            <p:nvPr/>
          </p:nvSpPr>
          <p:spPr>
            <a:xfrm>
              <a:off x="228600" y="152280"/>
              <a:ext cx="303480" cy="9133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28600" y="152280"/>
              <a:ext cx="304920" cy="914400"/>
            </a:xfrm>
            <a:prstGeom prst="pie">
              <a:avLst/>
            </a:pr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28600" y="152280"/>
              <a:ext cx="304920" cy="91440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Palatino"/>
              </a:rPr>
              <a:t>Click to edit the title text format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99036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1500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1500"/>
              </a:spcBef>
              <a:buClr>
                <a:srgbClr val="b2b2b2"/>
              </a:buClr>
              <a:buSzPct val="7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1500"/>
              </a:spcBef>
              <a:buClr>
                <a:srgbClr val="b2b2b2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1500"/>
              </a:spcBef>
              <a:buClr>
                <a:srgbClr val="b2b2b2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590920" y="632304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9" descr=""/>
          <p:cNvPicPr/>
          <p:nvPr/>
        </p:nvPicPr>
        <p:blipFill>
          <a:blip r:embed="rId2"/>
          <a:stretch/>
        </p:blipFill>
        <p:spPr>
          <a:xfrm>
            <a:off x="8396280" y="6308640"/>
            <a:ext cx="485640" cy="312840"/>
          </a:xfrm>
          <a:prstGeom prst="rect">
            <a:avLst/>
          </a:prstGeom>
          <a:ln w="0">
            <a:noFill/>
          </a:ln>
        </p:spPr>
      </p:pic>
      <p:sp>
        <p:nvSpPr>
          <p:cNvPr id="17" name="Rectangle 20"/>
          <p:cNvSpPr/>
          <p:nvPr/>
        </p:nvSpPr>
        <p:spPr>
          <a:xfrm>
            <a:off x="8104320" y="6597720"/>
            <a:ext cx="1070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99"/>
                </a:solidFill>
                <a:latin typeface="Arial"/>
              </a:rPr>
              <a:t>European Commi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21" descr=""/>
          <p:cNvPicPr/>
          <p:nvPr/>
        </p:nvPicPr>
        <p:blipFill>
          <a:blip r:embed="rId3"/>
          <a:srcRect l="0" t="0" r="8299" b="0"/>
          <a:stretch/>
        </p:blipFill>
        <p:spPr>
          <a:xfrm>
            <a:off x="179280" y="6311880"/>
            <a:ext cx="347760" cy="325440"/>
          </a:xfrm>
          <a:prstGeom prst="rect">
            <a:avLst/>
          </a:prstGeom>
          <a:ln w="0">
            <a:noFill/>
          </a:ln>
        </p:spPr>
      </p:pic>
      <p:grpSp>
        <p:nvGrpSpPr>
          <p:cNvPr id="19" name="Group 22"/>
          <p:cNvGrpSpPr/>
          <p:nvPr/>
        </p:nvGrpSpPr>
        <p:grpSpPr>
          <a:xfrm>
            <a:off x="7164360" y="185760"/>
            <a:ext cx="1522440" cy="876240"/>
            <a:chOff x="7164360" y="185760"/>
            <a:chExt cx="1522440" cy="876240"/>
          </a:xfrm>
        </p:grpSpPr>
        <p:grpSp>
          <p:nvGrpSpPr>
            <p:cNvPr id="20" name="Group 23"/>
            <p:cNvGrpSpPr/>
            <p:nvPr/>
          </p:nvGrpSpPr>
          <p:grpSpPr>
            <a:xfrm>
              <a:off x="7164360" y="185760"/>
              <a:ext cx="1522440" cy="876240"/>
              <a:chOff x="7164360" y="185760"/>
              <a:chExt cx="1522440" cy="876240"/>
            </a:xfrm>
          </p:grpSpPr>
          <p:sp>
            <p:nvSpPr>
              <p:cNvPr id="21" name="Rectangle 24"/>
              <p:cNvSpPr/>
              <p:nvPr/>
            </p:nvSpPr>
            <p:spPr>
              <a:xfrm>
                <a:off x="7164360" y="185760"/>
                <a:ext cx="1522440" cy="8658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5"/>
              <p:cNvSpPr/>
              <p:nvPr/>
            </p:nvSpPr>
            <p:spPr>
              <a:xfrm>
                <a:off x="7164360" y="185760"/>
                <a:ext cx="1522440" cy="8762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6"/>
              <p:cNvSpPr/>
              <p:nvPr/>
            </p:nvSpPr>
            <p:spPr>
              <a:xfrm>
                <a:off x="7164360" y="185760"/>
                <a:ext cx="1522440" cy="8762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" name="Picture 27" descr="trp master slide"/>
            <p:cNvPicPr/>
            <p:nvPr/>
          </p:nvPicPr>
          <p:blipFill>
            <a:blip r:embed="rId4"/>
            <a:stretch/>
          </p:blipFill>
          <p:spPr>
            <a:xfrm>
              <a:off x="7310520" y="355680"/>
              <a:ext cx="608040" cy="54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Picture 28" descr=""/>
            <p:cNvPicPr/>
            <p:nvPr/>
          </p:nvPicPr>
          <p:blipFill>
            <a:blip r:embed="rId5"/>
            <a:srcRect l="4617" t="0" r="0" b="0"/>
            <a:stretch/>
          </p:blipFill>
          <p:spPr>
            <a:xfrm>
              <a:off x="8023320" y="687240"/>
              <a:ext cx="5443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Picture 29" descr=""/>
            <p:cNvPicPr/>
            <p:nvPr/>
          </p:nvPicPr>
          <p:blipFill>
            <a:blip r:embed="rId6"/>
            <a:stretch/>
          </p:blipFill>
          <p:spPr>
            <a:xfrm>
              <a:off x="8015400" y="360360"/>
              <a:ext cx="539640" cy="237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78000" y="1676520"/>
            <a:ext cx="8389800" cy="2742840"/>
            <a:chOff x="378000" y="1676520"/>
            <a:chExt cx="8389800" cy="2742840"/>
          </a:xfrm>
        </p:grpSpPr>
        <p:sp>
          <p:nvSpPr>
            <p:cNvPr id="64" name="Rectangle 3"/>
            <p:cNvSpPr/>
            <p:nvPr/>
          </p:nvSpPr>
          <p:spPr>
            <a:xfrm>
              <a:off x="385920" y="1677960"/>
              <a:ext cx="8369280" cy="273924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378000" y="1676520"/>
              <a:ext cx="8370720" cy="2742840"/>
            </a:xfrm>
            <a:prstGeom prst="pie">
              <a:avLst/>
            </a:pr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96720" y="1676520"/>
              <a:ext cx="8371080" cy="274284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6"/>
          <p:cNvGrpSpPr/>
          <p:nvPr/>
        </p:nvGrpSpPr>
        <p:grpSpPr>
          <a:xfrm>
            <a:off x="990720" y="380880"/>
            <a:ext cx="5181480" cy="760680"/>
            <a:chOff x="990720" y="380880"/>
            <a:chExt cx="5181480" cy="760680"/>
          </a:xfrm>
        </p:grpSpPr>
        <p:sp>
          <p:nvSpPr>
            <p:cNvPr id="68" name="Rectangle 7"/>
            <p:cNvSpPr/>
            <p:nvPr/>
          </p:nvSpPr>
          <p:spPr>
            <a:xfrm>
              <a:off x="990720" y="380880"/>
              <a:ext cx="5180400" cy="7516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990720" y="380880"/>
              <a:ext cx="5181480" cy="760680"/>
            </a:xfrm>
            <a:prstGeom prst="pie">
              <a:avLst/>
            </a:pr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990720" y="380880"/>
              <a:ext cx="5181480" cy="76068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0"/>
          <p:cNvGrpSpPr/>
          <p:nvPr/>
        </p:nvGrpSpPr>
        <p:grpSpPr>
          <a:xfrm>
            <a:off x="533520" y="2057400"/>
            <a:ext cx="156600" cy="2057040"/>
            <a:chOff x="533520" y="2057400"/>
            <a:chExt cx="156600" cy="2057040"/>
          </a:xfrm>
        </p:grpSpPr>
        <p:sp>
          <p:nvSpPr>
            <p:cNvPr id="72" name="Rectangle 11"/>
            <p:cNvSpPr/>
            <p:nvPr/>
          </p:nvSpPr>
          <p:spPr>
            <a:xfrm>
              <a:off x="533520" y="2058840"/>
              <a:ext cx="155160" cy="20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533520" y="2057400"/>
              <a:ext cx="156600" cy="2057040"/>
            </a:xfrm>
            <a:prstGeom prst="pie">
              <a:avLst/>
            </a:pr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533520" y="2057400"/>
              <a:ext cx="156600" cy="205704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380880" y="5943600"/>
            <a:ext cx="8383680" cy="154080"/>
            <a:chOff x="380880" y="5943600"/>
            <a:chExt cx="8383680" cy="154080"/>
          </a:xfrm>
        </p:grpSpPr>
        <p:sp>
          <p:nvSpPr>
            <p:cNvPr id="76" name="Rectangle 15"/>
            <p:cNvSpPr/>
            <p:nvPr/>
          </p:nvSpPr>
          <p:spPr>
            <a:xfrm>
              <a:off x="380880" y="5943600"/>
              <a:ext cx="8382240" cy="1522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380880" y="5943600"/>
              <a:ext cx="8383680" cy="154080"/>
            </a:xfrm>
            <a:prstGeom prst="pie">
              <a:avLst/>
            </a:pr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380880" y="5943600"/>
              <a:ext cx="8383680" cy="15408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8" descr="trp master slide"/>
          <p:cNvPicPr/>
          <p:nvPr/>
        </p:nvPicPr>
        <p:blipFill>
          <a:blip r:embed="rId2"/>
          <a:stretch/>
        </p:blipFill>
        <p:spPr>
          <a:xfrm>
            <a:off x="7086600" y="76320"/>
            <a:ext cx="1371600" cy="1176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9"/>
          <p:cNvSpPr/>
          <p:nvPr/>
        </p:nvSpPr>
        <p:spPr>
          <a:xfrm>
            <a:off x="395280" y="3776400"/>
            <a:ext cx="83534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Palatino"/>
              </a:rPr>
              <a:t>Bill Edgar (University of Dundee U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Palatino"/>
              </a:rPr>
              <a:t>Volker Busch-Geertsema (GISS, 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Mutual Progress on Homelessness through Advancing and Strengthening Inform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2590920" y="61038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1" descr=""/>
          <p:cNvPicPr/>
          <p:nvPr/>
        </p:nvPicPr>
        <p:blipFill>
          <a:blip r:embed="rId3"/>
          <a:srcRect l="0" t="0" r="8299" b="0"/>
          <a:stretch/>
        </p:blipFill>
        <p:spPr>
          <a:xfrm>
            <a:off x="179280" y="6311880"/>
            <a:ext cx="347760" cy="32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"/>
          <p:cNvPicPr/>
          <p:nvPr/>
        </p:nvPicPr>
        <p:blipFill>
          <a:blip r:embed="rId4"/>
          <a:stretch/>
        </p:blipFill>
        <p:spPr>
          <a:xfrm>
            <a:off x="8396280" y="6308640"/>
            <a:ext cx="485640" cy="312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3"/>
          <p:cNvSpPr/>
          <p:nvPr/>
        </p:nvSpPr>
        <p:spPr>
          <a:xfrm>
            <a:off x="8104320" y="6597720"/>
            <a:ext cx="1070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99"/>
                </a:solidFill>
                <a:latin typeface="Arial"/>
              </a:rPr>
              <a:t>European Commi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Palatino"/>
              </a:rPr>
              <a:t>Click to edit the title text format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5438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401040" indent="-154080">
              <a:spcBef>
                <a:spcPts val="1500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617040" indent="-123120">
              <a:spcBef>
                <a:spcPts val="1500"/>
              </a:spcBef>
              <a:buClr>
                <a:srgbClr val="b2b2b2"/>
              </a:buClr>
              <a:buSzPct val="7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864000" indent="-123120">
              <a:spcBef>
                <a:spcPts val="1500"/>
              </a:spcBef>
              <a:buClr>
                <a:srgbClr val="b2b2b2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110960" indent="-123120">
              <a:spcBef>
                <a:spcPts val="1500"/>
              </a:spcBef>
              <a:buClr>
                <a:srgbClr val="b2b2b2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110960" indent="-123120">
              <a:spcBef>
                <a:spcPts val="1500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110960" indent="-123120">
              <a:spcBef>
                <a:spcPts val="1500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42920" y="1749240"/>
            <a:ext cx="748980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1622160" cy="736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1916280"/>
            <a:ext cx="784872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Palatino"/>
              </a:rPr>
              <a:t>UNECE/CES POPULATION AND HOUSING C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Palatino"/>
              </a:rPr>
              <a:t>Counting Homeless People in the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Palatino"/>
              </a:rPr>
              <a:t>W.P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359920" y="6308640"/>
            <a:ext cx="485640" cy="31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0" t="0" r="8251" b="0"/>
          <a:stretch/>
        </p:blipFill>
        <p:spPr>
          <a:xfrm>
            <a:off x="179280" y="6311880"/>
            <a:ext cx="34776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Palatino"/>
              </a:rPr>
              <a:t>Summary of Issues by Category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413000"/>
          <a:ext cx="7848360" cy="5232240"/>
        </p:xfrm>
        <a:graphic>
          <a:graphicData uri="http://schemas.openxmlformats.org/drawingml/2006/table">
            <a:tbl>
              <a:tblPr/>
              <a:tblGrid>
                <a:gridCol w="512640"/>
                <a:gridCol w="3249720"/>
                <a:gridCol w="4086000"/>
              </a:tblGrid>
              <a:tr h="579240"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Measuring Homeless Study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Operational Catego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Register Based Cens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living rou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Only covered when registered at support organ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in emergency accommo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Can be covered if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addresses are identified 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inhabitants are either registered there or counted sepa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living in accommodation for the home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living in institutions (due to be released, but no home to go 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In most countries no information is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living in non-conventional dwellings due to lack of hou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Covered if persons are registered there with permanent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Homeless people living temporarily in conventional housing with family and friends (due to lack of hous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Difficult to cover in register based census. Can cover people if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ostal address registered with a support a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Palatino"/>
              </a:rPr>
              <a:t>Questions / Issues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Enumeration Procedures for census night 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equacy of methods to count the street homeless and those living in emergency accommodation?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n homeless people living temporarily with family and friends on census night due to lack of housing be identified?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Register Based Systems – Counting the Homeless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ifficulties to count primary homeless in register system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Incomplete registers of special buildings / Fictitious addres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Linking registers to separately identify homeless difficul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ross-cutting Issues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n a typology of collective living situations be determined to allow homeless accommodation to be identified?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Different procedures for different segments of the homel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-2599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Census definition of the homel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76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0000"/>
                </a:solidFill>
                <a:latin typeface="Palatino"/>
              </a:rPr>
              <a:t>Census Counting Homeless People</a:t>
            </a:r>
            <a:endParaRPr b="1" lang="en-US" sz="26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8880" cy="44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Palatino"/>
              </a:rPr>
              <a:t>Context 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buClr>
                <a:srgbClr val="b2b2b2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alatino"/>
              </a:rPr>
              <a:t>Definition 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buClr>
                <a:srgbClr val="b2b2b2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alatino"/>
              </a:rPr>
              <a:t>Census Approach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Palatino"/>
              </a:rPr>
              <a:t>Enumeration Method 2011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Palatino"/>
              </a:rPr>
              <a:t>Population Register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Palatino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Palatino"/>
              </a:rPr>
              <a:t>Definition of Homelessness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4360" y="1413000"/>
          <a:ext cx="7850160" cy="5019480"/>
        </p:xfrm>
        <a:graphic>
          <a:graphicData uri="http://schemas.openxmlformats.org/drawingml/2006/table">
            <a:tbl>
              <a:tblPr/>
              <a:tblGrid>
                <a:gridCol w="1096920"/>
                <a:gridCol w="4735440"/>
                <a:gridCol w="2017800"/>
              </a:tblGrid>
              <a:tr h="96156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Measuring Homeless Stud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UNECE / CES Recommendations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9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living rou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rimary Home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in emergency accommo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Secondary Home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living in accommodation for the home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48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living in instit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(due to be released but no home to go 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48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eople living in non-conventional dwellings due to lack of hou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Homeless people living temporarily in conventional housing with family and friends (due to lack of hous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Palatino"/>
              </a:rPr>
              <a:t>Census Approaches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484280"/>
          <a:ext cx="8064720" cy="4780080"/>
        </p:xfrm>
        <a:graphic>
          <a:graphicData uri="http://schemas.openxmlformats.org/drawingml/2006/table">
            <a:tbl>
              <a:tblPr/>
              <a:tblGrid>
                <a:gridCol w="2828880"/>
                <a:gridCol w="5235840"/>
              </a:tblGrid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CENSUS APPROACH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Conventional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Greece, Italy, Portugal, Ireland, UK, Poland, Czech Republic, Estonia, Romania, Bulgaria, Hungary, Lithu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Register-based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Denmark, Finland, Norway, Sweden, Germany, A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Combination of register-based census and conventional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Latvia, Luxembourg, Slovenia, 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Combination of register-based census and sampl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Netherlands,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Belg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Rolling cen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Palatino"/>
              </a:rPr>
              <a:t>FEANTSA Survey Results 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484280"/>
          <a:ext cx="7850160" cy="4986360"/>
        </p:xfrm>
        <a:graphic>
          <a:graphicData uri="http://schemas.openxmlformats.org/drawingml/2006/table">
            <a:tbl>
              <a:tblPr/>
              <a:tblGrid>
                <a:gridCol w="1568160"/>
                <a:gridCol w="1671840"/>
                <a:gridCol w="2157480"/>
                <a:gridCol w="1225440"/>
                <a:gridCol w="1227240"/>
              </a:tblGrid>
              <a:tr h="161712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Homeless enumerated through traditional methods and cooperation with homeless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Homeless enumerated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as part of a regis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Homeless enumerated through register and homeless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92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En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Irel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Ita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Luxembou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Portu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Aust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Belg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Denm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Fin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Nether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Swed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Estonia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Sp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Slovenia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alatino"/>
                          <a:ea typeface="Times New Roman"/>
                        </a:rPr>
                        <a:t>Ger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Palatino"/>
              </a:rPr>
              <a:t>Census Enumeration 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1676520"/>
            <a:ext cx="76345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Palatino"/>
              </a:rPr>
              <a:t>Primary Homeles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alatino"/>
              </a:rPr>
              <a:t>Methodology identified in only a few countri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alatino"/>
              </a:rPr>
              <a:t>Pilot methodology tested in a few countri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alatino"/>
              </a:rPr>
              <a:t>Consultation with service provider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alatino"/>
              </a:rPr>
              <a:t>Use of special enumerators 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Palatino"/>
              </a:rPr>
              <a:t>Secondary Homeles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alatino"/>
              </a:rPr>
              <a:t>Homeless hostels can not always be identified from other collective living situation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alatino"/>
              </a:rPr>
              <a:t>People living temporarily with family and friends due to lack of housing – often not distinguishable from other household residents  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Palatino"/>
              </a:rPr>
              <a:t>Register Based Systems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85016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</a:rPr>
              <a:t>Census data mainly drawn from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Central Population Register (CPR)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Database of Households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Register of Dwellings / Buildings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</a:rPr>
              <a:t>Germany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No CPR – local authorities to provide informat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Register of Dwellings being established (7.5m owners)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Register of Special Dwellings yet to be developed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Linking registers + data protection = aggregate data 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</a:rPr>
              <a:t>Slovenia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Registers Dwellings in establishment phase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eDatabase of Households being computerised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CPR – relationships among persons not complete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Palatino"/>
              </a:rPr>
              <a:t>Germany - Issues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543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Rough Sleepers / Emergency Accommod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Not registered at any registry offic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Register of Special Buildings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Definition and identification issu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Homeless accommodation diverse (budgets, providers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Fictitious addresses (welfare departments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Community, institutional and emergency accommod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Combined in a common grou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89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Homeless may be counted but can not be identified</a:t>
            </a:r>
            <a:r>
              <a:rPr b="0" lang="en-GB" sz="2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Palatino"/>
              </a:rPr>
              <a:t>Slovenia - Issues</a:t>
            </a:r>
            <a:endParaRPr b="1" lang="en-US" sz="3000" spc="-1" strike="noStrike">
              <a:solidFill>
                <a:srgbClr val="8000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Register of Buildings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buildings for special purposes” - maternity homes, shelters and asylums, homes for the elderly, student dorms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The Residence Registration Act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 (2006)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registers homeless at agency where they receive hel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requires a complete register of services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requires ability to identify homeless servic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Living with Family/friends will be exclud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Buildings not intended for habit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CPR needs cross-reference to Register of Building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7T10:37:34Z</dcterms:created>
  <dc:creator>mwgpollard</dc:creator>
  <dc:description/>
  <dc:language>en-US</dc:language>
  <cp:lastModifiedBy> </cp:lastModifiedBy>
  <cp:lastPrinted>2001-05-08T09:03:48Z</cp:lastPrinted>
  <dcterms:modified xsi:type="dcterms:W3CDTF">2009-10-27T16:28:23Z</dcterms:modified>
  <cp:revision>163</cp:revision>
  <dc:subject/>
  <dc:title>MapInfo - an introduction</dc:title>
</cp:coreProperties>
</file>