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96455-34AC-466E-A088-435E4FB66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21D87-537F-4DEA-B84A-80EE0362B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1DDB9-3D34-43EC-AB44-62E81F52A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96F59-57FF-40E6-97C3-6C5AA3523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D2057-4CF8-486C-92C4-05B64C86B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F6951-C844-48C8-9776-A5F8808F1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51FBD-642C-4BD3-9B67-CDA5125C5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9A4D9-A586-4BF2-BEBE-F64DE19FA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F67DB-6515-4DE0-B157-39A2EF250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0CA7C-BB13-40EA-9557-D999E1B4A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C9CA4-A651-47DA-904A-03C7529F3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9185F-3546-4C13-A3BE-E767779EF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9C1A-00AF-445B-B37F-E0E2E22DED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ting the Homeless in the UK Censu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y Emma Wood,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d of Field Force Operations, 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stminster – who was included in the count</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sleeping or bedded down in the open air (such as on the streets, or in doorways, parks or bus shelters), people in buildings or other places not designed for habitation (such as barns, sheds, car parks, cars derelict boats or s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stminster Coun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eople encountered did not fit the precise definition of ‘bedded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precise definition needed to prevent double 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eam of approx 35 to count approx 7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good use of local knowledge and expertise of working with this grou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trend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im to end Rough Sleeping by 20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investment in day time su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ewer opportunites to sleep roug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2011</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d hoped to conduct LA counts around time of Census and use the data gathered to collect key demographic questions for Cens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ruled out – Census regulations mean individuals must get opportunity to complete their own questionnai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change of government in 2010 would be a significant ri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2011</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likely to use a Census field force to count rough sleepers as in 200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membership organisation for UK homeless agencies – Homeless Lin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ing ways of increasing the number of LA and voluntary sector helpers – to be involved in the count or in the trai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ing how we will spread the message to the voluntary sector and to Rough Sleepers that the Census is benefi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ing Rough Sleepers is a big challe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o balance quality with cost effectiv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lies in statistical organisations forming relationships with homelessness organisations and in utilising expert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eration of homeless/rootl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eration of those in hostels and night shel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eration of Rough Sleep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1- Methodology, outcome and lessons lear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1 Research and current pla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less Rootles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UK Census 27 March 20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ill be counted where they are usually 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staying in a household with no usual residence counted where they are sta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distinguishable from other household resi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stels and Nightshelter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ed as Communal Establishmen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ment managers complete questionnaire about the establish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staying their complete an Individual questionnaire – assuming they have no usual residence elsewhe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ment Manager responsible for getting Questionnaires out and back from those staying the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naires delivered and collected by Census staff who will support Manag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unting Rough Sleepers - 2001</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ed 29/30 April 2001 between 22:00 and 06:0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eams of Census field staff with support from Local Authorities and outreach work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completed questionnaire or Enumerators did this on their behal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eepers not woken up – Enumerators guessed basic demographic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gh Sleepers – 2001</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38 Rough Sleepers cou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66 staff required to achieve this 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local counts contradicted Census counts – some Census counts dispu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gh Sleepers 2001 – Lessons learn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ed more help from voluntary sector and LAs to improve quality and cost effectiv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difficult to balance requirements of central government, local government and voluntary sector and still carry out an independent c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wards 2011- Research</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aising with Department for Communities and Local Gover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Authorities must conduct counts at least once a year if more than ten rough sleep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d Local Authority count in Westminster – attracts a lot of Rough Sleepers and conducts counts twice a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stminster coun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stminster divided into sectors. Teams of two sent to count – paired voluntary sector staff with Local Authority sta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verifier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Police used to follow-up missing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much more informal then a Census Enum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7:51:36Z</dcterms:created>
  <dc:creator>cracklj</dc:creator>
  <dc:description/>
  <dc:language>en-US</dc:language>
  <cp:lastModifiedBy>woodej</cp:lastModifiedBy>
  <dcterms:modified xsi:type="dcterms:W3CDTF">2009-10-23T09:52:07Z</dcterms:modified>
  <cp:revision>4</cp:revision>
  <dc:subject/>
  <dc:title>Counting the Homeless in the UK Census</dc:title>
</cp:coreProperties>
</file>