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0920" y="6272280"/>
            <a:ext cx="403380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765000"/>
            <a:ext cx="216000" cy="216000"/>
          </a:xfrm>
          <a:prstGeom prst="rect">
            <a:avLst/>
          </a:prstGeom>
          <a:solidFill>
            <a:srgbClr val="1a3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7080" y="765000"/>
            <a:ext cx="287640" cy="216000"/>
          </a:xfrm>
          <a:prstGeom prst="rect">
            <a:avLst/>
          </a:prstGeom>
          <a:solidFill>
            <a:srgbClr val="cc3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6000" y="765000"/>
            <a:ext cx="8650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2720" y="765000"/>
            <a:ext cx="576360" cy="216000"/>
          </a:xfrm>
          <a:prstGeom prst="rect">
            <a:avLst/>
          </a:prstGeom>
          <a:solidFill>
            <a:srgbClr val="1a3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8720" y="909720"/>
            <a:ext cx="576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156360" y="6246720"/>
            <a:ext cx="2736720" cy="495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058920" y="4292640"/>
            <a:ext cx="583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1a3a6e"/>
                </a:solidFill>
                <a:latin typeface="Humnst777 BT"/>
              </a:rPr>
              <a:t>Census Un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Humnst777 BT"/>
              </a:rPr>
              <a:t>Fernando Casimiro and Paula Paul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877000"/>
            <a:ext cx="216000" cy="216000"/>
          </a:xfrm>
          <a:prstGeom prst="rect">
            <a:avLst/>
          </a:prstGeom>
          <a:solidFill>
            <a:srgbClr val="1a3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877000"/>
            <a:ext cx="287280" cy="216000"/>
          </a:xfrm>
          <a:prstGeom prst="rect">
            <a:avLst/>
          </a:prstGeom>
          <a:solidFill>
            <a:srgbClr val="cc3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4920" y="5877000"/>
            <a:ext cx="86508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5877000"/>
            <a:ext cx="576360" cy="216000"/>
          </a:xfrm>
          <a:prstGeom prst="rect">
            <a:avLst/>
          </a:prstGeom>
          <a:solidFill>
            <a:srgbClr val="1a3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7992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1a3a6e"/>
                </a:solidFill>
                <a:latin typeface="Humnst777 BT"/>
              </a:rPr>
              <a:t>Geneva,  </a:t>
            </a:r>
            <a:r>
              <a:rPr b="1" lang="pt-PT" sz="2000" spc="-1" strike="noStrike">
                <a:solidFill>
                  <a:srgbClr val="1a3a6e"/>
                </a:solidFill>
                <a:latin typeface="Humanst521 BT"/>
              </a:rPr>
              <a:t>28 - 30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924000" y="1052640"/>
            <a:ext cx="4895640" cy="0"/>
          </a:xfrm>
          <a:prstGeom prst="line">
            <a:avLst/>
          </a:prstGeom>
          <a:ln w="9360">
            <a:solidFill>
              <a:srgbClr val="cc30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131920"/>
            <a:ext cx="806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Humnst777 BT"/>
              </a:rPr>
              <a:t>Portugal – Changes in the residence of third level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384360" cy="1233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1187280" y="198684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01f"/>
                </a:solidFill>
                <a:latin typeface="Humanst521 BT"/>
              </a:rPr>
              <a:t>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68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8360" y="404280"/>
            <a:ext cx="302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a3a6e"/>
                </a:solidFill>
                <a:latin typeface="Arial"/>
              </a:rPr>
              <a:t>Near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2011 Portugal decided to use the exception outlined in the para. 162 c) of the UNECE recommenda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tudents in Portugal are always resident in the family home unless they are economically activ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14"/>
              </a:spcBef>
              <a:spcAft>
                <a:spcPts val="8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ever some new considerations should be taken into account to evaluate the practices of every country on the residence of 3rd level studen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14"/>
              </a:spcBef>
              <a:spcAft>
                <a:spcPts val="8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not a clear evidence of the advantages of the new recommended model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916280"/>
          <a:ext cx="8713800" cy="4192560"/>
        </p:xfrm>
        <a:graphic>
          <a:graphicData uri="http://schemas.openxmlformats.org/drawingml/2006/table">
            <a:tbl>
              <a:tblPr/>
              <a:tblGrid>
                <a:gridCol w="5545080"/>
                <a:gridCol w="3168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vantag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3a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advantages in relation to residence in the location of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3a6e"/>
                    </a:solidFill>
                  </a:tcPr>
                </a:tc>
              </a:tr>
              <a:tr h="362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aintains the household and family structure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tegrates the household members’ revenue-to-expenditure ratio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oids building one-person households with atypical, dependent income or from another sourc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Keeps consistency with national accou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milar treatment to other similar situation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llows for extended statistical knowledge (household’s place of residence and location of school) of a very specific population grou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urrent perception by households that students are a part of them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oids “atypical macrocephaly” arising from the accumulation of resident population in major university cities, with no links to the supporting household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tion of resident population in university area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crease in the number of residents who are not living with their families most of the yea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ception to the rule of residence as a determinant of the place where a person usually spends his/her daily night-re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isk of these persons being forgotten due to proxy inter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95280" y="1197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Humanst521 BT"/>
              </a:rPr>
              <a:t>Some advantages and disadvantages on the residence of 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Humanst521 BT"/>
              </a:rPr>
              <a:t>rd </a:t>
            </a:r>
            <a:r>
              <a:rPr b="1" lang="en-GB" sz="1800" spc="-1" strike="noStrike">
                <a:solidFill>
                  <a:srgbClr val="000000"/>
                </a:solidFill>
                <a:latin typeface="Humanst521 BT"/>
              </a:rPr>
              <a:t>level students in the household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08720" y="333360"/>
            <a:ext cx="30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a3a6e"/>
                </a:solidFill>
                <a:latin typeface="Arial"/>
              </a:rPr>
              <a:t>Near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really need the classification of population inserted in the para. 165 b) (resident but abse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not replace this classification by other that would be more consistent with the “new” concept of residence, mostly for that people that spends the working/studying days away from family home, but return usually at the weekend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404640"/>
            <a:ext cx="30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a3a6e"/>
                </a:solidFill>
                <a:latin typeface="Arial"/>
              </a:rPr>
              <a:t>Near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anst521 BT"/>
              </a:rPr>
              <a:t>Proposal of P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o keep thi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 students economically inactive as residents in the respective households of orig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o chan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agraph 165 b) to “resident persons who do not spend most of their daily night-rest therein the majority of the year, to study, work, or for health reasons, returning home on most weekend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o consi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location of school as a core variable for students classified as economically ina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04640"/>
            <a:ext cx="31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a3a6e"/>
                </a:solidFill>
                <a:latin typeface="Arial"/>
              </a:rPr>
              <a:t>Near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8920" y="404640"/>
            <a:ext cx="2675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a3a6e"/>
                </a:solidFill>
                <a:latin typeface="Humanst521 BT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5320" y="1484280"/>
            <a:ext cx="7907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f 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1a3a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 to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1a3a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in 2001 and some mai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1a3a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a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40000" y="40428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a3a6e"/>
                </a:solidFill>
                <a:latin typeface="Humnst777 BT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alternative determinants on population cen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a3a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 jure” or resident population (vote, direct right to access to main social infrastructures, e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1a3a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 facto” or present population (mix of immediate and no immediate rights, like visitors); part of this population is usually enumerated with very few variables, like sex or age on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ECE recommendations give privilege to resident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udents are more and more a “migrant” group of population due to location of universities and international exchange programm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1280" y="404280"/>
            <a:ext cx="496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a3a6e"/>
                </a:solidFill>
                <a:latin typeface="Humanst521 BT"/>
              </a:rPr>
              <a:t>International</a:t>
            </a:r>
            <a:r>
              <a:rPr b="1" lang="en-GB" sz="36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1" lang="en-GB" sz="3600" spc="-1" strike="noStrike">
                <a:solidFill>
                  <a:srgbClr val="1a3a6e"/>
                </a:solidFill>
                <a:latin typeface="Humanst521 BT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6 UNECE recommendations changed the concept of residence in parag. 158 and 15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ception for migrants is suggested in parag. 16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otnote 11 can be interpreted in a double way (either … or); it would better to use the first condition (been living for more than 12 months) AND the second condition ( intention to stay for at least one ye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conditions are stated in parag. 162 for similar situations ( secondary and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evel students, persons that work away from home and return weekl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accounts consider students as living within their family h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fication of the population into 3 main conditions (parag. 165): resident and present; resident but absent; present but not resid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living away from family home are a very unstable group of population, concerning the school res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24000" y="404640"/>
            <a:ext cx="4762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a3a6e"/>
                </a:solidFill>
                <a:latin typeface="Arial"/>
              </a:rPr>
              <a:t>International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1a3a6e"/>
                </a:solidFill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ble 1 - Comparison between immigrants and third level students in the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176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71640" y="2276640"/>
          <a:ext cx="7488000" cy="3423960"/>
        </p:xfrm>
        <a:graphic>
          <a:graphicData uri="http://schemas.openxmlformats.org/drawingml/2006/table">
            <a:tbl>
              <a:tblPr/>
              <a:tblGrid>
                <a:gridCol w="1342800"/>
                <a:gridCol w="1454400"/>
                <a:gridCol w="2903400"/>
                <a:gridCol w="178740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solidFill>
                      <a:srgbClr val="1a3a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solidFill>
                      <a:srgbClr val="1a3a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solidFill>
                      <a:srgbClr val="1a3a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tuation in the destination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solidFill>
                      <a:srgbClr val="1a3a6e"/>
                    </a:solidFill>
                  </a:tcPr>
                </a:tc>
              </a:tr>
              <a:tr h="50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i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or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y &gt;3 and &lt;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s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</a:tr>
              <a:tr h="8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a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y&gt; 12 months or the intention to stay more than 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</a:tr>
              <a:tr h="708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rd level stud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v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g. 159 b) combined with the criteria of parag. 162 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v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ly parag. 162 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a3a6e"/>
                      </a:solidFill>
                    </a:lnL>
                    <a:lnR w="5760">
                      <a:solidFill>
                        <a:srgbClr val="1a3a6e"/>
                      </a:solidFill>
                    </a:lnR>
                    <a:lnT w="5760">
                      <a:solidFill>
                        <a:srgbClr val="1a3a6e"/>
                      </a:solidFill>
                    </a:lnT>
                    <a:lnB w="5760">
                      <a:solidFill>
                        <a:srgbClr val="1a3a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4314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8640" y="476280"/>
            <a:ext cx="5049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a3a6e"/>
                </a:solidFill>
                <a:latin typeface="Humanst521 BT"/>
              </a:rPr>
              <a:t>Model of enum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820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or to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64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 variables: location of place of school; time taken to travel to school” and “ main mode of transpor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64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for resident population present at census da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64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ident but absent and present but not resident persons were exclude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64"/>
              </a:spcBef>
              <a:spcAft>
                <a:spcPts val="139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ople resident and present at the census day but studying away from the family home were giving inconsistent answers on the time taken and mode of trans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64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students return almost every weekend to the family home and were enumerated as resident and present on the census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d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 variables: location of place of school; time taken to travel to school” and “ main mode of transpor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sidence status was observed on the basis of 2 ques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1a3a6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 of usual with 3 modalities (resident and living most time of the year; resident but not living most time of the year; present but not reside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1a3a6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uation on census day (present or absent in the living quarte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for resident persons that live in the living quarter most time of the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ident but absent and present but not resident persons were exclu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ws the “allocation” of students to the municipality were they are stud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404640"/>
            <a:ext cx="5050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a3a6e"/>
                </a:solidFill>
                <a:latin typeface="Humanst521 BT"/>
              </a:rPr>
              <a:t>Model of enum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58920" y="1916280"/>
            <a:ext cx="7489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5000"/>
              </a:lnSpc>
              <a:spcBef>
                <a:spcPts val="10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me results of 2001 on 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vel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40.459 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evel students were enumerated of which 36,6% were away from ho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7,4% pursuing their education away from home were in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4% are integrated in couples with children, but 22,9% are children within couples with 1 ch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,7% are children within lone mother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825"/>
              </a:spcBef>
              <a:spcAft>
                <a:spcPts val="414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3,6% are children (in the family stat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83000" y="404640"/>
            <a:ext cx="5049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a3a6e"/>
                </a:solidFill>
                <a:latin typeface="Humanst521 BT"/>
              </a:rPr>
              <a:t>Model of enum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2001; however, some recommended changes on the concepts cause also changes on the comparability of the final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uguese 3rd level students living abroad (or having the intention)  for more than 12 months are excluded from their family hom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spcAft>
                <a:spcPts val="1301"/>
              </a:spcAft>
              <a:buClr>
                <a:srgbClr val="cc30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foreign students and short term with the intention of staying for more than 12 months must be enumerated as residents in Portug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01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356000" y="333360"/>
            <a:ext cx="3888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a3a6e"/>
                </a:solidFill>
                <a:latin typeface="Arial"/>
              </a:rPr>
              <a:t>Model for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6:14:16Z</dcterms:created>
  <dc:creator>DPHCN</dc:creator>
  <dc:description/>
  <dc:language>en-US</dc:language>
  <cp:lastModifiedBy>fernando.casimiro</cp:lastModifiedBy>
  <dcterms:modified xsi:type="dcterms:W3CDTF">2009-10-21T14:44:58Z</dcterms:modified>
  <cp:revision>105</cp:revision>
  <dc:subject/>
  <dc:title>título</dc:title>
</cp:coreProperties>
</file>