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996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0680" y="121104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924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996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0680" y="3962160"/>
            <a:ext cx="274320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9240" y="-6480"/>
            <a:ext cx="852012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5320" y="396216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11040"/>
            <a:ext cx="415764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9240" y="3962160"/>
            <a:ext cx="8520120" cy="25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274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6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4448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3824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960" y="3768480"/>
            <a:ext cx="6848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1739520" y="3619440"/>
            <a:ext cx="7404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Heathrow_Terminal_5_airside_020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Boiler_and_Cylinder.jpg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www.firstbathrooms.co.uk/shower_enclosures_walk-in_shower_enclosures-c-180.html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en.wikipedia.org/wiki/File:Bothie_-_Jerome,_Arizona.jpg" TargetMode="External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ivilPartnershipFlyer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07876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 UN-ECE/EUROSTAT MEETING ON POPULATION AND HOUSING CENS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VA, 28-30 OCTOBER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NG THE CES RECOMMENDATIONS IN THE 2011 UK CEN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AN WH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ffice for National Statistic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ED KNGD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15685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 RESIDED ABROAD AND YEAR OF EN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5054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 resided abroad and arrived after 19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 resided abroad and arrived before 19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ver resided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413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413000"/>
            <a:ext cx="3851280" cy="3504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5484960"/>
            <a:ext cx="75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K will assume all UK born as non-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628640"/>
          <a:ext cx="4537080" cy="32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628640"/>
                    <a:ext cx="45370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4140360" cy="3311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5342040"/>
            <a:ext cx="78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cept of citizenship not well understood in U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otland may ‘model’ data from other census ques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USING AMEN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7993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d water            Toilet facilities              Bath/sh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6000" y="2349360"/>
            <a:ext cx="2413080" cy="324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2000" y="2349360"/>
            <a:ext cx="3132000" cy="313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2349360"/>
            <a:ext cx="2808360" cy="324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21240" y="5967360"/>
            <a:ext cx="77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K may use data derived from 2001 Census or ass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per cent inc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OF CONSTRUCTION OF DWEL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gorbals photo"/>
          <p:cNvPicPr/>
          <p:nvPr/>
        </p:nvPicPr>
        <p:blipFill>
          <a:blip r:embed="rId2"/>
          <a:stretch/>
        </p:blipFill>
        <p:spPr>
          <a:xfrm>
            <a:off x="5003640" y="1844640"/>
            <a:ext cx="3889440" cy="309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8920" y="1523880"/>
            <a:ext cx="3196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ilt before 19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19-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46-19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61-1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71-19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81- 19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91-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001-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006 or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0" y="5805360"/>
            <a:ext cx="84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K will use alternative data sources such as Valuation Offic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2411280" cy="360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348000" y="2276640"/>
            <a:ext cx="5294520" cy="3600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1840" y="5342040"/>
            <a:ext cx="484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960" y="54849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020600"/>
            <a:ext cx="66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or Westminst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58975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estminster: just like Brussels - but with less gar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 CENSUS (Framework) REGULATION 763/200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5201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the ‘Core’ top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cribes the first ‘reference year’ as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for Implementing Regulations to co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a) The output classifications (breakdowns) and technical specifications for each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b) The programme of statistical tables (hypercubes) and metadata to be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c)  The means of data transmission (the EU Census Hub) by March 20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d)  The scope and content of the Quality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11 CENSUS IN THE UK: WH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81500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nsus is us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investment an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policy development and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10-year benchmark for all social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nationally consistent data for small areas and small population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659640" y="4724280"/>
          <a:ext cx="2305080" cy="189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4724280"/>
                    <a:ext cx="230508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356000" y="4724280"/>
          <a:ext cx="2160720" cy="188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4724280"/>
                    <a:ext cx="216072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268360" y="4724280"/>
          <a:ext cx="1943280" cy="187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8360" y="4724280"/>
                    <a:ext cx="1943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50920" y="4724280"/>
          <a:ext cx="1873080" cy="187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4724280"/>
                    <a:ext cx="187308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LLENGES FOR THE UK CENS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12000" y="3068640"/>
          <a:ext cx="3132000" cy="17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3068640"/>
                    <a:ext cx="31320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012000" y="1197000"/>
          <a:ext cx="1714320" cy="171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2000" y="1197000"/>
                    <a:ext cx="17143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new"/>
          <p:cNvPicPr/>
          <p:nvPr/>
        </p:nvPicPr>
        <p:blipFill>
          <a:blip r:embed="rId6"/>
          <a:stretch/>
        </p:blipFill>
        <p:spPr>
          <a:xfrm>
            <a:off x="6084720" y="4941720"/>
            <a:ext cx="3059280" cy="1722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1197000"/>
            <a:ext cx="561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hanges in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g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me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lex family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mo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ss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eting the public’s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lin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ing data secur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eting EU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7831080" y="1197000"/>
            <a:ext cx="1312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S OF THE 2011 UK CENS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9240" y="1211400"/>
            <a:ext cx="8078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 high quality population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 overall response rate but improve rates in the hardest to count areas and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closely with LAs and community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quality assurance and increase trust in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 flexible outputs,  while protecting confidenti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user needs for new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4508640"/>
          <a:ext cx="7416720" cy="196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508640"/>
                    <a:ext cx="741672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TOPICS IN THE 2011 UK CENS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211040"/>
            <a:ext cx="491004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 partnership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ident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 of entry into 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ded length of stay in 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res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entral he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bedro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125360"/>
            <a:ext cx="2305080" cy="1859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Photo"/>
          <p:cNvPicPr/>
          <p:nvPr/>
        </p:nvPicPr>
        <p:blipFill>
          <a:blip r:embed="rId4"/>
          <a:stretch/>
        </p:blipFill>
        <p:spPr>
          <a:xfrm>
            <a:off x="5867280" y="3068640"/>
            <a:ext cx="2303640" cy="17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Bedroom"/>
          <p:cNvPicPr/>
          <p:nvPr/>
        </p:nvPicPr>
        <p:blipFill>
          <a:blip r:embed="rId5"/>
          <a:stretch/>
        </p:blipFill>
        <p:spPr>
          <a:xfrm>
            <a:off x="5867280" y="4941720"/>
            <a:ext cx="23050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 FOR TOPIC SELECTION IN 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125360"/>
            <a:ext cx="7632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ear and demonstrated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ional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other comparabl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 for multivariat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rability with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blic acceptability and bu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adverse impact on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iable and accura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t of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d only for statistical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d by E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UCATIONAL ATTAIN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600" y="1211400"/>
            <a:ext cx="4183200" cy="37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ducation/less than ISCED Leve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2 (prim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3 (lower second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4 (upper second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5 (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ge terti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l 6 (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ge terti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st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537080" cy="302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246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K will use question on Educational qualific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40" y="-6480"/>
            <a:ext cx="85201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CE OF USUAL RESIDENCE FOR PRIMARY/SECONDAY SCHOOLCHILD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600" y="1211040"/>
            <a:ext cx="41832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S/EU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parental hom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erm-tim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Ben Fogle school days"/>
          <p:cNvPicPr/>
          <p:nvPr/>
        </p:nvPicPr>
        <p:blipFill>
          <a:blip r:embed="rId2"/>
          <a:stretch/>
        </p:blipFill>
        <p:spPr>
          <a:xfrm>
            <a:off x="4645080" y="1484280"/>
            <a:ext cx="4184640" cy="302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00" y="5103720"/>
            <a:ext cx="8745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K will also collect some information on students at their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 and will adjust the total usual resident population bas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11:33Z</dcterms:created>
  <dc:creator>Massingham</dc:creator>
  <dc:description/>
  <dc:language>en-US</dc:language>
  <cp:lastModifiedBy>white</cp:lastModifiedBy>
  <cp:lastPrinted>2004-11-17T14:19:20Z</cp:lastPrinted>
  <dcterms:modified xsi:type="dcterms:W3CDTF">2009-10-26T12:13:01Z</dcterms:modified>
  <cp:revision>321</cp:revision>
  <dc:subject/>
  <dc:title>No Slide Title</dc:title>
</cp:coreProperties>
</file>