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626-B475-4A9A-B19A-833D4FB3244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Nearly all countries will still produce paper publications, with few exceptions (Belgium, France, Ita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GIS tools used for dissemination by majority of countries (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st countries charge for individual data requests with some ex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sed on main source of data for census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« Traditional census » includes all countries with full field enumeration even if assisted by registers or other data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Comparison among 42 countries for which data is available for 2000 and 2010 census 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ajority of countries use same method in 2000 and 2010.  Few changes from traditional to other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UT several countries did not take census in 2000 round (Ger, Ice, Swe) and are taking register-based census in 2010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ultiple enum. Methods: ex: questionnaire + internet +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ore details in the session on Friday morning (presentations from 5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Data on costs are always difficult to compare because some categories of costs may be included in some countries and not in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Registers census cheapest, in most cases under 2 USD PPP per capita, but generally do not include costs for setting up and maintaining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Traditional census more expensive: from around 3 USD PPP in CIS countries to about 20 USD PPP; also in this case comparison may be affected by inclusion of costs, for instance of tasks to be performed by other public administrations than N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Very high costs in US (almost 50 U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ilot census and dress rehearsal are conducted by all countries with traditional census or at least some field enum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imilarly, nearly all countries conduct some form of census evaluation, with the exceetion in general of countries with register-base cen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Basically all countries conducting traditional census reported doing a 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Sample size in most cases of 1% or less, with few ex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8 countries, mostly CIS countries, reported sample size of 10%: it is a sample check, different approach from traditional 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Manual data entry used by only 19, and only in 7 countries it will be the only data captur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mputation of missing values in existing records widely used (35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Imputation of missing records less widley used (14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B7B-814A-4F1C-A178-7C62F62A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75C-EFF9-4A98-928E-E2588CA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965-4B6B-4CAE-AC71-6DC4FFDF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753-7268-4429-8334-228808CF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ED8-000F-4B8B-85FA-CD9CD63A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367-20C9-4B2E-89BF-90ABE18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4F5-4344-41FD-9453-19DA73A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43-1040-4EE2-AAD6-26849B8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F9B-9105-446A-B6D6-B435046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09B-5D41-409A-88B0-1A688C6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B5D-19F7-4906-ABDC-597A203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B68-2091-4C5E-AE62-49D2A577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ACE-0255-4FA0-B097-7F250EB2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Main results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from UNSD-UNECE survey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on 2010 Census Programme</a:t>
            </a:r>
            <a:endParaRPr b="0" lang="en-US" sz="4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4038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0000a8"/>
                </a:solidFill>
                <a:latin typeface="Arial Narrow"/>
              </a:rPr>
              <a:t>Paolo Valent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8"/>
                </a:solidFill>
                <a:latin typeface="Arial Narrow"/>
              </a:rPr>
              <a:t>United Nations Economic Commission for Europe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a8"/>
                </a:solidFill>
                <a:latin typeface="Arial Narrow"/>
              </a:rPr>
              <a:t>Statistical Divis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Data dissemination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Paper publications still popular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Web widely use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GIS mapping tools used by majority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Most countries charge for individual data request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800000"/>
                </a:solidFill>
                <a:latin typeface="Arial Narrow"/>
              </a:rPr>
              <a:t>Conclusion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Survey shows interesting summary change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Significant changes are occuring in census taking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Drivers for change: costs, quality, technology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Many exciting papers about these changes to be presented at this meeting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Expanded report on results of survey to be produced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800000"/>
                </a:solidFill>
                <a:latin typeface="Arial Narrow"/>
              </a:rPr>
              <a:t>Nature of survey: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 Narrow"/>
              </a:rPr>
              <a:t>World wide (UNSD + Regional Comm.)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 Narrow"/>
              </a:rPr>
              <a:t>Info. on practices for 2010 census round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 Narrow"/>
              </a:rPr>
              <a:t>Different countries at different stages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 Narrow"/>
              </a:rPr>
              <a:t>50 UNECE countries plus 4 others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 Narrow"/>
              </a:rPr>
              <a:t>Similar survey conducted by UNECE after 2000 census round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ology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Methods adopted in 2010 round: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24852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 Narrow"/>
              </a:rPr>
              <a:t>*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Countries that used more than one method and did not define the main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-2682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Traditional census: 36 countries (incl. 4 non-ECE)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-2682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Register-based census: 12 countrie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-2682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Other (registers + other source): 5 countrie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-2682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Rolling census: 1 country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ensus methodology </a:t>
            </a:r>
            <a:br>
              <a:rPr sz="3600"/>
            </a:br>
            <a:r>
              <a:rPr b="1" lang="fr-CH" sz="3600" spc="-1" strike="noStrike">
                <a:solidFill>
                  <a:srgbClr val="800000"/>
                </a:solidFill>
                <a:latin typeface="Arial Narrow"/>
              </a:rPr>
              <a:t>Comparison with 2000 round: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905120"/>
          <a:ext cx="7086600" cy="3962160"/>
        </p:xfrm>
        <a:graphic>
          <a:graphicData uri="http://schemas.openxmlformats.org/drawingml/2006/table">
            <a:tbl>
              <a:tblPr/>
              <a:tblGrid>
                <a:gridCol w="1417680"/>
                <a:gridCol w="1325520"/>
                <a:gridCol w="1371600"/>
                <a:gridCol w="1066680"/>
                <a:gridCol w="990720"/>
                <a:gridCol w="91440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 method 2010 census 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7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 meth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cens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676520" y="624852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 Narrow"/>
              </a:rPr>
              <a:t>* </a:t>
            </a:r>
            <a:r>
              <a:rPr b="1" i="1" lang="en-GB" sz="1400" spc="-1" strike="noStrike">
                <a:solidFill>
                  <a:srgbClr val="000000"/>
                </a:solidFill>
                <a:latin typeface="Arial Narrow"/>
              </a:rPr>
              <a:t>Countries that used more than one method and did not define the main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methodology</a:t>
            </a:r>
            <a:br>
              <a:rPr sz="4000"/>
            </a:b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onclusion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Most countries use same metho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Traditional census most common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Move away from traditional for several countrie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Increasing number of countries adopt multiple enumeration method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on line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Offered in </a:t>
            </a:r>
            <a:r>
              <a:rPr b="1" lang="fr-CH" sz="4000" spc="-1" strike="noStrike">
                <a:solidFill>
                  <a:srgbClr val="ff0000"/>
                </a:solidFill>
                <a:latin typeface="Arial Narrow"/>
              </a:rPr>
              <a:t>16</a:t>
            </a: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 countries in 2010 roun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Offered in </a:t>
            </a:r>
            <a:r>
              <a:rPr b="1" lang="fr-CH" sz="4000" spc="-1" strike="noStrike">
                <a:solidFill>
                  <a:srgbClr val="ff0000"/>
                </a:solidFill>
                <a:latin typeface="Arial Narrow"/>
              </a:rPr>
              <a:t>5</a:t>
            </a: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 countries in 2000 roun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Testing: improved quality; cost savings; public perception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Pick-up rate: significant but less than 20% will use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costs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Register cheapest (direct costs only)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Traditional more expensive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See Table 4 for PPP comparison for 2000 &amp; 2010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ensus testing and evaluation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All traditional census do test or dress rehearsal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Nearly all do a census evaluation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38 countries reported doing PE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Wide sample size variation –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from less than 1% to 10% or more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Data processing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Less reliance on manual data entry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Only 5 countries use PDA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OMR, OCR &amp; to lesser extent ICR are widely used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 Narrow"/>
              </a:rPr>
              <a:t>Imputation of data values &amp; sometimes whole records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Valente</cp:lastModifiedBy>
  <dcterms:modified xsi:type="dcterms:W3CDTF">2009-10-27T17:48:40Z</dcterms:modified>
  <cp:revision>134</cp:revision>
  <dc:subject/>
  <dc:title> Title here</dc:title>
</cp:coreProperties>
</file>