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38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wmf" ContentType="image/x-wmf"/>
  <Override PartName="/ppt/media/image11.png" ContentType="image/png"/>
  <Override PartName="/ppt/media/image13.png" ContentType="image/png"/>
  <Override PartName="/ppt/media/image33.wmf" ContentType="image/x-wmf"/>
  <Override PartName="/ppt/media/image12.png" ContentType="image/png"/>
  <Override PartName="/ppt/media/image32.wmf" ContentType="image/x-wmf"/>
  <Override PartName="/ppt/media/image8.png" ContentType="image/png"/>
  <Override PartName="/ppt/media/image39.jpeg" ContentType="image/jpeg"/>
  <Override PartName="/ppt/media/image41.jpeg" ContentType="image/jpeg"/>
  <Override PartName="/ppt/media/image7.wmf" ContentType="image/x-wmf"/>
  <Override PartName="/ppt/media/image37.wmf" ContentType="image/x-wmf"/>
  <Override PartName="/ppt/media/image34.wmf" ContentType="image/x-wmf"/>
  <Override PartName="/ppt/media/image14.png" ContentType="image/png"/>
  <Override PartName="/ppt/media/image40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0.wmf" ContentType="image/x-wmf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08F7-CEB6-401A-BC5A-A7E70A8E17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78D-F4CA-4E9C-9652-B85369226A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C58-BDCC-4E12-BF43-090B427E81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8292-0D8B-42C5-8DBB-B74FFADFB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6CC4-50C7-4EC1-9AAF-84854F468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potrzeby przeprowadzenia spisów powszechnych powstało rozwiązanie teleinformatyczne umożliwiające przygotowanie danych początkowych, pozyskanie danych od respondentów, a następnie ich przetworze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schemacie przedstawiono jedynie tą część rozwiązania, która bierze bezpośredni udział w realizacji spis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zynając od dołu mamy systemy wspomagające pozyskiwanie danych poprzez 3 kanały spisowe (CAPI, CATI, CAI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środkowej części znajduje się Operacyjna Baza Mikrodanych, która stanowi centralną składnicę danych operacyjnych. Z niej są pobierane dane niezbędne do funkcjonowania kanałów, do niej również trafiają dane z formularzy wypełnionych w kanał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górze znajduje się System Zarządzania Kompletnością Spisu, który wspomaga i synchronizuje wymianę danych pomiędzy kanał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 i ZKS intensywnie korzystają z danych geoprzestrzenny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B9F7-EA26-488D-A18F-42ED335FFB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465D-4DD2-448E-B585-4802DA4D1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1B8A-DEF1-4480-8362-06AEE9A4D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7F73-359D-4C1B-B5D5-62CFA171C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2749-8A82-430B-A33A-8D6DAF712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2CC-A6BB-452D-9D96-206C325763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6C3-BF3A-4F76-8904-A9014E1019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E46-3739-4531-BA99-6423868D2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208-531B-405B-B96D-F48EA4CB9D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ECF-628C-4454-B85C-E7E9D968EA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492-050A-4425-AFC8-B366DC407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057-59A5-4172-8130-96E3EDB09F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BDBD-C681-42E5-9FB8-FCDDEC72E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E3D-B97E-4787-AAA9-10F8418EA2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F2C-744C-460E-895B-288F93BA17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2B4-43F0-4558-9C8E-C138BB4601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8AA-BA4D-4FB5-9D93-983C54362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31D-A48D-4708-89F1-A301C1787D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0B52-EF80-41DA-942B-F1D07F7DC0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A2DB-29D6-4924-86D2-51FA25ECE5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A9F7-DEAE-4B6D-B713-0BEDAA7C90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9CB6-82B7-45FB-9C77-0C8999D920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53CD-094F-4CA4-95E3-9E1A5834C1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215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D07-376E-49B8-A7C2-2F9418B543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025A-292E-432C-9747-1523B13A1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9" descr="LogoANGIELSKIErgb.jpg"/>
          <p:cNvPicPr/>
          <p:nvPr/>
        </p:nvPicPr>
        <p:blipFill>
          <a:blip r:embed="rId2"/>
          <a:stretch/>
        </p:blipFill>
        <p:spPr>
          <a:xfrm>
            <a:off x="71280" y="71280"/>
            <a:ext cx="1420920" cy="1285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pasek"/>
          <p:cNvPicPr/>
          <p:nvPr/>
        </p:nvPicPr>
        <p:blipFill>
          <a:blip r:embed="rId3"/>
          <a:stretch/>
        </p:blipFill>
        <p:spPr>
          <a:xfrm>
            <a:off x="-11160" y="6485040"/>
            <a:ext cx="9175680" cy="40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3" descr="tloPrezentcja"/>
          <p:cNvPicPr/>
          <p:nvPr/>
        </p:nvPicPr>
        <p:blipFill>
          <a:blip r:embed="rId4"/>
          <a:stretch/>
        </p:blipFill>
        <p:spPr>
          <a:xfrm>
            <a:off x="4500720" y="2214720"/>
            <a:ext cx="4178160" cy="3784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C71-CE14-444C-B0D9-E041F65340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Obraz 4" descr="GUS"/>
          <p:cNvPicPr/>
          <p:nvPr/>
        </p:nvPicPr>
        <p:blipFill>
          <a:blip r:embed="rId5"/>
          <a:stretch/>
        </p:blipFill>
        <p:spPr>
          <a:xfrm>
            <a:off x="142920" y="5857920"/>
            <a:ext cx="6476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10" descr="LogoANGIELSKIErgb.jpg"/>
          <p:cNvPicPr/>
          <p:nvPr/>
        </p:nvPicPr>
        <p:blipFill>
          <a:blip r:embed="rId2"/>
          <a:stretch/>
        </p:blipFill>
        <p:spPr>
          <a:xfrm>
            <a:off x="3286080" y="285840"/>
            <a:ext cx="281628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lo2Prezentcja"/>
          <p:cNvPicPr/>
          <p:nvPr/>
        </p:nvPicPr>
        <p:blipFill>
          <a:blip r:embed="rId3"/>
          <a:stretch/>
        </p:blipFill>
        <p:spPr>
          <a:xfrm>
            <a:off x="1909800" y="-30240"/>
            <a:ext cx="7248600" cy="688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pasek"/>
          <p:cNvPicPr/>
          <p:nvPr/>
        </p:nvPicPr>
        <p:blipFill>
          <a:blip r:embed="rId4"/>
          <a:stretch/>
        </p:blipFill>
        <p:spPr>
          <a:xfrm>
            <a:off x="-11160" y="6451560"/>
            <a:ext cx="9155160" cy="40644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GUS"/>
          <p:cNvPicPr/>
          <p:nvPr/>
        </p:nvPicPr>
        <p:blipFill>
          <a:blip r:embed="rId5"/>
          <a:stretch/>
        </p:blipFill>
        <p:spPr>
          <a:xfrm>
            <a:off x="4214880" y="5786280"/>
            <a:ext cx="647640" cy="543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2A83-5B62-46C1-A6FF-E1F9808F2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raz 9" descr="LogoANGIELSKIErgb.jpg"/>
          <p:cNvPicPr/>
          <p:nvPr/>
        </p:nvPicPr>
        <p:blipFill>
          <a:blip r:embed="rId2"/>
          <a:stretch/>
        </p:blipFill>
        <p:spPr>
          <a:xfrm>
            <a:off x="71280" y="71280"/>
            <a:ext cx="142092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asek"/>
          <p:cNvPicPr/>
          <p:nvPr/>
        </p:nvPicPr>
        <p:blipFill>
          <a:blip r:embed="rId3"/>
          <a:stretch/>
        </p:blipFill>
        <p:spPr>
          <a:xfrm>
            <a:off x="-11160" y="6485040"/>
            <a:ext cx="9175680" cy="40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tloPrezentcja"/>
          <p:cNvPicPr/>
          <p:nvPr/>
        </p:nvPicPr>
        <p:blipFill>
          <a:blip r:embed="rId4"/>
          <a:stretch/>
        </p:blipFill>
        <p:spPr>
          <a:xfrm>
            <a:off x="4500720" y="2214720"/>
            <a:ext cx="4178160" cy="3784320"/>
          </a:xfrm>
          <a:prstGeom prst="rect">
            <a:avLst/>
          </a:prstGeom>
          <a:ln w="0">
            <a:noFill/>
          </a:ln>
        </p:spPr>
      </p:pic>
      <p:pic>
        <p:nvPicPr>
          <p:cNvPr id="91" name="Obraz 4" descr="GUS"/>
          <p:cNvPicPr/>
          <p:nvPr/>
        </p:nvPicPr>
        <p:blipFill>
          <a:blip r:embed="rId5"/>
          <a:stretch/>
        </p:blipFill>
        <p:spPr>
          <a:xfrm>
            <a:off x="142920" y="5857920"/>
            <a:ext cx="647640" cy="542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9" descr="LogoANGIELSKIErgb.jpg"/>
          <p:cNvPicPr/>
          <p:nvPr/>
        </p:nvPicPr>
        <p:blipFill>
          <a:blip r:embed="rId2"/>
          <a:stretch/>
        </p:blipFill>
        <p:spPr>
          <a:xfrm>
            <a:off x="71280" y="71280"/>
            <a:ext cx="1420920" cy="128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asek"/>
          <p:cNvPicPr/>
          <p:nvPr/>
        </p:nvPicPr>
        <p:blipFill>
          <a:blip r:embed="rId3"/>
          <a:stretch/>
        </p:blipFill>
        <p:spPr>
          <a:xfrm>
            <a:off x="-11160" y="6485040"/>
            <a:ext cx="917568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tloPrezentcja"/>
          <p:cNvPicPr/>
          <p:nvPr/>
        </p:nvPicPr>
        <p:blipFill>
          <a:blip r:embed="rId4"/>
          <a:stretch/>
        </p:blipFill>
        <p:spPr>
          <a:xfrm>
            <a:off x="4500720" y="2214720"/>
            <a:ext cx="4178160" cy="3784320"/>
          </a:xfrm>
          <a:prstGeom prst="rect">
            <a:avLst/>
          </a:prstGeom>
          <a:ln w="0">
            <a:noFill/>
          </a:ln>
        </p:spPr>
      </p:pic>
      <p:pic>
        <p:nvPicPr>
          <p:cNvPr id="133" name="Obraz 4" descr="GUS"/>
          <p:cNvPicPr/>
          <p:nvPr/>
        </p:nvPicPr>
        <p:blipFill>
          <a:blip r:embed="rId5"/>
          <a:stretch/>
        </p:blipFill>
        <p:spPr>
          <a:xfrm>
            <a:off x="142920" y="5857920"/>
            <a:ext cx="647640" cy="542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Obraz 9" descr="LogoANGIELSKIErgb.jpg"/>
          <p:cNvPicPr/>
          <p:nvPr/>
        </p:nvPicPr>
        <p:blipFill>
          <a:blip r:embed="rId2"/>
          <a:stretch/>
        </p:blipFill>
        <p:spPr>
          <a:xfrm>
            <a:off x="71280" y="71280"/>
            <a:ext cx="1420920" cy="12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pasek"/>
          <p:cNvPicPr/>
          <p:nvPr/>
        </p:nvPicPr>
        <p:blipFill>
          <a:blip r:embed="rId3"/>
          <a:stretch/>
        </p:blipFill>
        <p:spPr>
          <a:xfrm>
            <a:off x="-11160" y="6485040"/>
            <a:ext cx="9175680" cy="40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tloPrezentcja"/>
          <p:cNvPicPr/>
          <p:nvPr/>
        </p:nvPicPr>
        <p:blipFill>
          <a:blip r:embed="rId4"/>
          <a:stretch/>
        </p:blipFill>
        <p:spPr>
          <a:xfrm>
            <a:off x="4500720" y="2214720"/>
            <a:ext cx="4178160" cy="3784320"/>
          </a:xfrm>
          <a:prstGeom prst="rect">
            <a:avLst/>
          </a:prstGeom>
          <a:ln w="0">
            <a:noFill/>
          </a:ln>
        </p:spPr>
      </p:pic>
      <p:pic>
        <p:nvPicPr>
          <p:cNvPr id="175" name="Obraz 4" descr="GUS"/>
          <p:cNvPicPr/>
          <p:nvPr/>
        </p:nvPicPr>
        <p:blipFill>
          <a:blip r:embed="rId5"/>
          <a:stretch/>
        </p:blipFill>
        <p:spPr>
          <a:xfrm>
            <a:off x="142920" y="5857920"/>
            <a:ext cx="647640" cy="542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Obraz 9" descr="LogoANGIELSKIErgb.jpg"/>
          <p:cNvPicPr/>
          <p:nvPr/>
        </p:nvPicPr>
        <p:blipFill>
          <a:blip r:embed="rId2"/>
          <a:stretch/>
        </p:blipFill>
        <p:spPr>
          <a:xfrm>
            <a:off x="71280" y="71280"/>
            <a:ext cx="142092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pasek"/>
          <p:cNvPicPr/>
          <p:nvPr/>
        </p:nvPicPr>
        <p:blipFill>
          <a:blip r:embed="rId3"/>
          <a:stretch/>
        </p:blipFill>
        <p:spPr>
          <a:xfrm>
            <a:off x="-11160" y="6485040"/>
            <a:ext cx="9175680" cy="40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tloPrezentcja"/>
          <p:cNvPicPr/>
          <p:nvPr/>
        </p:nvPicPr>
        <p:blipFill>
          <a:blip r:embed="rId4"/>
          <a:stretch/>
        </p:blipFill>
        <p:spPr>
          <a:xfrm>
            <a:off x="4500720" y="2214720"/>
            <a:ext cx="4178160" cy="3784320"/>
          </a:xfrm>
          <a:prstGeom prst="rect">
            <a:avLst/>
          </a:prstGeom>
          <a:ln w="0">
            <a:noFill/>
          </a:ln>
        </p:spPr>
      </p:pic>
      <p:pic>
        <p:nvPicPr>
          <p:cNvPr id="217" name="Obraz 4" descr="GUS"/>
          <p:cNvPicPr/>
          <p:nvPr/>
        </p:nvPicPr>
        <p:blipFill>
          <a:blip r:embed="rId5"/>
          <a:stretch/>
        </p:blipFill>
        <p:spPr>
          <a:xfrm>
            <a:off x="142920" y="5857920"/>
            <a:ext cx="647640" cy="542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pasek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1" descr="LogoANGIELSKIErgb.jpg"/>
          <p:cNvPicPr/>
          <p:nvPr/>
        </p:nvPicPr>
        <p:blipFill>
          <a:blip r:embed="rId3"/>
          <a:stretch/>
        </p:blipFill>
        <p:spPr>
          <a:xfrm>
            <a:off x="2286000" y="1000080"/>
            <a:ext cx="4888080" cy="4424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9.wmf"/><Relationship Id="rId4" Type="http://schemas.openxmlformats.org/officeDocument/2006/relationships/image" Target="../media/image10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2.wmf"/><Relationship Id="rId11" Type="http://schemas.openxmlformats.org/officeDocument/2006/relationships/image" Target="../media/image32.wmf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3.wmf"/><Relationship Id="rId17" Type="http://schemas.openxmlformats.org/officeDocument/2006/relationships/image" Target="../media/image29.wmf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j.dygaszewicz@stat.gov.p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997360"/>
            <a:ext cx="81435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  <a:ea typeface="Arial"/>
              </a:rPr>
              <a:t>MODERN CENSUS in POLAND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203640" y="5444640"/>
            <a:ext cx="56880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usz Dygaszewi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 Statistical Office in Po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odtytuł 4"/>
          <p:cNvSpPr/>
          <p:nvPr/>
        </p:nvSpPr>
        <p:spPr>
          <a:xfrm>
            <a:off x="0" y="5805360"/>
            <a:ext cx="5688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oup of Experts on Population and Housing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va, 28-30 Octo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3"/>
          <p:cNvGraphicFramePr/>
          <p:nvPr/>
        </p:nvGraphicFramePr>
        <p:xfrm>
          <a:off x="108000" y="903240"/>
          <a:ext cx="892800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903240"/>
                    <a:ext cx="892800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5">
            <a:hlinkClick r:id="" action="ppaction://hlinkshowjump?jump=nextslide"/>
          </p:cNvPr>
          <p:cNvSpPr/>
          <p:nvPr/>
        </p:nvSpPr>
        <p:spPr>
          <a:xfrm>
            <a:off x="8748720" y="944640"/>
            <a:ext cx="252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0" y="0"/>
          <a:ext cx="9144000" cy="2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AutoShape 8"/>
          <p:cNvSpPr/>
          <p:nvPr/>
        </p:nvSpPr>
        <p:spPr>
          <a:xfrm>
            <a:off x="6572160" y="5143680"/>
            <a:ext cx="2232000" cy="971280"/>
          </a:xfrm>
          <a:prstGeom prst="wedgeRectCallout">
            <a:avLst>
              <a:gd name="adj1" fmla="val 20412"/>
              <a:gd name="adj2" fmla="val -3022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ensus Completeness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0"/>
          <a:ext cx="914400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4"/>
          <p:cNvGraphicFramePr/>
          <p:nvPr/>
        </p:nvGraphicFramePr>
        <p:xfrm>
          <a:off x="620640" y="790560"/>
          <a:ext cx="7904160" cy="605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790560"/>
                    <a:ext cx="79041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0" y="0"/>
          <a:ext cx="9144000" cy="23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6"/>
          <p:cNvGraphicFramePr/>
          <p:nvPr/>
        </p:nvGraphicFramePr>
        <p:xfrm>
          <a:off x="108000" y="1870200"/>
          <a:ext cx="8964720" cy="433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1870200"/>
                    <a:ext cx="896472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4">
            <a:hlinkClick r:id="" action="ppaction://hlinkshowjump?jump=nextslide"/>
          </p:cNvPr>
          <p:cNvSpPr/>
          <p:nvPr/>
        </p:nvSpPr>
        <p:spPr>
          <a:xfrm flipH="1">
            <a:off x="8820000" y="1881360"/>
            <a:ext cx="252720" cy="250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7"/>
          <p:cNvGraphicFramePr/>
          <p:nvPr/>
        </p:nvGraphicFramePr>
        <p:xfrm>
          <a:off x="0" y="0"/>
          <a:ext cx="9144000" cy="23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91440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AutoShape 10"/>
          <p:cNvSpPr/>
          <p:nvPr/>
        </p:nvSpPr>
        <p:spPr>
          <a:xfrm>
            <a:off x="6143760" y="4572000"/>
            <a:ext cx="2232000" cy="857160"/>
          </a:xfrm>
          <a:prstGeom prst="wedgeRectCallout">
            <a:avLst>
              <a:gd name="adj1" fmla="val 25745"/>
              <a:gd name="adj2" fmla="val -220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umerator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ff"/>
                </a:solidFill>
                <a:latin typeface="Calibri"/>
                <a:ea typeface="Arial"/>
              </a:rPr>
              <a:t>Hand-held termina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357720" y="1571760"/>
            <a:ext cx="5186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Obraz 5" descr="IMAG0009.jpg"/>
          <p:cNvPicPr/>
          <p:nvPr/>
        </p:nvPicPr>
        <p:blipFill>
          <a:blip r:embed="rId1"/>
          <a:stretch/>
        </p:blipFill>
        <p:spPr>
          <a:xfrm>
            <a:off x="2987640" y="1052640"/>
            <a:ext cx="3611520" cy="5400720"/>
          </a:xfrm>
          <a:prstGeom prst="rect">
            <a:avLst/>
          </a:prstGeom>
          <a:ln w="0">
            <a:noFill/>
          </a:ln>
        </p:spPr>
      </p:pic>
      <p:sp>
        <p:nvSpPr>
          <p:cNvPr id="373" name="Symbol zastępczy numeru slajdu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620-EEC0-4B46-8626-5DAB88044F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Arial"/>
              </a:rPr>
              <a:t>Enumerator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347640" y="1700280"/>
            <a:ext cx="51865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isiting all assigned hol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illing electronic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Daily synchron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Contact with the superviso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in terms of task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Adding newly identified hol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54C-E955-4357-8F8F-5BB8EDDBE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raz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5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  <a:ea typeface="Arial"/>
              </a:rPr>
              <a:t>Enumerator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6345-2F2E-4E45-A5EF-9E60EB396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Obraz 6" descr=""/>
          <p:cNvPicPr/>
          <p:nvPr/>
        </p:nvPicPr>
        <p:blipFill>
          <a:blip r:embed="rId1"/>
          <a:stretch/>
        </p:blipFill>
        <p:spPr>
          <a:xfrm>
            <a:off x="6215040" y="1643040"/>
            <a:ext cx="2500200" cy="4286160"/>
          </a:xfrm>
          <a:prstGeom prst="rect">
            <a:avLst/>
          </a:prstGeom>
          <a:ln w="0">
            <a:noFill/>
          </a:ln>
        </p:spPr>
      </p:pic>
      <p:pic>
        <p:nvPicPr>
          <p:cNvPr id="381" name="Obraz 7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2500200" cy="4286160"/>
          </a:xfrm>
          <a:prstGeom prst="rect">
            <a:avLst/>
          </a:prstGeom>
          <a:ln w="0">
            <a:noFill/>
          </a:ln>
        </p:spPr>
      </p:pic>
      <p:pic>
        <p:nvPicPr>
          <p:cNvPr id="382" name="Obraz 10" descr=""/>
          <p:cNvPicPr/>
          <p:nvPr/>
        </p:nvPicPr>
        <p:blipFill>
          <a:blip r:embed="rId3"/>
          <a:stretch/>
        </p:blipFill>
        <p:spPr>
          <a:xfrm>
            <a:off x="3357720" y="1643040"/>
            <a:ext cx="25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Arial"/>
              </a:rPr>
              <a:t>Enumerator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357720" y="1571760"/>
            <a:ext cx="5186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Map modul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- G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Ortophoto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Cadastr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Assigned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Started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Completed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459-2618-4FA7-987C-CC5F889E6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raz 6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500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Arial"/>
              </a:rPr>
              <a:t>Enumerator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357720" y="1571760"/>
            <a:ext cx="5186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arm proced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 emergency situations, enumerators have a possi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f sending an alarm signal to their supervi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arm notice is s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the supervisor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 via SMS to the supervi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Obraz 5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500200" cy="4286160"/>
          </a:xfrm>
          <a:prstGeom prst="rect">
            <a:avLst/>
          </a:prstGeom>
          <a:ln w="0">
            <a:noFill/>
          </a:ln>
        </p:spPr>
      </p:pic>
      <p:sp>
        <p:nvSpPr>
          <p:cNvPr id="390" name="Symbol zastępczy numeru slajdu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B90-26EC-4A20-9BEE-436025FB6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Calibri"/>
              </a:rPr>
              <a:t>CEN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ata Processing</a:t>
            </a:r>
            <a:r>
              <a:rPr b="1" lang="pl-PL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fra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rostokąt 116"/>
          <p:cNvSpPr/>
          <p:nvPr/>
        </p:nvSpPr>
        <p:spPr>
          <a:xfrm>
            <a:off x="928800" y="1341360"/>
            <a:ext cx="82152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Solution architecture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5" name="Symbol zastępczy numeru slajdu 20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CF6-30F5-4C7D-BF95-314B8AF5C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upa 232"/>
          <p:cNvGrpSpPr/>
          <p:nvPr/>
        </p:nvGrpSpPr>
        <p:grpSpPr>
          <a:xfrm>
            <a:off x="250920" y="1557360"/>
            <a:ext cx="8358120" cy="4640400"/>
            <a:chOff x="250920" y="1557360"/>
            <a:chExt cx="8358120" cy="4640400"/>
          </a:xfrm>
        </p:grpSpPr>
        <p:grpSp>
          <p:nvGrpSpPr>
            <p:cNvPr id="397" name="Grupa 29"/>
            <p:cNvGrpSpPr/>
            <p:nvPr/>
          </p:nvGrpSpPr>
          <p:grpSpPr>
            <a:xfrm>
              <a:off x="3160800" y="5652720"/>
              <a:ext cx="804600" cy="526680"/>
              <a:chOff x="3160800" y="5652720"/>
              <a:chExt cx="804600" cy="526680"/>
            </a:xfrm>
          </p:grpSpPr>
          <p:sp>
            <p:nvSpPr>
              <p:cNvPr id="398" name="Prostokąt zaokrąglony 5"/>
              <p:cNvSpPr/>
              <p:nvPr/>
            </p:nvSpPr>
            <p:spPr>
              <a:xfrm>
                <a:off x="3338280" y="5805720"/>
                <a:ext cx="627120" cy="37368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AT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9" name="Picture 3" descr="C:\Documents and Settings\pzebrowski\Moje dokumenty\Moje obrazy\Microsoft Clip Organizer\j0433861.png"/>
              <p:cNvPicPr/>
              <p:nvPr/>
            </p:nvPicPr>
            <p:blipFill>
              <a:blip r:embed="rId1"/>
              <a:stretch/>
            </p:blipFill>
            <p:spPr>
              <a:xfrm>
                <a:off x="3160800" y="5652720"/>
                <a:ext cx="418680" cy="43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0" name="Grupa 30"/>
            <p:cNvGrpSpPr/>
            <p:nvPr/>
          </p:nvGrpSpPr>
          <p:grpSpPr>
            <a:xfrm>
              <a:off x="2320920" y="5652720"/>
              <a:ext cx="787320" cy="545040"/>
              <a:chOff x="2320920" y="5652720"/>
              <a:chExt cx="787320" cy="545040"/>
            </a:xfrm>
          </p:grpSpPr>
          <p:sp>
            <p:nvSpPr>
              <p:cNvPr id="401" name="Prostokąt zaokrąglony 4"/>
              <p:cNvSpPr/>
              <p:nvPr/>
            </p:nvSpPr>
            <p:spPr>
              <a:xfrm>
                <a:off x="2528640" y="5851800"/>
                <a:ext cx="579600" cy="34596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A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2" name="Picture 4" descr="C:\Documents and Settings\pzebrowski\Moje dokumenty\Moje obrazy\Microsoft Clip Organizer\j0440108.png"/>
              <p:cNvPicPr/>
              <p:nvPr/>
            </p:nvPicPr>
            <p:blipFill>
              <a:blip r:embed="rId2"/>
              <a:stretch/>
            </p:blipFill>
            <p:spPr>
              <a:xfrm>
                <a:off x="2320920" y="5652720"/>
                <a:ext cx="378720" cy="43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3" name="Grupa 32"/>
            <p:cNvGrpSpPr/>
            <p:nvPr/>
          </p:nvGrpSpPr>
          <p:grpSpPr>
            <a:xfrm>
              <a:off x="393480" y="4866840"/>
              <a:ext cx="1071360" cy="675000"/>
              <a:chOff x="393480" y="4866840"/>
              <a:chExt cx="1071360" cy="675000"/>
            </a:xfrm>
          </p:grpSpPr>
          <p:sp>
            <p:nvSpPr>
              <p:cNvPr id="404" name="Prostokąt zaokrąglony 6"/>
              <p:cNvSpPr/>
              <p:nvPr/>
            </p:nvSpPr>
            <p:spPr>
              <a:xfrm>
                <a:off x="821880" y="5000760"/>
                <a:ext cx="64296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Map Serv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5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393480" y="4866840"/>
                <a:ext cx="571320" cy="60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6040" y="5031720"/>
                <a:ext cx="486000" cy="51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7" name="Grupa 70"/>
            <p:cNvGrpSpPr/>
            <p:nvPr/>
          </p:nvGrpSpPr>
          <p:grpSpPr>
            <a:xfrm>
              <a:off x="465120" y="2437920"/>
              <a:ext cx="1071360" cy="675000"/>
              <a:chOff x="465120" y="2437920"/>
              <a:chExt cx="1071360" cy="675000"/>
            </a:xfrm>
          </p:grpSpPr>
          <p:sp>
            <p:nvSpPr>
              <p:cNvPr id="408" name="Prostokąt zaokrąglony 31"/>
              <p:cNvSpPr/>
              <p:nvPr/>
            </p:nvSpPr>
            <p:spPr>
              <a:xfrm>
                <a:off x="822240" y="2738520"/>
                <a:ext cx="714240" cy="37440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Register  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Picture 2" descr=""/>
              <p:cNvPicPr/>
              <p:nvPr/>
            </p:nvPicPr>
            <p:blipFill>
              <a:blip r:embed="rId5"/>
              <a:stretch/>
            </p:blipFill>
            <p:spPr>
              <a:xfrm>
                <a:off x="465120" y="2437920"/>
                <a:ext cx="57132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0" name="Grupa 28"/>
            <p:cNvGrpSpPr/>
            <p:nvPr/>
          </p:nvGrpSpPr>
          <p:grpSpPr>
            <a:xfrm>
              <a:off x="1251000" y="5578200"/>
              <a:ext cx="928440" cy="603360"/>
              <a:chOff x="1251000" y="5578200"/>
              <a:chExt cx="928440" cy="603360"/>
            </a:xfrm>
          </p:grpSpPr>
          <p:sp>
            <p:nvSpPr>
              <p:cNvPr id="411" name="Prostokąt zaokrąglony 9"/>
              <p:cNvSpPr/>
              <p:nvPr/>
            </p:nvSpPr>
            <p:spPr>
              <a:xfrm>
                <a:off x="1568520" y="5838840"/>
                <a:ext cx="61092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AP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2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1000" y="5578200"/>
                <a:ext cx="572040" cy="60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3" name="Grupa 74"/>
            <p:cNvGrpSpPr/>
            <p:nvPr/>
          </p:nvGrpSpPr>
          <p:grpSpPr>
            <a:xfrm>
              <a:off x="5037120" y="2652120"/>
              <a:ext cx="1285560" cy="1425240"/>
              <a:chOff x="5037120" y="2652120"/>
              <a:chExt cx="1285560" cy="1425240"/>
            </a:xfrm>
          </p:grpSpPr>
          <p:sp>
            <p:nvSpPr>
              <p:cNvPr id="414" name="Prostokąt zaokrąglony 72"/>
              <p:cNvSpPr/>
              <p:nvPr/>
            </p:nvSpPr>
            <p:spPr>
              <a:xfrm>
                <a:off x="5322600" y="3102120"/>
                <a:ext cx="1000080" cy="97524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Micro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Datab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upa 76"/>
              <p:cNvGrpSpPr/>
              <p:nvPr/>
            </p:nvGrpSpPr>
            <p:grpSpPr>
              <a:xfrm>
                <a:off x="5037120" y="2652120"/>
                <a:ext cx="928440" cy="825480"/>
                <a:chOff x="5037120" y="2652120"/>
                <a:chExt cx="928440" cy="825480"/>
              </a:xfrm>
            </p:grpSpPr>
            <p:pic>
              <p:nvPicPr>
                <p:cNvPr id="416" name="Picture 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37120" y="2652120"/>
                  <a:ext cx="680760" cy="756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84800" y="2720880"/>
                  <a:ext cx="680760" cy="756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18" name="Grupa 77"/>
            <p:cNvGrpSpPr/>
            <p:nvPr/>
          </p:nvGrpSpPr>
          <p:grpSpPr>
            <a:xfrm>
              <a:off x="1751040" y="3152160"/>
              <a:ext cx="571320" cy="524880"/>
              <a:chOff x="1751040" y="3152160"/>
              <a:chExt cx="571320" cy="524880"/>
            </a:xfrm>
          </p:grpSpPr>
          <p:pic>
            <p:nvPicPr>
              <p:cNvPr id="419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1751040" y="3227040"/>
                <a:ext cx="28548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Picture 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65240" y="3377160"/>
                <a:ext cx="28548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39760" y="3152160"/>
                <a:ext cx="2826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Grupa 104"/>
            <p:cNvGrpSpPr/>
            <p:nvPr/>
          </p:nvGrpSpPr>
          <p:grpSpPr>
            <a:xfrm>
              <a:off x="4251240" y="2795040"/>
              <a:ext cx="571320" cy="524880"/>
              <a:chOff x="4251240" y="2795040"/>
              <a:chExt cx="571320" cy="524880"/>
            </a:xfrm>
          </p:grpSpPr>
          <p:pic>
            <p:nvPicPr>
              <p:cNvPr id="423" name="Picture 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51240" y="2869920"/>
                <a:ext cx="28548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465440" y="3020040"/>
                <a:ext cx="285480" cy="29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39960" y="2795040"/>
                <a:ext cx="2826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Grupa 73"/>
            <p:cNvGrpSpPr/>
            <p:nvPr/>
          </p:nvGrpSpPr>
          <p:grpSpPr>
            <a:xfrm>
              <a:off x="2965320" y="2723400"/>
              <a:ext cx="1357200" cy="1425240"/>
              <a:chOff x="2965320" y="2723400"/>
              <a:chExt cx="1357200" cy="1425240"/>
            </a:xfrm>
          </p:grpSpPr>
          <p:sp>
            <p:nvSpPr>
              <p:cNvPr id="427" name="Prostokąt zaokrąglony 12"/>
              <p:cNvSpPr/>
              <p:nvPr/>
            </p:nvSpPr>
            <p:spPr>
              <a:xfrm>
                <a:off x="3322440" y="3247920"/>
                <a:ext cx="1000080" cy="90072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Operat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Micro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Databas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upa 73"/>
              <p:cNvGrpSpPr/>
              <p:nvPr/>
            </p:nvGrpSpPr>
            <p:grpSpPr>
              <a:xfrm>
                <a:off x="2965320" y="2723400"/>
                <a:ext cx="928800" cy="750600"/>
                <a:chOff x="2965320" y="2723400"/>
                <a:chExt cx="928800" cy="750600"/>
              </a:xfrm>
            </p:grpSpPr>
            <p:pic>
              <p:nvPicPr>
                <p:cNvPr id="429" name="Picture 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274920" y="2723400"/>
                  <a:ext cx="619200" cy="65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965320" y="2723400"/>
                  <a:ext cx="714600" cy="750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cxnSp>
          <p:nvCxnSpPr>
            <p:cNvPr id="431" name="Łącznik łamany 66"/>
            <p:cNvCxnSpPr/>
            <p:nvPr/>
          </p:nvCxnSpPr>
          <p:spPr>
            <a:xfrm flipV="1">
              <a:off x="750600" y="3509640"/>
              <a:ext cx="929160" cy="7200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grpSp>
          <p:nvGrpSpPr>
            <p:cNvPr id="432" name="Grupa 71"/>
            <p:cNvGrpSpPr/>
            <p:nvPr/>
          </p:nvGrpSpPr>
          <p:grpSpPr>
            <a:xfrm>
              <a:off x="465120" y="3580920"/>
              <a:ext cx="1071360" cy="675000"/>
              <a:chOff x="465120" y="3580920"/>
              <a:chExt cx="1071360" cy="675000"/>
            </a:xfrm>
          </p:grpSpPr>
          <p:sp>
            <p:nvSpPr>
              <p:cNvPr id="433" name="Prostokąt zaokrąglony 68"/>
              <p:cNvSpPr/>
              <p:nvPr/>
            </p:nvSpPr>
            <p:spPr>
              <a:xfrm>
                <a:off x="822240" y="3881520"/>
                <a:ext cx="714240" cy="374400"/>
              </a:xfrm>
              <a:prstGeom prst="roundRect">
                <a:avLst>
                  <a:gd name="adj" fmla="val 16667"/>
                </a:avLst>
              </a:prstGeom>
              <a:solidFill>
                <a:srgbClr val="ebf1de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Register B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Picture 2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5120" y="3580920"/>
                <a:ext cx="57132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435" name="Łącznik łamany 66"/>
            <p:cNvCxnSpPr/>
            <p:nvPr/>
          </p:nvCxnSpPr>
          <p:spPr>
            <a:xfrm>
              <a:off x="750600" y="3009600"/>
              <a:ext cx="929160" cy="28620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36" name="Łącznik prosty ze strzałką 97"/>
            <p:cNvCxnSpPr/>
            <p:nvPr/>
          </p:nvCxnSpPr>
          <p:spPr>
            <a:xfrm>
              <a:off x="2322360" y="3295800"/>
              <a:ext cx="71496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37" name="Łącznik prosty ze strzałką 99"/>
            <p:cNvCxnSpPr/>
            <p:nvPr/>
          </p:nvCxnSpPr>
          <p:spPr>
            <a:xfrm>
              <a:off x="2322360" y="3508560"/>
              <a:ext cx="71496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38" name="Łącznik prosty ze strzałką 106"/>
            <p:cNvCxnSpPr/>
            <p:nvPr/>
          </p:nvCxnSpPr>
          <p:spPr>
            <a:xfrm>
              <a:off x="3893760" y="3009960"/>
              <a:ext cx="28620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39" name="Łącznik prosty ze strzałką 109"/>
            <p:cNvCxnSpPr/>
            <p:nvPr/>
          </p:nvCxnSpPr>
          <p:spPr>
            <a:xfrm>
              <a:off x="4822560" y="3009960"/>
              <a:ext cx="28620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40" name="Prostokąt zaokrąglony 110"/>
            <p:cNvSpPr/>
            <p:nvPr/>
          </p:nvSpPr>
          <p:spPr>
            <a:xfrm>
              <a:off x="2179440" y="4010040"/>
              <a:ext cx="1000080" cy="97452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</a:rPr>
                <a:t>Input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</a:rPr>
                <a:t>Estimation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</a:rPr>
                <a:t>Definitions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</a:rPr>
                <a:t>Classifi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</a:rPr>
                <a:t>META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Prostokąt zaokrąglony 112"/>
            <p:cNvSpPr/>
            <p:nvPr/>
          </p:nvSpPr>
          <p:spPr>
            <a:xfrm>
              <a:off x="3822840" y="2081160"/>
              <a:ext cx="1357200" cy="37440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Statistical 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T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Prostokąt zaokrąglony 114"/>
            <p:cNvSpPr/>
            <p:nvPr/>
          </p:nvSpPr>
          <p:spPr>
            <a:xfrm>
              <a:off x="6108840" y="2009520"/>
              <a:ext cx="785520" cy="37440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Esti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Prostokąt zaokrąglony 115"/>
            <p:cNvSpPr/>
            <p:nvPr/>
          </p:nvSpPr>
          <p:spPr>
            <a:xfrm>
              <a:off x="5394240" y="4724640"/>
              <a:ext cx="785520" cy="37440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Public META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Prostokąt zaokrąglony 117"/>
            <p:cNvSpPr/>
            <p:nvPr/>
          </p:nvSpPr>
          <p:spPr>
            <a:xfrm>
              <a:off x="7251840" y="2581200"/>
              <a:ext cx="928440" cy="44928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Individual Ord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Prostokąt zaokrąglony 118"/>
            <p:cNvSpPr/>
            <p:nvPr/>
          </p:nvSpPr>
          <p:spPr>
            <a:xfrm>
              <a:off x="7251840" y="3295800"/>
              <a:ext cx="928440" cy="449280"/>
            </a:xfrm>
            <a:prstGeom prst="roundRect">
              <a:avLst>
                <a:gd name="adj" fmla="val 16667"/>
              </a:avLst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Spatial Anal</a:t>
              </a:r>
              <a:r>
                <a:rPr b="0" lang="pl-PL" sz="800" spc="-1" strike="noStrike">
                  <a:solidFill>
                    <a:srgbClr val="000000"/>
                  </a:solidFill>
                  <a:latin typeface="Verdana"/>
                </a:rPr>
                <a:t>ysi</a:t>
              </a:r>
              <a:r>
                <a:rPr b="0" lang="en-GB" sz="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Łącznik prosty ze strzałką 140"/>
            <p:cNvCxnSpPr/>
            <p:nvPr/>
          </p:nvCxnSpPr>
          <p:spPr>
            <a:xfrm flipV="1">
              <a:off x="3822840" y="4152600"/>
              <a:ext cx="2160" cy="157248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7" name="Łącznik prosty ze strzałką 145"/>
            <p:cNvCxnSpPr/>
            <p:nvPr/>
          </p:nvCxnSpPr>
          <p:spPr>
            <a:xfrm flipV="1">
              <a:off x="3679920" y="4152240"/>
              <a:ext cx="2160" cy="14295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Łącznik prosty ze strzałką 146"/>
            <p:cNvCxnSpPr/>
            <p:nvPr/>
          </p:nvCxnSpPr>
          <p:spPr>
            <a:xfrm flipV="1">
              <a:off x="3537000" y="4152600"/>
              <a:ext cx="2160" cy="128664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Łącznik prosty ze strzałką 147"/>
            <p:cNvCxnSpPr/>
            <p:nvPr/>
          </p:nvCxnSpPr>
          <p:spPr>
            <a:xfrm>
              <a:off x="2822040" y="5581800"/>
              <a:ext cx="85788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</a:ln>
          </p:spPr>
        </p:cxnSp>
        <p:cxnSp>
          <p:nvCxnSpPr>
            <p:cNvPr id="450" name="Łącznik prosty ze strzałką 149"/>
            <p:cNvCxnSpPr/>
            <p:nvPr/>
          </p:nvCxnSpPr>
          <p:spPr>
            <a:xfrm flipV="1">
              <a:off x="1822320" y="5295960"/>
              <a:ext cx="2160" cy="42912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headEnd len="med" type="triangle" w="med"/>
            </a:ln>
          </p:spPr>
        </p:cxnSp>
        <p:cxnSp>
          <p:nvCxnSpPr>
            <p:cNvPr id="451" name="Łącznik prosty ze strzałką 152"/>
            <p:cNvCxnSpPr/>
            <p:nvPr/>
          </p:nvCxnSpPr>
          <p:spPr>
            <a:xfrm>
              <a:off x="2036520" y="5438880"/>
              <a:ext cx="150084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</a:ln>
          </p:spPr>
        </p:cxnSp>
        <p:cxnSp>
          <p:nvCxnSpPr>
            <p:cNvPr id="452" name="Łącznik prosty ze strzałką 153"/>
            <p:cNvCxnSpPr/>
            <p:nvPr/>
          </p:nvCxnSpPr>
          <p:spPr>
            <a:xfrm flipH="1">
              <a:off x="2822040" y="5581800"/>
              <a:ext cx="2160" cy="14328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3" name="Łącznik prosty ze strzałką 154"/>
            <p:cNvCxnSpPr/>
            <p:nvPr/>
          </p:nvCxnSpPr>
          <p:spPr>
            <a:xfrm>
              <a:off x="1536120" y="5296320"/>
              <a:ext cx="286200" cy="216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headEnd len="med" type="triangle" w="med"/>
            </a:ln>
          </p:spPr>
        </p:cxnSp>
        <p:cxnSp>
          <p:nvCxnSpPr>
            <p:cNvPr id="454" name="Łącznik prosty ze strzałką 158"/>
            <p:cNvCxnSpPr/>
            <p:nvPr/>
          </p:nvCxnSpPr>
          <p:spPr>
            <a:xfrm flipH="1">
              <a:off x="2036520" y="5438520"/>
              <a:ext cx="2160" cy="286200"/>
            </a:xfrm>
            <a:prstGeom prst="straightConnector1">
              <a:avLst/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5" name="Łącznik łamany 66"/>
            <p:cNvCxnSpPr/>
            <p:nvPr/>
          </p:nvCxnSpPr>
          <p:spPr>
            <a:xfrm flipH="1" flipV="1" rot="5400000">
              <a:off x="3454920" y="2375640"/>
              <a:ext cx="376920" cy="214920"/>
            </a:xfrm>
            <a:prstGeom prst="bentConnector3">
              <a:avLst>
                <a:gd name="adj1" fmla="val 100191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6" name="Łącznik łamany 66"/>
            <p:cNvCxnSpPr/>
            <p:nvPr/>
          </p:nvCxnSpPr>
          <p:spPr>
            <a:xfrm flipH="1" rot="16200000">
              <a:off x="5214960" y="2331000"/>
              <a:ext cx="357840" cy="286200"/>
            </a:xfrm>
            <a:prstGeom prst="bentConnector3">
              <a:avLst>
                <a:gd name="adj1" fmla="val -2819"/>
              </a:avLst>
            </a:prstGeom>
            <a:ln w="15840">
              <a:solidFill>
                <a:srgbClr val="4a7ebb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7" name="Łącznik łamany 66"/>
            <p:cNvCxnSpPr/>
            <p:nvPr/>
          </p:nvCxnSpPr>
          <p:spPr>
            <a:xfrm flipV="1">
              <a:off x="6394680" y="2794680"/>
              <a:ext cx="786240" cy="572040"/>
            </a:xfrm>
            <a:prstGeom prst="bentConnector3">
              <a:avLst>
                <a:gd name="adj1" fmla="val 49977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8" name="Łącznik łamany 66"/>
            <p:cNvCxnSpPr/>
            <p:nvPr/>
          </p:nvCxnSpPr>
          <p:spPr>
            <a:xfrm>
              <a:off x="6394680" y="3581280"/>
              <a:ext cx="786240" cy="2160"/>
            </a:xfrm>
            <a:prstGeom prst="bentConnector3">
              <a:avLst>
                <a:gd name="adj1" fmla="val 49977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9" name="Łącznik łamany 66"/>
            <p:cNvCxnSpPr/>
            <p:nvPr/>
          </p:nvCxnSpPr>
          <p:spPr>
            <a:xfrm>
              <a:off x="6394320" y="3795840"/>
              <a:ext cx="857880" cy="71496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60" name="Prostokąt zaokrąglony 189"/>
            <p:cNvSpPr/>
            <p:nvPr/>
          </p:nvSpPr>
          <p:spPr>
            <a:xfrm>
              <a:off x="7823520" y="4367520"/>
              <a:ext cx="785520" cy="37440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Picture 10" descr=""/>
            <p:cNvPicPr/>
            <p:nvPr/>
          </p:nvPicPr>
          <p:blipFill>
            <a:blip r:embed="rId18"/>
            <a:stretch/>
          </p:blipFill>
          <p:spPr>
            <a:xfrm>
              <a:off x="7323480" y="4366800"/>
              <a:ext cx="928440" cy="9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Strzałka w dół 191"/>
            <p:cNvSpPr/>
            <p:nvPr/>
          </p:nvSpPr>
          <p:spPr>
            <a:xfrm>
              <a:off x="5680080" y="4081680"/>
              <a:ext cx="285480" cy="600120"/>
            </a:xfrm>
            <a:prstGeom prst="downArrow">
              <a:avLst>
                <a:gd name="adj1" fmla="val 50000"/>
                <a:gd name="adj2" fmla="val 5005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załka w dół 192"/>
            <p:cNvSpPr/>
            <p:nvPr/>
          </p:nvSpPr>
          <p:spPr>
            <a:xfrm>
              <a:off x="2536920" y="3581280"/>
              <a:ext cx="285480" cy="374400"/>
            </a:xfrm>
            <a:prstGeom prst="downArrow">
              <a:avLst>
                <a:gd name="adj1" fmla="val 50000"/>
                <a:gd name="adj2" fmla="val 5001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Łącznik łamany 66"/>
            <p:cNvCxnSpPr/>
            <p:nvPr/>
          </p:nvCxnSpPr>
          <p:spPr>
            <a:xfrm flipH="1" flipV="1" rot="5400000">
              <a:off x="6000480" y="2616120"/>
              <a:ext cx="572040" cy="21492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65" name="pole tekstowe 199"/>
            <p:cNvSpPr/>
            <p:nvPr/>
          </p:nvSpPr>
          <p:spPr>
            <a:xfrm>
              <a:off x="250920" y="1581120"/>
              <a:ext cx="135720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Registry Gestors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ublic Z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pole tekstowe 200"/>
            <p:cNvSpPr/>
            <p:nvPr/>
          </p:nvSpPr>
          <p:spPr>
            <a:xfrm>
              <a:off x="1393920" y="1581120"/>
              <a:ext cx="13572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ormal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pole tekstowe 201"/>
            <p:cNvSpPr/>
            <p:nvPr/>
          </p:nvSpPr>
          <p:spPr>
            <a:xfrm>
              <a:off x="2751120" y="1557360"/>
              <a:ext cx="13572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pole tekstowe 202"/>
            <p:cNvSpPr/>
            <p:nvPr/>
          </p:nvSpPr>
          <p:spPr>
            <a:xfrm>
              <a:off x="4751280" y="1557360"/>
              <a:ext cx="13572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ata Depersonalis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pole tekstowe 203"/>
            <p:cNvSpPr/>
            <p:nvPr/>
          </p:nvSpPr>
          <p:spPr>
            <a:xfrm>
              <a:off x="7037640" y="1581120"/>
              <a:ext cx="1571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Data Dissem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ublic Z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he Methodology of Linkage Data from Several Chann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331640" y="1413000"/>
            <a:ext cx="7365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w implementatio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quisiti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istical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da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lution archit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use of administrative sour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clusi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Agenda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9F77-1EA6-4BDA-875A-1B1B9D3F9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97800" y="292428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e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tatistical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20652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20652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0"/>
          <p:cNvSpPr/>
          <p:nvPr/>
        </p:nvSpPr>
        <p:spPr>
          <a:xfrm>
            <a:off x="2556000" y="1268280"/>
            <a:ext cx="2447640" cy="201636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723" h="1308">
                <a:moveTo>
                  <a:pt x="1723" y="0"/>
                </a:moveTo>
                <a:cubicBezTo>
                  <a:pt x="1696" y="215"/>
                  <a:pt x="1670" y="431"/>
                  <a:pt x="1587" y="590"/>
                </a:cubicBezTo>
                <a:cubicBezTo>
                  <a:pt x="1504" y="749"/>
                  <a:pt x="1375" y="855"/>
                  <a:pt x="1224" y="953"/>
                </a:cubicBezTo>
                <a:cubicBezTo>
                  <a:pt x="1073" y="1051"/>
                  <a:pt x="816" y="1135"/>
                  <a:pt x="680" y="1180"/>
                </a:cubicBezTo>
                <a:cubicBezTo>
                  <a:pt x="544" y="1225"/>
                  <a:pt x="0" y="1308"/>
                  <a:pt x="408" y="1225"/>
                </a:cubicBezTo>
              </a:path>
            </a:pathLst>
          </a:custGeom>
          <a:noFill/>
          <a:ln w="92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20652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0"/>
          <p:cNvSpPr/>
          <p:nvPr/>
        </p:nvSpPr>
        <p:spPr>
          <a:xfrm>
            <a:off x="2916360" y="1341360"/>
            <a:ext cx="4824360" cy="460872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3144" h="2903">
                <a:moveTo>
                  <a:pt x="3084" y="0"/>
                </a:moveTo>
                <a:cubicBezTo>
                  <a:pt x="3114" y="752"/>
                  <a:pt x="3144" y="1505"/>
                  <a:pt x="2993" y="1951"/>
                </a:cubicBezTo>
                <a:cubicBezTo>
                  <a:pt x="2842" y="2397"/>
                  <a:pt x="2676" y="2517"/>
                  <a:pt x="2177" y="2676"/>
                </a:cubicBezTo>
                <a:cubicBezTo>
                  <a:pt x="1678" y="2835"/>
                  <a:pt x="355" y="2865"/>
                  <a:pt x="0" y="2903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20652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206520" y="2565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2916360" y="4797360"/>
            <a:ext cx="3887640" cy="792360"/>
          </a:xfrm>
          <a:prstGeom prst="rect">
            <a:avLst/>
          </a:prstGeom>
          <a:solidFill>
            <a:srgbClr val="ffff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3566520" y="4869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6084720" y="1268280"/>
            <a:ext cx="719280" cy="352908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2"/>
          <p:cNvSpPr/>
          <p:nvPr/>
        </p:nvSpPr>
        <p:spPr>
          <a:xfrm>
            <a:off x="4284720" y="3284640"/>
            <a:ext cx="1800000" cy="15127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1134" h="953">
                <a:moveTo>
                  <a:pt x="0" y="953"/>
                </a:moveTo>
                <a:lnTo>
                  <a:pt x="362" y="862"/>
                </a:lnTo>
                <a:lnTo>
                  <a:pt x="725" y="681"/>
                </a:lnTo>
                <a:lnTo>
                  <a:pt x="907" y="499"/>
                </a:lnTo>
                <a:lnTo>
                  <a:pt x="1043" y="272"/>
                </a:lnTo>
                <a:lnTo>
                  <a:pt x="1134" y="0"/>
                </a:lnTo>
                <a:lnTo>
                  <a:pt x="1134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076720" y="436572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3133080" y="3500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, 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6"/>
          <p:cNvSpPr/>
          <p:nvPr/>
        </p:nvSpPr>
        <p:spPr>
          <a:xfrm rot="16200000">
            <a:off x="4805640" y="3004560"/>
            <a:ext cx="31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es not covere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im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916360" y="1268280"/>
            <a:ext cx="3887640" cy="432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"/>
          <p:cNvSpPr/>
          <p:nvPr/>
        </p:nvSpPr>
        <p:spPr>
          <a:xfrm>
            <a:off x="2916360" y="1268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"/>
          <p:cNvSpPr/>
          <p:nvPr/>
        </p:nvSpPr>
        <p:spPr>
          <a:xfrm>
            <a:off x="2916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 rot="16200000">
            <a:off x="1947600" y="5547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7021800" y="76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"/>
          <p:cNvSpPr/>
          <p:nvPr/>
        </p:nvSpPr>
        <p:spPr>
          <a:xfrm>
            <a:off x="2916360" y="1268280"/>
            <a:ext cx="3456000" cy="374508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086" h="2087">
                <a:moveTo>
                  <a:pt x="2086" y="0"/>
                </a:moveTo>
                <a:cubicBezTo>
                  <a:pt x="2033" y="642"/>
                  <a:pt x="1981" y="1285"/>
                  <a:pt x="1633" y="1633"/>
                </a:cubicBezTo>
                <a:cubicBezTo>
                  <a:pt x="1285" y="1981"/>
                  <a:pt x="272" y="2019"/>
                  <a:pt x="0" y="208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203640" y="2565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2916360" y="4797360"/>
            <a:ext cx="3887640" cy="792360"/>
          </a:xfrm>
          <a:prstGeom prst="rect">
            <a:avLst/>
          </a:prstGeom>
          <a:solidFill>
            <a:srgbClr val="ffff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710880" y="4797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6084720" y="1268280"/>
            <a:ext cx="719280" cy="352908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2"/>
          <p:cNvSpPr/>
          <p:nvPr/>
        </p:nvSpPr>
        <p:spPr>
          <a:xfrm rot="16200000">
            <a:off x="5235840" y="3130920"/>
            <a:ext cx="23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Area Est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3"/>
          <p:cNvSpPr/>
          <p:nvPr/>
        </p:nvSpPr>
        <p:spPr>
          <a:xfrm>
            <a:off x="4284720" y="3284640"/>
            <a:ext cx="1800000" cy="15127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1134" h="953">
                <a:moveTo>
                  <a:pt x="0" y="953"/>
                </a:moveTo>
                <a:lnTo>
                  <a:pt x="362" y="862"/>
                </a:lnTo>
                <a:lnTo>
                  <a:pt x="725" y="681"/>
                </a:lnTo>
                <a:lnTo>
                  <a:pt x="907" y="499"/>
                </a:lnTo>
                <a:lnTo>
                  <a:pt x="1043" y="272"/>
                </a:lnTo>
                <a:lnTo>
                  <a:pt x="1134" y="0"/>
                </a:lnTo>
                <a:lnTo>
                  <a:pt x="1134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5003640" y="436572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3204720" y="3429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, 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2916360" y="5445000"/>
            <a:ext cx="3887640" cy="289080"/>
          </a:xfrm>
          <a:prstGeom prst="rect">
            <a:avLst/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3557160" y="544500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ion of who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8"/>
          <p:cNvSpPr/>
          <p:nvPr/>
        </p:nvSpPr>
        <p:spPr>
          <a:xfrm>
            <a:off x="4815720" y="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sus Model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2916360" y="141300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2916360" y="177336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2916360" y="213372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2"/>
          <p:cNvSpPr/>
          <p:nvPr/>
        </p:nvSpPr>
        <p:spPr>
          <a:xfrm>
            <a:off x="2916360" y="249228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3"/>
          <p:cNvSpPr/>
          <p:nvPr/>
        </p:nvSpPr>
        <p:spPr>
          <a:xfrm>
            <a:off x="2916360" y="292428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2916360" y="335772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5"/>
          <p:cNvSpPr/>
          <p:nvPr/>
        </p:nvSpPr>
        <p:spPr>
          <a:xfrm>
            <a:off x="2916360" y="378936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2916360" y="414972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916360" y="458136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8"/>
          <p:cNvSpPr/>
          <p:nvPr/>
        </p:nvSpPr>
        <p:spPr>
          <a:xfrm>
            <a:off x="2987640" y="508464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9"/>
          <p:cNvSpPr/>
          <p:nvPr/>
        </p:nvSpPr>
        <p:spPr>
          <a:xfrm>
            <a:off x="2916360" y="5516640"/>
            <a:ext cx="547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6804000" y="1268280"/>
            <a:ext cx="2160720" cy="4465800"/>
          </a:xfrm>
          <a:prstGeom prst="rect">
            <a:avLst/>
          </a:pr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1"/>
          <p:cNvSpPr/>
          <p:nvPr/>
        </p:nvSpPr>
        <p:spPr>
          <a:xfrm>
            <a:off x="6948360" y="306864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ion based on the sample surv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2"/>
          <p:cNvSpPr/>
          <p:nvPr/>
        </p:nvSpPr>
        <p:spPr>
          <a:xfrm>
            <a:off x="108000" y="263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mpl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usag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sources is being planned during the censu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source of research dat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information to create a list of entities covered by the census (address-housing survey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dition, a source of information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u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data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stim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and determining the quality of the dat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alibri"/>
              </a:rPr>
              <a:t>The use of administrative sources</a:t>
            </a:r>
            <a:r>
              <a:rPr b="0" lang="en-GB" sz="3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alibri"/>
              </a:rPr>
              <a:t>in</a:t>
            </a:r>
            <a:r>
              <a:rPr b="0" lang="en-GB" sz="3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Calibri"/>
              </a:rPr>
              <a:t>censu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61" name="Symbol zastępczy numeru slajdu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0DBF-2AF8-49A8-ACBA-24AF329C06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Calibri"/>
              </a:rPr>
              <a:t>I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</a:rPr>
              <a:t>n Poland exist several hundred registers, but 3 of them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uld </a:t>
            </a:r>
            <a:r>
              <a:rPr b="1" lang="pl-PL" sz="3600" spc="-1" strike="noStrike">
                <a:solidFill>
                  <a:srgbClr val="333399"/>
                </a:solidFill>
                <a:latin typeface="Calibri"/>
              </a:rPr>
              <a:t>be 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</a:rPr>
              <a:t>pointed as the base administrative register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547640" y="333360"/>
          <a:ext cx="7272360" cy="6046920"/>
        </p:xfrm>
        <a:graphic>
          <a:graphicData uri="http://schemas.openxmlformats.org/drawingml/2006/table">
            <a:tbl>
              <a:tblPr/>
              <a:tblGrid>
                <a:gridCol w="3544920"/>
                <a:gridCol w="3727440"/>
              </a:tblGrid>
              <a:tr h="95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ame of the base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ame of the body responsible for administrativ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ntification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er System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 Electronic System of Population Registration -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E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ry of Interior Affairs and Administr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ration files on the level Gm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f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min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fices, e.g.Commune/Municipal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units and enterprises identification register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lled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ON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Statistical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itorial identification regist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Y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ed with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d and building 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l Statistical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Mixed</a:t>
            </a:r>
            <a:r>
              <a:rPr b="1" lang="pl-PL" sz="3600" spc="-1" strike="noStrike">
                <a:solidFill>
                  <a:srgbClr val="333399"/>
                </a:solidFill>
                <a:latin typeface="Calibri"/>
              </a:rPr>
              <a:t> Model 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Calibri"/>
              </a:rPr>
              <a:t>for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opulation and Housing Census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Mixe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 combination of data from administrative sources with data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cquired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on-lin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from statistical surv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3 base regist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 unified identification system across other different registers and make i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ntegrate almost all administrative 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, about 28 public registers were selected as administrative sources for cens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rritorial Identification Register - TERYT is the most crucial for public statis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  <a:ea typeface="Arial"/>
              </a:rPr>
              <a:t>x,y GEOCODING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789012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  <a:ea typeface="Arial"/>
              </a:rPr>
              <a:t>Territorial identification registry (System TERYT) provides location data of all statistical units as the address-point of a related buil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  <a:ea typeface="Arial"/>
              </a:rPr>
              <a:t>Location of buildings is specified using geographical x,y coordinates, giving the exact location of each building and make possibility to linking microdata from several registe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  <a:ea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14280" y="1214280"/>
            <a:ext cx="74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ill eliminate the necessity to recalculate data when administrative borders are changing. Furthermore, the point assignment will allow easy processing of statistical data in any chosen are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even f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GRID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- GEOSTAT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x,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ocod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 is crucial in all three stages of the censu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he preparatory work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of enumera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nd after the census for multidimensional spatial analy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981000"/>
            <a:ext cx="714852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Identification system for address point</a:t>
            </a:r>
            <a:r>
              <a:rPr b="1" lang="pl-PL" sz="20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28800" y="3000240"/>
            <a:ext cx="1234800" cy="47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XXXXX X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2411280" y="2997360"/>
            <a:ext cx="1235160" cy="460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YYYYY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3924360" y="2997360"/>
            <a:ext cx="1235160" cy="460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RRRRR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5435640" y="2997360"/>
            <a:ext cx="1235160" cy="460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U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948360" y="2924280"/>
            <a:ext cx="57492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7740720" y="2924280"/>
            <a:ext cx="5745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w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937440" y="3645000"/>
            <a:ext cx="134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2664720" y="3645000"/>
            <a:ext cx="9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ity, tow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067280" y="364500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tis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5594760" y="364500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212400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363528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5"/>
          <p:cNvSpPr/>
          <p:nvPr/>
        </p:nvSpPr>
        <p:spPr>
          <a:xfrm>
            <a:off x="514836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6"/>
          <p:cNvSpPr/>
          <p:nvPr/>
        </p:nvSpPr>
        <p:spPr>
          <a:xfrm>
            <a:off x="673272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7"/>
          <p:cNvSpPr/>
          <p:nvPr/>
        </p:nvSpPr>
        <p:spPr>
          <a:xfrm>
            <a:off x="7524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8"/>
          <p:cNvSpPr/>
          <p:nvPr/>
        </p:nvSpPr>
        <p:spPr>
          <a:xfrm>
            <a:off x="395280" y="260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586872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435744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294156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134928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76000" y="981000"/>
            <a:ext cx="714852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alibri"/>
              </a:rPr>
              <a:t>Identification system for spatial address point</a:t>
            </a:r>
            <a:r>
              <a:rPr b="1" lang="pl-PL" sz="20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28800" y="3000240"/>
            <a:ext cx="1234800" cy="47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XXXXX X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411280" y="2997360"/>
            <a:ext cx="1235160" cy="460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YYYYY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24360" y="2997360"/>
            <a:ext cx="1235160" cy="460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RRRRR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5435640" y="2997360"/>
            <a:ext cx="1235160" cy="460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UU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6948360" y="2924280"/>
            <a:ext cx="57492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7740720" y="2924280"/>
            <a:ext cx="5745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w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937440" y="3645000"/>
            <a:ext cx="134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2664720" y="3645000"/>
            <a:ext cx="9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ity, tow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067280" y="3645000"/>
            <a:ext cx="122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tis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5594760" y="364500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D of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212400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4"/>
          <p:cNvSpPr/>
          <p:nvPr/>
        </p:nvSpPr>
        <p:spPr>
          <a:xfrm>
            <a:off x="363528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514836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673272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7524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395280" y="260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8748720" y="2924280"/>
            <a:ext cx="21600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459640" y="2924280"/>
            <a:ext cx="21600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0"/>
          <p:cNvSpPr/>
          <p:nvPr/>
        </p:nvSpPr>
        <p:spPr>
          <a:xfrm>
            <a:off x="8317080" y="321300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586872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435744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4156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1349280" y="256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ymbol zastępczy daty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 lat Statystyki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ymbol zastępczy stopki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rektor Projektu: J. Dygaszewi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FA03-133A-4783-867E-41AA586D5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ymbol zastępczy daty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 lat Statystyki 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stopki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rektor Projektu: J. Dygaszewi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A769-1A52-4893-A046-1C6D94B8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ymbol zastępczy daty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 lat Statystyki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ymbol zastępczy stopki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rektor Projektu: J. Dygaszewi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83F-0529-4951-BB2D-55E5240085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daty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 lat Statystyki 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ymbol zastępczy stopki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rektor Projektu: J. Dygaszewi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EB2-DFF8-4ACB-A6D8-A97458F1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Obraz 7" descr="gniezno3e.jpg"/>
          <p:cNvPicPr/>
          <p:nvPr/>
        </p:nvPicPr>
        <p:blipFill>
          <a:blip r:embed="rId1"/>
          <a:stretch/>
        </p:blipFill>
        <p:spPr>
          <a:xfrm>
            <a:off x="0" y="0"/>
            <a:ext cx="96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Calibri"/>
              </a:rPr>
              <a:t>We expect that after the population census in 2011 spatial analysis, based on address point assignment, enable us to disseminate geostatistics data for more than 40 000 settlements in Po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Good cooper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between statistical servi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and register-keep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are crucial for integration of administrative dat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for statistical purpo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Instead of a conclusion</a:t>
            </a:r>
            <a:r>
              <a:rPr b="0" lang="pl-PL" sz="36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sus in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000" y="220500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200 thousands of  census enumer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150 mln of 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1 000 tons of 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t the end shred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ensus 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ensus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643280" y="2204640"/>
            <a:ext cx="404208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20 thousands of  census enumer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0 questionna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0 tons of 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ca.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mln €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bette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 more reliabl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tatistical survey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ymbol zastępczy numeru slajdu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E7B5-AFEA-4AA4-8518-313FEBC432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928800" cy="714240"/>
          </a:xfrm>
          <a:prstGeom prst="rect">
            <a:avLst/>
          </a:prstGeom>
          <a:ln w="0">
            <a:noFill/>
          </a:ln>
        </p:spPr>
      </p:pic>
      <p:pic>
        <p:nvPicPr>
          <p:cNvPr id="644" name="Obraz 10" descr="ludzie.jpg"/>
          <p:cNvPicPr/>
          <p:nvPr/>
        </p:nvPicPr>
        <p:blipFill>
          <a:blip r:embed="rId2"/>
          <a:stretch/>
        </p:blipFill>
        <p:spPr>
          <a:xfrm>
            <a:off x="3643200" y="2143080"/>
            <a:ext cx="908280" cy="682560"/>
          </a:xfrm>
          <a:prstGeom prst="rect">
            <a:avLst/>
          </a:prstGeom>
          <a:ln w="0">
            <a:noFill/>
          </a:ln>
        </p:spPr>
      </p:pic>
      <p:pic>
        <p:nvPicPr>
          <p:cNvPr id="645" name="Obraz 11" descr="formularze.jpg"/>
          <p:cNvPicPr/>
          <p:nvPr/>
        </p:nvPicPr>
        <p:blipFill>
          <a:blip r:embed="rId3"/>
          <a:stretch/>
        </p:blipFill>
        <p:spPr>
          <a:xfrm>
            <a:off x="3643200" y="2928960"/>
            <a:ext cx="928800" cy="619200"/>
          </a:xfrm>
          <a:prstGeom prst="rect">
            <a:avLst/>
          </a:prstGeom>
          <a:ln w="0">
            <a:noFill/>
          </a:ln>
        </p:spPr>
      </p:pic>
      <p:pic>
        <p:nvPicPr>
          <p:cNvPr id="646" name="Obraz 14" descr="odpadki.jpg"/>
          <p:cNvPicPr/>
          <p:nvPr/>
        </p:nvPicPr>
        <p:blipFill>
          <a:blip r:embed="rId4"/>
          <a:stretch/>
        </p:blipFill>
        <p:spPr>
          <a:xfrm>
            <a:off x="3564000" y="4781520"/>
            <a:ext cx="1004760" cy="808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6" descr="pda_mujer"/>
          <p:cNvPicPr/>
          <p:nvPr/>
        </p:nvPicPr>
        <p:blipFill>
          <a:blip r:embed="rId5"/>
          <a:stretch/>
        </p:blipFill>
        <p:spPr>
          <a:xfrm>
            <a:off x="7215120" y="2643120"/>
            <a:ext cx="10321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Data collection channels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dministrative sources –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luding spatial data reference regis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ON_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lf-enumeration by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( CAII – Computer Assisted Internet Intervie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lephone Interview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CATI - Computer Assisted Telephone Inter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ample survey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using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and-held terminals with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GPS and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GIS service – HTC Touch HD with GPS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( CAPI - Computer Assisted Personal Intervi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alibri"/>
              </a:rPr>
              <a:t>Central Statistical Office - Poland</a:t>
            </a:r>
            <a:endParaRPr b="0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89308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n-GB" sz="4400" spc="-1" strike="noStrike">
                <a:solidFill>
                  <a:srgbClr val="333399"/>
                </a:solidFill>
                <a:latin typeface="Calibri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Calibri"/>
              </a:rPr>
              <a:t>Janusz Dygaszewi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</a:rPr>
              <a:t>Central Statistical Office, Po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alibri"/>
              </a:rPr>
              <a:t>Director of Central Census Bur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.dygaszewicz@stat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Object 2"/>
          <p:cNvGraphicFramePr/>
          <p:nvPr/>
        </p:nvGraphicFramePr>
        <p:xfrm>
          <a:off x="179280" y="390600"/>
          <a:ext cx="8785440" cy="60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90600"/>
                    <a:ext cx="87854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ystem Architecture</a:t>
            </a:r>
            <a:r>
              <a:rPr b="1" lang="pl-PL" sz="3200" spc="-1" strike="noStrike">
                <a:solidFill>
                  <a:srgbClr val="0000ff"/>
                </a:solidFill>
                <a:latin typeface="Calibri"/>
                <a:ea typeface="Arial"/>
              </a:rPr>
              <a:t> – on-line channel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grpSp>
        <p:nvGrpSpPr>
          <p:cNvPr id="316" name="Grupa 3"/>
          <p:cNvGrpSpPr/>
          <p:nvPr/>
        </p:nvGrpSpPr>
        <p:grpSpPr>
          <a:xfrm>
            <a:off x="1500120" y="1857240"/>
            <a:ext cx="5621400" cy="4033800"/>
            <a:chOff x="1500120" y="1857240"/>
            <a:chExt cx="5621400" cy="4033800"/>
          </a:xfrm>
        </p:grpSpPr>
        <p:sp>
          <p:nvSpPr>
            <p:cNvPr id="317" name="Prostokąt zaokrąglony 4"/>
            <p:cNvSpPr/>
            <p:nvPr/>
          </p:nvSpPr>
          <p:spPr>
            <a:xfrm>
              <a:off x="5778720" y="4456080"/>
              <a:ext cx="1342800" cy="60300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A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Prostokąt zaokrąglony 5"/>
            <p:cNvSpPr/>
            <p:nvPr/>
          </p:nvSpPr>
          <p:spPr>
            <a:xfrm>
              <a:off x="4016160" y="5288040"/>
              <a:ext cx="1342800" cy="60300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A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Prostokąt zaokrąglony 6"/>
            <p:cNvSpPr/>
            <p:nvPr/>
          </p:nvSpPr>
          <p:spPr>
            <a:xfrm>
              <a:off x="1711080" y="3055680"/>
              <a:ext cx="1438200" cy="569880"/>
            </a:xfrm>
            <a:prstGeom prst="roundRect">
              <a:avLst>
                <a:gd name="adj" fmla="val 16667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3" descr="C:\Documents and Settings\pzebrowski\Moje dokumenty\Moje obrazy\Microsoft Clip Organizer\j0433861.png"/>
            <p:cNvPicPr/>
            <p:nvPr/>
          </p:nvPicPr>
          <p:blipFill>
            <a:blip r:embed="rId1"/>
            <a:stretch/>
          </p:blipFill>
          <p:spPr>
            <a:xfrm>
              <a:off x="3839040" y="5141520"/>
              <a:ext cx="41832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" descr="C:\Documents and Settings\pzebrowski\Moje dokumenty\Moje obrazy\Microsoft Clip Organizer\j0440108.png"/>
            <p:cNvPicPr/>
            <p:nvPr/>
          </p:nvPicPr>
          <p:blipFill>
            <a:blip r:embed="rId2"/>
            <a:stretch/>
          </p:blipFill>
          <p:spPr>
            <a:xfrm>
              <a:off x="5649840" y="4311000"/>
              <a:ext cx="378720" cy="4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rostokąt zaokrąglony 9"/>
            <p:cNvSpPr/>
            <p:nvPr/>
          </p:nvSpPr>
          <p:spPr>
            <a:xfrm>
              <a:off x="2103120" y="4459320"/>
              <a:ext cx="1436760" cy="5839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A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6" descr=""/>
            <p:cNvPicPr/>
            <p:nvPr/>
          </p:nvPicPr>
          <p:blipFill>
            <a:blip r:embed="rId3"/>
            <a:stretch/>
          </p:blipFill>
          <p:spPr>
            <a:xfrm>
              <a:off x="1500120" y="277776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Schemat blokowy: dysk magnetyczny 11"/>
            <p:cNvSpPr/>
            <p:nvPr/>
          </p:nvSpPr>
          <p:spPr>
            <a:xfrm>
              <a:off x="3944880" y="2909520"/>
              <a:ext cx="1498680" cy="922320"/>
            </a:xfrm>
            <a:prstGeom prst="flowChartMagneticDisk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Microdata 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Prostokąt zaokrąglony 12"/>
            <p:cNvSpPr/>
            <p:nvPr/>
          </p:nvSpPr>
          <p:spPr>
            <a:xfrm>
              <a:off x="3922560" y="1857240"/>
              <a:ext cx="1536480" cy="68076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Complete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7" descr="C:\Documents and Settings\pzebrowski\Moje dokumenty\Moje obrazy\Microsoft Clip Organizer\j0439798.png"/>
            <p:cNvPicPr/>
            <p:nvPr/>
          </p:nvPicPr>
          <p:blipFill>
            <a:blip r:embed="rId4"/>
            <a:stretch/>
          </p:blipFill>
          <p:spPr>
            <a:xfrm>
              <a:off x="1931040" y="435096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7" name="Łącznik łamany 20"/>
            <p:cNvCxnSpPr>
              <a:endCxn id="322" idx="3"/>
            </p:cNvCxnSpPr>
            <p:nvPr/>
          </p:nvCxnSpPr>
          <p:spPr>
            <a:xfrm rot="5400000">
              <a:off x="3426480" y="3920760"/>
              <a:ext cx="943560" cy="7178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Łącznik prosty ze strzałką 15"/>
            <p:cNvCxnSpPr>
              <a:stCxn id="324" idx="3"/>
              <a:endCxn id="318" idx="0"/>
            </p:cNvCxnSpPr>
            <p:nvPr/>
          </p:nvCxnSpPr>
          <p:spPr>
            <a:xfrm flipH="1">
              <a:off x="4687200" y="3832200"/>
              <a:ext cx="6840" cy="1456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9" name="Łącznik łamany 26"/>
            <p:cNvCxnSpPr>
              <a:endCxn id="317" idx="1"/>
            </p:cNvCxnSpPr>
            <p:nvPr/>
          </p:nvCxnSpPr>
          <p:spPr>
            <a:xfrm flipH="1" rot="16200000">
              <a:off x="4978800" y="3958920"/>
              <a:ext cx="942120" cy="65628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0" name="Łącznik prosty ze strzałką 17"/>
            <p:cNvCxnSpPr>
              <a:stCxn id="325" idx="2"/>
              <a:endCxn id="324" idx="1"/>
            </p:cNvCxnSpPr>
            <p:nvPr/>
          </p:nvCxnSpPr>
          <p:spPr>
            <a:xfrm>
              <a:off x="4691160" y="2537640"/>
              <a:ext cx="3600" cy="371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Łącznik prosty ze strzałką 18"/>
            <p:cNvCxnSpPr>
              <a:endCxn id="322" idx="0"/>
            </p:cNvCxnSpPr>
            <p:nvPr/>
          </p:nvCxnSpPr>
          <p:spPr>
            <a:xfrm flipH="1">
              <a:off x="2822040" y="3617280"/>
              <a:ext cx="2160" cy="842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32" name="Łącznik łamany 19"/>
            <p:cNvCxnSpPr>
              <a:endCxn id="325" idx="1"/>
            </p:cNvCxnSpPr>
            <p:nvPr/>
          </p:nvCxnSpPr>
          <p:spPr>
            <a:xfrm flipV="1">
              <a:off x="2815560" y="2197800"/>
              <a:ext cx="1107000" cy="851400"/>
            </a:xfrm>
            <a:prstGeom prst="bentConnector3">
              <a:avLst>
                <a:gd name="adj1" fmla="val 1626"/>
              </a:avLst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333" name="Symbol zastępczy numeru slajdu 20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A2C9-5721-4B44-BD8C-B20DB559F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Arial"/>
              </a:rPr>
              <a:t>Supervisor</a:t>
            </a:r>
            <a:r>
              <a:rPr b="1" lang="pl-PL" sz="3600" spc="-1" strike="noStrike">
                <a:solidFill>
                  <a:srgbClr val="0000ff"/>
                </a:solidFill>
                <a:latin typeface="Arial"/>
                <a:ea typeface="Arial"/>
              </a:rPr>
              <a:t> – main actor</a:t>
            </a:r>
            <a:r>
              <a:rPr b="1" lang="pl-PL" sz="36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dress Point and Census Are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ata acquisition method choic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(chann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umerato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ensus Area ass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dress point ass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kday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FAE-238C-4CC4-84A1-BA43D1FE27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Object 2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3"/>
          <p:cNvGraphicFramePr/>
          <p:nvPr/>
        </p:nvGraphicFramePr>
        <p:xfrm>
          <a:off x="142920" y="1089000"/>
          <a:ext cx="8856720" cy="55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1089000"/>
                    <a:ext cx="885672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Rectangle 5">
            <a:hlinkClick r:id="" action="ppaction://hlinkshowjump?jump=nextslide"/>
          </p:cNvPr>
          <p:cNvSpPr/>
          <p:nvPr/>
        </p:nvSpPr>
        <p:spPr>
          <a:xfrm>
            <a:off x="7632720" y="2276640"/>
            <a:ext cx="1295280" cy="18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0" y="0"/>
          <a:ext cx="9144000" cy="2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AutoShape 10"/>
          <p:cNvSpPr/>
          <p:nvPr/>
        </p:nvSpPr>
        <p:spPr>
          <a:xfrm>
            <a:off x="5786280" y="3643200"/>
            <a:ext cx="2233800" cy="863640"/>
          </a:xfrm>
          <a:prstGeom prst="wedgeRectCallout">
            <a:avLst>
              <a:gd name="adj1" fmla="val 53768"/>
              <a:gd name="adj2" fmla="val -1856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ress point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Arial"/>
              </a:rPr>
              <a:t>Supervisor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estionnaire completenes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umerator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ensus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calization and tr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ensus completeness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mergency situa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viding help for enume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iding necessar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formation to enum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0B55-F5BD-4400-A644-C662EF25B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0:05:21Z</dcterms:created>
  <dc:creator>Paweł Żebrowski</dc:creator>
  <dc:description/>
  <dc:language>en-US</dc:language>
  <cp:lastModifiedBy>Dygaszewicz Janusz</cp:lastModifiedBy>
  <dcterms:modified xsi:type="dcterms:W3CDTF">2009-10-29T22:20:30Z</dcterms:modified>
  <cp:revision>98</cp:revision>
  <dc:subject/>
  <dc:title>Slajd 1</dc:title>
</cp:coreProperties>
</file>