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71ECF7-7E28-41B2-A0ED-D360361A75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B0C050-66E2-4B26-8EE2-0DA70626B0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D751C2-F62C-44E0-8308-CE2949753A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F73C84-0AC0-4759-AA44-4929213C05A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033475-F0DC-46C6-BE5B-14B0F7F89B4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887F1B-770C-42EB-B1EA-AEB157F1E5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F9CE6A-EFF5-4F1E-A85F-FF188911D5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2D7D87-5109-409F-8A22-9FAD3C39E3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37A500-0B6B-4CC9-B286-9EEABD2FB5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AE33E9-0ABF-4766-9188-1FA5A7AEA7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B4D2AF-4994-4ADA-9BE1-13D8F0C742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D83AD7-FB97-4273-BEC9-583B14825A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DAF62-B1A3-4E28-BE2F-927BFFD773BC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rcRect l="32451" t="18532" r="0" b="6004"/>
          <a:stretch/>
        </p:blipFill>
        <p:spPr>
          <a:xfrm>
            <a:off x="-4680" y="0"/>
            <a:ext cx="1619280" cy="68659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0" y="340200"/>
            <a:ext cx="15476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Arial"/>
              </a:rPr>
              <a:t>Geneva, </a:t>
            </a:r>
            <a:br>
              <a:rPr sz="1400"/>
            </a:br>
            <a:r>
              <a:rPr b="1" lang="it-IT" sz="1400" spc="-1" strike="noStrike">
                <a:solidFill>
                  <a:srgbClr val="ffffff"/>
                </a:solidFill>
                <a:latin typeface="Arial"/>
              </a:rPr>
              <a:t>30 October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978200" y="6477120"/>
            <a:ext cx="47559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066680" y="838080"/>
            <a:ext cx="80773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rcRect l="32472" t="18527" r="0" b="6009"/>
          <a:stretch/>
        </p:blipFill>
        <p:spPr>
          <a:xfrm>
            <a:off x="-4680" y="0"/>
            <a:ext cx="1619280" cy="686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838080"/>
            <a:ext cx="1616040" cy="0"/>
          </a:xfrm>
          <a:prstGeom prst="line">
            <a:avLst/>
          </a:prstGeom>
          <a:ln w="9360">
            <a:solidFill>
              <a:srgbClr val="99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33360" y="419040"/>
            <a:ext cx="866880" cy="2523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978200" y="5073480"/>
            <a:ext cx="6621120" cy="8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ddddd"/>
                </a:solidFill>
                <a:latin typeface="Arial"/>
              </a:rPr>
              <a:t>Giuseppe Sindoni, Istat, Ita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78200" y="1079640"/>
            <a:ext cx="6926040" cy="19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n online system for multi-channel, 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register-based census data collection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614240" y="274680"/>
            <a:ext cx="7256520" cy="490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anagement system: us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001600" y="1600200"/>
            <a:ext cx="6684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STAT: Central and Regional offic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ensus organizations: Municipal Census Back Office, coordinators and enume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Other organizations: e.g. the company in charge of printing and mailing questionnair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036880" y="274680"/>
            <a:ext cx="6649920" cy="14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Management and monitoring system: main fun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047680" y="2252520"/>
            <a:ext cx="6638760" cy="387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ensus tract stat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mmary repo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perator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Questionnair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901800"/>
            <a:ext cx="9144000" cy="550044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4471920" y="2955960"/>
            <a:ext cx="939960" cy="1139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471920" y="4684680"/>
            <a:ext cx="939960" cy="85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 rot="19383600">
            <a:off x="4498560" y="3192120"/>
            <a:ext cx="9255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uppressed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6" name=""/>
          <p:cNvSpPr txBox="1"/>
          <p:nvPr/>
        </p:nvSpPr>
        <p:spPr>
          <a:xfrm rot="19383600">
            <a:off x="4422600" y="4843440"/>
            <a:ext cx="9255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uppressed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952640" y="274320"/>
            <a:ext cx="67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chnical fea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952640" y="1600200"/>
            <a:ext cx="6734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ree layer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DBMS - application server -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del-View-Controller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Java Enterprise Edition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rvlet + Java Server P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066680" y="838080"/>
            <a:ext cx="80773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rcRect l="32472" t="18527" r="0" b="6009"/>
          <a:stretch/>
        </p:blipFill>
        <p:spPr>
          <a:xfrm>
            <a:off x="-4680" y="0"/>
            <a:ext cx="1619280" cy="68659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0" y="838080"/>
            <a:ext cx="1616040" cy="0"/>
          </a:xfrm>
          <a:prstGeom prst="line">
            <a:avLst/>
          </a:prstGeom>
          <a:ln w="9360">
            <a:solidFill>
              <a:srgbClr val="99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333360" y="419040"/>
            <a:ext cx="866880" cy="25236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2031840" y="1258920"/>
            <a:ext cx="6809040" cy="24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dddddd"/>
                </a:solidFill>
                <a:latin typeface="Arial"/>
              </a:rPr>
              <a:t>Final though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dddddd"/>
                </a:solidFill>
                <a:latin typeface="Arial"/>
              </a:rPr>
              <a:t>Very difficult to assess the right usability issues for the questionna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dddddd"/>
                </a:solidFill>
                <a:latin typeface="Arial"/>
              </a:rPr>
              <a:t>The pilot will probably provide a lot of feedback on user satisfaction, from both households and municipal back offic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846080" y="96480"/>
            <a:ext cx="684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Generalized system for questionnaire structure defi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977840" y="1600200"/>
            <a:ext cx="6708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esktop appl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teractive editor for section structure, questions and fiel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erequisite: DB to store micro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utomatic generation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JSP p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.jar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977840" y="274320"/>
            <a:ext cx="6708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Web application framewor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013120" y="1600200"/>
            <a:ext cx="6673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asic functions to run an on line questionna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er interaction flow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Validation rule configu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Validation rule exec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B inter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930320" y="274320"/>
            <a:ext cx="675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ule-based valid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001600" y="1600200"/>
            <a:ext cx="6684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asic valid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ield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datory fiel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usiness” ru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ange chec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ter-field logical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lient-side validation based on Java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f JS disabled -&gt; server-side valid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64880" y="274320"/>
            <a:ext cx="67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ustom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013120" y="1600200"/>
            <a:ext cx="6673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Java script and server-side based custom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JSP pages can be customized client-s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ew modules can be added to the web frame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952640" y="274320"/>
            <a:ext cx="67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latform independenc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964880" y="1600200"/>
            <a:ext cx="6721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ased on Java and relational technolog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uns on any platform where the Tomcat application server is avail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917360" y="96480"/>
            <a:ext cx="676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Italian Census 2011: organization contex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000160" y="1600200"/>
            <a:ext cx="6686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uropean reg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N. 763/2008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, 09/07/20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Variables and classif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eadline for data deliver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1 April 20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69760" y="274680"/>
            <a:ext cx="7101000" cy="490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anagement system: </a:t>
            </a:r>
            <a:br>
              <a:rPr sz="3200"/>
            </a:b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operator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812600" y="927000"/>
            <a:ext cx="689940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The following functions are provide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dding and modifying personal information of municipal enumerators and coordina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ssignment of census tracts to enumera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ssignment of enumerators to coordina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ssignment of roles to opera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Monitoring operators’ acti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ccount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Municipal Census Office supervisors can autonomously organize their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828800" y="85320"/>
            <a:ext cx="7042320" cy="10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anagement system: </a:t>
            </a:r>
            <a:br>
              <a:rPr sz="3200"/>
            </a:b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operator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812600" y="1590840"/>
            <a:ext cx="6899400" cy="46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ISTAT will provide Municipal Offices with the supervisor/s accounts, which will be enabled to all operator management fun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Each account will be linked to an individual opera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14240" y="274680"/>
            <a:ext cx="7256520" cy="490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anagement system: </a:t>
            </a:r>
            <a:br>
              <a:rPr sz="3200"/>
            </a:b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ensus tract stat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812600" y="1306440"/>
            <a:ext cx="6899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The following functions are availab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Census tract journal visualization and print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Census tract journal upd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Auxiliary form visu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Auxiliary form upd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Enumerators’ daily work can be guided and targeted through census tract status contro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863360" y="84240"/>
            <a:ext cx="7007400" cy="490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anagement system: </a:t>
            </a:r>
            <a:br>
              <a:rPr sz="3200"/>
            </a:b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ummary repo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812600" y="1214280"/>
            <a:ext cx="6899400" cy="50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The following functions are provide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Visualization of summary reports on collection progress at the census tract level of deta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Monitoring multi-channel coll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Visualization of aggregated data on collection resul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14240" y="74160"/>
            <a:ext cx="7256520" cy="49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anagement system: </a:t>
            </a:r>
            <a:br>
              <a:rPr sz="3200"/>
            </a:b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questionnair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812600" y="1244520"/>
            <a:ext cx="68994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The following functions are provide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ersonal data change visu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ndividual questionnaire visu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Questionnaire or additional individual form pri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ostal reception regist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Monitoring postal delivery stat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02880" y="74160"/>
            <a:ext cx="7067880" cy="49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anagement system: </a:t>
            </a:r>
            <a:br>
              <a:rPr sz="3200"/>
            </a:b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on line 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812600" y="1305000"/>
            <a:ext cx="6899400" cy="49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The following documents will be availab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urvey instru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User man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FA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Training materi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066680" y="838080"/>
            <a:ext cx="80773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857240" y="233280"/>
            <a:ext cx="6642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What’s new for the 2011 Population Census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838080"/>
            <a:ext cx="16160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048040" y="6329520"/>
            <a:ext cx="7197480" cy="28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7880400" y="6477120"/>
            <a:ext cx="841320" cy="2444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2286000" y="1162080"/>
            <a:ext cx="67197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se of street numbers in field ope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usiness and household geocoding to the census 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se of administrative arch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ew questionnaire delivery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sonalised questionnai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ail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ew methods and survey techniq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ensus ar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hort and long for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ulti-channel collec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lexible organisation net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ownsized municipal front-office =&gt; Stronger back-off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opulation-based different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numerator guidan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835280" y="27432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ensus pilo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846080" y="1600200"/>
            <a:ext cx="6840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arted 25 October 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ratified s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31 municipa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bout 80,000 househol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bout 195,000 peo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6 survey schemes to be tested on different types of municipaliti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800000" y="274320"/>
            <a:ext cx="6886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his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798560" y="1600200"/>
            <a:ext cx="688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rchitecture of the web-based collection and management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echnical characteris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online questionna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Census Management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979280" y="274320"/>
            <a:ext cx="6707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ystem archite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433520" y="1430280"/>
            <a:ext cx="7666200" cy="54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77840" y="96480"/>
            <a:ext cx="6708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On line questionnaire: 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main featu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976400" y="1600200"/>
            <a:ext cx="671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eneralized system for questionnaire structure defin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eb application frame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mplements rule-based validation, both client and server s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Java script and server-side based custom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latform independ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30320" y="252000"/>
            <a:ext cx="675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The management and monitoring syste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928880" y="1837800"/>
            <a:ext cx="6757920" cy="428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imed at simplifying back-office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eeded to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nage the day-to-day work of enumer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nitor multi-channel data coll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828800" y="274680"/>
            <a:ext cx="704232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Management system: </a:t>
            </a:r>
            <a:br>
              <a:rPr sz="3600"/>
            </a:b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access mo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977840" y="1600200"/>
            <a:ext cx="6708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Access through a web s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cess management allows to define user profiles with authorizations depending on user tasks, also by territorial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ach user will be given a role, that is a set of allowed fun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7T08:48:51Z</dcterms:created>
  <dc:creator>Giuseppe Sindoni</dc:creator>
  <dc:description/>
  <dc:language>en-US</dc:language>
  <cp:lastModifiedBy>sindoni</cp:lastModifiedBy>
  <dcterms:modified xsi:type="dcterms:W3CDTF">2009-10-29T09:19:52Z</dcterms:modified>
  <cp:revision>128</cp:revision>
  <dc:subject/>
  <dc:title>Implicazioni tecnologiche delle innovazioni censuarie</dc:title>
</cp:coreProperties>
</file>