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14.wmf" ContentType="image/x-wmf"/>
  <Override PartName="/ppt/media/image11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365616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6561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616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71b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71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71bb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rebuchet MS"/>
              </a:rPr>
              <a:t>www.scotlandscensus.gov.uk </a:t>
            </a:r>
            <a:br>
              <a:rPr sz="4500"/>
            </a:br>
            <a:br>
              <a:rPr sz="45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avin Ro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formation Systems Development Manag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eneral Register Office for Scotland</a:t>
            </a:r>
            <a:endParaRPr b="0" lang="en-US" sz="28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8436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19922" t="25904" r="16954" b="8985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791" b="0"/>
          <a:stretch/>
        </p:blipFill>
        <p:spPr>
          <a:xfrm>
            <a:off x="250920" y="620640"/>
            <a:ext cx="860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9000" cy="9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882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21407" t="11230" r="20079" b="5080"/>
          <a:stretch/>
        </p:blipFill>
        <p:spPr>
          <a:xfrm>
            <a:off x="2124000" y="115920"/>
            <a:ext cx="4897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61214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46019" r="0" b="-3848"/>
          <a:stretch/>
        </p:blipFill>
        <p:spPr>
          <a:xfrm>
            <a:off x="611280" y="549360"/>
            <a:ext cx="7561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1bb"/>
                </a:solidFill>
                <a:latin typeface="Trebuchet MS"/>
              </a:rPr>
              <a:t>Conclusions</a:t>
            </a: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Trebuchet MS"/>
              </a:rPr>
              <a:t>Develop an online questionnaire to meet the expectations of the public - they expect a level of sophistication and intelligence to ease respondent burden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Trebuchet MS"/>
              </a:rPr>
              <a:t>Consider the design of both the paper and online questionnaire together – differences are acceptable but assumptions which apply to paper may not be relevant online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b"/>
                </a:solidFill>
                <a:latin typeface="Trebuchet MS"/>
              </a:rPr>
              <a:t>Test test test – including interfaces to “downstream” and data processing </a:t>
            </a: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1bb"/>
                </a:solidFill>
                <a:latin typeface="Trebuchet MS"/>
              </a:rPr>
              <a:t>www.scotlandscensus.gov.uk</a:t>
            </a:r>
            <a:endParaRPr b="0" lang="en-US" sz="3600" spc="-1" strike="noStrike">
              <a:solidFill>
                <a:srgbClr val="0071bb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1bb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1bb"/>
                </a:solidFill>
                <a:latin typeface="Trebuchet MS"/>
              </a:rPr>
              <a:t>www.cunntas-sluaigh.gov.uk</a:t>
            </a:r>
            <a:endParaRPr b="0" lang="en-US" sz="3600" spc="-1" strike="noStrike">
              <a:solidFill>
                <a:srgbClr val="0071bb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453708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692360" y="3933720"/>
            <a:ext cx="59022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209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5576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1b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b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59:12Z</dcterms:created>
  <dc:creator>Gavin Ross</dc:creator>
  <dc:description/>
  <dc:language>en-US</dc:language>
  <cp:lastModifiedBy>Gavin Ross</cp:lastModifiedBy>
  <cp:lastPrinted>2008-09-19T10:44:59Z</cp:lastPrinted>
  <dcterms:modified xsi:type="dcterms:W3CDTF">2009-10-23T12:29:08Z</dcterms:modified>
  <cp:revision>8</cp:revision>
  <dc:subject/>
  <dc:title>www.scotlandscensus.gov.uk   Gavin Ross Information Systems Development Manager </dc:title>
</cp:coreProperties>
</file>