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Hypercube.svg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File:Palais_des_nations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Math_lecture_at_TKK.JPG" TargetMode="External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rliamentlive.tv/Main/Live.aspx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c-h-w.com/imgs/pl-greathall13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ivilPartnershipFlyer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8655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UN-ECE/EUROSTAT MEETING ON POPULATION AND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VA, 28-30 MAY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ING USER NEEDS FOR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1 UK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AN WH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ffice for National Statistic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ED KNG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1731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GE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9240" y="1211400"/>
            <a:ext cx="829476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11 Census geography – minimum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gt; 5 per cent of OAs  (merges and spl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gt; 0.5 per cent of Middle Level SO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5976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GE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843280" cy="417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236600"/>
            <a:ext cx="61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001 Census 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126,000 Enumeration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200-350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Outpu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23,000 Output Areas (O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arget size 125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minimum size 40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 Output Areas (SO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Lower) 2,000-3,000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Middle) 5,000-10,000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= LAU 2, NUTS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95008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ve areas (NUTS 1-5), plus parishes, urban areas, National Parks, Parliamentary constituencies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STICAL DISCLOSURE CONTRO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236600"/>
            <a:ext cx="601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11 Census methods und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swapping (pre-tabu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-imputation (pre-tabu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perturbation (post-tabu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ation criteria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n data u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/destination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areas and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Campaigns in the UK"/>
          <p:cNvPicPr/>
          <p:nvPr/>
        </p:nvPicPr>
        <p:blipFill>
          <a:blip r:embed="rId2"/>
          <a:stretch/>
        </p:blipFill>
        <p:spPr>
          <a:xfrm>
            <a:off x="5796000" y="1989000"/>
            <a:ext cx="3097080" cy="324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12000" y="5300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sulting wi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sers on final choi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tober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DISSE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11 outpu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 from 2001 C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ological and technological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estions – new derived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meta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s for post-census area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ssioned tables subject to statistical disclosure contro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restricted re-use and pub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DISSEMIN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consultation will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y of outputs via web-based hyperc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of hyperc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t-fit geograph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data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011 Census output will be the most complex and comprehensive set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pulation ever data produced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11 Census Output Strateg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565360"/>
            <a:ext cx="2513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11400"/>
            <a:ext cx="626580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11 Census consultation 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ic content and questionnaire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working partnerships with local auth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delivery and collection methods including online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geograp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products and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 disclosure control 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ourcing and address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difficult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age assessment and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87308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bi4"/>
          <p:cNvPicPr/>
          <p:nvPr/>
        </p:nvPicPr>
        <p:blipFill>
          <a:blip r:embed="rId3"/>
          <a:stretch/>
        </p:blipFill>
        <p:spPr>
          <a:xfrm>
            <a:off x="7020000" y="1341360"/>
            <a:ext cx="187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 SHAPING THE 2011 UK CENS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s of the 2001 Census and the lessons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of users of census 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obligations arising from EU census reg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ce and guidance of other international census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ing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lity and diversity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017960"/>
            <a:ext cx="374328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093080" y="1197000"/>
            <a:ext cx="1807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PE OF USER CONSUL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numeration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cal authority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ensus topics an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ass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nned tab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ographic bound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dit and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nfidentiality and disclosur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verage and data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issemination of outp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640480" y="1380960"/>
            <a:ext cx="303516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85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USER COMMUNITIES IN THE 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1832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utilit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s and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resear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and retai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rd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997360"/>
            <a:ext cx="3673440" cy="18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788000" y="1268280"/>
          <a:ext cx="1447560" cy="14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1268280"/>
                    <a:ext cx="14475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1320840"/>
            <a:ext cx="223200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inisterial reshuffle: Full list"/>
          <p:cNvPicPr/>
          <p:nvPr/>
        </p:nvPicPr>
        <p:blipFill>
          <a:blip r:embed="rId7"/>
          <a:stretch/>
        </p:blipFill>
        <p:spPr>
          <a:xfrm>
            <a:off x="4932360" y="4941720"/>
            <a:ext cx="3527280" cy="172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23960" y="6037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LTATION FORU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Final judicial business of the House of Lord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3240000" cy="161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great hal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852640"/>
            <a:ext cx="3240000" cy="1879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12536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liamentary Commit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sus Advisory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cal Authority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ail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 community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lateral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blic consultation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tion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s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new"/>
          <p:cNvPicPr/>
          <p:nvPr/>
        </p:nvPicPr>
        <p:blipFill>
          <a:blip r:embed="rId6"/>
          <a:stretch/>
        </p:blipFill>
        <p:spPr>
          <a:xfrm>
            <a:off x="5580000" y="4869000"/>
            <a:ext cx="3168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THEMES FOR CONSUL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040" y="1268280"/>
            <a:ext cx="550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052640"/>
            <a:ext cx="7129440" cy="61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umeration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cal authority partne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ensus topics and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lass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nned tab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ographic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dit and i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identiality and disclosur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verage and data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ssemination of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1 UK CENSUS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52388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r and demonstrated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other comparabl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 for multivariat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ability with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blic acceptability and bu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dverse impact o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iable and accura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 of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d only for statistical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d by 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1 CENSUS QUESTION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users wan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9100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2001 Census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vil partnership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tize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ar of entry into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ded length of stay in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res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ype of central he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mber of bedro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xu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ype of dis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2305080" cy="1859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Photo"/>
          <p:cNvPicPr/>
          <p:nvPr/>
        </p:nvPicPr>
        <p:blipFill>
          <a:blip r:embed="rId4"/>
          <a:stretch/>
        </p:blipFill>
        <p:spPr>
          <a:xfrm>
            <a:off x="5580000" y="3141720"/>
            <a:ext cx="2376720" cy="170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651640" y="5013360"/>
            <a:ext cx="2305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GE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843280" cy="417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1236600"/>
            <a:ext cx="61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001 Census 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126,000 Enumeration Distr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200-350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Outpu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23,000 Output Areas (O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arget size 125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minimum size 40 househo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 Output Areas (SO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Lower) 2,000-3,000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Middle) 5,000-10,000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= LAU 2, NUTS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950080"/>
            <a:ext cx="921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11:33Z</dcterms:created>
  <dc:creator>Massingham</dc:creator>
  <dc:description/>
  <dc:language>en-US</dc:language>
  <cp:lastModifiedBy>white</cp:lastModifiedBy>
  <cp:lastPrinted>2004-11-17T14:19:20Z</cp:lastPrinted>
  <dcterms:modified xsi:type="dcterms:W3CDTF">2009-10-26T14:05:53Z</dcterms:modified>
  <cp:revision>330</cp:revision>
  <dc:subject/>
  <dc:title>No Slide Title</dc:title>
</cp:coreProperties>
</file>