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23760" y="-19440"/>
            <a:ext cx="2900160" cy="528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790440" y="-19440"/>
            <a:ext cx="2900520" cy="528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67932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3520" y="4649400"/>
            <a:ext cx="4879800" cy="43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23760" y="9241920"/>
            <a:ext cx="2900160" cy="528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790440" y="9241920"/>
            <a:ext cx="2900520" cy="5288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579D77-9A53-46AA-BB1C-0AE2A4D2DA7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790800" y="9242280"/>
            <a:ext cx="29005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2EE928-F561-4914-BB42-06A7B213275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77880" y="741240"/>
            <a:ext cx="5311800" cy="3676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3520" y="4649400"/>
            <a:ext cx="4879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90800" y="9242280"/>
            <a:ext cx="29005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A1BF5C-D182-4398-84DD-8C5E8604EC4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7932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3520" y="4649400"/>
            <a:ext cx="4879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790800" y="9242280"/>
            <a:ext cx="29005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2C1179-240C-4738-942A-D795EFB333B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77880" y="741240"/>
            <a:ext cx="5311800" cy="3676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3520" y="4649400"/>
            <a:ext cx="4879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790800" y="9242280"/>
            <a:ext cx="29005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5BDAFF-E053-4F3E-8863-6D6C410A73F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77880" y="741240"/>
            <a:ext cx="5311800" cy="3676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3520" y="4649400"/>
            <a:ext cx="48798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mographic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6360" y="1285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Arial"/>
              </a:rPr>
              <a:t>UN-ECE Work Session on </a:t>
            </a:r>
            <a:br>
              <a:rPr sz="3600"/>
            </a:br>
            <a:r>
              <a:rPr b="0" lang="en-GB" sz="3600" spc="-1" strike="noStrike">
                <a:solidFill>
                  <a:srgbClr val="a50021"/>
                </a:solidFill>
                <a:latin typeface="Arial"/>
              </a:rPr>
              <a:t>Population and Housing Censuse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28-30 October 2009, Geneva</a:t>
            </a:r>
            <a:br>
              <a:rPr sz="2000"/>
            </a:b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52560" y="2142720"/>
            <a:ext cx="7858080" cy="25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eting the needs of Census users in the UK’s private s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ith Dug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graphic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8000" y="428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3. Designing survey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he Census Sample of Anonymised Records is vital in helping us understand how many people to screen to find the target population, and thus estimate the cost of the surv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“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If we didn’t have access to microdata, our surveys would be less efficient and cost more, and be of lower qua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ine Moy, Director of Marketing Sciences, GfK 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Expressing users’ need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use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Society: Census &amp; Geodemographic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llers: Association of Census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d user companies: Demographics User Group (DU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Expressing needs - mechanism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ensus Advisory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ormal public consul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pecialist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b-based initiatives (good &amp; b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gress for 2011? Summarised in th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8000" y="428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Three recommendations </a:t>
            </a:r>
            <a:br>
              <a:rPr sz="4000"/>
            </a:b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- to benefit users (&amp; suppliers)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mprove understanding of users’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’s good to have Consultation (rather than “Stakeholder Management”!) – but aim for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ek a better Risk / Utilit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cognise practical (as well as statistical)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give up in the last 100 me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3% of the 2001 Census budget spent on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rginal costs of dissemination are very, ver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8000" y="356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  <a:ea typeface="Arial"/>
              </a:rPr>
              <a:t>Finally, O2 (Telefonica) speaking at this year’s DUG Conference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9240" y="2214720"/>
            <a:ext cx="5948280" cy="33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bsolute focus on customers &amp; customer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rallying cr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urning Customers into Fa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arsenal"/>
          <p:cNvPicPr/>
          <p:nvPr/>
        </p:nvPicPr>
        <p:blipFill>
          <a:blip r:embed="rId1"/>
          <a:stretch/>
        </p:blipFill>
        <p:spPr>
          <a:xfrm>
            <a:off x="6310440" y="2214720"/>
            <a:ext cx="34318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ith Dugmo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 Decisions Ltd.</a:t>
            </a:r>
            <a:br>
              <a:rPr sz="3200"/>
            </a:b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: (0044) 020 7834 09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ail: dugmore@demographic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: www.demographic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The Census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Users – especially commercial compani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Three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The UK Census Supplier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8000" y="17146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 Census Off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ange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rea tables (residents &amp; also wor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rea boundaries + postcode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ssion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s of anonymised reco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s Act 2007, &amp; its Code of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 that serve the public goo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le 1: “Meeting User Nee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User communitie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c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cademic resear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+ Citiz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542880"/>
            <a:ext cx="9510480" cy="5530680"/>
            <a:chOff x="0" y="542880"/>
            <a:chExt cx="9510480" cy="5530680"/>
          </a:xfrm>
        </p:grpSpPr>
        <p:sp>
          <p:nvSpPr>
            <p:cNvPr id="56" name="Rectangle 7"/>
            <p:cNvSpPr/>
            <p:nvPr/>
          </p:nvSpPr>
          <p:spPr>
            <a:xfrm>
              <a:off x="1411920" y="5708880"/>
              <a:ext cx="10321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1726920" y="5708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3079080" y="5708880"/>
              <a:ext cx="10216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3387240" y="5708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6238080" y="5708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2"/>
            <p:cNvGrpSpPr/>
            <p:nvPr/>
          </p:nvGrpSpPr>
          <p:grpSpPr>
            <a:xfrm>
              <a:off x="5007960" y="3139920"/>
              <a:ext cx="2864520" cy="2570040"/>
              <a:chOff x="5007960" y="3139920"/>
              <a:chExt cx="2864520" cy="2570040"/>
            </a:xfrm>
          </p:grpSpPr>
          <p:sp>
            <p:nvSpPr>
              <p:cNvPr id="62" name="Freeform 13"/>
              <p:cNvSpPr/>
              <p:nvPr/>
            </p:nvSpPr>
            <p:spPr>
              <a:xfrm flipH="1">
                <a:off x="5007600" y="3139920"/>
                <a:ext cx="2864520" cy="2570040"/>
              </a:xfrm>
              <a:custGeom>
                <a:avLst/>
                <a:gdLst>
                  <a:gd name="textAreaLeft" fmla="*/ -360 w 2864520"/>
                  <a:gd name="textAreaRight" fmla="*/ 2864520 w 2864520"/>
                  <a:gd name="textAreaTop" fmla="*/ 0 h 2570040"/>
                  <a:gd name="textAreaBottom" fmla="*/ 2570400 h 2570040"/>
                </a:gdLst>
                <a:ahLst/>
                <a:rect l="textAreaLeft" t="textAreaTop" r="textAreaRight" b="textAreaBottom"/>
                <a:pathLst>
                  <a:path w="1629" h="1360">
                    <a:moveTo>
                      <a:pt x="814" y="0"/>
                    </a:moveTo>
                    <a:lnTo>
                      <a:pt x="0" y="1360"/>
                    </a:lnTo>
                    <a:lnTo>
                      <a:pt x="1629" y="1360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14"/>
              <p:cNvSpPr/>
              <p:nvPr/>
            </p:nvSpPr>
            <p:spPr>
              <a:xfrm>
                <a:off x="5883840" y="3149280"/>
                <a:ext cx="1118160" cy="991800"/>
              </a:xfrm>
              <a:custGeom>
                <a:avLst/>
                <a:gdLst>
                  <a:gd name="textAreaLeft" fmla="*/ 0 w 1118160"/>
                  <a:gd name="textAreaRight" fmla="*/ 1118520 w 111816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1247" h="1031">
                    <a:moveTo>
                      <a:pt x="0" y="1031"/>
                    </a:moveTo>
                    <a:lnTo>
                      <a:pt x="623" y="0"/>
                    </a:lnTo>
                    <a:lnTo>
                      <a:pt x="1247" y="1031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15"/>
              <p:cNvSpPr/>
              <p:nvPr/>
            </p:nvSpPr>
            <p:spPr>
              <a:xfrm>
                <a:off x="6189840" y="3149280"/>
                <a:ext cx="511560" cy="453600"/>
              </a:xfrm>
              <a:custGeom>
                <a:avLst/>
                <a:gdLst>
                  <a:gd name="textAreaLeft" fmla="*/ 0 w 511560"/>
                  <a:gd name="textAreaRight" fmla="*/ 511920 w 51156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564" h="472">
                    <a:moveTo>
                      <a:pt x="0" y="472"/>
                    </a:moveTo>
                    <a:lnTo>
                      <a:pt x="278" y="0"/>
                    </a:lnTo>
                    <a:lnTo>
                      <a:pt x="564" y="472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6"/>
            <p:cNvSpPr/>
            <p:nvPr/>
          </p:nvSpPr>
          <p:spPr>
            <a:xfrm>
              <a:off x="0" y="542880"/>
              <a:ext cx="95104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7377480" y="4708800"/>
              <a:ext cx="2103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a50021"/>
                  </a:solidFill>
                  <a:latin typeface="Arial"/>
                </a:rPr>
                <a:t>Occasional 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823440" y="3695400"/>
              <a:ext cx="26222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a50021"/>
                  </a:solidFill>
                  <a:latin typeface="Arial"/>
                </a:rPr>
                <a:t>Mainstream Analy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526080" y="3192840"/>
              <a:ext cx="24534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a50021"/>
                  </a:solidFill>
                  <a:latin typeface="Arial"/>
                </a:rPr>
                <a:t>Census Speciali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3015720" y="4680360"/>
              <a:ext cx="1148400" cy="1029960"/>
              <a:chOff x="3015720" y="4680360"/>
              <a:chExt cx="1148400" cy="1029960"/>
            </a:xfrm>
          </p:grpSpPr>
          <p:sp>
            <p:nvSpPr>
              <p:cNvPr id="70" name="Freeform 21"/>
              <p:cNvSpPr/>
              <p:nvPr/>
            </p:nvSpPr>
            <p:spPr>
              <a:xfrm flipH="1">
                <a:off x="3015720" y="4680360"/>
                <a:ext cx="1148400" cy="1029960"/>
              </a:xfrm>
              <a:custGeom>
                <a:avLst/>
                <a:gdLst>
                  <a:gd name="textAreaLeft" fmla="*/ 360 w 1148400"/>
                  <a:gd name="textAreaRight" fmla="*/ 1149120 w 1148400"/>
                  <a:gd name="textAreaTop" fmla="*/ 0 h 1029960"/>
                  <a:gd name="textAreaBottom" fmla="*/ 1030320 h 1029960"/>
                </a:gdLst>
                <a:ahLst/>
                <a:rect l="textAreaLeft" t="textAreaTop" r="textAreaRight" b="textAreaBottom"/>
                <a:pathLst>
                  <a:path w="1629" h="1360">
                    <a:moveTo>
                      <a:pt x="814" y="0"/>
                    </a:moveTo>
                    <a:lnTo>
                      <a:pt x="0" y="1360"/>
                    </a:lnTo>
                    <a:lnTo>
                      <a:pt x="1629" y="1360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2"/>
              <p:cNvSpPr/>
              <p:nvPr/>
            </p:nvSpPr>
            <p:spPr>
              <a:xfrm>
                <a:off x="3366720" y="4683960"/>
                <a:ext cx="448200" cy="397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1247" h="1031">
                    <a:moveTo>
                      <a:pt x="0" y="1031"/>
                    </a:moveTo>
                    <a:lnTo>
                      <a:pt x="623" y="0"/>
                    </a:lnTo>
                    <a:lnTo>
                      <a:pt x="1247" y="1031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3"/>
              <p:cNvSpPr/>
              <p:nvPr/>
            </p:nvSpPr>
            <p:spPr>
              <a:xfrm>
                <a:off x="3489480" y="4683960"/>
                <a:ext cx="204840" cy="181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564" h="472">
                    <a:moveTo>
                      <a:pt x="0" y="472"/>
                    </a:moveTo>
                    <a:lnTo>
                      <a:pt x="278" y="0"/>
                    </a:lnTo>
                    <a:lnTo>
                      <a:pt x="564" y="472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24"/>
            <p:cNvGrpSpPr/>
            <p:nvPr/>
          </p:nvGrpSpPr>
          <p:grpSpPr>
            <a:xfrm>
              <a:off x="1640160" y="5196600"/>
              <a:ext cx="572760" cy="513720"/>
              <a:chOff x="1640160" y="5196600"/>
              <a:chExt cx="572760" cy="513720"/>
            </a:xfrm>
          </p:grpSpPr>
          <p:sp>
            <p:nvSpPr>
              <p:cNvPr id="74" name="Freeform 25"/>
              <p:cNvSpPr/>
              <p:nvPr/>
            </p:nvSpPr>
            <p:spPr>
              <a:xfrm flipH="1">
                <a:off x="1639800" y="5196600"/>
                <a:ext cx="572760" cy="513720"/>
              </a:xfrm>
              <a:custGeom>
                <a:avLst/>
                <a:gdLst>
                  <a:gd name="textAreaLeft" fmla="*/ -360 w 572760"/>
                  <a:gd name="textAreaRight" fmla="*/ 572760 w 572760"/>
                  <a:gd name="textAreaTop" fmla="*/ 0 h 513720"/>
                  <a:gd name="textAreaBottom" fmla="*/ 514080 h 513720"/>
                </a:gdLst>
                <a:ahLst/>
                <a:rect l="textAreaLeft" t="textAreaTop" r="textAreaRight" b="textAreaBottom"/>
                <a:pathLst>
                  <a:path w="1629" h="1360">
                    <a:moveTo>
                      <a:pt x="814" y="0"/>
                    </a:moveTo>
                    <a:lnTo>
                      <a:pt x="0" y="1360"/>
                    </a:lnTo>
                    <a:lnTo>
                      <a:pt x="1629" y="1360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1815480" y="5198400"/>
                <a:ext cx="223560" cy="19836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247" h="1031">
                    <a:moveTo>
                      <a:pt x="0" y="1031"/>
                    </a:moveTo>
                    <a:lnTo>
                      <a:pt x="623" y="0"/>
                    </a:lnTo>
                    <a:lnTo>
                      <a:pt x="1247" y="1031"/>
                    </a:lnTo>
                    <a:lnTo>
                      <a:pt x="0" y="103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1876680" y="5198400"/>
                <a:ext cx="102240" cy="907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64" h="472">
                    <a:moveTo>
                      <a:pt x="0" y="472"/>
                    </a:moveTo>
                    <a:lnTo>
                      <a:pt x="278" y="0"/>
                    </a:lnTo>
                    <a:lnTo>
                      <a:pt x="564" y="472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2"/>
          <p:cNvSpPr/>
          <p:nvPr/>
        </p:nvSpPr>
        <p:spPr>
          <a:xfrm>
            <a:off x="309600" y="642960"/>
            <a:ext cx="921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  <a:ea typeface="Arial"/>
              </a:rPr>
              <a:t>Census users – the growing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Straight Arrow Connector 21"/>
          <p:cNvCxnSpPr/>
          <p:nvPr/>
        </p:nvCxnSpPr>
        <p:spPr>
          <a:xfrm flipV="1">
            <a:off x="1594440" y="1856880"/>
            <a:ext cx="1080" cy="3858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angle 30"/>
          <p:cNvSpPr/>
          <p:nvPr/>
        </p:nvSpPr>
        <p:spPr>
          <a:xfrm>
            <a:off x="0" y="2714760"/>
            <a:ext cx="159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mbers of users, and their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952560" y="357120"/>
            <a:ext cx="81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Why is the Census so important to commercial companie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cisions, decisions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as are best for our new outle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branches should we clos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should we offer in each outl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hould we advert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re our best customers, and prosp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areas &amp; people should we surv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£00s millions investment to be targ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ed by strong analysis tea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122" descr="C:\My Documents\My Pictures\DUG 1.BMP"/>
          <p:cNvPicPr/>
          <p:nvPr/>
        </p:nvPicPr>
        <p:blipFill>
          <a:blip r:embed="rId1"/>
          <a:stretch/>
        </p:blipFill>
        <p:spPr>
          <a:xfrm>
            <a:off x="3581280" y="152280"/>
            <a:ext cx="2895840" cy="164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125" descr=""/>
          <p:cNvPicPr/>
          <p:nvPr/>
        </p:nvPicPr>
        <p:blipFill>
          <a:blip r:embed="rId2"/>
          <a:stretch/>
        </p:blipFill>
        <p:spPr>
          <a:xfrm>
            <a:off x="3881520" y="3071880"/>
            <a:ext cx="2514600" cy="11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26" descr=""/>
          <p:cNvPicPr/>
          <p:nvPr/>
        </p:nvPicPr>
        <p:blipFill>
          <a:blip r:embed="rId3"/>
          <a:stretch/>
        </p:blipFill>
        <p:spPr>
          <a:xfrm>
            <a:off x="1380960" y="3357720"/>
            <a:ext cx="1295640" cy="78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127" descr=""/>
          <p:cNvPicPr/>
          <p:nvPr/>
        </p:nvPicPr>
        <p:blipFill>
          <a:blip r:embed="rId4"/>
          <a:stretch/>
        </p:blipFill>
        <p:spPr>
          <a:xfrm>
            <a:off x="1309680" y="2000160"/>
            <a:ext cx="1590840" cy="92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28" descr=""/>
          <p:cNvPicPr/>
          <p:nvPr/>
        </p:nvPicPr>
        <p:blipFill>
          <a:blip r:embed="rId5"/>
          <a:stretch/>
        </p:blipFill>
        <p:spPr>
          <a:xfrm>
            <a:off x="7524720" y="5286240"/>
            <a:ext cx="1922400" cy="45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132" descr=""/>
          <p:cNvPicPr/>
          <p:nvPr/>
        </p:nvPicPr>
        <p:blipFill>
          <a:blip r:embed="rId6"/>
          <a:stretch/>
        </p:blipFill>
        <p:spPr>
          <a:xfrm>
            <a:off x="4191120" y="4191120"/>
            <a:ext cx="2038320" cy="653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133" descr=""/>
          <p:cNvPicPr/>
          <p:nvPr/>
        </p:nvPicPr>
        <p:blipFill>
          <a:blip r:embed="rId7"/>
          <a:stretch/>
        </p:blipFill>
        <p:spPr>
          <a:xfrm>
            <a:off x="4238640" y="2214720"/>
            <a:ext cx="1792440" cy="484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134" descr=""/>
          <p:cNvPicPr/>
          <p:nvPr/>
        </p:nvPicPr>
        <p:blipFill>
          <a:blip r:embed="rId8"/>
          <a:stretch/>
        </p:blipFill>
        <p:spPr>
          <a:xfrm>
            <a:off x="4738680" y="5500800"/>
            <a:ext cx="1454040" cy="60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135" descr="TCM_logo_RGB"/>
          <p:cNvPicPr/>
          <p:nvPr/>
        </p:nvPicPr>
        <p:blipFill>
          <a:blip r:embed="rId9"/>
          <a:stretch/>
        </p:blipFill>
        <p:spPr>
          <a:xfrm>
            <a:off x="1523880" y="5257800"/>
            <a:ext cx="1447920" cy="6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39" descr=""/>
          <p:cNvPicPr/>
          <p:nvPr/>
        </p:nvPicPr>
        <p:blipFill>
          <a:blip r:embed="rId10"/>
          <a:stretch/>
        </p:blipFill>
        <p:spPr>
          <a:xfrm>
            <a:off x="7095960" y="2428920"/>
            <a:ext cx="2438640" cy="41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boots"/>
          <p:cNvPicPr/>
          <p:nvPr/>
        </p:nvPicPr>
        <p:blipFill>
          <a:blip r:embed="rId11"/>
          <a:stretch/>
        </p:blipFill>
        <p:spPr>
          <a:xfrm>
            <a:off x="7453440" y="3429000"/>
            <a:ext cx="14396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8000" y="285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1. Analysing local market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052640" y="1744560"/>
            <a:ext cx="77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a50021"/>
                </a:solidFill>
                <a:latin typeface="Arial"/>
              </a:rPr>
              <a:t>2. Profiling households and individuals - geodemographics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237960" y="2392200"/>
          <a:ext cx="940608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2392200"/>
                    <a:ext cx="94060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05:35:30Z</dcterms:created>
  <dc:creator>Jenny Dugmore</dc:creator>
  <dc:description/>
  <dc:language>en-US</dc:language>
  <cp:lastModifiedBy>Keith Dugmore</cp:lastModifiedBy>
  <cp:lastPrinted>1997-10-17T11:56:50Z</cp:lastPrinted>
  <dcterms:modified xsi:type="dcterms:W3CDTF">2009-10-16T17:13:38Z</dcterms:modified>
  <cp:revision>411</cp:revision>
  <dc:subject/>
  <dc:title>Geodemographics and Lifestyles</dc:title>
</cp:coreProperties>
</file>