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1440" y="0"/>
            <a:ext cx="2949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8574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1440" y="9441000"/>
            <a:ext cx="2949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8425-E89F-4677-B276-9A866A2376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010-2595-48AE-821D-385FBE85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4FC-DC11-48AE-B50D-9730F7B0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B4E-32D9-4FFD-B15A-DF7B12BE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6BC-9F02-45B6-B733-78D67E90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E485-88F3-4053-A09B-2A732933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DD4-DF28-4670-852C-0DEC098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C340-F85A-4B3C-944B-38807BD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D840-3F49-4C32-A666-18C6DFD3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9576-E6D1-4DA8-9455-45E3575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5DF4-F328-40B0-8B88-9E66F215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BF8-C730-4DE2-A74D-6F44644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05B-E093-4070-8A05-B31CD0C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51AC-0749-473B-896E-CABB069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724B-F546-4BFE-993B-9C0AF6F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266B-073B-431C-94E9-507F503E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753B-10B0-417C-AEDD-A1802CF2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27A6-6211-4DBA-A1CD-897C6F9B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94E-C834-4A8C-92DA-B8BD222C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366-0F91-42DD-8219-274F98D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A59-7C27-4A78-AF2B-36FCB077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D81-E386-4A45-9FA8-004148FE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FE9-F32D-4FFD-BE07-0567D28C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2CC-A62C-4F30-8A92-4A4462C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805-C3BB-4EC4-978F-79DA3A7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4 October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CCFC-310D-44A0-B222-8C4B81B74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24000" y="638136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8-30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84C3-A795-459D-98A4-5CC2ABD0E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ality Assessment of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008 Integrated Census -  Israel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ina ZAD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Bureau of Statis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77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CAAA-8013-4B4E-90F1-BBC490C81F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cy verification during the 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arning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alarm to the interviewer to verify th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rror!”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ifying  the interviewer of an incorrect response preventing the  continuation of  the inter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correct control dig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Personal Identification Number (P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yet qua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der-count survey on line assessment test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A72-4A59-4361-97D7-C0FD9B4E67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2028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line audi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auditing of  the previous day data trans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of pre-defined queries, updated along the fiel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(100%) of  the questionnaires were aud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back was sent to the regional staff each morning (before the interviewers start their next day of wor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0C8-EEE3-4171-9284-A92BE1D08C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91920"/>
            <a:ext cx="8510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pes of queries - examp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d household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not obtained from interview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pping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ng critic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956-240F-4A7E-92A5-2EE400159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2028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line valid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matching with IPR to validate identification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given n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B2D-0C4F-4451-9E00-2131C38F9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 count survey -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phone interview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 all interviews , listening to a sample of previous days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gnito on line listening to a sample of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 conducts rare, repeated interviews for interviewers with miss con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625-F29B-42BF-90BA-A2ED1436E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7.2%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sponse rate to telephone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1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without telephones (no telephone registered on their name or a first kin such as parents, children, siblin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2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wrong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2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“no response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 count survey -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FA0-D608-49F4-8144-3813C6CF02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2.5 % - Census tract (full ad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4%  - Loc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1% - Unknown locality (deceased, abroad less than 12 months, locality’s name does not exist, un-known locality, refused to re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ver count survey –resolutions assess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575-77AE-4376-9F44-169329A298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ver count  survey secondary u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Under-count fiel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% of persons were omitted in the under-count survey (entire household omitted  or persons omitted from household questionnai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D5C-6890-4660-A5BA-F1FBA4E868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92280"/>
            <a:ext cx="85104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meli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over 6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ed proced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ing (9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ing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ing and imputation (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B60-312F-4039-B045-A47013BE29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765000"/>
            <a:ext cx="8510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meli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 results for localities -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wo month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ter completing of the field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-demographic results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en month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ter the field ope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AB2-D8C5-41CA-98B6-F0957C6800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ent of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grated census in a nut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Population Register (IPR)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 infrastructur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sample survey data collection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count survey data collection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ed procedures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469-D4E4-4F68-AFA3-F06DA9947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264360" cy="511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63640" y="285264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d4d4d"/>
                </a:solidFill>
                <a:latin typeface="Arial"/>
              </a:rPr>
              <a:t>Thank</a:t>
            </a:r>
            <a:r>
              <a:rPr b="1" lang="en-US" sz="5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4d4d4d"/>
                </a:solidFill>
                <a:latin typeface="Arial"/>
              </a:rPr>
              <a:t>You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BA1-734B-4BEA-80DB-71E4FAAF63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510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integrated census in a nutshel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register improved by administrative sources (IP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independent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 sample  to estimate under-count (CA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R sample to estimate over-count (CA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ing and im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ng weigh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demographic estim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90B-CA52-47AA-BEAF-150E25D758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1844640"/>
            <a:ext cx="85406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ccumulative register – nobody is de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e” persons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ol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ctive per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pected inacti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der control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Insurance Institut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0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mproved Register Qual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F2D-6A7C-487A-8B89-93F367073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488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PR Quality assessmen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– “active” person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million  “active”  records in the population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18,000  “active” persons, re-defined as “inactive”  in the IPR based on external administrative sour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.46% (33k) were miss-classified as “active” in IP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.04% (2.8k) were miss-classified as “inactive” in I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476-3E2E-41B3-9F48-EEB0C45F95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ctive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live in their IPR registered “statistical area” (census tra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% of the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ctive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live in their IPR locality in a different “statistical are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% of the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ctive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live in a different loc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1680" y="476280"/>
            <a:ext cx="8510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R Quality assessment -addr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57F-5E35-4702-81AF-C6DBBA9245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10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ographic infrastruc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15920"/>
            <a:ext cx="85406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ing Layer was frozen 18 months prior to under-count survey  data collection process (updated up to one year la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ing orientation  - 3694 land marks were added to the computerized ma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census enumeration updating of new residential buildings – 9032 (5%) buildings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B29-D22B-4B95-8567-0D9C969D1D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510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der-count survey qual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88640"/>
            <a:ext cx="8540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 less dwellings than expecte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cording to the number of administrative househ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3% of dwellings were intervie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% full questionn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 partial questionn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% refus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% no contact (un-occupied, closed, busi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1FC-0E0C-4BED-AB3A-E34091E33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 of the households were re-interviewed over the phone using a short questionnaire by a sup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are cases of misconduct (less than 0.5% in total) whenever possible they were re-interviewed on the full questionna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836640"/>
            <a:ext cx="8510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der-count survey qu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Geneva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B94-1717-4701-9B36-455A945C67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3:26:08Z</dcterms:created>
  <dc:creator>pninaz</dc:creator>
  <dc:description/>
  <dc:language>en-US</dc:language>
  <cp:lastModifiedBy>Pnina Tzadka</cp:lastModifiedBy>
  <dcterms:modified xsi:type="dcterms:W3CDTF">2009-10-26T05:13:40Z</dcterms:modified>
  <cp:revision>21</cp:revision>
  <dc:subject/>
  <dc:title>Record Linkage and Preference Procedures to Assure Quality in an Integrated Register Based Census </dc:title>
</cp:coreProperties>
</file>