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94DA0-3344-4779-974C-D46DF28DB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30304-1843-44B6-9D97-B1EA85EFE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5E43B-EBCE-4E5E-8360-E8A6B5242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345A8-87F0-4E31-8CBC-6C3390E50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97D0B-6CEE-492A-8EE5-FD9F112B4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DCFCB-8B65-4176-B8B2-683C36035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17B6C-2047-4936-97A3-077473649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EBDBB-188A-454B-86F5-C2FF1412E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58E9F-5AEE-4915-902F-70EF309BC0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24324-6EDA-469E-A405-59D209D52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9DD34-5C34-4689-AF4C-6B5D10445F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36DED-C4B7-4AD1-83A3-A904897D0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79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558200" y="81000"/>
            <a:ext cx="1519200" cy="201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504720"/>
            <a:ext cx="9112320" cy="0"/>
          </a:xfrm>
          <a:prstGeom prst="line">
            <a:avLst/>
          </a:prstGeom>
          <a:ln w="31680">
            <a:solidFill>
              <a:srgbClr val="186b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262560"/>
            <a:ext cx="9201240" cy="613080"/>
          </a:xfrm>
          <a:prstGeom prst="rect">
            <a:avLst/>
          </a:prstGeom>
          <a:solidFill>
            <a:srgbClr val="2a6b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455760" y="6380280"/>
            <a:ext cx="5736960" cy="341280"/>
          </a:xfrm>
          <a:prstGeom prst="rect">
            <a:avLst/>
          </a:prstGeom>
          <a:solidFill>
            <a:srgbClr val="dee7f5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1280" y="6381360"/>
            <a:ext cx="2133720" cy="343080"/>
          </a:xfrm>
          <a:prstGeom prst="rect">
            <a:avLst/>
          </a:prstGeom>
          <a:solidFill>
            <a:srgbClr val="dee7f5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CD98-2C47-43AC-9325-CE7084233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1440"/>
            <a:ext cx="4699080" cy="4334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19080">
            <a:solidFill>
              <a:srgbClr val="0067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35280" y="2130120"/>
            <a:ext cx="518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79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92000" y="1341000"/>
            <a:ext cx="5472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79a"/>
                </a:solidFill>
                <a:latin typeface="Verdana"/>
              </a:rPr>
              <a:t>SLOVENI</a:t>
            </a:r>
            <a:r>
              <a:rPr b="1" lang="sl-SI" sz="3200" spc="-1" strike="noStrike">
                <a:solidFill>
                  <a:srgbClr val="00679a"/>
                </a:solidFill>
                <a:latin typeface="Verdana"/>
              </a:rPr>
              <a:t>AN</a:t>
            </a:r>
            <a:r>
              <a:rPr b="1" lang="en-US" sz="3200" spc="-1" strike="noStrike">
                <a:solidFill>
                  <a:srgbClr val="00679a"/>
                </a:solidFill>
                <a:latin typeface="Verdana"/>
              </a:rPr>
              <a:t> REGISTER-BASED CENSUS – administrative versus statistical approach</a:t>
            </a:r>
            <a:endParaRPr b="0" lang="en-US" sz="32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924000" y="4508280"/>
            <a:ext cx="453708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Danilo Dolen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atistical</a:t>
            </a:r>
            <a:r>
              <a:rPr b="0" lang="sl-SI" sz="2500" spc="-1" strike="noStrike">
                <a:solidFill>
                  <a:srgbClr val="000000"/>
                </a:solidFill>
                <a:latin typeface="Verdana"/>
              </a:rPr>
              <a:t> Office of the Republic of Sloven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71640" y="2349360"/>
            <a:ext cx="338436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971640" y="1412640"/>
            <a:ext cx="172872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00360" y="1413000"/>
            <a:ext cx="16556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2565360"/>
            <a:ext cx="122400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Verdana"/>
                <a:ea typeface="Arial"/>
              </a:rPr>
              <a:t>DN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43280" y="2565360"/>
            <a:ext cx="122400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Verdana"/>
                <a:ea typeface="Arial"/>
              </a:rPr>
              <a:t>DN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58920" y="4365720"/>
            <a:ext cx="122400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Verdana"/>
                <a:ea typeface="Arial"/>
              </a:rPr>
              <a:t>D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12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43280" y="4365720"/>
            <a:ext cx="122400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Verdana"/>
                <a:ea typeface="Arial"/>
              </a:rPr>
              <a:t>D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19280" y="57340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ff00ff"/>
                </a:solidFill>
                <a:latin typeface="Verdana"/>
                <a:ea typeface="Arial"/>
              </a:rPr>
              <a:t>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43280" y="1989000"/>
          <a:ext cx="4175280" cy="3957840"/>
        </p:xfrm>
        <a:graphic>
          <a:graphicData uri="http://schemas.openxmlformats.org/drawingml/2006/table">
            <a:tbl>
              <a:tblPr/>
              <a:tblGrid>
                <a:gridCol w="741600"/>
                <a:gridCol w="720720"/>
                <a:gridCol w="2712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Verdana"/>
                          <a:ea typeface="Arial"/>
                        </a:rPr>
                        <a:t>D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Verdana"/>
                          <a:ea typeface="Arial"/>
                        </a:rPr>
                        <a:t>H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Verdana"/>
                          <a:ea typeface="Arial"/>
                        </a:rPr>
                        <a:t>RE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ference pers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ndchi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ference pers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ference pers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f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ference pers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2600" spc="-1" strike="noStrike">
                          <a:solidFill>
                            <a:srgbClr val="ff00ff"/>
                          </a:solidFill>
                          <a:latin typeface="Verdana"/>
                        </a:rPr>
                        <a:t>B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468360" y="62064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79a"/>
                </a:solidFill>
                <a:latin typeface="Verdana"/>
              </a:rPr>
              <a:t>Data integration - in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35280" y="17002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ff"/>
                </a:solidFill>
                <a:latin typeface="Arial"/>
              </a:rPr>
              <a:t>R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1413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ff"/>
                </a:solidFill>
                <a:latin typeface="Arial"/>
              </a:rPr>
              <a:t>H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71640" y="2349360"/>
            <a:ext cx="338436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971640" y="1412640"/>
            <a:ext cx="172872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1413000"/>
            <a:ext cx="16556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2565360"/>
            <a:ext cx="122400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Verdana"/>
                <a:ea typeface="Arial"/>
              </a:rPr>
              <a:t>DN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1 HH (x1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2565360"/>
            <a:ext cx="122400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sl-SI" sz="2800" spc="-1" strike="noStrike">
                <a:solidFill>
                  <a:srgbClr val="ff00ff"/>
                </a:solidFill>
                <a:latin typeface="Verdana"/>
                <a:ea typeface="Arial"/>
              </a:rPr>
              <a:t>DN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  <a:ea typeface="Arial"/>
              </a:rPr>
              <a:t>2 HH (x3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  <a:ea typeface="Arial"/>
              </a:rPr>
              <a:t>and x4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4365720"/>
            <a:ext cx="122400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sl-SI" sz="2800" spc="-1" strike="noStrike">
                <a:solidFill>
                  <a:srgbClr val="ff00ff"/>
                </a:solidFill>
                <a:latin typeface="Verdana"/>
                <a:ea typeface="Arial"/>
              </a:rPr>
              <a:t>D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12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  <a:ea typeface="Arial"/>
              </a:rPr>
              <a:t>Vaca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4365720"/>
            <a:ext cx="122400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Verdana"/>
                <a:ea typeface="Arial"/>
              </a:rPr>
              <a:t>D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1 HH (x 2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57340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ff00ff"/>
                </a:solidFill>
                <a:latin typeface="Verdana"/>
                <a:ea typeface="Arial"/>
              </a:rPr>
              <a:t>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00720" y="1557360"/>
          <a:ext cx="4392360" cy="3843360"/>
        </p:xfrm>
        <a:graphic>
          <a:graphicData uri="http://schemas.openxmlformats.org/drawingml/2006/table">
            <a:tbl>
              <a:tblPr/>
              <a:tblGrid>
                <a:gridCol w="720720"/>
                <a:gridCol w="2087280"/>
                <a:gridCol w="1584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Verdana"/>
                          <a:ea typeface="Arial"/>
                        </a:rPr>
                        <a:t>HH 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Verdana"/>
                          <a:ea typeface="Arial"/>
                        </a:rPr>
                        <a:t>RE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Verdana"/>
                          <a:ea typeface="Arial"/>
                        </a:rPr>
                        <a:t>FAMILY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ference pers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usband-wife with child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f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ference pers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ne m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X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ference pers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X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ference pers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ne father 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X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x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ndchi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468360" y="62064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79a"/>
                </a:solidFill>
                <a:latin typeface="Verdana"/>
              </a:rPr>
              <a:t>Data integration - out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7640" y="5516640"/>
            <a:ext cx="4392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* One-person household     ** Lone father househo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with other per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79a"/>
                </a:solidFill>
                <a:latin typeface="Verdana"/>
              </a:rPr>
              <a:t>Households quality assessment</a:t>
            </a: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Administrative obstacl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gis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Household data only for permanent resid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istical concepts versus administrative 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Definition of usual resid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No data on collective househol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onsistency of source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Relation to reference person and 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Relation to reference person and marital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ompleteness of source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Missing data on dwelling nu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79a"/>
                </a:solidFill>
                <a:latin typeface="Verdana"/>
              </a:rPr>
              <a:t>Households quality assessment</a:t>
            </a: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Statistical obstacl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ently established sour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t used for statistical purposes y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xity of relations in household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Multi-family househol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arability of the results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to previous censuses or current field surve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New concept/definition of househo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Underestimation of consensual un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‘’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Broken’’ househol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No reference per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Reference person is under certain 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79a"/>
                </a:solidFill>
                <a:latin typeface="Verdana"/>
              </a:rPr>
              <a:t>Results of test database</a:t>
            </a: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 derivation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of household/family ty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Simple rules – 80 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Complex criteria – 6 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Reasons for non-deri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without household number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– 4 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without relation to 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RP – 2 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Records with unknown relation to RP – 7 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ult records 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1 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79a"/>
                </a:solidFill>
                <a:latin typeface="Verdana"/>
              </a:rPr>
              <a:t>Improvement of the process</a:t>
            </a: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Introduction of quality indicator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Measuring every change of input da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Use of statistical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Setting up househol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Distinguish institutional household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Consensual unio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79a"/>
                </a:solidFill>
                <a:latin typeface="Verdana"/>
              </a:rPr>
              <a:t>Conclusion</a:t>
            </a: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uctural changes of size of household and types of families are expec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Huge increase of one-person househol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Focus on developing statistical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Improving quality in close coopeation with administrative sou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Feedback in aggregate fo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Common inter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79a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Slovenia is 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 example of change of main census metho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79a"/>
                </a:solidFill>
                <a:latin typeface="Verdana"/>
              </a:rPr>
              <a:t>First step – 2002 Census</a:t>
            </a: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Combined method of enume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Register based (data on persons onl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About 10 administrative and statistical sources have been us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Pre-printed questionnai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10 topics entirely taken from registers (not included in questionnaire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Complete field enumeration (</a:t>
            </a:r>
            <a:r>
              <a:rPr b="0" lang="sl-SI" sz="2600" spc="-1" strike="noStrike">
                <a:solidFill>
                  <a:srgbClr val="ff0000"/>
                </a:solidFill>
                <a:latin typeface="Verdana"/>
              </a:rPr>
              <a:t>dwellings</a:t>
            </a: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l-SI" sz="2600" spc="-1" strike="noStrike">
                <a:solidFill>
                  <a:srgbClr val="ff0000"/>
                </a:solidFill>
                <a:latin typeface="Verdana"/>
              </a:rPr>
              <a:t>households</a:t>
            </a: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l-SI" sz="2600" spc="-1" strike="noStrike">
                <a:solidFill>
                  <a:srgbClr val="0000ff"/>
                </a:solidFill>
                <a:latin typeface="Verdana"/>
              </a:rPr>
              <a:t>persons</a:t>
            </a: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 – only data not available in sourc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79a"/>
                </a:solidFill>
                <a:latin typeface="Verdana"/>
              </a:rPr>
              <a:t>Next step – new sources</a:t>
            </a: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Three main administrative 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ff"/>
                </a:solidFill>
                <a:latin typeface="Verdana"/>
              </a:rPr>
              <a:t>Person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ff"/>
                </a:solidFill>
                <a:latin typeface="Verdana"/>
              </a:rPr>
              <a:t>CPR – available since 1986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ff0000"/>
                </a:solidFill>
                <a:latin typeface="Verdana"/>
              </a:rPr>
              <a:t>Households</a:t>
            </a:r>
            <a:r>
              <a:rPr b="0" lang="sl-SI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Verdana"/>
              </a:rPr>
              <a:t>Household Register (electronic form since 2007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aper forms exit before – but not used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for statistical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ff0000"/>
                </a:solidFill>
                <a:latin typeface="Verdana"/>
              </a:rPr>
              <a:t>Dwell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Verdana"/>
              </a:rPr>
              <a:t>Real Estate Register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Established in 2007 by Surveying and Mapping Authority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79a"/>
                </a:solidFill>
                <a:latin typeface="Verdana"/>
              </a:rPr>
              <a:t>Sources by topic (1)</a:t>
            </a: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Verdana"/>
              </a:rPr>
              <a:t>About 30 sources are identifi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ff"/>
                </a:solidFill>
                <a:latin typeface="Verdana"/>
              </a:rPr>
              <a:t>POPULATION TOPI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entral Population Regis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gister of Foreign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002 Censu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tistical demographic surveys on birth and mig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ff"/>
                </a:solidFill>
                <a:latin typeface="Verdana"/>
              </a:rPr>
              <a:t>Identificators: </a:t>
            </a:r>
            <a:r>
              <a:rPr b="1" lang="en-US" sz="2600" spc="-1" strike="noStrike">
                <a:solidFill>
                  <a:srgbClr val="ff00ff"/>
                </a:solidFill>
                <a:latin typeface="Verdana"/>
              </a:rPr>
              <a:t>SID</a:t>
            </a:r>
            <a:r>
              <a:rPr b="1" lang="sl-SI" sz="2600" spc="-1" strike="noStrike">
                <a:solidFill>
                  <a:srgbClr val="ff00ff"/>
                </a:solidFill>
                <a:latin typeface="Verdana"/>
              </a:rPr>
              <a:t>*</a:t>
            </a:r>
            <a:r>
              <a:rPr b="1" lang="en-US" sz="2600" spc="-1" strike="noStrike">
                <a:solidFill>
                  <a:srgbClr val="ff00ff"/>
                </a:solidFill>
                <a:latin typeface="Verdana"/>
              </a:rPr>
              <a:t> and </a:t>
            </a:r>
            <a:r>
              <a:rPr b="1" lang="sl-SI" sz="2600" spc="-1" strike="noStrike">
                <a:solidFill>
                  <a:srgbClr val="ff00ff"/>
                </a:solidFill>
                <a:latin typeface="Verdana"/>
              </a:rPr>
              <a:t>BA</a:t>
            </a:r>
            <a:r>
              <a:rPr b="1" lang="en-US" sz="2600" spc="-1" strike="noStrike">
                <a:solidFill>
                  <a:srgbClr val="ff00ff"/>
                </a:solidFill>
                <a:latin typeface="Verdana"/>
              </a:rPr>
              <a:t>_DN</a:t>
            </a:r>
            <a:r>
              <a:rPr b="1" lang="sl-SI" sz="2600" spc="-1" strike="noStrike">
                <a:solidFill>
                  <a:srgbClr val="ff00ff"/>
                </a:solidFill>
                <a:latin typeface="Verdana"/>
              </a:rPr>
              <a:t>*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* SID – statistical identificator (substitute for PI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** BA – building addres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DN  - dwelling numbe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79a"/>
                </a:solidFill>
                <a:latin typeface="Verdana"/>
              </a:rPr>
              <a:t>Sources by topic (2)</a:t>
            </a: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000" spc="-1" strike="noStrike">
                <a:solidFill>
                  <a:srgbClr val="0000ff"/>
                </a:solidFill>
                <a:latin typeface="Verdana"/>
              </a:rPr>
              <a:t>ACTIV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tistical Register on Employ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Regis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employment Regis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tistical survey on stud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tistical survey on scholar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ome Tax Regis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atabase on Beneficiaries of Pension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cial and Health Security data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atabase on Social Benef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ff"/>
                </a:solidFill>
                <a:latin typeface="Verdana"/>
              </a:rPr>
              <a:t>Identificator: </a:t>
            </a:r>
            <a:r>
              <a:rPr b="1" lang="en-US" sz="2600" spc="-1" strike="noStrike">
                <a:solidFill>
                  <a:srgbClr val="ff00ff"/>
                </a:solidFill>
                <a:latin typeface="Verdana"/>
              </a:rPr>
              <a:t>SI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79a"/>
                </a:solidFill>
                <a:latin typeface="Verdana"/>
              </a:rPr>
              <a:t>Sources by topic (3)</a:t>
            </a: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000" spc="-1" strike="noStrike">
                <a:solidFill>
                  <a:srgbClr val="0000ff"/>
                </a:solidFill>
                <a:latin typeface="Verdana"/>
              </a:rPr>
              <a:t>EDUC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tistical Register on Employ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employment data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tistical survey on stud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tistical survey on scholar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tistical survey on graduates, master’s and 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ctoral gradu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002 Censu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neral and vocational matura examination databas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mber’s examination databa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ff"/>
                </a:solidFill>
                <a:latin typeface="Verdana"/>
              </a:rPr>
              <a:t>Identificator: </a:t>
            </a:r>
            <a:r>
              <a:rPr b="1" lang="en-US" sz="2600" spc="-1" strike="noStrike">
                <a:solidFill>
                  <a:srgbClr val="ff00ff"/>
                </a:solidFill>
                <a:latin typeface="Verdana"/>
              </a:rPr>
              <a:t>SI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79a"/>
                </a:solidFill>
                <a:latin typeface="Verdana"/>
              </a:rPr>
              <a:t>Sources by topic (4)</a:t>
            </a: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000" spc="-1" strike="noStrike">
                <a:solidFill>
                  <a:srgbClr val="ff0000"/>
                </a:solidFill>
                <a:latin typeface="Verdana"/>
              </a:rPr>
              <a:t>HOUSEHOLD TOPIC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Househol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egister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(HR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Based on statement made by household memb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000" spc="-1" strike="noStrike">
                <a:solidFill>
                  <a:srgbClr val="ff0000"/>
                </a:solidFill>
                <a:latin typeface="Verdana"/>
              </a:rPr>
              <a:t>DWELLING TOPIC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Real Estat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egister</a:t>
            </a:r>
            <a:r>
              <a:rPr b="0" lang="sl-SI" sz="2200" spc="-1" strike="noStrike">
                <a:solidFill>
                  <a:srgbClr val="000000"/>
                </a:solidFill>
                <a:latin typeface="Verdana"/>
              </a:rPr>
              <a:t> (RER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ill be also used for taxation in the fu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Verdana"/>
              </a:rPr>
              <a:t>Identificators: </a:t>
            </a:r>
            <a:r>
              <a:rPr b="1" lang="en-US" sz="2200" spc="-1" strike="noStrike">
                <a:solidFill>
                  <a:srgbClr val="ff00ff"/>
                </a:solidFill>
                <a:latin typeface="Verdana"/>
              </a:rPr>
              <a:t>SID and </a:t>
            </a:r>
            <a:r>
              <a:rPr b="1" lang="sl-SI" sz="2200" spc="-1" strike="noStrike">
                <a:solidFill>
                  <a:srgbClr val="ff00ff"/>
                </a:solidFill>
                <a:latin typeface="Verdana"/>
              </a:rPr>
              <a:t>BA</a:t>
            </a:r>
            <a:r>
              <a:rPr b="1" lang="en-US" sz="2200" spc="-1" strike="noStrike">
                <a:solidFill>
                  <a:srgbClr val="ff00ff"/>
                </a:solidFill>
                <a:latin typeface="Verdana"/>
              </a:rPr>
              <a:t>_D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79a"/>
                </a:solidFill>
                <a:latin typeface="Verdana"/>
              </a:rPr>
              <a:t>Household Register </a:t>
            </a:r>
            <a:endParaRPr b="0" lang="en-US" sz="4000" spc="-1" strike="noStrike">
              <a:solidFill>
                <a:srgbClr val="00679a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Relevant 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lling number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(DN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(running number in the scope of address - BA) - also in RER and CP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sehold number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(HN) (running number in the scope of address - BA) - only in H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ation to the reference person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of househo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in advan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679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sibility of direct derivation of household composition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/ type of fami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or the most pers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79a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keep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ce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3:26:04Z</dcterms:created>
  <dc:creator>v3user</dc:creator>
  <dc:description/>
  <dc:language>en-US</dc:language>
  <cp:lastModifiedBy>csd</cp:lastModifiedBy>
  <dcterms:modified xsi:type="dcterms:W3CDTF">2009-10-29T09:45:30Z</dcterms:modified>
  <cp:revision>72</cp:revision>
  <dc:subject/>
  <dc:title>Slide 1</dc:title>
</cp:coreProperties>
</file>