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E69-2D87-4B50-AE27-092DEBEF1B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ree di censimen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nuove aree di output, intermedie tra il centro abitato principale o i centri abitati principali del comune e le sezioni di censi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siemi di sezioni di censimento contigue, della dimensione di circa 15.000 abita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posta è quella di affiancare all’usuale enumerazione totale del censimento, effettuata tramite un questionario in forma ridotta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rt 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in cui si chiede poco a tutti, un campione di famiglie a cui si somministra un questionario più esteso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ng 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che chiede di più a pochi. Tale soluzione mostra vantaggi sia in termini operativi, per la riduzione dei tempi di acquisizione ed elaborazione dei dati, sia in termini di qualità, per la possibilità di maggior controllo a beneficio di una riduzione dell’errore di misura (Cocchi, 200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ree di censimen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nuove aree di output, intermedie tra il centro abitato principale o i centri abitati principali del comune e le sezioni di censim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siemi di sezioni di censimento contigue, della dimensione di circa 15.000 abita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posta è quella di affiancare all’usuale enumerazione totale del censimento, effettuata tramite un questionario in forma ridotta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rt 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in cui si chiede poco a tutti, un campione di famiglie a cui si somministra un questionario più esteso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ng 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che chiede di più a pochi. Tale soluzione mostra vantaggi sia in termini operativi, per la riduzione dei tempi di acquisizione ed elaborazione dei dati, sia in termini di qualità, per la possibilità di maggior controllo a beneficio di una riduzione dell’errore di misura (Cocchi, 200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B4CF-9229-40E0-82FC-A15F15D75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0080" y="363780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46AE-C2C2-40AC-8EE9-A4CBE68FC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276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5BC8-7548-41E5-9192-0047AF12B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86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2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00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86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2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C88E-4661-4EB4-BD42-813F94E60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56CFD-4951-4EB5-BAC6-FCAE3DCF6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0080" y="1267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DF7DD-B24D-4030-9570-6486FF4DFA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5D696-5062-4105-8CF0-CE7AB58056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58212-463E-45B9-A74D-B50EAA9E77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67BEA-0012-441B-903A-432F383EC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72ECE-0A7B-4595-AC99-AA283EB25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A5CFE-16F4-4826-A63D-A1C2819B3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0080" y="1267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E422-5449-4913-90F3-E6181584E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276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B22D-AE66-43D4-9C95-EFFE552B5F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60258-35F1-4653-B109-C65BDF3C0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0080" y="363780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49B7E-00C7-43C3-89E4-58799DC26B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8276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09656-6B17-4283-B303-31B75EB24A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86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7280" y="126792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00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86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7280" y="3637800"/>
            <a:ext cx="24458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00C4B-C16E-4FF3-8475-3CB1F70D97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8DBF-0589-488A-9C4E-DB5D1DCC2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33FE-B47B-4CD4-927E-53CF43BDE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C943-EDE3-4C5C-A08A-DA7497215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8720" y="274680"/>
            <a:ext cx="758808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5BA5-5732-4A5E-B1F8-C6D9CC864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7E26-2265-4BA5-A5B7-AA2540DEC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2760" y="363780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BFC4-5F77-4AD7-A22E-A2B923A35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008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2760" y="1267920"/>
            <a:ext cx="370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0080" y="3637800"/>
            <a:ext cx="759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3065-094C-4FFF-9982-B97344BF4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052640"/>
            <a:ext cx="7993080" cy="72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8720" y="274680"/>
            <a:ext cx="7588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90080" y="1267920"/>
            <a:ext cx="759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5360">
              <a:spcBef>
                <a:spcPts val="601"/>
              </a:spcBef>
              <a:buClr>
                <a:srgbClr val="ac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7840" indent="-4381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360" y="188640"/>
            <a:ext cx="863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</a:rPr>
              <a:t>Joint UNECE Eurostat Mee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780000" y="6337080"/>
            <a:ext cx="119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08E-F271-49F2-A2FA-AFA437868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00000" y="6237360"/>
            <a:ext cx="79930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91520" y="6340320"/>
            <a:ext cx="1293840" cy="37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130120"/>
            <a:ext cx="7270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Les Lundis de l’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CC2-10DD-4F83-ADC9-2AAC0BD62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052640"/>
            <a:ext cx="7993080" cy="72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ac0000"/>
          </a:solidFill>
          <a:ln w="9360">
            <a:solidFill>
              <a:srgbClr val="a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6237360"/>
            <a:ext cx="79930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1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algn="ctr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437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269720"/>
            <a:ext cx="8028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oint UNECE/Eurostat Meeting on Population and Housing Censuses (28-30 October 2009)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ccuracy evaluation of Nuts level 2 hypercubes with the adoption of a sampling strategy in the 2011 Italian Population Census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8560" y="4437000"/>
            <a:ext cx="7561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ancarlo Carbonetti, Mariangela Verras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tat – Italian National Institute of Statistics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vision for General Census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va, October 29th 2009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0800000">
            <a:off x="2318760" y="-1387800"/>
            <a:ext cx="10471680" cy="66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025" swAng="4927343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025" swAng="4927343"/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371680" y="1420920"/>
            <a:ext cx="0" cy="4093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5200" y="5510160"/>
            <a:ext cx="5543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152280"/>
            <a:ext cx="7993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valuation of the sets of estimates with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itical accurac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by means of a sampling errors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70240" y="4660920"/>
            <a:ext cx="2574720" cy="0"/>
          </a:xfrm>
          <a:prstGeom prst="line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789360"/>
            <a:ext cx="914400" cy="305280"/>
          </a:xfrm>
          <a:prstGeom prst="rect">
            <a:avLst/>
          </a:prstGeom>
          <a:solidFill>
            <a:srgbClr val="cc99ff">
              <a:alpha val="3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90640" y="4648320"/>
            <a:ext cx="12600" cy="857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057000" y="4039200"/>
            <a:ext cx="242640" cy="3267000"/>
          </a:xfrm>
          <a:custGeom>
            <a:avLst/>
            <a:gdLst>
              <a:gd name="textAreaLeft" fmla="*/ 155160 w 242640"/>
              <a:gd name="textAreaRight" fmla="*/ 243000 w 242640"/>
              <a:gd name="textAreaTop" fmla="*/ 84960 h 3267000"/>
              <a:gd name="textAreaBottom" fmla="*/ 3182040 h 32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662360"/>
            <a:ext cx="219240" cy="849600"/>
          </a:xfrm>
          <a:custGeom>
            <a:avLst/>
            <a:gdLst>
              <a:gd name="textAreaLeft" fmla="*/ 140040 w 219240"/>
              <a:gd name="textAreaRight" fmla="*/ 219600 w 219240"/>
              <a:gd name="textAreaTop" fmla="*/ 21960 h 849600"/>
              <a:gd name="textAreaBottom" fmla="*/ 82764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4532400"/>
            <a:ext cx="798480" cy="305280"/>
          </a:xfrm>
          <a:prstGeom prst="rect">
            <a:avLst/>
          </a:prstGeom>
          <a:solidFill>
            <a:srgbClr val="ff6600">
              <a:alpha val="2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653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82680" y="4111560"/>
            <a:ext cx="0" cy="425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9040" y="5168880"/>
            <a:ext cx="290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6160" y="5846760"/>
            <a:ext cx="3381480" cy="274680"/>
          </a:xfrm>
          <a:prstGeom prst="rect">
            <a:avLst/>
          </a:prstGeom>
          <a:solidFill>
            <a:srgbClr val="ff6600">
              <a:alpha val="33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t of estimates with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3105000"/>
            <a:ext cx="2254320" cy="305280"/>
          </a:xfrm>
          <a:prstGeom prst="rect">
            <a:avLst/>
          </a:prstGeom>
          <a:solidFill>
            <a:srgbClr val="ff6600">
              <a:alpha val="33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sampl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87520" y="3357720"/>
            <a:ext cx="938160" cy="7635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37240" y="3652920"/>
            <a:ext cx="3290760" cy="610200"/>
          </a:xfrm>
          <a:prstGeom prst="rect">
            <a:avLst/>
          </a:prstGeom>
          <a:solidFill>
            <a:srgbClr val="ff6600">
              <a:alpha val="33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olute frequencies estimated with a critica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327480" y="4119480"/>
            <a:ext cx="1388880" cy="133848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3329640" y="4596120"/>
            <a:ext cx="230040" cy="2133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24480" y="5846760"/>
            <a:ext cx="3360600" cy="274680"/>
          </a:xfrm>
          <a:prstGeom prst="rect">
            <a:avLst/>
          </a:prstGeom>
          <a:solidFill>
            <a:srgbClr val="ccffcc">
              <a:alpha val="33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t of estimates with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1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66840" y="2459160"/>
            <a:ext cx="168480" cy="2189160"/>
          </a:xfrm>
          <a:custGeom>
            <a:avLst/>
            <a:gdLst>
              <a:gd name="textAreaLeft" fmla="*/ 107640 w 168480"/>
              <a:gd name="textAreaRight" fmla="*/ 168840 w 168480"/>
              <a:gd name="textAreaTop" fmla="*/ 56880 h 2189160"/>
              <a:gd name="textAreaBottom" fmla="*/ 2132280 h 21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6720" y="5286240"/>
            <a:ext cx="1187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Absolute Frequencies 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1128600"/>
            <a:ext cx="7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53200" y="4467240"/>
            <a:ext cx="1811160" cy="305280"/>
          </a:xfrm>
          <a:prstGeom prst="rect">
            <a:avLst/>
          </a:prstGeom>
          <a:solidFill>
            <a:srgbClr val="a3b2c1">
              <a:alpha val="2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critical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56160" y="4714920"/>
            <a:ext cx="807840" cy="758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13400" y="488160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8000"/>
                </a:solidFill>
                <a:latin typeface="Times New Roman"/>
              </a:rPr>
              <a:t>sampl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1197000"/>
            <a:ext cx="5616360" cy="1815840"/>
          </a:xfrm>
          <a:prstGeom prst="rect">
            <a:avLst/>
          </a:prstGeom>
          <a:solidFill>
            <a:srgbClr val="ccffcc">
              <a:alpha val="56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lower the amount of information estimated with high levels of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eferred to persons classified in cells with absolute frequencies lower than the threshold T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, the higher the quality of the related dissemination hypercub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2B01-ADC6-4B92-8D4C-273F19F418BD}" type="slidenum">
              <a:t>10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71640" y="1555920"/>
            <a:ext cx="7704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s are related to 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sta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ub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ossing demographic variables with one or m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ong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ferred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S level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idered hypercubes contain topics with breakdowns used in 2001 Italian Census dissemination, clos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rms of number and information cont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breakdowns to be provided for the next census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cells goes from 1,000 to more than 20,000 depending on the complexity of the statistical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223920"/>
            <a:ext cx="784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uality evaluations for hypercubes at NUTS leve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FC50-0B47-4F1B-B8D1-0565AF6F72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73000" y="1473120"/>
          <a:ext cx="822960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73120"/>
                    <a:ext cx="82296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rot="16200000">
            <a:off x="4197240" y="2766600"/>
            <a:ext cx="244440" cy="4248000"/>
          </a:xfrm>
          <a:custGeom>
            <a:avLst/>
            <a:gdLst>
              <a:gd name="textAreaLeft" fmla="*/ 156240 w 244440"/>
              <a:gd name="textAreaRight" fmla="*/ 244440 w 2444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7671600" y="3612240"/>
            <a:ext cx="317520" cy="2627280"/>
          </a:xfrm>
          <a:custGeom>
            <a:avLst/>
            <a:gdLst>
              <a:gd name="textAreaLeft" fmla="*/ 203040 w 317520"/>
              <a:gd name="textAreaRight" fmla="*/ 317520 w 317520"/>
              <a:gd name="textAreaTop" fmla="*/ 68400 h 2627280"/>
              <a:gd name="textAreaBottom" fmla="*/ 2558880 h 26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5413320"/>
            <a:ext cx="3384360" cy="823320"/>
          </a:xfrm>
          <a:prstGeom prst="rect">
            <a:avLst/>
          </a:prstGeom>
          <a:solidFill>
            <a:srgbClr val="ff99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non-demographic variable has been individually crossed with sex and age (single a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900000">
            <a:off x="3708000" y="5108400"/>
            <a:ext cx="608040" cy="193680"/>
          </a:xfrm>
          <a:prstGeom prst="leftArrow">
            <a:avLst>
              <a:gd name="adj1" fmla="val 50000"/>
              <a:gd name="adj2" fmla="val 7848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900000">
            <a:off x="7203600" y="5099040"/>
            <a:ext cx="608040" cy="193680"/>
          </a:xfrm>
          <a:prstGeom prst="leftArrow">
            <a:avLst>
              <a:gd name="adj1" fmla="val 50000"/>
              <a:gd name="adj2" fmla="val 78485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23920"/>
            <a:ext cx="784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ypercubes at NUTS level2 considered in the stud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draft version, April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413320"/>
            <a:ext cx="3384720" cy="823320"/>
          </a:xfrm>
          <a:prstGeom prst="rect">
            <a:avLst/>
          </a:prstGeom>
          <a:solidFill>
            <a:srgbClr val="9933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than one non-demographic variables have been crossed with sex and age (age clas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125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ypercube computations are simulated with 2001 Cens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931680" y="36050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Long For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924280"/>
            <a:ext cx="288720" cy="1873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2CE6-555B-4BB5-AAC5-875072119CC5}" type="slidenum">
              <a:t>12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23920"/>
            <a:ext cx="784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umber of potential cells and acceptable cells for each hypercube considered in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157400"/>
            <a:ext cx="7993080" cy="112464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otential cells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= the product of the number of categ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eptable cells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= the number of potential cells without “structural zer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00000" y="2349360"/>
          <a:ext cx="806472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806472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B780-CBE2-4157-A1B2-C071E53DC72A}" type="slidenum">
              <a:t>13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00000" y="3284640"/>
            <a:ext cx="7993080" cy="936360"/>
          </a:xfrm>
          <a:prstGeom prst="rect">
            <a:avLst/>
          </a:prstGeom>
          <a:solidFill>
            <a:srgbClr val="00ff00">
              <a:alpha val="16000"/>
            </a:srgbClr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7993080" cy="935280"/>
          </a:xfrm>
          <a:prstGeom prst="rect">
            <a:avLst/>
          </a:prstGeom>
          <a:solidFill>
            <a:srgbClr val="00ff00">
              <a:alpha val="16000"/>
            </a:srgbClr>
          </a:solidFill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23920"/>
            <a:ext cx="784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dicators of global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1125360"/>
            <a:ext cx="792144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indicators are proposed to measure the global accuracy of census data produced by adopting a sampling strategy and referred to a dissemination hypercu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centage of critical ce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number of cell counts (&gt;0) lower than the critical threshold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number of acceptable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centage of persons in critical ce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persons classified in critical cells / total of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4724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particular, the second indicator quantifies the percentage of people classified in cells which will be estimated with a low accuracy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% could be considered a tolerable li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A195-92E4-42F4-8123-97C1AE21B42E}" type="slidenum">
              <a:t>14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00000" y="11592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: Hypercube H.B1.E1.R3. Quality indicators related to NUTS2 areas of Italy: Molise, Marche and Sici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9868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9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9868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9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2997360"/>
          <a:ext cx="7993080" cy="3062160"/>
        </p:xfrm>
        <a:graphic>
          <a:graphicData uri="http://schemas.openxmlformats.org/drawingml/2006/table">
            <a:tbl>
              <a:tblPr/>
              <a:tblGrid>
                <a:gridCol w="1411200"/>
                <a:gridCol w="730080"/>
                <a:gridCol w="595440"/>
                <a:gridCol w="868320"/>
                <a:gridCol w="731880"/>
                <a:gridCol w="620640"/>
                <a:gridCol w="841320"/>
                <a:gridCol w="730440"/>
                <a:gridCol w="600120"/>
                <a:gridCol w="86364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c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mpling rat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971640" y="1146240"/>
            <a:ext cx="7974000" cy="915120"/>
          </a:xfrm>
          <a:prstGeom prst="rect">
            <a:avLst/>
          </a:prstGeom>
          <a:solidFill>
            <a:srgbClr val="ffff99">
              <a:alpha val="25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ypercube H.B1.E1.R3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x (2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ge (2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urrent activity status (6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dustry (17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ducational attainment (7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cceptable cell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5,574 (no structural ze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205000"/>
            <a:ext cx="7993080" cy="81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cells ar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if the related absolute frequency is lower than the threshold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observed in correspondence of cv_max =12.5%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5518080"/>
            <a:ext cx="79200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23280" y="5516640"/>
            <a:ext cx="64908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70920" y="5516640"/>
            <a:ext cx="79380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5516640"/>
            <a:ext cx="107964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3070080"/>
            <a:ext cx="143964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2A3B-D00F-441C-A55F-43228D03D875}" type="slidenum">
              <a:t>15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00000" y="115920"/>
            <a:ext cx="80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: Hypercube H.B1.E1.R4. Quality indicators related to NUTS2 areas of Italy: Molise, Marche and Sici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98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8680" y="16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191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868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9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868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8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49680" y="190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71640" y="2997360"/>
          <a:ext cx="7993080" cy="3062160"/>
        </p:xfrm>
        <a:graphic>
          <a:graphicData uri="http://schemas.openxmlformats.org/drawingml/2006/table">
            <a:tbl>
              <a:tblPr/>
              <a:tblGrid>
                <a:gridCol w="1411200"/>
                <a:gridCol w="730080"/>
                <a:gridCol w="595440"/>
                <a:gridCol w="868320"/>
                <a:gridCol w="731880"/>
                <a:gridCol w="631800"/>
                <a:gridCol w="830160"/>
                <a:gridCol w="730440"/>
                <a:gridCol w="600120"/>
                <a:gridCol w="86364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r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c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mpling rat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% of persons in critical ce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971640" y="1146240"/>
            <a:ext cx="7974000" cy="915120"/>
          </a:xfrm>
          <a:prstGeom prst="rect">
            <a:avLst/>
          </a:prstGeom>
          <a:solidFill>
            <a:srgbClr val="ffff99">
              <a:alpha val="25000"/>
            </a:srgbClr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ypercube H.B1.E1.R4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x (2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ge (13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ccupation (10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dustry (17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ducational attainment (7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cceptable cell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26,350 (no structural ze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205000"/>
            <a:ext cx="7993080" cy="81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cells ar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if the related absolute frequency is lower than the threshold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observed in correspondence of cv_max =12.5%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5518080"/>
            <a:ext cx="79200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5516640"/>
            <a:ext cx="64908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70920" y="5516640"/>
            <a:ext cx="79380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5516640"/>
            <a:ext cx="107964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3070080"/>
            <a:ext cx="1439640" cy="503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ABDA-90C2-4B9E-82E3-508CBB893742}" type="slidenum">
              <a:t>16</a:t>
            </a:fld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2494080"/>
          <a:ext cx="806472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4080"/>
                    <a:ext cx="80647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940360" y="3068640"/>
            <a:ext cx="1800360" cy="576360"/>
          </a:xfrm>
          <a:prstGeom prst="ellipse">
            <a:avLst/>
          </a:prstGeom>
          <a:solidFill>
            <a:srgbClr val="008000">
              <a:alpha val="2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223920"/>
            <a:ext cx="7848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ected quality for hypercubes at NUTS leve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38560" y="22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197000"/>
            <a:ext cx="8317080" cy="1026000"/>
          </a:xfrm>
          <a:prstGeom prst="rect">
            <a:avLst/>
          </a:prstGeom>
          <a:solidFill>
            <a:srgbClr val="a3e87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all 20 Italian Nuts2 area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centage of persons classified in critical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Eurostat hypercubes considered in the study and the three tested sampling rat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347920"/>
            <a:ext cx="1295640" cy="720720"/>
          </a:xfrm>
          <a:prstGeom prst="ellipse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43280" y="3139920"/>
            <a:ext cx="576360" cy="432000"/>
          </a:xfrm>
          <a:prstGeom prst="ellipse">
            <a:avLst/>
          </a:prstGeom>
          <a:solidFill>
            <a:srgbClr val="008000">
              <a:alpha val="2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5803920"/>
            <a:ext cx="647640" cy="360360"/>
          </a:xfrm>
          <a:prstGeom prst="ellipse">
            <a:avLst/>
          </a:prstGeom>
          <a:solidFill>
            <a:srgbClr val="3366ff">
              <a:alpha val="25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3573360"/>
            <a:ext cx="0" cy="22305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3139920"/>
            <a:ext cx="647640" cy="432000"/>
          </a:xfrm>
          <a:prstGeom prst="ellipse">
            <a:avLst/>
          </a:prstGeom>
          <a:solidFill>
            <a:srgbClr val="3366ff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4200" y="35002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4200" y="38448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54200" y="41482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4200" y="44928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4200" y="47815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4200" y="51418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4200" y="54291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2347920"/>
            <a:ext cx="1295280" cy="720720"/>
          </a:xfrm>
          <a:prstGeom prst="ellipse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139920"/>
            <a:ext cx="1225440" cy="432000"/>
          </a:xfrm>
          <a:prstGeom prst="ellipse">
            <a:avLst/>
          </a:prstGeom>
          <a:solidFill>
            <a:srgbClr val="008000">
              <a:alpha val="2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5803920"/>
            <a:ext cx="647640" cy="360360"/>
          </a:xfrm>
          <a:prstGeom prst="ellipse">
            <a:avLst/>
          </a:prstGeom>
          <a:solidFill>
            <a:srgbClr val="3366ff">
              <a:alpha val="25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0000" y="3573360"/>
            <a:ext cx="0" cy="22305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9640" y="3139920"/>
            <a:ext cx="720720" cy="432000"/>
          </a:xfrm>
          <a:prstGeom prst="ellipse">
            <a:avLst/>
          </a:prstGeom>
          <a:solidFill>
            <a:srgbClr val="3366ff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2347920"/>
            <a:ext cx="1295280" cy="720720"/>
          </a:xfrm>
          <a:prstGeom prst="ellipse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578952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38920" y="3139920"/>
            <a:ext cx="1154160" cy="432000"/>
          </a:xfrm>
          <a:prstGeom prst="ellipse">
            <a:avLst/>
          </a:prstGeom>
          <a:solidFill>
            <a:srgbClr val="008000">
              <a:alpha val="20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139920"/>
            <a:ext cx="1298520" cy="432000"/>
          </a:xfrm>
          <a:prstGeom prst="ellipse">
            <a:avLst/>
          </a:prstGeom>
          <a:solidFill>
            <a:srgbClr val="3366ff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5802480"/>
            <a:ext cx="1224000" cy="360360"/>
          </a:xfrm>
          <a:prstGeom prst="ellipse">
            <a:avLst/>
          </a:prstGeom>
          <a:solidFill>
            <a:srgbClr val="3366ff">
              <a:alpha val="25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75640" y="3571920"/>
            <a:ext cx="0" cy="22305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28000" y="3573360"/>
            <a:ext cx="0" cy="574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40720" y="4148280"/>
            <a:ext cx="647640" cy="360360"/>
          </a:xfrm>
          <a:prstGeom prst="ellipse">
            <a:avLst/>
          </a:prstGeom>
          <a:solidFill>
            <a:srgbClr val="3366ff">
              <a:alpha val="25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41482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2C7E-33B2-4464-AD8D-9DCEE19FE5A3}" type="slidenum">
              <a:t>17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58920" y="223920"/>
            <a:ext cx="7705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1486080"/>
            <a:ext cx="7848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doption of a sampling strategy doesn’t seem to bring a reduction of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pling error could have a considerable impact only to estimate very small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TS2 hypercubes with different complexity could be estimated with good accuracy even for lower sampling rat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vised version of the hypercubes considered in the work seems to be less detailed. This will hopefully bring more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F33D-B7CA-4445-86F2-1607F81D97A1}" type="slidenum">
              <a:t>18</a:t>
            </a:fld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58920" y="223920"/>
            <a:ext cx="7705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me solutions to enhance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328464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5040" indent="-36504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ing small area estim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the set of variables to be observed on the whole population, reducing the set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s that have to be surveyed on samples of househ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buClr>
                <a:srgbClr val="a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4680" algn="just">
              <a:lnSpc>
                <a:spcPct val="100000"/>
              </a:lnSpc>
              <a:buClr>
                <a:srgbClr val="a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adoption of a medium/long form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492200"/>
            <a:ext cx="7632720" cy="119124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hancements of estimates regarding rare events and small domains in order to increase their efficiency and to reduce the number of critic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8F3E-0B7D-45DB-9711-DC7C415D459E}" type="slidenum">
              <a:t>19</a:t>
            </a:fld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2680"/>
            <a:ext cx="79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Why do we adopt sampling techniques in the Italian Census?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518080"/>
            <a:ext cx="7705800" cy="5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mpling is crucial for the new census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068640"/>
            <a:ext cx="799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in solutions proposed are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population regis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sus forms mail ou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xed mode of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797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igh response rate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268280"/>
            <a:ext cx="7993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2011 population census has been planned in order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rove the efficiency of the survey oper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duce the workload of the municipal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49120" algn="just">
              <a:lnSpc>
                <a:spcPct val="100000"/>
              </a:lnSpc>
              <a:spcBef>
                <a:spcPts val="499"/>
              </a:spcBef>
              <a:buClr>
                <a:srgbClr val="ac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imize the statistical burden for the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ADB3-63BB-4601-B34A-7661AEC35E3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63640" y="2647800"/>
            <a:ext cx="62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0000"/>
                </a:solidFill>
                <a:latin typeface="Arial"/>
              </a:rPr>
              <a:t>Thank you for your atten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5564160"/>
            <a:ext cx="54738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bonet@istat.it   -   verrasci@istat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69F1-B375-4314-B31C-7A0CE3161ED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3080" y="202680"/>
            <a:ext cx="736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ich effects by adopting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ampling techniqu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837800"/>
            <a:ext cx="741672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keep high level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reducing non-sampling error sour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lin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a smaller amount of data to proces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hypercubes must be delivered to Eurostat by 1 April 2014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his is a constrai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1197000"/>
            <a:ext cx="3384720" cy="503280"/>
          </a:xfrm>
          <a:prstGeom prst="rect">
            <a:avLst/>
          </a:prstGeom>
          <a:solidFill>
            <a:srgbClr val="00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4294080"/>
            <a:ext cx="3384720" cy="503280"/>
          </a:xfrm>
          <a:prstGeom prst="rect">
            <a:avLst/>
          </a:prstGeom>
          <a:solidFill>
            <a:srgbClr val="ff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4940280"/>
            <a:ext cx="74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22640" indent="-422640" algn="just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pling err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valuation of accuracy of the sampling estimates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3E50-4D63-4892-B9CE-1958CE919259}" type="slidenum">
              <a:t>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31760"/>
            <a:ext cx="7705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framework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8560" y="1341000"/>
            <a:ext cx="8066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ouseho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S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opulation registers managed by the municipa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on-demographic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Census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 STRATE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municipality demograph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sho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5238720"/>
            <a:ext cx="7777080" cy="855720"/>
          </a:xfrm>
          <a:prstGeom prst="rect">
            <a:avLst/>
          </a:prstGeom>
          <a:solidFill>
            <a:srgbClr val="a3e87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imulation study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has been conducted in order to define which methodology performs the most accurate estim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29A6-28AA-45B3-90A6-DD6D1AF88204}" type="slidenum">
              <a:t>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560" y="1631520"/>
            <a:ext cx="8137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Random Sampling of HOUseholds (SRSHOU) from population regi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5000"/>
              </a:lnSpc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 Frame Sampling where reliable population registers are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5000"/>
              </a:lnSpc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ibrated Estim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5000"/>
              </a:lnSpc>
              <a:buClr>
                <a:srgbClr val="99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ition of Census Areas of about 15,000 inhabi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5000"/>
              </a:lnSpc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pling Ratio of 33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89000"/>
            <a:ext cx="7201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me results of the simul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4924-FD94-4E6B-8B54-47F8EE169A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93600"/>
            <a:ext cx="8317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istribution of average and maximum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v%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or classes of cell counts for three tested sampling ratios (SRSHOU design)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71640" y="1413000"/>
          <a:ext cx="79930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9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948360" y="1052640"/>
            <a:ext cx="1944720" cy="1224000"/>
          </a:xfrm>
          <a:prstGeom prst="ellipse">
            <a:avLst/>
          </a:prstGeom>
          <a:solidFill>
            <a:srgbClr val="a3e87c">
              <a:alpha val="25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708280"/>
            <a:ext cx="5040360" cy="1448640"/>
          </a:xfrm>
          <a:prstGeom prst="rect">
            <a:avLst/>
          </a:prstGeom>
          <a:solidFill>
            <a:srgbClr val="ccffcc"/>
          </a:solidFill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or cells of 1,000 units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is about 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or cells of 100 units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s about 1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or cells of 10 units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s about 4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5364000" y="1484280"/>
            <a:ext cx="1440000" cy="1152720"/>
          </a:xfrm>
          <a:custGeom>
            <a:avLst/>
            <a:gdLst>
              <a:gd name="textAreaLeft" fmla="*/ 479880 w 1440000"/>
              <a:gd name="textAreaRight" fmla="*/ 1233360 w 1440000"/>
              <a:gd name="textAreaTop" fmla="*/ 663840 h 1152720"/>
              <a:gd name="textAreaBottom" fmla="*/ 98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9000"/>
            <a:ext cx="647640" cy="431640"/>
          </a:xfrm>
          <a:prstGeom prst="ellipse">
            <a:avLst/>
          </a:prstGeom>
          <a:solidFill>
            <a:srgbClr val="ff00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149720"/>
            <a:ext cx="647640" cy="431640"/>
          </a:xfrm>
          <a:prstGeom prst="ellipse">
            <a:avLst/>
          </a:prstGeom>
          <a:solidFill>
            <a:srgbClr val="0000ff">
              <a:alpha val="20000"/>
            </a:srgbClr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869000"/>
            <a:ext cx="647640" cy="431640"/>
          </a:xfrm>
          <a:prstGeom prst="ellipse">
            <a:avLst/>
          </a:prstGeom>
          <a:solidFill>
            <a:srgbClr val="ff00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149720"/>
            <a:ext cx="432000" cy="431640"/>
          </a:xfrm>
          <a:prstGeom prst="ellipse">
            <a:avLst/>
          </a:prstGeom>
          <a:solidFill>
            <a:srgbClr val="0000ff">
              <a:alpha val="20000"/>
            </a:srgbClr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24360" y="4365360"/>
            <a:ext cx="3456000" cy="718920"/>
          </a:xfrm>
          <a:prstGeom prst="line">
            <a:avLst/>
          </a:prstGeom>
          <a:ln w="31680">
            <a:solidFill>
              <a:srgbClr val="008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332000" y="4508280"/>
            <a:ext cx="792000" cy="215640"/>
          </a:xfrm>
          <a:prstGeom prst="line">
            <a:avLst/>
          </a:prstGeom>
          <a:ln w="31680">
            <a:solidFill>
              <a:srgbClr val="008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1413000"/>
            <a:ext cx="2087640" cy="503280"/>
          </a:xfrm>
          <a:prstGeom prst="ellipse">
            <a:avLst/>
          </a:prstGeom>
          <a:solidFill>
            <a:srgbClr val="ff00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50160" y="1413000"/>
            <a:ext cx="1942920" cy="503280"/>
          </a:xfrm>
          <a:prstGeom prst="ellipse">
            <a:avLst/>
          </a:prstGeom>
          <a:solidFill>
            <a:srgbClr val="0000ff">
              <a:alpha val="20000"/>
            </a:srgbClr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1628640"/>
            <a:ext cx="208908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547640" y="4723920"/>
            <a:ext cx="576360" cy="28908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9FBC-FD68-4DF1-8F60-A17C60B31E75}" type="slidenum">
              <a:t>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824400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7440" y="93600"/>
            <a:ext cx="82962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urves of sampling errors drawn by the simulation results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349360"/>
            <a:ext cx="503280" cy="2232000"/>
          </a:xfrm>
          <a:custGeom>
            <a:avLst/>
            <a:gdLst>
              <a:gd name="textAreaLeft" fmla="*/ 67320 w 503280"/>
              <a:gd name="textAreaRight" fmla="*/ 435960 w 50328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4540-63AE-4EAC-B5DE-0C902A210B98}" type="slidenum">
              <a:t>7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9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levant issu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48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a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Which is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impact of the sampling error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on the dissemination hypercu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3801960"/>
            <a:ext cx="6767640" cy="13737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nswer is the core of this presentation where the impact of the sampling strategy on the final results will be carefully expl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5231-4432-420E-9D51-DF65E4162889}" type="slidenum">
              <a:t>8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79640" y="2116080"/>
            <a:ext cx="295200" cy="449280"/>
          </a:xfrm>
          <a:prstGeom prst="downArrow">
            <a:avLst>
              <a:gd name="adj1" fmla="val 50000"/>
              <a:gd name="adj2" fmla="val 38049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98560" y="2692440"/>
            <a:ext cx="2952720" cy="1005840"/>
          </a:xfrm>
          <a:prstGeom prst="rect">
            <a:avLst/>
          </a:prstGeom>
          <a:solidFill>
            <a:srgbClr val="ffff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When can the quality of the statistical table be considered acceptabl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772080"/>
            <a:ext cx="295200" cy="448920"/>
          </a:xfrm>
          <a:prstGeom prst="downArrow">
            <a:avLst>
              <a:gd name="adj1" fmla="val 50000"/>
              <a:gd name="adj2" fmla="val 38018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349360"/>
            <a:ext cx="4464000" cy="1683720"/>
          </a:xfrm>
          <a:prstGeom prst="rect">
            <a:avLst/>
          </a:prstGeom>
          <a:solidFill>
            <a:srgbClr val="ccffcc">
              <a:alpha val="53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52440" indent="-1252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f less than 1/3 of cell counts have a cv&gt;1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f less than 10% of persons are classified in cell counts where cv&gt;1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010040" y="2940120"/>
            <a:ext cx="331920" cy="503280"/>
          </a:xfrm>
          <a:prstGeom prst="downArrow">
            <a:avLst>
              <a:gd name="adj1" fmla="val 50000"/>
              <a:gd name="adj2" fmla="val 37907"/>
            </a:avLst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60280"/>
            <a:ext cx="793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mpact of sampling errors on dissemination hyper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292640"/>
            <a:ext cx="7956360" cy="1769760"/>
          </a:xfrm>
          <a:prstGeom prst="rect">
            <a:avLst/>
          </a:prstGeom>
          <a:solidFill>
            <a:srgbClr val="99ccff">
              <a:alpha val="25000"/>
            </a:srgbClr>
          </a:solidFill>
          <a:ln w="88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or a fixed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(for instance, a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ritical leve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should be 12.5%), th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global quali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of a dissemination hypercube can be accept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the percentage of cell counts estimated with a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higher th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value is low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f the percentage of persons classified in those cells is 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208160"/>
            <a:ext cx="8205840" cy="764280"/>
          </a:xfrm>
          <a:prstGeom prst="rect">
            <a:avLst/>
          </a:prstGeom>
          <a:solidFill>
            <a:srgbClr val="99ccff">
              <a:alpha val="25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aving chosen the sampling strategy (SRSHOU; calibrated estimator), for an area and a dissemination hypercub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0853-AF1E-4485-B419-8A1A86164EDD}" type="slidenum">
              <a:t>9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8:28:58Z</dcterms:created>
  <dc:creator>istat</dc:creator>
  <dc:description/>
  <dc:language>en-US</dc:language>
  <cp:lastModifiedBy>Giancarlo</cp:lastModifiedBy>
  <dcterms:modified xsi:type="dcterms:W3CDTF">2009-10-27T09:06:34Z</dcterms:modified>
  <cp:revision>581</cp:revision>
  <dc:subject/>
  <dc:title>Diapositiva 1</dc:title>
</cp:coreProperties>
</file>