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CDBAF93-3FA2-4CE8-AA84-AA176697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ly there's the global monitoring role you're alll familiar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ondly we're now starting to increase our work to strengthen national capacity for monitoring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rdly we use the JMP outputs to advocate for action internationally, nationally, and increasingly, sub-n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do + deliver biennual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MP does not carry out in-country monitoring. We use national data usually generated by National Statistics off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xy indicator “improved” means: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8960" y="754200"/>
            <a:ext cx="4930560" cy="369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78200"/>
            <a:ext cx="4854600" cy="44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The limit of fixing only two – improved or not – does not allow differentiation in the evolution of system improvements, especially for the poorest commun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4CE-1858-4BE7-A363-64C70D0B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E8B-7D8B-42A9-B102-EB869271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ED3-39F9-4EE4-8F7E-FC132C1E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878-BBCF-4595-A5C1-BA967234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4DE4-8370-42BC-B78D-3E343A8B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6AAF-DBF6-4CD7-9B29-9E237DB3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62FB-CAA0-4B94-8978-02CDE6B2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5DFD-17EA-4163-A228-F66EC215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D035-C4BA-4CAE-A000-A1FB9CF4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9FDA-66DC-4727-A87A-5FD43531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7C17-E634-403E-A9D2-C17E702F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791-4407-4FB5-88A2-EF902AD0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5817-9163-40CE-992A-9AB105E9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02D3-8E8E-44C4-AF09-16B2E0A2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047C-90EC-41BA-9396-B1D83C77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F34C-4A4C-418A-B3F8-5F50E2CD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A200-3AD1-4618-8D23-D24CFCC2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AFA-C050-412B-AC40-A21ABF25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89E-6BC8-4472-8507-35C1DEE4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7DA-9AA5-47DD-84ED-F4AE7E58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BFC-0D11-47DB-8164-93CAC24C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656-AA73-49B2-B63D-90D94C34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A3F-52F1-4208-8066-368C9178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710-9B16-4D5D-8355-57F88B16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BE9A-8E53-4F96-B248-29192947A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321C-69C6-48D9-A2F7-4AE31D9A5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64000" y="3933720"/>
            <a:ext cx="1872000" cy="2708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763640" y="3933720"/>
            <a:ext cx="1728720" cy="2708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564000" y="3933720"/>
            <a:ext cx="1728720" cy="2708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1692360" cy="2708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308720" y="3933720"/>
            <a:ext cx="1835280" cy="2708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627280" cy="804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6804000" y="0"/>
            <a:ext cx="2340000" cy="693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3534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WHO/UNICEF Joint Monitoring Programme</a:t>
            </a:r>
            <a:br>
              <a:rPr sz="5400"/>
            </a:br>
            <a:r>
              <a:rPr b="0" lang="pt-BR" sz="2400" spc="-1" strike="noStrike">
                <a:solidFill>
                  <a:srgbClr val="ccecff"/>
                </a:solidFill>
                <a:latin typeface="Arial"/>
              </a:rPr>
              <a:t>Rifat Hossain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981000"/>
            <a:ext cx="8317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Effective Collection of water and sanitation data from housing cens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int UNECE/Eurostat Meeting on Population and Housing Cens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5 May 2008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3534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99ff99"/>
                </a:solidFill>
                <a:latin typeface="Arial"/>
              </a:rPr>
              <a:t>Thank you!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efe747"/>
                </a:solidFill>
                <a:latin typeface="Arial"/>
              </a:rPr>
              <a:t>JMP Website: www.wssinfo.or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0920" y="260280"/>
            <a:ext cx="268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ff99"/>
                </a:solidFill>
                <a:latin typeface="Times New Roman"/>
              </a:rPr>
              <a:t>Scope of work of the JMP</a:t>
            </a:r>
            <a:r>
              <a:rPr b="1" lang="en-US" sz="3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2852640"/>
            <a:ext cx="3528720" cy="360072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Build</a:t>
            </a:r>
            <a:br>
              <a:rPr sz="2400"/>
            </a:b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 national capacity </a:t>
            </a:r>
            <a:br>
              <a:rPr sz="2400"/>
            </a:b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for monitoring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prepare tool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uidance material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2781360"/>
            <a:ext cx="3529080" cy="367344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Advocate for</a:t>
            </a:r>
            <a:br>
              <a:rPr sz="2400"/>
            </a:b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 action at all levels</a:t>
            </a:r>
            <a:br>
              <a:rPr sz="2400"/>
            </a:b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se JMP products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utputs for advocac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981000"/>
            <a:ext cx="3529080" cy="34560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Monitor</a:t>
            </a:r>
            <a:br>
              <a:rPr sz="2400"/>
            </a:b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trends &amp; progress</a:t>
            </a:r>
            <a:br>
              <a:rPr sz="2400"/>
            </a:b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within the WatSan sector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&amp; regional repor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Joint Monitoring Programme (JMP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s progress towards MDG 7 Target 7c th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al accountability and advoc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 progress towards the MDG target, from 1990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data comparabl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ver ti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ross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47640" y="501336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1640" y="3500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50028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DG 7 Target 7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alls to halve, by 2015, the proportion of people without sustainable access to safe drinking water and basic san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icato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7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rtion of populati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 improved water source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rban and r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8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rtion of populati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 improved sanitati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ility,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rban and rural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Improved” means…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mproved drinking water sourc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i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 source that by the nature of its construction adequately protects the source from outside contamination in particular with fecal matter”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mproved sanitation facility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 facility that hygienically separates human waste from human contact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Comparison between JMP and UNSD (water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32360" y="1773360"/>
            <a:ext cx="3600360" cy="248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Improved water supply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Piped into dwelling, plot or yar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Public tap/standpip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Tube well/boreho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Protected dug wel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Protected spr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Rainwater collec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1700280"/>
            <a:ext cx="4319640" cy="511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Improved water supply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Tahoma"/>
              </a:rPr>
              <a:t>Piped water inside the uni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1.1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From the community sour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1.2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From an individual sour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Tahoma"/>
              </a:rPr>
              <a:t>Piped water outside the unit but within 200 meter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2. 1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From the community sche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2.1.1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For exclusive us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2.1.2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Share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2.2 From an individual sour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2.2.1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For exclusive us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2.2.2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Share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Tahoma"/>
              </a:rPr>
              <a:t>Oth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3.1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Tube well/borehol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3.2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Protected dug wel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3.3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Protected spr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3300"/>
                </a:solidFill>
                <a:latin typeface="Tahoma"/>
                <a:ea typeface="Arial"/>
              </a:rPr>
              <a:t>3.4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Rainwater collec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1125360"/>
            <a:ext cx="936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1125360"/>
            <a:ext cx="792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J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Comparison between JMP and UNSD (Water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3280" y="2494080"/>
            <a:ext cx="3600720" cy="293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improved water su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Unprotected dug wel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Unprotected spr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Cart with small tank/dru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Tanker truck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Surface water (river, dam, lake, pond, stream, canal, irrigation canal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Bottled wat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2637000"/>
            <a:ext cx="360072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improved water su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3300"/>
                </a:solidFill>
                <a:latin typeface="Tahoma"/>
              </a:rPr>
              <a:t>4.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Oth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3300"/>
                </a:solidFill>
                <a:latin typeface="Tahoma"/>
                <a:ea typeface="Arial"/>
              </a:rPr>
              <a:t>4.1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  <a:ea typeface="Arial"/>
              </a:rPr>
              <a:t> Vendor provided wat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3300"/>
                </a:solidFill>
                <a:latin typeface="Tahoma"/>
                <a:ea typeface="Arial"/>
              </a:rPr>
              <a:t>4.2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  <a:ea typeface="Arial"/>
              </a:rPr>
              <a:t> Bottled wat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3300"/>
                </a:solidFill>
                <a:latin typeface="Tahoma"/>
                <a:ea typeface="Arial"/>
              </a:rPr>
              <a:t>4.3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  <a:ea typeface="Arial"/>
              </a:rPr>
              <a:t> Tanker truck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3300"/>
                </a:solidFill>
                <a:latin typeface="Tahoma"/>
                <a:ea typeface="Arial"/>
              </a:rPr>
              <a:t>4.4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  <a:ea typeface="Arial"/>
              </a:rPr>
              <a:t> Unprotected dug well/spring/river/stream/lake/pond/d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2560" y="1989000"/>
            <a:ext cx="936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27640" y="1989000"/>
            <a:ext cx="792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J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Comparison between JMP and UNSD (Sanitation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1773360"/>
            <a:ext cx="3457800" cy="305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Improved sanitation</a:t>
            </a:r>
            <a:r>
              <a:rPr b="0" lang="en-GB" sz="1400" spc="-1" strike="noStrike">
                <a:solidFill>
                  <a:srgbClr val="f8f88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Flush/pour flush to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1" lang="en-GB" sz="1500" spc="-1" strike="noStrike">
                <a:solidFill>
                  <a:srgbClr val="ffffcc"/>
                </a:solidFill>
                <a:latin typeface="Tahoma"/>
                <a:ea typeface="Arial"/>
              </a:rPr>
              <a:t>piped sewer syst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  <a:ea typeface="Arial"/>
              </a:rPr>
              <a:t>septic tank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1" lang="en-GB" sz="1500" spc="-1" strike="noStrike">
                <a:solidFill>
                  <a:srgbClr val="ffffcc"/>
                </a:solidFill>
                <a:latin typeface="Tahoma"/>
                <a:ea typeface="Arial"/>
              </a:rPr>
              <a:t>pit latrin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Ventilated improved pit        (VIP) latrin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Pit latrine with slab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Composting toil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773360"/>
            <a:ext cx="3962520" cy="466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Improved sanitation</a:t>
            </a:r>
            <a:r>
              <a:rPr b="0" lang="en-GB" sz="1400" spc="-1" strike="noStrike">
                <a:solidFill>
                  <a:srgbClr val="f8f88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With Toilet within housing un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  <a:ea typeface="Arial"/>
              </a:rPr>
              <a:t>1.1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Arial"/>
              </a:rPr>
              <a:t> Flush/pour flush toil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  <a:ea typeface="Arial"/>
              </a:rPr>
              <a:t>1.2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Arial"/>
              </a:rPr>
              <a:t> Ot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With toilet outside housing un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  <a:ea typeface="Arial"/>
              </a:rPr>
              <a:t>2.1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Arial"/>
              </a:rPr>
              <a:t> For exclusive u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Arial"/>
                <a:ea typeface="Arial"/>
              </a:rPr>
              <a:t>2.1.1 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Flush/pour flush toile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1.2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Ventilated improved pit latri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1.3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Pit latrine without ventilation with cover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1.4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Holes or dug pits with temporary coverings or without shel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1.5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Other 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79640" y="1197000"/>
            <a:ext cx="936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1197000"/>
            <a:ext cx="792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J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Comparison between JMP and UNSD (Sanitation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2133720"/>
            <a:ext cx="3457800" cy="215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improved sanitation</a:t>
            </a:r>
            <a:r>
              <a:rPr b="1" lang="en-GB" sz="1400" spc="-1" strike="noStrike">
                <a:solidFill>
                  <a:srgbClr val="f8f88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Flush/Pour flush to elsewhe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cc"/>
                </a:solidFill>
                <a:latin typeface="Tahoma"/>
              </a:rPr>
              <a:t>Pit latrine without slab/open pi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Buck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Hanging toilet/hanging latrin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No facilities, bush or fiel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1665360"/>
            <a:ext cx="3962160" cy="4684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improved sanitation</a:t>
            </a:r>
            <a:r>
              <a:rPr b="0" lang="en-GB" sz="1400" spc="-1" strike="noStrike">
                <a:solidFill>
                  <a:srgbClr val="f8f88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With toilet outside housing un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  <a:ea typeface="Arial"/>
              </a:rPr>
              <a:t>2.2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Arial"/>
              </a:rPr>
              <a:t> Sha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Arial"/>
                <a:ea typeface="Arial"/>
              </a:rPr>
              <a:t>2.2.1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 Flush/pour flush toile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2.2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Ventilated improved pit latri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2.3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Pit latrine without ventilation with cover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2.4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Holes or dug pits with temporary coverings or without shel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2.2.5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 Othe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No toile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  <a:ea typeface="Arial"/>
              </a:rPr>
              <a:t>3.1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Service or bucket facility (excreta manually remove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ahoma"/>
                <a:ea typeface="Arial"/>
              </a:rPr>
              <a:t>3.2 </a:t>
            </a:r>
            <a:r>
              <a:rPr b="1" lang="en-GB" sz="1300" spc="-1" strike="noStrike">
                <a:solidFill>
                  <a:srgbClr val="ffffff"/>
                </a:solidFill>
                <a:latin typeface="Tahoma"/>
                <a:ea typeface="Arial"/>
              </a:rPr>
              <a:t>Use of natural environment, for example bush, river, stream or so forth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1197000"/>
            <a:ext cx="936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UN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1197000"/>
            <a:ext cx="79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f888"/>
                </a:solidFill>
                <a:latin typeface="Tahoma"/>
              </a:rPr>
              <a:t>J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The ladder for sanitation and wa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  <a:ea typeface="SimSun"/>
              </a:rPr>
              <a:t>Disaggregating helps…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6560" y="2781360"/>
            <a:ext cx="2159280" cy="4076640"/>
            <a:chOff x="466560" y="2781360"/>
            <a:chExt cx="2159280" cy="4076640"/>
          </a:xfrm>
        </p:grpSpPr>
        <p:sp>
          <p:nvSpPr>
            <p:cNvPr id="261" name=""/>
            <p:cNvSpPr/>
            <p:nvPr/>
          </p:nvSpPr>
          <p:spPr>
            <a:xfrm>
              <a:off x="466560" y="5842080"/>
              <a:ext cx="2157480" cy="1015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ae8"/>
                  </a:solidFill>
                  <a:latin typeface="Arial"/>
                  <a:ea typeface="SimSun"/>
                </a:rPr>
                <a:t>Open defec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4800600"/>
              <a:ext cx="2155680" cy="1041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Unimproved sanitation facilities</a:t>
              </a:r>
              <a:r>
                <a:rPr b="1" lang="en-US" sz="2200" spc="-1" strike="noStrike">
                  <a:solidFill>
                    <a:srgbClr val="008ae8"/>
                  </a:solidFill>
                  <a:latin typeface="Arial"/>
                  <a:ea typeface="SimSu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6560" y="3835440"/>
              <a:ext cx="2157480" cy="996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hared sanitatio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acil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9800" y="2781360"/>
              <a:ext cx="2156040" cy="10414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proved sanitation facilities</a:t>
              </a:r>
              <a:r>
                <a:rPr b="1" lang="en-US" sz="1800" spc="-1" strike="noStrike">
                  <a:solidFill>
                    <a:srgbClr val="008ae8"/>
                  </a:solidFill>
                  <a:latin typeface="Arial"/>
                  <a:ea typeface="SimSu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659640" y="3038400"/>
            <a:ext cx="2241360" cy="3816360"/>
            <a:chOff x="6659640" y="3038400"/>
            <a:chExt cx="2241360" cy="3816360"/>
          </a:xfrm>
        </p:grpSpPr>
        <p:sp>
          <p:nvSpPr>
            <p:cNvPr id="266" name=""/>
            <p:cNvSpPr/>
            <p:nvPr/>
          </p:nvSpPr>
          <p:spPr>
            <a:xfrm>
              <a:off x="6659640" y="4309920"/>
              <a:ext cx="2241360" cy="1293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Other improved drinking water sour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59640" y="5583240"/>
              <a:ext cx="2241360" cy="1271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Unimproved drink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water sour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59640" y="3038400"/>
              <a:ext cx="2241360" cy="1271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iped water in dwelling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lot or yar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484360" y="2133720"/>
            <a:ext cx="3960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Moving from Improved/Unimproved dichotomy to a more refined situ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1480" y="1916280"/>
            <a:ext cx="198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Sanita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(4 run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916360" y="2781360"/>
            <a:ext cx="0" cy="1054080"/>
          </a:xfrm>
          <a:prstGeom prst="line">
            <a:avLst/>
          </a:prstGeom>
          <a:ln w="66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71640" y="27828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01880" y="38354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443640" y="3068280"/>
            <a:ext cx="0" cy="2492280"/>
          </a:xfrm>
          <a:prstGeom prst="line">
            <a:avLst/>
          </a:prstGeom>
          <a:ln w="66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99280" y="3068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0560" y="556416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0800000">
            <a:off x="4140360" y="5013360"/>
            <a:ext cx="10033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SimSun"/>
              </a:rPr>
              <a:t>Improved as per MD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058920" y="3284280"/>
            <a:ext cx="1081080" cy="230508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148360" y="4149720"/>
            <a:ext cx="1152360" cy="129528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1916280"/>
            <a:ext cx="14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Water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(3 run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7:53:34Z</dcterms:created>
  <dc:creator>Rolf Luyendijk</dc:creator>
  <dc:description/>
  <dc:language>en-US</dc:language>
  <cp:lastModifiedBy>hossainr</cp:lastModifiedBy>
  <dcterms:modified xsi:type="dcterms:W3CDTF">2008-05-14T15:59:07Z</dcterms:modified>
  <cp:revision>69</cp:revision>
  <dc:subject/>
  <dc:title>JMP Definitions, indicators and their measurab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49566457</vt:r8>
  </property>
  <property fmtid="{D5CDD505-2E9C-101B-9397-08002B2CF9AE}" pid="3" name="_AuthorEmail">
    <vt:lpwstr>hossainr@who.int</vt:lpwstr>
  </property>
  <property fmtid="{D5CDD505-2E9C-101B-9397-08002B2CF9AE}" pid="4" name="_AuthorEmailDisplayName">
    <vt:lpwstr>Hossain, Rifat</vt:lpwstr>
  </property>
  <property fmtid="{D5CDD505-2E9C-101B-9397-08002B2CF9AE}" pid="5" name="_EmailSubject">
    <vt:lpwstr>Census topics on water and sanitation</vt:lpwstr>
  </property>
  <property fmtid="{D5CDD505-2E9C-101B-9397-08002B2CF9AE}" pid="6" name="_NewReviewCycle">
    <vt:lpwstr/>
  </property>
</Properties>
</file>