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614E1F5-C006-4981-ADBE-FCB10E52E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ly there's the global monitoring role you're alll familia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ly we're now starting to increase our work to strengthen national capacity for monitor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rdly we use the JMP outputs to advocate for action internationally, nationally, and increasingly, sub-n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do + deliver biennual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MP does not carry out in-country monitoring. We use national data usually generated by National Statistics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xy indicator “improved” means: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8960" y="754200"/>
            <a:ext cx="4930560" cy="369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78200"/>
            <a:ext cx="4854600" cy="44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The limit of fixing only two – improved or not – does not allow differentiation in the evolution of system improvements, especially for the poorest commun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4B1-8C2C-402A-9B20-06C63633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D3F-AB40-4870-A4A9-4680143A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D09-C0F5-422B-867A-7BF73099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87E-E62C-451E-8BBB-8375BA33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D0B-3188-4978-8117-0C8770EC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3BDF-0212-4992-B7AC-7594004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39ED-5C9E-4C90-A5D1-3B9C443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7584-2BB3-4B2E-97BA-2456304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1E0-AD16-4FAC-8051-E559D8F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D17-B004-4BCB-AFFC-54DD1C9F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EDB1-86C6-4DB8-BCDA-5355424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B96-81E7-4C56-8680-23DF8AD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529C-F535-41FD-BE1F-19C01B7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44C4-C8F7-4640-8F8D-2DB1C51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045A-B372-4050-A7C4-C6CA115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F23-C879-43BA-B19B-DF0EE6C4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9EB2-F9F0-456D-BC9D-F94DEFAC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D9-1C35-4131-B5D1-DFA9315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ED0-2196-415D-AAF3-046526F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D03-29E4-4A73-8136-843D2FD7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BF5-60C0-47AC-BBDC-EBA80175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D82-402C-4208-8532-0A767A9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527-9F4B-41EB-8DAB-C424F9D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8C5-9D43-4427-8FCE-5C6AD21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D9D-6D88-489F-A16E-F3ECBB8D1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901-8B0A-4E4A-BC1C-32ABB29A9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872000" cy="270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1728720" cy="2708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564000" y="3933720"/>
            <a:ext cx="172872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1692360" cy="2708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308720" y="3933720"/>
            <a:ext cx="1835280" cy="2708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27280" cy="8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804000" y="0"/>
            <a:ext cx="2340000" cy="693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WHO/UNICEF Joint Monitoring Programme</a:t>
            </a:r>
            <a:br>
              <a:rPr sz="5400"/>
            </a:b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Rifat Hossain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981000"/>
            <a:ext cx="831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Effective Collection of water and sanitation data from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/Eurostat Meeting on Population and Housing Cens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5 May 2008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efe747"/>
                </a:solidFill>
                <a:latin typeface="Arial"/>
              </a:rPr>
              <a:t>JMP Website: www.wssinfo.or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260280"/>
            <a:ext cx="268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99"/>
                </a:solidFill>
                <a:latin typeface="Times New Roman"/>
              </a:rPr>
              <a:t>Scope of work of the JMP</a:t>
            </a:r>
            <a:r>
              <a:rPr b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852640"/>
            <a:ext cx="3528720" cy="36007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Build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 national capacity 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for monitoring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prepare tool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uidance materia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2781360"/>
            <a:ext cx="3529080" cy="36734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Advocate for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 action at all levels</a:t>
            </a:r>
            <a:br>
              <a:rPr sz="2400"/>
            </a:b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se JMP product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utputs for advoca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981000"/>
            <a:ext cx="3529080" cy="34560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Monitor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trends &amp; progress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within the WatSan sector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&amp; regional repor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Joint Monitoring Programme (JMP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s progress towards MDG 7 Target 7c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accountability and advo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 progress towards the MDG target, from 1990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data comparabl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ross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501336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3500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DG 7 Target 7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lls to halve, by 2015, the proportion of people without sustainable access to safe drinking water and basic san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c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7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rtion of popul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 improved water source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rban and r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8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rtion of popul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 improved sanita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y,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rban and rural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Improved” means…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mproved drinking water sourc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 source that by the nature of its construction adequately protects the source from outside contamination in particular with fecal matter”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mproved sanitation facilit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 facility that hygienically separates human waste from human contact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wate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32360" y="1773360"/>
            <a:ext cx="3600360" cy="248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water suppl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iped into dwelling, plot or yar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ublic tap/standpi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Tube well/boreho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rotected dug wel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rotected sp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Rainwater collec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1700280"/>
            <a:ext cx="4319640" cy="511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water suppl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Piped water inside the uni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1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the community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an individual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Piped water outside the unit but within 200 mete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 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the community sche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1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2.2 From an individual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2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2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Oth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Tube well/boreho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rotected dug wel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rotected sp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Rainwater colle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1125360"/>
            <a:ext cx="936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12536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Wate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2494080"/>
            <a:ext cx="3600720" cy="29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wat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Unprotected dug wel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Unprotected sp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Cart with small tank/dru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Tanker truc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Surface water (river, dam, lake, pond, stream, canal, irrigation canal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Bottl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637000"/>
            <a:ext cx="360072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wat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Oth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1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Vendor provid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2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Bottl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3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Tanker truck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4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Unprotected dug well/spring/river/stream/lake/pond/d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2560" y="1989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198900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Sanita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1773360"/>
            <a:ext cx="3457800" cy="30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Flush/pour flush to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piped sewer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septic tan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pit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Ventilated improved pit        (VIP)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Pit latrine with slab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Composting toi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773360"/>
            <a:ext cx="3962520" cy="46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within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1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Flush/pour flush toil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1.2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outside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2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Arial"/>
                <a:ea typeface="Arial"/>
              </a:rPr>
              <a:t>2.1.1 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Flush/pour flush toil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Ventilated improved pit latr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it latrine without ventilation with cove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Holes or dug pits with temporary coverings or without shel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5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Other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79640" y="1197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119700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Sanita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2133720"/>
            <a:ext cx="3457800" cy="215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sanitation</a:t>
            </a:r>
            <a:r>
              <a:rPr b="1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Flush/Pour flush to elsew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Pit latrine without slab/open pi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Buck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Hanging toilet/hanging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No facilities, bush or fiel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665360"/>
            <a:ext cx="3962160" cy="4684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outside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2.2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Arial"/>
                <a:ea typeface="Arial"/>
              </a:rPr>
              <a:t>2.2.1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 Flush/pour flush toil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Ventilated improved pit latr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it latrine without ventilation with cove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Holes or dug pits with temporary coverings or without shel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5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Oth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No toile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3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Service or bucket facility (excreta manually remove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3.2 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Use of natural environment, for example bush, river, stream or so forth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1197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1197000"/>
            <a:ext cx="79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The ladder for sanitation and wa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  <a:ea typeface="SimSun"/>
              </a:rPr>
              <a:t>Disaggregating helps…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6560" y="2781360"/>
            <a:ext cx="2159280" cy="4076640"/>
            <a:chOff x="466560" y="2781360"/>
            <a:chExt cx="2159280" cy="4076640"/>
          </a:xfrm>
        </p:grpSpPr>
        <p:sp>
          <p:nvSpPr>
            <p:cNvPr id="261" name=""/>
            <p:cNvSpPr/>
            <p:nvPr/>
          </p:nvSpPr>
          <p:spPr>
            <a:xfrm>
              <a:off x="466560" y="5842080"/>
              <a:ext cx="2157480" cy="10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ae8"/>
                  </a:solidFill>
                  <a:latin typeface="Arial"/>
                  <a:ea typeface="SimSun"/>
                </a:rPr>
                <a:t>Open defe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4800600"/>
              <a:ext cx="2155680" cy="1041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nimproved sanitation facilities</a:t>
              </a:r>
              <a:r>
                <a:rPr b="1" lang="en-US" sz="2200" spc="-1" strike="noStrike">
                  <a:solidFill>
                    <a:srgbClr val="008ae8"/>
                  </a:solidFill>
                  <a:latin typeface="Arial"/>
                  <a:ea typeface="SimSu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560" y="3835440"/>
              <a:ext cx="2157480" cy="996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hared sani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acil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9800" y="2781360"/>
              <a:ext cx="2156040" cy="10414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proved sanitation facilities</a:t>
              </a:r>
              <a:r>
                <a:rPr b="1" lang="en-US" sz="1800" spc="-1" strike="noStrike">
                  <a:solidFill>
                    <a:srgbClr val="008ae8"/>
                  </a:solidFill>
                  <a:latin typeface="Arial"/>
                  <a:ea typeface="SimSu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59640" y="3038400"/>
            <a:ext cx="2241360" cy="3816360"/>
            <a:chOff x="6659640" y="3038400"/>
            <a:chExt cx="2241360" cy="3816360"/>
          </a:xfrm>
        </p:grpSpPr>
        <p:sp>
          <p:nvSpPr>
            <p:cNvPr id="266" name=""/>
            <p:cNvSpPr/>
            <p:nvPr/>
          </p:nvSpPr>
          <p:spPr>
            <a:xfrm>
              <a:off x="6659640" y="4309920"/>
              <a:ext cx="2241360" cy="1293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Other improved drinking water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5583240"/>
              <a:ext cx="2241360" cy="127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Unimproved drink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water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3038400"/>
              <a:ext cx="2241360" cy="127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iped water in dwelling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lot or yar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484360" y="2133720"/>
            <a:ext cx="396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Moving from Improved/Unimproved dichotomy to a more refined situ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1480" y="1916280"/>
            <a:ext cx="198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Sanit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(4 run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16360" y="2781360"/>
            <a:ext cx="0" cy="1054080"/>
          </a:xfrm>
          <a:prstGeom prst="line">
            <a:avLst/>
          </a:prstGeom>
          <a:ln w="66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2782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1880" y="38354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43640" y="3068280"/>
            <a:ext cx="0" cy="2492280"/>
          </a:xfrm>
          <a:prstGeom prst="line">
            <a:avLst/>
          </a:prstGeom>
          <a:ln w="66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99280" y="3068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0560" y="55641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4140360" y="5013360"/>
            <a:ext cx="10033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SimSun"/>
              </a:rPr>
              <a:t>Improved as per MD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058920" y="3284280"/>
            <a:ext cx="1081080" cy="230508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48360" y="4149720"/>
            <a:ext cx="1152360" cy="129528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916280"/>
            <a:ext cx="14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Water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(3 run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7:53:34Z</dcterms:created>
  <dc:creator>Rolf Luyendijk</dc:creator>
  <dc:description/>
  <dc:language>en-US</dc:language>
  <cp:lastModifiedBy>hossainr</cp:lastModifiedBy>
  <dcterms:modified xsi:type="dcterms:W3CDTF">2008-05-14T15:59:07Z</dcterms:modified>
  <cp:revision>69</cp:revision>
  <dc:subject/>
  <dc:title>JMP Definitions, indicators and their measur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9566457</vt:r8>
  </property>
  <property fmtid="{D5CDD505-2E9C-101B-9397-08002B2CF9AE}" pid="3" name="_AuthorEmail">
    <vt:lpwstr>hossainr@who.int</vt:lpwstr>
  </property>
  <property fmtid="{D5CDD505-2E9C-101B-9397-08002B2CF9AE}" pid="4" name="_AuthorEmailDisplayName">
    <vt:lpwstr>Hossain, Rifat</vt:lpwstr>
  </property>
  <property fmtid="{D5CDD505-2E9C-101B-9397-08002B2CF9AE}" pid="5" name="_EmailSubject">
    <vt:lpwstr>Census topics on water and sanitation</vt:lpwstr>
  </property>
  <property fmtid="{D5CDD505-2E9C-101B-9397-08002B2CF9AE}" pid="6" name="_NewReviewCycle">
    <vt:lpwstr/>
  </property>
</Properties>
</file>