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E3F6-6BCD-4D0F-983D-6D318581A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F441-BB03-40FB-A96E-7E73A9D74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9DEF-CDC4-49C3-A4B1-4A1F66D2B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FBF3-23D9-4D03-AE28-52C757A75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1557-8AA9-4E3A-A738-AEB790FFF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AD79-3B73-452F-ACE4-9370C8373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E4D9-2E77-4C5B-A64F-F93E711FD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E4AE-5AB5-4086-B2BA-940282A34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AA6B-335C-4C6F-BF9E-A88FFBB39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F64D-B6A5-4F20-A767-C2401D8D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24F5-8430-4D72-AD2D-1CFECC54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0F18-EC8C-417F-B195-18CCFF53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B2DC9-253D-4E7A-B0C3-776695CBC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2276280"/>
            <a:ext cx="7772400" cy="23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ensus quality evaluation: Considerations from an international 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5084280"/>
            <a:ext cx="6913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rnard Baffour and Paolo Val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ECE Statistical Di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03280" y="836640"/>
            <a:ext cx="6553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oint UNECE/Eurostat Meetin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Population and Housing Cens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va, 13-15 May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lected Quality Evaluation Issues: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. Traditional Cens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50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eva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 of the census questionn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 of topics: users needs vs.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 census consul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urac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age and content errors evaluated with P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Demographic analysis, comparison with other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line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ect of planned calendar of output rel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be difficult to achieve due to size of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lected Quality Evaluation Issues: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. Register-Based Cens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50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eva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questionn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s needs vs. data available from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ications of using data collected for admin. 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ltation and feedback from us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urac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ss coverage and quality of data in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ss data integration: Matching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ency of values from different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ison with data from last traditional cen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line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updating schedules for different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siderations from an International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6920" y="2205000"/>
            <a:ext cx="7490160" cy="41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Some countries have long tradition and adopt several evaluation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Others have limited experience and need to develop capa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Challenges in evaluating quality of </a:t>
            </a:r>
            <a:br>
              <a:rPr sz="3200"/>
            </a:b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non-traditional cens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tivities at international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6920" y="2205000"/>
            <a:ext cx="7848720" cy="41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CES Census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UNSD Principles and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Eurostat: Work on census quality cri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UNSD: Plans for Handbook on census evaluation/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What should International Organisations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128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Produce and disseminate guidelines, manuals, methodological materi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Promote methodological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Are standards needed on census quality evalu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y definitions and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ment of dimensions of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y evaluation issues for different census method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tional perspective: What role for the International Organis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Definition of Quality and Census Quality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8137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y is defined as the ‘fitness for use’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sus quality translates into assessment of information produced by the cen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sus quality characterized in terms of six dimens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evance, Accuracy, Timeliness, Accessibility, Interpretability, Coherenc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mensions of Qu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ev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ncerns the user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urac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ncerns the reliability and prec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melin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ncerns the time fr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essibi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ncerns the dissemination strategy empl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pretabi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ncerns how easy to understand the data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her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ncerns the conceptual integrity of the census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sessment of the Dimensions of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uracy: quantification of the different err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verage, content, operational err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verage Assessment: Post-Enumeration Survey, Demographic Analysis, Comparison to Alternative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essment: Edit and I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onal Assessment: Rigorous review of all census proces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sessment of Coherence and Interpre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l Coh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idation and 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for inconsistencies, incongru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rnal Coh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ison to other data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pretability aided by comprehensive metadata provi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pts, Methodology, 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Assessment of Accessibility, Relevance, and Timelines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semination program – mix of free and tailor-made census products and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vailability of (non-disclosive) micro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agement of user requirements and expec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ear, realistic targ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r and public consultations and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Evaluation Issues for Different Census Method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sus methodology adopted influences the assessment of census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The same quality dimension may be measured in different ways for different types of cens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Important implications of census methodology on quality 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Evaluation Issues for Different Census Method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sus methodolog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itional cen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ster-based cen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ation of registers + full enum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ation of registers + sampl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itional enumeration with yearly updates of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ling cens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3T10:41:39Z</dcterms:created>
  <dc:creator>Bernie</dc:creator>
  <dc:description/>
  <dc:language>en-US</dc:language>
  <cp:lastModifiedBy>Valente</cp:lastModifiedBy>
  <dcterms:modified xsi:type="dcterms:W3CDTF">2008-05-14T06:41:31Z</dcterms:modified>
  <cp:revision>18</cp:revision>
  <dc:subject/>
  <dc:title>Census Quality Evaluation</dc:title>
</cp:coreProperties>
</file>