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28B-B669-4CAB-A20A-3988C2CA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673-D6AD-4993-91FC-2684AFF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73A-5785-4DD5-98D8-062F7F7E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687-C29F-40D4-8F38-A3B96C4C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14D-02AE-454A-9CD9-34F9F5F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2FD-3444-4EF2-BEBE-3D371CC1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F18-8800-4FE7-B949-D9F4F48E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795-6807-4A95-8AAD-2205F005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A54-786F-4F67-9B25-0FA4A50E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56E-5B2D-46FD-8A84-090796C9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BF6-2A4A-4758-9B17-2732F470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A40-4911-42F4-9E80-F6276C45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4C62-D2F6-4499-AFBC-4E3A1B4B9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nsus quality evaluation: Considerations from an internation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913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rnard Baffour and Paolo 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836640"/>
            <a:ext cx="65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t UNECE/Eurostat Meet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Population and Housing Cens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va, 13-15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ed Quality Evaluation Issues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Traditional Cen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of the census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opics: users needs vs.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census cons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and content errors evaluated with 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mographic analysis, comparison with other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of planned calendar of output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difficult to achieve due to size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ed Quality Evaluation Issues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Register-Based Cen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needs vs. data available from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 of using data collected for admin.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 and feedback from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verage and quality of data in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data integration: Matching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of values from differ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with data from last traditional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updating schedules for differen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iderations from an Internat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49016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ome countries have long tradition and adopt several evalu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thers have limited experience and need to develop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hallenges in evaluating quality of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non-traditional cens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ties at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84872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ES Census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UNSD Principles and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urostat: Work on census quality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UNSD: Plans for Handbook on census evaluation/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hat should International Organisation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Produce and disseminate guidelines, manuals, methodological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Promote methodological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re standards needed on census quality eval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definitions an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dimensions of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evaluation issues for different census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perspective: What role for the International Organis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efinition of Quality and Census Qualit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is defined as the ‘fitness for use’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quality translates into assessment of information produced by the 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quality characterized in terms of six dimen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, Accuracy, Timeliness, Accessibility, Interpretability, Coher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us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reliability an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l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dissemination strategy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how easy to understand the data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conceptual integrity of the censu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of the Dimensions of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: quantification of the different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, content, operational err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 Assessment: Post-Enumeration Survey, Demographic Analysis, Comparison to Alternati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essment: Edit and I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Assessment: Rigorous review of all census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of Coherence and Interpre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h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and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for inconsistencies, incongru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h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to other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bility aided by comprehensive metadata pro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, Methodology,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ssessment of Accessibility, Relevance, and Timelin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semination program – mix of free and tailor-made census product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ility of (non-disclosive) micro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ment of user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, realistic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and public consultation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Evaluation Issues for Different Census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methodology adopted influences the assessment of census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he same quality dimension may be measured in different ways for different types of cens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mportant implications of census methodology on quality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Evaluation Issues for Different Census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methodolo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-based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registers + full 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registers +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enumeration with yearly updates of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cen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0:41:39Z</dcterms:created>
  <dc:creator>Bernie</dc:creator>
  <dc:description/>
  <dc:language>en-US</dc:language>
  <cp:lastModifiedBy>Valente</cp:lastModifiedBy>
  <dcterms:modified xsi:type="dcterms:W3CDTF">2008-05-14T06:41:31Z</dcterms:modified>
  <cp:revision>18</cp:revision>
  <dc:subject/>
  <dc:title>Census Quality Evaluation</dc:title>
</cp:coreProperties>
</file>