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CB2-D6D0-463E-AAED-27267D2B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09E-5B89-45AF-9BB8-AE8FFF33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11D-4680-44BC-8803-275E68F6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FC3-1FF6-426C-A0D8-A12EBE21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F5E-C90B-4B6B-B41D-B0DC2E7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D07-AB9B-468C-ACCF-1DD2BC97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460-5C5B-438B-9378-C6C4546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19A-0A05-4BD0-9A45-3E274D4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FE2-F648-4257-9707-A84C27B8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0B5-7D46-4391-90F4-7496E82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63B-BA71-42C7-96C7-E6B332D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517-37E1-452E-8814-5FA32D4D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8468E2-FEA4-475F-B01A-335143AD6B5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SLE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bs.nl/en-GB/menu/themas/bevolking/publicaties/artikelen/archief/2008/2008-2411-wm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6280"/>
            <a:ext cx="7488360" cy="19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stimation of the number of former Yugoslavs by present bord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565360"/>
            <a:ext cx="7559640" cy="38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al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partment Support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ction Research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SLE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NECE-Eurostat Meeting on Population and Housing Censuses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 Genev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13-15 May 2008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ther countr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1341360"/>
            <a:ext cx="745164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stimating the numbers from other former countries by present border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Czechoslovakia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oviet Un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imilar techniques applied for regional distributions in main countries of immigrant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Morocco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urke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urinam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Dutch Antilles and Aruba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21B-AF50-4DD3-A615-030AAE897F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1280" y="5624280"/>
            <a:ext cx="8028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ime for questions and 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43280" y="1160640"/>
            <a:ext cx="6589440" cy="432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908000" y="476280"/>
            <a:ext cx="56102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ccffcc">
                    <a:alpha val="95000"/>
                  </a:srgbClr>
                </a:solidFill>
                <a:latin typeface="Arial Black"/>
              </a:rPr>
              <a:t>Thank you for your attention!</a:t>
            </a:r>
            <a:endParaRPr b="0" lang="en-US" sz="2800" spc="1" strike="noStrike">
              <a:ln w="15840">
                <a:solidFill>
                  <a:srgbClr val="008000"/>
                </a:solidFill>
                <a:miter/>
              </a:ln>
              <a:solidFill>
                <a:srgbClr val="ccffcc">
                  <a:alpha val="95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CA5-2998-4773-837F-1F92DB5636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port of the EGM on register-based census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Place of birth as source of inform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ormer Yugoslavia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Other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55A-7B03-4919-B464-0753A7A058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97000"/>
            <a:ext cx="752472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8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UNECE-Eurostat Meeting on Population and Housing Censuses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 Astana, 4-6 June 2007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NECE-Eurostat Expert Group Meeting on the Implementation of the CES Census Recommendations for Register-Based Censuses in Astana, 7-8 June 2007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sraelian delegation visited Statistics Netherlands (November 2007) and Statistics Finland (December 2007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ular contacts within the Nordic countries and between the Netherlands and the Nordic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F68-EA2E-4FD1-BDAC-F40EBCCCC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225360"/>
            <a:ext cx="75247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eport of the EGM on register-based cens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5640" y="1521000"/>
            <a:ext cx="748836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fficult-to-measure topics for register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sual residence (also discussed in the Working Group on Demography and Census in Luxembourg in March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ohabi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thnicity / country or ethnic back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ctivity status (also discussed in the Working Group on Demography and Census in Luxembourg in March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nemployment according to the ILO defin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ountry of birth according to new boundaries for immigrants of former Yugosla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02A-546A-4CCA-9E3A-6D16B42D26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97000"/>
            <a:ext cx="7451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of birth as source of inform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000" y="1807920"/>
            <a:ext cx="74516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blem: </a:t>
            </a:r>
            <a:br>
              <a:rPr sz="2400"/>
            </a:b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opulation Registers do not contain the country of birth by present bord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n a traditional Censu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sk further if the country of birth mentioned does no longer exist (neglect border changes?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n a register-based Censu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Make use of the place of birth to find the country of birth by present bord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1B6-7946-4045-A97F-944A70FB7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5280" y="33300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ormer Yugoslavi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2000" y="1125360"/>
            <a:ext cx="7451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Now we distinguish seven part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lovenia, Croatia, Bosnia, Serbia (excl. Kosovo), Kosovo, Montenegro and Macedoni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cent webmagazine about some 8,500 Kosovars in the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cbs.nl/en-GB/menu/themas/bevolking/publicaties/artikelen/archief/2008/2008-2411-wm.htm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About 75,500 people in the Netherlands are former Yugoslavs and their childre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Two main group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Labour immigrants in the seventies and eighti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Refugees in the nineti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FD2-9498-4459-B404-9AB8326D7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ormer Yugoslavi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92000" y="1375920"/>
            <a:ext cx="7451640" cy="49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We know from the Dutch Population Register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Where they were bor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Where their parents were born (ethnic background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Classify them by present bord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Only for those born before the present countries emerged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Only for those from frequently occurring places of birth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Ask experts (e.g. people born in Yugoslavia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Impute the remaining missing par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F3C-3882-4675-A93B-0777CF82F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ormer Yugoslavi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1160640"/>
            <a:ext cx="745164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plications in the classification proces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Different ways of writing the same place of birth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Places of birth with the same nam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How to impute properly?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Imputation option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All records based on the population distribution over the parts of former Yugoslavia (simple but poor quality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he remaining missing part based on the distribution of the classified places of birth in the same period of immigration (the chosen option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FF0-45B1-44FC-9EAB-BCB9865F2C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ormer Yugoslavia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44720" y="1552680"/>
          <a:ext cx="6967440" cy="37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552680"/>
                    <a:ext cx="696744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419-C7F1-4C4E-8DD7-33B31837C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08-04-18T09:51:42Z</dcterms:modified>
  <cp:revision>320</cp:revision>
  <dc:subject/>
  <dc:title>Combined use of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9471410</vt:r8>
  </property>
  <property fmtid="{D5CDD505-2E9C-101B-9397-08002B2CF9AE}" pid="3" name="_AuthorEmail">
    <vt:lpwstr>ESLE@CBS.nl</vt:lpwstr>
  </property>
  <property fmtid="{D5CDD505-2E9C-101B-9397-08002B2CF9AE}" pid="4" name="_AuthorEmailDisplayName">
    <vt:lpwstr>Schulte Nordholt, drs E.</vt:lpwstr>
  </property>
  <property fmtid="{D5CDD505-2E9C-101B-9397-08002B2CF9AE}" pid="5" name="_EmailSubject">
    <vt:lpwstr>Immigrants of former Yugoslavia</vt:lpwstr>
  </property>
</Properties>
</file>