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8C2B-3821-450B-9757-57C7B7BB8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04760" y="59400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904760" y="1600200"/>
            <a:ext cx="655308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904760" y="3948480"/>
            <a:ext cx="655308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3FD6-1613-4D99-A080-BAC4BAC03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04760" y="59400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904760" y="1600200"/>
            <a:ext cx="319788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62840" y="1600200"/>
            <a:ext cx="319788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904760" y="3948480"/>
            <a:ext cx="319788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262840" y="3948480"/>
            <a:ext cx="319788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1120-1F6D-475B-9EEE-C89BDA0BE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04760" y="59400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04760" y="1600200"/>
            <a:ext cx="21099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120560" y="1600200"/>
            <a:ext cx="21099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36360" y="1600200"/>
            <a:ext cx="21099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904760" y="3948480"/>
            <a:ext cx="21099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120560" y="3948480"/>
            <a:ext cx="21099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36360" y="3948480"/>
            <a:ext cx="21099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BB64-1D98-40BE-B45C-11B5742D1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04760" y="59400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904760" y="1600200"/>
            <a:ext cx="6553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F496-20F8-4ACC-AB29-957BF4C22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04760" y="59400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04760" y="1600200"/>
            <a:ext cx="65530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5D58-9CA0-44B0-8AB3-97B6B4744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04760" y="59400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04760" y="1600200"/>
            <a:ext cx="31978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262840" y="1600200"/>
            <a:ext cx="31978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66D2-537B-498C-AC89-66E2352F1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04760" y="59400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1288-262E-49DF-B6A4-3B98B1539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904760" y="609480"/>
            <a:ext cx="655308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1493-ACE3-45F1-A0A2-0A2062C28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04760" y="59400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904760" y="1600200"/>
            <a:ext cx="319788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62840" y="1600200"/>
            <a:ext cx="31978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904760" y="3948480"/>
            <a:ext cx="319788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6B96-CB44-4CAB-856B-D7E1225D5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04760" y="59400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904760" y="1600200"/>
            <a:ext cx="31978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62840" y="1600200"/>
            <a:ext cx="319788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262840" y="3948480"/>
            <a:ext cx="319788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F189-06BD-43A4-A3AA-22C3D4577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04760" y="59400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904760" y="1600200"/>
            <a:ext cx="319788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62840" y="1600200"/>
            <a:ext cx="319788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904760" y="3948480"/>
            <a:ext cx="655308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E9A4-7283-40DE-9A01-26BDCFA89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04760" y="609480"/>
            <a:ext cx="65530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04760" y="1600200"/>
            <a:ext cx="65530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lvl="1" marL="399960" indent="-285480">
              <a:spcBef>
                <a:spcPts val="601"/>
              </a:spcBef>
              <a:buClr>
                <a:srgbClr val="66ccff"/>
              </a:buClr>
              <a:buFont typeface="Arial"/>
              <a:buChar char="–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lvl="2" marL="739800" indent="-22536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lvl="3" marL="930240" indent="32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lvl="4" marL="1547640" indent="-217440">
              <a:spcBef>
                <a:spcPts val="601"/>
              </a:spcBef>
              <a:buClr>
                <a:srgbClr val="99ff66"/>
              </a:buClr>
              <a:buFont typeface="Arial"/>
              <a:buChar char="–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lvl="5" marL="1547640" indent="-2174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lvl="6" marL="1547640" indent="-2174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453270D-2A96-4C3E-B5AB-EDB5E3CC4233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1600200" cy="6856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326880" y="5715000"/>
            <a:ext cx="517680" cy="868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ESLE@CBS.NL" TargetMode="External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cbs.nl/en-GB/menu/themas/bevolking/publicaties/artikelen/archief/2008/2008-2411-wm.htm" TargetMode="Externa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55280" y="476280"/>
            <a:ext cx="7488360" cy="190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Estimation of the number of former Yugoslavs by present border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84000" y="2565360"/>
            <a:ext cx="7559640" cy="385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Eric Schulte Nordholt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Senior researcher and project leader of the Census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Statistics Netherlands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Division Social and Spatial Statistics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000" spc="-1" strike="noStrike">
                <a:solidFill>
                  <a:srgbClr val="33cc33"/>
                </a:solidFill>
                <a:latin typeface="Arial"/>
              </a:rPr>
              <a:t>Department Support and Development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000" spc="-1" strike="noStrike">
                <a:solidFill>
                  <a:srgbClr val="33cc33"/>
                </a:solidFill>
                <a:latin typeface="Arial"/>
              </a:rPr>
              <a:t>Section Research and Development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 u="sng">
                <a:solidFill>
                  <a:srgbClr val="ff0033"/>
                </a:solidFill>
                <a:uFillTx/>
                <a:latin typeface="Arial"/>
                <a:hlinkClick r:id="rId1"/>
              </a:rPr>
              <a:t>ESLE@CBS.NL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UNECE-Eurostat Meeting on Population and Housing Censuses </a:t>
            </a:r>
            <a:r>
              <a:rPr b="1" lang="en-GB" sz="2000" spc="-1" strike="noStrike">
                <a:solidFill>
                  <a:srgbClr val="ff9900"/>
                </a:solidFill>
                <a:latin typeface="Arial"/>
              </a:rPr>
              <a:t>in Geneva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ff9900"/>
                </a:solidFill>
                <a:latin typeface="Arial"/>
              </a:rPr>
              <a:t>13-15 May 2008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55280" y="456840"/>
            <a:ext cx="748836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Other countrie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692000" y="1341360"/>
            <a:ext cx="745164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indent="0">
              <a:lnSpc>
                <a:spcPct val="5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Estimating the numbers from other former countries by present borders: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33cc33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nl-NL" sz="2400" spc="-1" strike="noStrike">
                <a:solidFill>
                  <a:srgbClr val="33cc33"/>
                </a:solidFill>
                <a:latin typeface="Arial"/>
              </a:rPr>
              <a:t>Czechoslovakia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33cc33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nl-NL" sz="2400" spc="-1" strike="noStrike">
                <a:solidFill>
                  <a:srgbClr val="33cc33"/>
                </a:solidFill>
                <a:latin typeface="Arial"/>
              </a:rPr>
              <a:t>Soviet Union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33cc33"/>
                </a:solidFill>
                <a:latin typeface="Arial"/>
              </a:rPr>
              <a:t>Similar techniques applied for regional distributions in main countries of immigrants: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33cc33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nl-NL" sz="2400" spc="-1" strike="noStrike">
                <a:solidFill>
                  <a:srgbClr val="33cc33"/>
                </a:solidFill>
                <a:latin typeface="Arial"/>
              </a:rPr>
              <a:t>Morocco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33cc33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nl-NL" sz="2400" spc="-1" strike="noStrike">
                <a:solidFill>
                  <a:srgbClr val="33cc33"/>
                </a:solidFill>
                <a:latin typeface="Arial"/>
              </a:rPr>
              <a:t>Turkey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33cc33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nl-NL" sz="2400" spc="-1" strike="noStrike">
                <a:solidFill>
                  <a:srgbClr val="33cc33"/>
                </a:solidFill>
                <a:latin typeface="Arial"/>
              </a:rPr>
              <a:t>Surinam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33cc33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nl-NL" sz="2400" spc="-1" strike="noStrike">
                <a:solidFill>
                  <a:srgbClr val="33cc33"/>
                </a:solidFill>
                <a:latin typeface="Arial"/>
              </a:rPr>
              <a:t>Dutch Antilles and Aruba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DAD0-17F5-4B24-A653-BFBA6C70479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11280" y="5624280"/>
            <a:ext cx="80280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3600" spc="-1" strike="noStrike">
                <a:solidFill>
                  <a:srgbClr val="ffff00"/>
                </a:solidFill>
                <a:latin typeface="Arial"/>
              </a:rPr>
              <a:t>Time for questions and discussio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3200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64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200" spc="-1" strike="noStrike">
                <a:solidFill>
                  <a:srgbClr val="33cc33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33cc33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943280" y="1160640"/>
            <a:ext cx="6589440" cy="43210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1908000" y="476280"/>
            <a:ext cx="5610240" cy="495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499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5840">
                  <a:solidFill>
                    <a:srgbClr val="008000"/>
                  </a:solidFill>
                  <a:miter/>
                </a:ln>
                <a:solidFill>
                  <a:srgbClr val="ccffcc">
                    <a:alpha val="95000"/>
                  </a:srgbClr>
                </a:solidFill>
                <a:latin typeface="Arial Black"/>
              </a:rPr>
              <a:t>Thank you for your attention!</a:t>
            </a:r>
            <a:endParaRPr b="0" lang="en-US" sz="2800" spc="1" strike="noStrike">
              <a:ln w="15840">
                <a:solidFill>
                  <a:srgbClr val="008000"/>
                </a:solidFill>
                <a:miter/>
              </a:ln>
              <a:solidFill>
                <a:srgbClr val="ccffcc">
                  <a:alpha val="95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0718-4E3E-4F7C-9E45-5101A8A6FAA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500"/>
                            </p:stCondLst>
                            <p:childTnLst>
                              <p:par>
                                <p:cTn id="1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19280" y="609480"/>
            <a:ext cx="75247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3600" spc="-1" strike="noStrike">
                <a:solidFill>
                  <a:srgbClr val="ffff00"/>
                </a:solidFill>
                <a:latin typeface="Arial"/>
              </a:rPr>
              <a:t>Content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19280" y="1521000"/>
            <a:ext cx="7524720" cy="428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1049"/>
              </a:spcBef>
              <a:buClr>
                <a:srgbClr val="33cc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Introduction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>
              <a:spcBef>
                <a:spcPts val="1049"/>
              </a:spcBef>
              <a:buClr>
                <a:srgbClr val="33cc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Report of the EGM on register-based censuses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>
              <a:spcBef>
                <a:spcPts val="1049"/>
              </a:spcBef>
              <a:buClr>
                <a:srgbClr val="33cc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nl-NL" sz="2400" spc="-1" strike="noStrike">
                <a:solidFill>
                  <a:srgbClr val="33cc33"/>
                </a:solidFill>
                <a:latin typeface="Arial"/>
              </a:rPr>
              <a:t>Place of birth as source of information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>
              <a:spcBef>
                <a:spcPts val="1049"/>
              </a:spcBef>
              <a:buClr>
                <a:srgbClr val="33cc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Former Yugoslavia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>
              <a:spcBef>
                <a:spcPts val="1049"/>
              </a:spcBef>
              <a:buClr>
                <a:srgbClr val="33cc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Other countries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A6A3-2495-455E-A055-1B32804282B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19280" y="297000"/>
            <a:ext cx="7524720" cy="90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Introduction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619280" y="1521000"/>
            <a:ext cx="7524720" cy="4836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UNECE-Eurostat Meeting on Population and Housing Censuses </a:t>
            </a: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in Astana, 4-6 June 2007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UNECE-Eurostat Expert Group Meeting on the Implementation of the CES Census Recommendations for Register-Based Censuses in Astana, 7-8 June 2007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Israelian delegation visited Statistics Netherlands (November 2007) and Statistics Finland (December 2007)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Regular contacts within the Nordic countries and between the Netherlands and the Nordic countries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AF86-6CE9-4F06-B228-8168A51618A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619280" y="225360"/>
            <a:ext cx="7524720" cy="10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Report of the EGM on register-based censu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55640" y="1521000"/>
            <a:ext cx="7488360" cy="47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ifficult-to-measure topics for register countr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15000"/>
              </a:lnSpc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Usual residence (also discussed in the Working Group on Demography and Census in Luxembourg in March 2008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15000"/>
              </a:lnSpc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Cohabit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15000"/>
              </a:lnSpc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Ethnicity / country or ethnic backgroun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15000"/>
              </a:lnSpc>
              <a:spcBef>
                <a:spcPts val="1375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Activity status (also discussed in the Working Group on Demography and Census in Luxembourg in March 2008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15000"/>
              </a:lnSpc>
              <a:spcBef>
                <a:spcPts val="1375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Unemployment according to the ILO defini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15000"/>
              </a:lnSpc>
              <a:spcBef>
                <a:spcPts val="1375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Country of birth according to new boundaries for immigrants of former Yugoslav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BE14-D171-4565-B0F8-70C02E8C539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92000" y="297000"/>
            <a:ext cx="7451640" cy="100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lace of birth as source of information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692000" y="1807920"/>
            <a:ext cx="7451640" cy="453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problem: </a:t>
            </a:r>
            <a:br>
              <a:rPr sz="2400"/>
            </a:b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Population Registers do not contain the country of birth by present borders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lution in a traditional Census: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3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Ask further if the country of birth mentioned does no longer exist (neglect border changes?)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lution in a register-based Census: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Make use of the place of birth to find the country of birth by present borders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B431-64D7-466E-BF1D-6EF69890EA7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55280" y="333000"/>
            <a:ext cx="748836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Former Yugoslavia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(1)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692000" y="1125360"/>
            <a:ext cx="745164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Now we distinguish seven parts: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Slovenia, Croatia, Bosnia, Serbia (excl. Kosovo), Kosovo, Montenegro and Macedonia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Recent webmagazine about some 8,500 Kosovars in the Netherlands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000" spc="-1" strike="noStrike" u="sng">
                <a:solidFill>
                  <a:srgbClr val="ff0033"/>
                </a:solidFill>
                <a:uFillTx/>
                <a:latin typeface="Arial"/>
                <a:hlinkClick r:id="rId1"/>
              </a:rPr>
              <a:t>http://www.cbs.nl/en-GB/menu/themas/bevolking/publicaties/artikelen/archief/2008/2008-2411-wm.htm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000" spc="-1" strike="noStrike">
                <a:solidFill>
                  <a:srgbClr val="33cc33"/>
                </a:solidFill>
                <a:latin typeface="Arial"/>
              </a:rPr>
              <a:t>About 75,500 people in the Netherlands are former Yugoslavs and their children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000" spc="-1" strike="noStrike">
                <a:solidFill>
                  <a:srgbClr val="33cc33"/>
                </a:solidFill>
                <a:latin typeface="Arial"/>
              </a:rPr>
              <a:t>Two main groups: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cc33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0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nl-NL" sz="2000" spc="-1" strike="noStrike">
                <a:solidFill>
                  <a:srgbClr val="33cc33"/>
                </a:solidFill>
                <a:latin typeface="Arial"/>
              </a:rPr>
              <a:t>Labour immigrants in the seventies and eighties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cc33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0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nl-NL" sz="2000" spc="-1" strike="noStrike">
                <a:solidFill>
                  <a:srgbClr val="33cc33"/>
                </a:solidFill>
                <a:latin typeface="Arial"/>
              </a:rPr>
              <a:t>Refugees in the nineties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298A-8790-404C-AF04-C947E981EA4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55280" y="456840"/>
            <a:ext cx="748836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Former Yugoslavia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(2)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692000" y="1375920"/>
            <a:ext cx="7451640" cy="493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indent="0">
              <a:lnSpc>
                <a:spcPct val="5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We know from the Dutch Population Register: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nl-NL" sz="2400" spc="-1" strike="noStrike">
                <a:solidFill>
                  <a:srgbClr val="33cc33"/>
                </a:solidFill>
                <a:latin typeface="Arial"/>
              </a:rPr>
              <a:t>Where they were born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nl-NL" sz="2400" spc="-1" strike="noStrike">
                <a:solidFill>
                  <a:srgbClr val="33cc33"/>
                </a:solidFill>
                <a:latin typeface="Arial"/>
              </a:rPr>
              <a:t>Where their parents were born (ethnic background)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33cc33"/>
                </a:solidFill>
                <a:latin typeface="Arial"/>
              </a:rPr>
              <a:t>Classify them by present borders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nl-NL" sz="2400" spc="-1" strike="noStrike">
                <a:solidFill>
                  <a:srgbClr val="33cc33"/>
                </a:solidFill>
                <a:latin typeface="Arial"/>
              </a:rPr>
              <a:t>Only for those born before the present countries emerged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nl-NL" sz="2400" spc="-1" strike="noStrike">
                <a:solidFill>
                  <a:srgbClr val="33cc33"/>
                </a:solidFill>
                <a:latin typeface="Arial"/>
              </a:rPr>
              <a:t>Only for those from frequently occurring places of birth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nl-NL" sz="2400" spc="-1" strike="noStrike">
                <a:solidFill>
                  <a:srgbClr val="33cc33"/>
                </a:solidFill>
                <a:latin typeface="Arial"/>
              </a:rPr>
              <a:t>Ask experts (e.g. people born in Yugoslavia)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nl-NL" sz="2400" spc="-1" strike="noStrike">
                <a:solidFill>
                  <a:srgbClr val="33cc33"/>
                </a:solidFill>
                <a:latin typeface="Arial"/>
              </a:rPr>
              <a:t>Impute the remaining missing part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D488-8FBE-47BE-A678-DB10AFBC403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55280" y="456840"/>
            <a:ext cx="748836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Former Yugoslavia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(3)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692000" y="1160640"/>
            <a:ext cx="7451640" cy="514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indent="0">
              <a:lnSpc>
                <a:spcPct val="5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Complications in the classification process: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33cc33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nl-NL" sz="2400" spc="-1" strike="noStrike">
                <a:solidFill>
                  <a:srgbClr val="33cc33"/>
                </a:solidFill>
                <a:latin typeface="Arial"/>
              </a:rPr>
              <a:t>Different ways of writing the same place of birth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33cc33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nl-NL" sz="2400" spc="-1" strike="noStrike">
                <a:solidFill>
                  <a:srgbClr val="33cc33"/>
                </a:solidFill>
                <a:latin typeface="Arial"/>
              </a:rPr>
              <a:t>Places of birth with the same name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33cc33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nl-NL" sz="2400" spc="-1" strike="noStrike">
                <a:solidFill>
                  <a:srgbClr val="33cc33"/>
                </a:solidFill>
                <a:latin typeface="Arial"/>
              </a:rPr>
              <a:t>How to impute properly?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33cc33"/>
                </a:solidFill>
                <a:latin typeface="Arial"/>
              </a:rPr>
              <a:t>Imputation options: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33cc33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nl-NL" sz="2400" spc="-1" strike="noStrike">
                <a:solidFill>
                  <a:srgbClr val="33cc33"/>
                </a:solidFill>
                <a:latin typeface="Arial"/>
              </a:rPr>
              <a:t>All records based on the population distribution over the parts of former Yugoslavia (simple but poor quality)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33cc33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nl-NL" sz="2400" spc="-1" strike="noStrike">
                <a:solidFill>
                  <a:srgbClr val="33cc33"/>
                </a:solidFill>
                <a:latin typeface="Arial"/>
              </a:rPr>
              <a:t>The remaining missing part based on the distribution of the classified places of birth in the same period of immigration (the chosen option)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784F-62AD-4117-A102-B7C80596BF8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04760" y="609480"/>
            <a:ext cx="65530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Former Yugoslavia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(4)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1944720" y="1552680"/>
          <a:ext cx="6967440" cy="3771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4720" y="1552680"/>
                    <a:ext cx="6967440" cy="37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AAF8-E7D6-4DBB-8189-009464D4673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2T14:33:14Z</dcterms:created>
  <dc:creator>Eric Schulte Nordholt</dc:creator>
  <dc:description/>
  <dc:language>en-US</dc:language>
  <cp:lastModifiedBy>Eric</cp:lastModifiedBy>
  <cp:lastPrinted>2002-02-11T11:11:40Z</cp:lastPrinted>
  <dcterms:modified xsi:type="dcterms:W3CDTF">2008-04-18T09:51:42Z</dcterms:modified>
  <cp:revision>320</cp:revision>
  <dc:subject/>
  <dc:title>Combined use of dat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379471410</vt:r8>
  </property>
  <property fmtid="{D5CDD505-2E9C-101B-9397-08002B2CF9AE}" pid="3" name="_AuthorEmail">
    <vt:lpwstr>ESLE@CBS.nl</vt:lpwstr>
  </property>
  <property fmtid="{D5CDD505-2E9C-101B-9397-08002B2CF9AE}" pid="4" name="_AuthorEmailDisplayName">
    <vt:lpwstr>Schulte Nordholt, drs E.</vt:lpwstr>
  </property>
  <property fmtid="{D5CDD505-2E9C-101B-9397-08002B2CF9AE}" pid="5" name="_EmailSubject">
    <vt:lpwstr>Immigrants of former Yugoslavia</vt:lpwstr>
  </property>
</Properties>
</file>