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C222-7E02-49A9-9F9C-EE37D48F1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705F-52A0-4CFB-B92A-9DBE8A4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3A6C-8E79-4C66-8F13-EA18BAD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8B51-0613-4DB8-9CB4-48FBE9F84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9C24-7284-4EC3-A913-7E13A42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2BC4-3726-484E-BB0C-37FFE40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F22E-FD2E-4212-BD8A-B8EE707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6B3B-137E-4C0E-BAE2-C4D52AA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5E48-4647-494D-B35F-7F18B034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FF45-67D8-45A2-BE50-6CE35405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D586-FF21-4CF1-9B37-CAEDE9C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861C-72ED-4041-914A-E82A0316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ae002c"/>
                </a:solidFill>
                <a:latin typeface="Futura Condensed"/>
              </a:rPr>
              <a:t>S  T  A  T  I  S  T  I  C  S     A  U  S  T  R  I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1981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ae002c"/>
                </a:solidFill>
                <a:latin typeface="Arial"/>
              </a:rPr>
              <a:t>May 13th – 15th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ae002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35B9-5A72-40D5-AACD-16A104FAB729}" type="slidenum">
              <a:rPr b="0" lang="de-DE" sz="1200" spc="-1" strike="noStrike">
                <a:solidFill>
                  <a:srgbClr val="ae002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52680" y="6329520"/>
            <a:ext cx="198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591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354560"/>
            <a:ext cx="3645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715000"/>
            <a:ext cx="80769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002c"/>
                </a:solidFill>
                <a:latin typeface="Arial"/>
              </a:rPr>
              <a:t>www.statistik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6450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645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45000" y="2997360"/>
            <a:ext cx="5499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Register Based Cens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b20029"/>
                </a:solidFill>
                <a:latin typeface="Arial"/>
              </a:rPr>
              <a:t>The Austrian Principles of Redundan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0029"/>
                </a:solidFill>
                <a:latin typeface="Arial"/>
              </a:rPr>
              <a:t>UNECE/Eurost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0029"/>
                </a:solidFill>
                <a:latin typeface="Arial"/>
              </a:rPr>
              <a:t>Meeting on Population and Housing Cens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0029"/>
                </a:solidFill>
                <a:latin typeface="Arial"/>
                <a:ea typeface="Times New Roman"/>
              </a:rPr>
              <a:t>13 – 15 Ma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9440" y="4838760"/>
            <a:ext cx="5499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ela Le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ate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 STATISTICS AUST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43520" y="657360"/>
          <a:ext cx="4641840" cy="20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3520" y="657360"/>
                    <a:ext cx="46418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789360"/>
            <a:ext cx="3635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 n f o r m a t i 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28640"/>
            <a:ext cx="363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We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ABE8-0159-4AD2-9088-D22EB713C81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6F49B-7B2E-42B6-8139-BB89209A1D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028880"/>
            <a:ext cx="871380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First results (report to the government) estimated proportion of deletion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60 %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umber of main residencies for the revenue of municipalitie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sidence analysis, clearing up to October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reating and providing ‘OLAP-Cubes’ for each unit of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ultiple and central attributes (principle of redund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fining the valid value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valid for all cubes of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tails on a personal level only in cube dem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Quality check of the differen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results are consistent due to the same data-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771A-3C5B-4D12-9164-AD35AD4C4F9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E4EE1-3625-4151-A3C5-0CCA4E5CA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1268280"/>
            <a:ext cx="8893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Census test was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Valid and high-qualit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umber of main resi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emographic structur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low variations between the registers and the sample survey for age, sex, nationality, place of bi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urrent activity Status, employment,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no problems with forming the variables, low variations between the registers and the sample survey, mapping nearly completed, estimation for home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Occupation no register information only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9628-3EA5-40BD-B409-BFB8BF683AB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F578E-3B7E-476D-8D00-1BD54C52B3E9}" type="datetime1">
              <a:rPr lang="en-US"/>
              <a:t>07/30/2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268280"/>
            <a:ext cx="889308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for 94,1% of the population above 14 year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maining people (e.g. Immigrants)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education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for 98,3 % pupils (7-14 years)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clearing via residence analy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mmuting data for pupils 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home address – school addres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99,9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rivate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~ 7,8% main residencies no unique mapping to dwel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Institutional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4139-B92B-4F35-9340-AA77BF72FD4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78849-CA18-4F76-937E-58BB8203001A}" type="datetime1">
              <a:rPr lang="en-US"/>
              <a:t>07/30/26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1268280"/>
            <a:ext cx="88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sufficient quality – some improvements scheduled for 2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ensus of local units of 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pping problems for enterprises with more than one local unit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ew register information for the census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Housing 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0,2 % artificial o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3,5 % artificial dwell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Main residencies without connection to object respectively dw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D485-B674-4533-B1ED-A1BDFF052B3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D3755-BBA7-4EF3-9C3F-53A2C6125A09}" type="datetime1">
              <a:rPr lang="en-US"/>
              <a:t>07/30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30320" y="182520"/>
            <a:ext cx="79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results of census test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88930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roblems – improvements ar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mmuting data for employees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ew register information for the census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Forming persons to households = living in the same dwelling (lack of door number of dwellings), marital status is widely missing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family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Dissemination of the census 2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ubes for Eurostat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no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374"/>
              </a:spcBef>
              <a:spcAft>
                <a:spcPts val="876"/>
              </a:spcAft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896B-DD00-4BA8-BAD2-DDD5D25A8C0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978D7-550D-4890-8E58-7EE5A84C2726}" type="datetime1">
              <a:rPr lang="en-US"/>
              <a:t>07/30/26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73680" y="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66080" y="771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41720" y="3195720"/>
            <a:ext cx="5041800" cy="219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895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8458-1D2D-401E-A982-CAEA59F085E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568DE-8C10-41C1-ACDB-E404EC5A60E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0320" y="182520"/>
            <a:ext cx="90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Census</a:t>
            </a:r>
            <a:r>
              <a:rPr b="1" lang="de-DE" sz="2800" spc="-1" strike="noStrike">
                <a:solidFill>
                  <a:srgbClr val="b20029"/>
                </a:solidFill>
                <a:latin typeface="Verdana"/>
              </a:rPr>
              <a:t> test Oct 31t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07920"/>
            <a:ext cx="8893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Full register based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0029"/>
                </a:solidFill>
                <a:latin typeface="Verdana"/>
              </a:rPr>
              <a:t>With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financial consequences: distribution of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venues and expenses between the state, the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federal states and the communities on the 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basis of the number of main resi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Without consequences for elections (number of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 seats in parliament for reg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With a sample survey to check the results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(surface area sample with 25.000 persons = 3‰)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with obligation for the population concerned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7EFF-B53C-46AD-99B7-8053A66F1FF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17160-2063-4594-ADCA-48B6F472072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24000" y="182520"/>
            <a:ext cx="9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0029"/>
                </a:solidFill>
                <a:latin typeface="Verdana"/>
              </a:rPr>
              <a:t>Matching of regist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125360"/>
            <a:ext cx="889308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Special data protected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By „branch-specific personal identification number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official statistics“ (bPK 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Produced by the data protection office due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name, date of birth, birth place via ZMR (central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population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rar has to order this PIN in an encrypted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(ciphered) form for his data, which he has to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transmit to Statistics Aust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Statistics Austria decrypts (deciphers) these PIN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nd uses this PIN as a common matching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6F01-B81A-4967-9F53-731C0522651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4E75C-4D98-44D7-9E9D-10CA28403702}" type="datetime1">
              <a:rPr lang="en-US"/>
              <a:t>07/30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Principles of register based cens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20492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Improvement in registers for quality reasons and for </a:t>
            </a:r>
            <a:br>
              <a:rPr sz="2400"/>
            </a:b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 addition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dundancy: same variables in many registers, Base   Registers and Comparison Registers </a:t>
            </a:r>
            <a:r>
              <a:rPr b="0" lang="en-US" sz="24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for some variables Base Registers are also used for comparison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Interview of Population in individual cases, to avoid   heavy data defects (identification for this persons via data protection office) </a:t>
            </a:r>
            <a:r>
              <a:rPr b="0" lang="en-US" sz="24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 resi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A6B0-F120-42D2-BB47-28B8FFB0F28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91C65-62EB-42AF-B32E-DF74C812AC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e002c"/>
                </a:solidFill>
                <a:latin typeface="Verdana"/>
              </a:rPr>
              <a:t>Bas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28036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43 Data owner for the Census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Statistics Austria's register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Business register of enterprises and their local units (B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Housing register of buildings and dwellings (H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Register of educational attainment (EA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Register of enrolled pupils &amp; students (PS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Other register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Central population register (CP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Central social security register (CSSR</a:t>
            </a:r>
            <a:r>
              <a:rPr b="1" lang="en-US" sz="2100" spc="-1" strike="noStrike">
                <a:solidFill>
                  <a:srgbClr val="b20029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Tax register (T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0029"/>
                </a:solidFill>
                <a:latin typeface="Verdana"/>
              </a:rPr>
              <a:t>Unemployment register (U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B4B5-ABE6-473D-AFEC-4FEEA31FA82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57DFE-1CBB-444F-91B1-5CC306EC5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a50021"/>
                </a:solidFill>
                <a:latin typeface="Arial"/>
              </a:rPr>
              <a:t>The register model for censu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62080" y="4029120"/>
            <a:ext cx="215280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6120" y="3978360"/>
            <a:ext cx="215244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5480" y="1498680"/>
            <a:ext cx="215280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94240" y="1817640"/>
            <a:ext cx="1488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Populat.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4360" y="4475160"/>
            <a:ext cx="1434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Build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wel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Housing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38880" y="4292640"/>
            <a:ext cx="1706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ocal Uni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mpo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.code, HV-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cc0000"/>
                </a:solidFill>
                <a:latin typeface="Times New Roman"/>
              </a:rPr>
              <a:t>Census of L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752200" y="3057480"/>
            <a:ext cx="97164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3800" y="2962440"/>
            <a:ext cx="752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5800" y="483876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9600" y="3619440"/>
            <a:ext cx="771480" cy="35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&amp;D Reg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8800" y="2502000"/>
            <a:ext cx="914400" cy="40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Soc.Sec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43320" y="101916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Pop.R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95760" y="1357200"/>
            <a:ext cx="9194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Educ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0320" y="134316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Unempl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2240" y="4067280"/>
            <a:ext cx="71928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usin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200120" y="3142800"/>
            <a:ext cx="19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95640" y="3781440"/>
            <a:ext cx="71424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1080" y="3790800"/>
            <a:ext cx="87624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4560" y="1486080"/>
            <a:ext cx="54288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76680" y="1314360"/>
            <a:ext cx="27612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8840" y="1542960"/>
            <a:ext cx="47628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276520" y="2381040"/>
            <a:ext cx="14857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81720" y="2762280"/>
            <a:ext cx="371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277040" y="4219560"/>
            <a:ext cx="2952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38800" y="1009800"/>
            <a:ext cx="7189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Tax R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38240" y="1324080"/>
            <a:ext cx="19044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3002-D444-4AEE-AF6C-A58B29AFF39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CA7F-1470-44BD-B342-FC21F314E67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omparison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197000"/>
            <a:ext cx="9144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hild allowance register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entral foreigner register (CFR) - available as of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s of public servants of the federal state and the “Länder” (R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car owners (C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social welfare recipients (S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onscription Register (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gister of alternative civilian service (AC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A4E1-1BB4-4135-8119-9C741620AA9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B6D76-DB7B-44F9-B5BA-81C3D91DF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32084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ompletion of incomplete/fragmentary base data by comparis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Check at register owner in the case of contradictory or incomplete data (without transmission of th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029"/>
                </a:solidFill>
                <a:latin typeface="Verdana"/>
              </a:rPr>
              <a:t>Residence Analysis: cause for suspicion of inactive persons, character and date of the last change in the regi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144B-2A35-415F-8008-904F835DB7D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22F9-1532-43A2-9994-A7E7CDEA4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9000"/>
            <a:ext cx="914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002c"/>
                </a:solidFill>
                <a:latin typeface="Verdana"/>
              </a:rPr>
              <a:t>Census technology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028880"/>
            <a:ext cx="87138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hallenge of Statistical Matching in consecutive steps: combining person’s information deriving from different data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record linkage by bPK altern. Social Security 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198.000 records only in CPR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entry should be in  minimum two registers (e.g. CPR + UR, CPR + CS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statistical matching by address, sex,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58.000 cases left only in CPR </a:t>
            </a:r>
            <a:r>
              <a:rPr b="0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 residence analy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Persons not ma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029"/>
                </a:solidFill>
                <a:latin typeface="Verdana"/>
              </a:rPr>
              <a:t>Correct persons´ information, but with entry in the CPR only (retiree with pensions paid from abr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b2002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Non-active register entries </a:t>
            </a:r>
            <a:r>
              <a:rPr b="1" lang="en-US" sz="2000" spc="-1" strike="noStrike">
                <a:solidFill>
                  <a:srgbClr val="b2002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b20029"/>
                </a:solidFill>
                <a:latin typeface="Verdana"/>
              </a:rPr>
              <a:t>  de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4E21-FFBB-421D-8964-43294905CD4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0BC08-04D9-4B44-ACA4-8C87CF9B25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20:48:54Z</dcterms:created>
  <dc:creator>Windows98</dc:creator>
  <dc:description/>
  <dc:language>en-US</dc:language>
  <cp:lastModifiedBy>LABURD$</cp:lastModifiedBy>
  <dcterms:modified xsi:type="dcterms:W3CDTF">2008-05-06T08:33:52Z</dcterms:modified>
  <cp:revision>221</cp:revision>
  <dc:subject/>
  <dc:title>Kein Folientitel</dc:title>
</cp:coreProperties>
</file>