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3C20-1BD3-495D-8581-EABDB04D8C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7AED-3EBA-4BE1-ADDE-434005EE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9F9C-237B-4FFC-8033-5EEFA10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1746-09A4-47A4-B73C-C53280D077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B027-A173-4FBD-941F-072B4547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7366-13E5-4759-AC84-52D80014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39DC-1B0E-42E1-B4C8-C2650BA9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2C86-4ED8-431B-A5CE-D0633F61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F619-9740-47B5-9580-4B6387EE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76C8-EE0C-4493-9502-4D98AF6F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81F9-7EC6-4CB7-B022-122F0A5F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2688-D225-4108-9467-4C4F3E59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 S     A  U  S  T  R  I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440" y="6400440"/>
            <a:ext cx="1981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ae002c"/>
                </a:solidFill>
                <a:latin typeface="Arial"/>
              </a:rPr>
              <a:t>May 13th – 15t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D348-0757-44DB-8AB2-B1ED836B816D}" type="slidenum">
              <a:rPr b="0" lang="de-DE" sz="1200" spc="-1" strike="noStrike">
                <a:solidFill>
                  <a:srgbClr val="ae002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591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354560"/>
            <a:ext cx="36450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715000"/>
            <a:ext cx="80769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2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002c"/>
                </a:solidFill>
                <a:latin typeface="Arial"/>
              </a:rPr>
              <a:t>www.statistik.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64500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3645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45000" y="2997360"/>
            <a:ext cx="54990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029"/>
                </a:solidFill>
                <a:latin typeface="Arial"/>
              </a:rPr>
              <a:t>Register Based Cens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02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b20029"/>
                </a:solidFill>
                <a:latin typeface="Arial"/>
              </a:rPr>
              <a:t>The Austrian Principles of Redundanc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0029"/>
                </a:solidFill>
                <a:latin typeface="Arial"/>
              </a:rPr>
              <a:t>UNECE/Eurost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0029"/>
                </a:solidFill>
                <a:latin typeface="Arial"/>
              </a:rPr>
              <a:t>Meeting on Population and Housing Cens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0029"/>
                </a:solidFill>
                <a:latin typeface="Arial"/>
                <a:ea typeface="Times New Roman"/>
              </a:rPr>
              <a:t>13 – 15 May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19440" y="4838760"/>
            <a:ext cx="5499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uela Le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orate 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 STATISTICS AUST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43520" y="657360"/>
          <a:ext cx="4641840" cy="20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3520" y="657360"/>
                    <a:ext cx="464184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789360"/>
            <a:ext cx="3635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 n f o r m a t i o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28640"/>
            <a:ext cx="3635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We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AEE4-76BB-435B-9C19-3105FA3C6658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5085F-3F4D-464F-8A86-FB594F4815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002c"/>
                </a:solidFill>
                <a:latin typeface="Verdana"/>
              </a:rPr>
              <a:t>Census technology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028880"/>
            <a:ext cx="8713800" cy="57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First results (report to the government) estimated proportion of deletion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60 %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Number of main residencies for the revenue of municipalities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residence analysis, clearing up to October 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reating and providing ‘OLAP-Cubes’ for each unit of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ultiple and central attributes (principle of redund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Defining the valid value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valid for all cubes of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Details on a personal level only in cube dem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Quality check of the different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results are consistent due to the same data-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C316-37BC-4240-BEC5-12635CC8E6E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C6344-8D4C-42DD-89AE-8D82F619C4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0320" y="182520"/>
            <a:ext cx="79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results of census test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1268280"/>
            <a:ext cx="8893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029"/>
                </a:solidFill>
                <a:latin typeface="Verdana"/>
              </a:rPr>
              <a:t>Census test was success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029"/>
                </a:solidFill>
                <a:latin typeface="Verdana"/>
              </a:rPr>
              <a:t>Valid and high-qualit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Number of main resid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demographic structur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low variations between the registers and the sample survey for age, sex, nationality, place of bi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urrent activity Status, employment, 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no problems with forming the variables, low variations between the registers and the sample survey, mapping nearly completed, estimation for home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Occupation no register information only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CB2B-8D1E-403B-8C07-9F230BF2A15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7141D-71BE-4DDB-86C6-D3C735EFA19A}" type="datetime1">
              <a:rPr lang="en-US"/>
              <a:t>07/31/26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30320" y="182520"/>
            <a:ext cx="79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results of census test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1268280"/>
            <a:ext cx="889308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apping for 94,1% of the population above 14 years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remaining people (e.g. Immigrants)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education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apping for 98,3 % pupils (7-14 years)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clearing via residence analy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ommuting data for pupils and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apping home address – school address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99,9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Private 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~ 7,8% main residencies no unique mapping to dwel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Institutional 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16ED-27EC-4564-8C16-4FFE537A49F7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BD9A4-9608-46AF-ACFE-EF51959997F1}" type="datetime1">
              <a:rPr lang="en-US"/>
              <a:t>07/31/26</a:t>
            </a:fld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0320" y="182520"/>
            <a:ext cx="79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results of census test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1268280"/>
            <a:ext cx="88930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sufficient quality – some improvements scheduled for 2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ensus of local units of 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apping problems for enterprises with more than one local unit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new register information for the census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Housing cen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0,2 % artificial ob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3,5 % artificial dwell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ain residencies without connection to object respectively dw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928C-612D-40BB-8691-3A54ECFD8CEB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FFB9E-328A-49C9-A40B-41ED7A2994EA}" type="datetime1">
              <a:rPr lang="en-US"/>
              <a:t>07/31/2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130320" y="182520"/>
            <a:ext cx="79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results of census test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81000"/>
            <a:ext cx="88930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Problems – improvements are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ommuting data for employees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new register information for the census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Forming persons to households = living in the same dwelling (lack of door number of dwellings), marital status is widely missing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family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Dissemination of the census 2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ubes for Eurostat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no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4253-E23F-45A2-B130-54198F0178D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6DF0A-4088-4D39-B595-86FDD04A9EDB}" type="datetime1">
              <a:rPr lang="en-US"/>
              <a:t>07/31/26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73680" y="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66080" y="771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41720" y="3195720"/>
            <a:ext cx="5041800" cy="2198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895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E456-D408-4A73-A54F-7047CA4445E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809E3-70BB-4FDB-9C4B-C4CDDD8E0992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0320" y="182520"/>
            <a:ext cx="90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Census</a:t>
            </a:r>
            <a:r>
              <a:rPr b="1" lang="de-DE" sz="2800" spc="-1" strike="noStrike">
                <a:solidFill>
                  <a:srgbClr val="b20029"/>
                </a:solidFill>
                <a:latin typeface="Verdana"/>
              </a:rPr>
              <a:t> test Oct 31t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07920"/>
            <a:ext cx="88930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Full register based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0029"/>
                </a:solidFill>
                <a:latin typeface="Verdana"/>
              </a:rPr>
              <a:t>With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financial consequences: distribution of 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venues and expenses between the state, the 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federal states and the communities on the 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basis of the number of main resi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Without consequences for elections (number of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 seats in parliament for reg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With a sample survey to check the results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(surface area sample with 25.000 persons = 3‰)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with obligation for the population concerned to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answer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58FC-D4AD-40A7-AE76-74D2A97EA52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BC1DC-A9EA-41E0-BF43-CD904CBA70F7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24000" y="182520"/>
            <a:ext cx="9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Matching of registe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1125360"/>
            <a:ext cx="889308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780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Special data protected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By „branch-specific personal identification number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official statistics“ (bPK 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Produced by the data protection office due to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name, date of birth, birth place via ZMR (central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population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gistrar has to order this PIN in an encrypted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(ciphered) form for his data, which he has to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transmit to Statistics Aust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Statistics Austria decrypts (deciphers) these PIN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and uses this PIN as a common matching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55F5-99CD-42A9-AE25-8488A5EB038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04FB4-DCF7-42C2-8253-F7782C98701B}" type="datetime1">
              <a:rPr lang="en-US"/>
              <a:t>07/31/26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002c"/>
                </a:solidFill>
                <a:latin typeface="Verdana"/>
              </a:rPr>
              <a:t>Principles of register based cens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204920"/>
            <a:ext cx="87138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Improvement in registers for quality reasons and for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addition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dundancy: same variables in many registers, Base   Registers and Comparison Registers </a:t>
            </a:r>
            <a:r>
              <a:rPr b="0" lang="en-US" sz="24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for some variables Base Registers are also used for comparison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Interview of Population in individual cases, to avoid   heavy data defects (identification for this persons via data protection office) </a:t>
            </a:r>
            <a:r>
              <a:rPr b="0" lang="en-US" sz="24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resid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3390-0939-4600-85D3-8BCD1B5E50E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CFEB3-D82F-49DD-BE7B-A0A034E580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e002c"/>
                </a:solidFill>
                <a:latin typeface="Verdana"/>
              </a:rPr>
              <a:t>Base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07920"/>
            <a:ext cx="828036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20029"/>
                </a:solidFill>
                <a:latin typeface="Verdana"/>
              </a:rPr>
              <a:t>43 Data owner for the Census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20029"/>
                </a:solidFill>
                <a:latin typeface="Verdana"/>
              </a:rPr>
              <a:t>Statistics Austria's register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Business register of enterprises and their local units (B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Housing register of buildings and dwellings (H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Register of educational attainment (EA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Register of enrolled pupils &amp; students (PS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20029"/>
                </a:solidFill>
                <a:latin typeface="Verdana"/>
              </a:rPr>
              <a:t>Other register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Central population register (CP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Central social security register (CSSR</a:t>
            </a:r>
            <a:r>
              <a:rPr b="1" lang="en-US" sz="2100" spc="-1" strike="noStrike">
                <a:solidFill>
                  <a:srgbClr val="b20029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Tax register (T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Unemployment register (U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A1A4-A6D3-4BB1-8F07-651DF905803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9ADB2-AC83-4037-80CA-CACD791582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a50021"/>
                </a:solidFill>
                <a:latin typeface="Arial"/>
              </a:rPr>
              <a:t>The register model for censu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62080" y="4029120"/>
            <a:ext cx="2152800" cy="1647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26120" y="3978360"/>
            <a:ext cx="2152440" cy="1647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5480" y="1498680"/>
            <a:ext cx="2152800" cy="1647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94240" y="1817640"/>
            <a:ext cx="1488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Per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cc0000"/>
                </a:solidFill>
                <a:latin typeface="Times New Roman"/>
              </a:rPr>
              <a:t>Populat.Cen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4360" y="4475160"/>
            <a:ext cx="1434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Build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dwell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cc0000"/>
                </a:solidFill>
                <a:latin typeface="Times New Roman"/>
              </a:rPr>
              <a:t>Housing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38880" y="4292640"/>
            <a:ext cx="17064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ocal Uni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Empo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.code, HV-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cc0000"/>
                </a:solidFill>
                <a:latin typeface="Times New Roman"/>
              </a:rPr>
              <a:t>Census of L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752200" y="3057480"/>
            <a:ext cx="97164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3800" y="2962440"/>
            <a:ext cx="752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5800" y="483876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9600" y="3619440"/>
            <a:ext cx="771480" cy="35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&amp;D Reg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8800" y="2502000"/>
            <a:ext cx="914400" cy="40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Soc.Sec.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43320" y="1019160"/>
            <a:ext cx="71892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Pop.Re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95760" y="1357200"/>
            <a:ext cx="91944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Educ.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0320" y="1343160"/>
            <a:ext cx="71892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Unempl.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72240" y="4067280"/>
            <a:ext cx="71928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usin.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200120" y="3142800"/>
            <a:ext cx="190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095640" y="3781440"/>
            <a:ext cx="71424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1080" y="3790800"/>
            <a:ext cx="87624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4560" y="1486080"/>
            <a:ext cx="54288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76680" y="1314360"/>
            <a:ext cx="27612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8840" y="1542960"/>
            <a:ext cx="47628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276520" y="2381040"/>
            <a:ext cx="148572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81720" y="2762280"/>
            <a:ext cx="371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277040" y="4219560"/>
            <a:ext cx="29520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38800" y="1009800"/>
            <a:ext cx="71892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Tax Re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638240" y="1324080"/>
            <a:ext cx="19044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3098-37FB-4967-B70A-A22E07ADCA1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16EF6-3D0B-481E-A664-21BA153B65E5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002c"/>
                </a:solidFill>
                <a:latin typeface="Verdana"/>
              </a:rPr>
              <a:t>Comparison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197000"/>
            <a:ext cx="9144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Child allowance register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Central foreigner register (CFR) - available as of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gisters of public servants of the federal state and the “Länder” (R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gister of car owners (C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gister of social welfare recipients (SW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Conscription Register (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gister of alternative civilian service (AC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9714-08FB-4C51-8023-77F21254DD4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52CBB-8C82-4611-83EF-25E1AB33F2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002c"/>
                </a:solidFill>
                <a:latin typeface="Verdana"/>
              </a:rPr>
              <a:t>Census technology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320840"/>
            <a:ext cx="871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Completion of incomplete/fragmentary base data by comparis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Check at register owner in the case of contradictory or incomplete data (without transmission of the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sidence Analysis: cause for suspicion of inactive persons, character and date of the last change in the 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6CE0-5003-4B84-97EF-0E5B544FE236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87E6D-2A6E-48D9-B614-5543E0549E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002c"/>
                </a:solidFill>
                <a:latin typeface="Verdana"/>
              </a:rPr>
              <a:t>Census technology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028880"/>
            <a:ext cx="87138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hallenge of Statistical Matching in consecutive steps: combining person’s information deriving from different data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record linkage by bPK altern. Social Security 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198.000 records only in CPR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entry should be in  minimum two registers (e.g. CPR + UR, CPR + CSS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statistical matching by address, sex,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58.000 cases left only in CPR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residence analy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Persons not ma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orrect persons´ information, but with entry in the CPR only (retiree with pensions paid from abro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029"/>
                </a:solidFill>
                <a:latin typeface="Verdana"/>
              </a:rPr>
              <a:t>Non-active register entries </a:t>
            </a:r>
            <a:r>
              <a:rPr b="1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b20029"/>
                </a:solidFill>
                <a:latin typeface="Verdana"/>
              </a:rPr>
              <a:t>  de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4816-3468-4B4F-AAB0-F6002F4455F9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A49E5-7354-41B6-8D05-BE6041CF86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20:48:54Z</dcterms:created>
  <dc:creator>Windows98</dc:creator>
  <dc:description/>
  <dc:language>en-US</dc:language>
  <cp:lastModifiedBy>LABURD$</cp:lastModifiedBy>
  <dcterms:modified xsi:type="dcterms:W3CDTF">2008-05-06T08:33:52Z</dcterms:modified>
  <cp:revision>221</cp:revision>
  <dc:subject/>
  <dc:title>Kein Folientitel</dc:title>
</cp:coreProperties>
</file>