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CEC6-A9E9-4DA5-8327-D31C87A3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15A-3D43-4B95-B972-9CDC557E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26D4-8EF0-47FD-A157-545D4AA5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AA2E-E3EA-4A18-8892-D4FDE060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B88-890F-4AEA-8987-15BC297F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F632-9FED-4E93-AF85-D4302EB8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3FF-81CB-4AB2-B5CF-81FF93DE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E28E-6FEA-4286-9F43-279BCB49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ED2C-7D57-48A3-B0A7-AFDE4FE6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A06-1F53-44B5-A4C8-5061C4D9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0A10-5CCC-4F71-B73D-61895E95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85B-EAB8-421D-AE35-89F49C95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A409-6953-42F9-A982-A2649843DC5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981000"/>
            <a:ext cx="8136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An Overview of Editing and Imputation Methods for the next Italian Cens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3860640"/>
            <a:ext cx="770580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Gianpiero Bianchi, Antonia Manzari, Alessandra Re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NECE-Eurostat Meeting on Population and Housing Cens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Geneva, 13-15 May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Likely innovations for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-long form questionnai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: (mainly) demograph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: demographic and socio-econom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population registers (residing individu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ve registers from auxiliary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tial address l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multi-mode 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umerators, CATI, mail,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Impact on E&amp;I and 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1484280"/>
            <a:ext cx="8362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o-economic characteristics collected on sample basis (by long-fo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procedures for comput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ear of birth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for short-form, one for long-fo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duc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 of donor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mputation of long-form variables requires careful managing of data collection and donor pool selection ph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 weights required for data validation after E&amp;I of long-form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Impact on E&amp;I and 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484280"/>
            <a:ext cx="836280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register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of the quantitative control of the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tation of missing or inconsistent census values by matching census data and register data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 linkage proced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d39802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ility of unique record ide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d39802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time reference than censu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d39802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quality of regist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tation of missing or inconsistent census values by adding register data to census data - enlarging the donor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Impact on E&amp;I and 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484280"/>
            <a:ext cx="836280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multi-mode 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of the collected data quality due to editing performed at the data capturing (CATI, w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aiming at verifying duplicate questionnaires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2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484280"/>
            <a:ext cx="83628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&amp;I strategy for 2011 Census based on 2001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survey design aims to reduce the respondent burden but requires a careful monitoring during production and a more complex E&amp;I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fficient procedures need to be developed in order to meet the timeliness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11640" y="522936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5689440"/>
            <a:ext cx="5566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5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&amp;I is an achievable but hard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84464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eatures of 2001 E&amp;I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&amp;I strategy for 2011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kely innovations for 2011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pact on editing and validation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260280"/>
            <a:ext cx="889308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Features of 2001 E&amp;I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341360"/>
            <a:ext cx="83628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E&amp;I purpose: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rovide a complete and consistent set of data by performing plausible imputations and preserving the maximum amount of collect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&amp;I strategy: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ivide the E&amp;I problem into simpler sub-problems and find appropriate solutions for each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E&amp;I process composed of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nnected)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roced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ressing to specific problems and implementing suitable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velopment and use of </a:t>
            </a:r>
            <a:r>
              <a:rPr b="0" lang="en-CA" sz="2400" spc="-1" strike="noStrike">
                <a:solidFill>
                  <a:srgbClr val="0000cc"/>
                </a:solidFill>
                <a:latin typeface="Arial"/>
              </a:rPr>
              <a:t>new techniqu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cc"/>
                </a:solidFill>
                <a:latin typeface="Arial"/>
              </a:rPr>
              <a:t>and softwar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E&amp;I strategy for 2011 Cen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341360"/>
            <a:ext cx="85075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on the useful experience of the 2001 Census, taking accoun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n the survey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urostat timeliness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n particul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d39802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nsus variables split into topics processed in pre-determined order (first demographic, then socio-economic) by appropriate procedu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d39802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ation of 2001 procedures to the innovations and developing of new procedures by means of highly efficient algorith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d39802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planning, implementation and managing of the E&amp;I proced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elements of the 2011 strate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484280"/>
            <a:ext cx="8362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IESI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st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in 2001 by ISTAT and academic researchers (Department of Computer and Systems Science of the University of Roma “La Sapienza”). Based on optimization techniques, a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of qualitative and quantitative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-unit and within-unit edit r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us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ta dri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imum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SIS will process 2011 demographic variables and, likely, some socio-econom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t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putation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i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ystem -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alian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elements of the 2011 strate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484280"/>
            <a:ext cx="8362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Joint 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data dri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minimum 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es by DIESI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reduced pool of donor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ta dri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roach can require imputing too many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335772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3830760"/>
            <a:ext cx="75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cc900a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imum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roach us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number of values to be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elements of the 2011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484280"/>
            <a:ext cx="83628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the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respondent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ent paths us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d39802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et of Admissible Val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AV)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 of bir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 strata variable for the imputation of demographic variables – connection between demographic and socio-economic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d39802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strata for the imputation of socio-economic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responses or errors can make uncertain the identification of the right respondent pa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1640" y="486900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5373720"/>
            <a:ext cx="8351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0" indent="-53208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procedure for the identification of the most likely path based on the analysis of the responses given to filter and dependen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elements of the 2011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484280"/>
            <a:ext cx="8362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 of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Person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house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optimization techniques implemented in the DIESI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nimum change algorithm assigns the role of Person 1 to the person that minimizes the number of changes needed for the record to be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potential cou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couples having non-unique relationship to Person 1 identified prior to ed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based on the responses provided to the demograph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elements of the 2011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484280"/>
            <a:ext cx="8362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398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 care in E&amp;I of small but important groups in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.g. Centenarians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d39802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match of individuals enumerated in the 2001 with same individuals enumerated in the 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d39802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check for internal consistency of unlinked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d39802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check for consistency with questionnaire images of some ambiguous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d39802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rocedure supported by availability of local population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25360"/>
            <a:ext cx="8356680" cy="71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29Z</dcterms:created>
  <dc:creator>Administrator</dc:creator>
  <dc:description/>
  <dc:language>en-US</dc:language>
  <cp:lastModifiedBy>Administrator</cp:lastModifiedBy>
  <dcterms:modified xsi:type="dcterms:W3CDTF">2008-05-09T11:00:55Z</dcterms:modified>
  <cp:revision>314</cp:revision>
  <dc:subject/>
  <dc:title>Diapositiva 1</dc:title>
</cp:coreProperties>
</file>