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6D10-39FF-4810-91CB-E686CA29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B01E-CA3A-4A59-900F-E1F63842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1E0F-B2D6-4C11-A14C-0DAABC1C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7896-9FBD-4287-A2D3-57FDF5BD4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46BB-D73B-4596-9A61-63A48B38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6650-EC73-4A22-BDED-6AC6C561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1B19-7D00-424F-A247-903639B1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9634-0EC0-4E1F-91F8-4507B986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7332-4087-4A09-8EC7-C1E8F401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B08D-039B-4602-9D97-8DC6D121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DB17-41F0-44AF-98BB-9623D636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DA2E-DB5A-4BE2-A9EC-9A83A716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79E0-021E-4EBB-95DF-B27A4D6B0E6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981000"/>
            <a:ext cx="8136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An Overview of Editing and Imputation Methods for the next Italian Cens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3860640"/>
            <a:ext cx="770580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Gianpiero Bianchi, Antonia Manzari, Alessandra Re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UNECE-Eurostat Meeting on Population and Housing Cens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Geneva, 13-15 May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Likely innovations for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1484280"/>
            <a:ext cx="83628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-long form questionnai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: (mainly) demographic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: demographic and socio-economic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of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population registers (residing individu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ve registers from auxiliary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ential address l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3980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multi-mode data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umerators, CATI, mail,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125360"/>
            <a:ext cx="8356680" cy="71640"/>
          </a:xfrm>
          <a:prstGeom prst="rect">
            <a:avLst/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Impact on E&amp;I and vali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1484280"/>
            <a:ext cx="83628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o-economic characteristics collected on sample basis (by long-for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procedures for computing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ear of birth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for short-form, one for long-fo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duc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l of donor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mputation of long-form variables requires careful managing of data collection and donor pool selection ph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ing weights required for data validation after E&amp;I of long-form variab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125360"/>
            <a:ext cx="8356680" cy="71640"/>
          </a:xfrm>
          <a:prstGeom prst="rect">
            <a:avLst/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Impact on E&amp;I and vali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1484280"/>
            <a:ext cx="836280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of register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 of the quantitative control of the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tation of missing or inconsistent census values by matching census data and register data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 linkage proced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d39802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ility of unique record ident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d39802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time reference than censu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d39802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quality of regist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tation of missing or inconsistent census values by adding register data to census data - enlarging the donor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1125360"/>
            <a:ext cx="8356680" cy="71640"/>
          </a:xfrm>
          <a:prstGeom prst="rect">
            <a:avLst/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5720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Impact on E&amp;I and vali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1484280"/>
            <a:ext cx="836280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multi-mode data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 of the collected data quality due to editing performed at the data capturing (CATI, we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 aiming at verifying duplicate questionnaires i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d39802"/>
              </a:buClr>
              <a:buSzPct val="12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1125360"/>
            <a:ext cx="8356680" cy="71640"/>
          </a:xfrm>
          <a:prstGeom prst="rect">
            <a:avLst/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1484280"/>
            <a:ext cx="83628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&amp;I strategy for 2011 Census based on 2001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w survey design aims to reduce the respondent burden but requires a careful monitoring during production and a more complex E&amp;I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fficient procedures need to be developed in order to meet the timeliness requ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1125360"/>
            <a:ext cx="8356680" cy="71640"/>
          </a:xfrm>
          <a:prstGeom prst="rect">
            <a:avLst/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11640" y="522936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5689440"/>
            <a:ext cx="5566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5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&amp;I is an achievable but hard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84464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eatures of 2001 E&amp;I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&amp;I strategy for 2011 C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kely innovations for 2011 C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mpact on editing and validation proced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25360"/>
            <a:ext cx="8356680" cy="71640"/>
          </a:xfrm>
          <a:prstGeom prst="rect">
            <a:avLst/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0920" y="260280"/>
            <a:ext cx="889308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Features of 2001 E&amp;I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25360"/>
            <a:ext cx="8356680" cy="71640"/>
          </a:xfrm>
          <a:prstGeom prst="rect">
            <a:avLst/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341360"/>
            <a:ext cx="83628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E&amp;I purpose: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rovide a complete and consistent set of data by performing plausible imputations and preserving the maximum amount of collecte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&amp;I strategy: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ivide the E&amp;I problem into simpler sub-problems and find appropriate solutions for each of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E&amp;I process composed of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nnected)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proced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dressing to specific problems and implementing suitable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velopment and use of </a:t>
            </a:r>
            <a:r>
              <a:rPr b="0" lang="en-CA" sz="2400" spc="-1" strike="noStrike">
                <a:solidFill>
                  <a:srgbClr val="0000cc"/>
                </a:solidFill>
                <a:latin typeface="Arial"/>
              </a:rPr>
              <a:t>new technique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cc"/>
                </a:solidFill>
                <a:latin typeface="Arial"/>
              </a:rPr>
              <a:t>and software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E&amp;I strategy for 2011 Cen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341360"/>
            <a:ext cx="85075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t on the useful experience of the 2001 Census, taking account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novation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in the survey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urostat timeliness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In particula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d39802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nsus variables split into topics processed in pre-determined order (first demographic, then socio-economic) by appropriate procedur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d39802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aptation of 2001 procedures to the innovations and developing of new procedures by means of highly efficient algorithm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d39802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planning, implementation and managing of the E&amp;I proced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1125360"/>
            <a:ext cx="8356680" cy="71640"/>
          </a:xfrm>
          <a:prstGeom prst="rect">
            <a:avLst/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elements of the 2011 strate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484280"/>
            <a:ext cx="8362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DIESI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yste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in 2001 by ISTAT and academic researchers (Department of Computer and Systems Science of the University of Roma “La Sapienza”). Based on optimization techniques, a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of qualitative and quantitative variab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-unit and within-unit edit ru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us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ta dri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nimum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SIS will process 2011 demographic variables and, likely, some socio-economic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ata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mputation and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i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ystem -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alian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125360"/>
            <a:ext cx="8356680" cy="71640"/>
          </a:xfrm>
          <a:prstGeom prst="rect">
            <a:avLst/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elements of the 2011 strate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484280"/>
            <a:ext cx="8362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Joint 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data driv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minimum chan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es by DIESI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reduced pool of donor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ta dri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roach can require imputing too many 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125360"/>
            <a:ext cx="8356680" cy="71640"/>
          </a:xfrm>
          <a:prstGeom prst="rect">
            <a:avLst/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56000" y="335772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3830760"/>
            <a:ext cx="75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buClr>
                <a:srgbClr val="cc900a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nimum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roach use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the number of values to be 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elements of the 2011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484280"/>
            <a:ext cx="83628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of the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respondent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dent paths us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d39802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bset of Admissible Val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AV)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ear of bir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 strata variable for the imputation of demographic variables – connection between demographic and socio-economic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d39802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strata for the imputation of socio-economic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ng responses or errors can make uncertain the identification of the right respondent pa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1125360"/>
            <a:ext cx="8356680" cy="71640"/>
          </a:xfrm>
          <a:prstGeom prst="rect">
            <a:avLst/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11640" y="486900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5373720"/>
            <a:ext cx="8351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82800" indent="-532080">
              <a:lnSpc>
                <a:spcPct val="90000"/>
              </a:lnSpc>
              <a:spcBef>
                <a:spcPts val="601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procedure for the identification of the most likely path based on the analysis of the responses given to filter and dependent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720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elements of the 2011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484280"/>
            <a:ext cx="8362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ion of </a:t>
            </a: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Person 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house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optimization techniques implemented in the DIESI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inimum change algorithm assigns the role of Person 1 to the person that minimizes the number of changes needed for the record to be 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of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potential cou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of couples having non-unique relationship to Person 1 identified prior to ed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based on the responses provided to the demographic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1125360"/>
            <a:ext cx="8356680" cy="71640"/>
          </a:xfrm>
          <a:prstGeom prst="rect">
            <a:avLst/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elements of the 2011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1484280"/>
            <a:ext cx="83628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 care in E&amp;I of small but important groups in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.g. Centenarians 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d39802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match of individuals enumerated in the 2001 with same individuals enumerated in the 1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d39802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check for internal consistency of unlinked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d39802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al check for consistency with questionnaire images of some ambiguous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procedure supported by availability of local population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1125360"/>
            <a:ext cx="8356680" cy="71640"/>
          </a:xfrm>
          <a:prstGeom prst="rect">
            <a:avLst/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0:44:29Z</dcterms:created>
  <dc:creator>Administrator</dc:creator>
  <dc:description/>
  <dc:language>en-US</dc:language>
  <cp:lastModifiedBy>Administrator</cp:lastModifiedBy>
  <dcterms:modified xsi:type="dcterms:W3CDTF">2008-05-09T11:00:55Z</dcterms:modified>
  <cp:revision>314</cp:revision>
  <dc:subject/>
  <dc:title>Diapositiva 1</dc:title>
</cp:coreProperties>
</file>