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20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2.png" ContentType="image/pn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80880" y="51408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51408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60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2" marL="853920" indent="-101520">
              <a:spcBef>
                <a:spcPts val="60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3" marL="1239840" indent="-195120">
              <a:spcBef>
                <a:spcPts val="601"/>
              </a:spcBef>
              <a:buClr>
                <a:srgbClr val="778d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4" marL="3848040" indent="-114120">
              <a:spcBef>
                <a:spcPts val="601"/>
              </a:spcBef>
              <a:buClr>
                <a:srgbClr val="a7a7a7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5" marL="3848040" indent="-1141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6" marL="3848040" indent="-1141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52480" y="6553080"/>
            <a:ext cx="7391520" cy="0"/>
          </a:xfrm>
          <a:prstGeom prst="line">
            <a:avLst/>
          </a:prstGeom>
          <a:ln cap="sq"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1371600" y="6553080"/>
            <a:ext cx="304920" cy="276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62120" y="6553080"/>
            <a:ext cx="304560" cy="2764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1066680" y="6553080"/>
            <a:ext cx="304920" cy="276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11040" y="6172200"/>
            <a:ext cx="197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Arial"/>
              </a:rPr>
              <a:t>Page </a:t>
            </a:r>
            <a:fld id="{E41CD776-7F8E-46B3-9C63-58FBCAB259B4}" type="slidenum">
              <a:rPr b="0" lang="en-US" sz="1000" spc="-1" strike="noStrike">
                <a:solidFill>
                  <a:srgbClr val="cccc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8659800" y="6407280"/>
            <a:ext cx="407880" cy="37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43828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74570"/>
                </a:solidFill>
                <a:latin typeface="Arial"/>
              </a:rPr>
              <a:t>The validation of the french population cens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9560" y="6553080"/>
            <a:ext cx="197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65f82"/>
                </a:solidFill>
                <a:latin typeface="Arial"/>
              </a:rPr>
              <a:t>15 may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726400" y="0"/>
            <a:ext cx="417600" cy="1668600"/>
          </a:xfrm>
          <a:custGeom>
            <a:avLst/>
            <a:gdLst/>
            <a:ahLst/>
            <a:rect l="l" t="t" r="r" b="b"/>
            <a:pathLst>
              <a:path w="152" h="428">
                <a:moveTo>
                  <a:pt x="0" y="0"/>
                </a:moveTo>
                <a:lnTo>
                  <a:pt x="152" y="0"/>
                </a:lnTo>
                <a:lnTo>
                  <a:pt x="152" y="360"/>
                </a:lnTo>
                <a:lnTo>
                  <a:pt x="0" y="428"/>
                </a:lnTo>
                <a:lnTo>
                  <a:pt x="0" y="0"/>
                </a:lnTo>
              </a:path>
            </a:pathLst>
          </a:cu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419720"/>
            <a:ext cx="2514600" cy="685800"/>
          </a:xfrm>
          <a:prstGeom prst="rect">
            <a:avLst/>
          </a:pr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8723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f8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981080"/>
            <a:ext cx="8839080" cy="45720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839080" y="2438280"/>
            <a:ext cx="0" cy="14479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886200"/>
            <a:ext cx="6324480" cy="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962520"/>
            <a:ext cx="8839080" cy="45720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3886200"/>
            <a:ext cx="0" cy="12193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39080" y="3886200"/>
            <a:ext cx="0" cy="5335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38280"/>
            <a:ext cx="8839080" cy="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106880" y="228600"/>
            <a:ext cx="846000" cy="145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74216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60880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54176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344484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6645240" y="4419720"/>
            <a:ext cx="1096920" cy="707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726400" y="0"/>
            <a:ext cx="417600" cy="1668600"/>
          </a:xfrm>
          <a:custGeom>
            <a:avLst/>
            <a:gdLst/>
            <a:ahLst/>
            <a:rect l="l" t="t" r="r" b="b"/>
            <a:pathLst>
              <a:path w="152" h="428">
                <a:moveTo>
                  <a:pt x="0" y="0"/>
                </a:moveTo>
                <a:lnTo>
                  <a:pt x="152" y="0"/>
                </a:lnTo>
                <a:lnTo>
                  <a:pt x="152" y="360"/>
                </a:lnTo>
                <a:lnTo>
                  <a:pt x="0" y="428"/>
                </a:lnTo>
                <a:lnTo>
                  <a:pt x="0" y="0"/>
                </a:lnTo>
              </a:path>
            </a:pathLst>
          </a:cu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419720"/>
            <a:ext cx="2514600" cy="685800"/>
          </a:xfrm>
          <a:prstGeom prst="rect">
            <a:avLst/>
          </a:pr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7680" y="4830840"/>
            <a:ext cx="14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e1e1e1"/>
                </a:solidFill>
                <a:latin typeface="Arial"/>
              </a:rPr>
              <a:t>15 may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  <a:p>
            <a:pPr lvl="1" marL="3780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88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2" marL="752400" algn="ctr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6868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3" marL="1044720" algn="ctr">
              <a:spcBef>
                <a:spcPts val="400"/>
              </a:spcBef>
              <a:buClr>
                <a:srgbClr val="778de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8deb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778deb"/>
              </a:solidFill>
              <a:latin typeface="Arial"/>
            </a:endParaRPr>
          </a:p>
          <a:p>
            <a:pPr lvl="4" marL="1828800" indent="1905120" algn="ctr">
              <a:spcBef>
                <a:spcPts val="300"/>
              </a:spcBef>
              <a:buClr>
                <a:srgbClr val="a7a7a7"/>
              </a:buClr>
              <a:buFont typeface="Arial Unicode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Fif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  <a:p>
            <a:pPr lvl="5" marL="1828800" indent="1905120">
              <a:spcBef>
                <a:spcPts val="3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Six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  <a:p>
            <a:pPr lvl="6" marL="1828800" indent="1905120">
              <a:spcBef>
                <a:spcPts val="3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Seven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8723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he validation of the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french population census </a:t>
            </a:r>
            <a:endParaRPr b="0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5791320"/>
            <a:ext cx="7791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ivier Lefebvre, Insee</a:t>
            </a: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control procedure during data collectio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A precise data collection protoco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Checked by the municipal office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And by the superviso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514080"/>
            <a:ext cx="85345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controls at the Insee after data collectio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66666"/>
                </a:solidFill>
                <a:latin typeface="Arial"/>
              </a:rPr>
              <a:t>Successive « sorting »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The step of reception-registering of the questionnaire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Establishment of quality indicators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Communes with insufficient scores subject to in-depth control (approx. 15% of the municipalities representing 30% of the population) 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Desk control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Verification with the help of the housing Tax files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On the exhaustiveness of the dwellings, the FLNE, the structure of main/not main residence 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In field controls (8% of municipalities, 1 dwelling out of 200)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686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in-field control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They are done by Insee agent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They relate to the communes whose quality is presumed insufficient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Most often, they confirm the data collection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The errors detected are corrected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66666"/>
                </a:solidFill>
                <a:latin typeface="Arial"/>
              </a:rPr>
              <a:t>N.B. these controls are not representative, therefore </a:t>
            </a:r>
            <a:r>
              <a:rPr b="0" i="1" lang="fr-FR" sz="2000" spc="-1" strike="noStrike" u="sng">
                <a:solidFill>
                  <a:srgbClr val="666666"/>
                </a:solidFill>
                <a:uFillTx/>
                <a:latin typeface="Arial"/>
              </a:rPr>
              <a:t>their results cannot be extrapolated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Data capture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9360">
            <a:solidFill>
              <a:srgbClr val="465f82"/>
            </a:solidFill>
            <a:miter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Quality criteria specifically defined in the specification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securing of transports and data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control of discrepancies with previous counts 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maximum rate of error by category of variables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… </a:t>
            </a: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and quality evaluated by an independent control process </a:t>
            </a: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(sample that has been captured twice and arbitration)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Data processing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Encoding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Quality control work station for :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68686"/>
                </a:solidFill>
                <a:latin typeface="Arial"/>
              </a:rPr>
              <a:t>Assessing the quality of the automatic coding and manual correction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68686"/>
                </a:solidFill>
                <a:latin typeface="Arial"/>
              </a:rPr>
              <a:t>Estimating a « threshold » of percentage of bulletins « non codable »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The contributions of this approach :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68686"/>
                </a:solidFill>
                <a:latin typeface="Arial"/>
              </a:rPr>
              <a:t>adding to the </a:t>
            </a:r>
            <a:r>
              <a:rPr b="0" lang="fr-FR" sz="1800" spc="-1" strike="noStrike">
                <a:solidFill>
                  <a:srgbClr val="465f82"/>
                </a:solidFill>
                <a:latin typeface="Arial"/>
              </a:rPr>
              <a:t>expert system</a:t>
            </a:r>
            <a:r>
              <a:rPr b="0" lang="fr-FR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868686"/>
                </a:solidFill>
                <a:latin typeface="Arial"/>
              </a:rPr>
              <a:t>files 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68686"/>
                </a:solidFill>
                <a:latin typeface="Arial"/>
              </a:rPr>
              <a:t>the improvement of training and protocols  (precisions added in codification rules)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68686"/>
                </a:solidFill>
                <a:latin typeface="Arial"/>
              </a:rPr>
              <a:t>A finer management of quality, without going in for « excess quality »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Data processing (2)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65f82"/>
                </a:solidFill>
                <a:latin typeface="Arial"/>
              </a:rPr>
              <a:t>Data editing and imputa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Anayse the share of non responses or incoherent responses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Imputation of missing data or data presumed non-coherent (hot-deck procedure)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They are fine-tuned year after year, in view of the quality of the variables produced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266688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Quality of extrapolations in municipalities more than 10 000 inhabitant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validation in « big » municipalitie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08040" y="1905120"/>
          <a:ext cx="7988400" cy="358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040" y="1905120"/>
                    <a:ext cx="7988400" cy="35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976760" y="1371600"/>
            <a:ext cx="374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 analysis of the ev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validation in « big » municipalities (2)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2590920"/>
          <a:ext cx="7772400" cy="2249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590920"/>
                    <a:ext cx="7772400" cy="22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050200" y="1752480"/>
            <a:ext cx="445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he contributions to the ev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Any questions ?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676520"/>
            <a:ext cx="7924680" cy="0"/>
          </a:xfrm>
          <a:prstGeom prst="line">
            <a:avLst/>
          </a:prstGeom>
          <a:ln w="442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4920" y="1905120"/>
            <a:ext cx="8447040" cy="3580920"/>
            <a:chOff x="304920" y="1905120"/>
            <a:chExt cx="8447040" cy="358092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304920" y="2120760"/>
              <a:ext cx="1839960" cy="20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2057400" y="2819160"/>
              <a:ext cx="181944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3886200" y="3504960"/>
              <a:ext cx="181764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5"/>
            <a:stretch/>
          </p:blipFill>
          <p:spPr>
            <a:xfrm>
              <a:off x="5410080" y="2819160"/>
              <a:ext cx="181764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6"/>
            <a:stretch/>
          </p:blipFill>
          <p:spPr>
            <a:xfrm>
              <a:off x="6934320" y="1905120"/>
              <a:ext cx="1817640" cy="1981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method of the new census</a:t>
            </a:r>
            <a:br>
              <a:rPr sz="2800"/>
            </a:b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Two major principles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64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194388"/>
                </a:solidFill>
                <a:latin typeface="Arial"/>
                <a:ea typeface="Arial"/>
              </a:rPr>
              <a:t>Data collection in rotation (five years cycle)</a:t>
            </a:r>
            <a:endParaRPr b="0" lang="en-US" sz="26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64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194388"/>
                </a:solidFill>
                <a:latin typeface="Arial"/>
                <a:ea typeface="Arial"/>
              </a:rPr>
              <a:t>Sample surveys for large communes (more than 10 000 inhabitants)</a:t>
            </a:r>
            <a:endParaRPr b="0" lang="en-US" sz="26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  <a:ea typeface="Arial"/>
              </a:rPr>
              <a:t>The sampling base:</a:t>
            </a:r>
            <a:r>
              <a:rPr b="0" lang="fr-FR" sz="2800" spc="-1" strike="noStrike">
                <a:solidFill>
                  <a:srgbClr val="666666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666666"/>
                </a:solidFill>
                <a:latin typeface="Arial"/>
                <a:ea typeface="Arial"/>
              </a:rPr>
              <a:t>the located buildings register (répertoire d’immeubles localisés - RIL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  <a:ea typeface="Arial"/>
              </a:rPr>
              <a:t>Special case of persons not living in ordinary dwelling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86600" cy="5862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09480" y="1143000"/>
            <a:ext cx="2210040" cy="99072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4724280"/>
            <a:ext cx="2210040" cy="99072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4724280"/>
            <a:ext cx="2209680" cy="99072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1981080"/>
            <a:ext cx="4267440" cy="137160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estimation mechanism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Municipalities with 10 000 inhabitants or more 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Sample surveyed at 8 % every year, i.e. 40 % over 5 years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Mobile mean over 5 years (number of persons by dwelling)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465f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65f82"/>
                </a:solidFill>
                <a:latin typeface="Arial"/>
              </a:rPr>
              <a:t>Fitted</a:t>
            </a: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 over the number of dwellings of the median year (given by the RIL)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same year of reference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465f82"/>
                </a:solidFill>
                <a:latin typeface="Arial"/>
              </a:rPr>
              <a:t>Municipalities less than 10 000 inhabitants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63880" y="-12621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36880" y="8256600"/>
            <a:ext cx="84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38480" y="1141092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238120" y="1380168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1880" y="8218440"/>
            <a:ext cx="11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1880" y="11206080"/>
            <a:ext cx="11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1880" y="13587480"/>
            <a:ext cx="11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981080"/>
          <a:ext cx="6096240" cy="40640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677880"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 -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Cens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Cens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ens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Cens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Cens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2590920" y="2895480"/>
            <a:ext cx="19047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3581280"/>
            <a:ext cx="685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4952880"/>
            <a:ext cx="685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5638680"/>
            <a:ext cx="1905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estimation mechanism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Municipalities with less than 10 000 inhab. 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Exhaustive census every 5 years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Population updated by :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68686"/>
                </a:solidFill>
                <a:latin typeface="Arial"/>
              </a:rPr>
              <a:t>Extrapolation taking into account administrative sources (Housing Tax files)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68686"/>
                </a:solidFill>
                <a:latin typeface="Arial"/>
              </a:rPr>
              <a:t>Interpolation with last census (1999)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776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Quality process and validatio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figures of population : a synthesis of …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 fontScale="88000"/>
          </a:bodyPr>
          <a:p>
            <a:pPr marL="164520" indent="-16344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Results of annual survey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494280" indent="-16164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quality of data collection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494280" indent="-16164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quality of data capture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494280" indent="-16164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quality of data processing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494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marL="164520" indent="-16344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Number of dwellings contained in the RI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64520" indent="-16344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Evolution of dwellings in the local tax register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64520" indent="-16344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Population of institutionnal household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64520" indent="-16344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65f82"/>
                </a:solidFill>
                <a:latin typeface="Arial"/>
              </a:rPr>
              <a:t>Each of these « sources » must be validated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The validation of the RIL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Arial"/>
              </a:rPr>
              <a:t>The « quality » survey of the RIL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An annual survey to assess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The surpluses and the deficits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The surplus-deficit balance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The proportion of communes for which the quality is deemed mediocre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The sample : 340 000 addresses and 900 000 dwelling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The results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1% of dwellings in deficit, 1% in surplus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A level of quality higher than that of usual geographical registers 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A regular improvement process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Data collectio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control procedures during the data collec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follow-up and control upon the initiative of the commune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controls at the Insee after the data collection </a:t>
            </a: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(reception-control, in office control, controls in the field)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9:26:37Z</dcterms:created>
  <dc:creator>LEFEBVRE</dc:creator>
  <dc:description/>
  <dc:language>en-US</dc:language>
  <cp:lastModifiedBy>Administrateur</cp:lastModifiedBy>
  <dcterms:modified xsi:type="dcterms:W3CDTF">2008-05-14T20:42:39Z</dcterms:modified>
  <cp:revision>108</cp:revision>
  <dc:subject/>
  <dc:title>Plan de la journé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1371572</vt:r8>
  </property>
  <property fmtid="{D5CDD505-2E9C-101B-9397-08002B2CF9AE}" pid="3" name="_AuthorEmail">
    <vt:lpwstr>leger@easyconnect.fr</vt:lpwstr>
  </property>
  <property fmtid="{D5CDD505-2E9C-101B-9397-08002B2CF9AE}" pid="4" name="_AuthorEmailDisplayName">
    <vt:lpwstr>leger</vt:lpwstr>
  </property>
  <property fmtid="{D5CDD505-2E9C-101B-9397-08002B2CF9AE}" pid="5" name="_EmailSubject">
    <vt:lpwstr>RE : Trad..</vt:lpwstr>
  </property>
</Properties>
</file>