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9C38-627D-4B3D-A839-C2DCE7E5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FA40-805D-4141-93AE-E5DA5E7E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5A9C-D646-4D15-B00E-F7CD6910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6486-2B87-49AF-90EA-3CDF6C50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2F2A-8949-45D4-9208-18A25A9D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F3A7-B3D4-465C-ADCE-97ABF4A1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912D-3943-4FEE-B826-56E0B37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22C1-3962-4F8C-80D8-7E64D2D6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39AB-E21F-4FA7-8FEB-36331D2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E60F-F9A2-4E4A-8ED4-87DB6EE9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C114-FDB9-421F-BA80-717209C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303C-8094-4A2C-A418-735AF07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E96-834E-4B30-A3CD-386EDE4F04E0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1D8-B570-43B0-B265-8B02F4059D3B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Quality control in Finnish Censuses in 1970 -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3 -15 May 2008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kka Myrskyl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914400"/>
          <a:ext cx="8534520" cy="52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53452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BE6A-D860-4B6C-B51C-BA1E3B212EF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98F6E-214A-4377-A3A7-00B9765C2C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ain type of activity, aged 15 to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67752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A116-574B-49FF-9CBD-6CD79251BB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DC64E-9420-42BD-AD32-88DBDA01C1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849240"/>
            <a:ext cx="8381880" cy="545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7997-1AA8-45A6-9B10-B9E8B30166F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EF1C1-94E3-4529-B771-8FF840ACEA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693720"/>
            <a:ext cx="891540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6A23-7A9B-439A-A92D-4D16CAF498A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913BF-2D8F-43CE-8DC2-CD60DBE239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83808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according to the Register-based Employment Statistics (RES) and Labour Force Survey (LFS) on December 2000  (percentage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905120"/>
          <a:ext cx="9677520" cy="322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6775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2173-EF08-4F18-8523-72CCF1F4C58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F08A2-7EC4-45DE-8F66-4C7F9AC53A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4439" t="0" r="15852" b="0"/>
          <a:stretch/>
        </p:blipFill>
        <p:spPr>
          <a:xfrm>
            <a:off x="762120" y="838080"/>
            <a:ext cx="716256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FF92-264E-4DD3-94A8-809C8F7A879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D5760-F594-406F-95AA-6738EAF4A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09480" y="762120"/>
          <a:ext cx="9068040" cy="56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906804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D570-E6A9-4305-B46B-EC583C57E0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71FF-1DCD-4A0E-9C14-595F610E62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population register wa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ing by official population changes (with ID-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1970-1975 about 30 000 changes, where the person was missing (migrated, died, new born children marriag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at least 100 000 - 150 000 were missing in Stat.Pop.R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Stat. Reg. and Off.Pop. Reg. was about 100 000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1.12.1976 we started to use the official Population register in Population statistics and in Cens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DEC9-FA90-4166-85D4-1D4C9CE140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94A14-0530-43F6-8356-229801F1C1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80880" y="711360"/>
          <a:ext cx="9220320" cy="53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11360"/>
                    <a:ext cx="9220320" cy="53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EF84-8C9D-4D2C-B6EF-EA580FA45E2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6EF2E-0C5B-4350-97EE-08ABFFC9F3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743040"/>
          <a:ext cx="8991720" cy="56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43040"/>
                    <a:ext cx="899172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B6DB-5A18-43A3-81DD-9A28336678A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77708-4E9F-4D26-BA76-C61D391B62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42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nd Dwelling forms were owned and signed by the Population Register Centre (under the Ministry of I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in this way we could give this data to the C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buildings and dwelling units were pre-printed to the questionnaires (and all the data of these units were checked by owners/people themselv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much checking were done in the field work (missing data non logic or wrong data) also the local dwelling information in municipalities were used in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correction in the domicile codes (xact addresses) were done in population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new business units and establishments wer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16BB-DDAD-4BB4-800B-23DFDE82D0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47778-EB31-4004-BDC3-4CE1938525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679320"/>
          <a:ext cx="899136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79320"/>
                    <a:ext cx="899136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A6BC-CCBC-4BC2-88FA-591DE71DF1F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52A8-B352-4F7D-9615-1592210D3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9010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type of activity according to the Census and Registers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694" b="0"/>
          <a:stretch/>
        </p:blipFill>
        <p:spPr>
          <a:xfrm>
            <a:off x="0" y="1447920"/>
            <a:ext cx="96138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DBF3-9D62-4F23-ADC1-3337C6788A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D3F67-9A8F-4159-B386-53BDA0061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ulation and Housing Census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901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Census data from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Quality survey were investigat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rcent out of all real estat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buildings on these estates 23 000 (build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wellings in these buildings 45 000 (dwell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persons living in these dwellings  9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ould tell what have happened in Finland during these years we have changed ou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traditional census to the register based census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experiences we have, when we made the traditional census parallel with the register census in 1980 and 198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CDA8-FD5F-4E4D-9354-5272B8DCFC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BC91C-B1DC-42A3-A769-EA98E436BD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38:58Z</dcterms:created>
  <dc:creator>myrskyla</dc:creator>
  <dc:description/>
  <dc:language>en-US</dc:language>
  <cp:lastModifiedBy>myrskyla</cp:lastModifiedBy>
  <cp:lastPrinted>2004-03-02T12:43:08Z</cp:lastPrinted>
  <dcterms:modified xsi:type="dcterms:W3CDTF">2008-05-12T20:20:21Z</dcterms:modified>
  <cp:revision>7</cp:revision>
  <dc:subject/>
  <dc:title>Otsikkodia</dc:title>
</cp:coreProperties>
</file>