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E57C0-95B4-4B77-B079-69946D11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78A55-CE8A-4824-96E6-A48DCA14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2243E-6B09-4563-9E8C-DF310F56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70222-CA84-4144-A9C8-5C61D1B9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D2A39-FA4B-4B62-A5BD-1B09056B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F67EC-6B79-4B12-A429-4DEBFCD1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2B483-8ADA-4279-9CD9-2B562A8F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D9FC1-CB9B-4A98-92AF-C0E62D4E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E7425-8265-44FF-8AB7-B41CEC72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A8B03-8CF8-4561-A5BE-DF342638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A8213-C09C-477B-A9EB-3900D2BA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D004D-097A-421C-8015-E29B2FED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0200" indent="-1983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9360" indent="-1983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530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B737-53C1-42D7-A5A0-4DE24C628F76}" type="datetime">
              <a:rPr b="0" lang="fi-FI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201240" y="6552720"/>
            <a:ext cx="552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A069-FBE3-4750-9942-A365C0361B95}" type="slidenum">
              <a:rPr b="0" lang="fi-FI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5409720" y="6552720"/>
            <a:ext cx="2210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yhyt%20viiva" descr=""/>
          <p:cNvPicPr/>
          <p:nvPr/>
        </p:nvPicPr>
        <p:blipFill>
          <a:blip r:embed="rId2"/>
          <a:stretch/>
        </p:blipFill>
        <p:spPr>
          <a:xfrm>
            <a:off x="5459400" y="6516720"/>
            <a:ext cx="4446720" cy="36360"/>
          </a:xfrm>
          <a:prstGeom prst="rect">
            <a:avLst/>
          </a:prstGeom>
          <a:ln w="0">
            <a:noFill/>
          </a:ln>
        </p:spPr>
      </p:pic>
      <p:pic>
        <p:nvPicPr>
          <p:cNvPr id="6" name="englanti2" descr=""/>
          <p:cNvPicPr/>
          <p:nvPr/>
        </p:nvPicPr>
        <p:blipFill>
          <a:blip r:embed="rId3"/>
          <a:stretch/>
        </p:blipFill>
        <p:spPr>
          <a:xfrm>
            <a:off x="282600" y="304920"/>
            <a:ext cx="3070080" cy="54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englanti2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267080" cy="760680"/>
          </a:xfrm>
          <a:prstGeom prst="rect">
            <a:avLst/>
          </a:prstGeom>
          <a:ln w="0">
            <a:noFill/>
          </a:ln>
        </p:spPr>
      </p:pic>
      <p:pic>
        <p:nvPicPr>
          <p:cNvPr id="45" name="pitkapaksuviiva3" descr=""/>
          <p:cNvPicPr/>
          <p:nvPr/>
        </p:nvPicPr>
        <p:blipFill>
          <a:blip r:embed="rId3"/>
          <a:stretch/>
        </p:blipFill>
        <p:spPr>
          <a:xfrm>
            <a:off x="0" y="6361200"/>
            <a:ext cx="9926640" cy="573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5564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184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2100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Quality control in Finnish Censuses in 1970 - 2000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43000" y="3047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3 -15 May 2008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ekka Myrskyl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685800" y="914400"/>
          <a:ext cx="8534520" cy="521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53452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3DB50-A03E-4E5B-8D59-0DF265DE906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7A4F5-AB98-4EB2-893F-447D7F868A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Main type of activity, aged 15 to 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677520" cy="412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16BB8-3D56-4C23-8D84-D6345EF9DD1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DFA0B-ECDF-4FE8-831D-63C7F01E36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849240"/>
            <a:ext cx="8381880" cy="545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57DA5-7782-4725-A24F-672712A9FDA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C236C-0D3E-455D-A2AF-79DD2CBA7E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693720"/>
            <a:ext cx="8915400" cy="581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58B15-EF56-4722-B3B1-F43CD54114D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0A3AE-D07E-455F-84EB-DE87571870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43040" y="838080"/>
            <a:ext cx="8420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rsons according to the Register-based Employment Statistics (RES) and Labour Force Survey (LFS) on December 2000  (percentages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905120"/>
          <a:ext cx="9677520" cy="322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677520" cy="32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31BF8-B895-4A67-A6A1-6CEBF2DE9AE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45381-D1D0-4F36-AC03-58B29325B9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4439" t="0" r="15852" b="0"/>
          <a:stretch/>
        </p:blipFill>
        <p:spPr>
          <a:xfrm>
            <a:off x="762120" y="838080"/>
            <a:ext cx="7162560" cy="563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BCF6C-08B8-4CE4-A108-1708A60944A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39E8F-A377-4C71-99E7-C8C93CF89B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609480" y="762120"/>
          <a:ext cx="9068040" cy="56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62120"/>
                    <a:ext cx="9068040" cy="56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B76B8-FC01-4655-9645-1095B3CDAE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4A7EA-834B-46F2-88A8-9A7C5B5470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440" y="1066320"/>
            <a:ext cx="8420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74600" indent="-174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al population register wa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ing by official population changes (with ID-numb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tween 1970-1975 about 30 000 changes, where the person was missing (migrated, died, new born children marriage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at least 100 000 - 150 000 were missing in Stat.Pop.R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fference between Stat. Reg. and Off.Pop. Reg. was about 100 000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1.12.1976 we started to use the official Population register in Population statistics and in Cens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3C151-8D5A-4D1E-94EB-562A128A9E8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F5732-85D8-481A-B3DD-705AD68716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380880" y="711360"/>
          <a:ext cx="9220320" cy="538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11360"/>
                    <a:ext cx="9220320" cy="53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8355A-8D49-42A5-AA21-4DF9885405D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B0A98-2EA3-4D86-8A97-021DCFB5C8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685800" y="743040"/>
          <a:ext cx="8991720" cy="565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43040"/>
                    <a:ext cx="899172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99973-68D3-415C-8080-928797C6DE4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2DBB8-AB66-4E6F-BA55-670D910B8B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8420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150120" indent="-15012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and Dwelling forms were owned and signed by the Population Register Centre (under the Ministry of Interi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 in this way we could give this data to the CP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the buildings and dwelling units were pre-printed to the questionnaires (and all the data of these units were checked by owners/people themselv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much checking were done in the field work (missing data non logic or wrong data) also the local dwelling information in municipalities were used in 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ts of correction in the domicile codes (xact addresses) were done in population regi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ts of new business units and establishments were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CCDF0-5265-4CAD-9D60-2CC66FAC73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B917D-2C1A-409D-8D5D-F6EE7E2B03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33520" y="679320"/>
          <a:ext cx="8991360" cy="558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79320"/>
                    <a:ext cx="899136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D61B5-E40A-4368-94D5-A60CE1A7837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FFC74-42AA-4271-B663-3AD23E1267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9010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in type of activity according to the Census and Registers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0" r="3694" b="0"/>
          <a:stretch/>
        </p:blipFill>
        <p:spPr>
          <a:xfrm>
            <a:off x="0" y="1447920"/>
            <a:ext cx="961380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A88BC-CD5C-4D50-8287-7538E8F145E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5C4F5-3B52-4284-8049-E152CDD2FC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2680" y="83808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pulation and Housing Census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9010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61280" indent="-1612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the Census data from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Quality survey were investigate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percent out of all real estat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the buildings on these estates 23 000 (build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dwellings in these buildings 45 000 (dwell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the persons living in these dwellings  96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ould tell what have happened in Finland during these years we have changed ou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the traditional census to the register based census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ose experiences we have, when we made the traditional census parallel with the register census in 1980 and 198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Myrskyl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0D39-22FA-4C98-A520-45A362270C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BD47A-CF5E-49AD-9615-CEF2758AEE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1:38:58Z</dcterms:created>
  <dc:creator>myrskyla</dc:creator>
  <dc:description/>
  <dc:language>en-US</dc:language>
  <cp:lastModifiedBy>myrskyla</cp:lastModifiedBy>
  <cp:lastPrinted>2004-03-02T12:43:08Z</cp:lastPrinted>
  <dcterms:modified xsi:type="dcterms:W3CDTF">2008-05-12T20:20:21Z</dcterms:modified>
  <cp:revision>7</cp:revision>
  <dc:subject/>
  <dc:title>Otsikkodia</dc:title>
</cp:coreProperties>
</file>