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41040" y="752400"/>
            <a:ext cx="5008680" cy="375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B8DA37-B9A7-4286-A999-DDD9880FD7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79F02D-C99C-4030-A733-67874DCE17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6CE580-5F12-4519-BAE5-28F342BE11DD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BBD6F2-EE87-471C-8CCB-27FD56E4D8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52A9E0-F399-4B9E-BECC-D332E14E25DA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7CA403-A393-4C10-AF37-0FDA12887D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099F80-853E-4519-B14A-6AAC46F36B05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02F2-1C24-44E2-A7AC-1ABA1806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430A-261C-4165-BC5B-B8848F58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5EC7-F2CA-40B0-965A-98BAAA46E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86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2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00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86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2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BEC3-1647-48FC-9BE4-B2752A62A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AAF3-F634-4ECF-A2C8-2381E4590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8AB60-C3F6-48E0-97D4-800D4E22C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C3E6D-D59A-4A60-BD01-F75DD50E8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FBE38-75AF-47F8-9E95-7A30728FB9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9CD8-D585-422D-A2C3-FD571A4DD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1135-F578-40E5-AF11-0D0FF48FB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2835B-06B5-4C07-ADFF-36CFC87B7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974C-F7EA-4228-8054-36EA35C01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C00FE-F63B-44DA-80CC-514AC994E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B0AE-B8FA-419C-9407-D18550378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D255-CE58-4846-AEC9-5A3782274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AF1E2-2A4C-469B-BC32-5D245418B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86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72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00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86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72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5D6EB-B79B-45E2-9978-5F13E6FC3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9082-398F-43F5-A83B-D33F2F8A6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86BA-51FA-4C86-A312-2429AE730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6815-B4D6-425D-917D-7D3B90567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3F6E-8733-4925-8A05-CCDC289B7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D709-CA2E-41F2-AD30-57AB2903E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DFFD-49A2-4B0A-9639-23F296CCD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B4BC-94E9-448B-B844-4EDB7B8B7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12920" y="1001880"/>
            <a:ext cx="7375320" cy="1220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12920" y="6188040"/>
            <a:ext cx="737532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601"/>
              </a:spcBef>
              <a:buClr>
                <a:srgbClr val="ac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7840" indent="-4381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720" y="188640"/>
            <a:ext cx="1042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Joint UNECE Eurostat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2843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85C-ECCB-4142-A3F6-97E520F37C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12920" y="1001880"/>
            <a:ext cx="7375320" cy="1220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2920" y="6188040"/>
            <a:ext cx="737532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Les Lundis de l’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C461-DB7C-40E5-82E0-5DB1AD31B2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37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7489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oint UNECE/Eurostat Meeting on Population and Housing Censuses (13-15 May 2008)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ple results expected accuracy in the Italian Population and Housing Censu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0028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ancarlo Carbonetti, Marco Fort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stat – Italian National Statistical Institute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neral Censuses Director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y 13th 2008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ampling strategies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848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wo different sampling designs have been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mpling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holds from Administrative Registers 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RSHO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managed by municipa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rea Frame Sampling based on 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mpling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eration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as 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RSEN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which implies a complete data collection of households dwelling in the selected enumeration areas (from Digital Geocoded Data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3789360"/>
            <a:ext cx="78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studies have been conducte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compare the two different approaches (with a sampling ratio of about one third of the whole population consider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evaluate in the SRSHOU the improvement of the estimates precision for increasing sampling ratio (10%, 15%, 20%, 3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introduce some stratifications of the units invol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C763-D0A8-4E9F-85F5-9CF6437708CD}" type="slidenum">
              <a:t>10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2000" y="3068640"/>
            <a:ext cx="781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features of the sampling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the “new areas” referred to sub-municipal distr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Target variable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variables” related to cross-classification of educational level, employment status and commuting with demographic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ampling unit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households” or “enumeration are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stimato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calibrated estimators” by using final weights properly modified so to make the sample more represent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12536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pling strategies were compared to each other through Monte Carlo sampling replications (carried out on 2001 Italian Census data) in order to assess the sampling error defined by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CV) which represents an accuracy measurement of the sampling est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4C10-365B-48CF-875F-11F8599CF980}" type="slidenum">
              <a:t>11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52360" y="2421000"/>
          <a:ext cx="7596360" cy="3741840"/>
        </p:xfrm>
        <a:graphic>
          <a:graphicData uri="http://schemas.openxmlformats.org/drawingml/2006/table">
            <a:tbl>
              <a:tblPr/>
              <a:tblGrid>
                <a:gridCol w="1655640"/>
                <a:gridCol w="1536840"/>
                <a:gridCol w="1595520"/>
                <a:gridCol w="1596960"/>
                <a:gridCol w="1211400"/>
              </a:tblGrid>
              <a:tr h="42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ical 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s of population size 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-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0-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than 1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 It has been considered the legal (official) population date referred to the 2001 Census of Popul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116000" y="1125360"/>
            <a:ext cx="75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ecause of the strong differences among the Italian municipalities, 40 of them wit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population siz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nd from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regions of Ita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were consi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5084640"/>
            <a:ext cx="1008360" cy="57636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781360"/>
            <a:ext cx="1871640" cy="64764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45DC-7391-4E06-A346-6D5E1B5BE3AD}" type="slidenum">
              <a:t>12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19280" y="1846440"/>
          <a:ext cx="6553080" cy="3887280"/>
        </p:xfrm>
        <a:graphic>
          <a:graphicData uri="http://schemas.openxmlformats.org/drawingml/2006/table">
            <a:tbl>
              <a:tblPr/>
              <a:tblGrid>
                <a:gridCol w="2533680"/>
                <a:gridCol w="1843200"/>
                <a:gridCol w="1217520"/>
                <a:gridCol w="958680"/>
              </a:tblGrid>
              <a:tr h="68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7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meration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,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3,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10,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37,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94,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*) Estimated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58840" y="1125360"/>
            <a:ext cx="708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mount of units involved by the 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860640"/>
            <a:ext cx="936360" cy="720720"/>
          </a:xfrm>
          <a:prstGeom prst="ellipse">
            <a:avLst/>
          </a:prstGeom>
          <a:solidFill>
            <a:srgbClr val="ccffcc">
              <a:alpha val="23000"/>
            </a:srgbClr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4581360"/>
            <a:ext cx="936360" cy="719280"/>
          </a:xfrm>
          <a:prstGeom prst="ellipse">
            <a:avLst/>
          </a:prstGeom>
          <a:solidFill>
            <a:srgbClr val="ccffff">
              <a:alpha val="23000"/>
            </a:srgbClr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6058-7281-4AE5-B6CC-3A6139957D3D}" type="slidenum">
              <a:t>13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71640" y="1052640"/>
          <a:ext cx="7848360" cy="51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784836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catter plot of cv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nd p (estimates) for each census area. SRSHOU design (sampling ratio=33%). City of Perugia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0920" y="1267920"/>
            <a:ext cx="0" cy="453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5805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95640" y="1268280"/>
            <a:ext cx="0" cy="43941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56610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338560" y="1268280"/>
            <a:ext cx="0" cy="42516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51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E88A-44A1-43C0-A6F1-776A4B0F81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SRSHOU design and SRSENA design (both with sampling ratio=33%)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arison of 4 municipalities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1268280"/>
          <a:ext cx="7848360" cy="4753080"/>
        </p:xfrm>
        <a:graphic>
          <a:graphicData uri="http://schemas.openxmlformats.org/drawingml/2006/table">
            <a:tbl>
              <a:tblPr/>
              <a:tblGrid>
                <a:gridCol w="1089360"/>
                <a:gridCol w="842400"/>
                <a:gridCol w="828360"/>
                <a:gridCol w="865080"/>
                <a:gridCol w="838440"/>
                <a:gridCol w="855000"/>
                <a:gridCol w="836640"/>
                <a:gridCol w="853920"/>
                <a:gridCol w="8391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ano (111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 (32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dova (18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 (13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211480" y="3357720"/>
            <a:ext cx="16398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4365720"/>
            <a:ext cx="1655640" cy="30456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11480" y="5373720"/>
            <a:ext cx="1639800" cy="30492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3284640"/>
            <a:ext cx="574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292640"/>
            <a:ext cx="574920" cy="4762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300640"/>
            <a:ext cx="57492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550880"/>
            <a:ext cx="863640" cy="50976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020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020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8560" y="3290760"/>
            <a:ext cx="574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6892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308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6892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3290760"/>
            <a:ext cx="57492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908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908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1557360"/>
            <a:ext cx="86364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620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620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3280" y="3290760"/>
            <a:ext cx="574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1557360"/>
            <a:ext cx="86328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1557360"/>
            <a:ext cx="86364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133720"/>
            <a:ext cx="3889440" cy="947160"/>
          </a:xfrm>
          <a:prstGeom prst="rect">
            <a:avLst/>
          </a:prstGeom>
          <a:solidFill>
            <a:srgbClr val="ffff0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DUE TO THE CLUSTE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134D-4FF2-40E7-B2A1-A94C39B51DB8}" type="slidenum">
              <a:t>15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oss of efficiency (in terms of CV for classes of p) of estimation with SRSENA with respect to SRSHOU design (both with sampling ratio=33%). Comparison of 4 municipalities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557360"/>
          <a:ext cx="7561440" cy="4599000"/>
        </p:xfrm>
        <a:graphic>
          <a:graphicData uri="http://schemas.openxmlformats.org/drawingml/2006/table">
            <a:tbl>
              <a:tblPr/>
              <a:tblGrid>
                <a:gridCol w="1206720"/>
                <a:gridCol w="1589040"/>
                <a:gridCol w="1589040"/>
                <a:gridCol w="1587600"/>
                <a:gridCol w="15890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 of 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ano          (111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         (32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dova           (18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           (13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27672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5080" y="5803920"/>
            <a:ext cx="79092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2944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42900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1080" y="342900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4797360"/>
            <a:ext cx="79092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9440" y="4076640"/>
            <a:ext cx="790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125360"/>
            <a:ext cx="45352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33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ENA_s.r. 33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B088-F98F-401B-8F92-9C53E33479D0}" type="slidenum">
              <a:t>16</a:t>
            </a:fld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4 different sampling ratios with the SRSHOU design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197000"/>
          <a:ext cx="7848720" cy="4922640"/>
        </p:xfrm>
        <a:graphic>
          <a:graphicData uri="http://schemas.openxmlformats.org/drawingml/2006/table">
            <a:tbl>
              <a:tblPr/>
              <a:tblGrid>
                <a:gridCol w="1449360"/>
                <a:gridCol w="1608120"/>
                <a:gridCol w="1611360"/>
                <a:gridCol w="1589040"/>
                <a:gridCol w="159084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371760" y="3068640"/>
            <a:ext cx="8384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73560" y="4076640"/>
            <a:ext cx="83808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73560" y="5092560"/>
            <a:ext cx="83808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1106640"/>
            <a:ext cx="1440000" cy="65376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3075120"/>
            <a:ext cx="8384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4070520"/>
            <a:ext cx="83844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5099040"/>
            <a:ext cx="83844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13560" y="3075120"/>
            <a:ext cx="83808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4070520"/>
            <a:ext cx="83844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5099040"/>
            <a:ext cx="83844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1112760"/>
            <a:ext cx="1440000" cy="65412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96120" y="3075120"/>
            <a:ext cx="838440" cy="3967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72360" y="4070520"/>
            <a:ext cx="838440" cy="4381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72360" y="5099040"/>
            <a:ext cx="838440" cy="41760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1112760"/>
            <a:ext cx="1440000" cy="6541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1112760"/>
            <a:ext cx="1440000" cy="65412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3068640"/>
            <a:ext cx="144000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76640"/>
            <a:ext cx="1440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5084640"/>
            <a:ext cx="1440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CC19-1C13-45EC-8EC9-D64D1DE6FCFC}" type="slidenum">
              <a:t>17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ain of efficiency (in terms of CV for classes of p) of estimation with SRSHOU design by increasing sampling ratio from 10% to 33% 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58920" y="1660680"/>
          <a:ext cx="7561080" cy="4441680"/>
        </p:xfrm>
        <a:graphic>
          <a:graphicData uri="http://schemas.openxmlformats.org/drawingml/2006/table">
            <a:tbl>
              <a:tblPr/>
              <a:tblGrid>
                <a:gridCol w="1762200"/>
                <a:gridCol w="1933560"/>
                <a:gridCol w="1931760"/>
                <a:gridCol w="19335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405080" y="1181160"/>
            <a:ext cx="70545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1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N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x100/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1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276640"/>
            <a:ext cx="7561080" cy="288720"/>
          </a:xfrm>
          <a:prstGeom prst="rect">
            <a:avLst/>
          </a:prstGeom>
          <a:solidFill>
            <a:srgbClr val="ffff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3500280"/>
            <a:ext cx="172872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21-23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3860640"/>
            <a:ext cx="172908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33-38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4149720"/>
            <a:ext cx="172908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53-58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2276640"/>
            <a:ext cx="0" cy="122364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276640"/>
            <a:ext cx="0" cy="1584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2000" y="2276640"/>
            <a:ext cx="0" cy="187308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FD54-4627-46F2-83ED-7429AED93B4D}" type="slidenum">
              <a:t>18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five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nd three classes of area (according to population size). Comparison of 4 different sampling ratios with the SRSHOU design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197000"/>
          <a:ext cx="7632720" cy="4824360"/>
        </p:xfrm>
        <a:graphic>
          <a:graphicData uri="http://schemas.openxmlformats.org/drawingml/2006/table">
            <a:tbl>
              <a:tblPr/>
              <a:tblGrid>
                <a:gridCol w="1479600"/>
                <a:gridCol w="1195560"/>
                <a:gridCol w="1239840"/>
                <a:gridCol w="1238040"/>
                <a:gridCol w="1241640"/>
                <a:gridCol w="12380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Classes of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ation by area (thousa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940200" y="2709720"/>
            <a:ext cx="487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3241800"/>
            <a:ext cx="4927680" cy="30456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247920"/>
            <a:ext cx="64764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247920"/>
            <a:ext cx="648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6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8360" y="3247920"/>
            <a:ext cx="648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70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3247920"/>
            <a:ext cx="64764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08520" y="4365720"/>
            <a:ext cx="48798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92680" y="4897440"/>
            <a:ext cx="492732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68680" y="4363920"/>
            <a:ext cx="64800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704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91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92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5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16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139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40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3247920"/>
            <a:ext cx="647640" cy="397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4869000"/>
            <a:ext cx="647640" cy="3967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781360"/>
            <a:ext cx="1297080" cy="7189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4438800"/>
            <a:ext cx="1297080" cy="7189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C8C4-E0E4-49F1-A7A9-7DE206C4DAA6}" type="slidenum">
              <a:t>19</a:t>
            </a:fld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90440" y="1413000"/>
            <a:ext cx="7802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for long form enum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pl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E96C-506F-4EC7-B2E2-9C02606F43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less than 10,000 inhabitants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flipV="1">
            <a:off x="5508720" y="2637000"/>
            <a:ext cx="0" cy="2952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227640" y="4076280"/>
            <a:ext cx="0" cy="1513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48360" y="4797000"/>
            <a:ext cx="0" cy="792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FF6B-DEB4-4B5D-8C03-520D44D7E8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between 10,000 and 12,000 inhabitants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08720" y="2997000"/>
            <a:ext cx="0" cy="2592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27640" y="4221000"/>
            <a:ext cx="0" cy="1368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948360" y="4869000"/>
            <a:ext cx="0" cy="720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4149720"/>
            <a:ext cx="403236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in of efficiency (in terms of CV) for census areas with size between 10,000 and 12,000 with respect to census areas with less than 10,000 is abo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4-20 perc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Similar results are obtained for all tested sampling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E0DA-1E77-49FA-BDA0-ED10541AFCBE}" type="slidenum">
              <a:t>21</a:t>
            </a:fld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more than 12,000 inhabitants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508720" y="3284280"/>
            <a:ext cx="0" cy="23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227640" y="4365720"/>
            <a:ext cx="0" cy="122400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48360" y="4869000"/>
            <a:ext cx="0" cy="720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4149720"/>
            <a:ext cx="403236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in of efficiency (in terms of CV) for census areas with size more than 12,000 with respect to census areas with less than 10,000 is abo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2-28 perc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s before, similar results are obtained for all tested sampling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88AA-38FC-4B42-B5BB-E4BD1FB22EBE}" type="slidenum">
              <a:t>22</a:t>
            </a:fld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the estimates referred to areas larger than 12,000 inhabitants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percentage frequencies for 4 different sampling ratios with the SRSHOU design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258920" y="1484280"/>
          <a:ext cx="7489800" cy="4536720"/>
        </p:xfrm>
        <a:graphic>
          <a:graphicData uri="http://schemas.openxmlformats.org/drawingml/2006/table">
            <a:tbl>
              <a:tblPr/>
              <a:tblGrid>
                <a:gridCol w="1697040"/>
                <a:gridCol w="1449360"/>
                <a:gridCol w="1447920"/>
                <a:gridCol w="1447560"/>
                <a:gridCol w="1447920"/>
              </a:tblGrid>
              <a:tr h="41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coefficient of variation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├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├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├2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2747880" y="2421000"/>
            <a:ext cx="281160" cy="1224000"/>
          </a:xfrm>
          <a:custGeom>
            <a:avLst/>
            <a:gdLst>
              <a:gd name="textAreaLeft" fmla="*/ 0 w 281160"/>
              <a:gd name="textAreaRight" fmla="*/ 101520 w 2811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2733840"/>
            <a:ext cx="2376360" cy="243720"/>
          </a:xfrm>
          <a:prstGeom prst="rect">
            <a:avLst/>
          </a:prstGeom>
          <a:solidFill>
            <a:srgbClr val="00ffff">
              <a:alpha val="3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 – high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1640" y="3789360"/>
            <a:ext cx="204840" cy="792000"/>
          </a:xfrm>
          <a:custGeom>
            <a:avLst/>
            <a:gdLst>
              <a:gd name="textAreaLeft" fmla="*/ 0 w 204840"/>
              <a:gd name="textAreaRight" fmla="*/ 73800 w 2048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06720" y="4102200"/>
            <a:ext cx="2357280" cy="243720"/>
          </a:xfrm>
          <a:prstGeom prst="rect">
            <a:avLst/>
          </a:prstGeom>
          <a:solidFill>
            <a:srgbClr val="ff9900">
              <a:alpha val="30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 – medium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7880" y="4726080"/>
            <a:ext cx="281160" cy="1224000"/>
          </a:xfrm>
          <a:custGeom>
            <a:avLst/>
            <a:gdLst>
              <a:gd name="textAreaLeft" fmla="*/ 0 w 281160"/>
              <a:gd name="textAreaRight" fmla="*/ 101520 w 2811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5516640"/>
            <a:ext cx="2376360" cy="243720"/>
          </a:xfrm>
          <a:prstGeom prst="rect">
            <a:avLst/>
          </a:prstGeom>
          <a:solidFill>
            <a:srgbClr val="00ff00">
              <a:alpha val="30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– low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64000" y="3213000"/>
            <a:ext cx="936720" cy="64764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3213000"/>
            <a:ext cx="1368360" cy="57636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87640" y="1844640"/>
            <a:ext cx="1368360" cy="57636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3BC8-D5D2-42C5-B872-A24900001F15}" type="slidenum">
              <a:t>23</a:t>
            </a:fld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46320" y="1916280"/>
            <a:ext cx="1741320" cy="12254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the estimates referred to areas larger than 12,000 inhabitants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percentage frequencies for 4 different sampling ratios with the SRSHOU desig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258920" y="1197000"/>
          <a:ext cx="7489800" cy="1944360"/>
        </p:xfrm>
        <a:graphic>
          <a:graphicData uri="http://schemas.openxmlformats.org/drawingml/2006/table">
            <a:tbl>
              <a:tblPr/>
              <a:tblGrid>
                <a:gridCol w="1697040"/>
                <a:gridCol w="1449360"/>
                <a:gridCol w="1447920"/>
                <a:gridCol w="1447560"/>
                <a:gridCol w="1447920"/>
              </a:tblGrid>
              <a:tr h="37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v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5834160" cy="324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88000" y="3360600"/>
            <a:ext cx="1944720" cy="276480"/>
          </a:xfrm>
          <a:prstGeom prst="rect">
            <a:avLst/>
          </a:prstGeom>
          <a:solidFill>
            <a:srgbClr val="00ffff">
              <a:alpha val="50000"/>
            </a:srgbClr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 - high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88000" y="4653000"/>
            <a:ext cx="1944720" cy="27648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 - medium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5373720"/>
            <a:ext cx="1944720" cy="276480"/>
          </a:xfrm>
          <a:prstGeom prst="rect">
            <a:avLst/>
          </a:prstGeom>
          <a:solidFill>
            <a:srgbClr val="00ff00">
              <a:alpha val="60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 - low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1916280"/>
            <a:ext cx="936720" cy="433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1916280"/>
            <a:ext cx="936360" cy="433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64000" y="2708280"/>
            <a:ext cx="936720" cy="43344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83640" y="2708280"/>
            <a:ext cx="936360" cy="43344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981000"/>
            <a:ext cx="5761080" cy="576360"/>
          </a:xfrm>
          <a:custGeom>
            <a:avLst/>
            <a:gdLst>
              <a:gd name="textAreaLeft" fmla="*/ 1008000 w 5761080"/>
              <a:gd name="textAreaRight" fmla="*/ 4176720 w 57610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e87c">
              <a:alpha val="7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C5DF-4B16-4946-BB6E-1F5F3C3D91F4}" type="slidenum">
              <a:t>24</a:t>
            </a:fld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495440" y="1254240"/>
            <a:ext cx="844560" cy="7347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216080" y="2060640"/>
            <a:ext cx="1484280" cy="1324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411280" y="1376280"/>
            <a:ext cx="2524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ampled are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148360" y="1258920"/>
                <a:ext cx="2332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2770200" y="2089080"/>
            <a:ext cx="223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48360" y="2160720"/>
                <a:ext cx="3924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149800" y="3106800"/>
                <a:ext cx="2809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203640" y="3500280"/>
            <a:ext cx="1873080" cy="53208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3429000"/>
            <a:ext cx="144360" cy="784080"/>
          </a:xfrm>
          <a:prstGeom prst="downArrow">
            <a:avLst>
              <a:gd name="adj1" fmla="val 50000"/>
              <a:gd name="adj2" fmla="val 135786"/>
            </a:avLst>
          </a:prstGeom>
          <a:solidFill>
            <a:srgbClr val="00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066680" y="4365720"/>
            <a:ext cx="1849680" cy="1552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841480" y="4221000"/>
            <a:ext cx="2017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ion of sampled areas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0800000">
            <a:off x="8029440" y="3096720"/>
            <a:ext cx="719280" cy="576360"/>
          </a:xfrm>
          <a:custGeom>
            <a:avLst/>
            <a:gdLst>
              <a:gd name="textAreaLeft" fmla="*/ 0 w 719280"/>
              <a:gd name="textAreaRight" fmla="*/ 719640 w 719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33" stAng="10800000" swAng="5400000"/>
                <a:lnTo>
                  <a:pt x="14582" y="2927"/>
                </a:lnTo>
                <a:lnTo>
                  <a:pt x="14582" y="0"/>
                </a:lnTo>
                <a:lnTo>
                  <a:pt x="21600" y="6079"/>
                </a:lnTo>
                <a:lnTo>
                  <a:pt x="14582" y="12158"/>
                </a:lnTo>
                <a:lnTo>
                  <a:pt x="14582" y="9231"/>
                </a:lnTo>
                <a:lnTo>
                  <a:pt x="12427" y="9231"/>
                </a:lnTo>
                <a:arcTo wR="6123" hR="2929" stAng="16200000" swAng="-5400000"/>
                <a:lnTo>
                  <a:pt x="6304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148360" y="4292640"/>
                <a:ext cx="3924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 rot="10800000">
            <a:off x="7596000" y="5229360"/>
            <a:ext cx="718920" cy="57600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33" stAng="10800000" swAng="5400000"/>
                <a:lnTo>
                  <a:pt x="14582" y="2927"/>
                </a:lnTo>
                <a:lnTo>
                  <a:pt x="14582" y="0"/>
                </a:lnTo>
                <a:lnTo>
                  <a:pt x="21600" y="6079"/>
                </a:lnTo>
                <a:lnTo>
                  <a:pt x="14582" y="12158"/>
                </a:lnTo>
                <a:lnTo>
                  <a:pt x="14582" y="9231"/>
                </a:lnTo>
                <a:lnTo>
                  <a:pt x="12427" y="9231"/>
                </a:lnTo>
                <a:arcTo wR="6123" hR="2929" stAng="16200000" swAng="-5400000"/>
                <a:lnTo>
                  <a:pt x="6304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48360" y="5229360"/>
                <a:ext cx="2376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54080" y="5877000"/>
                <a:ext cx="1071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093680" y="623736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ote of sub-popul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egible for drawing the LF s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271400">
            <a:off x="1186920" y="1701360"/>
            <a:ext cx="142920" cy="647640"/>
          </a:xfrm>
          <a:custGeom>
            <a:avLst/>
            <a:gdLst>
              <a:gd name="textAreaLeft" fmla="*/ 19080 w 142920"/>
              <a:gd name="textAreaRight" fmla="*/ 123840 w 142920"/>
              <a:gd name="textAreaTop" fmla="*/ 122400 h 647640"/>
              <a:gd name="textAreaBottom" fmla="*/ 46044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3" stAng="-5400000" swAng="-5400000"/>
                <a:lnTo>
                  <a:pt x="0" y="11277"/>
                </a:lnTo>
                <a:arcTo wR="21600" hR="8163" stAng="10800000" swAng="-2814460"/>
                <a:lnTo>
                  <a:pt x="14400" y="21133"/>
                </a:lnTo>
                <a:lnTo>
                  <a:pt x="21600" y="17883"/>
                </a:lnTo>
                <a:lnTo>
                  <a:pt x="14400" y="13699"/>
                </a:lnTo>
                <a:lnTo>
                  <a:pt x="14400" y="15859"/>
                </a:lnTo>
                <a:arcTo wR="21600" hR="8163" stAng="7985540" swAng="2562473"/>
                <a:lnTo>
                  <a:pt x="397" y="9720"/>
                </a:lnTo>
                <a:arcTo wR="21600" hR="8163" stAng="-10548013" swAng="5148013"/>
                <a:close/>
              </a:path>
              <a:path fill="darkenLess" w="21600" h="21600">
                <a:moveTo>
                  <a:pt x="21600" y="0"/>
                </a:moveTo>
                <a:arcTo wR="21600" hR="8163" stAng="-5400000" swAng="-5400000"/>
                <a:lnTo>
                  <a:pt x="0" y="8163"/>
                </a:lnTo>
                <a:arcTo wR="21600" hR="8163" stAng="10800000" swAng="-251987"/>
                <a:lnTo>
                  <a:pt x="397" y="9720"/>
                </a:lnTo>
                <a:arcTo wR="21600" hR="8163" stAng="-10548013" swAng="5148013"/>
                <a:close/>
              </a:path>
            </a:pathLst>
          </a:custGeom>
          <a:solidFill>
            <a:srgbClr val="00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3640" y="5634000"/>
            <a:ext cx="1873080" cy="53172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4F17-F5C8-4E21-A056-C6666C7BF993}" type="slidenum">
              <a:t>25</a:t>
            </a:fld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onclusions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90080" y="1196640"/>
            <a:ext cx="8053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expected, the most accurate estimates were obtained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ple random sampling of households from administrative regi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rgest sampling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etter efficiency of estimates for largest areas (&gt;12,000 inhabi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result could represent a suggestion for planning the sampling design by defining larger census areas (of about 15,000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estimates referred to large domains given by aggregation of areas show high accura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ccuracy increases with the domain’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case in which a part of the large domain is totally surveyed, the estimates show a further increasing in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1ABC-E47F-4079-A75F-AFC3A767DC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onclusions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90080" y="1413000"/>
            <a:ext cx="77295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wever area frame sampling is only slightly less efficient than SRSHOU, thus it could be adopted where reliable administrative registers are not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ampling ratio will be chosen considering trade-off betwee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ed financial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uracy required at different territorial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urther analyses will be conducted on small area estimation techniques to produce more accurate estimate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st territoria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re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7E8E-E85B-48B6-A540-B512E2F9FF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87280" y="2647800"/>
            <a:ext cx="777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Thank you for your attention and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A4AF-139F-4ECC-9A00-5A0E13D2347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5640" y="2647800"/>
            <a:ext cx="53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have a good lunch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F7A4-9009-41C4-A340-C611557A8F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88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critical issue of the last Cens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10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uge organizational (and economical) effort of Municipal Census Off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dden and time-concentrated increase of worklo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r largest municipalities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massiv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etwork of enumerators and coordinators to be trained and manag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ck of adequately skilled resources, high turn over r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365720"/>
            <a:ext cx="788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objectives for the next Cens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improve the census operations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reduce the municipalities workl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keep an high level of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3707-650F-4D83-BB9C-EDF14A2741C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EE04-FCCA-4162-B50E-6201B8695C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4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5640" y="1269720"/>
            <a:ext cx="759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ross-classification c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ducational level, employment status, commuting and g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0 simple estimation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spcAft>
                <a:spcPts val="1100"/>
              </a:spcAft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ibration constraints defined by cross-classifying gender by age, and gender by marital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spcAft>
                <a:spcPts val="275"/>
              </a:spcAft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mputational algorithm implemented by SAS code for each municipality and for each alternative sampling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1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lection of a sample (of households or enumeration are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2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utation of final 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3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stimation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r each target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4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eration of steps 1), 2) and 3) for 1,000 sampling re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5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utation of sampling distribution mean and standard erro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each one of the 90 frequency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1BFE-F9B3-47B1-B117-C84958988D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valuation criterion: the coefficient of variation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0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order to compare the sampling strategies has been consider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ion criterion the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 of variation C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represents an accuracy measurement of the sampling estim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equently, the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ntage maximum expected err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be computed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≈ 1.9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C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implied (with a probability of 0.95) by the estimation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452600" y="1916280"/>
                <a:ext cx="21114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1116000" y="4581360"/>
            <a:ext cx="7704000" cy="1511640"/>
          </a:xfrm>
          <a:prstGeom prst="rect">
            <a:avLst/>
          </a:prstGeom>
          <a:solidFill>
            <a:srgbClr val="c0c0c0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istribution of the empirical CV’s for all the 90 target cells wa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having classified the target cells depending on their valu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 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V’s distribution related to the cells in the sam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roup has been stu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946D-BFF0-4448-A1FB-2D84560C1C1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844560" cy="7351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084320" y="1889280"/>
            <a:ext cx="1484280" cy="1323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624040" y="1174680"/>
            <a:ext cx="2524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 referred to the generic sampled are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216480" y="1141560"/>
                <a:ext cx="23878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625840" y="2147760"/>
            <a:ext cx="34588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 referred to the 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aggrega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242040" y="1801800"/>
                <a:ext cx="2604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^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104240" y="3052800"/>
                <a:ext cx="1338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7451640" y="2781360"/>
            <a:ext cx="540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218280" y="3548160"/>
                <a:ext cx="2324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202440" y="4640400"/>
                <a:ext cx="23684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8675640" y="4017960"/>
            <a:ext cx="289080" cy="1074600"/>
          </a:xfrm>
          <a:custGeom>
            <a:avLst/>
            <a:gdLst>
              <a:gd name="textAreaLeft" fmla="*/ 38520 w 289080"/>
              <a:gd name="textAreaRight" fmla="*/ 250560 w 289080"/>
              <a:gd name="textAreaTop" fmla="*/ 187920 h 1074600"/>
              <a:gd name="textAreaBottom" fmla="*/ 779040 h 10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88000" y="5661000"/>
            <a:ext cx="17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84880" y="2644920"/>
            <a:ext cx="247680" cy="784080"/>
          </a:xfrm>
          <a:prstGeom prst="downArrow">
            <a:avLst>
              <a:gd name="adj1" fmla="val 50000"/>
              <a:gd name="adj2" fmla="val 7914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874800" y="3079800"/>
            <a:ext cx="5352840" cy="3733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892160" y="5126040"/>
            <a:ext cx="226692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5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79720" y="4699080"/>
            <a:ext cx="226692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3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1320" y="4272120"/>
            <a:ext cx="243504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10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384200" y="5248440"/>
            <a:ext cx="488880" cy="2538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1442520" y="4260960"/>
            <a:ext cx="622440" cy="5652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549440" y="3794040"/>
            <a:ext cx="714240" cy="603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48360" y="6249960"/>
            <a:ext cx="165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areas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6218280"/>
            <a:ext cx="3025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ercentage expected reduction of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ase 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aggregation of sampled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CC68-F86E-4749-A684-A9DE2485DE31}" type="slidenum">
              <a:t>33</a:t>
            </a:fld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00000" y="2735280"/>
            <a:ext cx="5472360" cy="3835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66680" y="1422360"/>
            <a:ext cx="1704960" cy="1430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flipH="1">
            <a:off x="1908000" y="1281240"/>
            <a:ext cx="7192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1459080"/>
            <a:ext cx="64357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ritory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ferred to Sampled areas: long form to a sample of househol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9720" y="1187280"/>
            <a:ext cx="5967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ritory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Not Sampled areas: long form to all the househo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60880" y="1844640"/>
                <a:ext cx="14792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214800" y="2378160"/>
                <a:ext cx="1071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962680" y="1844640"/>
                <a:ext cx="218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6640560" y="4797360"/>
                <a:ext cx="212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V="1" rot="3491400">
            <a:off x="8103240" y="2207160"/>
            <a:ext cx="1251000" cy="328680"/>
          </a:xfrm>
          <a:custGeom>
            <a:avLst/>
            <a:gdLst>
              <a:gd name="textAreaLeft" fmla="*/ 218880 w 1251000"/>
              <a:gd name="textAreaRight" fmla="*/ 907200 w 1251000"/>
              <a:gd name="textAreaTop" fmla="*/ 43920 h 328680"/>
              <a:gd name="textAreaBottom" fmla="*/ 28476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372360" y="3006720"/>
                <a:ext cx="2693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4932360" y="1920960"/>
            <a:ext cx="934920" cy="212760"/>
          </a:xfrm>
          <a:prstGeom prst="rightArrow">
            <a:avLst>
              <a:gd name="adj1" fmla="val 50000"/>
              <a:gd name="adj2" fmla="val 10985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91320" y="3933720"/>
            <a:ext cx="290520" cy="754200"/>
          </a:xfrm>
          <a:prstGeom prst="downArrow">
            <a:avLst>
              <a:gd name="adj1" fmla="val 50000"/>
              <a:gd name="adj2" fmla="val 6490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47640" y="2997360"/>
            <a:ext cx="0" cy="2614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46240" y="2978280"/>
            <a:ext cx="4680" cy="2614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5610240"/>
            <a:ext cx="2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5611680"/>
            <a:ext cx="2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16360" y="2757600"/>
            <a:ext cx="4486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popul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egible for drawing the LF s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124000" y="156852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76720" y="5877000"/>
            <a:ext cx="165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areas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ase 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aggregation of sampled and not sampled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6002280"/>
            <a:ext cx="3168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7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6 </a:t>
            </a:r>
            <a:r>
              <a:rPr b="1" lang="en-GB" sz="1800" spc="-1" strike="noStrike">
                <a:solidFill>
                  <a:srgbClr val="009900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0920" y="5950080"/>
            <a:ext cx="865080" cy="493560"/>
          </a:xfrm>
          <a:prstGeom prst="ellipse">
            <a:avLst/>
          </a:prstGeom>
          <a:solidFill>
            <a:srgbClr val="ffcc99">
              <a:alpha val="20000"/>
            </a:srgbClr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5734080"/>
            <a:ext cx="17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C9A2-7935-40DE-A0D4-1BBC867946BC}" type="slidenum">
              <a:t>34</a:t>
            </a:fld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0080" y="1196640"/>
            <a:ext cx="7596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novations proposed to reach the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use of population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l out of census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xed mode of data collection mainly based on mail and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cted consequences with the inno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crease of “back office”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 of enumerators number (“front office” 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it i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he response r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013360"/>
            <a:ext cx="727236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propos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use of a “short form” version of the questionnaire is considered to reach high response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A0BA-6973-437F-896A-BEB0D78E904D}" type="slidenum">
              <a:t>4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197000"/>
            <a:ext cx="788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equences of the use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creasing the respons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ducing as much as possible the response time de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2747880"/>
            <a:ext cx="705636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pproach risks information los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502080"/>
            <a:ext cx="788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to preserve the richness of the cens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y a selection of a sample of households to which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ong form” version of the questionnaire is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5094360"/>
            <a:ext cx="72007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simultaneously use of short and long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CF55-DCDB-4198-8995-91D5020C73AB}" type="slidenum">
              <a:t>5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341360"/>
            <a:ext cx="7561440" cy="11912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ype of information can be surveyed by means of a sample of long forms and which must be collected on the whole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5640" y="2852640"/>
            <a:ext cx="759636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verall set of census variables is partitioned into two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emographic variables (gender, date of birth, marital status, national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maining variables (educational level, occupational status, commu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form accounts for merely the first set of variables whereas long form accounts for the whol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7F76-6125-46CF-A041-08CFFAC3D994}" type="slidenum">
              <a:t>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341360"/>
            <a:ext cx="7561440" cy="8254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is the population municipality threshold under which the sampling strategy cannot be ado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2636640"/>
            <a:ext cx="75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option we are taking into consideration is to sample in municipalities with more than 5,000 inhab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forms will be submitted to a sample of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forms will be administered to remaining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municipalities smaller than 5,000 inhabitants long forms will be submitted to the whol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A0EB-C407-424C-AFF4-E80F827D3935}" type="slidenum">
              <a:t>7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1341360"/>
            <a:ext cx="7561440" cy="8254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domains have to be considered to plan the sample and to produce accurate estim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0080" y="2420640"/>
            <a:ext cx="7596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ew “census domains” have been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ppropriate methodology was adopted to build up census domains by aggregating the smallest censu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w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 are referred to sub-municip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curacy of sampling estimates for different territorial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imilar precision is expected for estimates amo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precision is expected for larger territorial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sub-municipal to nationwide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E5BC-5B94-49B4-99D9-2339BBF2A231}" type="slidenum">
              <a:t>8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4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341360"/>
            <a:ext cx="7561440" cy="30974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statistical methodology performs the most accurate esti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erms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ing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appropriate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icient estim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ing error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800600"/>
            <a:ext cx="756144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 to this question is the aim of the study of which some results will be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6A60-4902-46F8-962D-9761EF26BC4F}" type="slidenum">
              <a:t>9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8:28:58Z</dcterms:created>
  <dc:creator>istat</dc:creator>
  <dc:description/>
  <dc:language>en-US</dc:language>
  <cp:lastModifiedBy>Giancarlo</cp:lastModifiedBy>
  <dcterms:modified xsi:type="dcterms:W3CDTF">2008-05-11T17:16:24Z</dcterms:modified>
  <cp:revision>396</cp:revision>
  <dc:subject/>
  <dc:title>Diapositiva 1</dc:title>
</cp:coreProperties>
</file>