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6.wmf" ContentType="image/x-wmf"/>
  <Override PartName="/ppt/media/image15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5"/>
          </p:nvPr>
        </p:nvSpPr>
        <p:spPr>
          <a:xfrm>
            <a:off x="3900600" y="-360"/>
            <a:ext cx="2985840" cy="501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41040" y="752400"/>
            <a:ext cx="5008680" cy="375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6"/>
          </p:nvPr>
        </p:nvSpPr>
        <p:spPr>
          <a:xfrm>
            <a:off x="-360" y="9516960"/>
            <a:ext cx="2986200" cy="501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7"/>
          </p:nvPr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3152EA5-3785-4B6E-A586-4808A1244CB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DEB090A-1B71-4FDF-849C-F697F7980BF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-360" y="9516960"/>
            <a:ext cx="2986200" cy="501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-360" y="-36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900600" y="-360"/>
            <a:ext cx="2985840" cy="501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41400" y="752400"/>
            <a:ext cx="5008680" cy="37562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90480" y="4759200"/>
            <a:ext cx="550728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egnaposto numero diapositiva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34F5A62-B7FE-4821-B609-3D09F9DD0201}" type="slidenum">
              <a:rPr b="1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6C7BBE5-5E66-4872-8342-A667CC828DB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-360" y="9516960"/>
            <a:ext cx="2986200" cy="501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-360" y="-36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900600" y="-360"/>
            <a:ext cx="2985840" cy="501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41400" y="752400"/>
            <a:ext cx="5008680" cy="37562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90480" y="4759200"/>
            <a:ext cx="550728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egnaposto numero diapositiva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7279350-851B-4F79-8620-00F0FDABA94D}" type="slidenum">
              <a:rPr b="1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90119A8-B24D-4AFC-8240-330DB81C9E8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-360" y="9516960"/>
            <a:ext cx="2986200" cy="501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-36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900600" y="-360"/>
            <a:ext cx="2985840" cy="501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41400" y="752400"/>
            <a:ext cx="5008680" cy="3756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90480" y="4759200"/>
            <a:ext cx="550728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egnaposto numero diapositiva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DB99D1E-3F55-4D38-8B28-68F1D0257F1F}" type="slidenum">
              <a:rPr b="1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20AE4-2406-47C7-B9E3-DC2D98B68F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0080" y="1600200"/>
            <a:ext cx="75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0080" y="3964320"/>
            <a:ext cx="75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6CC10-8F2E-49BA-9687-B08D4C34B7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008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8276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90080" y="396432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82760" y="396432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A5A04-C5F1-4736-A9F9-D37FDD1592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90080" y="160020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58680" y="160020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27280" y="160020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90080" y="396432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58680" y="396432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27280" y="396432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DC2AA-6C7F-4CE9-8105-9A68B24EA4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9724B-1E9A-477C-B712-2BFE661726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90080" y="1600200"/>
            <a:ext cx="75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80283-EB5A-4E29-B4EF-0A38B14A08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0080" y="1600200"/>
            <a:ext cx="75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D6FA9-6657-403A-BDBD-A377581FF8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90080" y="1600200"/>
            <a:ext cx="370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82760" y="1600200"/>
            <a:ext cx="370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9C790-806A-44F9-81A2-54EB2AD2B1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69261-5DF5-4BE6-887C-3844012614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98720" y="274680"/>
            <a:ext cx="758808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F927B-984C-4A0B-8E77-051829ACF9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9008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82760" y="1600200"/>
            <a:ext cx="370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90080" y="396432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32C19-AD71-4B7C-9863-E8C065A5BE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90080" y="1600200"/>
            <a:ext cx="75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DE9E7-D2F9-4B7A-8C42-CA0FB1CE26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90080" y="1600200"/>
            <a:ext cx="370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8276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82760" y="396432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B87CA-63E8-4957-9D78-E4D281F8F3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9008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8276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90080" y="3964320"/>
            <a:ext cx="75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72CDE-9990-4FBB-9A45-068390C56B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90080" y="1600200"/>
            <a:ext cx="75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90080" y="3964320"/>
            <a:ext cx="75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59620-B4F6-4B0B-8702-686B0A0F42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9008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8276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90080" y="396432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82760" y="396432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B771E-C4B5-4A0E-A3D1-4819B11737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90080" y="160020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58680" y="160020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27280" y="160020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90080" y="396432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58680" y="396432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27280" y="396432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213AD-9B83-45A3-B07C-237AB49055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90080" y="1600200"/>
            <a:ext cx="75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67C0F-3ACD-437D-BB0C-EC2195AE03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90080" y="1600200"/>
            <a:ext cx="370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82760" y="1600200"/>
            <a:ext cx="370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820E7-1C71-47D2-BFD6-F99D9F1463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71252-22B8-4D13-A3E3-AA23215071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8720" y="274680"/>
            <a:ext cx="758808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F4259-7DCA-4C7F-BAB3-B0E6D782C4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9008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2760" y="1600200"/>
            <a:ext cx="370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90080" y="396432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86887-C13F-493F-8DA4-A4210FB43A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0080" y="1600200"/>
            <a:ext cx="370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276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82760" y="396432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FE46E-85F9-480F-B6D4-C721CB5653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008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8276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90080" y="3964320"/>
            <a:ext cx="75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A3EC8-517E-4EE3-B908-B6AE066780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12920" y="1001880"/>
            <a:ext cx="7375320" cy="1220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ac0000"/>
          </a:solidFill>
          <a:ln w="9360">
            <a:solidFill>
              <a:srgbClr val="a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12920" y="6188040"/>
            <a:ext cx="7375320" cy="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391520" y="6340320"/>
            <a:ext cx="1293840" cy="37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90080" y="1600200"/>
            <a:ext cx="75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a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601"/>
              </a:spcBef>
              <a:buClr>
                <a:srgbClr val="ac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7840" indent="-43812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-36720" y="188640"/>
            <a:ext cx="10429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Joint UNECE Eurostat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2843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F945-4857-47DB-A32B-4B8706F19B7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12920" y="1001880"/>
            <a:ext cx="7375320" cy="1220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ac0000"/>
          </a:solidFill>
          <a:ln w="9360">
            <a:solidFill>
              <a:srgbClr val="a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12920" y="6188040"/>
            <a:ext cx="7375320" cy="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008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391520" y="6340320"/>
            <a:ext cx="1293840" cy="3747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6920" y="2130120"/>
            <a:ext cx="7270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Les Lundis de l’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5B10-314A-4982-907C-5676A1096B3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16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06440" algn="ctr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437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3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3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1412640"/>
            <a:ext cx="7489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Joint UNECE/Eurostat Meeting on Population and Housing Censuses (13-15 May 2008)</a:t>
            </a:r>
            <a:r>
              <a:rPr b="1" i="1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ample results expected accuracy in the Italian Population and Housing Census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00280" y="4123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iancarlo Carbonetti, Marco Fort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stat – Italian National Statistical Institute</a:t>
            </a:r>
            <a:br>
              <a:rPr sz="1800"/>
            </a:b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General Censuses Directorat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ay 13th 2008</a:t>
            </a: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98720" y="18900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Sampling strategies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42920" y="1125360"/>
            <a:ext cx="784872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wo different sampling designs have been te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550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mple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ndom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mpling of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HOU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eholds from Administrative Registers 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SRSHOU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) managed by municipa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550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rea Frame Sampling based on a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mple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ndom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mpling of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umeration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reas 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SRSENA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) which implies a complete data collection of households dwelling in the selected enumeration areas (from Digital Geocoded Databas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3789360"/>
            <a:ext cx="784872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ifferent studies have been conducte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o compare the two different approaches (with a sampling ratio of about one third of the whole population consider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o evaluate in the SRSHOU the improvement of the estimates precision for increasing sampling ratio (10%, 15%, 20%, 33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o introduce some stratifications of the units involv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FF023-11D8-44C4-9810-9C68551E761D}" type="slidenum">
              <a:t>10</a:t>
            </a:fld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4" presetSubtype="3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3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3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98720" y="18900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Simulation study - 1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52000" y="3068640"/>
            <a:ext cx="7812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ain features of the sampling desig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550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Domain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: the “new areas” referred to sub-municipal distri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550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Target variable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: “variables” related to cross-classification of educational level, employment status and commuting with demographic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550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Sampling unit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: “households” or “enumeration area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51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Estimator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: “calibrated estimators” by using final weights properly modified so to make the sample more represent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1125360"/>
            <a:ext cx="795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ampling strategies were compared to each other through Monte Carlo sampling replications (carried out on 2001 Italian Census data) in order to assess the sampling error defined by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oefficient of vari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CV) which represents an accuracy measurement of the sampling estim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BD6FE-9123-4CEA-BD28-620848485072}" type="slidenum">
              <a:t>11</a:t>
            </a:fld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98720" y="18900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Simulation study - 2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152360" y="2421000"/>
          <a:ext cx="7596360" cy="3741840"/>
        </p:xfrm>
        <a:graphic>
          <a:graphicData uri="http://schemas.openxmlformats.org/drawingml/2006/table">
            <a:tbl>
              <a:tblPr/>
              <a:tblGrid>
                <a:gridCol w="1655640"/>
                <a:gridCol w="1536840"/>
                <a:gridCol w="1595520"/>
                <a:gridCol w="1596960"/>
                <a:gridCol w="1211400"/>
              </a:tblGrid>
              <a:tr h="429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graphical ar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s of population size (a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00-2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00-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re than 100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) It has been considered the legal (official) population date referred to the 2001 Census of Populatio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1116000" y="1125360"/>
            <a:ext cx="759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100000"/>
              </a:lnSpc>
              <a:spcBef>
                <a:spcPts val="550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Because of the strong differences among the Italian municipalities, 40 of them with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different population siz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and from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different regions of Ital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were conside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27640" y="5084640"/>
            <a:ext cx="1008360" cy="576360"/>
          </a:xfrm>
          <a:prstGeom prst="ellipse">
            <a:avLst/>
          </a:prstGeom>
          <a:solidFill>
            <a:srgbClr val="ff99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96000" y="2781360"/>
            <a:ext cx="1871640" cy="647640"/>
          </a:xfrm>
          <a:prstGeom prst="ellipse">
            <a:avLst/>
          </a:prstGeom>
          <a:solidFill>
            <a:srgbClr val="ff99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11114-9626-45EC-9956-604D10E8C2A7}" type="slidenum">
              <a:t>12</a:t>
            </a:fld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8720" y="18900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Simulation study - 3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619280" y="1846440"/>
          <a:ext cx="6553080" cy="3887280"/>
        </p:xfrm>
        <a:graphic>
          <a:graphicData uri="http://schemas.openxmlformats.org/drawingml/2006/table">
            <a:tbl>
              <a:tblPr/>
              <a:tblGrid>
                <a:gridCol w="2533680"/>
                <a:gridCol w="1843200"/>
                <a:gridCol w="1217520"/>
                <a:gridCol w="958680"/>
              </a:tblGrid>
              <a:tr h="689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pled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ve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47(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8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umeration ar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8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2,5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sehol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43,5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810,6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vidu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37,5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,594,0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7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*) Estimated 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1158840" y="1125360"/>
            <a:ext cx="708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mount of units involved by the simulation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36000" y="3860640"/>
            <a:ext cx="936360" cy="720720"/>
          </a:xfrm>
          <a:prstGeom prst="ellipse">
            <a:avLst/>
          </a:prstGeom>
          <a:solidFill>
            <a:srgbClr val="ccffcc">
              <a:alpha val="23000"/>
            </a:srgbClr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36000" y="4581360"/>
            <a:ext cx="936360" cy="719280"/>
          </a:xfrm>
          <a:prstGeom prst="ellipse">
            <a:avLst/>
          </a:prstGeom>
          <a:solidFill>
            <a:srgbClr val="ccffff">
              <a:alpha val="23000"/>
            </a:srgbClr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F28BF-80B6-4C11-B7A9-5EB59F036E01}" type="slidenum">
              <a:t>13</a:t>
            </a:fld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2" presetSubtype="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971640" y="1052640"/>
          <a:ext cx="7848360" cy="511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52640"/>
                    <a:ext cx="7848360" cy="51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48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catter plot of cv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nd p (estimates) for each census area. SRSHOU design (sampling ratio=33%). City of Perugia.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050920" y="1267920"/>
            <a:ext cx="0" cy="4537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35280" y="580536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195640" y="1268280"/>
            <a:ext cx="0" cy="439416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0920" y="566100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338560" y="1268280"/>
            <a:ext cx="0" cy="42516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551664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5F909-27F9-4236-BDFB-9F4E795FB29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2560" y="93600"/>
            <a:ext cx="8045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istribution of median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v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for classes of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for SRSHOU design and SRSENA design (both with sampling ratio=33%). 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mparison of 4 municipalities.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16000" y="1268280"/>
          <a:ext cx="7848360" cy="4753080"/>
        </p:xfrm>
        <a:graphic>
          <a:graphicData uri="http://schemas.openxmlformats.org/drawingml/2006/table">
            <a:tbl>
              <a:tblPr/>
              <a:tblGrid>
                <a:gridCol w="1089360"/>
                <a:gridCol w="842400"/>
                <a:gridCol w="828360"/>
                <a:gridCol w="865080"/>
                <a:gridCol w="838440"/>
                <a:gridCol w="855000"/>
                <a:gridCol w="836640"/>
                <a:gridCol w="853920"/>
                <a:gridCol w="83916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es of  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lano (111 are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logna (32 are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dova (18 are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vorno (13 are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RSH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RSE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RSH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RSE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RSH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RSE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RSH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RSE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 0.0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.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.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.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.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5%├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.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.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%├0.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.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.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.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5%├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.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%├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├2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%├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%├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├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%├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%├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2211480" y="3357720"/>
            <a:ext cx="16398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95640" y="4365720"/>
            <a:ext cx="1655640" cy="30456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11480" y="5373720"/>
            <a:ext cx="1639800" cy="304920"/>
          </a:xfrm>
          <a:prstGeom prst="rect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2920" y="3284640"/>
            <a:ext cx="574560" cy="43164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84360" y="4292640"/>
            <a:ext cx="574920" cy="47628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84360" y="5300640"/>
            <a:ext cx="574920" cy="45396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95640" y="1550880"/>
            <a:ext cx="863640" cy="509760"/>
          </a:xfrm>
          <a:prstGeom prst="ellipse">
            <a:avLst/>
          </a:prstGeom>
          <a:solidFill>
            <a:srgbClr val="a3b2c1">
              <a:alpha val="3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40200" y="3363840"/>
            <a:ext cx="16398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24360" y="4371840"/>
            <a:ext cx="1655640" cy="3049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40200" y="5380200"/>
            <a:ext cx="1639800" cy="304560"/>
          </a:xfrm>
          <a:prstGeom prst="rect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38560" y="3290760"/>
            <a:ext cx="574560" cy="43200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40360" y="4299120"/>
            <a:ext cx="574560" cy="47592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0360" y="5307120"/>
            <a:ext cx="574560" cy="45396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68920" y="3363840"/>
            <a:ext cx="16398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53080" y="4371840"/>
            <a:ext cx="1655640" cy="3049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68920" y="5380200"/>
            <a:ext cx="1639800" cy="304560"/>
          </a:xfrm>
          <a:prstGeom prst="rect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67280" y="3290760"/>
            <a:ext cx="574920" cy="43200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69080" y="4299120"/>
            <a:ext cx="574560" cy="47592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9080" y="5307120"/>
            <a:ext cx="574560" cy="45396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80000" y="1557360"/>
            <a:ext cx="863640" cy="509400"/>
          </a:xfrm>
          <a:prstGeom prst="ellipse">
            <a:avLst/>
          </a:prstGeom>
          <a:solidFill>
            <a:srgbClr val="a3b2c1">
              <a:alpha val="3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96200" y="3363840"/>
            <a:ext cx="16398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80360" y="4371840"/>
            <a:ext cx="1655640" cy="3049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96200" y="5380200"/>
            <a:ext cx="1639800" cy="304560"/>
          </a:xfrm>
          <a:prstGeom prst="rect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23280" y="3290760"/>
            <a:ext cx="574560" cy="43200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24720" y="4299120"/>
            <a:ext cx="574560" cy="47592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24720" y="5307120"/>
            <a:ext cx="574560" cy="45396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236000" y="1557360"/>
            <a:ext cx="863280" cy="509400"/>
          </a:xfrm>
          <a:prstGeom prst="ellipse">
            <a:avLst/>
          </a:prstGeom>
          <a:solidFill>
            <a:srgbClr val="a3b2c1">
              <a:alpha val="3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51280" y="1557360"/>
            <a:ext cx="863640" cy="509400"/>
          </a:xfrm>
          <a:prstGeom prst="ellipse">
            <a:avLst/>
          </a:prstGeom>
          <a:solidFill>
            <a:srgbClr val="a3b2c1">
              <a:alpha val="3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2133720"/>
            <a:ext cx="3889440" cy="947160"/>
          </a:xfrm>
          <a:prstGeom prst="rect">
            <a:avLst/>
          </a:prstGeom>
          <a:solidFill>
            <a:srgbClr val="ffff00"/>
          </a:solidFill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IS IS DUE TO THE CLUSTER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34DBF-6C27-4194-BF4C-A90E337AAD7F}" type="slidenum">
              <a:t>15</a:t>
            </a:fld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42560" y="93600"/>
            <a:ext cx="8045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oss of efficiency (in terms of CV for classes of p) of estimation with SRSENA with respect to SRSHOU design (both with sampling ratio=33%). Comparison of 4 municipalities.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87280" y="1557360"/>
          <a:ext cx="7561440" cy="4599000"/>
        </p:xfrm>
        <a:graphic>
          <a:graphicData uri="http://schemas.openxmlformats.org/drawingml/2006/table">
            <a:tbl>
              <a:tblPr/>
              <a:tblGrid>
                <a:gridCol w="1206720"/>
                <a:gridCol w="1589040"/>
                <a:gridCol w="1589040"/>
                <a:gridCol w="1587600"/>
                <a:gridCol w="158904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es  of  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lano          (111 area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logna         (32 area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dova           (18 area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vorno           (13 area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 0.0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5%├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%├0.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5%├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%├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├2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%├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%├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├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%├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%├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3276720" y="2781360"/>
            <a:ext cx="790560" cy="43164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81360"/>
            <a:ext cx="790560" cy="43164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45080" y="5803920"/>
            <a:ext cx="790920" cy="43164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29440" y="2781360"/>
            <a:ext cx="790560" cy="43164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3429000"/>
            <a:ext cx="790560" cy="43164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61080" y="3429000"/>
            <a:ext cx="790560" cy="43164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45080" y="4797360"/>
            <a:ext cx="790920" cy="43200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29440" y="4076640"/>
            <a:ext cx="790560" cy="43200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1125360"/>
            <a:ext cx="453528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[CV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SRSHOU_s.r. 33%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CV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SRSENA_s.r. 33%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38F4F-3E3E-41EF-8A7C-B2521901D611}" type="slidenum">
              <a:t>16</a:t>
            </a:fld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8045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istribution of median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v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for classes of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. Comparison of 4 different sampling ratios with the SRSHOU design.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16000" y="1197000"/>
          <a:ext cx="7848720" cy="4922640"/>
        </p:xfrm>
        <a:graphic>
          <a:graphicData uri="http://schemas.openxmlformats.org/drawingml/2006/table">
            <a:tbl>
              <a:tblPr/>
              <a:tblGrid>
                <a:gridCol w="1449360"/>
                <a:gridCol w="1608120"/>
                <a:gridCol w="1611360"/>
                <a:gridCol w="1589040"/>
                <a:gridCol w="159084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es of 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pling ratio= 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pling ratio= 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pling ratio= 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pling ratio= 3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 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0 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 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4 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 0.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.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5%├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.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%├0.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.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.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.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5%├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.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.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.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%├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.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├2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%├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%├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├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%├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%├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3371760" y="3068640"/>
            <a:ext cx="838440" cy="39672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73560" y="4076640"/>
            <a:ext cx="838080" cy="43812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73560" y="5092560"/>
            <a:ext cx="838080" cy="41760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27280" y="1106640"/>
            <a:ext cx="1440000" cy="653760"/>
          </a:xfrm>
          <a:prstGeom prst="ellipse">
            <a:avLst/>
          </a:prstGeom>
          <a:solidFill>
            <a:srgbClr val="a3b2c1">
              <a:alpha val="3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03640" y="3075120"/>
            <a:ext cx="838440" cy="39672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03640" y="4070520"/>
            <a:ext cx="838440" cy="43812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03640" y="5099040"/>
            <a:ext cx="838440" cy="41760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613560" y="3075120"/>
            <a:ext cx="838080" cy="39672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588000" y="4070520"/>
            <a:ext cx="838440" cy="43812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88000" y="5099040"/>
            <a:ext cx="838440" cy="41760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1112760"/>
            <a:ext cx="1440000" cy="654120"/>
          </a:xfrm>
          <a:prstGeom prst="ellipse">
            <a:avLst/>
          </a:prstGeom>
          <a:solidFill>
            <a:srgbClr val="a3b2c1">
              <a:alpha val="3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196120" y="3075120"/>
            <a:ext cx="838440" cy="396720"/>
          </a:xfrm>
          <a:prstGeom prst="ellipse">
            <a:avLst/>
          </a:prstGeom>
          <a:solidFill>
            <a:srgbClr val="ffff99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172360" y="4070520"/>
            <a:ext cx="838440" cy="438120"/>
          </a:xfrm>
          <a:prstGeom prst="ellipse">
            <a:avLst/>
          </a:prstGeom>
          <a:solidFill>
            <a:srgbClr val="ffff99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172360" y="5099040"/>
            <a:ext cx="838440" cy="417600"/>
          </a:xfrm>
          <a:prstGeom prst="ellipse">
            <a:avLst/>
          </a:prstGeom>
          <a:solidFill>
            <a:srgbClr val="ffff99">
              <a:alpha val="30000"/>
            </a:srgbClr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51640" y="1112760"/>
            <a:ext cx="1440000" cy="654120"/>
          </a:xfrm>
          <a:prstGeom prst="ellipse">
            <a:avLst/>
          </a:prstGeom>
          <a:solidFill>
            <a:srgbClr val="ffff99">
              <a:alpha val="3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11640" y="1112760"/>
            <a:ext cx="1440000" cy="654120"/>
          </a:xfrm>
          <a:prstGeom prst="ellipse">
            <a:avLst/>
          </a:prstGeom>
          <a:solidFill>
            <a:srgbClr val="a3b2c1">
              <a:alpha val="3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16000" y="3068640"/>
            <a:ext cx="1440000" cy="39672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16000" y="4076640"/>
            <a:ext cx="1440000" cy="39708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16000" y="5084640"/>
            <a:ext cx="1440000" cy="39708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79863-EF30-4329-8C95-74421631B668}" type="slidenum">
              <a:t>17</a:t>
            </a:fld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8045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ain of efficiency (in terms of CV for classes of p) of estimation with SRSHOU design by increasing sampling ratio from 10% to 33% .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258920" y="1660680"/>
          <a:ext cx="7561080" cy="4441680"/>
        </p:xfrm>
        <a:graphic>
          <a:graphicData uri="http://schemas.openxmlformats.org/drawingml/2006/table">
            <a:tbl>
              <a:tblPr/>
              <a:tblGrid>
                <a:gridCol w="1762200"/>
                <a:gridCol w="1933560"/>
                <a:gridCol w="1931760"/>
                <a:gridCol w="193356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es of 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creasing s.r. from 10% to 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creasing s.r. from 10% to 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creasing s.r. from 10% to 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 0.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.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.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5%├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%├0.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.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5%├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.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%├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├2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.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%├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.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%├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.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.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├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.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%├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%├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.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.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1405080" y="1181160"/>
            <a:ext cx="70545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[CV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SRSHOU_s.r. 10%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CV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SRSHOU_s.r. N%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]x100/[CV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SRSHOU_s.r. 10%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276640"/>
            <a:ext cx="7561080" cy="288720"/>
          </a:xfrm>
          <a:prstGeom prst="rect">
            <a:avLst/>
          </a:prstGeom>
          <a:solidFill>
            <a:srgbClr val="ffff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59280" y="3500280"/>
            <a:ext cx="1728720" cy="916920"/>
          </a:xfrm>
          <a:prstGeom prst="rect">
            <a:avLst/>
          </a:prstGeom>
          <a:solidFill>
            <a:srgbClr val="ccffcc">
              <a:alpha val="76000"/>
            </a:srgbClr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in between       21-23 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03640" y="3860640"/>
            <a:ext cx="1729080" cy="916920"/>
          </a:xfrm>
          <a:prstGeom prst="rect">
            <a:avLst/>
          </a:prstGeom>
          <a:solidFill>
            <a:srgbClr val="ccffcc">
              <a:alpha val="76000"/>
            </a:srgbClr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in between       33-38 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48360" y="4149720"/>
            <a:ext cx="1729080" cy="916920"/>
          </a:xfrm>
          <a:prstGeom prst="rect">
            <a:avLst/>
          </a:prstGeom>
          <a:solidFill>
            <a:srgbClr val="ccffcc">
              <a:alpha val="76000"/>
            </a:srgbClr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in between       53-58 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95640" y="2276640"/>
            <a:ext cx="0" cy="122364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2276640"/>
            <a:ext cx="0" cy="158400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812000" y="2276640"/>
            <a:ext cx="0" cy="187308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9A6C4-E1D5-4DC4-A9CA-00326E76BF4D}" type="slidenum">
              <a:t>18</a:t>
            </a:fld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8045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istribution of median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v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for five classes of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and three classes of area (according to population size). Comparison of 4 different sampling ratios with the SRSHOU design.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21000" y="1943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21000" y="1943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187280" y="1197000"/>
          <a:ext cx="7632720" cy="4824360"/>
        </p:xfrm>
        <a:graphic>
          <a:graphicData uri="http://schemas.openxmlformats.org/drawingml/2006/table">
            <a:tbl>
              <a:tblPr/>
              <a:tblGrid>
                <a:gridCol w="1479600"/>
                <a:gridCol w="1195560"/>
                <a:gridCol w="1239840"/>
                <a:gridCol w="1238040"/>
                <a:gridCol w="1241640"/>
                <a:gridCol w="123804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S Sans Serif"/>
                          <a:ea typeface="Arial"/>
                        </a:rPr>
                        <a:t>Classes of 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pulation by area (thousand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pling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%├0.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├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.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.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%├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├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.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%├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├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├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├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%├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├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3940200" y="2709720"/>
            <a:ext cx="48798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24360" y="3241800"/>
            <a:ext cx="4927680" cy="30456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00720" y="2708280"/>
            <a:ext cx="647640" cy="36036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02160" y="3247920"/>
            <a:ext cx="647640" cy="39708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722920" y="2708280"/>
            <a:ext cx="647640" cy="36036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24360" y="3247920"/>
            <a:ext cx="648000" cy="39708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46920" y="2708280"/>
            <a:ext cx="647640" cy="36036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948360" y="3247920"/>
            <a:ext cx="648000" cy="39708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170920" y="2708280"/>
            <a:ext cx="647640" cy="36036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172360" y="3247920"/>
            <a:ext cx="647640" cy="39708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08520" y="4365720"/>
            <a:ext cx="48798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92680" y="4897440"/>
            <a:ext cx="4927320" cy="3049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468680" y="4363920"/>
            <a:ext cx="648000" cy="36036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70480" y="4903920"/>
            <a:ext cx="647640" cy="39672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691240" y="4363920"/>
            <a:ext cx="647640" cy="36036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692680" y="4903920"/>
            <a:ext cx="647640" cy="39672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15240" y="4363920"/>
            <a:ext cx="647640" cy="36036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916680" y="4903920"/>
            <a:ext cx="647640" cy="39672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139240" y="4363920"/>
            <a:ext cx="647640" cy="36036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140680" y="4903920"/>
            <a:ext cx="647640" cy="396720"/>
          </a:xfrm>
          <a:prstGeom prst="ellipse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16360" y="3247920"/>
            <a:ext cx="647640" cy="397080"/>
          </a:xfrm>
          <a:prstGeom prst="ellipse">
            <a:avLst/>
          </a:prstGeom>
          <a:solidFill>
            <a:srgbClr val="ffff99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916360" y="4869000"/>
            <a:ext cx="647640" cy="396720"/>
          </a:xfrm>
          <a:prstGeom prst="ellipse">
            <a:avLst/>
          </a:prstGeom>
          <a:solidFill>
            <a:srgbClr val="ffff99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58920" y="2781360"/>
            <a:ext cx="1297080" cy="718920"/>
          </a:xfrm>
          <a:prstGeom prst="ellipse">
            <a:avLst/>
          </a:prstGeom>
          <a:solidFill>
            <a:srgbClr val="ffff99">
              <a:alpha val="30000"/>
            </a:srgbClr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58920" y="4438800"/>
            <a:ext cx="1297080" cy="718920"/>
          </a:xfrm>
          <a:prstGeom prst="ellipse">
            <a:avLst/>
          </a:prstGeom>
          <a:solidFill>
            <a:srgbClr val="ffff99">
              <a:alpha val="30000"/>
            </a:srgbClr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91650-5207-48B2-9552-75AE65A02D9B}" type="slidenum">
              <a:t>19</a:t>
            </a:fld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r>
              <a:rPr b="1" i="1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90440" y="1413000"/>
            <a:ext cx="78026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aspects related to the use of samples of households for long form enum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mpling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mulation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56A57-D9FE-4FDF-8672-05A4CFF15CB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8045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Median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CV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for some classes of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and for three classes of area (according to population size). Comparison of 4 different sampling ratios (s.r.) with the SRSHOU design. Graph referred to area size less than 10,000 inhabitants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21000" y="1943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21000" y="1943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851280" y="1125360"/>
            <a:ext cx="5113440" cy="518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"/>
          <p:cNvGraphicFramePr/>
          <p:nvPr/>
        </p:nvGraphicFramePr>
        <p:xfrm>
          <a:off x="1116000" y="1268280"/>
          <a:ext cx="2808360" cy="4608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268280"/>
                    <a:ext cx="28083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 flipV="1">
            <a:off x="5508720" y="2637000"/>
            <a:ext cx="0" cy="2952720"/>
          </a:xfrm>
          <a:prstGeom prst="line">
            <a:avLst/>
          </a:prstGeom>
          <a:ln cap="rnd" w="158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227640" y="4076280"/>
            <a:ext cx="0" cy="1513080"/>
          </a:xfrm>
          <a:prstGeom prst="line">
            <a:avLst/>
          </a:prstGeom>
          <a:ln cap="rnd" w="158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948360" y="4797000"/>
            <a:ext cx="0" cy="792360"/>
          </a:xfrm>
          <a:prstGeom prst="line">
            <a:avLst/>
          </a:prstGeom>
          <a:ln cap="rnd" w="158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7667640" y="5084280"/>
            <a:ext cx="0" cy="505080"/>
          </a:xfrm>
          <a:prstGeom prst="line">
            <a:avLst/>
          </a:prstGeom>
          <a:ln cap="rnd" w="158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8388360" y="5229000"/>
            <a:ext cx="0" cy="360360"/>
          </a:xfrm>
          <a:prstGeom prst="line">
            <a:avLst/>
          </a:prstGeom>
          <a:ln cap="rnd" w="158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2F50E-89FB-4DC1-A940-5A0A19F2421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321000" y="1943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21000" y="1943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851280" y="1125360"/>
            <a:ext cx="5113440" cy="518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2" name=""/>
          <p:cNvGraphicFramePr/>
          <p:nvPr/>
        </p:nvGraphicFramePr>
        <p:xfrm>
          <a:off x="1116000" y="1268280"/>
          <a:ext cx="2808360" cy="4608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268280"/>
                    <a:ext cx="28083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8045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Median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CV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for some classes of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and for three classes of area (according to population size). Comparison of 4 different sampling ratios (s.r.) with the SRSHOU design. Graph referred to area size between 10,000 and 12,000 inhabitants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5508720" y="2997000"/>
            <a:ext cx="0" cy="2592360"/>
          </a:xfrm>
          <a:prstGeom prst="line">
            <a:avLst/>
          </a:prstGeom>
          <a:ln cap="rnd" w="158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6227640" y="4221000"/>
            <a:ext cx="0" cy="1368720"/>
          </a:xfrm>
          <a:prstGeom prst="line">
            <a:avLst/>
          </a:prstGeom>
          <a:ln cap="rnd" w="158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6948360" y="4869000"/>
            <a:ext cx="0" cy="720720"/>
          </a:xfrm>
          <a:prstGeom prst="line">
            <a:avLst/>
          </a:prstGeom>
          <a:ln cap="rnd" w="158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7667640" y="5084280"/>
            <a:ext cx="0" cy="505080"/>
          </a:xfrm>
          <a:prstGeom prst="line">
            <a:avLst/>
          </a:prstGeom>
          <a:ln cap="rnd" w="158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8360" y="5229000"/>
            <a:ext cx="0" cy="360360"/>
          </a:xfrm>
          <a:prstGeom prst="line">
            <a:avLst/>
          </a:prstGeom>
          <a:ln cap="rnd" w="158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16000" y="4149720"/>
            <a:ext cx="4032360" cy="201420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ain of efficiency (in terms of CV) for census areas with size between 10,000 and 12,000 with respect to census areas with less than 10,000 is abou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4-20 perc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Similar results are obtained for all tested sampling rat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D3C2D-0FCB-4251-A7C6-39459A63A96D}" type="slidenum">
              <a:t>21</a:t>
            </a:fld>
          </a:p>
        </p:txBody>
      </p:sp>
    </p:spTree>
  </p:cSld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with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321000" y="1943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21000" y="1943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851280" y="1125360"/>
            <a:ext cx="5113440" cy="518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4" name=""/>
          <p:cNvGraphicFramePr/>
          <p:nvPr/>
        </p:nvGraphicFramePr>
        <p:xfrm>
          <a:off x="1116000" y="1268280"/>
          <a:ext cx="2808360" cy="4608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268280"/>
                    <a:ext cx="28083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8045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Median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CV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for some classes of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and for three classes of area (according to population size). Comparison of 4 different sampling ratios (s.r.) with the SRSHOU design. Graph referred to area size more than 12,000 inhabitants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5508720" y="3284280"/>
            <a:ext cx="0" cy="2305080"/>
          </a:xfrm>
          <a:prstGeom prst="line">
            <a:avLst/>
          </a:prstGeom>
          <a:ln cap="rnd" w="158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6227640" y="4365720"/>
            <a:ext cx="0" cy="1224000"/>
          </a:xfrm>
          <a:prstGeom prst="line">
            <a:avLst/>
          </a:prstGeom>
          <a:ln cap="rnd" w="158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948360" y="4869000"/>
            <a:ext cx="0" cy="720720"/>
          </a:xfrm>
          <a:prstGeom prst="line">
            <a:avLst/>
          </a:prstGeom>
          <a:ln cap="rnd" w="158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7667640" y="5084280"/>
            <a:ext cx="0" cy="505080"/>
          </a:xfrm>
          <a:prstGeom prst="line">
            <a:avLst/>
          </a:prstGeom>
          <a:ln cap="rnd" w="158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8388360" y="5229000"/>
            <a:ext cx="0" cy="360360"/>
          </a:xfrm>
          <a:prstGeom prst="line">
            <a:avLst/>
          </a:prstGeom>
          <a:ln cap="rnd" w="158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116000" y="4149720"/>
            <a:ext cx="4032360" cy="201420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ain of efficiency (in terms of CV) for census areas with size more than 12,000 with respect to census areas with less than 10,000 is abou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2-28 perc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As before, similar results are obtained for all tested sampling rat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A7DE1-F6F8-4D7F-86B2-B0113319D989}" type="slidenum">
              <a:t>22</a:t>
            </a:fld>
          </a:p>
        </p:txBody>
      </p:sp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8045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istribution of the estimates referred to areas larger than 12,000 inhabitants for classes of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v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. Comparison of percentage frequencies for 4 different sampling ratios with the SRSHOU design.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21000" y="1943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321000" y="1943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1258920" y="1484280"/>
          <a:ext cx="7489800" cy="4536720"/>
        </p:xfrm>
        <a:graphic>
          <a:graphicData uri="http://schemas.openxmlformats.org/drawingml/2006/table">
            <a:tbl>
              <a:tblPr/>
              <a:tblGrid>
                <a:gridCol w="1697040"/>
                <a:gridCol w="1449360"/>
                <a:gridCol w="1447920"/>
                <a:gridCol w="1447560"/>
                <a:gridCol w="1447920"/>
              </a:tblGrid>
              <a:tr h="412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es of coefficient of variation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pling rat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 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%├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%├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├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%├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├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├2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2747880" y="2421000"/>
            <a:ext cx="281160" cy="1224000"/>
          </a:xfrm>
          <a:custGeom>
            <a:avLst/>
            <a:gdLst>
              <a:gd name="textAreaLeft" fmla="*/ 0 w 281160"/>
              <a:gd name="textAreaRight" fmla="*/ 101520 w 2811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87640" y="2733840"/>
            <a:ext cx="2376360" cy="243720"/>
          </a:xfrm>
          <a:prstGeom prst="rect">
            <a:avLst/>
          </a:prstGeom>
          <a:solidFill>
            <a:srgbClr val="00ffff">
              <a:alpha val="3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 – high accu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71640" y="3789360"/>
            <a:ext cx="204840" cy="792000"/>
          </a:xfrm>
          <a:custGeom>
            <a:avLst/>
            <a:gdLst>
              <a:gd name="textAreaLeft" fmla="*/ 0 w 204840"/>
              <a:gd name="textAreaRight" fmla="*/ 73800 w 20484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006720" y="4102200"/>
            <a:ext cx="2357280" cy="243720"/>
          </a:xfrm>
          <a:prstGeom prst="rect">
            <a:avLst/>
          </a:prstGeom>
          <a:solidFill>
            <a:srgbClr val="ff9900">
              <a:alpha val="30000"/>
            </a:srgbClr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 – medium accu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47880" y="4726080"/>
            <a:ext cx="281160" cy="1224000"/>
          </a:xfrm>
          <a:custGeom>
            <a:avLst/>
            <a:gdLst>
              <a:gd name="textAreaLeft" fmla="*/ 0 w 281160"/>
              <a:gd name="textAreaRight" fmla="*/ 101520 w 2811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87640" y="5516640"/>
            <a:ext cx="2376360" cy="243720"/>
          </a:xfrm>
          <a:prstGeom prst="rect">
            <a:avLst/>
          </a:prstGeom>
          <a:solidFill>
            <a:srgbClr val="00ff00">
              <a:alpha val="30000"/>
            </a:srgbClr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 – low accu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564000" y="3213000"/>
            <a:ext cx="936720" cy="647640"/>
          </a:xfrm>
          <a:prstGeom prst="ellipse">
            <a:avLst/>
          </a:prstGeom>
          <a:solidFill>
            <a:srgbClr val="99ccff">
              <a:alpha val="22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03280" y="3213000"/>
            <a:ext cx="1368360" cy="576360"/>
          </a:xfrm>
          <a:prstGeom prst="ellipse">
            <a:avLst/>
          </a:prstGeom>
          <a:solidFill>
            <a:srgbClr val="99ccff">
              <a:alpha val="22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987640" y="1844640"/>
            <a:ext cx="1368360" cy="576360"/>
          </a:xfrm>
          <a:prstGeom prst="ellipse">
            <a:avLst/>
          </a:prstGeom>
          <a:solidFill>
            <a:srgbClr val="99ccff">
              <a:alpha val="22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A1A87-DBDB-486F-8357-0150E83F8A72}" type="slidenum">
              <a:t>23</a:t>
            </a:fld>
          </a:p>
        </p:txBody>
      </p: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6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0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4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8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" presetSubtype="8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246320" y="1916280"/>
            <a:ext cx="1741320" cy="122544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8045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istribution of the estimates referred to areas larger than 12,000 inhabitants for classes of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v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. Comparison of percentage frequencies for 4 different sampling ratios with the SRSHOU design - 2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21000" y="1943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321000" y="1943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258920" y="1197000"/>
          <a:ext cx="7489800" cy="1944360"/>
        </p:xfrm>
        <a:graphic>
          <a:graphicData uri="http://schemas.openxmlformats.org/drawingml/2006/table">
            <a:tbl>
              <a:tblPr/>
              <a:tblGrid>
                <a:gridCol w="1697040"/>
                <a:gridCol w="1449360"/>
                <a:gridCol w="1447920"/>
                <a:gridCol w="1447560"/>
                <a:gridCol w="1447920"/>
              </a:tblGrid>
              <a:tr h="376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es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v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pling rat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 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.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├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.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.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.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2050920" y="3068640"/>
            <a:ext cx="5834160" cy="32400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588000" y="3360600"/>
            <a:ext cx="1944720" cy="276480"/>
          </a:xfrm>
          <a:prstGeom prst="rect">
            <a:avLst/>
          </a:prstGeom>
          <a:solidFill>
            <a:srgbClr val="00ffff">
              <a:alpha val="50000"/>
            </a:srgbClr>
          </a:solidFill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A - high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588000" y="4653000"/>
            <a:ext cx="1944720" cy="276480"/>
          </a:xfrm>
          <a:prstGeom prst="rect">
            <a:avLst/>
          </a:prstGeom>
          <a:solidFill>
            <a:srgbClr val="ff9900">
              <a:alpha val="50000"/>
            </a:srgbClr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 - medium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88000" y="5373720"/>
            <a:ext cx="1944720" cy="276480"/>
          </a:xfrm>
          <a:prstGeom prst="rect">
            <a:avLst/>
          </a:prstGeom>
          <a:solidFill>
            <a:srgbClr val="00ff00">
              <a:alpha val="60000"/>
            </a:srgbClr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 - low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564000" y="1916280"/>
            <a:ext cx="936720" cy="433080"/>
          </a:xfrm>
          <a:prstGeom prst="ellipse">
            <a:avLst/>
          </a:prstGeom>
          <a:solidFill>
            <a:srgbClr val="ffff99">
              <a:alpha val="30000"/>
            </a:srgbClr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883640" y="1916280"/>
            <a:ext cx="936360" cy="433080"/>
          </a:xfrm>
          <a:prstGeom prst="ellipse">
            <a:avLst/>
          </a:prstGeom>
          <a:solidFill>
            <a:srgbClr val="ffff99">
              <a:alpha val="30000"/>
            </a:srgbClr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564000" y="2708280"/>
            <a:ext cx="936720" cy="433440"/>
          </a:xfrm>
          <a:prstGeom prst="ellipse">
            <a:avLst/>
          </a:prstGeom>
          <a:solidFill>
            <a:srgbClr val="ffff99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83640" y="2708280"/>
            <a:ext cx="936360" cy="433440"/>
          </a:xfrm>
          <a:prstGeom prst="ellipse">
            <a:avLst/>
          </a:prstGeom>
          <a:solidFill>
            <a:srgbClr val="ffff99">
              <a:alpha val="30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03640" y="981000"/>
            <a:ext cx="5761080" cy="576360"/>
          </a:xfrm>
          <a:custGeom>
            <a:avLst/>
            <a:gdLst>
              <a:gd name="textAreaLeft" fmla="*/ 1008000 w 5761080"/>
              <a:gd name="textAreaRight" fmla="*/ 4176720 w 576108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a3e87c">
              <a:alpha val="71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4D3F8-464E-4206-9A12-B0A6A28670E6}" type="slidenum">
              <a:t>24</a:t>
            </a:fld>
          </a:p>
        </p:txBody>
      </p:sp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495440" y="1254240"/>
            <a:ext cx="844560" cy="7347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1216080" y="2060640"/>
            <a:ext cx="1484280" cy="13240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2411280" y="1376280"/>
            <a:ext cx="2524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sampled area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5148360" y="1258920"/>
                <a:ext cx="23320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2770200" y="2089080"/>
            <a:ext cx="22334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rritory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given b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ggregation of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ample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148360" y="2160720"/>
                <a:ext cx="392436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sub>
                        </m:sSub>
                      </m:e>
                    </m:d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K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CV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5149800" y="3106800"/>
                <a:ext cx="28098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d%</m:t>
                    </m:r>
                    <m:r>
                      <m:t xml:space="preserve">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K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3203640" y="3500280"/>
            <a:ext cx="1873080" cy="532080"/>
          </a:xfrm>
          <a:prstGeom prst="rect">
            <a:avLst/>
          </a:prstGeom>
          <a:solidFill>
            <a:srgbClr val="ffff00">
              <a:alpha val="6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ercentage expected reduction of CV i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63640" y="3429000"/>
            <a:ext cx="144360" cy="784080"/>
          </a:xfrm>
          <a:prstGeom prst="downArrow">
            <a:avLst>
              <a:gd name="adj1" fmla="val 50000"/>
              <a:gd name="adj2" fmla="val 135786"/>
            </a:avLst>
          </a:prstGeom>
          <a:solidFill>
            <a:srgbClr val="00ff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42920" y="115920"/>
            <a:ext cx="80456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stimates of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referred to territory given by aggregation of are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1066680" y="4365720"/>
            <a:ext cx="1849680" cy="15523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2841480" y="4221000"/>
            <a:ext cx="201780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rritory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given b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ggregation of sampled areas and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ample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rot="10800000">
            <a:off x="8029440" y="3096720"/>
            <a:ext cx="719280" cy="576360"/>
          </a:xfrm>
          <a:custGeom>
            <a:avLst/>
            <a:gdLst>
              <a:gd name="textAreaLeft" fmla="*/ 0 w 719280"/>
              <a:gd name="textAreaRight" fmla="*/ 719640 w 7192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33" stAng="10800000" swAng="5400000"/>
                <a:lnTo>
                  <a:pt x="14582" y="2927"/>
                </a:lnTo>
                <a:lnTo>
                  <a:pt x="14582" y="0"/>
                </a:lnTo>
                <a:lnTo>
                  <a:pt x="21600" y="6079"/>
                </a:lnTo>
                <a:lnTo>
                  <a:pt x="14582" y="12158"/>
                </a:lnTo>
                <a:lnTo>
                  <a:pt x="14582" y="9231"/>
                </a:lnTo>
                <a:lnTo>
                  <a:pt x="12427" y="9231"/>
                </a:lnTo>
                <a:arcTo wR="6123" hR="2929" stAng="16200000" swAng="-5400000"/>
                <a:lnTo>
                  <a:pt x="6304" y="216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148360" y="4292640"/>
                <a:ext cx="392436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≃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K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CV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 rot="10800000">
            <a:off x="7596000" y="5229360"/>
            <a:ext cx="718920" cy="576000"/>
          </a:xfrm>
          <a:custGeom>
            <a:avLst/>
            <a:gdLst>
              <a:gd name="textAreaLeft" fmla="*/ 0 w 718920"/>
              <a:gd name="textAreaRight" fmla="*/ 719280 w 7189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33" stAng="10800000" swAng="5400000"/>
                <a:lnTo>
                  <a:pt x="14582" y="2927"/>
                </a:lnTo>
                <a:lnTo>
                  <a:pt x="14582" y="0"/>
                </a:lnTo>
                <a:lnTo>
                  <a:pt x="21600" y="6079"/>
                </a:lnTo>
                <a:lnTo>
                  <a:pt x="14582" y="12158"/>
                </a:lnTo>
                <a:lnTo>
                  <a:pt x="14582" y="9231"/>
                </a:lnTo>
                <a:lnTo>
                  <a:pt x="12427" y="9231"/>
                </a:lnTo>
                <a:arcTo wR="6123" hR="2929" stAng="16200000" swAng="-5400000"/>
                <a:lnTo>
                  <a:pt x="6304" y="216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148360" y="5229360"/>
                <a:ext cx="2376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d%</m:t>
                    </m:r>
                    <m:r>
                      <m:t xml:space="preserve">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γ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K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054080" y="5877000"/>
                <a:ext cx="107172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/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1093680" y="623736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ote of sub-population o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legible for drawing the LF samp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1271400">
            <a:off x="1186920" y="1701360"/>
            <a:ext cx="142920" cy="647640"/>
          </a:xfrm>
          <a:custGeom>
            <a:avLst/>
            <a:gdLst>
              <a:gd name="textAreaLeft" fmla="*/ 19080 w 142920"/>
              <a:gd name="textAreaRight" fmla="*/ 123840 w 142920"/>
              <a:gd name="textAreaTop" fmla="*/ 122400 h 647640"/>
              <a:gd name="textAreaBottom" fmla="*/ 46044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63" stAng="-5400000" swAng="-5400000"/>
                <a:lnTo>
                  <a:pt x="0" y="11277"/>
                </a:lnTo>
                <a:arcTo wR="21600" hR="8163" stAng="10800000" swAng="-2814460"/>
                <a:lnTo>
                  <a:pt x="14400" y="21133"/>
                </a:lnTo>
                <a:lnTo>
                  <a:pt x="21600" y="17883"/>
                </a:lnTo>
                <a:lnTo>
                  <a:pt x="14400" y="13699"/>
                </a:lnTo>
                <a:lnTo>
                  <a:pt x="14400" y="15859"/>
                </a:lnTo>
                <a:arcTo wR="21600" hR="8163" stAng="7985540" swAng="2562473"/>
                <a:lnTo>
                  <a:pt x="397" y="9720"/>
                </a:lnTo>
                <a:arcTo wR="21600" hR="8163" stAng="-10548013" swAng="5148013"/>
                <a:close/>
              </a:path>
              <a:path fill="darkenLess" w="21600" h="21600">
                <a:moveTo>
                  <a:pt x="21600" y="0"/>
                </a:moveTo>
                <a:arcTo wR="21600" hR="8163" stAng="-5400000" swAng="-5400000"/>
                <a:lnTo>
                  <a:pt x="0" y="8163"/>
                </a:lnTo>
                <a:arcTo wR="21600" hR="8163" stAng="10800000" swAng="-251987"/>
                <a:lnTo>
                  <a:pt x="397" y="9720"/>
                </a:lnTo>
                <a:arcTo wR="21600" hR="8163" stAng="-10548013" swAng="5148013"/>
                <a:close/>
              </a:path>
            </a:pathLst>
          </a:custGeom>
          <a:solidFill>
            <a:srgbClr val="00ff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203640" y="5634000"/>
            <a:ext cx="1873080" cy="531720"/>
          </a:xfrm>
          <a:prstGeom prst="rect">
            <a:avLst/>
          </a:prstGeom>
          <a:solidFill>
            <a:srgbClr val="ffff00">
              <a:alpha val="6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ercentage expected reduction of CV i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D7CD9-BD0A-4E62-8E12-610BA3B2720E}" type="slidenum">
              <a:t>25</a:t>
            </a:fld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5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0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1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Conclusions - 1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90080" y="1196640"/>
            <a:ext cx="80535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s expected, the most accurate estimates were obtained fo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mple random sampling of households from administrative regis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argest sampling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550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Better efficiency of estimates for largest areas (&gt;12,000 inhabita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result could represent a suggestion for planning the sampling design by defining larger census areas (of about 15,000 peop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550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he estimates referred to large domains given by aggregation of areas show high accurac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accuracy increases with the domain’s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case in which a part of the large domain is totally surveyed, the estimates show a further increasing in accu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335FD-2660-4665-853D-448C64A63A5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Conclusions - 2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90080" y="1413000"/>
            <a:ext cx="77295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However area frame sampling is only slightly less efficient than SRSHOU, thus it could be adopted where reliable administrative registers are not avail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550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ampling ratio will be chosen considering trade-off between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eeded financial sav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curacy required at different territorial do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550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Further analyses will be conducted on small area estimation techniques to produce more accurate estimates fo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mallest territorial 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are pop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0BA1C-83AC-40A1-AED3-1261979C357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87280" y="2647800"/>
            <a:ext cx="7777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0000"/>
                </a:solidFill>
                <a:latin typeface="Arial"/>
              </a:rPr>
              <a:t>Thank you for your attention and 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24B39-6C1B-4818-900E-1486BEF5E2D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195640" y="2647800"/>
            <a:ext cx="532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i="1" lang="en-US" sz="3800" spc="-1" strike="noStrike">
                <a:solidFill>
                  <a:srgbClr val="ff0000"/>
                </a:solidFill>
                <a:latin typeface="Arial"/>
              </a:rPr>
              <a:t>have a good lunch!!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A4283-F33C-4D54-9C59-9BD3284FBDD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Introduction - 1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7883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1100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ain critical issue of the last Censu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1100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Huge organizational (and economical) effort of Municipal Census Offic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udden and time-concentrated increase of workloa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for largest municipalities,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massiv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network of enumerators and coordinators to be trained and manag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lnSpc>
                <a:spcPct val="90000"/>
              </a:lnSpc>
              <a:spcBef>
                <a:spcPts val="601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lack of adequately skilled resources, high turn over rat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4365720"/>
            <a:ext cx="7883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1100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ain objectives for the next Censu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o improve the census operations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o reduce the municipalities worklo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o keep an high level of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90006-CAD7-4355-A28D-4DD7A881425F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8CF34-31ED-4824-B97E-C100714769A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98720" y="18900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Simulation study - 4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15640" y="1269720"/>
            <a:ext cx="75963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ross-classification ce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51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ducational level, employment status, commuting and g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51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90 simple estimation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1100"/>
              </a:spcBef>
              <a:spcAft>
                <a:spcPts val="1100"/>
              </a:spcAft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alibration constraints defined by cross-classifying gender by age, and gender by marital stat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1100"/>
              </a:spcBef>
              <a:spcAft>
                <a:spcPts val="275"/>
              </a:spcAft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omputational algorithm implemented by SAS code for each municipality and for each alternative sampling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51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ep 1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election of a sample (of households or enumeration are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51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ep 2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computation of final we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51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ep 3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estimation of the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lative frequenc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for each target c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51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ep 4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teration of steps 1), 2) and 3) for 1,000 sampling re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51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ep 5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computation of sampling distribution mean and standard erro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or each one of the 90 frequency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75A59-B043-4092-8649-CCDCE5F18EED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98720" y="18900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Evaluation criterion: the coefficient of variation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16000" y="1197000"/>
            <a:ext cx="7704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order to compare the sampling strategies has been considered 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valuation criterion the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efficient of variation CV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ich represents an accuracy measurement of the sampling estimat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sequently, the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percentage maximum expected erro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can be computed: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≈ 1.96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C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is implied (with a probability of 0.95) by the estimation meth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1452600" y="1916280"/>
                <a:ext cx="211140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1116000" y="4581360"/>
            <a:ext cx="7704000" cy="1511640"/>
          </a:xfrm>
          <a:prstGeom prst="rect">
            <a:avLst/>
          </a:prstGeom>
          <a:solidFill>
            <a:srgbClr val="c0c0c0">
              <a:alpha val="2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499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distribution of the empirical CV’s for all the 90 target cells was determ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0080" indent="-460080">
              <a:lnSpc>
                <a:spcPct val="90000"/>
              </a:lnSpc>
              <a:spcBef>
                <a:spcPts val="499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fter having classified the target cells depending on their value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p ,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CV’s distribution related to the cells in the same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group has been stud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035B4-D23E-407B-B435-0E93A719000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332000" y="1120680"/>
            <a:ext cx="844560" cy="73512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1084320" y="1889280"/>
            <a:ext cx="1484280" cy="13237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2624040" y="1174680"/>
            <a:ext cx="25243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timate referred to the generic sampled area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6216480" y="1141560"/>
                <a:ext cx="23878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p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</m:e>
                          </m:d>
                        </m:e>
                        <m:e>
                          <m:r>
                            <m:t xml:space="preserve">→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V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acc>
                                    <m:accPr>
                                      <m:chr m:val="^"/>
                                    </m:accPr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2625840" y="2147760"/>
            <a:ext cx="345888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timate referred to the territory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given by aggregation of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ample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6242040" y="1801800"/>
                <a:ext cx="260496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acc>
                          <m:accPr>
                            <m:chr m:val="^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7104240" y="3052800"/>
                <a:ext cx="13381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/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7451640" y="2781360"/>
            <a:ext cx="540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6218280" y="3548160"/>
                <a:ext cx="23241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sub>
                        </m:sSub>
                      </m:e>
                    </m:d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K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CV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6202440" y="4640400"/>
                <a:ext cx="236844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d%</m:t>
                    </m:r>
                    <m:r>
                      <m:t xml:space="preserve">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K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8675640" y="4017960"/>
            <a:ext cx="289080" cy="1074600"/>
          </a:xfrm>
          <a:custGeom>
            <a:avLst/>
            <a:gdLst>
              <a:gd name="textAreaLeft" fmla="*/ 38520 w 289080"/>
              <a:gd name="textAreaRight" fmla="*/ 250560 w 289080"/>
              <a:gd name="textAreaTop" fmla="*/ 187920 h 1074600"/>
              <a:gd name="textAreaBottom" fmla="*/ 779040 h 10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588000" y="5661000"/>
            <a:ext cx="17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ercentage expected reduction of C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284880" y="2644920"/>
            <a:ext cx="247680" cy="784080"/>
          </a:xfrm>
          <a:prstGeom prst="downArrow">
            <a:avLst>
              <a:gd name="adj1" fmla="val 50000"/>
              <a:gd name="adj2" fmla="val 79142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874800" y="3079800"/>
            <a:ext cx="5352840" cy="37339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892160" y="5126040"/>
            <a:ext cx="2266920" cy="243720"/>
          </a:xfrm>
          <a:prstGeom prst="rect">
            <a:avLst/>
          </a:prstGeom>
          <a:solidFill>
            <a:srgbClr val="ccffcc"/>
          </a:solidFill>
          <a:ln w="190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K&gt;5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red%&gt;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079720" y="4699080"/>
            <a:ext cx="2266920" cy="243720"/>
          </a:xfrm>
          <a:prstGeom prst="rect">
            <a:avLst/>
          </a:prstGeom>
          <a:solidFill>
            <a:srgbClr val="ccffcc"/>
          </a:solidFill>
          <a:ln w="190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K&gt;30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red%&gt;8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281320" y="4272120"/>
            <a:ext cx="2435040" cy="243720"/>
          </a:xfrm>
          <a:prstGeom prst="rect">
            <a:avLst/>
          </a:prstGeom>
          <a:solidFill>
            <a:srgbClr val="ccffcc"/>
          </a:solidFill>
          <a:ln w="190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K&gt;100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red%&gt;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384200" y="5248440"/>
            <a:ext cx="488880" cy="253800"/>
          </a:xfrm>
          <a:prstGeom prst="line">
            <a:avLst/>
          </a:prstGeom>
          <a:ln w="1908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 flipV="1">
            <a:off x="1442520" y="4260960"/>
            <a:ext cx="622440" cy="565200"/>
          </a:xfrm>
          <a:prstGeom prst="line">
            <a:avLst/>
          </a:prstGeom>
          <a:ln w="1908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 flipV="1">
            <a:off x="1549440" y="3794040"/>
            <a:ext cx="714240" cy="603360"/>
          </a:xfrm>
          <a:prstGeom prst="line">
            <a:avLst/>
          </a:prstGeom>
          <a:ln w="1908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148360" y="6249960"/>
            <a:ext cx="1655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ber of areas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58920" y="6218280"/>
            <a:ext cx="3025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─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ercentage expected reduction of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042920" y="115920"/>
            <a:ext cx="80456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stimates of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referred to territory given by aggregation of areas.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Case 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: aggregation of sampled are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F11EE-E8FB-443C-AFE7-876745AD0049}" type="slidenum">
              <a:t>33</a:t>
            </a:fld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9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0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900000" y="2735280"/>
            <a:ext cx="5472360" cy="38354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066680" y="1422360"/>
            <a:ext cx="1704960" cy="143028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 flipH="1">
            <a:off x="1908000" y="1281240"/>
            <a:ext cx="71928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708280" y="1459080"/>
            <a:ext cx="643572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ritory 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eferred to Sampled areas: long form to a sample of household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709720" y="1187280"/>
            <a:ext cx="59677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ritory 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Not Sampled areas: long form to all the househol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3260880" y="1844640"/>
                <a:ext cx="147924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3214800" y="2378160"/>
                <a:ext cx="107136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/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5962680" y="1844640"/>
                <a:ext cx="2184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γ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</m:e>
                    </m:d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6640560" y="4797360"/>
                <a:ext cx="21254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d%</m:t>
                    </m:r>
                    <m:r>
                      <m:t xml:space="preserve">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γ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K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 flipV="1" rot="3491400">
            <a:off x="8103240" y="2207160"/>
            <a:ext cx="1251000" cy="328680"/>
          </a:xfrm>
          <a:custGeom>
            <a:avLst/>
            <a:gdLst>
              <a:gd name="textAreaLeft" fmla="*/ 218880 w 1251000"/>
              <a:gd name="textAreaRight" fmla="*/ 907200 w 1251000"/>
              <a:gd name="textAreaTop" fmla="*/ 43920 h 328680"/>
              <a:gd name="textAreaBottom" fmla="*/ 284760 h 32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6372360" y="3006720"/>
                <a:ext cx="26938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≃</m:t>
                    </m:r>
                    <m:r>
                      <m:t xml:space="preserve">γ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K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CV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4932360" y="1920960"/>
            <a:ext cx="934920" cy="212760"/>
          </a:xfrm>
          <a:prstGeom prst="rightArrow">
            <a:avLst>
              <a:gd name="adj1" fmla="val 50000"/>
              <a:gd name="adj2" fmla="val 109856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591320" y="3933720"/>
            <a:ext cx="290520" cy="754200"/>
          </a:xfrm>
          <a:prstGeom prst="downArrow">
            <a:avLst>
              <a:gd name="adj1" fmla="val 50000"/>
              <a:gd name="adj2" fmla="val 64901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547640" y="2997360"/>
            <a:ext cx="0" cy="2614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046240" y="2978280"/>
            <a:ext cx="4680" cy="2614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03280" y="5610240"/>
            <a:ext cx="2779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17720" y="5611680"/>
            <a:ext cx="2779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916360" y="2757600"/>
            <a:ext cx="44863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-population o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legible for drawing the LF samp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2124000" y="1568520"/>
            <a:ext cx="50328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076720" y="5877000"/>
            <a:ext cx="165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ber of areas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42920" y="115920"/>
            <a:ext cx="80456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stimates of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referred to territory given by aggregation of areas.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Case 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: aggregation of sampled and not sampled are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87280" y="6002280"/>
            <a:ext cx="31687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─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 </a:t>
            </a: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─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=0.7 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─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=0.6 </a:t>
            </a:r>
            <a:r>
              <a:rPr b="1" lang="en-GB" sz="1800" spc="-1" strike="noStrike">
                <a:solidFill>
                  <a:srgbClr val="009900"/>
                </a:solidFill>
                <a:latin typeface="Times New Roman"/>
              </a:rPr>
              <a:t>─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=0.5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490920" y="5950080"/>
            <a:ext cx="865080" cy="493560"/>
          </a:xfrm>
          <a:prstGeom prst="ellipse">
            <a:avLst/>
          </a:prstGeom>
          <a:solidFill>
            <a:srgbClr val="ffcc99">
              <a:alpha val="20000"/>
            </a:srgbClr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77080" y="5734080"/>
            <a:ext cx="1798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ercentage expected reduction of C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C1176-7675-4BDF-B4FB-199CC44A712B}" type="slidenum">
              <a:t>34</a:t>
            </a:fld>
          </a:p>
        </p:txBody>
      </p:sp>
    </p:spTree>
  </p:cSld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9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9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9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9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9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9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Introduction - 2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90080" y="1196640"/>
            <a:ext cx="7596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novations proposed to reach the objectiv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use of population reg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il out of census 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ixed mode of data collection mainly based on mail and 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ected consequences with the inno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increase of “back office”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reduction of enumerators number (“front office” wor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it is poss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creasing the response ra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5013360"/>
            <a:ext cx="727236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 propos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the use of a “short form” version of the questionnaire is considered to reach high response 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1A9E5-1D4A-4830-A086-92E651076482}" type="slidenum">
              <a:t>4</a:t>
            </a:fld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Introduction - 3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16000" y="1197000"/>
            <a:ext cx="7883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nsequences of the use of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shor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422280">
              <a:lnSpc>
                <a:spcPct val="90000"/>
              </a:lnSpc>
              <a:spcBef>
                <a:spcPts val="550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ncreasing the response r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422280">
              <a:lnSpc>
                <a:spcPct val="90000"/>
              </a:lnSpc>
              <a:spcBef>
                <a:spcPts val="550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reducing as much as possible the response time del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2747880"/>
            <a:ext cx="7056360" cy="45972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pproach risks information los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3502080"/>
            <a:ext cx="7883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ow to preserve the richness of the census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422280">
              <a:lnSpc>
                <a:spcPct val="90000"/>
              </a:lnSpc>
              <a:spcBef>
                <a:spcPts val="550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by a selection of a sample of households to which 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422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long form” version of the questionnaire is suppl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58920" y="5094360"/>
            <a:ext cx="7200720" cy="45972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the simultaneously use of short and long 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9F4A4-5573-4D43-8A2F-9A42556E5D73}" type="slidenum">
              <a:t>5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98720" y="23796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Some aspects related to the use of samples of households </a:t>
            </a:r>
            <a:br>
              <a:rPr sz="2200"/>
            </a:b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for long form enumeration - 1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87280" y="1341360"/>
            <a:ext cx="7561440" cy="1191240"/>
          </a:xfrm>
          <a:prstGeom prst="rect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type of information can be surveyed by means of a sample of long forms and which must be collected on the whole popul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5640" y="2852640"/>
            <a:ext cx="7596360" cy="31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overall set of census variables is partitioned into two sub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lnSpc>
                <a:spcPct val="90000"/>
              </a:lnSpc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demographic variables (gender, date of birth, marital status, nationality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lnSpc>
                <a:spcPct val="90000"/>
              </a:lnSpc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remaining variables (educational level, occupational status, commu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ort form accounts for merely the first set of variables whereas long form accounts for the whole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0E6EB-21F6-4DB3-BC6A-F1ADB72D7554}" type="slidenum">
              <a:t>6</a:t>
            </a:fld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2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8720" y="23796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Some aspects related to the use of samples of households </a:t>
            </a:r>
            <a:br>
              <a:rPr sz="2200"/>
            </a:b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for long form enumeration - 2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1341360"/>
            <a:ext cx="7561440" cy="825480"/>
          </a:xfrm>
          <a:prstGeom prst="rect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is the population municipality threshold under which the sampling strategy cannot be adop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5640" y="2636640"/>
            <a:ext cx="759636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option we are taking into consideration is to sample in municipalities with more than 5,000 inhabi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ng forms will be submitted to a sample of househo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hort forms will be administered to remaining househo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municipalities smaller than 5,000 inhabitants long forms will be submitted to the whole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7D672-595D-4FF4-8DE8-1C7EAD53432D}" type="slidenum">
              <a:t>7</a:t>
            </a:fld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98720" y="23796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Some aspects related to the use of samples of households </a:t>
            </a:r>
            <a:br>
              <a:rPr sz="2200"/>
            </a:b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for long form enumeration - 3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1341360"/>
            <a:ext cx="7561440" cy="825480"/>
          </a:xfrm>
          <a:prstGeom prst="rect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domains have to be considered to plan the sample and to produce accurate estima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90080" y="2420640"/>
            <a:ext cx="75963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New “census domains” have been d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 appropriate methodology was adopted to build up census domains by aggregating the smallest census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new “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re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” are referred to sub-municipal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550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ccuracy of sampling estimates for different territorial lev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similar precision is expected for estimates among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igher precision is expected for larger territorial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rom sub-municipal to nationwide lev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E61AD-58AD-4A3F-8E3F-EAA6399B8EF9}" type="slidenum">
              <a:t>8</a:t>
            </a:fld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98720" y="23796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Some aspects related to the use of samples of households </a:t>
            </a:r>
            <a:br>
              <a:rPr sz="2200"/>
            </a:b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for long form enumeration - 4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1341360"/>
            <a:ext cx="7561440" cy="3097440"/>
          </a:xfrm>
          <a:prstGeom prst="rect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statistical methodology performs the most accurate estima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 terms of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ampling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 of appropriate 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fficient estimation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ampling error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87280" y="4800600"/>
            <a:ext cx="756144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nswer to this question is the aim of the study of which some results will be pres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275F0-4EFD-4966-8996-2DB51C2D55C6}" type="slidenum">
              <a:t>9</a:t>
            </a:fld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8:28:58Z</dcterms:created>
  <dc:creator>istat</dc:creator>
  <dc:description/>
  <dc:language>en-US</dc:language>
  <cp:lastModifiedBy>Giancarlo</cp:lastModifiedBy>
  <dcterms:modified xsi:type="dcterms:W3CDTF">2008-05-11T17:16:24Z</dcterms:modified>
  <cp:revision>396</cp:revision>
  <dc:subject/>
  <dc:title>Diapositiva 1</dc:title>
</cp:coreProperties>
</file>