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D245-7945-43A5-B7CE-E9D9857F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8DFE-5EE4-488F-9D99-A61AC592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1F78-0EFD-4483-AE1D-20439052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39EE-A85C-46A7-B4AF-A67F83EC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D5C6-CD6F-477B-8177-CBFFD21E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70EA-02F6-477B-B0DF-100D4781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9358-5F81-420A-93D5-37F9022C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64CC-F5E6-4C3C-A379-396D3AE9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4085-57EE-4C70-904E-5D1CC944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6672-ECE8-4F6E-842D-90FC8B81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7A1E-9DC8-4A05-B2CA-07F9D018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4E08-76D8-43A8-A6C9-5A2D3890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DBF1-A6F3-49AC-8976-D1E6090C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7215-41B3-4E3D-8219-AEFD0F66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4AC8-2122-421F-965F-4BC02028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B2B0-42D5-4258-9769-E0463234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64CF-E2A3-4293-878C-6B3A92D0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ECA9-DB83-401E-8331-5009FC39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AF67-666E-4D2A-96FC-D6A19C56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6CEF-E91F-4C1F-9940-CFE9D1D9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6E03-1FC7-4B8D-82AB-1E5C4D75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3EB5-7DA8-432E-BAF7-7C8C8392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DE93-3168-4B91-999B-EB962281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75D2-E690-4940-9881-495B54C4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700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2" marL="1182600" indent="-22860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3" marL="1619280" indent="-246240">
              <a:spcBef>
                <a:spcPts val="700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4296-656D-4929-8493-58CF1858F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143000"/>
            <a:ext cx="8458200" cy="0"/>
          </a:xfrm>
          <a:prstGeom prst="line">
            <a:avLst/>
          </a:prstGeom>
          <a:ln w="9360">
            <a:solidFill>
              <a:srgbClr val="9ba9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A182-A6A8-4DAB-9E95-BCE5161CB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3048120" cy="1218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2" marL="914400" indent="39600" algn="ctr">
              <a:spcBef>
                <a:spcPts val="499"/>
              </a:spcBef>
              <a:buClr>
                <a:srgbClr val="002d4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d4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lvl="3" marL="1371600" indent="1440" algn="ctr">
              <a:spcBef>
                <a:spcPts val="451"/>
              </a:spcBef>
              <a:buClr>
                <a:srgbClr val="002d4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d4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2d4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d46"/>
                </a:solidFill>
                <a:latin typeface="Arial"/>
              </a:rPr>
              <a:t>Coverage assessment and adjustment methodolog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Owen Abbo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Methodology Directorate, 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2011 Coverage Assessment Overview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35160" y="1583640"/>
            <a:ext cx="4831920" cy="4314600"/>
            <a:chOff x="2135160" y="1583640"/>
            <a:chExt cx="4831920" cy="4314600"/>
          </a:xfrm>
        </p:grpSpPr>
        <p:sp>
          <p:nvSpPr>
            <p:cNvPr id="105" name=""/>
            <p:cNvSpPr/>
            <p:nvPr/>
          </p:nvSpPr>
          <p:spPr>
            <a:xfrm>
              <a:off x="3512160" y="4131720"/>
              <a:ext cx="1490040" cy="69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stim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34120" y="3046320"/>
              <a:ext cx="1445400" cy="65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atch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83360" y="5249880"/>
              <a:ext cx="1555200" cy="64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just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"/>
            <p:cNvCxnSpPr>
              <a:stCxn id="105" idx="2"/>
              <a:endCxn id="107" idx="0"/>
            </p:cNvCxnSpPr>
            <p:nvPr/>
          </p:nvCxnSpPr>
          <p:spPr>
            <a:xfrm flipH="1" rot="16200000">
              <a:off x="4047480" y="5035680"/>
              <a:ext cx="424800" cy="3960"/>
            </a:xfrm>
            <a:prstGeom prst="bentConnector3">
              <a:avLst>
                <a:gd name="adj1" fmla="val 4987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" name=""/>
            <p:cNvCxnSpPr>
              <a:stCxn id="110" idx="2"/>
              <a:endCxn id="106" idx="0"/>
            </p:cNvCxnSpPr>
            <p:nvPr/>
          </p:nvCxnSpPr>
          <p:spPr>
            <a:xfrm rot="5400000">
              <a:off x="4530600" y="2255760"/>
              <a:ext cx="516240" cy="1065240"/>
            </a:xfrm>
            <a:prstGeom prst="bentConnector3">
              <a:avLst>
                <a:gd name="adj1" fmla="val 4989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6" idx="2"/>
              <a:endCxn id="105" idx="0"/>
            </p:cNvCxnSpPr>
            <p:nvPr/>
          </p:nvCxnSpPr>
          <p:spPr>
            <a:xfrm flipH="1" rot="16200000">
              <a:off x="4044600" y="3918240"/>
              <a:ext cx="426240" cy="1440"/>
            </a:xfrm>
            <a:prstGeom prst="bentConnector3">
              <a:avLst>
                <a:gd name="adj1" fmla="val 4995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2135160" y="1625760"/>
              <a:ext cx="1856880" cy="92484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2011 Cens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90360" y="3929400"/>
              <a:ext cx="1476720" cy="10854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Quality Assur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 rot="16200000">
              <a:off x="3412800" y="2201400"/>
              <a:ext cx="496080" cy="1193760"/>
            </a:xfrm>
            <a:prstGeom prst="bentConnector3">
              <a:avLst>
                <a:gd name="adj1" fmla="val 4996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5" name=""/>
            <p:cNvCxnSpPr>
              <a:stCxn id="105" idx="3"/>
              <a:endCxn id="113" idx="1"/>
            </p:cNvCxnSpPr>
            <p:nvPr/>
          </p:nvCxnSpPr>
          <p:spPr>
            <a:xfrm flipV="1">
              <a:off x="5002560" y="4472280"/>
              <a:ext cx="488160" cy="6120"/>
            </a:xfrm>
            <a:prstGeom prst="bentConnector3">
              <a:avLst>
                <a:gd name="adj1" fmla="val 49963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10" name=""/>
            <p:cNvSpPr/>
            <p:nvPr/>
          </p:nvSpPr>
          <p:spPr>
            <a:xfrm>
              <a:off x="4398120" y="1583640"/>
              <a:ext cx="1846440" cy="9468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ensus Coverage Surve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The Census Coverage Survey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Key componen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Similar to 2001 CCS: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Large Sample Survey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320,000 Household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Sample of small areas (postcodes)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Focus on counting the population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6 weeks after census day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Short paper based interview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Independent of Censu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The Census Coverage Survey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Sample design similar to 2001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Two stage stratified by geography and a ‘hard to count’ index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First sample Output Area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Then select postcodes within each OA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Sample size determined by optimal allocation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Improvements for 2011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Sample stratified by Local Authority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More refined HtC index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Better Design variable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Estimation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Estimation based on Dual System Estimation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Used mainly for wildlife application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Requires two counts of the population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Assumption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Independence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Homogeneity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No matching error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Applied at very low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Estimation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Use matched Census + CCS data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104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40b"/>
                </a:solidFill>
                <a:latin typeface="Arial"/>
              </a:rPr>
              <a:t>DSE estimates adjustment for those missed in both Census and CC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Counted By CCS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Yes 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Counted 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Yes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n</a:t>
            </a:r>
            <a:r>
              <a:rPr b="0" lang="en-GB" sz="2000" spc="-1" strike="noStrike" baseline="-25000">
                <a:solidFill>
                  <a:srgbClr val="01040b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n</a:t>
            </a:r>
            <a:r>
              <a:rPr b="0" lang="en-GB" sz="2000" spc="-1" strike="noStrike" baseline="-25000">
                <a:solidFill>
                  <a:srgbClr val="01040b"/>
                </a:solidFill>
                <a:latin typeface="Arial"/>
              </a:rPr>
              <a:t>10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n</a:t>
            </a:r>
            <a:r>
              <a:rPr b="0" lang="en-GB" sz="2000" spc="-1" strike="noStrike" baseline="-25000">
                <a:solidFill>
                  <a:srgbClr val="01040b"/>
                </a:solidFill>
                <a:latin typeface="Arial"/>
              </a:rPr>
              <a:t>1+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By Census 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No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n</a:t>
            </a:r>
            <a:r>
              <a:rPr b="0" lang="en-GB" sz="2000" spc="-1" strike="noStrike" baseline="-25000">
                <a:solidFill>
                  <a:srgbClr val="01040b"/>
                </a:solidFill>
                <a:latin typeface="Arial"/>
              </a:rPr>
              <a:t>01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c0128"/>
                </a:solidFill>
                <a:latin typeface="Arial"/>
              </a:rPr>
              <a:t>n</a:t>
            </a:r>
            <a:r>
              <a:rPr b="1" lang="en-GB" sz="2000" spc="-1" strike="noStrike" baseline="-25000">
                <a:solidFill>
                  <a:srgbClr val="fc0128"/>
                </a:solidFill>
                <a:latin typeface="Arial"/>
              </a:rPr>
              <a:t>00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c0128"/>
                </a:solidFill>
                <a:latin typeface="Arial"/>
              </a:rPr>
              <a:t>n</a:t>
            </a:r>
            <a:r>
              <a:rPr b="1" lang="en-GB" sz="2000" spc="-1" strike="noStrike" baseline="-25000">
                <a:solidFill>
                  <a:srgbClr val="fc0128"/>
                </a:solidFill>
                <a:latin typeface="Arial"/>
              </a:rPr>
              <a:t>0+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n</a:t>
            </a:r>
            <a:r>
              <a:rPr b="0" lang="en-GB" sz="2000" spc="-1" strike="noStrike" baseline="-25000">
                <a:solidFill>
                  <a:srgbClr val="01040b"/>
                </a:solidFill>
                <a:latin typeface="Arial"/>
              </a:rPr>
              <a:t>+1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c0128"/>
                </a:solidFill>
                <a:latin typeface="Arial"/>
              </a:rPr>
              <a:t>n</a:t>
            </a:r>
            <a:r>
              <a:rPr b="1" lang="en-GB" sz="2000" spc="-1" strike="noStrike" baseline="-25000">
                <a:solidFill>
                  <a:srgbClr val="fc0128"/>
                </a:solidFill>
                <a:latin typeface="Arial"/>
              </a:rPr>
              <a:t>+0</a:t>
            </a:r>
            <a:r>
              <a:rPr b="0" lang="en-GB" sz="2000" spc="-1" strike="noStrike" baseline="-25000">
                <a:solidFill>
                  <a:srgbClr val="01040b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c0128"/>
                </a:solidFill>
                <a:latin typeface="Arial"/>
              </a:rPr>
              <a:t>n</a:t>
            </a:r>
            <a:r>
              <a:rPr b="1" lang="en-GB" sz="2000" spc="-1" strike="noStrike" baseline="-25000">
                <a:solidFill>
                  <a:srgbClr val="fc0128"/>
                </a:solidFill>
                <a:latin typeface="Arial"/>
              </a:rPr>
              <a:t>++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40b"/>
                </a:solidFill>
                <a:latin typeface="Arial"/>
              </a:rPr>
              <a:t>DSE count for a postcode: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40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1040b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n</a:t>
            </a:r>
            <a:r>
              <a:rPr b="1" lang="en-GB" sz="2400" spc="-1" strike="noStrike" baseline="-25000">
                <a:solidFill>
                  <a:srgbClr val="fc0128"/>
                </a:solidFill>
                <a:latin typeface="Arial"/>
              </a:rPr>
              <a:t>++</a:t>
            </a:r>
            <a:r>
              <a:rPr b="0" lang="en-GB" sz="2400" spc="-1" strike="noStrike">
                <a:solidFill>
                  <a:srgbClr val="01040b"/>
                </a:solidFill>
                <a:latin typeface="Arial"/>
              </a:rPr>
              <a:t> = n</a:t>
            </a:r>
            <a:r>
              <a:rPr b="0" lang="en-GB" sz="2400" spc="-1" strike="noStrike" baseline="-25000">
                <a:solidFill>
                  <a:srgbClr val="01040b"/>
                </a:solidFill>
                <a:latin typeface="Arial"/>
              </a:rPr>
              <a:t>1+</a:t>
            </a:r>
            <a:r>
              <a:rPr b="0" lang="en-GB" sz="2400" spc="-1" strike="noStrike">
                <a:solidFill>
                  <a:srgbClr val="01040b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40b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1040b"/>
                </a:solidFill>
                <a:latin typeface="Arial"/>
              </a:rPr>
              <a:t> n</a:t>
            </a:r>
            <a:r>
              <a:rPr b="0" lang="en-GB" sz="2400" spc="-1" strike="noStrike" baseline="-25000">
                <a:solidFill>
                  <a:srgbClr val="01040b"/>
                </a:solidFill>
                <a:latin typeface="Arial"/>
              </a:rPr>
              <a:t>+1</a:t>
            </a:r>
            <a:r>
              <a:rPr b="0" lang="en-GB" sz="2400" spc="-1" strike="noStrike">
                <a:solidFill>
                  <a:srgbClr val="01040b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40b"/>
                </a:solidFill>
                <a:latin typeface="Symbol"/>
                <a:ea typeface="Symbol"/>
              </a:rPr>
              <a:t></a:t>
            </a:r>
            <a:r>
              <a:rPr b="0" lang="en-GB" sz="2400" spc="-1" strike="noStrike">
                <a:solidFill>
                  <a:srgbClr val="01040b"/>
                </a:solidFill>
                <a:latin typeface="Arial"/>
              </a:rPr>
              <a:t> n</a:t>
            </a:r>
            <a:r>
              <a:rPr b="0" lang="en-GB" sz="2400" spc="-1" strike="noStrike" baseline="-25000">
                <a:solidFill>
                  <a:srgbClr val="01040b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Estimation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38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Generalise sample DSE estimate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47772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Use standard ratio type estimator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477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477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477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477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Problem – not enough sample in most LA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Solution – post-stratify LAs into group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47772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2011 equivalent of Estimation Area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47772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Group LAs by type, not geography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Then small area model to get LA estimate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56000" y="2276640"/>
          <a:ext cx="2808000" cy="1719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0" y="2276640"/>
                    <a:ext cx="2808000" cy="17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Measuring Overcount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Estimate separately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Not yet developed methodology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Sources likely to be: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CC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Matching Census data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Weight individuals in the DSEs to integrate into estimation methodology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Coverage adjustment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Imputation of households and persons estimated to have been missed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Planning on similar process to that in 2001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Model coverage probabilitie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Calibrate weight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Impute households (with people)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Impute persons into counted household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Looking at improvements in modelling step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Measuring Coverage very importan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Integral part of the UK Census proces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In the UK looking to build on 2001: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Improvements across the board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2001 One Number Censu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2011 Strategy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The Census Coverage Survey (CCS)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Estimation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Overcoun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Adjustmen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What is the problem?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Despite best efforts, Census won’t count every household or person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It will also count some people twic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Why is that a problem?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499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d46"/>
                </a:solidFill>
                <a:latin typeface="Arial"/>
              </a:rPr>
              <a:t>In 2001, we estimated that 3 million persons (6%) missed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499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d46"/>
                </a:solidFill>
                <a:latin typeface="Arial"/>
              </a:rPr>
              <a:t>Need robust census estimates - counts not good enough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Further problem: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499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d46"/>
                </a:solidFill>
                <a:latin typeface="Arial"/>
              </a:rPr>
              <a:t>The undercount is not evenly spread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499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d46"/>
                </a:solidFill>
                <a:latin typeface="Arial"/>
              </a:rPr>
              <a:t>Inner Cities, Deprived areas, Young persons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The problem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This is a problem that all census taking countries fac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We can try really hard to maximise coverag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But we will still miss households and peopl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So what do we do?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We must have a robust method for measuring coverage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It must provide accurate estimates at LA level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It must be an integral part of the census proces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The 2001 Census experience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Estimated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1.5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million households</a:t>
            </a: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 missed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Arial"/>
              </a:rPr>
              <a:t>3 million persons</a:t>
            </a: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 missed (most from the missing households but some from counted households)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Subsequent studies estimated a further 0.3 million missed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The 2001 Census experience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79280" y="1268280"/>
          <a:ext cx="8785440" cy="5408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268280"/>
                    <a:ext cx="8785440" cy="54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The 2001 Census experience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76360" y="1197000"/>
            <a:ext cx="51022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The One Number Census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In 2001, One Number Census methodology was developed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Large Census Coverage Survey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Matching, Capture Recapture, Ratio estimation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Small area estimation to get LA total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Imputation of missed households and person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In 2011 we want to build on the ONC, as broadly it was very successfu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d46"/>
                </a:solidFill>
                <a:latin typeface="Arial"/>
              </a:rPr>
              <a:t>2011 Aims and Objectives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Measure undercoun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Measure overcoun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Address lessons from 2001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Take into account change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In census design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In the population of interest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d46"/>
                </a:solidFill>
                <a:latin typeface="Arial"/>
              </a:rPr>
              <a:t>Accuracy to be as good or better than in 2001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d46"/>
                </a:solidFill>
                <a:latin typeface="Arial"/>
              </a:rPr>
              <a:t>0.2 per cent confidence interval nationally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09:53:50Z</dcterms:created>
  <dc:creator>Wayne Bryant</dc:creator>
  <dc:description/>
  <dc:language>en-US</dc:language>
  <cp:lastModifiedBy>Owen Abbott</cp:lastModifiedBy>
  <dcterms:modified xsi:type="dcterms:W3CDTF">2008-05-09T09:03:00Z</dcterms:modified>
  <cp:revision>18</cp:revision>
  <dc:subject/>
  <dc:title>PowerPoint Presentation</dc:title>
</cp:coreProperties>
</file>