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DF7-C776-4B1E-8D0F-271C2358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C9E-CC11-43E5-BD40-088DA34D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665-3EC1-4660-B8D6-0F4404D3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C96-2134-4D21-8DFE-5B0400F2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2E8E-C6E4-4382-AD7A-6FFE9CB1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5076-F22C-47DA-984E-DD27A56F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E76E-D00E-413B-BD9E-4C64CFC7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CF13-1BEB-4591-883D-4293A667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0C2D-5E18-48C7-8123-8DE1A567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C5FF-8A58-4C35-A174-42C64B35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18A0-7039-4055-864C-6845CDA5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25E-5A9A-45FA-85C5-C9C30222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133-2A67-4F2F-9BD1-EA65224F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F585-77E9-45CF-8850-A80E664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A0E6-903D-4074-9C8A-2D77E836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CD0A-2A8D-4112-9855-D8F31546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25F3-9DEC-4545-87EB-86E5AE8A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C2E-79D9-4B9B-BF75-CC252676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875-367E-4714-88B1-949A6F19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BF8-C520-4944-AB9D-D2FA5711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102-597C-4A92-B293-3CF072F2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619-A891-4AB3-838B-2FEB60F1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4B1-7BF1-4C68-A2BD-1021E24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C63-5DE3-40E9-A6FF-B2CEEBB0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2" marL="1182600" indent="-22860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3" marL="1619280" indent="-2462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4472-B916-4F1C-B097-EF8DF5266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9ba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D2EE-866D-4EE8-BE61-FA7035354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812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2" marL="914400" indent="39600" algn="ctr">
              <a:spcBef>
                <a:spcPts val="499"/>
              </a:spcBef>
              <a:buClr>
                <a:srgbClr val="002d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3" marL="1371600" indent="1440" algn="ctr">
              <a:spcBef>
                <a:spcPts val="451"/>
              </a:spcBef>
              <a:buClr>
                <a:srgbClr val="002d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d4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d46"/>
                </a:solidFill>
                <a:latin typeface="Arial"/>
              </a:rPr>
              <a:t>Coverage assessment and adjustment 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Owen Abb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Methodology Directorate, 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2011 Coverage Assessment Overview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5160" y="1583640"/>
            <a:ext cx="4831920" cy="4314600"/>
            <a:chOff x="2135160" y="1583640"/>
            <a:chExt cx="4831920" cy="4314600"/>
          </a:xfrm>
        </p:grpSpPr>
        <p:sp>
          <p:nvSpPr>
            <p:cNvPr id="105" name=""/>
            <p:cNvSpPr/>
            <p:nvPr/>
          </p:nvSpPr>
          <p:spPr>
            <a:xfrm>
              <a:off x="3512160" y="4131720"/>
              <a:ext cx="149004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i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34120" y="3046320"/>
              <a:ext cx="1445400" cy="65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tch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83360" y="5249880"/>
              <a:ext cx="1555200" cy="64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jus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"/>
            <p:cNvCxnSpPr>
              <a:stCxn id="105" idx="2"/>
              <a:endCxn id="107" idx="0"/>
            </p:cNvCxnSpPr>
            <p:nvPr/>
          </p:nvCxnSpPr>
          <p:spPr>
            <a:xfrm flipH="1" rot="16200000">
              <a:off x="4047480" y="5035680"/>
              <a:ext cx="424800" cy="3960"/>
            </a:xfrm>
            <a:prstGeom prst="bentConnector3">
              <a:avLst>
                <a:gd name="adj1" fmla="val 4987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10" idx="2"/>
              <a:endCxn id="106" idx="0"/>
            </p:cNvCxnSpPr>
            <p:nvPr/>
          </p:nvCxnSpPr>
          <p:spPr>
            <a:xfrm rot="5400000">
              <a:off x="4530600" y="2255760"/>
              <a:ext cx="516240" cy="1065240"/>
            </a:xfrm>
            <a:prstGeom prst="bentConnector3">
              <a:avLst>
                <a:gd name="adj1" fmla="val 498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5" idx="0"/>
            </p:cNvCxnSpPr>
            <p:nvPr/>
          </p:nvCxnSpPr>
          <p:spPr>
            <a:xfrm flipH="1" rot="16200000">
              <a:off x="4044600" y="3918240"/>
              <a:ext cx="426240" cy="144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2135160" y="1625760"/>
              <a:ext cx="1856880" cy="924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011 Cens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0360" y="3929400"/>
              <a:ext cx="1476720" cy="10854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 rot="16200000">
              <a:off x="3412800" y="2201400"/>
              <a:ext cx="496080" cy="1193760"/>
            </a:xfrm>
            <a:prstGeom prst="bentConnector3">
              <a:avLst>
                <a:gd name="adj1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05" idx="3"/>
              <a:endCxn id="113" idx="1"/>
            </p:cNvCxnSpPr>
            <p:nvPr/>
          </p:nvCxnSpPr>
          <p:spPr>
            <a:xfrm flipV="1">
              <a:off x="5002560" y="4472280"/>
              <a:ext cx="488160" cy="6120"/>
            </a:xfrm>
            <a:prstGeom prst="bentConnector3">
              <a:avLst>
                <a:gd name="adj1" fmla="val 49963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4398120" y="1583640"/>
              <a:ext cx="1846440" cy="9468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ensus Coverage Surve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Census Coverage Surve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Key compone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imilar to 2001 CCS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Large Sample Surve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320,000 Household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ample of small areas (postcodes)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Focus on counting the popul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6 weeks after census da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hort paper based interview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ndependent of Censu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Census Coverage Surve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ample design similar to 200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Two stage stratified by geography and a ‘hard to count’ index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First sample Output Area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Then select postcodes within each OA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ample size determined by optimal alloc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mprovements for 201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ample stratified by Local Authorit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More refined HtC index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Better Design variabl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Estimation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Estimation based on Dual System Estimati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Used mainly for wildlife application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Requires two counts of the popul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ndependenc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Homogeneit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No matching error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pplied at very low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Estimation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Use matched Census + CCS data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40b"/>
                </a:solidFill>
                <a:latin typeface="Arial"/>
              </a:rPr>
              <a:t>DSE estimates adjustment for those missed in both Census and CC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Counted By CCS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Yes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Counted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Yes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10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1+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By Census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o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01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000" spc="-1" strike="noStrike" baseline="-25000">
                <a:solidFill>
                  <a:srgbClr val="fc0128"/>
                </a:solidFill>
                <a:latin typeface="Arial"/>
              </a:rPr>
              <a:t>00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000" spc="-1" strike="noStrike" baseline="-25000">
                <a:solidFill>
                  <a:srgbClr val="fc0128"/>
                </a:solidFill>
                <a:latin typeface="Arial"/>
              </a:rPr>
              <a:t>0+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+1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000" spc="-1" strike="noStrike" baseline="-25000">
                <a:solidFill>
                  <a:srgbClr val="fc0128"/>
                </a:solidFill>
                <a:latin typeface="Arial"/>
              </a:rPr>
              <a:t>+0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000" spc="-1" strike="noStrike" baseline="-25000">
                <a:solidFill>
                  <a:srgbClr val="fc0128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40b"/>
                </a:solidFill>
                <a:latin typeface="Arial"/>
              </a:rPr>
              <a:t>DSE count for a postcode: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400" spc="-1" strike="noStrike" baseline="-25000">
                <a:solidFill>
                  <a:srgbClr val="fc0128"/>
                </a:solidFill>
                <a:latin typeface="Arial"/>
              </a:rPr>
              <a:t>++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= n</a:t>
            </a:r>
            <a:r>
              <a:rPr b="0" lang="en-GB" sz="2400" spc="-1" strike="noStrike" baseline="-25000">
                <a:solidFill>
                  <a:srgbClr val="01040b"/>
                </a:solidFill>
                <a:latin typeface="Arial"/>
              </a:rPr>
              <a:t>1+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40b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n</a:t>
            </a:r>
            <a:r>
              <a:rPr b="0" lang="en-GB" sz="2400" spc="-1" strike="noStrike" baseline="-25000">
                <a:solidFill>
                  <a:srgbClr val="01040b"/>
                </a:solidFill>
                <a:latin typeface="Arial"/>
              </a:rPr>
              <a:t>+1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40b"/>
                </a:solidFill>
                <a:latin typeface="Symbol"/>
                <a:ea typeface="Symbol"/>
              </a:rPr>
              <a:t>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n</a:t>
            </a:r>
            <a:r>
              <a:rPr b="0" lang="en-GB" sz="2400" spc="-1" strike="noStrike" baseline="-25000">
                <a:solidFill>
                  <a:srgbClr val="01040b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Estimation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38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Generalise sample DSE estimat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Use standard ratio type estimator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Problem – not enough sample in most LA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olution – post-stratify LAs into group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2011 equivalent of Estimation Area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Group LAs by type, not geograph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hen small area model to get LA estimat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56000" y="2276640"/>
          <a:ext cx="2808000" cy="171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2276640"/>
                    <a:ext cx="280800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Measuring Overcoun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Estimate separatel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Not yet developed methodolog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ources likely to be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CC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Matching Census data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Weight individuals in the DSEs to integrate into estimation methodolog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Coverage adjustmen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mputation of households and persons estimated to have been miss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Planning on similar process to that in 200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Model coverage probabiliti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Calibrate weight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mpute households (with people)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mpute persons into counted household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Looking at improvements in modelling step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Measuring Coverage very importa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tegral part of the UK Census proces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 the UK looking to build on 2001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mprovements across the board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2001 One Number Censu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2011 Strateg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he Census Coverage Survey (CCS)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Overcou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djustme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What is the problem?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Despite best efforts, Census won’t count every household or pers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t will also count some people twi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Why is that a problem?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In 2001, we estimated that 3 million persons (6%) missed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Need robust census estimates - counts not good enough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Further problem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The undercount is not evenly spread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Inner Cities, Deprived areas, Young persons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problem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his is a problem that all census taking countries fa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We can try really hard to maximise coverag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But we will still miss households and peopl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o what do we do?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We must have a robust method for measuring coverag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t must provide accurate estimates at LA level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t must be an integral part of the census proces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2001 Census experi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Estimated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1.5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million households</a:t>
            </a: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 miss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3 million persons</a:t>
            </a: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 missed (most from the missing households but some from counted households)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ubsequent studies estimated a further 0.3 million miss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2001 Census experi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1268280"/>
          <a:ext cx="8785440" cy="5408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268280"/>
                    <a:ext cx="878544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2001 Census experi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102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One Number Censu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 2001, One Number Census methodology was develop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Large Census Coverage Surve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Matching, Capture Recapture, Ratio estim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mall area estimation to get LA total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mputation of missed households and person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 2011 we want to build on the ONC, as broadly it was very successfu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2011 Aims and Objectiv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Measure undercou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Measure overcou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ddress lessons from 200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ake into account chang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n census desig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n the population of interes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ccuracy to be as good or better than in 200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0.2 per cent confidence interval nationall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9:53:50Z</dcterms:created>
  <dc:creator>Wayne Bryant</dc:creator>
  <dc:description/>
  <dc:language>en-US</dc:language>
  <cp:lastModifiedBy>Owen Abbott</cp:lastModifiedBy>
  <dcterms:modified xsi:type="dcterms:W3CDTF">2008-05-09T09:03:00Z</dcterms:modified>
  <cp:revision>18</cp:revision>
  <dc:subject/>
  <dc:title>PowerPoint Presentation</dc:title>
</cp:coreProperties>
</file>