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D67-5235-4E45-B2A0-85832F5C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972-FD01-4C9E-A749-3B7BE00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47B-404F-4409-8411-EF8CB637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102-9578-4ECF-99C4-5391A5ED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E45-4249-4D59-AF9A-7730932C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C2A4-4C39-4083-849D-766CAAF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188-A8B6-4C0F-ACB6-FE462F0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183C-C56B-48CA-88AE-C9B4AB71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AEA-1C51-4211-BD2C-97582C8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51040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D4B2-95F0-468E-BB74-B9C45D45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BE33-C60C-4466-93D5-48CD007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50A-A4B1-4CE2-AEB7-B02A293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564D-1E30-4A15-8A33-C2ED5AF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B9A8-DFB5-4ED9-9ED7-2BF62309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B28-0083-4BDB-B1DF-9815CC6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9B5F-E9F4-411C-BC76-098A26B2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AD95-0E11-4474-846D-E175C7D6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075-7F24-4DBD-9D30-B5A35D0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D8C-CB9D-4037-A633-438BFDFA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D3C-63CE-4B0C-8A95-00E454F1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51040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604-E8B6-43FD-94E7-04D2B4C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A2D-F758-4A6F-90A9-810A9DD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34B-FF20-484A-A9DE-341B6D5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B02-1859-4B0A-B925-DC96B02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12-15,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CE  Geneva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luating Integrated Census Isra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2476-DAE0-420F-BF1E-257F7C830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12-15,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5FAA-5728-4B54-9E30-0AADC872A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ting th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grated Census -2008   Israel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ina ZAD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Bureau of Stat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503-3CA0-4ED0-A993-23AB65806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551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lot Census Evaluation Resul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U” sample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(“O” as pseudo 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 thousand persons were registered in sampled cells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2 thousand were interviewed in “U” (6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3 thousand living in their registered address(11%)- omitted in the “U” enume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 thousand living at a different address (1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 not conta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9% - upper limit of coverage rate for the field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805-5745-4A25-B11B-E242BD455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O” sample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, 360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13 unknown  tele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,809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032 unknown telephon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, 754 full interview (72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524 partial interview or mismatched (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,326 not interviewed (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836640"/>
            <a:ext cx="8655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lot Census Evaluation Resul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3F8-CDD0-433C-B060-68CB1CAB0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Statistical estimates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 calculated by both methods yield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ilar results within expected lim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combined response rates (“U” + “O”) are less than 50% for a SA the model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does no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yield valid estima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ilot Census Evaluation Results (cont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8CA-6C3B-41A5-B2F0-1B6858E97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lications applied for 200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odification in the Emigrant flagging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lgorithm for “administrative  famil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field enumer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geo-coding in all sub-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5F4-6BF2-42AC-A41D-E0CCBD4CE1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008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ensus Evalu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xamined evaluation procedures will be rep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of Socio-Economic data with auxiliary sources (National Insurance Institute, LFS, Household Expenditure Survey, Social Surv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DC3-68F9-4FD5-BDED-05FD8F0E3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9AB-F30D-4F60-9E79-7965E84F5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mprovement” of residential 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 consists of all residents with a long term visa who received an ID card (number). Registered residents who live permanently abroad are not deleted from the regis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al algorithm based on border control registrations, updates from the NII, extreme age and 1995 census files, was used to identify “non-residents” in the PR and flag them in the I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S Gothic"/>
                <a:ea typeface="MS Gothic"/>
              </a:rPr>
              <a:t>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AD1-E223-4824-951E-AC4FAE41C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rovement” of address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addresses were added  from the the other administrative files, primary address was selected by an algorithm for the all records IA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E85-BBB9-4367-B8F3-EC585FB5A1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ministrative Family” constru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families” were constructed based on kinship relations registered in the P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es living in different “improved addresses” were unified using a set of rules and  a preferenc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gorith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51664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79B-04D5-4396-8C85-1089FDA29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mitted in the enumeration of  “U” surve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registered properly in the IAF  who were missed in the “U” survey  enumeration and were found in the “O” survey enum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7720" y="513072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E31-690C-48C1-A631-2E207EBDA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ent of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census – integrated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ology in br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6 evalu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 Evaluation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621-3C00-4A81-B0A9-572B9BFB7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” Sample  Surve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families with no telephon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ng number or no response after 15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ponse to mail questionn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5000" y="4986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3AC-68D4-4C58-AFCC-FE38AB2E59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ual model – CV of the final estimat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te probabilities for each person in estimation group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side at their registered add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current population est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gence of proportional CV of the estimates calculated using “Taylor expansion” and “Jackknife” methods.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E40-4B2C-4F8D-B1DA-308ABC37FE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0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Data Sour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dministrative sources (IAF)</a:t>
            </a:r>
            <a:br>
              <a:rPr sz="40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 Regis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Meters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’ register (Elementary schools, Secondary school and high scho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’ regi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-coded add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637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F32-A025-4574-A78A-68299AA7A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ea based s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stimating under-coverage within Statistical Area, and collecting socioeconomic information not available in administrative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opulation Register S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stimating over-overage within Statistical A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Data Sour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Direct Data Colle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054-9A27-4FFB-A041-D95FA61326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2880" y="620640"/>
            <a:ext cx="851076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Methodolo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133720"/>
            <a:ext cx="93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708280"/>
            <a:ext cx="865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781360"/>
            <a:ext cx="93528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3573360"/>
            <a:ext cx="50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3573360"/>
            <a:ext cx="792000" cy="93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645000"/>
            <a:ext cx="57600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3645000"/>
            <a:ext cx="57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9080" y="3860640"/>
            <a:ext cx="6212520" cy="944640"/>
            <a:chOff x="829080" y="3860640"/>
            <a:chExt cx="6212520" cy="944640"/>
          </a:xfrm>
        </p:grpSpPr>
        <p:sp>
          <p:nvSpPr>
            <p:cNvPr id="102" name=""/>
            <p:cNvSpPr/>
            <p:nvPr/>
          </p:nvSpPr>
          <p:spPr>
            <a:xfrm>
              <a:off x="133380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652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908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3452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6856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72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7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3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1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sample “U” CAPI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565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63700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3141720"/>
            <a:ext cx="1440000" cy="358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500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500280"/>
            <a:ext cx="144000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3933720"/>
            <a:ext cx="144000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429264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486900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5157720"/>
            <a:ext cx="144000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144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144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144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6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44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17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AF  sample “O”  CATI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5300640"/>
            <a:ext cx="21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d enumeration cel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B16-5239-43D4-8819-8C0FC86F62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Evaluation Methodolo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the I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 “U”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“O”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sus weights – reflecting coverag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 =1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reflecting complete balance between over and und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 &gt;1 – reflecting more und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&lt;1 – reflecting more ov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287-9262-4914-9E66-ACA2741AE8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valuation Paramet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Improvement” of residential  sta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” of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Family”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itted in the “U” survey &amp; non-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telephone numbers for the “O” sample &amp; non-response 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 model – CV of the final estim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E73-01D2-4092-8978-1DC90A2AC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ilot Cens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thousand persons in the IAF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thousand “administrative famil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 Loc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residential institutes (including one p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230-6E91-4259-8ACF-CBF90B4FD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lot Censu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valuation Resul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dministrativ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% correct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% improper split  of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% individuals not unified with their actual family even though living at the sam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% improper merge of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5% incorrect addresses in the I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Emigrant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persons not flagged as emigrants (0.0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 persons flagged as emigrants improperly (0.0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187-7756-4C0D-8F27-E86B44756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Pnina Tzadka</cp:lastModifiedBy>
  <dcterms:modified xsi:type="dcterms:W3CDTF">2008-04-21T19:12:16Z</dcterms:modified>
  <cp:revision>11</cp:revision>
  <dc:subject/>
  <dc:title>Record Linkage and Preference Procedures to Assure Quality in an Integrated Register Based Census </dc:title>
</cp:coreProperties>
</file>