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819-AF05-443C-BE0C-ECC748BF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238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FC5-5B04-470A-9E69-6471A2A9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A69-932B-4D67-9307-36C2B098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484-132E-4842-BBFE-720C89EE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4D8D-4493-4F56-B58F-BFD0E03D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8CF8-4404-49A6-9DA8-CDAEAFEE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C5C0-08F9-488F-99B5-3DC6A4CD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C58A-3B1B-44CB-B3BD-A9E9AAD0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954A-B960-45C1-9FCF-0D1F112C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764640"/>
            <a:ext cx="851040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4E09-E237-4582-B8A0-B32F4712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419E-E2AC-48CD-90B8-02AC52D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C96-46AF-454C-AE54-F474D168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BB8A-D8C8-4D0F-AA4B-98E4708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46F7-D315-4E90-8EC8-F5B665DE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238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6CEA-2134-4AE4-9BFD-273C7F8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9911-A004-4269-ABA0-9A91DFEB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2204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238640"/>
            <a:ext cx="2749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4035-1529-4ED1-8FE8-FABD1B07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1C4-588D-4B6E-8F53-D048DC8F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282-9539-4987-A963-C9145981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D19-DCC6-4B1C-AF15-7CC284AB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764640"/>
            <a:ext cx="851040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BFF-5EF9-4287-AB92-9E46A48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767-B69D-44BE-8257-64BB6118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238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6D1-82A9-4D71-9532-3A952CD1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2204640"/>
            <a:ext cx="4167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238640"/>
            <a:ext cx="85406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DB0-2469-4710-A111-6B9A5D09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12-15,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CE  Geneva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aluating Integrated Census Isra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8611-AD7F-4A36-BA61-9A7090A4C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12-15,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0904-299E-42BE-A8CA-172EE9DAA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valuating th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grated Census -2008   Israel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ina ZAD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Bureau of Statist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9621-2442-4E75-B93B-7596E7D08E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65512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ilot Census Evaluation Resul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U” sample eval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(“O” as pseudo P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 thousand persons were registered in sampled cells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7.2 thousand were interviewed in “U” (68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3 thousand living in their registered address(11%)- omitted in the “U” enume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 thousand living at a different address (1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 not conta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9% - upper limit of coverage rate for the field enumer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98D-C446-4F7B-8627-756E350310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O” sample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, 360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13 unknown  tele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,809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032 unknown telephon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, 754 full interview (72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524 partial interview or mismatched (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,326 not interviewed (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836640"/>
            <a:ext cx="8655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ilot Census Evaluation Resul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E80-6C9C-42A8-9CB6-965DFA3605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Statistical estimates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V calculated by both methods yielde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ilar results within expected lim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combined response rates (“U” + “O”) are less than 50% for a SA the model 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does no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yield valid estimat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ilot Census Evaluation Results (cont.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F33-285C-49E4-8336-85B91979B3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lications applied for 200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odification in the Emigrant flagging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lgorithm for “administrative  famil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field enumeration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geo-coding in all sub-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96E-0E59-4B2E-8DA8-4D236CEFB9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2008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ensus Evalu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examined evaluation procedures will be rep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of Socio-Economic data with auxiliary sources (National Insurance Institute, LFS, Household Expenditure Survey, Social Surve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30E-BF89-4F31-953C-558880C8CB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ff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756-15DC-4119-A428-5EEA375604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mprovement” of residential  statu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 consists of all residents with a long term visa who received an ID card (number). Registered residents who live permanently abroad are not deleted from the regis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ecial algorithm based on border control registrations, updates from the NII, extreme age and 1995 census files, was used to identify “non-residents” in the PR and flag them in the I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MS Gothic"/>
                <a:ea typeface="MS Gothic"/>
              </a:rPr>
              <a:t>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9F9-F845-4872-9EC4-9C21C0A1AB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rovement” of address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addresses were added  from the the other administrative files, primary address was selected by an algorithm for the all records IA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4941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1EE-B7DA-4CB0-989A-D53DAC6B77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dministrative Family” constru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families” were constructed based on kinship relations registered in the P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es living in different “improved addresses” were unified using a set of rules and  a preferenc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gorith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516640"/>
            <a:ext cx="7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D00-5ACF-4D28-B8F8-1BF7F0699D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mitted in the enumeration of  “U” surve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registered properly in the IAF  who were missed in the “U” survey  enumeration and were found in the “O” survey enume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27720" y="513072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1E7-F075-49BA-AD49-5C76FCD77A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ent of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census – integrated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ology in br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6 evaluation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8 Evaluation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4F7-CE8A-436A-861A-7DEE047E32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” Sample  Surve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families with no telephon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ng number or no response after 15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sponse to mail questionna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5000" y="4986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99A-742C-4707-9ECD-E6B59B9B54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ual model – CV of the final estimat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ute probabilities for each person in estimation group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reside at their registered add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tibility with current population estim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gence of proportional CV of the estimates calculated using “Taylor expansion” and “Jackknife” methods.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F5A-AEFC-4D47-844E-4AA0E46812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10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grated Census Data Sour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dministrative sources (IAF)</a:t>
            </a:r>
            <a:br>
              <a:rPr sz="40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 Registe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Meters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’ register (Elementary schools, Secondary school and high scho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s’ regis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-coded add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2637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159-1C84-496A-A52B-28BE2989F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ea based s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stimating under-coverage within Statistical Area, and collecting socioeconomic information not available in administrative 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opulation Register S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stimating over-overage within Statistical Ar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grated Census Data Sour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Direct Data Collectio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D48-47EE-4B09-A675-E79A11592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2880" y="620640"/>
            <a:ext cx="851076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grated Census Methodolog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2133720"/>
            <a:ext cx="93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2708280"/>
            <a:ext cx="865080" cy="86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781360"/>
            <a:ext cx="93528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3573360"/>
            <a:ext cx="504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3573360"/>
            <a:ext cx="792000" cy="93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645000"/>
            <a:ext cx="576000" cy="93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3645000"/>
            <a:ext cx="576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29080" y="3860640"/>
            <a:ext cx="6212520" cy="944640"/>
            <a:chOff x="829080" y="3860640"/>
            <a:chExt cx="6212520" cy="944640"/>
          </a:xfrm>
        </p:grpSpPr>
        <p:sp>
          <p:nvSpPr>
            <p:cNvPr id="102" name=""/>
            <p:cNvSpPr/>
            <p:nvPr/>
          </p:nvSpPr>
          <p:spPr>
            <a:xfrm>
              <a:off x="1333800" y="40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6520" y="38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9080" y="38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6144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6144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144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34520" y="44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a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6856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0720" y="22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07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3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10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 sample “U” CAPI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256536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263700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3141720"/>
            <a:ext cx="1440000" cy="358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500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500280"/>
            <a:ext cx="1440000" cy="43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3933720"/>
            <a:ext cx="144000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4292640"/>
            <a:ext cx="144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4869000"/>
            <a:ext cx="144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5157720"/>
            <a:ext cx="144000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6144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144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3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6144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6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144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177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AF  sample “O”  CATI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5300640"/>
            <a:ext cx="21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d enumeration cel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870-A03C-4ABA-B340-4B34BBAB60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grated Evaluation Methodolog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the I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 “U” enumer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“O” enumer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sus weights – reflecting coverage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Weight =1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reflecting complete balance between over and under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Weight &gt;1 – reflecting more under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Weight&lt;1 – reflecting more over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B38-B0C6-4C91-B4FC-225AF6D7AD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valuation Paramet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854064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Improvement” of residential  stat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” of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Family” 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itted in the “U” survey &amp; non-respons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telephone numbers for the “O” sample &amp; non-response r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l model – CV of the final estim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2CD-B556-4192-A07E-6E4949DA4A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ilot Cens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thousand persons in the IAF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thousand “administrative famil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 Loca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residential institutes (including one pri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23E-ECD0-427D-9B6C-20E7AC034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lot Censu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valuation Resul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Administrative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% correct co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% improper split  of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4% individuals not unified with their actual family even though living at the sam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% improper merge of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5% incorrect addresses in the I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Emigrant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 persons not flagged as emigrants (0.0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 persons flagged as emigrants improperly (0.0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D06-0FBC-4015-B70D-293300420B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3:26:08Z</dcterms:created>
  <dc:creator>pninaz</dc:creator>
  <dc:description/>
  <dc:language>en-US</dc:language>
  <cp:lastModifiedBy>Pnina Tzadka</cp:lastModifiedBy>
  <dcterms:modified xsi:type="dcterms:W3CDTF">2008-04-21T19:12:16Z</dcterms:modified>
  <cp:revision>11</cp:revision>
  <dc:subject/>
  <dc:title>Record Linkage and Preference Procedures to Assure Quality in an Integrated Register Based Census </dc:title>
</cp:coreProperties>
</file>